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10.png" ContentType="image/png"/>
  <Override PartName="/ppt/media/image33.wmf" ContentType="image/x-wmf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D95-1E0B-40A7-996F-2A04A70CE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cluding reduction techniques in the early design phases and simulating the parasitic emission before fabrication, as suggested by low emission design methodologies, requires efficient IC models and adequate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els related to EMC start to appear, as well as specific tools to handle the EMC behaviour of the 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EBB5A-C803-4AF6-ACE9-9BAD70BC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DE98-CA39-4A18-8ED9-F35BCD41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4C662-B0EC-4021-8F52-BEFAF3F7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1B2DB-925D-477B-B2BE-0AF7CCA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0491-89ED-49D9-80AA-D44043E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12782-C8A4-4087-814F-A5AE02E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09C51-B35C-400A-8AE7-0138151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5BB97-2365-4075-A171-C7F2E6A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1BADC-B123-4340-9B62-5693F30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CF4CC-A819-474B-AFDE-540E1B7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AAA80-C7CF-4504-96BD-0DA55CBB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236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788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236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788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13017-EC43-41EE-ABC7-0B265169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94920" y="6286680"/>
            <a:ext cx="31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17840" y="6352920"/>
            <a:ext cx="385128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-IBIS summit DATE 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81612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" name="paint" descr=""/>
          <p:cNvPicPr/>
          <p:nvPr/>
        </p:nvPicPr>
        <p:blipFill>
          <a:blip r:embed="rId3"/>
          <a:stretch/>
        </p:blipFill>
        <p:spPr>
          <a:xfrm>
            <a:off x="419040" y="6248520"/>
            <a:ext cx="8229600" cy="152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123400" y="6438960"/>
            <a:ext cx="62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6E8-4B86-43D5-BC25-8589846C8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esia-10" descr=""/>
          <p:cNvPicPr/>
          <p:nvPr/>
        </p:nvPicPr>
        <p:blipFill>
          <a:blip r:embed="rId4"/>
          <a:stretch/>
        </p:blipFill>
        <p:spPr>
          <a:xfrm>
            <a:off x="0" y="0"/>
            <a:ext cx="1571760" cy="896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81560" y="228600"/>
            <a:ext cx="5304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ritical Embedd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lectromagnetic compatibility of Integrated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eads_ccr_logo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993960" cy="6746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711360" y="6291000"/>
            <a:ext cx="1930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327-4986-4275-A3F5-D0828E526A25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int" descr=""/>
          <p:cNvPicPr/>
          <p:nvPr/>
        </p:nvPicPr>
        <p:blipFill>
          <a:blip r:embed="rId2"/>
          <a:stretch/>
        </p:blipFill>
        <p:spPr>
          <a:xfrm>
            <a:off x="0" y="1038240"/>
            <a:ext cx="8864640" cy="3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6762600" y="0"/>
          <a:ext cx="238140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2600" y="0"/>
                    <a:ext cx="23814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1120" y="19080"/>
          <a:ext cx="2016360" cy="1066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120" y="19080"/>
                    <a:ext cx="2016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aint" descr=""/>
          <p:cNvPicPr/>
          <p:nvPr/>
        </p:nvPicPr>
        <p:blipFill>
          <a:blip r:embed="rId7"/>
          <a:stretch/>
        </p:blipFill>
        <p:spPr>
          <a:xfrm>
            <a:off x="279360" y="2351160"/>
            <a:ext cx="886464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tienne.sicard@insa-toulouse.fr" TargetMode="External"/><Relationship Id="rId2" Type="http://schemas.openxmlformats.org/officeDocument/2006/relationships/hyperlink" Target="mailto:etienne.sicard@insa-toulouse.fr" TargetMode="External"/><Relationship Id="rId3" Type="http://schemas.openxmlformats.org/officeDocument/2006/relationships/hyperlink" Target="mailto:Alexandre.boyer@insa-toulouse.fr" TargetMode="External"/><Relationship Id="rId4" Type="http://schemas.openxmlformats.org/officeDocument/2006/relationships/hyperlink" Target="mailto:Alexandre.boyer@insa-toulouse.fr" TargetMode="External"/><Relationship Id="rId5" Type="http://schemas.openxmlformats.org/officeDocument/2006/relationships/hyperlink" Target="mailto:Gilles.peres@eads.net" TargetMode="Externa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c-emc.org/" TargetMode="External"/><Relationship Id="rId2" Type="http://schemas.openxmlformats.org/officeDocument/2006/relationships/hyperlink" Target="http://www.ic-emc.org/" TargetMode="External"/><Relationship Id="rId3" Type="http://schemas.openxmlformats.org/officeDocument/2006/relationships/hyperlink" Target="http://www.ic-emc.org/" TargetMode="External"/><Relationship Id="rId4" Type="http://schemas.openxmlformats.org/officeDocument/2006/relationships/hyperlink" Target="http://www.ic-emc.org/" TargetMode="External"/><Relationship Id="rId5" Type="http://schemas.openxmlformats.org/officeDocument/2006/relationships/hyperlink" Target="http://www.ic-emc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828800"/>
            <a:ext cx="76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role of IBIS in near-field Emission Prediction of 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7760" y="3124080"/>
            <a:ext cx="584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ienne SICARD, Alexandre BO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etienne.sicard@insa-toulouse.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exandre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.boyer@insa-toulous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http://www.ic-emc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8880" y="4952880"/>
            <a:ext cx="54432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lles P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Gilles.peres@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http://www.aseris-emc2000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624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290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86200" y="1600200"/>
          <a:ext cx="502920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600200"/>
                    <a:ext cx="50292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297180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962520" y="3809880"/>
          <a:ext cx="5029200" cy="22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809880"/>
                    <a:ext cx="502920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4. Near fiel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95280" y="2590920"/>
          <a:ext cx="1528920" cy="15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0920"/>
                    <a:ext cx="152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 flipH="1">
            <a:off x="2666520" y="2514600"/>
            <a:ext cx="3581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057040" y="3657600"/>
            <a:ext cx="3962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523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nstruct ICEM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1600200"/>
            <a:ext cx="2438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657600"/>
            <a:ext cx="2438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182880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88620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334120" y="2743200"/>
            <a:ext cx="9144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410080" y="5410080"/>
            <a:ext cx="9144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724280" cy="3310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4. Near fiel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523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pecific Interface for Near-field s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724280" y="1752480"/>
          <a:ext cx="4191120" cy="39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419112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4800600" y="2243160"/>
          <a:ext cx="3038400" cy="30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43160"/>
                    <a:ext cx="303840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914400" y="2166840"/>
          <a:ext cx="3076560" cy="30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66840"/>
                    <a:ext cx="30765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5. Experiment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Simulation at 8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Measurement at 8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523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ESAME Norm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5. Experiment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752480"/>
            <a:ext cx="8001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40000"/>
              </a:lnSpc>
              <a:spcBef>
                <a:spcPts val="1250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od correlation also obtained with C51 near-field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spcBef>
                <a:spcPts val="1250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milar study undergoing on Infineon Tri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468648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828800"/>
            <a:ext cx="84582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 environment for near-field simulation has been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schematic diagram uses IBIS information for package and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post processor computes Hx,Hy from lead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teresting correlations have been demonstrated on CESAME test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ther chips are being tested to validate the method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package is online at 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ic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-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4"/>
              </a:rPr>
              <a:t>emc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5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emos at Iconic 05, EmcCompo 05, IEEE EMC 2005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246320"/>
            <a:ext cx="8534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Near-Field Sc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The IC-EMC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Near-fiel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410440" cy="3814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8080" y="2057400"/>
            <a:ext cx="28155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b Micro-controler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8960" y="3114720"/>
            <a:ext cx="1868400" cy="190332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9280" y="2978280"/>
            <a:ext cx="2145960" cy="21762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22640" y="2774880"/>
            <a:ext cx="2490840" cy="25146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14300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9718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0.9,1.8,1.9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 rot="1509000">
            <a:off x="2057400" y="2819520"/>
            <a:ext cx="2514600" cy="533160"/>
          </a:xfrm>
          <a:prstGeom prst="leftArrow">
            <a:avLst>
              <a:gd name="adj1" fmla="val 50000"/>
              <a:gd name="adj2" fmla="val 1179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 Context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080" y="1447920"/>
            <a:ext cx="53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ore Complex Embedded electron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10360" y="4495680"/>
            <a:ext cx="735120" cy="482760"/>
            <a:chOff x="8010360" y="4495680"/>
            <a:chExt cx="735120" cy="4827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013600" y="4500720"/>
              <a:ext cx="723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10360" y="4495680"/>
              <a:ext cx="735120" cy="482760"/>
            </a:xfrm>
            <a:prstGeom prst="rect">
              <a:avLst/>
            </a:prstGeom>
            <a:noFill/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27040" cy="82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34120" y="2590920"/>
            <a:ext cx="982440" cy="653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514600" y="5105520"/>
            <a:ext cx="878040" cy="84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105520"/>
            <a:ext cx="48240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952880" y="3809880"/>
          <a:ext cx="38124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809880"/>
                    <a:ext cx="38124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480" y="51814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Comp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2.4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5105520"/>
            <a:ext cx="1828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A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905120"/>
            <a:ext cx="1676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Airb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03680" y="3164040"/>
            <a:ext cx="3778200" cy="1182600"/>
          </a:xfrm>
          <a:custGeom>
            <a:avLst/>
            <a:gdLst/>
            <a:ahLst/>
            <a:rect l="l" t="t" r="r" b="b"/>
            <a:pathLst>
              <a:path w="2380" h="745">
                <a:moveTo>
                  <a:pt x="9" y="436"/>
                </a:moveTo>
                <a:cubicBezTo>
                  <a:pt x="21" y="472"/>
                  <a:pt x="0" y="536"/>
                  <a:pt x="45" y="536"/>
                </a:cubicBezTo>
                <a:cubicBezTo>
                  <a:pt x="71" y="541"/>
                  <a:pt x="100" y="540"/>
                  <a:pt x="124" y="551"/>
                </a:cubicBezTo>
                <a:cubicBezTo>
                  <a:pt x="143" y="560"/>
                  <a:pt x="150" y="584"/>
                  <a:pt x="163" y="600"/>
                </a:cubicBezTo>
                <a:cubicBezTo>
                  <a:pt x="199" y="646"/>
                  <a:pt x="237" y="692"/>
                  <a:pt x="263" y="745"/>
                </a:cubicBezTo>
                <a:lnTo>
                  <a:pt x="1612" y="743"/>
                </a:lnTo>
                <a:cubicBezTo>
                  <a:pt x="1628" y="727"/>
                  <a:pt x="1646" y="713"/>
                  <a:pt x="1660" y="695"/>
                </a:cubicBezTo>
                <a:cubicBezTo>
                  <a:pt x="1697" y="648"/>
                  <a:pt x="1669" y="667"/>
                  <a:pt x="1690" y="627"/>
                </a:cubicBezTo>
                <a:cubicBezTo>
                  <a:pt x="1716" y="576"/>
                  <a:pt x="1765" y="549"/>
                  <a:pt x="1818" y="536"/>
                </a:cubicBezTo>
                <a:cubicBezTo>
                  <a:pt x="1895" y="485"/>
                  <a:pt x="1977" y="527"/>
                  <a:pt x="2072" y="527"/>
                </a:cubicBezTo>
                <a:lnTo>
                  <a:pt x="2380" y="503"/>
                </a:lnTo>
                <a:lnTo>
                  <a:pt x="2332" y="407"/>
                </a:lnTo>
                <a:cubicBezTo>
                  <a:pt x="2103" y="292"/>
                  <a:pt x="2192" y="325"/>
                  <a:pt x="1999" y="309"/>
                </a:cubicBezTo>
                <a:cubicBezTo>
                  <a:pt x="1979" y="247"/>
                  <a:pt x="1964" y="123"/>
                  <a:pt x="1990" y="63"/>
                </a:cubicBezTo>
                <a:cubicBezTo>
                  <a:pt x="1996" y="49"/>
                  <a:pt x="2021" y="57"/>
                  <a:pt x="2036" y="54"/>
                </a:cubicBezTo>
                <a:cubicBezTo>
                  <a:pt x="2060" y="49"/>
                  <a:pt x="2136" y="31"/>
                  <a:pt x="2136" y="0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79920" y="3870360"/>
            <a:ext cx="966600" cy="260280"/>
          </a:xfrm>
          <a:custGeom>
            <a:avLst/>
            <a:gdLst/>
            <a:ahLst/>
            <a:rect l="l" t="t" r="r" b="b"/>
            <a:pathLst>
              <a:path w="609" h="164">
                <a:moveTo>
                  <a:pt x="609" y="0"/>
                </a:moveTo>
                <a:cubicBezTo>
                  <a:pt x="512" y="6"/>
                  <a:pt x="424" y="19"/>
                  <a:pt x="327" y="27"/>
                </a:cubicBezTo>
                <a:cubicBezTo>
                  <a:pt x="318" y="30"/>
                  <a:pt x="308" y="31"/>
                  <a:pt x="300" y="36"/>
                </a:cubicBezTo>
                <a:cubicBezTo>
                  <a:pt x="293" y="41"/>
                  <a:pt x="290" y="51"/>
                  <a:pt x="282" y="55"/>
                </a:cubicBezTo>
                <a:cubicBezTo>
                  <a:pt x="265" y="64"/>
                  <a:pt x="245" y="67"/>
                  <a:pt x="227" y="73"/>
                </a:cubicBezTo>
                <a:cubicBezTo>
                  <a:pt x="151" y="124"/>
                  <a:pt x="246" y="55"/>
                  <a:pt x="182" y="118"/>
                </a:cubicBezTo>
                <a:cubicBezTo>
                  <a:pt x="135" y="164"/>
                  <a:pt x="59" y="164"/>
                  <a:pt x="0" y="164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3600" y="3220920"/>
            <a:ext cx="735120" cy="677880"/>
          </a:xfrm>
          <a:custGeom>
            <a:avLst/>
            <a:gdLst/>
            <a:ahLst/>
            <a:rect l="l" t="t" r="r" b="b"/>
            <a:pathLst>
              <a:path w="463" h="427">
                <a:moveTo>
                  <a:pt x="81" y="427"/>
                </a:moveTo>
                <a:cubicBezTo>
                  <a:pt x="90" y="393"/>
                  <a:pt x="93" y="371"/>
                  <a:pt x="117" y="345"/>
                </a:cubicBezTo>
                <a:cubicBezTo>
                  <a:pt x="124" y="323"/>
                  <a:pt x="137" y="309"/>
                  <a:pt x="108" y="291"/>
                </a:cubicBezTo>
                <a:cubicBezTo>
                  <a:pt x="92" y="281"/>
                  <a:pt x="72" y="279"/>
                  <a:pt x="54" y="273"/>
                </a:cubicBezTo>
                <a:cubicBezTo>
                  <a:pt x="45" y="270"/>
                  <a:pt x="26" y="264"/>
                  <a:pt x="26" y="264"/>
                </a:cubicBezTo>
                <a:cubicBezTo>
                  <a:pt x="0" y="183"/>
                  <a:pt x="62" y="211"/>
                  <a:pt x="108" y="173"/>
                </a:cubicBezTo>
                <a:cubicBezTo>
                  <a:pt x="184" y="111"/>
                  <a:pt x="269" y="73"/>
                  <a:pt x="363" y="45"/>
                </a:cubicBezTo>
                <a:cubicBezTo>
                  <a:pt x="395" y="24"/>
                  <a:pt x="429" y="16"/>
                  <a:pt x="463" y="0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3440" y="3736800"/>
            <a:ext cx="336600" cy="335160"/>
          </a:xfrm>
          <a:custGeom>
            <a:avLst/>
            <a:gdLst/>
            <a:ahLst/>
            <a:rect l="l" t="t" r="r" b="b"/>
            <a:pathLst>
              <a:path w="212" h="211">
                <a:moveTo>
                  <a:pt x="3" y="211"/>
                </a:moveTo>
                <a:cubicBezTo>
                  <a:pt x="6" y="147"/>
                  <a:pt x="0" y="83"/>
                  <a:pt x="12" y="20"/>
                </a:cubicBezTo>
                <a:cubicBezTo>
                  <a:pt x="12" y="19"/>
                  <a:pt x="63" y="3"/>
                  <a:pt x="85" y="2"/>
                </a:cubicBezTo>
                <a:cubicBezTo>
                  <a:pt x="127" y="0"/>
                  <a:pt x="170" y="2"/>
                  <a:pt x="212" y="2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1.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240" y="1676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81afd"/>
                </a:solidFill>
                <a:latin typeface="Arial"/>
                <a:ea typeface="ＭＳ Ｐゴシック"/>
              </a:rPr>
              <a:t>Existing methods and tools for IC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Measuremen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tandar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TemCell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1068480" cy="822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4120" y="304812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EC </a:t>
            </a:r>
            <a:r>
              <a:rPr b="1" i="1" lang="en-GB" sz="2000" spc="-1" strike="noStrike">
                <a:solidFill>
                  <a:srgbClr val="081afd"/>
                </a:solidFill>
                <a:latin typeface="Arial Narrow"/>
              </a:rPr>
              <a:t>61967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640" y="2971800"/>
            <a:ext cx="1086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Rad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DC-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1080" y="4495680"/>
          <a:ext cx="838440" cy="8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495680"/>
                    <a:ext cx="8384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56480" y="4495680"/>
            <a:ext cx="1273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Cond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DC-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4120" y="472428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EC </a:t>
            </a:r>
            <a:r>
              <a:rPr b="1" i="1" lang="en-GB" sz="2000" spc="-1" strike="noStrike">
                <a:solidFill>
                  <a:srgbClr val="081afd"/>
                </a:solidFill>
                <a:latin typeface="Arial Narrow"/>
              </a:rPr>
              <a:t>61967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00200" y="5334120"/>
          <a:ext cx="1685880" cy="8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5334120"/>
                    <a:ext cx="1685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560" y="5486400"/>
            <a:ext cx="141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Above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8280" y="5410080"/>
            <a:ext cx="17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U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canChip" descr=""/>
          <p:cNvPicPr/>
          <p:nvPr/>
        </p:nvPicPr>
        <p:blipFill>
          <a:blip r:embed="rId6"/>
          <a:stretch/>
        </p:blipFill>
        <p:spPr>
          <a:xfrm>
            <a:off x="1981080" y="3505320"/>
            <a:ext cx="1143000" cy="912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54120" y="38862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EC </a:t>
            </a:r>
            <a:r>
              <a:rPr b="1" i="1" lang="en-GB" sz="2000" spc="-1" strike="noStrike">
                <a:solidFill>
                  <a:srgbClr val="081afd"/>
                </a:solidFill>
                <a:latin typeface="Arial Narrow"/>
              </a:rPr>
              <a:t>61967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15000" y="2514600"/>
            <a:ext cx="762120" cy="838080"/>
            <a:chOff x="5715000" y="2514600"/>
            <a:chExt cx="762120" cy="838080"/>
          </a:xfrm>
        </p:grpSpPr>
        <p:graphicFrame>
          <p:nvGraphicFramePr>
            <p:cNvPr id="146" name=""/>
            <p:cNvGraphicFramePr/>
            <p:nvPr/>
          </p:nvGraphicFramePr>
          <p:xfrm>
            <a:off x="5715000" y="2514600"/>
            <a:ext cx="762120" cy="83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514600"/>
                      <a:ext cx="7621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5983920" y="2813040"/>
              <a:ext cx="214920" cy="238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01920" y="2832840"/>
              <a:ext cx="179280" cy="1987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551280" y="2743200"/>
            <a:ext cx="209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bis (Package, I/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ANSI EIA 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360" y="373392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CEM (C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81afd"/>
                </a:solidFill>
                <a:latin typeface="Arial Narrow"/>
              </a:rPr>
              <a:t>IEC 62014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562720" y="3733920"/>
          <a:ext cx="1218960" cy="69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3733920"/>
                    <a:ext cx="12189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0020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2057400"/>
            <a:ext cx="5639040" cy="37339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51460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100000">
                <a:srgbClr val="b84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2767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100000">
                <a:srgbClr val="b84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28800" y="2743200"/>
            <a:ext cx="762120" cy="533520"/>
          </a:xfrm>
          <a:custGeom>
            <a:avLst/>
            <a:gdLst>
              <a:gd name="textAreaLeft" fmla="*/ 254160 w 762120"/>
              <a:gd name="textAreaRight" fmla="*/ 653040 w 7621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1720" y="4419720"/>
            <a:ext cx="190512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C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5105520"/>
            <a:ext cx="1600200" cy="4572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C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34120" y="4495320"/>
            <a:ext cx="533160" cy="1752840"/>
          </a:xfrm>
          <a:prstGeom prst="downArrow">
            <a:avLst>
              <a:gd name="adj1" fmla="val 39889"/>
              <a:gd name="adj2" fmla="val 6919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00400" y="3504600"/>
            <a:ext cx="762120" cy="533160"/>
          </a:xfrm>
          <a:custGeom>
            <a:avLst/>
            <a:gdLst>
              <a:gd name="textAreaLeft" fmla="*/ 254160 w 762120"/>
              <a:gd name="textAreaRight" fmla="*/ 653040 w 762120"/>
              <a:gd name="textAreaTop" fmla="*/ 306720 h 533160"/>
              <a:gd name="textAreaBottom" fmla="*/ 456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038480"/>
            <a:ext cx="1828800" cy="1600200"/>
          </a:xfrm>
          <a:prstGeom prst="flowChartAlternateProcess">
            <a:avLst/>
          </a:prstGeom>
          <a:gradFill rotWithShape="0">
            <a:gsLst>
              <a:gs pos="0">
                <a:srgbClr val="ccffff"/>
              </a:gs>
              <a:gs pos="100000">
                <a:srgbClr val="93b8b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EMC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Complianc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666160" y="2743200"/>
            <a:ext cx="762120" cy="533520"/>
          </a:xfrm>
          <a:custGeom>
            <a:avLst/>
            <a:gdLst>
              <a:gd name="textAreaLeft" fmla="*/ 253800 w 762120"/>
              <a:gd name="textAreaRight" fmla="*/ 652680 w 7621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1814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47242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600200"/>
            <a:ext cx="913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elp to simulate IC Electromagnetic Emission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037760" y="2895480"/>
            <a:ext cx="1676520" cy="2133720"/>
          </a:xfrm>
          <a:custGeom>
            <a:avLst/>
            <a:gdLst>
              <a:gd name="textAreaLeft" fmla="*/ -360 w 1676520"/>
              <a:gd name="textAreaRight" fmla="*/ 1676520 w 167652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14871" y="18642"/>
                </a:moveTo>
                <a:arcTo wR="-8836" hR="-8836" stAng="3754074" swAng="-10905434"/>
                <a:lnTo>
                  <a:pt x="16067" y="20229"/>
                </a:lnTo>
                <a:arcTo wR="10800" hR="10800" stAng="3648640" swAng="10905434"/>
                <a:lnTo>
                  <a:pt x="4581" y="-1182"/>
                </a:lnTo>
                <a:lnTo>
                  <a:pt x="9545" y="390"/>
                </a:lnTo>
                <a:lnTo>
                  <a:pt x="7973" y="535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286000"/>
            <a:ext cx="182880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Narrow"/>
              </a:rPr>
              <a:t>EMC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343400"/>
            <a:ext cx="106668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1.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191120"/>
            <a:ext cx="1371600" cy="609480"/>
          </a:xfrm>
          <a:prstGeom prst="can">
            <a:avLst>
              <a:gd name="adj" fmla="val 416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800600"/>
            <a:ext cx="1371600" cy="609480"/>
          </a:xfrm>
          <a:prstGeom prst="can">
            <a:avLst>
              <a:gd name="adj" fmla="val 416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CE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51814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 - EMC for ICs/EMC issu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2F57D-F34A-42C7-B1F8-A58F64844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2. Near-Field sc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28360" y="1554120"/>
            <a:ext cx="1220040" cy="5202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ackage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arasites (Ib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554120"/>
            <a:ext cx="1288800" cy="5202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ICEM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59080" y="2801880"/>
            <a:ext cx="92160" cy="24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59080" y="2630520"/>
            <a:ext cx="2175120" cy="3070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Time domain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ACKAGE" descr=""/>
          <p:cNvPicPr/>
          <p:nvPr/>
        </p:nvPicPr>
        <p:blipFill>
          <a:blip r:embed="rId1"/>
          <a:stretch/>
        </p:blipFill>
        <p:spPr>
          <a:xfrm>
            <a:off x="6334200" y="1582560"/>
            <a:ext cx="614160" cy="74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42200" y="2581200"/>
            <a:ext cx="13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Narrow"/>
              </a:rPr>
              <a:t>Win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41960" y="294804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59080" y="3238560"/>
            <a:ext cx="2617920" cy="3070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ourier Transform of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33560" y="4016520"/>
            <a:ext cx="485640" cy="333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5920" y="212400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,L,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47680" y="2314440"/>
            <a:ext cx="6794280" cy="266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78" y="4"/>
                </a:moveTo>
                <a:arcTo wR="10800" hR="10800" stAng="-5311378" swAng="8059486"/>
                <a:lnTo>
                  <a:pt x="10800" y="10800"/>
                </a:lnTo>
                <a:close/>
              </a:path>
              <a:path fill="none" w="21600" h="21600">
                <a:moveTo>
                  <a:pt x="11078" y="4"/>
                </a:moveTo>
                <a:arcTo wR="10800" hR="10800" stAng="-5311378" swAng="8059486"/>
              </a:path>
            </a:pathLst>
          </a:custGeom>
          <a:noFill/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3040" y="4006800"/>
            <a:ext cx="1235160" cy="5302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u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1795320"/>
            <a:ext cx="1598400" cy="5202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Measured Near field s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36720" y="2389320"/>
            <a:ext cx="1716120" cy="19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2135160"/>
            <a:ext cx="6588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41960" y="355608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51240" y="3848040"/>
            <a:ext cx="2617920" cy="3070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urrent Dipole Magnetic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8520" y="29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 Narrow"/>
              </a:rPr>
              <a:t>From IZ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09920" y="2084400"/>
            <a:ext cx="39060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7400" y="4419720"/>
          <a:ext cx="1685880" cy="15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4419720"/>
                    <a:ext cx="16858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343400" y="4419720"/>
          <a:ext cx="1685880" cy="156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4419720"/>
                    <a:ext cx="168588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355920" y="235260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IC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1800" y="258120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Pin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28000" y="3381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Narrow"/>
              </a:rPr>
              <a:t>IC-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3520" y="3267000"/>
            <a:ext cx="114480" cy="800280"/>
          </a:xfrm>
          <a:custGeom>
            <a:avLst/>
            <a:gdLst>
              <a:gd name="textAreaLeft" fmla="*/ 0 w 114480"/>
              <a:gd name="textAreaRight" fmla="*/ 41400 w 11448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2. Near-Field sc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981080"/>
          <a:ext cx="284940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28494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241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290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9880" y="2057400"/>
          <a:ext cx="2133720" cy="21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057400"/>
                    <a:ext cx="213372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191120" y="41148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x, 4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41148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x, 12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477120" y="1981080"/>
          <a:ext cx="2090520" cy="209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981080"/>
                    <a:ext cx="20905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86200" y="4876920"/>
            <a:ext cx="4800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y similar, Hz les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so Ex, Ey, Ez, but les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523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553080" cy="381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67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The IC-EMC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70972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1120" y="2227320"/>
            <a:ext cx="144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uppl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81480" y="28195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5040" y="2362320"/>
            <a:ext cx="147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C cor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124080" y="22096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1880" y="1981080"/>
            <a:ext cx="161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ckag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705720" y="35053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72160" y="3276720"/>
            <a:ext cx="150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asic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523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chematic Editor, post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2000" y="20574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6360" y="1752480"/>
            <a:ext cx="241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ccess to EMC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638680" y="4876920"/>
            <a:ext cx="762120" cy="152280"/>
          </a:xfrm>
          <a:custGeom>
            <a:avLst/>
            <a:gdLst>
              <a:gd name="textAreaLeft" fmla="*/ 9504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5238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Use IBIS information to build the supply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The IC-EMC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2209680"/>
            <a:ext cx="24382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Equivalent R,L,C of supply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Buffer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6291360" cy="4216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362320" y="4038480"/>
            <a:ext cx="1828800" cy="100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ackag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IC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267080"/>
            <a:ext cx="16002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99840" y="4572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0" y="4038480"/>
          <a:ext cx="1766880" cy="17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038480"/>
                    <a:ext cx="1766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11:51:20Z</dcterms:created>
  <dc:creator>Etienne SICARD</dc:creator>
  <dc:description/>
  <dc:language>en-US</dc:language>
  <cp:lastModifiedBy>Etienne SICARD</cp:lastModifiedBy>
  <cp:lastPrinted>2000-06-26T15:57:57Z</cp:lastPrinted>
  <dcterms:modified xsi:type="dcterms:W3CDTF">2005-02-17T20:30:33Z</dcterms:modified>
  <cp:revision>143</cp:revision>
  <dc:subject/>
  <dc:title>IC-Emit</dc:title>
</cp:coreProperties>
</file>