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89750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904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62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2"/>
          </p:nvPr>
        </p:nvSpPr>
        <p:spPr>
          <a:xfrm>
            <a:off x="3901680" y="0"/>
            <a:ext cx="29862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915840" y="771120"/>
            <a:ext cx="5059440" cy="37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12720" y="4811400"/>
            <a:ext cx="566424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3"/>
          </p:nvPr>
        </p:nvSpPr>
        <p:spPr>
          <a:xfrm>
            <a:off x="-360" y="9139320"/>
            <a:ext cx="298620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4"/>
          </p:nvPr>
        </p:nvSpPr>
        <p:spPr>
          <a:xfrm>
            <a:off x="3901680" y="9139320"/>
            <a:ext cx="298620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48A6-DC85-4E5F-9B5B-764837E2714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915840" y="771480"/>
            <a:ext cx="5059440" cy="379404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612720" y="4811400"/>
            <a:ext cx="566424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CEM describes the power integrity of the whole IC with assumptions for the core switching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 Integrated circuit electrical mode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ird95.1 belongs more to the SSN  for the outputstage, but includes also the behavoir of the pres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is means, that the current through the pre-stages as well as the crow-bar-current of the IO-stage itself will be taken into a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 power noise in simultaneous switching will be modeled more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 a better description of the power supply behavior of the output stage the bird makes an suggestion, on how this can be mode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2524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3756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1292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2524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3756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12920" y="279360"/>
            <a:ext cx="831816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2524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3756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1292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2524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3756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12920" y="279360"/>
            <a:ext cx="831816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5381640" indent="0">
              <a:lnSpc>
                <a:spcPct val="100000"/>
              </a:lnSpc>
              <a:buNone/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5381640" indent="0">
              <a:lnSpc>
                <a:spcPct val="100000"/>
              </a:lnSpc>
              <a:buNone/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.Lenski / Com SC SL CE23      IBIS Summit     DATE 2005       11. March 2005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FFBD25B5-E3F7-4620-9099-B32D27AA4E7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-425520" y="-200160"/>
            <a:ext cx="9731520" cy="6474240"/>
            <a:chOff x="-425520" y="-200160"/>
            <a:chExt cx="9731520" cy="6474240"/>
          </a:xfrm>
        </p:grpSpPr>
        <p:sp>
          <p:nvSpPr>
            <p:cNvPr id="8" name=""/>
            <p:cNvSpPr/>
            <p:nvPr/>
          </p:nvSpPr>
          <p:spPr>
            <a:xfrm>
              <a:off x="37476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1,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4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2,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6368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8,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62576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7,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89540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15892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6,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6468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1,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92800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2,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-425520" y="95868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6,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-425520" y="1073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6,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-425520" y="131112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5,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-425520" y="27399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,7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-425520" y="285444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,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-425520" y="448308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3,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-425520" y="58737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-425520" y="612144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-425520" y="-200160"/>
            <a:ext cx="9731520" cy="6474240"/>
            <a:chOff x="-425520" y="-200160"/>
            <a:chExt cx="9731520" cy="6474240"/>
          </a:xfrm>
        </p:grpSpPr>
        <p:sp>
          <p:nvSpPr>
            <p:cNvPr id="66" name=""/>
            <p:cNvSpPr/>
            <p:nvPr/>
          </p:nvSpPr>
          <p:spPr>
            <a:xfrm>
              <a:off x="37476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1,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4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2,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6368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8,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2576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7,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9540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5892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6,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46468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1,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92800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2,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-425520" y="95868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6,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-425520" y="1073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6,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425520" y="131112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5,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-425520" y="27399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,7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-425520" y="285444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,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-425520" y="448308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3,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-425520" y="58737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-425520" y="612144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5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igroup.org/ibis/ibis.html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8954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an we stop the growing disparity between the potential of IBIS model parameters and the reality of delivered model parameters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STL / Receiver thresholds mi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3341520" y="2865600"/>
            <a:ext cx="1447920" cy="2819880"/>
            <a:chOff x="3341520" y="2865600"/>
            <a:chExt cx="1447920" cy="2819880"/>
          </a:xfrm>
        </p:grpSpPr>
        <p:sp>
          <p:nvSpPr>
            <p:cNvPr id="1048" name=""/>
            <p:cNvSpPr/>
            <p:nvPr/>
          </p:nvSpPr>
          <p:spPr>
            <a:xfrm>
              <a:off x="3341520" y="5227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9" name=""/>
            <p:cNvGrpSpPr/>
            <p:nvPr/>
          </p:nvGrpSpPr>
          <p:grpSpPr>
            <a:xfrm>
              <a:off x="3341520" y="2865600"/>
              <a:ext cx="1447920" cy="2819880"/>
              <a:chOff x="3341520" y="2865600"/>
              <a:chExt cx="1447920" cy="2819880"/>
            </a:xfrm>
          </p:grpSpPr>
          <p:sp>
            <p:nvSpPr>
              <p:cNvPr id="1050" name=""/>
              <p:cNvSpPr/>
              <p:nvPr/>
            </p:nvSpPr>
            <p:spPr>
              <a:xfrm>
                <a:off x="3341520" y="2865600"/>
                <a:ext cx="0" cy="24382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789440" y="2865600"/>
                <a:ext cx="0" cy="24382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49680" y="5380200"/>
                <a:ext cx="777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919191"/>
                    </a:solidFill>
                    <a:latin typeface="Arial"/>
                  </a:rPr>
                  <a:t>T sle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3" name=""/>
          <p:cNvGrpSpPr/>
          <p:nvPr/>
        </p:nvGrpSpPr>
        <p:grpSpPr>
          <a:xfrm>
            <a:off x="1070640" y="2712960"/>
            <a:ext cx="6066360" cy="2667600"/>
            <a:chOff x="1070640" y="2712960"/>
            <a:chExt cx="6066360" cy="2667600"/>
          </a:xfrm>
        </p:grpSpPr>
        <p:grpSp>
          <p:nvGrpSpPr>
            <p:cNvPr id="1054" name=""/>
            <p:cNvGrpSpPr/>
            <p:nvPr/>
          </p:nvGrpSpPr>
          <p:grpSpPr>
            <a:xfrm>
              <a:off x="1070640" y="2712960"/>
              <a:ext cx="6066360" cy="2667600"/>
              <a:chOff x="1070640" y="2712960"/>
              <a:chExt cx="6066360" cy="2667600"/>
            </a:xfrm>
          </p:grpSpPr>
          <p:grpSp>
            <p:nvGrpSpPr>
              <p:cNvPr id="1055" name=""/>
              <p:cNvGrpSpPr/>
              <p:nvPr/>
            </p:nvGrpSpPr>
            <p:grpSpPr>
              <a:xfrm>
                <a:off x="1917720" y="2865600"/>
                <a:ext cx="4114800" cy="2361960"/>
                <a:chOff x="1917720" y="2865600"/>
                <a:chExt cx="4114800" cy="236196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1917720" y="5227560"/>
                  <a:ext cx="10666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965480" y="2865600"/>
                  <a:ext cx="10670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2984040" y="2865600"/>
                  <a:ext cx="1981080" cy="2361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>
                <a:off x="1070640" y="5075280"/>
                <a:ext cx="848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VIL ty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260040" y="2712960"/>
                <a:ext cx="876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VIH ty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2890800" y="4006800"/>
              <a:ext cx="2932200" cy="1800"/>
            </a:xfrm>
            <a:prstGeom prst="line">
              <a:avLst/>
            </a:prstGeom>
            <a:ln w="30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22200" y="3780000"/>
              <a:ext cx="41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66ff"/>
                  </a:solidFill>
                  <a:latin typeface="Arial"/>
                </a:rPr>
                <a:t>V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875040" y="385596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5921280" y="152280"/>
            <a:ext cx="3210480" cy="803520"/>
            <a:chOff x="5921280" y="152280"/>
            <a:chExt cx="3210480" cy="803520"/>
          </a:xfrm>
        </p:grpSpPr>
        <p:sp>
          <p:nvSpPr>
            <p:cNvPr id="1065" name=""/>
            <p:cNvSpPr/>
            <p:nvPr/>
          </p:nvSpPr>
          <p:spPr>
            <a:xfrm>
              <a:off x="5921280" y="152280"/>
              <a:ext cx="321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Model keywords and paramer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7311960" y="456840"/>
              <a:ext cx="310680" cy="498960"/>
              <a:chOff x="7311960" y="456840"/>
              <a:chExt cx="310680" cy="498960"/>
            </a:xfrm>
          </p:grpSpPr>
          <p:sp>
            <p:nvSpPr>
              <p:cNvPr id="1067" name=""/>
              <p:cNvSpPr/>
              <p:nvPr/>
            </p:nvSpPr>
            <p:spPr>
              <a:xfrm>
                <a:off x="737424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4052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4674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31196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436160" y="87372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49844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56072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420680" y="58104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49880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37424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436520" y="728280"/>
                <a:ext cx="6192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3432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46748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40520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1" name=""/>
              <p:cNvGrpSpPr/>
              <p:nvPr/>
            </p:nvGrpSpPr>
            <p:grpSpPr>
              <a:xfrm>
                <a:off x="7418880" y="653760"/>
                <a:ext cx="96480" cy="302040"/>
                <a:chOff x="7418880" y="653760"/>
                <a:chExt cx="96480" cy="302040"/>
              </a:xfrm>
            </p:grpSpPr>
            <p:sp>
              <p:nvSpPr>
                <p:cNvPr id="1082" name=""/>
                <p:cNvSpPr/>
                <p:nvPr/>
              </p:nvSpPr>
              <p:spPr>
                <a:xfrm>
                  <a:off x="7436160" y="65376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434360" y="67896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7432920" y="70308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431120" y="72792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429680" y="75276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428240" y="77832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7426440" y="80352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7425000" y="82836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7423560" y="85392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421760" y="88056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7420320" y="90540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7418880" y="93060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4" name=""/>
              <p:cNvSpPr/>
              <p:nvPr/>
            </p:nvSpPr>
            <p:spPr>
              <a:xfrm rot="16200000">
                <a:off x="7404840" y="486360"/>
                <a:ext cx="124200" cy="6480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5" name=""/>
              <p:cNvGrpSpPr/>
              <p:nvPr/>
            </p:nvGrpSpPr>
            <p:grpSpPr>
              <a:xfrm>
                <a:off x="7457400" y="606600"/>
                <a:ext cx="19440" cy="46800"/>
                <a:chOff x="7457400" y="606600"/>
                <a:chExt cx="19440" cy="46800"/>
              </a:xfrm>
            </p:grpSpPr>
            <p:grpSp>
              <p:nvGrpSpPr>
                <p:cNvPr id="1096" name=""/>
                <p:cNvGrpSpPr/>
                <p:nvPr/>
              </p:nvGrpSpPr>
              <p:grpSpPr>
                <a:xfrm>
                  <a:off x="7457400" y="606600"/>
                  <a:ext cx="19440" cy="46800"/>
                  <a:chOff x="7457400" y="606600"/>
                  <a:chExt cx="19440" cy="46800"/>
                </a:xfrm>
              </p:grpSpPr>
              <p:sp>
                <p:nvSpPr>
                  <p:cNvPr id="1097" name=""/>
                  <p:cNvSpPr/>
                  <p:nvPr/>
                </p:nvSpPr>
                <p:spPr>
                  <a:xfrm>
                    <a:off x="745740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747684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7457400" y="606600"/>
                    <a:ext cx="19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0" name=""/>
                <p:cNvSpPr/>
                <p:nvPr/>
              </p:nvSpPr>
              <p:spPr>
                <a:xfrm>
                  <a:off x="7458840" y="609120"/>
                  <a:ext cx="1656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1" name=""/>
              <p:cNvSpPr/>
              <p:nvPr/>
            </p:nvSpPr>
            <p:spPr>
              <a:xfrm>
                <a:off x="75294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2" name=""/>
          <p:cNvGrpSpPr/>
          <p:nvPr/>
        </p:nvGrpSpPr>
        <p:grpSpPr>
          <a:xfrm>
            <a:off x="2121840" y="2865600"/>
            <a:ext cx="3701160" cy="2057760"/>
            <a:chOff x="2121840" y="2865600"/>
            <a:chExt cx="3701160" cy="2057760"/>
          </a:xfrm>
        </p:grpSpPr>
        <p:sp>
          <p:nvSpPr>
            <p:cNvPr id="1103" name=""/>
            <p:cNvSpPr/>
            <p:nvPr/>
          </p:nvSpPr>
          <p:spPr>
            <a:xfrm>
              <a:off x="2890800" y="4844880"/>
              <a:ext cx="2932200" cy="1800"/>
            </a:xfrm>
            <a:prstGeom prst="line">
              <a:avLst/>
            </a:prstGeom>
            <a:ln w="30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890800" y="3092400"/>
              <a:ext cx="2932200" cy="1800"/>
            </a:xfrm>
            <a:prstGeom prst="line">
              <a:avLst/>
            </a:prstGeom>
            <a:ln w="30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2121840" y="2865600"/>
              <a:ext cx="3353400" cy="2057760"/>
              <a:chOff x="2121840" y="2865600"/>
              <a:chExt cx="3353400" cy="2057760"/>
            </a:xfrm>
          </p:grpSpPr>
          <p:sp>
            <p:nvSpPr>
              <p:cNvPr id="1106" name=""/>
              <p:cNvSpPr/>
              <p:nvPr/>
            </p:nvSpPr>
            <p:spPr>
              <a:xfrm>
                <a:off x="2122200" y="4618080"/>
                <a:ext cx="904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0000"/>
                    </a:solidFill>
                    <a:latin typeface="Arial"/>
                  </a:rPr>
                  <a:t>VinL a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121840" y="2865600"/>
                <a:ext cx="933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0000"/>
                    </a:solidFill>
                    <a:latin typeface="Arial"/>
                  </a:rPr>
                  <a:t>VinH a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5322960" y="309420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475240" y="4008600"/>
                <a:ext cx="0" cy="83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265560" y="4694400"/>
                <a:ext cx="15228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713120" y="2941560"/>
                <a:ext cx="15264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2" name=""/>
          <p:cNvGrpSpPr/>
          <p:nvPr/>
        </p:nvGrpSpPr>
        <p:grpSpPr>
          <a:xfrm>
            <a:off x="2122200" y="3246480"/>
            <a:ext cx="3733920" cy="1296000"/>
            <a:chOff x="2122200" y="3246480"/>
            <a:chExt cx="3733920" cy="1296000"/>
          </a:xfrm>
        </p:grpSpPr>
        <p:grpSp>
          <p:nvGrpSpPr>
            <p:cNvPr id="1113" name=""/>
            <p:cNvGrpSpPr/>
            <p:nvPr/>
          </p:nvGrpSpPr>
          <p:grpSpPr>
            <a:xfrm>
              <a:off x="2122200" y="3246480"/>
              <a:ext cx="3733920" cy="1296000"/>
              <a:chOff x="2122200" y="3246480"/>
              <a:chExt cx="3733920" cy="1296000"/>
            </a:xfrm>
          </p:grpSpPr>
          <p:sp>
            <p:nvSpPr>
              <p:cNvPr id="1114" name=""/>
              <p:cNvSpPr/>
              <p:nvPr/>
            </p:nvSpPr>
            <p:spPr>
              <a:xfrm>
                <a:off x="2890800" y="4464000"/>
                <a:ext cx="2932200" cy="1800"/>
              </a:xfrm>
              <a:prstGeom prst="line">
                <a:avLst/>
              </a:prstGeom>
              <a:ln w="3024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122560" y="4237200"/>
                <a:ext cx="918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66ff66"/>
                    </a:solidFill>
                    <a:latin typeface="Arial"/>
                  </a:rPr>
                  <a:t>VinL d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890800" y="3473280"/>
                <a:ext cx="2932200" cy="1800"/>
              </a:xfrm>
              <a:prstGeom prst="line">
                <a:avLst/>
              </a:prstGeom>
              <a:ln w="3024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122200" y="3246480"/>
                <a:ext cx="947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66ff66"/>
                    </a:solidFill>
                    <a:latin typeface="Arial"/>
                  </a:rPr>
                  <a:t>VinH d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V="1">
                <a:off x="5703840" y="3475080"/>
                <a:ext cx="0" cy="533520"/>
              </a:xfrm>
              <a:prstGeom prst="line">
                <a:avLst/>
              </a:prstGeom>
              <a:ln w="5724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856120" y="4008600"/>
                <a:ext cx="0" cy="457200"/>
              </a:xfrm>
              <a:prstGeom prst="line">
                <a:avLst/>
              </a:prstGeom>
              <a:ln w="5724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570120" y="4389480"/>
                <a:ext cx="152640" cy="15228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1" name=""/>
            <p:cNvSpPr/>
            <p:nvPr/>
          </p:nvSpPr>
          <p:spPr>
            <a:xfrm>
              <a:off x="4408560" y="3398760"/>
              <a:ext cx="152280" cy="1526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vershoot mi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460440" y="1482840"/>
            <a:ext cx="4069080" cy="1938600"/>
            <a:chOff x="460440" y="1482840"/>
            <a:chExt cx="4069080" cy="1938600"/>
          </a:xfrm>
        </p:grpSpPr>
        <p:grpSp>
          <p:nvGrpSpPr>
            <p:cNvPr id="1124" name=""/>
            <p:cNvGrpSpPr/>
            <p:nvPr/>
          </p:nvGrpSpPr>
          <p:grpSpPr>
            <a:xfrm>
              <a:off x="460440" y="1504440"/>
              <a:ext cx="4069080" cy="1917000"/>
              <a:chOff x="460440" y="1504440"/>
              <a:chExt cx="4069080" cy="1917000"/>
            </a:xfrm>
          </p:grpSpPr>
          <p:sp>
            <p:nvSpPr>
              <p:cNvPr id="1125" name=""/>
              <p:cNvSpPr/>
              <p:nvPr/>
            </p:nvSpPr>
            <p:spPr>
              <a:xfrm>
                <a:off x="1260360" y="2283480"/>
                <a:ext cx="312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174760" y="28299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19200" y="2173680"/>
                <a:ext cx="56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60440" y="2743200"/>
                <a:ext cx="128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-over-lo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541600" y="2042640"/>
                <a:ext cx="14400" cy="99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152880" y="2031480"/>
                <a:ext cx="12600" cy="10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556000" y="29340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177640" y="3053160"/>
                <a:ext cx="137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-over-ti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3" name=""/>
              <p:cNvGrpSpPr/>
              <p:nvPr/>
            </p:nvGrpSpPr>
            <p:grpSpPr>
              <a:xfrm>
                <a:off x="1184400" y="1741680"/>
                <a:ext cx="3123720" cy="1087920"/>
                <a:chOff x="1184400" y="1741680"/>
                <a:chExt cx="3123720" cy="108792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1184400" y="1741680"/>
                  <a:ext cx="457200" cy="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1641600" y="1741680"/>
                  <a:ext cx="1218960" cy="108792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H="1">
                  <a:off x="2860200" y="2053080"/>
                  <a:ext cx="838440" cy="77652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3699000" y="2053080"/>
                  <a:ext cx="457200" cy="41364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flipH="1">
                  <a:off x="4155840" y="2311920"/>
                  <a:ext cx="152280" cy="1548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9" name=""/>
              <p:cNvSpPr/>
              <p:nvPr/>
            </p:nvSpPr>
            <p:spPr>
              <a:xfrm>
                <a:off x="2174760" y="2571120"/>
                <a:ext cx="129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85640" y="2482560"/>
                <a:ext cx="127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-over-lo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556000" y="2571120"/>
                <a:ext cx="609480" cy="258480"/>
              </a:xfrm>
              <a:prstGeom prst="rect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1386000" y="2283480"/>
                <a:ext cx="312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565280" y="1586520"/>
                <a:ext cx="0" cy="82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804240" y="1504440"/>
                <a:ext cx="68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 [V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852000" y="2490120"/>
                <a:ext cx="67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 [ns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6" name=""/>
            <p:cNvSpPr/>
            <p:nvPr/>
          </p:nvSpPr>
          <p:spPr>
            <a:xfrm>
              <a:off x="1997640" y="1482840"/>
              <a:ext cx="1321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IBIS-sp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380880" y="3657600"/>
            <a:ext cx="7620120" cy="23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ff"/>
                </a:solidFill>
                <a:latin typeface="Arial"/>
                <a:ea typeface="Courier New"/>
              </a:rPr>
              <a:t>[S_overshoot_low]          -0.52V        -0.60V        -0.65V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ff"/>
                </a:solidFill>
                <a:latin typeface="Arial"/>
                <a:ea typeface="Courier New"/>
              </a:rPr>
              <a:t>[S_overshoot_high]         4.05V          3.88V         4.33V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ff"/>
                </a:solidFill>
                <a:latin typeface="Arial"/>
                <a:ea typeface="Courier New"/>
              </a:rPr>
              <a:t>[D_overshoot_low]         -1.20V        -1.47V         -1.11V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ff"/>
                </a:solidFill>
                <a:latin typeface="Arial"/>
                <a:ea typeface="Courier New"/>
              </a:rPr>
              <a:t>[D_overshoot_high]        4.44V          4.53V          4.77V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ff"/>
                </a:solidFill>
                <a:latin typeface="Arial"/>
                <a:ea typeface="Courier New"/>
              </a:rPr>
              <a:t>[ D_overshoot_time]       3ns             3ns              3ns</a:t>
            </a:r>
            <a:r>
              <a:rPr b="0" lang="de-DE" sz="2000" spc="-1" strike="noStrike">
                <a:solidFill>
                  <a:srgbClr val="3366ff"/>
                </a:solidFill>
                <a:latin typeface="Arial"/>
                <a:ea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095440" y="2362320"/>
            <a:ext cx="3956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ilips supply thes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rameters for logic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5921280" y="152280"/>
            <a:ext cx="3210480" cy="803520"/>
            <a:chOff x="5921280" y="152280"/>
            <a:chExt cx="3210480" cy="803520"/>
          </a:xfrm>
        </p:grpSpPr>
        <p:sp>
          <p:nvSpPr>
            <p:cNvPr id="1150" name=""/>
            <p:cNvSpPr/>
            <p:nvPr/>
          </p:nvSpPr>
          <p:spPr>
            <a:xfrm>
              <a:off x="5921280" y="152280"/>
              <a:ext cx="321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Model keywords and paramer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7311960" y="456840"/>
              <a:ext cx="310680" cy="498960"/>
              <a:chOff x="7311960" y="456840"/>
              <a:chExt cx="310680" cy="498960"/>
            </a:xfrm>
          </p:grpSpPr>
          <p:sp>
            <p:nvSpPr>
              <p:cNvPr id="1152" name=""/>
              <p:cNvSpPr/>
              <p:nvPr/>
            </p:nvSpPr>
            <p:spPr>
              <a:xfrm>
                <a:off x="737424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4052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4674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31196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436160" y="87372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49844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56072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420680" y="58104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49880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37424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436520" y="728280"/>
                <a:ext cx="6192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3432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46748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40520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6" name=""/>
              <p:cNvGrpSpPr/>
              <p:nvPr/>
            </p:nvGrpSpPr>
            <p:grpSpPr>
              <a:xfrm>
                <a:off x="7418880" y="653760"/>
                <a:ext cx="96480" cy="302040"/>
                <a:chOff x="7418880" y="653760"/>
                <a:chExt cx="96480" cy="30204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7436160" y="65376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7434360" y="67896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7432920" y="70308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7431120" y="72792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7429680" y="75276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7428240" y="77832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7426440" y="80352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7425000" y="82836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7423560" y="85392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7421760" y="88056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7420320" y="90540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7418880" y="93060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9" name=""/>
              <p:cNvSpPr/>
              <p:nvPr/>
            </p:nvSpPr>
            <p:spPr>
              <a:xfrm rot="16200000">
                <a:off x="7404840" y="486360"/>
                <a:ext cx="124200" cy="6480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0" name=""/>
              <p:cNvGrpSpPr/>
              <p:nvPr/>
            </p:nvGrpSpPr>
            <p:grpSpPr>
              <a:xfrm>
                <a:off x="7457400" y="606600"/>
                <a:ext cx="19440" cy="46800"/>
                <a:chOff x="7457400" y="606600"/>
                <a:chExt cx="19440" cy="46800"/>
              </a:xfrm>
            </p:grpSpPr>
            <p:grpSp>
              <p:nvGrpSpPr>
                <p:cNvPr id="1181" name=""/>
                <p:cNvGrpSpPr/>
                <p:nvPr/>
              </p:nvGrpSpPr>
              <p:grpSpPr>
                <a:xfrm>
                  <a:off x="7457400" y="606600"/>
                  <a:ext cx="19440" cy="46800"/>
                  <a:chOff x="7457400" y="606600"/>
                  <a:chExt cx="19440" cy="46800"/>
                </a:xfrm>
              </p:grpSpPr>
              <p:sp>
                <p:nvSpPr>
                  <p:cNvPr id="1182" name=""/>
                  <p:cNvSpPr/>
                  <p:nvPr/>
                </p:nvSpPr>
                <p:spPr>
                  <a:xfrm>
                    <a:off x="745740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747684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7457400" y="606600"/>
                    <a:ext cx="19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5" name=""/>
                <p:cNvSpPr/>
                <p:nvPr/>
              </p:nvSpPr>
              <p:spPr>
                <a:xfrm>
                  <a:off x="7458840" y="609120"/>
                  <a:ext cx="1656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6" name=""/>
              <p:cNvSpPr/>
              <p:nvPr/>
            </p:nvSpPr>
            <p:spPr>
              <a:xfrm>
                <a:off x="75294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in mapping mi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52280" y="1096920"/>
            <a:ext cx="2667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 Unicode MS"/>
              </a:rPr>
              <a:t>A1   GND3        VCC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500" spc="-1" strike="noStrike">
                <a:solidFill>
                  <a:srgbClr val="000000"/>
                </a:solidFill>
                <a:latin typeface="Arial Unicode MS"/>
              </a:rPr>
              <a:t>| 3P3V-Signalpin</a:t>
            </a:r>
            <a:r>
              <a:rPr b="1" lang="de-DE" sz="15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3809880" y="1371600"/>
            <a:ext cx="3759120" cy="3886200"/>
            <a:chOff x="3809880" y="1371600"/>
            <a:chExt cx="3759120" cy="3886200"/>
          </a:xfrm>
        </p:grpSpPr>
        <p:sp>
          <p:nvSpPr>
            <p:cNvPr id="1190" name=""/>
            <p:cNvSpPr/>
            <p:nvPr/>
          </p:nvSpPr>
          <p:spPr>
            <a:xfrm>
              <a:off x="4117680" y="1849320"/>
              <a:ext cx="3451320" cy="3408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417200" y="1371600"/>
              <a:ext cx="296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 Unicode MS"/>
                </a:rPr>
                <a:t>A   B    C    D   E    F   G    H    I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809880" y="1905120"/>
              <a:ext cx="290520" cy="31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 Unicode MS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 Unicode MS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 Unicode MS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 Unicode MS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 Unicode MS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 Unicode MS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 Unicode MS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 Unicode MS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 Unicode MS"/>
                </a:rPr>
                <a:t>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370400" y="4767120"/>
              <a:ext cx="172800" cy="1731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130880" y="4767120"/>
              <a:ext cx="173160" cy="1731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786360" y="4767120"/>
              <a:ext cx="173160" cy="1731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440400" y="4767120"/>
              <a:ext cx="173160" cy="1731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095880" y="4767120"/>
              <a:ext cx="173160" cy="1731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751360" y="4767120"/>
              <a:ext cx="171360" cy="1731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405400" y="4767120"/>
              <a:ext cx="172800" cy="1731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060880" y="4767120"/>
              <a:ext cx="173160" cy="1731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716360" y="4767120"/>
              <a:ext cx="171360" cy="1731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370400" y="4078440"/>
              <a:ext cx="17280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130880" y="4078440"/>
              <a:ext cx="17316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786360" y="4078440"/>
              <a:ext cx="17316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440400" y="4078440"/>
              <a:ext cx="17316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095880" y="4078440"/>
              <a:ext cx="17316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751360" y="4078440"/>
              <a:ext cx="17136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405400" y="4078440"/>
              <a:ext cx="17280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060880" y="4078440"/>
              <a:ext cx="17316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16360" y="4078440"/>
              <a:ext cx="17136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370400" y="2697120"/>
              <a:ext cx="17280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130880" y="2697120"/>
              <a:ext cx="17316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786360" y="2697120"/>
              <a:ext cx="17316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440400" y="2697120"/>
              <a:ext cx="17316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095880" y="2697120"/>
              <a:ext cx="173160" cy="171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751360" y="2697120"/>
              <a:ext cx="171360" cy="1713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405400" y="2697120"/>
              <a:ext cx="17280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060880" y="2697120"/>
              <a:ext cx="17316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716360" y="2697120"/>
              <a:ext cx="17136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370400" y="3041640"/>
              <a:ext cx="172800" cy="1731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130880" y="3041640"/>
              <a:ext cx="173160" cy="1731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786360" y="3041640"/>
              <a:ext cx="173160" cy="1731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440400" y="3041640"/>
              <a:ext cx="173160" cy="1731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060880" y="3041640"/>
              <a:ext cx="173160" cy="1731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716360" y="3041640"/>
              <a:ext cx="171360" cy="1731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370400" y="3386160"/>
              <a:ext cx="172800" cy="17460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130880" y="3386160"/>
              <a:ext cx="173160" cy="17460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786360" y="3386160"/>
              <a:ext cx="173160" cy="1746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440400" y="3386160"/>
              <a:ext cx="173160" cy="17460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060880" y="3386160"/>
              <a:ext cx="173160" cy="17460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16360" y="3386160"/>
              <a:ext cx="171360" cy="1746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70400" y="3732120"/>
              <a:ext cx="172800" cy="17172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130880" y="3732120"/>
              <a:ext cx="173160" cy="17172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786360" y="3732120"/>
              <a:ext cx="173160" cy="17172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440400" y="3732120"/>
              <a:ext cx="173160" cy="17172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060880" y="3732120"/>
              <a:ext cx="173160" cy="17172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716360" y="3732120"/>
              <a:ext cx="171360" cy="17172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370400" y="4422600"/>
              <a:ext cx="172800" cy="1731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130880" y="4422600"/>
              <a:ext cx="173160" cy="1731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786360" y="4422600"/>
              <a:ext cx="173160" cy="1731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440400" y="4422600"/>
              <a:ext cx="173160" cy="1731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095880" y="4422600"/>
              <a:ext cx="173160" cy="1731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51360" y="4422600"/>
              <a:ext cx="171360" cy="1731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405400" y="4422600"/>
              <a:ext cx="172800" cy="17316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060880" y="4422600"/>
              <a:ext cx="173160" cy="1731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16360" y="4422600"/>
              <a:ext cx="171360" cy="1731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370400" y="2041560"/>
              <a:ext cx="17280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130880" y="2041560"/>
              <a:ext cx="17316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786360" y="2041560"/>
              <a:ext cx="17316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440400" y="2041560"/>
              <a:ext cx="17316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095880" y="2041560"/>
              <a:ext cx="17316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51360" y="2041560"/>
              <a:ext cx="171360" cy="17136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05400" y="2041560"/>
              <a:ext cx="17280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060880" y="2041560"/>
              <a:ext cx="17316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716360" y="2041560"/>
              <a:ext cx="171360" cy="17136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370400" y="2386080"/>
              <a:ext cx="172800" cy="17280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130880" y="2386080"/>
              <a:ext cx="173160" cy="17280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786360" y="2386080"/>
              <a:ext cx="173160" cy="17280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440400" y="2386080"/>
              <a:ext cx="173160" cy="17280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5880" y="2386080"/>
              <a:ext cx="173160" cy="17280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51360" y="2386080"/>
              <a:ext cx="171360" cy="17280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405400" y="2386080"/>
              <a:ext cx="172800" cy="17280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060880" y="2386080"/>
              <a:ext cx="173160" cy="17280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716360" y="2386080"/>
              <a:ext cx="171360" cy="172800"/>
            </a:xfrm>
            <a:prstGeom prst="ellipse">
              <a:avLst/>
            </a:prstGeom>
            <a:solidFill>
              <a:srgbClr val="afc2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303440" y="4684680"/>
              <a:ext cx="2772000" cy="30816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11600" y="4314960"/>
              <a:ext cx="2095560" cy="36972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981320" y="4006800"/>
              <a:ext cx="1416240" cy="30816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16200000">
              <a:off x="5874480" y="3482280"/>
              <a:ext cx="2711520" cy="309600"/>
            </a:xfrm>
            <a:prstGeom prst="rect">
              <a:avLst/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6200000">
              <a:off x="5874480" y="3483360"/>
              <a:ext cx="2033640" cy="368280"/>
            </a:xfrm>
            <a:prstGeom prst="rect">
              <a:avLst/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6200000">
              <a:off x="5874480" y="3482280"/>
              <a:ext cx="1355760" cy="309600"/>
            </a:xfrm>
            <a:prstGeom prst="rect">
              <a:avLst/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11600" y="1973160"/>
              <a:ext cx="2773440" cy="308160"/>
            </a:xfrm>
            <a:prstGeom prst="rect">
              <a:avLst/>
            </a:prstGeom>
            <a:noFill/>
            <a:ln w="28440">
              <a:solidFill>
                <a:srgbClr val="a5002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981320" y="2281320"/>
              <a:ext cx="2094120" cy="369720"/>
            </a:xfrm>
            <a:prstGeom prst="rect">
              <a:avLst/>
            </a:prstGeom>
            <a:noFill/>
            <a:ln w="28440">
              <a:solidFill>
                <a:srgbClr val="a5002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289480" y="2651040"/>
              <a:ext cx="1417680" cy="308160"/>
            </a:xfrm>
            <a:prstGeom prst="rect">
              <a:avLst/>
            </a:prstGeom>
            <a:noFill/>
            <a:ln w="28440">
              <a:solidFill>
                <a:srgbClr val="a5002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16200000">
              <a:off x="3101760" y="3174840"/>
              <a:ext cx="2711520" cy="30816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16200000">
              <a:off x="3779640" y="3112920"/>
              <a:ext cx="2033640" cy="36972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4457520" y="3174840"/>
              <a:ext cx="1355760" cy="30816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2819520" y="2438280"/>
            <a:ext cx="1904760" cy="1753560"/>
            <a:chOff x="2819520" y="2438280"/>
            <a:chExt cx="1904760" cy="1753560"/>
          </a:xfrm>
        </p:grpSpPr>
        <p:grpSp>
          <p:nvGrpSpPr>
            <p:cNvPr id="1278" name=""/>
            <p:cNvGrpSpPr/>
            <p:nvPr/>
          </p:nvGrpSpPr>
          <p:grpSpPr>
            <a:xfrm>
              <a:off x="2895480" y="2438280"/>
              <a:ext cx="837360" cy="322200"/>
              <a:chOff x="2895480" y="2438280"/>
              <a:chExt cx="837360" cy="322200"/>
            </a:xfrm>
          </p:grpSpPr>
          <p:sp>
            <p:nvSpPr>
              <p:cNvPr id="1279" name=""/>
              <p:cNvSpPr/>
              <p:nvPr/>
            </p:nvSpPr>
            <p:spPr>
              <a:xfrm>
                <a:off x="2895480" y="2514240"/>
                <a:ext cx="193680" cy="19368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123720" y="2438280"/>
                <a:ext cx="6091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Arial Unicode MS"/>
                  </a:rPr>
                  <a:t>Vcc3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2895480" y="2743200"/>
              <a:ext cx="891360" cy="322200"/>
              <a:chOff x="2895480" y="2743200"/>
              <a:chExt cx="891360" cy="322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2895480" y="2819520"/>
                <a:ext cx="193680" cy="193680"/>
              </a:xfrm>
              <a:prstGeom prst="ellips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112200" y="2743200"/>
                <a:ext cx="6746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Arial Unicode MS"/>
                  </a:rPr>
                  <a:t>Gnd3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2819520" y="3352680"/>
              <a:ext cx="1066680" cy="839160"/>
              <a:chOff x="2819520" y="3352680"/>
              <a:chExt cx="1066680" cy="839160"/>
            </a:xfrm>
          </p:grpSpPr>
          <p:sp>
            <p:nvSpPr>
              <p:cNvPr id="1285" name=""/>
              <p:cNvSpPr/>
              <p:nvPr/>
            </p:nvSpPr>
            <p:spPr>
              <a:xfrm>
                <a:off x="3200400" y="3352680"/>
                <a:ext cx="228600" cy="228600"/>
              </a:xfrm>
              <a:prstGeom prst="rect">
                <a:avLst/>
              </a:prstGeom>
              <a:solidFill>
                <a:srgbClr val="cc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819520" y="3641400"/>
                <a:ext cx="10666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Arial Unicode MS"/>
                  </a:rPr>
                  <a:t>IO-Bank 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7" name=""/>
            <p:cNvSpPr/>
            <p:nvPr/>
          </p:nvSpPr>
          <p:spPr>
            <a:xfrm>
              <a:off x="3733920" y="2743200"/>
              <a:ext cx="9144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809880" y="3200400"/>
              <a:ext cx="9144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6934320" y="3048120"/>
            <a:ext cx="2119680" cy="1312560"/>
            <a:chOff x="6934320" y="3048120"/>
            <a:chExt cx="2119680" cy="1312560"/>
          </a:xfrm>
        </p:grpSpPr>
        <p:grpSp>
          <p:nvGrpSpPr>
            <p:cNvPr id="1290" name=""/>
            <p:cNvGrpSpPr/>
            <p:nvPr/>
          </p:nvGrpSpPr>
          <p:grpSpPr>
            <a:xfrm>
              <a:off x="7848720" y="4038480"/>
              <a:ext cx="1151280" cy="322200"/>
              <a:chOff x="7848720" y="4038480"/>
              <a:chExt cx="1151280" cy="322200"/>
            </a:xfrm>
          </p:grpSpPr>
          <p:sp>
            <p:nvSpPr>
              <p:cNvPr id="1291" name=""/>
              <p:cNvSpPr/>
              <p:nvPr/>
            </p:nvSpPr>
            <p:spPr>
              <a:xfrm>
                <a:off x="7848720" y="4114440"/>
                <a:ext cx="193320" cy="193680"/>
              </a:xfrm>
              <a:prstGeom prst="ellips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8058960" y="4038480"/>
                <a:ext cx="9410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Arial Unicode MS"/>
                  </a:rPr>
                  <a:t>Vcc-lvd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7848720" y="3657600"/>
              <a:ext cx="1205280" cy="322200"/>
              <a:chOff x="7848720" y="3657600"/>
              <a:chExt cx="1205280" cy="322200"/>
            </a:xfrm>
          </p:grpSpPr>
          <p:sp>
            <p:nvSpPr>
              <p:cNvPr id="1294" name=""/>
              <p:cNvSpPr/>
              <p:nvPr/>
            </p:nvSpPr>
            <p:spPr>
              <a:xfrm>
                <a:off x="7848720" y="3733920"/>
                <a:ext cx="193320" cy="193680"/>
              </a:xfrm>
              <a:prstGeom prst="ellips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8047440" y="3657600"/>
                <a:ext cx="1006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Arial Unicode MS"/>
                  </a:rPr>
                  <a:t>Gnd-lvd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7664400" y="3048120"/>
              <a:ext cx="1066680" cy="839520"/>
              <a:chOff x="7664400" y="3048120"/>
              <a:chExt cx="1066680" cy="839520"/>
            </a:xfrm>
          </p:grpSpPr>
          <p:sp>
            <p:nvSpPr>
              <p:cNvPr id="1297" name=""/>
              <p:cNvSpPr/>
              <p:nvPr/>
            </p:nvSpPr>
            <p:spPr>
              <a:xfrm>
                <a:off x="7968960" y="3048120"/>
                <a:ext cx="228600" cy="22860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664400" y="3337200"/>
                <a:ext cx="10666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Arial Unicode MS"/>
                  </a:rPr>
                  <a:t>IO-Bank 3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9" name=""/>
            <p:cNvSpPr/>
            <p:nvPr/>
          </p:nvSpPr>
          <p:spPr>
            <a:xfrm flipH="1" flipV="1">
              <a:off x="6934320" y="3505320"/>
              <a:ext cx="91440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 flipV="1">
              <a:off x="6934320" y="3885840"/>
              <a:ext cx="9144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572000" y="4571640"/>
            <a:ext cx="2408040" cy="1830240"/>
            <a:chOff x="4572000" y="4571640"/>
            <a:chExt cx="2408040" cy="1830240"/>
          </a:xfrm>
        </p:grpSpPr>
        <p:grpSp>
          <p:nvGrpSpPr>
            <p:cNvPr id="1302" name=""/>
            <p:cNvGrpSpPr/>
            <p:nvPr/>
          </p:nvGrpSpPr>
          <p:grpSpPr>
            <a:xfrm>
              <a:off x="4572000" y="5334120"/>
              <a:ext cx="1058760" cy="322200"/>
              <a:chOff x="4572000" y="5334120"/>
              <a:chExt cx="1058760" cy="322200"/>
            </a:xfrm>
          </p:grpSpPr>
          <p:sp>
            <p:nvSpPr>
              <p:cNvPr id="1303" name=""/>
              <p:cNvSpPr/>
              <p:nvPr/>
            </p:nvSpPr>
            <p:spPr>
              <a:xfrm>
                <a:off x="4791600" y="5334120"/>
                <a:ext cx="8391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Arial Unicode MS"/>
                  </a:rPr>
                  <a:t>Vcc1p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4572000" y="5410080"/>
                <a:ext cx="193680" cy="193320"/>
              </a:xfrm>
              <a:prstGeom prst="ellipse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5867280" y="5334120"/>
              <a:ext cx="1112760" cy="322200"/>
              <a:chOff x="5867280" y="5334120"/>
              <a:chExt cx="1112760" cy="322200"/>
            </a:xfrm>
          </p:grpSpPr>
          <p:sp>
            <p:nvSpPr>
              <p:cNvPr id="1306" name=""/>
              <p:cNvSpPr/>
              <p:nvPr/>
            </p:nvSpPr>
            <p:spPr>
              <a:xfrm>
                <a:off x="5867280" y="5410080"/>
                <a:ext cx="193680" cy="193680"/>
              </a:xfrm>
              <a:prstGeom prst="ellipse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075360" y="5334120"/>
                <a:ext cx="9046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Arial Unicode MS"/>
                  </a:rPr>
                  <a:t>Gnd1p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5029200" y="5851440"/>
              <a:ext cx="1371600" cy="550440"/>
              <a:chOff x="5029200" y="5851440"/>
              <a:chExt cx="1371600" cy="550440"/>
            </a:xfrm>
          </p:grpSpPr>
          <p:sp>
            <p:nvSpPr>
              <p:cNvPr id="1309" name=""/>
              <p:cNvSpPr/>
              <p:nvPr/>
            </p:nvSpPr>
            <p:spPr>
              <a:xfrm>
                <a:off x="5029200" y="592776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334120" y="5851440"/>
                <a:ext cx="10666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Arial Unicode MS"/>
                  </a:rPr>
                  <a:t>IO-Bank 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1" name=""/>
            <p:cNvSpPr/>
            <p:nvPr/>
          </p:nvSpPr>
          <p:spPr>
            <a:xfrm flipV="1">
              <a:off x="5181480" y="457164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 flipV="1">
              <a:off x="5866920" y="4571640"/>
              <a:ext cx="3049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029200" y="1066680"/>
            <a:ext cx="3932280" cy="1676520"/>
            <a:chOff x="5029200" y="1066680"/>
            <a:chExt cx="3932280" cy="1676520"/>
          </a:xfrm>
        </p:grpSpPr>
        <p:grpSp>
          <p:nvGrpSpPr>
            <p:cNvPr id="1314" name=""/>
            <p:cNvGrpSpPr/>
            <p:nvPr/>
          </p:nvGrpSpPr>
          <p:grpSpPr>
            <a:xfrm>
              <a:off x="7848720" y="1828800"/>
              <a:ext cx="1058040" cy="322200"/>
              <a:chOff x="7848720" y="1828800"/>
              <a:chExt cx="1058040" cy="322200"/>
            </a:xfrm>
          </p:grpSpPr>
          <p:sp>
            <p:nvSpPr>
              <p:cNvPr id="1315" name=""/>
              <p:cNvSpPr/>
              <p:nvPr/>
            </p:nvSpPr>
            <p:spPr>
              <a:xfrm>
                <a:off x="7848720" y="1905120"/>
                <a:ext cx="193320" cy="193680"/>
              </a:xfrm>
              <a:prstGeom prst="ellipse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8067600" y="1828800"/>
                <a:ext cx="8391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Arial Unicode MS"/>
                  </a:rPr>
                  <a:t>Vcc2p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7385040" y="1066680"/>
              <a:ext cx="1380960" cy="322200"/>
              <a:chOff x="7385040" y="1066680"/>
              <a:chExt cx="1380960" cy="322200"/>
            </a:xfrm>
          </p:grpSpPr>
          <p:sp>
            <p:nvSpPr>
              <p:cNvPr id="1318" name=""/>
              <p:cNvSpPr/>
              <p:nvPr/>
            </p:nvSpPr>
            <p:spPr>
              <a:xfrm>
                <a:off x="7385040" y="1143000"/>
                <a:ext cx="193320" cy="19368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578000" y="1066680"/>
                <a:ext cx="118800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Arial Unicode MS"/>
                  </a:rPr>
                  <a:t>Vccclamp3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7848720" y="1447920"/>
              <a:ext cx="1112760" cy="322200"/>
              <a:chOff x="7848720" y="1447920"/>
              <a:chExt cx="1112760" cy="322200"/>
            </a:xfrm>
          </p:grpSpPr>
          <p:sp>
            <p:nvSpPr>
              <p:cNvPr id="1321" name=""/>
              <p:cNvSpPr/>
              <p:nvPr/>
            </p:nvSpPr>
            <p:spPr>
              <a:xfrm>
                <a:off x="7848720" y="1523880"/>
                <a:ext cx="193680" cy="193680"/>
              </a:xfrm>
              <a:prstGeom prst="ellipse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8056800" y="1447920"/>
                <a:ext cx="9046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Arial Unicode MS"/>
                  </a:rPr>
                  <a:t>Gnd2p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5029200" y="1066680"/>
              <a:ext cx="1371600" cy="550440"/>
              <a:chOff x="5029200" y="1066680"/>
              <a:chExt cx="1371600" cy="550440"/>
            </a:xfrm>
          </p:grpSpPr>
          <p:sp>
            <p:nvSpPr>
              <p:cNvPr id="1324" name=""/>
              <p:cNvSpPr/>
              <p:nvPr/>
            </p:nvSpPr>
            <p:spPr>
              <a:xfrm>
                <a:off x="5029200" y="11430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334120" y="1066680"/>
                <a:ext cx="106668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Arial Unicode MS"/>
                  </a:rPr>
                  <a:t>IO-Bank 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6" name=""/>
            <p:cNvSpPr/>
            <p:nvPr/>
          </p:nvSpPr>
          <p:spPr>
            <a:xfrm flipH="1">
              <a:off x="6248160" y="2057400"/>
              <a:ext cx="1600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5867280" y="1676520"/>
              <a:ext cx="198144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5866920" y="1219320"/>
              <a:ext cx="16002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>
            <a:off x="152280" y="2468520"/>
            <a:ext cx="2667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 Unicode MS"/>
              </a:rPr>
              <a:t>B4   NC             VCC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500" spc="-1" strike="noStrike">
                <a:solidFill>
                  <a:srgbClr val="000000"/>
                </a:solidFill>
                <a:latin typeface="Arial Unicode MS"/>
              </a:rPr>
              <a:t>| 3P3V supp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152280" y="1666800"/>
            <a:ext cx="3844800" cy="781920"/>
            <a:chOff x="152280" y="1666800"/>
            <a:chExt cx="3844800" cy="781920"/>
          </a:xfrm>
        </p:grpSpPr>
        <p:sp>
          <p:nvSpPr>
            <p:cNvPr id="1331" name=""/>
            <p:cNvSpPr/>
            <p:nvPr/>
          </p:nvSpPr>
          <p:spPr>
            <a:xfrm>
              <a:off x="2330280" y="1666800"/>
              <a:ext cx="1666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 Unicode MS"/>
                </a:rPr>
                <a:t>NC    Vccclamp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52280" y="1670040"/>
              <a:ext cx="266688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 Unicode MS"/>
                </a:rPr>
                <a:t>B1   GND2p5    VCC2p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500" spc="-1" strike="noStrike">
                  <a:solidFill>
                    <a:srgbClr val="000000"/>
                  </a:solidFill>
                  <a:latin typeface="Arial Unicode MS"/>
                </a:rPr>
                <a:t>| 2P5V-Signalpin with diod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500" spc="-1" strike="noStrike">
                  <a:solidFill>
                    <a:srgbClr val="000000"/>
                  </a:solidFill>
                  <a:latin typeface="Arial Unicode MS"/>
                </a:rPr>
                <a:t>| to 3P3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152280" y="5029200"/>
            <a:ext cx="2667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 Unicode MS"/>
              </a:rPr>
              <a:t>H6   NC             VCC-lv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52280" y="4479840"/>
            <a:ext cx="2667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 Unicode MS"/>
              </a:rPr>
              <a:t>H4   GND-lvds  VCC-lv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90440" y="3840120"/>
            <a:ext cx="2667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 Unicode MS"/>
              </a:rPr>
              <a:t>E1   NC             VCCclamp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500" spc="-1" strike="noStrike">
                <a:solidFill>
                  <a:srgbClr val="000000"/>
                </a:solidFill>
                <a:latin typeface="Arial Unicode MS"/>
              </a:rPr>
              <a:t>| VCCclamp3P3V supp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52280" y="3154320"/>
            <a:ext cx="2667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 Unicode MS"/>
              </a:rPr>
              <a:t>B5   GND3        N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500" spc="-1" strike="noStrike">
                <a:solidFill>
                  <a:srgbClr val="000000"/>
                </a:solidFill>
                <a:latin typeface="Arial Unicode MS"/>
              </a:rPr>
              <a:t>| Gnd for 3P3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90440" y="5546880"/>
            <a:ext cx="2667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 Unicode MS"/>
              </a:rPr>
              <a:t>I1   GND2p5      VCC2p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5921280" y="152280"/>
            <a:ext cx="3210480" cy="803520"/>
            <a:chOff x="5921280" y="152280"/>
            <a:chExt cx="3210480" cy="803520"/>
          </a:xfrm>
        </p:grpSpPr>
        <p:sp>
          <p:nvSpPr>
            <p:cNvPr id="1339" name=""/>
            <p:cNvSpPr/>
            <p:nvPr/>
          </p:nvSpPr>
          <p:spPr>
            <a:xfrm>
              <a:off x="5921280" y="152280"/>
              <a:ext cx="321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Model keywords and paramer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7311960" y="456840"/>
              <a:ext cx="310680" cy="498960"/>
              <a:chOff x="7311960" y="456840"/>
              <a:chExt cx="310680" cy="498960"/>
            </a:xfrm>
          </p:grpSpPr>
          <p:sp>
            <p:nvSpPr>
              <p:cNvPr id="1341" name=""/>
              <p:cNvSpPr/>
              <p:nvPr/>
            </p:nvSpPr>
            <p:spPr>
              <a:xfrm>
                <a:off x="737424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4052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4674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31196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436160" y="87372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49844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56072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420680" y="58104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49880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37424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436520" y="728280"/>
                <a:ext cx="6192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3432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46748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40520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5" name=""/>
              <p:cNvGrpSpPr/>
              <p:nvPr/>
            </p:nvGrpSpPr>
            <p:grpSpPr>
              <a:xfrm>
                <a:off x="7418880" y="653760"/>
                <a:ext cx="96480" cy="302040"/>
                <a:chOff x="7418880" y="653760"/>
                <a:chExt cx="96480" cy="30204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7436160" y="65376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7434360" y="67896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7432920" y="70308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7431120" y="72792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7429680" y="75276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7428240" y="77832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7426440" y="80352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7425000" y="82836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7423560" y="85392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7421760" y="88056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7420320" y="90540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7418880" y="93060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8" name=""/>
              <p:cNvSpPr/>
              <p:nvPr/>
            </p:nvSpPr>
            <p:spPr>
              <a:xfrm rot="16200000">
                <a:off x="7404840" y="486360"/>
                <a:ext cx="124200" cy="6480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9" name=""/>
              <p:cNvGrpSpPr/>
              <p:nvPr/>
            </p:nvGrpSpPr>
            <p:grpSpPr>
              <a:xfrm>
                <a:off x="7457400" y="606600"/>
                <a:ext cx="19440" cy="46800"/>
                <a:chOff x="7457400" y="606600"/>
                <a:chExt cx="19440" cy="46800"/>
              </a:xfrm>
            </p:grpSpPr>
            <p:grpSp>
              <p:nvGrpSpPr>
                <p:cNvPr id="1370" name=""/>
                <p:cNvGrpSpPr/>
                <p:nvPr/>
              </p:nvGrpSpPr>
              <p:grpSpPr>
                <a:xfrm>
                  <a:off x="7457400" y="606600"/>
                  <a:ext cx="19440" cy="46800"/>
                  <a:chOff x="7457400" y="606600"/>
                  <a:chExt cx="19440" cy="46800"/>
                </a:xfrm>
              </p:grpSpPr>
              <p:sp>
                <p:nvSpPr>
                  <p:cNvPr id="1371" name=""/>
                  <p:cNvSpPr/>
                  <p:nvPr/>
                </p:nvSpPr>
                <p:spPr>
                  <a:xfrm>
                    <a:off x="745740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747684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7457400" y="606600"/>
                    <a:ext cx="19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74" name=""/>
                <p:cNvSpPr/>
                <p:nvPr/>
              </p:nvSpPr>
              <p:spPr>
                <a:xfrm>
                  <a:off x="7458840" y="609120"/>
                  <a:ext cx="1656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5" name=""/>
              <p:cNvSpPr/>
              <p:nvPr/>
            </p:nvSpPr>
            <p:spPr>
              <a:xfrm>
                <a:off x="75294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O-Model-type not corr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464760" y="4267080"/>
            <a:ext cx="2879280" cy="1658520"/>
            <a:chOff x="464760" y="4267080"/>
            <a:chExt cx="2879280" cy="1658520"/>
          </a:xfrm>
        </p:grpSpPr>
        <p:sp>
          <p:nvSpPr>
            <p:cNvPr id="1378" name=""/>
            <p:cNvSpPr/>
            <p:nvPr/>
          </p:nvSpPr>
          <p:spPr>
            <a:xfrm flipH="1" rot="5400000">
              <a:off x="2880000" y="4805280"/>
              <a:ext cx="378000" cy="549000"/>
            </a:xfrm>
            <a:prstGeom prst="flowChartExtra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9" name=""/>
            <p:cNvGrpSpPr/>
            <p:nvPr/>
          </p:nvGrpSpPr>
          <p:grpSpPr>
            <a:xfrm>
              <a:off x="1047600" y="4995720"/>
              <a:ext cx="1782000" cy="168480"/>
              <a:chOff x="1047600" y="4995720"/>
              <a:chExt cx="1782000" cy="168480"/>
            </a:xfrm>
          </p:grpSpPr>
          <p:sp>
            <p:nvSpPr>
              <p:cNvPr id="1380" name=""/>
              <p:cNvSpPr/>
              <p:nvPr/>
            </p:nvSpPr>
            <p:spPr>
              <a:xfrm>
                <a:off x="1595880" y="4995720"/>
                <a:ext cx="753840" cy="168480"/>
              </a:xfrm>
              <a:prstGeom prst="flowChartMagneticDrum">
                <a:avLst/>
              </a:prstGeom>
              <a:solidFill>
                <a:srgbClr val="afc2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1047600" y="5079600"/>
                <a:ext cx="54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212920" y="5079600"/>
                <a:ext cx="61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3" name=""/>
            <p:cNvSpPr/>
            <p:nvPr/>
          </p:nvSpPr>
          <p:spPr>
            <a:xfrm>
              <a:off x="1685520" y="456732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Z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 rot="5400000">
              <a:off x="549720" y="4805280"/>
              <a:ext cx="378000" cy="549000"/>
            </a:xfrm>
            <a:prstGeom prst="flowChartExtra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 rot="5400000">
              <a:off x="2879280" y="4182120"/>
              <a:ext cx="379440" cy="549000"/>
            </a:xfrm>
            <a:prstGeom prst="flowChartExtra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 rot="5400000">
              <a:off x="2879640" y="5461560"/>
              <a:ext cx="379080" cy="549000"/>
            </a:xfrm>
            <a:prstGeom prst="flowChartExtra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2590560" y="576108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2590560" y="443880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590560" y="4438800"/>
              <a:ext cx="0" cy="13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554200" y="5056200"/>
              <a:ext cx="6768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1" name=""/>
          <p:cNvGrpSpPr/>
          <p:nvPr/>
        </p:nvGrpSpPr>
        <p:grpSpPr>
          <a:xfrm>
            <a:off x="304920" y="1143000"/>
            <a:ext cx="4219200" cy="459720"/>
            <a:chOff x="304920" y="1143000"/>
            <a:chExt cx="4219200" cy="459720"/>
          </a:xfrm>
        </p:grpSpPr>
        <p:grpSp>
          <p:nvGrpSpPr>
            <p:cNvPr id="1392" name=""/>
            <p:cNvGrpSpPr/>
            <p:nvPr/>
          </p:nvGrpSpPr>
          <p:grpSpPr>
            <a:xfrm>
              <a:off x="304920" y="1241280"/>
              <a:ext cx="1066680" cy="281160"/>
              <a:chOff x="304920" y="1241280"/>
              <a:chExt cx="1066680" cy="281160"/>
            </a:xfrm>
          </p:grpSpPr>
          <p:sp>
            <p:nvSpPr>
              <p:cNvPr id="1393" name=""/>
              <p:cNvSpPr/>
              <p:nvPr/>
            </p:nvSpPr>
            <p:spPr>
              <a:xfrm>
                <a:off x="518400" y="14763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25320" y="14353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838800" y="14353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04920" y="14763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31520" y="14763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944640" y="14763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1158840" y="14763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77880" y="131076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946080" y="13939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18400" y="13939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32240" y="13939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12560" y="14353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38800" y="13525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25320" y="13525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7" name=""/>
              <p:cNvGrpSpPr/>
              <p:nvPr/>
            </p:nvGrpSpPr>
            <p:grpSpPr>
              <a:xfrm>
                <a:off x="672480" y="1352160"/>
                <a:ext cx="330480" cy="170280"/>
                <a:chOff x="672480" y="1352160"/>
                <a:chExt cx="330480" cy="17028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731880" y="13521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725760" y="13662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720360" y="13798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714960" y="13939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709920" y="14079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704520" y="14223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699120" y="14364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693720" y="14508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688320" y="14652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683280" y="14799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677880" y="14940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72480" y="15084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0" name=""/>
              <p:cNvSpPr/>
              <p:nvPr/>
            </p:nvSpPr>
            <p:spPr>
              <a:xfrm rot="16200000">
                <a:off x="803160" y="11642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1" name=""/>
              <p:cNvGrpSpPr/>
              <p:nvPr/>
            </p:nvGrpSpPr>
            <p:grpSpPr>
              <a:xfrm>
                <a:off x="803880" y="1325520"/>
                <a:ext cx="68040" cy="26280"/>
                <a:chOff x="803880" y="1325520"/>
                <a:chExt cx="68040" cy="26280"/>
              </a:xfrm>
            </p:grpSpPr>
            <p:grpSp>
              <p:nvGrpSpPr>
                <p:cNvPr id="1422" name=""/>
                <p:cNvGrpSpPr/>
                <p:nvPr/>
              </p:nvGrpSpPr>
              <p:grpSpPr>
                <a:xfrm>
                  <a:off x="803880" y="1325520"/>
                  <a:ext cx="68040" cy="26280"/>
                  <a:chOff x="803880" y="1325520"/>
                  <a:chExt cx="68040" cy="26280"/>
                </a:xfrm>
              </p:grpSpPr>
              <p:sp>
                <p:nvSpPr>
                  <p:cNvPr id="1423" name=""/>
                  <p:cNvSpPr/>
                  <p:nvPr/>
                </p:nvSpPr>
                <p:spPr>
                  <a:xfrm>
                    <a:off x="803880" y="13255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871920" y="13255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803880" y="13255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6" name=""/>
                <p:cNvSpPr/>
                <p:nvPr/>
              </p:nvSpPr>
              <p:spPr>
                <a:xfrm>
                  <a:off x="809640" y="132696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7" name=""/>
              <p:cNvSpPr/>
              <p:nvPr/>
            </p:nvSpPr>
            <p:spPr>
              <a:xfrm>
                <a:off x="1051560" y="14353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8" name=""/>
            <p:cNvSpPr/>
            <p:nvPr/>
          </p:nvSpPr>
          <p:spPr>
            <a:xfrm>
              <a:off x="1749600" y="114300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BIS-IO-Model 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9" name=""/>
          <p:cNvSpPr/>
          <p:nvPr/>
        </p:nvSpPr>
        <p:spPr>
          <a:xfrm>
            <a:off x="1901520" y="1609560"/>
            <a:ext cx="1110600" cy="18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-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4417200" y="3962520"/>
            <a:ext cx="2720160" cy="609480"/>
            <a:chOff x="4417200" y="3962520"/>
            <a:chExt cx="2720160" cy="609480"/>
          </a:xfrm>
        </p:grpSpPr>
        <p:grpSp>
          <p:nvGrpSpPr>
            <p:cNvPr id="1431" name=""/>
            <p:cNvGrpSpPr/>
            <p:nvPr/>
          </p:nvGrpSpPr>
          <p:grpSpPr>
            <a:xfrm>
              <a:off x="4417200" y="4043160"/>
              <a:ext cx="2720160" cy="449280"/>
              <a:chOff x="4417200" y="4043160"/>
              <a:chExt cx="2720160" cy="449280"/>
            </a:xfrm>
          </p:grpSpPr>
          <p:sp>
            <p:nvSpPr>
              <p:cNvPr id="1432" name=""/>
              <p:cNvSpPr/>
              <p:nvPr/>
            </p:nvSpPr>
            <p:spPr>
              <a:xfrm>
                <a:off x="6780960" y="4043160"/>
                <a:ext cx="356400" cy="44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484960" y="4043160"/>
                <a:ext cx="554760" cy="44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4417200" y="4043160"/>
                <a:ext cx="1091160" cy="44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Case I  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6019920" y="3962520"/>
              <a:ext cx="761400" cy="609480"/>
              <a:chOff x="6019920" y="3962520"/>
              <a:chExt cx="761400" cy="609480"/>
            </a:xfrm>
          </p:grpSpPr>
          <p:sp>
            <p:nvSpPr>
              <p:cNvPr id="1436" name=""/>
              <p:cNvSpPr/>
              <p:nvPr/>
            </p:nvSpPr>
            <p:spPr>
              <a:xfrm>
                <a:off x="6019920" y="4267080"/>
                <a:ext cx="380520" cy="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400440" y="3962520"/>
                <a:ext cx="0" cy="60948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400440" y="4267080"/>
                <a:ext cx="380880" cy="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400440" y="4572000"/>
                <a:ext cx="380880" cy="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400440" y="3962520"/>
                <a:ext cx="380880" cy="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1" name=""/>
          <p:cNvGrpSpPr/>
          <p:nvPr/>
        </p:nvGrpSpPr>
        <p:grpSpPr>
          <a:xfrm>
            <a:off x="4417200" y="4800600"/>
            <a:ext cx="2734920" cy="609480"/>
            <a:chOff x="4417200" y="4800600"/>
            <a:chExt cx="2734920" cy="609480"/>
          </a:xfrm>
        </p:grpSpPr>
        <p:grpSp>
          <p:nvGrpSpPr>
            <p:cNvPr id="1442" name=""/>
            <p:cNvGrpSpPr/>
            <p:nvPr/>
          </p:nvGrpSpPr>
          <p:grpSpPr>
            <a:xfrm>
              <a:off x="4417200" y="4876560"/>
              <a:ext cx="2734920" cy="449280"/>
              <a:chOff x="4417200" y="4876560"/>
              <a:chExt cx="2734920" cy="449280"/>
            </a:xfrm>
          </p:grpSpPr>
          <p:sp>
            <p:nvSpPr>
              <p:cNvPr id="1443" name=""/>
              <p:cNvSpPr/>
              <p:nvPr/>
            </p:nvSpPr>
            <p:spPr>
              <a:xfrm>
                <a:off x="5485680" y="4876560"/>
                <a:ext cx="442080" cy="44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Tr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781680" y="4876560"/>
                <a:ext cx="370440" cy="44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B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417200" y="4876560"/>
                <a:ext cx="1091160" cy="44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Case II 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6019920" y="4800600"/>
              <a:ext cx="761760" cy="609480"/>
              <a:chOff x="6019920" y="4800600"/>
              <a:chExt cx="761760" cy="609480"/>
            </a:xfrm>
          </p:grpSpPr>
          <p:sp>
            <p:nvSpPr>
              <p:cNvPr id="1447" name=""/>
              <p:cNvSpPr/>
              <p:nvPr/>
            </p:nvSpPr>
            <p:spPr>
              <a:xfrm>
                <a:off x="6019920" y="5105160"/>
                <a:ext cx="380880" cy="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400800" y="4800600"/>
                <a:ext cx="0" cy="60948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400800" y="5105160"/>
                <a:ext cx="380880" cy="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400800" y="5410080"/>
                <a:ext cx="380880" cy="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400800" y="4800600"/>
                <a:ext cx="380880" cy="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2" name=""/>
          <p:cNvSpPr/>
          <p:nvPr/>
        </p:nvSpPr>
        <p:spPr>
          <a:xfrm>
            <a:off x="4191840" y="5505480"/>
            <a:ext cx="44211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hich will be the correct driver in case II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5921280" y="152280"/>
            <a:ext cx="3210480" cy="803520"/>
            <a:chOff x="5921280" y="152280"/>
            <a:chExt cx="3210480" cy="803520"/>
          </a:xfrm>
        </p:grpSpPr>
        <p:sp>
          <p:nvSpPr>
            <p:cNvPr id="1454" name=""/>
            <p:cNvSpPr/>
            <p:nvPr/>
          </p:nvSpPr>
          <p:spPr>
            <a:xfrm>
              <a:off x="5921280" y="152280"/>
              <a:ext cx="321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Model keywords and paramer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5" name=""/>
            <p:cNvGrpSpPr/>
            <p:nvPr/>
          </p:nvGrpSpPr>
          <p:grpSpPr>
            <a:xfrm>
              <a:off x="7311960" y="456840"/>
              <a:ext cx="310680" cy="498960"/>
              <a:chOff x="7311960" y="456840"/>
              <a:chExt cx="310680" cy="498960"/>
            </a:xfrm>
          </p:grpSpPr>
          <p:sp>
            <p:nvSpPr>
              <p:cNvPr id="1456" name=""/>
              <p:cNvSpPr/>
              <p:nvPr/>
            </p:nvSpPr>
            <p:spPr>
              <a:xfrm>
                <a:off x="737424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4052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4674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31196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436160" y="87372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49844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56072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420680" y="58104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49880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37424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436520" y="728280"/>
                <a:ext cx="6192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3432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46748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40520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0" name=""/>
              <p:cNvGrpSpPr/>
              <p:nvPr/>
            </p:nvGrpSpPr>
            <p:grpSpPr>
              <a:xfrm>
                <a:off x="7418880" y="653760"/>
                <a:ext cx="96480" cy="302040"/>
                <a:chOff x="7418880" y="653760"/>
                <a:chExt cx="96480" cy="30204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7436160" y="65376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7434360" y="67896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7432920" y="70308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7431120" y="72792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7429680" y="75276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7428240" y="77832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7426440" y="80352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7425000" y="82836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7423560" y="85392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7421760" y="88056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7420320" y="90540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7418880" y="93060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3" name=""/>
              <p:cNvSpPr/>
              <p:nvPr/>
            </p:nvSpPr>
            <p:spPr>
              <a:xfrm rot="16200000">
                <a:off x="7404840" y="486360"/>
                <a:ext cx="124200" cy="6480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4" name=""/>
              <p:cNvGrpSpPr/>
              <p:nvPr/>
            </p:nvGrpSpPr>
            <p:grpSpPr>
              <a:xfrm>
                <a:off x="7457400" y="606600"/>
                <a:ext cx="19440" cy="46800"/>
                <a:chOff x="7457400" y="606600"/>
                <a:chExt cx="19440" cy="46800"/>
              </a:xfrm>
            </p:grpSpPr>
            <p:grpSp>
              <p:nvGrpSpPr>
                <p:cNvPr id="1485" name=""/>
                <p:cNvGrpSpPr/>
                <p:nvPr/>
              </p:nvGrpSpPr>
              <p:grpSpPr>
                <a:xfrm>
                  <a:off x="7457400" y="606600"/>
                  <a:ext cx="19440" cy="46800"/>
                  <a:chOff x="7457400" y="606600"/>
                  <a:chExt cx="19440" cy="46800"/>
                </a:xfrm>
              </p:grpSpPr>
              <p:sp>
                <p:nvSpPr>
                  <p:cNvPr id="1486" name=""/>
                  <p:cNvSpPr/>
                  <p:nvPr/>
                </p:nvSpPr>
                <p:spPr>
                  <a:xfrm>
                    <a:off x="745740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747684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7457400" y="606600"/>
                    <a:ext cx="19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9" name=""/>
                <p:cNvSpPr/>
                <p:nvPr/>
              </p:nvSpPr>
              <p:spPr>
                <a:xfrm>
                  <a:off x="7458840" y="609120"/>
                  <a:ext cx="1656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0" name=""/>
              <p:cNvSpPr/>
              <p:nvPr/>
            </p:nvSpPr>
            <p:spPr>
              <a:xfrm>
                <a:off x="75294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1" name=""/>
          <p:cNvSpPr/>
          <p:nvPr/>
        </p:nvSpPr>
        <p:spPr>
          <a:xfrm>
            <a:off x="148320" y="3733920"/>
            <a:ext cx="3562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ample : mismatch DB - IB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BIS Quality docu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1447920" y="1295280"/>
            <a:ext cx="5257800" cy="19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Q_checklist_kit.zip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Q-checklist.x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Q-specification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SING-IQ-checklist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4" name=""/>
          <p:cNvGrpSpPr/>
          <p:nvPr/>
        </p:nvGrpSpPr>
        <p:grpSpPr>
          <a:xfrm>
            <a:off x="7494120" y="152280"/>
            <a:ext cx="1424520" cy="803520"/>
            <a:chOff x="7494120" y="152280"/>
            <a:chExt cx="1424520" cy="803520"/>
          </a:xfrm>
        </p:grpSpPr>
        <p:sp>
          <p:nvSpPr>
            <p:cNvPr id="1495" name=""/>
            <p:cNvSpPr/>
            <p:nvPr/>
          </p:nvSpPr>
          <p:spPr>
            <a:xfrm>
              <a:off x="7494120" y="15228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IBIS qua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6" name=""/>
            <p:cNvGrpSpPr/>
            <p:nvPr/>
          </p:nvGrpSpPr>
          <p:grpSpPr>
            <a:xfrm>
              <a:off x="8607600" y="456840"/>
              <a:ext cx="311040" cy="498960"/>
              <a:chOff x="8607600" y="456840"/>
              <a:chExt cx="311040" cy="498960"/>
            </a:xfrm>
          </p:grpSpPr>
          <p:sp>
            <p:nvSpPr>
              <p:cNvPr id="1497" name=""/>
              <p:cNvSpPr/>
              <p:nvPr/>
            </p:nvSpPr>
            <p:spPr>
              <a:xfrm>
                <a:off x="866988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70084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87634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60760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731800" y="87372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879444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885672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8716320" y="58104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879444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866988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732160" y="72828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863892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8763120" y="65484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870084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1" name=""/>
              <p:cNvGrpSpPr/>
              <p:nvPr/>
            </p:nvGrpSpPr>
            <p:grpSpPr>
              <a:xfrm>
                <a:off x="8714520" y="653760"/>
                <a:ext cx="96480" cy="302040"/>
                <a:chOff x="8714520" y="653760"/>
                <a:chExt cx="96480" cy="302040"/>
              </a:xfrm>
            </p:grpSpPr>
            <p:sp>
              <p:nvSpPr>
                <p:cNvPr id="1512" name=""/>
                <p:cNvSpPr/>
                <p:nvPr/>
              </p:nvSpPr>
              <p:spPr>
                <a:xfrm>
                  <a:off x="8731800" y="65376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8730000" y="67896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8728560" y="70308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8726760" y="72792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8725320" y="75276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8723880" y="77832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8722080" y="80352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8720640" y="82836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8719200" y="85392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8717400" y="88056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8715960" y="90540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8714520" y="93060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 rot="16200000">
                <a:off x="8700840" y="48636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5" name=""/>
              <p:cNvGrpSpPr/>
              <p:nvPr/>
            </p:nvGrpSpPr>
            <p:grpSpPr>
              <a:xfrm>
                <a:off x="8753040" y="606600"/>
                <a:ext cx="19800" cy="46800"/>
                <a:chOff x="8753040" y="606600"/>
                <a:chExt cx="19800" cy="46800"/>
              </a:xfrm>
            </p:grpSpPr>
            <p:grpSp>
              <p:nvGrpSpPr>
                <p:cNvPr id="1526" name=""/>
                <p:cNvGrpSpPr/>
                <p:nvPr/>
              </p:nvGrpSpPr>
              <p:grpSpPr>
                <a:xfrm>
                  <a:off x="8753040" y="606600"/>
                  <a:ext cx="19800" cy="46800"/>
                  <a:chOff x="8753040" y="606600"/>
                  <a:chExt cx="19800" cy="46800"/>
                </a:xfrm>
              </p:grpSpPr>
              <p:sp>
                <p:nvSpPr>
                  <p:cNvPr id="1527" name=""/>
                  <p:cNvSpPr/>
                  <p:nvPr/>
                </p:nvSpPr>
                <p:spPr>
                  <a:xfrm>
                    <a:off x="875304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877284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8753040" y="60660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30" name=""/>
                <p:cNvSpPr/>
                <p:nvPr/>
              </p:nvSpPr>
              <p:spPr>
                <a:xfrm>
                  <a:off x="8754480" y="60912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1" name=""/>
              <p:cNvSpPr/>
              <p:nvPr/>
            </p:nvSpPr>
            <p:spPr>
              <a:xfrm>
                <a:off x="88254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2" name=""/>
          <p:cNvSpPr/>
          <p:nvPr/>
        </p:nvSpPr>
        <p:spPr>
          <a:xfrm>
            <a:off x="1447920" y="3708360"/>
            <a:ext cx="525780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Q_example.i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 example of an IBIS file that was 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run through the check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urrent status of IQ Committee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143000" y="1440000"/>
            <a:ext cx="70866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ecklist is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ecklist kit is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ample i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tailed instructions ar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urrent task : list of additional checks that coul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be added to Golden 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nted: engineers / volunters who will use th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checklist and provide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7494120" y="152280"/>
            <a:ext cx="1424520" cy="803520"/>
            <a:chOff x="7494120" y="152280"/>
            <a:chExt cx="1424520" cy="803520"/>
          </a:xfrm>
        </p:grpSpPr>
        <p:sp>
          <p:nvSpPr>
            <p:cNvPr id="1536" name=""/>
            <p:cNvSpPr/>
            <p:nvPr/>
          </p:nvSpPr>
          <p:spPr>
            <a:xfrm>
              <a:off x="7494120" y="15228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IBIS qua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7" name=""/>
            <p:cNvGrpSpPr/>
            <p:nvPr/>
          </p:nvGrpSpPr>
          <p:grpSpPr>
            <a:xfrm>
              <a:off x="8607600" y="456840"/>
              <a:ext cx="311040" cy="498960"/>
              <a:chOff x="8607600" y="456840"/>
              <a:chExt cx="311040" cy="498960"/>
            </a:xfrm>
          </p:grpSpPr>
          <p:sp>
            <p:nvSpPr>
              <p:cNvPr id="1538" name=""/>
              <p:cNvSpPr/>
              <p:nvPr/>
            </p:nvSpPr>
            <p:spPr>
              <a:xfrm>
                <a:off x="866988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70084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87634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860760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731800" y="87372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879444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885672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8716320" y="58104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879444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66988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8732160" y="72828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863892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8763120" y="65484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870084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2" name=""/>
              <p:cNvGrpSpPr/>
              <p:nvPr/>
            </p:nvGrpSpPr>
            <p:grpSpPr>
              <a:xfrm>
                <a:off x="8714520" y="653760"/>
                <a:ext cx="96480" cy="302040"/>
                <a:chOff x="8714520" y="653760"/>
                <a:chExt cx="96480" cy="302040"/>
              </a:xfrm>
            </p:grpSpPr>
            <p:sp>
              <p:nvSpPr>
                <p:cNvPr id="1553" name=""/>
                <p:cNvSpPr/>
                <p:nvPr/>
              </p:nvSpPr>
              <p:spPr>
                <a:xfrm>
                  <a:off x="8731800" y="65376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8730000" y="67896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728560" y="70308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8726760" y="72792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8725320" y="75276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723880" y="77832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8722080" y="80352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8720640" y="82836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8719200" y="85392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8717400" y="88056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8715960" y="90540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8714520" y="93060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5" name=""/>
              <p:cNvSpPr/>
              <p:nvPr/>
            </p:nvSpPr>
            <p:spPr>
              <a:xfrm rot="16200000">
                <a:off x="8700840" y="48636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6" name=""/>
              <p:cNvGrpSpPr/>
              <p:nvPr/>
            </p:nvGrpSpPr>
            <p:grpSpPr>
              <a:xfrm>
                <a:off x="8753040" y="606600"/>
                <a:ext cx="19800" cy="46800"/>
                <a:chOff x="8753040" y="606600"/>
                <a:chExt cx="19800" cy="46800"/>
              </a:xfrm>
            </p:grpSpPr>
            <p:grpSp>
              <p:nvGrpSpPr>
                <p:cNvPr id="1567" name=""/>
                <p:cNvGrpSpPr/>
                <p:nvPr/>
              </p:nvGrpSpPr>
              <p:grpSpPr>
                <a:xfrm>
                  <a:off x="8753040" y="606600"/>
                  <a:ext cx="19800" cy="46800"/>
                  <a:chOff x="8753040" y="606600"/>
                  <a:chExt cx="19800" cy="46800"/>
                </a:xfrm>
              </p:grpSpPr>
              <p:sp>
                <p:nvSpPr>
                  <p:cNvPr id="1568" name=""/>
                  <p:cNvSpPr/>
                  <p:nvPr/>
                </p:nvSpPr>
                <p:spPr>
                  <a:xfrm>
                    <a:off x="875304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877284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8753040" y="60660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1" name=""/>
                <p:cNvSpPr/>
                <p:nvPr/>
              </p:nvSpPr>
              <p:spPr>
                <a:xfrm>
                  <a:off x="8754480" y="60912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2" name=""/>
              <p:cNvSpPr/>
              <p:nvPr/>
            </p:nvSpPr>
            <p:spPr>
              <a:xfrm>
                <a:off x="88254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cifications for IBIS-IO-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"/>
          <p:cNvGrpSpPr/>
          <p:nvPr/>
        </p:nvGrpSpPr>
        <p:grpSpPr>
          <a:xfrm>
            <a:off x="380880" y="1481040"/>
            <a:ext cx="5061600" cy="398880"/>
            <a:chOff x="380880" y="1481040"/>
            <a:chExt cx="5061600" cy="398880"/>
          </a:xfrm>
        </p:grpSpPr>
        <p:grpSp>
          <p:nvGrpSpPr>
            <p:cNvPr id="1575" name=""/>
            <p:cNvGrpSpPr/>
            <p:nvPr/>
          </p:nvGrpSpPr>
          <p:grpSpPr>
            <a:xfrm>
              <a:off x="380880" y="1531800"/>
              <a:ext cx="1066680" cy="281160"/>
              <a:chOff x="380880" y="1531800"/>
              <a:chExt cx="1066680" cy="281160"/>
            </a:xfrm>
          </p:grpSpPr>
          <p:sp>
            <p:nvSpPr>
              <p:cNvPr id="1576" name=""/>
              <p:cNvSpPr/>
              <p:nvPr/>
            </p:nvSpPr>
            <p:spPr>
              <a:xfrm>
                <a:off x="594360" y="17668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01280" y="17258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914760" y="17258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80880" y="17668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07480" y="176688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1020600" y="17668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1234800" y="17668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53840" y="160128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022040" y="16844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594360" y="16844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808200" y="16844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88520" y="17258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914760" y="164304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01280" y="164304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0" name=""/>
              <p:cNvGrpSpPr/>
              <p:nvPr/>
            </p:nvGrpSpPr>
            <p:grpSpPr>
              <a:xfrm>
                <a:off x="748440" y="1642680"/>
                <a:ext cx="330480" cy="170280"/>
                <a:chOff x="748440" y="1642680"/>
                <a:chExt cx="330480" cy="170280"/>
              </a:xfrm>
            </p:grpSpPr>
            <p:sp>
              <p:nvSpPr>
                <p:cNvPr id="1591" name=""/>
                <p:cNvSpPr/>
                <p:nvPr/>
              </p:nvSpPr>
              <p:spPr>
                <a:xfrm>
                  <a:off x="807840" y="164268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801720" y="165672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796320" y="167040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90920" y="168444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785880" y="169848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780480" y="171288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775080" y="172692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769680" y="174132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764280" y="175572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759240" y="177048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753840" y="178452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748440" y="179892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3" name=""/>
              <p:cNvSpPr/>
              <p:nvPr/>
            </p:nvSpPr>
            <p:spPr>
              <a:xfrm rot="16200000">
                <a:off x="879120" y="14547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4" name=""/>
              <p:cNvGrpSpPr/>
              <p:nvPr/>
            </p:nvGrpSpPr>
            <p:grpSpPr>
              <a:xfrm>
                <a:off x="879840" y="1616040"/>
                <a:ext cx="68040" cy="26280"/>
                <a:chOff x="879840" y="1616040"/>
                <a:chExt cx="68040" cy="26280"/>
              </a:xfrm>
            </p:grpSpPr>
            <p:grpSp>
              <p:nvGrpSpPr>
                <p:cNvPr id="1605" name=""/>
                <p:cNvGrpSpPr/>
                <p:nvPr/>
              </p:nvGrpSpPr>
              <p:grpSpPr>
                <a:xfrm>
                  <a:off x="879840" y="1616040"/>
                  <a:ext cx="68040" cy="26280"/>
                  <a:chOff x="879840" y="1616040"/>
                  <a:chExt cx="68040" cy="2628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>
                    <a:off x="879840" y="16160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947880" y="16160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879840" y="16160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9" name=""/>
                <p:cNvSpPr/>
                <p:nvPr/>
              </p:nvSpPr>
              <p:spPr>
                <a:xfrm>
                  <a:off x="885600" y="161748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0" name=""/>
              <p:cNvSpPr/>
              <p:nvPr/>
            </p:nvSpPr>
            <p:spPr>
              <a:xfrm>
                <a:off x="1127520" y="17258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1" name=""/>
            <p:cNvSpPr/>
            <p:nvPr/>
          </p:nvSpPr>
          <p:spPr>
            <a:xfrm>
              <a:off x="1823400" y="1481040"/>
              <a:ext cx="36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d46028"/>
                  </a:solidFill>
                  <a:uFillTx/>
                  <a:latin typeface="Arial"/>
                  <a:hlinkClick r:id="rId1"/>
                </a:rPr>
                <a:t>www.eigroup.org/ibis/ibis.html</a:t>
              </a:r>
              <a:r>
                <a:rPr b="0" lang="de-DE" sz="2000" spc="-1" strike="noStrike">
                  <a:solidFill>
                    <a:srgbClr val="d46028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2" name=""/>
          <p:cNvSpPr/>
          <p:nvPr/>
        </p:nvSpPr>
        <p:spPr>
          <a:xfrm>
            <a:off x="765720" y="2362320"/>
            <a:ext cx="683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BIS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okbook ( new release will cover up to IBIS4.0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curaccy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lity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3" name=""/>
          <p:cNvGrpSpPr/>
          <p:nvPr/>
        </p:nvGrpSpPr>
        <p:grpSpPr>
          <a:xfrm>
            <a:off x="7082280" y="152280"/>
            <a:ext cx="1710720" cy="803520"/>
            <a:chOff x="7082280" y="152280"/>
            <a:chExt cx="1710720" cy="803520"/>
          </a:xfrm>
        </p:grpSpPr>
        <p:sp>
          <p:nvSpPr>
            <p:cNvPr id="1614" name=""/>
            <p:cNvSpPr/>
            <p:nvPr/>
          </p:nvSpPr>
          <p:spPr>
            <a:xfrm>
              <a:off x="7082280" y="152280"/>
              <a:ext cx="171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Work in prog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5" name=""/>
            <p:cNvGrpSpPr/>
            <p:nvPr/>
          </p:nvGrpSpPr>
          <p:grpSpPr>
            <a:xfrm>
              <a:off x="8302680" y="456840"/>
              <a:ext cx="311040" cy="498960"/>
              <a:chOff x="8302680" y="456840"/>
              <a:chExt cx="311040" cy="498960"/>
            </a:xfrm>
          </p:grpSpPr>
          <p:sp>
            <p:nvSpPr>
              <p:cNvPr id="1616" name=""/>
              <p:cNvSpPr/>
              <p:nvPr/>
            </p:nvSpPr>
            <p:spPr>
              <a:xfrm>
                <a:off x="836496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839592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845856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830268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8426880" y="87372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848952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855180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8411400" y="58104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848952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836496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8427240" y="72828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83340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8458200" y="65484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839592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0" name=""/>
              <p:cNvGrpSpPr/>
              <p:nvPr/>
            </p:nvGrpSpPr>
            <p:grpSpPr>
              <a:xfrm>
                <a:off x="8409600" y="653760"/>
                <a:ext cx="96480" cy="302040"/>
                <a:chOff x="8409600" y="653760"/>
                <a:chExt cx="96480" cy="302040"/>
              </a:xfrm>
            </p:grpSpPr>
            <p:sp>
              <p:nvSpPr>
                <p:cNvPr id="1631" name=""/>
                <p:cNvSpPr/>
                <p:nvPr/>
              </p:nvSpPr>
              <p:spPr>
                <a:xfrm>
                  <a:off x="8426880" y="65376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8425080" y="67896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8423640" y="70308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8421840" y="72792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8420400" y="75276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8418960" y="77832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8417160" y="80352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8415720" y="82836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8414280" y="85392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8412480" y="88056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8411040" y="90540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8409600" y="93060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3" name=""/>
              <p:cNvSpPr/>
              <p:nvPr/>
            </p:nvSpPr>
            <p:spPr>
              <a:xfrm rot="16200000">
                <a:off x="8395920" y="48636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4" name=""/>
              <p:cNvGrpSpPr/>
              <p:nvPr/>
            </p:nvGrpSpPr>
            <p:grpSpPr>
              <a:xfrm>
                <a:off x="8448120" y="606600"/>
                <a:ext cx="19800" cy="46800"/>
                <a:chOff x="8448120" y="606600"/>
                <a:chExt cx="19800" cy="46800"/>
              </a:xfrm>
            </p:grpSpPr>
            <p:grpSp>
              <p:nvGrpSpPr>
                <p:cNvPr id="1645" name=""/>
                <p:cNvGrpSpPr/>
                <p:nvPr/>
              </p:nvGrpSpPr>
              <p:grpSpPr>
                <a:xfrm>
                  <a:off x="8448120" y="606600"/>
                  <a:ext cx="19800" cy="46800"/>
                  <a:chOff x="8448120" y="606600"/>
                  <a:chExt cx="19800" cy="46800"/>
                </a:xfrm>
              </p:grpSpPr>
              <p:sp>
                <p:nvSpPr>
                  <p:cNvPr id="1646" name=""/>
                  <p:cNvSpPr/>
                  <p:nvPr/>
                </p:nvSpPr>
                <p:spPr>
                  <a:xfrm>
                    <a:off x="844812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846792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>
                    <a:off x="8448120" y="60660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9" name=""/>
                <p:cNvSpPr/>
                <p:nvPr/>
              </p:nvSpPr>
              <p:spPr>
                <a:xfrm>
                  <a:off x="8449560" y="60912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0" name=""/>
              <p:cNvSpPr/>
              <p:nvPr/>
            </p:nvSpPr>
            <p:spPr>
              <a:xfrm>
                <a:off x="85204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CM Sp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380880" y="1433520"/>
            <a:ext cx="6355440" cy="459720"/>
            <a:chOff x="380880" y="1433520"/>
            <a:chExt cx="6355440" cy="459720"/>
          </a:xfrm>
        </p:grpSpPr>
        <p:grpSp>
          <p:nvGrpSpPr>
            <p:cNvPr id="1653" name=""/>
            <p:cNvGrpSpPr/>
            <p:nvPr/>
          </p:nvGrpSpPr>
          <p:grpSpPr>
            <a:xfrm>
              <a:off x="380880" y="1531800"/>
              <a:ext cx="1066680" cy="281160"/>
              <a:chOff x="380880" y="1531800"/>
              <a:chExt cx="1066680" cy="281160"/>
            </a:xfrm>
          </p:grpSpPr>
          <p:sp>
            <p:nvSpPr>
              <p:cNvPr id="1654" name=""/>
              <p:cNvSpPr/>
              <p:nvPr/>
            </p:nvSpPr>
            <p:spPr>
              <a:xfrm>
                <a:off x="594360" y="17668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01280" y="17258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914760" y="17258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80880" y="17668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807480" y="176688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020600" y="17668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1234800" y="17668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53840" y="160128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022040" y="16844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94360" y="16844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808200" y="16844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488520" y="17258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914760" y="164304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01280" y="164304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8" name=""/>
              <p:cNvGrpSpPr/>
              <p:nvPr/>
            </p:nvGrpSpPr>
            <p:grpSpPr>
              <a:xfrm>
                <a:off x="748440" y="1642680"/>
                <a:ext cx="330480" cy="170280"/>
                <a:chOff x="748440" y="1642680"/>
                <a:chExt cx="330480" cy="17028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807840" y="164268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801720" y="165672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796320" y="167040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790920" y="168444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785880" y="169848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780480" y="171288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775080" y="172692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769680" y="174132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764280" y="175572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759240" y="177048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753840" y="178452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748440" y="179892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1" name=""/>
              <p:cNvSpPr/>
              <p:nvPr/>
            </p:nvSpPr>
            <p:spPr>
              <a:xfrm rot="16200000">
                <a:off x="879120" y="14547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2" name=""/>
              <p:cNvGrpSpPr/>
              <p:nvPr/>
            </p:nvGrpSpPr>
            <p:grpSpPr>
              <a:xfrm>
                <a:off x="879840" y="1616040"/>
                <a:ext cx="68040" cy="26280"/>
                <a:chOff x="879840" y="1616040"/>
                <a:chExt cx="68040" cy="26280"/>
              </a:xfrm>
            </p:grpSpPr>
            <p:grpSp>
              <p:nvGrpSpPr>
                <p:cNvPr id="1683" name=""/>
                <p:cNvGrpSpPr/>
                <p:nvPr/>
              </p:nvGrpSpPr>
              <p:grpSpPr>
                <a:xfrm>
                  <a:off x="879840" y="1616040"/>
                  <a:ext cx="68040" cy="26280"/>
                  <a:chOff x="879840" y="1616040"/>
                  <a:chExt cx="68040" cy="26280"/>
                </a:xfrm>
              </p:grpSpPr>
              <p:sp>
                <p:nvSpPr>
                  <p:cNvPr id="1684" name=""/>
                  <p:cNvSpPr/>
                  <p:nvPr/>
                </p:nvSpPr>
                <p:spPr>
                  <a:xfrm>
                    <a:off x="879840" y="16160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947880" y="16160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>
                    <a:off x="879840" y="16160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7" name=""/>
                <p:cNvSpPr/>
                <p:nvPr/>
              </p:nvSpPr>
              <p:spPr>
                <a:xfrm>
                  <a:off x="885600" y="161748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8" name=""/>
              <p:cNvSpPr/>
              <p:nvPr/>
            </p:nvSpPr>
            <p:spPr>
              <a:xfrm>
                <a:off x="1127520" y="17258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9" name=""/>
            <p:cNvSpPr/>
            <p:nvPr/>
          </p:nvSpPr>
          <p:spPr>
            <a:xfrm>
              <a:off x="1825200" y="1433520"/>
              <a:ext cx="49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Not yet supported by the tools, bu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0" name=""/>
          <p:cNvSpPr/>
          <p:nvPr/>
        </p:nvSpPr>
        <p:spPr>
          <a:xfrm>
            <a:off x="762480" y="2362320"/>
            <a:ext cx="716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t will/must be a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n be changed into another format (for the too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about connector / package availabl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in a specified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1" name=""/>
          <p:cNvGrpSpPr/>
          <p:nvPr/>
        </p:nvGrpSpPr>
        <p:grpSpPr>
          <a:xfrm>
            <a:off x="7082280" y="152280"/>
            <a:ext cx="1710720" cy="803520"/>
            <a:chOff x="7082280" y="152280"/>
            <a:chExt cx="1710720" cy="803520"/>
          </a:xfrm>
        </p:grpSpPr>
        <p:sp>
          <p:nvSpPr>
            <p:cNvPr id="1692" name=""/>
            <p:cNvSpPr/>
            <p:nvPr/>
          </p:nvSpPr>
          <p:spPr>
            <a:xfrm>
              <a:off x="7082280" y="152280"/>
              <a:ext cx="171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Work in prog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3" name=""/>
            <p:cNvGrpSpPr/>
            <p:nvPr/>
          </p:nvGrpSpPr>
          <p:grpSpPr>
            <a:xfrm>
              <a:off x="8302680" y="456840"/>
              <a:ext cx="311040" cy="498960"/>
              <a:chOff x="8302680" y="456840"/>
              <a:chExt cx="311040" cy="498960"/>
            </a:xfrm>
          </p:grpSpPr>
          <p:sp>
            <p:nvSpPr>
              <p:cNvPr id="1694" name=""/>
              <p:cNvSpPr/>
              <p:nvPr/>
            </p:nvSpPr>
            <p:spPr>
              <a:xfrm>
                <a:off x="836496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839592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845856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830268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8426880" y="87372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848952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855180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8411400" y="58104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848952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836496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8427240" y="72828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83340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8458200" y="65484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839592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8" name=""/>
              <p:cNvGrpSpPr/>
              <p:nvPr/>
            </p:nvGrpSpPr>
            <p:grpSpPr>
              <a:xfrm>
                <a:off x="8409600" y="653760"/>
                <a:ext cx="96480" cy="302040"/>
                <a:chOff x="8409600" y="653760"/>
                <a:chExt cx="96480" cy="302040"/>
              </a:xfrm>
            </p:grpSpPr>
            <p:sp>
              <p:nvSpPr>
                <p:cNvPr id="1709" name=""/>
                <p:cNvSpPr/>
                <p:nvPr/>
              </p:nvSpPr>
              <p:spPr>
                <a:xfrm>
                  <a:off x="8426880" y="65376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8425080" y="67896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8423640" y="70308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8421840" y="72792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8420400" y="75276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8418960" y="77832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8417160" y="80352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8415720" y="82836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8414280" y="85392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8412480" y="88056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8411040" y="90540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8409600" y="93060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1" name=""/>
              <p:cNvSpPr/>
              <p:nvPr/>
            </p:nvSpPr>
            <p:spPr>
              <a:xfrm rot="16200000">
                <a:off x="8395920" y="48636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2" name=""/>
              <p:cNvGrpSpPr/>
              <p:nvPr/>
            </p:nvGrpSpPr>
            <p:grpSpPr>
              <a:xfrm>
                <a:off x="8448120" y="606600"/>
                <a:ext cx="19800" cy="46800"/>
                <a:chOff x="8448120" y="606600"/>
                <a:chExt cx="19800" cy="46800"/>
              </a:xfrm>
            </p:grpSpPr>
            <p:grpSp>
              <p:nvGrpSpPr>
                <p:cNvPr id="1723" name=""/>
                <p:cNvGrpSpPr/>
                <p:nvPr/>
              </p:nvGrpSpPr>
              <p:grpSpPr>
                <a:xfrm>
                  <a:off x="8448120" y="606600"/>
                  <a:ext cx="19800" cy="46800"/>
                  <a:chOff x="8448120" y="606600"/>
                  <a:chExt cx="19800" cy="46800"/>
                </a:xfrm>
              </p:grpSpPr>
              <p:sp>
                <p:nvSpPr>
                  <p:cNvPr id="1724" name=""/>
                  <p:cNvSpPr/>
                  <p:nvPr/>
                </p:nvSpPr>
                <p:spPr>
                  <a:xfrm>
                    <a:off x="844812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>
                    <a:off x="846792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8448120" y="60660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7" name=""/>
                <p:cNvSpPr/>
                <p:nvPr/>
              </p:nvSpPr>
              <p:spPr>
                <a:xfrm>
                  <a:off x="8449560" y="60912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8" name=""/>
              <p:cNvSpPr/>
              <p:nvPr/>
            </p:nvSpPr>
            <p:spPr>
              <a:xfrm>
                <a:off x="85204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ssing descriptions for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37160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iver schedul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tlp with open-sink/source  (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ew cookbook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tem-pole-multi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 back sub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T-models (dynamic clamp ) (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ew cookbook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shold sub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yword ReceiverThresholds (SST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1" name=""/>
          <p:cNvGrpSpPr/>
          <p:nvPr/>
        </p:nvGrpSpPr>
        <p:grpSpPr>
          <a:xfrm>
            <a:off x="7082280" y="152280"/>
            <a:ext cx="1710720" cy="803520"/>
            <a:chOff x="7082280" y="152280"/>
            <a:chExt cx="1710720" cy="803520"/>
          </a:xfrm>
        </p:grpSpPr>
        <p:sp>
          <p:nvSpPr>
            <p:cNvPr id="1732" name=""/>
            <p:cNvSpPr/>
            <p:nvPr/>
          </p:nvSpPr>
          <p:spPr>
            <a:xfrm>
              <a:off x="7082280" y="152280"/>
              <a:ext cx="171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Work in prog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3" name=""/>
            <p:cNvGrpSpPr/>
            <p:nvPr/>
          </p:nvGrpSpPr>
          <p:grpSpPr>
            <a:xfrm>
              <a:off x="8302680" y="456840"/>
              <a:ext cx="311040" cy="498960"/>
              <a:chOff x="8302680" y="456840"/>
              <a:chExt cx="311040" cy="498960"/>
            </a:xfrm>
          </p:grpSpPr>
          <p:sp>
            <p:nvSpPr>
              <p:cNvPr id="1734" name=""/>
              <p:cNvSpPr/>
              <p:nvPr/>
            </p:nvSpPr>
            <p:spPr>
              <a:xfrm>
                <a:off x="836496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39592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45856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830268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8426880" y="87372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848952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855180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8411400" y="58104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848952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836496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8427240" y="72828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83340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8458200" y="65484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839592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8" name=""/>
              <p:cNvGrpSpPr/>
              <p:nvPr/>
            </p:nvGrpSpPr>
            <p:grpSpPr>
              <a:xfrm>
                <a:off x="8409600" y="653760"/>
                <a:ext cx="96480" cy="302040"/>
                <a:chOff x="8409600" y="653760"/>
                <a:chExt cx="96480" cy="302040"/>
              </a:xfrm>
            </p:grpSpPr>
            <p:sp>
              <p:nvSpPr>
                <p:cNvPr id="1749" name=""/>
                <p:cNvSpPr/>
                <p:nvPr/>
              </p:nvSpPr>
              <p:spPr>
                <a:xfrm>
                  <a:off x="8426880" y="65376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8425080" y="67896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8423640" y="70308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8421840" y="72792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8420400" y="75276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8418960" y="77832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8417160" y="80352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8415720" y="82836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8414280" y="85392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8412480" y="88056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8411040" y="90540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8409600" y="93060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1" name=""/>
              <p:cNvSpPr/>
              <p:nvPr/>
            </p:nvSpPr>
            <p:spPr>
              <a:xfrm rot="16200000">
                <a:off x="8395920" y="48636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2" name=""/>
              <p:cNvGrpSpPr/>
              <p:nvPr/>
            </p:nvGrpSpPr>
            <p:grpSpPr>
              <a:xfrm>
                <a:off x="8448120" y="606600"/>
                <a:ext cx="19800" cy="46800"/>
                <a:chOff x="8448120" y="606600"/>
                <a:chExt cx="19800" cy="46800"/>
              </a:xfrm>
            </p:grpSpPr>
            <p:grpSp>
              <p:nvGrpSpPr>
                <p:cNvPr id="1763" name=""/>
                <p:cNvGrpSpPr/>
                <p:nvPr/>
              </p:nvGrpSpPr>
              <p:grpSpPr>
                <a:xfrm>
                  <a:off x="8448120" y="606600"/>
                  <a:ext cx="19800" cy="46800"/>
                  <a:chOff x="8448120" y="606600"/>
                  <a:chExt cx="19800" cy="4680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>
                    <a:off x="844812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846792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8448120" y="60660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7" name=""/>
                <p:cNvSpPr/>
                <p:nvPr/>
              </p:nvSpPr>
              <p:spPr>
                <a:xfrm>
                  <a:off x="8449560" y="60912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8" name=""/>
              <p:cNvSpPr/>
              <p:nvPr/>
            </p:nvSpPr>
            <p:spPr>
              <a:xfrm>
                <a:off x="85204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CEM and bird9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763920" y="1846440"/>
            <a:ext cx="77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grated circuit electrical model for description of th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power activities of the whole IC, especially for the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 EMI- pred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 ICEM there is a cookbook avail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1" name=""/>
          <p:cNvGrpSpPr/>
          <p:nvPr/>
        </p:nvGrpSpPr>
        <p:grpSpPr>
          <a:xfrm>
            <a:off x="7082280" y="152280"/>
            <a:ext cx="1710720" cy="803520"/>
            <a:chOff x="7082280" y="152280"/>
            <a:chExt cx="1710720" cy="803520"/>
          </a:xfrm>
        </p:grpSpPr>
        <p:sp>
          <p:nvSpPr>
            <p:cNvPr id="1772" name=""/>
            <p:cNvSpPr/>
            <p:nvPr/>
          </p:nvSpPr>
          <p:spPr>
            <a:xfrm>
              <a:off x="7082280" y="152280"/>
              <a:ext cx="171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Work in prog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3" name=""/>
            <p:cNvGrpSpPr/>
            <p:nvPr/>
          </p:nvGrpSpPr>
          <p:grpSpPr>
            <a:xfrm>
              <a:off x="8302680" y="456840"/>
              <a:ext cx="311040" cy="498960"/>
              <a:chOff x="8302680" y="456840"/>
              <a:chExt cx="311040" cy="498960"/>
            </a:xfrm>
          </p:grpSpPr>
          <p:sp>
            <p:nvSpPr>
              <p:cNvPr id="1774" name=""/>
              <p:cNvSpPr/>
              <p:nvPr/>
            </p:nvSpPr>
            <p:spPr>
              <a:xfrm>
                <a:off x="836496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839592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845856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830268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8426880" y="87372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848952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855180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8411400" y="58104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848952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836496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8427240" y="72828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83340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8458200" y="65484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839592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8" name=""/>
              <p:cNvGrpSpPr/>
              <p:nvPr/>
            </p:nvGrpSpPr>
            <p:grpSpPr>
              <a:xfrm>
                <a:off x="8409600" y="653760"/>
                <a:ext cx="96480" cy="302040"/>
                <a:chOff x="8409600" y="653760"/>
                <a:chExt cx="96480" cy="302040"/>
              </a:xfrm>
            </p:grpSpPr>
            <p:sp>
              <p:nvSpPr>
                <p:cNvPr id="1789" name=""/>
                <p:cNvSpPr/>
                <p:nvPr/>
              </p:nvSpPr>
              <p:spPr>
                <a:xfrm>
                  <a:off x="8426880" y="65376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8425080" y="67896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8423640" y="70308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8421840" y="72792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8420400" y="75276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8418960" y="77832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8417160" y="80352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8415720" y="82836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8414280" y="85392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8412480" y="88056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8411040" y="90540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8409600" y="93060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1" name=""/>
              <p:cNvSpPr/>
              <p:nvPr/>
            </p:nvSpPr>
            <p:spPr>
              <a:xfrm rot="16200000">
                <a:off x="8395920" y="48636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2" name=""/>
              <p:cNvGrpSpPr/>
              <p:nvPr/>
            </p:nvGrpSpPr>
            <p:grpSpPr>
              <a:xfrm>
                <a:off x="8448120" y="606600"/>
                <a:ext cx="19800" cy="46800"/>
                <a:chOff x="8448120" y="606600"/>
                <a:chExt cx="19800" cy="46800"/>
              </a:xfrm>
            </p:grpSpPr>
            <p:grpSp>
              <p:nvGrpSpPr>
                <p:cNvPr id="1803" name=""/>
                <p:cNvGrpSpPr/>
                <p:nvPr/>
              </p:nvGrpSpPr>
              <p:grpSpPr>
                <a:xfrm>
                  <a:off x="8448120" y="606600"/>
                  <a:ext cx="19800" cy="46800"/>
                  <a:chOff x="8448120" y="606600"/>
                  <a:chExt cx="19800" cy="46800"/>
                </a:xfrm>
              </p:grpSpPr>
              <p:sp>
                <p:nvSpPr>
                  <p:cNvPr id="1804" name=""/>
                  <p:cNvSpPr/>
                  <p:nvPr/>
                </p:nvSpPr>
                <p:spPr>
                  <a:xfrm>
                    <a:off x="844812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5" name=""/>
                  <p:cNvSpPr/>
                  <p:nvPr/>
                </p:nvSpPr>
                <p:spPr>
                  <a:xfrm>
                    <a:off x="846792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>
                    <a:off x="8448120" y="60660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7" name=""/>
                <p:cNvSpPr/>
                <p:nvPr/>
              </p:nvSpPr>
              <p:spPr>
                <a:xfrm>
                  <a:off x="8449560" y="60912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8" name=""/>
              <p:cNvSpPr/>
              <p:nvPr/>
            </p:nvSpPr>
            <p:spPr>
              <a:xfrm>
                <a:off x="85204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9" name=""/>
          <p:cNvGrpSpPr/>
          <p:nvPr/>
        </p:nvGrpSpPr>
        <p:grpSpPr>
          <a:xfrm>
            <a:off x="152280" y="1143000"/>
            <a:ext cx="2388960" cy="459720"/>
            <a:chOff x="152280" y="1143000"/>
            <a:chExt cx="2388960" cy="459720"/>
          </a:xfrm>
        </p:grpSpPr>
        <p:grpSp>
          <p:nvGrpSpPr>
            <p:cNvPr id="1810" name=""/>
            <p:cNvGrpSpPr/>
            <p:nvPr/>
          </p:nvGrpSpPr>
          <p:grpSpPr>
            <a:xfrm>
              <a:off x="152280" y="1241280"/>
              <a:ext cx="1066680" cy="281160"/>
              <a:chOff x="152280" y="1241280"/>
              <a:chExt cx="1066680" cy="281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365760" y="14763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2680" y="14353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686160" y="14353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52280" y="14763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78880" y="14763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92000" y="14763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006200" y="14763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25240" y="131076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93440" y="13939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65760" y="13939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79600" y="13939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59920" y="14353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86160" y="13525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2680" y="13525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5" name=""/>
              <p:cNvGrpSpPr/>
              <p:nvPr/>
            </p:nvGrpSpPr>
            <p:grpSpPr>
              <a:xfrm>
                <a:off x="519840" y="1352160"/>
                <a:ext cx="330480" cy="170280"/>
                <a:chOff x="519840" y="1352160"/>
                <a:chExt cx="330480" cy="17028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579240" y="13521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573120" y="13662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567720" y="13798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562320" y="13939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557280" y="14079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551880" y="14223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546480" y="14364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541080" y="14508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535680" y="14652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530640" y="14799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525240" y="14940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519840" y="15084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8" name=""/>
              <p:cNvSpPr/>
              <p:nvPr/>
            </p:nvSpPr>
            <p:spPr>
              <a:xfrm rot="16200000">
                <a:off x="650520" y="11642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9" name=""/>
              <p:cNvGrpSpPr/>
              <p:nvPr/>
            </p:nvGrpSpPr>
            <p:grpSpPr>
              <a:xfrm>
                <a:off x="651240" y="1325520"/>
                <a:ext cx="68040" cy="26280"/>
                <a:chOff x="651240" y="1325520"/>
                <a:chExt cx="68040" cy="26280"/>
              </a:xfrm>
            </p:grpSpPr>
            <p:grpSp>
              <p:nvGrpSpPr>
                <p:cNvPr id="1840" name=""/>
                <p:cNvGrpSpPr/>
                <p:nvPr/>
              </p:nvGrpSpPr>
              <p:grpSpPr>
                <a:xfrm>
                  <a:off x="651240" y="1325520"/>
                  <a:ext cx="68040" cy="26280"/>
                  <a:chOff x="651240" y="1325520"/>
                  <a:chExt cx="68040" cy="26280"/>
                </a:xfrm>
              </p:grpSpPr>
              <p:sp>
                <p:nvSpPr>
                  <p:cNvPr id="1841" name=""/>
                  <p:cNvSpPr/>
                  <p:nvPr/>
                </p:nvSpPr>
                <p:spPr>
                  <a:xfrm>
                    <a:off x="651240" y="13255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2" name=""/>
                  <p:cNvSpPr/>
                  <p:nvPr/>
                </p:nvSpPr>
                <p:spPr>
                  <a:xfrm>
                    <a:off x="719280" y="13255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3" name=""/>
                  <p:cNvSpPr/>
                  <p:nvPr/>
                </p:nvSpPr>
                <p:spPr>
                  <a:xfrm>
                    <a:off x="651240" y="13255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4" name=""/>
                <p:cNvSpPr/>
                <p:nvPr/>
              </p:nvSpPr>
              <p:spPr>
                <a:xfrm>
                  <a:off x="657000" y="132696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5" name=""/>
              <p:cNvSpPr/>
              <p:nvPr/>
            </p:nvSpPr>
            <p:spPr>
              <a:xfrm>
                <a:off x="898920" y="14353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6" name=""/>
            <p:cNvSpPr/>
            <p:nvPr/>
          </p:nvSpPr>
          <p:spPr>
            <a:xfrm>
              <a:off x="1598400" y="11430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C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7" name=""/>
          <p:cNvSpPr/>
          <p:nvPr/>
        </p:nvSpPr>
        <p:spPr>
          <a:xfrm>
            <a:off x="610560" y="4419720"/>
            <a:ext cx="725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scription of the current behavior of the outstag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and their prestages with the use of I-T-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 SSO-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pply of a good cookbook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8" name=""/>
          <p:cNvGrpSpPr/>
          <p:nvPr/>
        </p:nvGrpSpPr>
        <p:grpSpPr>
          <a:xfrm>
            <a:off x="152280" y="3809880"/>
            <a:ext cx="2762280" cy="459720"/>
            <a:chOff x="152280" y="3809880"/>
            <a:chExt cx="2762280" cy="459720"/>
          </a:xfrm>
        </p:grpSpPr>
        <p:grpSp>
          <p:nvGrpSpPr>
            <p:cNvPr id="1849" name=""/>
            <p:cNvGrpSpPr/>
            <p:nvPr/>
          </p:nvGrpSpPr>
          <p:grpSpPr>
            <a:xfrm>
              <a:off x="152280" y="3908160"/>
              <a:ext cx="1066680" cy="281160"/>
              <a:chOff x="152280" y="3908160"/>
              <a:chExt cx="1066680" cy="281160"/>
            </a:xfrm>
          </p:grpSpPr>
          <p:sp>
            <p:nvSpPr>
              <p:cNvPr id="1850" name=""/>
              <p:cNvSpPr/>
              <p:nvPr/>
            </p:nvSpPr>
            <p:spPr>
              <a:xfrm>
                <a:off x="365760" y="4143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72680" y="41022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86160" y="410220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52280" y="4143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578880" y="41432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92000" y="41432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006200" y="4143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525240" y="397764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93440" y="40608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65760" y="406080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79600" y="406080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259920" y="41022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686160" y="401940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72680" y="401940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4" name=""/>
              <p:cNvGrpSpPr/>
              <p:nvPr/>
            </p:nvGrpSpPr>
            <p:grpSpPr>
              <a:xfrm>
                <a:off x="519840" y="4019040"/>
                <a:ext cx="330480" cy="170280"/>
                <a:chOff x="519840" y="4019040"/>
                <a:chExt cx="330480" cy="17028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579240" y="401904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573120" y="403308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567720" y="404676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562320" y="406080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557280" y="407484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551880" y="408924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546480" y="410328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541080" y="411768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535680" y="413208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530640" y="414684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525240" y="416088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519840" y="417528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7" name=""/>
              <p:cNvSpPr/>
              <p:nvPr/>
            </p:nvSpPr>
            <p:spPr>
              <a:xfrm rot="16200000">
                <a:off x="650520" y="383112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8" name=""/>
              <p:cNvGrpSpPr/>
              <p:nvPr/>
            </p:nvGrpSpPr>
            <p:grpSpPr>
              <a:xfrm>
                <a:off x="651240" y="3992400"/>
                <a:ext cx="68040" cy="26280"/>
                <a:chOff x="651240" y="3992400"/>
                <a:chExt cx="68040" cy="26280"/>
              </a:xfrm>
            </p:grpSpPr>
            <p:grpSp>
              <p:nvGrpSpPr>
                <p:cNvPr id="1879" name=""/>
                <p:cNvGrpSpPr/>
                <p:nvPr/>
              </p:nvGrpSpPr>
              <p:grpSpPr>
                <a:xfrm>
                  <a:off x="651240" y="3992400"/>
                  <a:ext cx="68040" cy="26280"/>
                  <a:chOff x="651240" y="3992400"/>
                  <a:chExt cx="68040" cy="26280"/>
                </a:xfrm>
              </p:grpSpPr>
              <p:sp>
                <p:nvSpPr>
                  <p:cNvPr id="1880" name=""/>
                  <p:cNvSpPr/>
                  <p:nvPr/>
                </p:nvSpPr>
                <p:spPr>
                  <a:xfrm>
                    <a:off x="651240" y="39924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1" name=""/>
                  <p:cNvSpPr/>
                  <p:nvPr/>
                </p:nvSpPr>
                <p:spPr>
                  <a:xfrm>
                    <a:off x="719280" y="39924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>
                    <a:off x="651240" y="39924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83" name=""/>
                <p:cNvSpPr/>
                <p:nvPr/>
              </p:nvSpPr>
              <p:spPr>
                <a:xfrm>
                  <a:off x="657000" y="399384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4" name=""/>
              <p:cNvSpPr/>
              <p:nvPr/>
            </p:nvSpPr>
            <p:spPr>
              <a:xfrm>
                <a:off x="898920" y="41022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5" name=""/>
            <p:cNvSpPr/>
            <p:nvPr/>
          </p:nvSpPr>
          <p:spPr>
            <a:xfrm>
              <a:off x="1599840" y="3809880"/>
              <a:ext cx="13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Bird95.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4920" y="1447920"/>
            <a:ext cx="6640920" cy="459720"/>
            <a:chOff x="304920" y="1447920"/>
            <a:chExt cx="6640920" cy="459720"/>
          </a:xfrm>
        </p:grpSpPr>
        <p:sp>
          <p:nvSpPr>
            <p:cNvPr id="129" name=""/>
            <p:cNvSpPr/>
            <p:nvPr/>
          </p:nvSpPr>
          <p:spPr>
            <a:xfrm>
              <a:off x="1751040" y="1447920"/>
              <a:ext cx="519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Missing IO-Models with different PV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304920" y="1595520"/>
              <a:ext cx="1066320" cy="281160"/>
              <a:chOff x="304920" y="1595520"/>
              <a:chExt cx="1066320" cy="281160"/>
            </a:xfrm>
          </p:grpSpPr>
          <p:sp>
            <p:nvSpPr>
              <p:cNvPr id="131" name=""/>
              <p:cNvSpPr/>
              <p:nvPr/>
            </p:nvSpPr>
            <p:spPr>
              <a:xfrm>
                <a:off x="518040" y="1830600"/>
                <a:ext cx="21240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25320" y="1789560"/>
                <a:ext cx="21240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38800" y="178956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04920" y="1830600"/>
                <a:ext cx="21240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31520" y="1830600"/>
                <a:ext cx="21312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944280" y="183060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158480" y="18306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77880" y="1665000"/>
                <a:ext cx="32220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45720" y="1748160"/>
                <a:ext cx="21240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8040" y="174816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2240" y="1748160"/>
                <a:ext cx="21312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2560" y="17895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8800" y="1706760"/>
                <a:ext cx="21240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25320" y="1706760"/>
                <a:ext cx="21240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72120" y="1706400"/>
                <a:ext cx="330480" cy="170280"/>
                <a:chOff x="672120" y="1706400"/>
                <a:chExt cx="330480" cy="1702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31520" y="170640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25400" y="172044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20000" y="173412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14600" y="174816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9560" y="176220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04160" y="177660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98760" y="179064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93360" y="180504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87960" y="181944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82920" y="183420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520" y="184824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72120" y="186264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 rot="16200000">
                <a:off x="802800" y="1518840"/>
                <a:ext cx="69840" cy="22320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803520" y="1679760"/>
                <a:ext cx="68040" cy="26280"/>
                <a:chOff x="803520" y="1679760"/>
                <a:chExt cx="68040" cy="26280"/>
              </a:xfrm>
            </p:grpSpPr>
            <p:grpSp>
              <p:nvGrpSpPr>
                <p:cNvPr id="160" name=""/>
                <p:cNvGrpSpPr/>
                <p:nvPr/>
              </p:nvGrpSpPr>
              <p:grpSpPr>
                <a:xfrm>
                  <a:off x="803520" y="1679760"/>
                  <a:ext cx="68040" cy="26280"/>
                  <a:chOff x="803520" y="1679760"/>
                  <a:chExt cx="68040" cy="2628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803520" y="16797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871560" y="16797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803520" y="16797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809280" y="168120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1051560" y="17895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293760" y="5257800"/>
            <a:ext cx="2931840" cy="459720"/>
            <a:chOff x="293760" y="5257800"/>
            <a:chExt cx="2931840" cy="459720"/>
          </a:xfrm>
        </p:grpSpPr>
        <p:grpSp>
          <p:nvGrpSpPr>
            <p:cNvPr id="167" name=""/>
            <p:cNvGrpSpPr/>
            <p:nvPr/>
          </p:nvGrpSpPr>
          <p:grpSpPr>
            <a:xfrm>
              <a:off x="293760" y="5383080"/>
              <a:ext cx="1066680" cy="281160"/>
              <a:chOff x="293760" y="5383080"/>
              <a:chExt cx="1066680" cy="281160"/>
            </a:xfrm>
          </p:grpSpPr>
          <p:sp>
            <p:nvSpPr>
              <p:cNvPr id="168" name=""/>
              <p:cNvSpPr/>
              <p:nvPr/>
            </p:nvSpPr>
            <p:spPr>
              <a:xfrm>
                <a:off x="507240" y="56181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14160" y="5577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27640" y="55771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93760" y="56181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20360" y="56181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933480" y="56181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147680" y="56181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66720" y="545256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934920" y="55357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07240" y="55357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21080" y="55357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01400" y="5577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27640" y="54943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4160" y="54943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661320" y="5493960"/>
                <a:ext cx="330480" cy="170280"/>
                <a:chOff x="661320" y="5493960"/>
                <a:chExt cx="330480" cy="1702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720720" y="54939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14600" y="55080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09200" y="55216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03800" y="55357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98760" y="55497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3360" y="55641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87960" y="55782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82560" y="55926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77160" y="56070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72120" y="56217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66720" y="56358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61320" y="56502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 rot="16200000">
                <a:off x="792000" y="53060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792720" y="5467320"/>
                <a:ext cx="68040" cy="26280"/>
                <a:chOff x="792720" y="5467320"/>
                <a:chExt cx="68040" cy="26280"/>
              </a:xfrm>
            </p:grpSpPr>
            <p:grpSp>
              <p:nvGrpSpPr>
                <p:cNvPr id="197" name=""/>
                <p:cNvGrpSpPr/>
                <p:nvPr/>
              </p:nvGrpSpPr>
              <p:grpSpPr>
                <a:xfrm>
                  <a:off x="792720" y="5467320"/>
                  <a:ext cx="68040" cy="26280"/>
                  <a:chOff x="792720" y="5467320"/>
                  <a:chExt cx="68040" cy="262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792720" y="54673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860760" y="54673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92720" y="54673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798480" y="546876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1040400" y="5577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1740240" y="525780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04920" y="3429000"/>
            <a:ext cx="3675240" cy="459720"/>
            <a:chOff x="304920" y="3429000"/>
            <a:chExt cx="3675240" cy="459720"/>
          </a:xfrm>
        </p:grpSpPr>
        <p:grpSp>
          <p:nvGrpSpPr>
            <p:cNvPr id="205" name=""/>
            <p:cNvGrpSpPr/>
            <p:nvPr/>
          </p:nvGrpSpPr>
          <p:grpSpPr>
            <a:xfrm>
              <a:off x="304920" y="3530520"/>
              <a:ext cx="1066680" cy="281160"/>
              <a:chOff x="304920" y="3530520"/>
              <a:chExt cx="1066680" cy="281160"/>
            </a:xfrm>
          </p:grpSpPr>
          <p:sp>
            <p:nvSpPr>
              <p:cNvPr id="206" name=""/>
              <p:cNvSpPr/>
              <p:nvPr/>
            </p:nvSpPr>
            <p:spPr>
              <a:xfrm>
                <a:off x="518400" y="37656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5320" y="37245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38800" y="372456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4920" y="37656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31520" y="376560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44640" y="376560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158840" y="37656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77880" y="360000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46080" y="36831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18400" y="368316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2240" y="36831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12560" y="37245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38800" y="364176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5320" y="364176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672480" y="3641400"/>
                <a:ext cx="330480" cy="170280"/>
                <a:chOff x="672480" y="3641400"/>
                <a:chExt cx="330480" cy="1702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731880" y="364140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25760" y="365544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20360" y="366912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14960" y="368316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09920" y="369720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04520" y="371160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9120" y="372564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93720" y="374004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88320" y="375444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83280" y="376920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7880" y="378324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72480" y="379764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 rot="16200000">
                <a:off x="803160" y="345348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803880" y="3614760"/>
                <a:ext cx="68040" cy="26280"/>
                <a:chOff x="803880" y="3614760"/>
                <a:chExt cx="68040" cy="26280"/>
              </a:xfrm>
            </p:grpSpPr>
            <p:grpSp>
              <p:nvGrpSpPr>
                <p:cNvPr id="235" name=""/>
                <p:cNvGrpSpPr/>
                <p:nvPr/>
              </p:nvGrpSpPr>
              <p:grpSpPr>
                <a:xfrm>
                  <a:off x="803880" y="3614760"/>
                  <a:ext cx="68040" cy="26280"/>
                  <a:chOff x="803880" y="3614760"/>
                  <a:chExt cx="68040" cy="262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803880" y="36147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871920" y="36147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803880" y="36147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9" name=""/>
                <p:cNvSpPr/>
                <p:nvPr/>
              </p:nvSpPr>
              <p:spPr>
                <a:xfrm>
                  <a:off x="809640" y="361620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1051560" y="37245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1749600" y="3429000"/>
              <a:ext cx="223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BIS QUALIT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04920" y="2438280"/>
            <a:ext cx="4947840" cy="459720"/>
            <a:chOff x="304920" y="2438280"/>
            <a:chExt cx="4947840" cy="459720"/>
          </a:xfrm>
        </p:grpSpPr>
        <p:grpSp>
          <p:nvGrpSpPr>
            <p:cNvPr id="243" name=""/>
            <p:cNvGrpSpPr/>
            <p:nvPr/>
          </p:nvGrpSpPr>
          <p:grpSpPr>
            <a:xfrm>
              <a:off x="304920" y="2536560"/>
              <a:ext cx="1066680" cy="281160"/>
              <a:chOff x="304920" y="2536560"/>
              <a:chExt cx="1066680" cy="281160"/>
            </a:xfrm>
          </p:grpSpPr>
          <p:sp>
            <p:nvSpPr>
              <p:cNvPr id="244" name=""/>
              <p:cNvSpPr/>
              <p:nvPr/>
            </p:nvSpPr>
            <p:spPr>
              <a:xfrm>
                <a:off x="518400" y="27716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25320" y="27306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38800" y="273060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04920" y="27716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31520" y="27716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944640" y="27716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158840" y="27716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77880" y="260604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946080" y="26892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18400" y="268920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32240" y="268920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2560" y="27306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38800" y="264780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5320" y="264780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672480" y="2647440"/>
                <a:ext cx="330480" cy="170280"/>
                <a:chOff x="672480" y="2647440"/>
                <a:chExt cx="330480" cy="1702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731880" y="264744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25760" y="266148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20360" y="267516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14960" y="268920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09920" y="270324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04520" y="271764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99120" y="273168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3720" y="274608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88320" y="276048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83280" y="277524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77880" y="278928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72480" y="280368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 rot="16200000">
                <a:off x="803160" y="245952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803880" y="2620800"/>
                <a:ext cx="68040" cy="26280"/>
                <a:chOff x="803880" y="2620800"/>
                <a:chExt cx="68040" cy="2628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803880" y="2620800"/>
                  <a:ext cx="68040" cy="26280"/>
                  <a:chOff x="803880" y="2620800"/>
                  <a:chExt cx="68040" cy="262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803880" y="26208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871920" y="26208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803880" y="26208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7" name=""/>
                <p:cNvSpPr/>
                <p:nvPr/>
              </p:nvSpPr>
              <p:spPr>
                <a:xfrm>
                  <a:off x="809640" y="262224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1051560" y="27306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1751400" y="2438280"/>
              <a:ext cx="350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Missing IBIS parame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04920" y="4343400"/>
            <a:ext cx="5388120" cy="459720"/>
            <a:chOff x="304920" y="4343400"/>
            <a:chExt cx="5388120" cy="459720"/>
          </a:xfrm>
        </p:grpSpPr>
        <p:grpSp>
          <p:nvGrpSpPr>
            <p:cNvPr id="281" name=""/>
            <p:cNvGrpSpPr/>
            <p:nvPr/>
          </p:nvGrpSpPr>
          <p:grpSpPr>
            <a:xfrm>
              <a:off x="304920" y="4468680"/>
              <a:ext cx="1066680" cy="281160"/>
              <a:chOff x="304920" y="4468680"/>
              <a:chExt cx="1066680" cy="281160"/>
            </a:xfrm>
          </p:grpSpPr>
          <p:sp>
            <p:nvSpPr>
              <p:cNvPr id="282" name=""/>
              <p:cNvSpPr/>
              <p:nvPr/>
            </p:nvSpPr>
            <p:spPr>
              <a:xfrm>
                <a:off x="518400" y="47037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25320" y="46627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38800" y="46627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04920" y="47037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31520" y="47037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944640" y="47037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158840" y="47037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77880" y="453816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46080" y="46213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18400" y="46213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2240" y="46213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12560" y="46627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38800" y="45799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25320" y="45799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672480" y="4579560"/>
                <a:ext cx="330480" cy="170280"/>
                <a:chOff x="672480" y="4579560"/>
                <a:chExt cx="330480" cy="1702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731880" y="45795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25760" y="45936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20360" y="46072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14960" y="46213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09920" y="46353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04520" y="46497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99120" y="46638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93720" y="46782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88320" y="46926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83280" y="47073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77880" y="47214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480" y="47358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 rot="16200000">
                <a:off x="803160" y="43916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803880" y="4552920"/>
                <a:ext cx="68040" cy="26280"/>
                <a:chOff x="803880" y="4552920"/>
                <a:chExt cx="68040" cy="26280"/>
              </a:xfrm>
            </p:grpSpPr>
            <p:grpSp>
              <p:nvGrpSpPr>
                <p:cNvPr id="311" name=""/>
                <p:cNvGrpSpPr/>
                <p:nvPr/>
              </p:nvGrpSpPr>
              <p:grpSpPr>
                <a:xfrm>
                  <a:off x="803880" y="4552920"/>
                  <a:ext cx="68040" cy="26280"/>
                  <a:chOff x="803880" y="4552920"/>
                  <a:chExt cx="68040" cy="2628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803880" y="45529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871920" y="45529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803880" y="45529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5" name=""/>
                <p:cNvSpPr/>
                <p:nvPr/>
              </p:nvSpPr>
              <p:spPr>
                <a:xfrm>
                  <a:off x="809640" y="455436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1051560" y="46627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1749600" y="4343400"/>
              <a:ext cx="39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BIS work in progress (WI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mmary   ( work to do to decrease the disparity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7" name=""/>
          <p:cNvGrpSpPr/>
          <p:nvPr/>
        </p:nvGrpSpPr>
        <p:grpSpPr>
          <a:xfrm>
            <a:off x="198360" y="1197000"/>
            <a:ext cx="7590960" cy="825480"/>
            <a:chOff x="198360" y="1197000"/>
            <a:chExt cx="7590960" cy="825480"/>
          </a:xfrm>
        </p:grpSpPr>
        <p:sp>
          <p:nvSpPr>
            <p:cNvPr id="1888" name=""/>
            <p:cNvSpPr/>
            <p:nvPr/>
          </p:nvSpPr>
          <p:spPr>
            <a:xfrm>
              <a:off x="1646640" y="1197000"/>
              <a:ext cx="614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Models with different PVT must be delive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( possible in IBIS ) for new 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9" name=""/>
            <p:cNvGrpSpPr/>
            <p:nvPr/>
          </p:nvGrpSpPr>
          <p:grpSpPr>
            <a:xfrm>
              <a:off x="198360" y="1344600"/>
              <a:ext cx="1066680" cy="281160"/>
              <a:chOff x="198360" y="1344600"/>
              <a:chExt cx="1066680" cy="281160"/>
            </a:xfrm>
          </p:grpSpPr>
          <p:sp>
            <p:nvSpPr>
              <p:cNvPr id="1890" name=""/>
              <p:cNvSpPr/>
              <p:nvPr/>
            </p:nvSpPr>
            <p:spPr>
              <a:xfrm>
                <a:off x="411840" y="15796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18760" y="15386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32240" y="15386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98360" y="15796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24960" y="157968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838080" y="15796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052280" y="15796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71320" y="141408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839520" y="1497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11840" y="14972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625680" y="14972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306000" y="15386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32240" y="145584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18760" y="145584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4" name=""/>
              <p:cNvGrpSpPr/>
              <p:nvPr/>
            </p:nvGrpSpPr>
            <p:grpSpPr>
              <a:xfrm>
                <a:off x="565920" y="1455480"/>
                <a:ext cx="330480" cy="170280"/>
                <a:chOff x="565920" y="1455480"/>
                <a:chExt cx="330480" cy="17028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625320" y="145548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619200" y="146952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613800" y="148320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608400" y="149724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603360" y="151128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597960" y="152568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592560" y="153972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587160" y="155412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581760" y="156852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576720" y="158328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571320" y="159732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565920" y="161172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7" name=""/>
              <p:cNvSpPr/>
              <p:nvPr/>
            </p:nvSpPr>
            <p:spPr>
              <a:xfrm rot="16200000">
                <a:off x="696600" y="12675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8" name=""/>
              <p:cNvGrpSpPr/>
              <p:nvPr/>
            </p:nvGrpSpPr>
            <p:grpSpPr>
              <a:xfrm>
                <a:off x="697320" y="1428840"/>
                <a:ext cx="68040" cy="26280"/>
                <a:chOff x="697320" y="1428840"/>
                <a:chExt cx="68040" cy="26280"/>
              </a:xfrm>
            </p:grpSpPr>
            <p:grpSp>
              <p:nvGrpSpPr>
                <p:cNvPr id="1919" name=""/>
                <p:cNvGrpSpPr/>
                <p:nvPr/>
              </p:nvGrpSpPr>
              <p:grpSpPr>
                <a:xfrm>
                  <a:off x="697320" y="1428840"/>
                  <a:ext cx="68040" cy="26280"/>
                  <a:chOff x="697320" y="1428840"/>
                  <a:chExt cx="68040" cy="26280"/>
                </a:xfrm>
              </p:grpSpPr>
              <p:sp>
                <p:nvSpPr>
                  <p:cNvPr id="1920" name=""/>
                  <p:cNvSpPr/>
                  <p:nvPr/>
                </p:nvSpPr>
                <p:spPr>
                  <a:xfrm>
                    <a:off x="697320" y="14288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1" name=""/>
                  <p:cNvSpPr/>
                  <p:nvPr/>
                </p:nvSpPr>
                <p:spPr>
                  <a:xfrm>
                    <a:off x="765360" y="14288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>
                    <a:off x="697320" y="14288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23" name=""/>
                <p:cNvSpPr/>
                <p:nvPr/>
              </p:nvSpPr>
              <p:spPr>
                <a:xfrm>
                  <a:off x="703080" y="143028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4" name=""/>
              <p:cNvSpPr/>
              <p:nvPr/>
            </p:nvSpPr>
            <p:spPr>
              <a:xfrm>
                <a:off x="945000" y="15386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5" name=""/>
          <p:cNvGrpSpPr/>
          <p:nvPr/>
        </p:nvGrpSpPr>
        <p:grpSpPr>
          <a:xfrm>
            <a:off x="228600" y="4008600"/>
            <a:ext cx="7456320" cy="1191240"/>
            <a:chOff x="228600" y="4008600"/>
            <a:chExt cx="7456320" cy="1191240"/>
          </a:xfrm>
        </p:grpSpPr>
        <p:grpSp>
          <p:nvGrpSpPr>
            <p:cNvPr id="1926" name=""/>
            <p:cNvGrpSpPr/>
            <p:nvPr/>
          </p:nvGrpSpPr>
          <p:grpSpPr>
            <a:xfrm>
              <a:off x="228600" y="4133880"/>
              <a:ext cx="1066680" cy="281160"/>
              <a:chOff x="228600" y="4133880"/>
              <a:chExt cx="1066680" cy="281160"/>
            </a:xfrm>
          </p:grpSpPr>
          <p:sp>
            <p:nvSpPr>
              <p:cNvPr id="1927" name=""/>
              <p:cNvSpPr/>
              <p:nvPr/>
            </p:nvSpPr>
            <p:spPr>
              <a:xfrm>
                <a:off x="442080" y="43689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49000" y="43279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62480" y="43279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28600" y="43689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55200" y="43689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868320" y="43689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082520" y="43689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01560" y="420336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869760" y="42865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42080" y="42865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55920" y="42865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336240" y="43279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62480" y="42451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49000" y="42451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1" name=""/>
              <p:cNvGrpSpPr/>
              <p:nvPr/>
            </p:nvGrpSpPr>
            <p:grpSpPr>
              <a:xfrm>
                <a:off x="596160" y="4244760"/>
                <a:ext cx="330480" cy="170280"/>
                <a:chOff x="596160" y="4244760"/>
                <a:chExt cx="330480" cy="170280"/>
              </a:xfrm>
            </p:grpSpPr>
            <p:sp>
              <p:nvSpPr>
                <p:cNvPr id="1942" name=""/>
                <p:cNvSpPr/>
                <p:nvPr/>
              </p:nvSpPr>
              <p:spPr>
                <a:xfrm>
                  <a:off x="655560" y="42447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649440" y="42588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644040" y="42724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638640" y="42865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633600" y="43005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628200" y="43149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622800" y="43290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617400" y="43434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612000" y="43578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606960" y="43725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601560" y="43866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596160" y="44010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4" name=""/>
              <p:cNvSpPr/>
              <p:nvPr/>
            </p:nvSpPr>
            <p:spPr>
              <a:xfrm rot="16200000">
                <a:off x="726840" y="40568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5" name=""/>
              <p:cNvGrpSpPr/>
              <p:nvPr/>
            </p:nvGrpSpPr>
            <p:grpSpPr>
              <a:xfrm>
                <a:off x="727560" y="4218120"/>
                <a:ext cx="68040" cy="26280"/>
                <a:chOff x="727560" y="4218120"/>
                <a:chExt cx="68040" cy="26280"/>
              </a:xfrm>
            </p:grpSpPr>
            <p:grpSp>
              <p:nvGrpSpPr>
                <p:cNvPr id="1956" name=""/>
                <p:cNvGrpSpPr/>
                <p:nvPr/>
              </p:nvGrpSpPr>
              <p:grpSpPr>
                <a:xfrm>
                  <a:off x="727560" y="4218120"/>
                  <a:ext cx="68040" cy="26280"/>
                  <a:chOff x="727560" y="4218120"/>
                  <a:chExt cx="68040" cy="26280"/>
                </a:xfrm>
              </p:grpSpPr>
              <p:sp>
                <p:nvSpPr>
                  <p:cNvPr id="1957" name=""/>
                  <p:cNvSpPr/>
                  <p:nvPr/>
                </p:nvSpPr>
                <p:spPr>
                  <a:xfrm>
                    <a:off x="727560" y="42181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795600" y="42181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727560" y="42181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0" name=""/>
                <p:cNvSpPr/>
                <p:nvPr/>
              </p:nvSpPr>
              <p:spPr>
                <a:xfrm>
                  <a:off x="733320" y="421956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1" name=""/>
              <p:cNvSpPr/>
              <p:nvPr/>
            </p:nvSpPr>
            <p:spPr>
              <a:xfrm>
                <a:off x="975240" y="43279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2" name=""/>
            <p:cNvSpPr/>
            <p:nvPr/>
          </p:nvSpPr>
          <p:spPr>
            <a:xfrm>
              <a:off x="1673280" y="4008600"/>
              <a:ext cx="601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BIS supports different possibilities to help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the vendors to create IBIS-models with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newest keywords/parame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3" name=""/>
          <p:cNvGrpSpPr/>
          <p:nvPr/>
        </p:nvGrpSpPr>
        <p:grpSpPr>
          <a:xfrm>
            <a:off x="198360" y="2116080"/>
            <a:ext cx="7642080" cy="825480"/>
            <a:chOff x="198360" y="2116080"/>
            <a:chExt cx="7642080" cy="825480"/>
          </a:xfrm>
        </p:grpSpPr>
        <p:grpSp>
          <p:nvGrpSpPr>
            <p:cNvPr id="1964" name=""/>
            <p:cNvGrpSpPr/>
            <p:nvPr/>
          </p:nvGrpSpPr>
          <p:grpSpPr>
            <a:xfrm>
              <a:off x="198360" y="2217600"/>
              <a:ext cx="1066680" cy="281160"/>
              <a:chOff x="198360" y="2217600"/>
              <a:chExt cx="1066680" cy="281160"/>
            </a:xfrm>
          </p:grpSpPr>
          <p:sp>
            <p:nvSpPr>
              <p:cNvPr id="1965" name=""/>
              <p:cNvSpPr/>
              <p:nvPr/>
            </p:nvSpPr>
            <p:spPr>
              <a:xfrm>
                <a:off x="411840" y="24526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518760" y="24116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32240" y="24116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98360" y="24526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24960" y="245268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838080" y="24526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052280" y="24526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571320" y="228708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839520" y="2370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411840" y="23702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625680" y="23702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06000" y="24116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32240" y="232884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18760" y="232884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9" name=""/>
              <p:cNvGrpSpPr/>
              <p:nvPr/>
            </p:nvGrpSpPr>
            <p:grpSpPr>
              <a:xfrm>
                <a:off x="565920" y="2328480"/>
                <a:ext cx="330480" cy="170280"/>
                <a:chOff x="565920" y="2328480"/>
                <a:chExt cx="330480" cy="170280"/>
              </a:xfrm>
            </p:grpSpPr>
            <p:sp>
              <p:nvSpPr>
                <p:cNvPr id="1980" name=""/>
                <p:cNvSpPr/>
                <p:nvPr/>
              </p:nvSpPr>
              <p:spPr>
                <a:xfrm>
                  <a:off x="625320" y="232848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619200" y="234252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613800" y="235620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608400" y="237024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603360" y="238428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597960" y="239868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592560" y="241272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587160" y="242712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581760" y="244152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576720" y="245628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571320" y="247032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565920" y="248472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2" name=""/>
              <p:cNvSpPr/>
              <p:nvPr/>
            </p:nvSpPr>
            <p:spPr>
              <a:xfrm rot="16200000">
                <a:off x="696600" y="21405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3" name=""/>
              <p:cNvGrpSpPr/>
              <p:nvPr/>
            </p:nvGrpSpPr>
            <p:grpSpPr>
              <a:xfrm>
                <a:off x="697320" y="2301840"/>
                <a:ext cx="68040" cy="26280"/>
                <a:chOff x="697320" y="2301840"/>
                <a:chExt cx="68040" cy="26280"/>
              </a:xfrm>
            </p:grpSpPr>
            <p:grpSp>
              <p:nvGrpSpPr>
                <p:cNvPr id="1994" name=""/>
                <p:cNvGrpSpPr/>
                <p:nvPr/>
              </p:nvGrpSpPr>
              <p:grpSpPr>
                <a:xfrm>
                  <a:off x="697320" y="2301840"/>
                  <a:ext cx="68040" cy="26280"/>
                  <a:chOff x="697320" y="2301840"/>
                  <a:chExt cx="68040" cy="26280"/>
                </a:xfrm>
              </p:grpSpPr>
              <p:sp>
                <p:nvSpPr>
                  <p:cNvPr id="1995" name=""/>
                  <p:cNvSpPr/>
                  <p:nvPr/>
                </p:nvSpPr>
                <p:spPr>
                  <a:xfrm>
                    <a:off x="697320" y="23018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765360" y="23018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697320" y="23018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8" name=""/>
                <p:cNvSpPr/>
                <p:nvPr/>
              </p:nvSpPr>
              <p:spPr>
                <a:xfrm>
                  <a:off x="703080" y="230328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9" name=""/>
              <p:cNvSpPr/>
              <p:nvPr/>
            </p:nvSpPr>
            <p:spPr>
              <a:xfrm>
                <a:off x="945000" y="24116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0" name=""/>
            <p:cNvSpPr/>
            <p:nvPr/>
          </p:nvSpPr>
          <p:spPr>
            <a:xfrm>
              <a:off x="1645920" y="2116080"/>
              <a:ext cx="619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Quality Checklist is ready for use by vend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( it‘s for free 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152280" y="3017880"/>
            <a:ext cx="8067240" cy="825480"/>
            <a:chOff x="152280" y="3017880"/>
            <a:chExt cx="8067240" cy="825480"/>
          </a:xfrm>
        </p:grpSpPr>
        <p:grpSp>
          <p:nvGrpSpPr>
            <p:cNvPr id="2002" name=""/>
            <p:cNvGrpSpPr/>
            <p:nvPr/>
          </p:nvGrpSpPr>
          <p:grpSpPr>
            <a:xfrm>
              <a:off x="152280" y="3138480"/>
              <a:ext cx="1066680" cy="280800"/>
              <a:chOff x="152280" y="3138480"/>
              <a:chExt cx="1066680" cy="280800"/>
            </a:xfrm>
          </p:grpSpPr>
          <p:sp>
            <p:nvSpPr>
              <p:cNvPr id="2003" name=""/>
              <p:cNvSpPr/>
              <p:nvPr/>
            </p:nvSpPr>
            <p:spPr>
              <a:xfrm>
                <a:off x="365760" y="33732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472680" y="333216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686160" y="3332160"/>
                <a:ext cx="21312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52280" y="33732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78880" y="337320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92000" y="337320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006200" y="33732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25240" y="320796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93440" y="3291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65760" y="32911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79600" y="32911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259920" y="333216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686160" y="324936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472680" y="324936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7" name=""/>
              <p:cNvGrpSpPr/>
              <p:nvPr/>
            </p:nvGrpSpPr>
            <p:grpSpPr>
              <a:xfrm>
                <a:off x="519840" y="3249000"/>
                <a:ext cx="330480" cy="170280"/>
                <a:chOff x="519840" y="3249000"/>
                <a:chExt cx="330480" cy="170280"/>
              </a:xfrm>
            </p:grpSpPr>
            <p:sp>
              <p:nvSpPr>
                <p:cNvPr id="2018" name=""/>
                <p:cNvSpPr/>
                <p:nvPr/>
              </p:nvSpPr>
              <p:spPr>
                <a:xfrm>
                  <a:off x="579240" y="324900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73120" y="326304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67720" y="327672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62320" y="329076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57280" y="330480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551880" y="331920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546480" y="333324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541080" y="334764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535680" y="336204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530640" y="337680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525240" y="339084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519840" y="340524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0" name=""/>
              <p:cNvSpPr/>
              <p:nvPr/>
            </p:nvSpPr>
            <p:spPr>
              <a:xfrm rot="16200000">
                <a:off x="650520" y="30614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1" name=""/>
              <p:cNvGrpSpPr/>
              <p:nvPr/>
            </p:nvGrpSpPr>
            <p:grpSpPr>
              <a:xfrm>
                <a:off x="651240" y="3222360"/>
                <a:ext cx="68040" cy="26280"/>
                <a:chOff x="651240" y="3222360"/>
                <a:chExt cx="68040" cy="26280"/>
              </a:xfrm>
            </p:grpSpPr>
            <p:grpSp>
              <p:nvGrpSpPr>
                <p:cNvPr id="2032" name=""/>
                <p:cNvGrpSpPr/>
                <p:nvPr/>
              </p:nvGrpSpPr>
              <p:grpSpPr>
                <a:xfrm>
                  <a:off x="651240" y="3222360"/>
                  <a:ext cx="68040" cy="26280"/>
                  <a:chOff x="651240" y="3222360"/>
                  <a:chExt cx="68040" cy="26280"/>
                </a:xfrm>
              </p:grpSpPr>
              <p:sp>
                <p:nvSpPr>
                  <p:cNvPr id="2033" name=""/>
                  <p:cNvSpPr/>
                  <p:nvPr/>
                </p:nvSpPr>
                <p:spPr>
                  <a:xfrm>
                    <a:off x="651240" y="32223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>
                    <a:off x="719280" y="32223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>
                    <a:off x="651240" y="32223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6" name=""/>
                <p:cNvSpPr/>
                <p:nvPr/>
              </p:nvSpPr>
              <p:spPr>
                <a:xfrm>
                  <a:off x="657000" y="322380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7" name=""/>
              <p:cNvSpPr/>
              <p:nvPr/>
            </p:nvSpPr>
            <p:spPr>
              <a:xfrm>
                <a:off x="898920" y="333216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8" name=""/>
            <p:cNvSpPr/>
            <p:nvPr/>
          </p:nvSpPr>
          <p:spPr>
            <a:xfrm>
              <a:off x="1598400" y="3017880"/>
              <a:ext cx="662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mportant keywords/parameters for new 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must be supported by the vend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9" name=""/>
          <p:cNvGrpSpPr/>
          <p:nvPr/>
        </p:nvGrpSpPr>
        <p:grpSpPr>
          <a:xfrm>
            <a:off x="228600" y="5380200"/>
            <a:ext cx="8032320" cy="825480"/>
            <a:chOff x="228600" y="5380200"/>
            <a:chExt cx="8032320" cy="825480"/>
          </a:xfrm>
        </p:grpSpPr>
        <p:grpSp>
          <p:nvGrpSpPr>
            <p:cNvPr id="2040" name=""/>
            <p:cNvGrpSpPr/>
            <p:nvPr/>
          </p:nvGrpSpPr>
          <p:grpSpPr>
            <a:xfrm>
              <a:off x="228600" y="5500800"/>
              <a:ext cx="1066680" cy="280800"/>
              <a:chOff x="228600" y="5500800"/>
              <a:chExt cx="1066680" cy="280800"/>
            </a:xfrm>
          </p:grpSpPr>
          <p:sp>
            <p:nvSpPr>
              <p:cNvPr id="2041" name=""/>
              <p:cNvSpPr/>
              <p:nvPr/>
            </p:nvSpPr>
            <p:spPr>
              <a:xfrm>
                <a:off x="442080" y="57355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49000" y="569448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762480" y="5694480"/>
                <a:ext cx="21312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28600" y="57355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655200" y="57355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868320" y="573552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082520" y="57355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01560" y="557028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869760" y="56534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42080" y="56534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655920" y="56534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36240" y="569448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62480" y="561168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49000" y="561168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5" name=""/>
              <p:cNvGrpSpPr/>
              <p:nvPr/>
            </p:nvGrpSpPr>
            <p:grpSpPr>
              <a:xfrm>
                <a:off x="596160" y="5611320"/>
                <a:ext cx="330480" cy="170280"/>
                <a:chOff x="596160" y="5611320"/>
                <a:chExt cx="330480" cy="170280"/>
              </a:xfrm>
            </p:grpSpPr>
            <p:sp>
              <p:nvSpPr>
                <p:cNvPr id="2056" name=""/>
                <p:cNvSpPr/>
                <p:nvPr/>
              </p:nvSpPr>
              <p:spPr>
                <a:xfrm>
                  <a:off x="655560" y="561132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649440" y="562536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644040" y="563904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638640" y="565308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633600" y="566712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628200" y="568152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622800" y="569556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617400" y="570996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612000" y="572436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606960" y="573912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601560" y="575316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596160" y="576756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8" name=""/>
              <p:cNvSpPr/>
              <p:nvPr/>
            </p:nvSpPr>
            <p:spPr>
              <a:xfrm rot="16200000">
                <a:off x="726840" y="54237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9" name=""/>
              <p:cNvGrpSpPr/>
              <p:nvPr/>
            </p:nvGrpSpPr>
            <p:grpSpPr>
              <a:xfrm>
                <a:off x="727560" y="5584680"/>
                <a:ext cx="68040" cy="26280"/>
                <a:chOff x="727560" y="5584680"/>
                <a:chExt cx="68040" cy="26280"/>
              </a:xfrm>
            </p:grpSpPr>
            <p:grpSp>
              <p:nvGrpSpPr>
                <p:cNvPr id="2070" name=""/>
                <p:cNvGrpSpPr/>
                <p:nvPr/>
              </p:nvGrpSpPr>
              <p:grpSpPr>
                <a:xfrm>
                  <a:off x="727560" y="5584680"/>
                  <a:ext cx="68040" cy="26280"/>
                  <a:chOff x="727560" y="5584680"/>
                  <a:chExt cx="68040" cy="26280"/>
                </a:xfrm>
              </p:grpSpPr>
              <p:sp>
                <p:nvSpPr>
                  <p:cNvPr id="2071" name=""/>
                  <p:cNvSpPr/>
                  <p:nvPr/>
                </p:nvSpPr>
                <p:spPr>
                  <a:xfrm>
                    <a:off x="727560" y="55846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>
                    <a:off x="795600" y="55846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>
                    <a:off x="727560" y="55846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4" name=""/>
                <p:cNvSpPr/>
                <p:nvPr/>
              </p:nvSpPr>
              <p:spPr>
                <a:xfrm>
                  <a:off x="733320" y="558612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5" name=""/>
              <p:cNvSpPr/>
              <p:nvPr/>
            </p:nvSpPr>
            <p:spPr>
              <a:xfrm>
                <a:off x="975240" y="569448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6" name=""/>
            <p:cNvSpPr/>
            <p:nvPr/>
          </p:nvSpPr>
          <p:spPr>
            <a:xfrm>
              <a:off x="1674720" y="5380200"/>
              <a:ext cx="65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For new keywords, the ibis-forum must prov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 clear description / cookbo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52280" y="1066680"/>
            <a:ext cx="594360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j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±   5%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– 11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± 2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±   5%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– 11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± 3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±   5%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40 – 125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± 2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±   5%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40 – 125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± 3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± 10%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– 11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± 2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± 10%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– 11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± 3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± 10%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40 – 125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± 2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± 10%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40 – 125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± 3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± 2σ means    95,5% of all shipped parts fulfill these lim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± 3σ means    99,7% of all shipped parts fulfill these lim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±  5%   means  e.g. 3P3V  --  3P15V  --  3P4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±  10% means  e.g. 3P3V  --  3P00V  --  3P6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57160" y="2209680"/>
            <a:ext cx="2887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cc(V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mp(°C)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40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str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4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0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str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50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1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w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0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weak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943600" y="2743200"/>
            <a:ext cx="380880" cy="1528560"/>
            <a:chOff x="5943600" y="2743200"/>
            <a:chExt cx="380880" cy="1528560"/>
          </a:xfrm>
        </p:grpSpPr>
        <p:sp>
          <p:nvSpPr>
            <p:cNvPr id="321" name=""/>
            <p:cNvSpPr/>
            <p:nvPr/>
          </p:nvSpPr>
          <p:spPr>
            <a:xfrm>
              <a:off x="5943600" y="3893400"/>
              <a:ext cx="38088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43600" y="4271760"/>
              <a:ext cx="3808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43600" y="3505320"/>
              <a:ext cx="38088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43600" y="3084120"/>
              <a:ext cx="3808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43600" y="27432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0" y="4495680"/>
            <a:ext cx="5790960" cy="45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49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0" y="4495680"/>
            <a:ext cx="5790240" cy="45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0" y="4494960"/>
            <a:ext cx="5790240" cy="45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0" y="4494600"/>
            <a:ext cx="5790960" cy="45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49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0" y="2286000"/>
            <a:ext cx="5790960" cy="453960"/>
            <a:chOff x="0" y="2286000"/>
            <a:chExt cx="5790960" cy="453960"/>
          </a:xfrm>
        </p:grpSpPr>
        <p:sp>
          <p:nvSpPr>
            <p:cNvPr id="331" name=""/>
            <p:cNvSpPr/>
            <p:nvPr/>
          </p:nvSpPr>
          <p:spPr>
            <a:xfrm>
              <a:off x="0" y="2286000"/>
              <a:ext cx="5790960" cy="45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49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0" y="2286000"/>
              <a:ext cx="5790240" cy="45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4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0" y="2285640"/>
              <a:ext cx="5790240" cy="45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4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0" y="2285280"/>
              <a:ext cx="5790960" cy="45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49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VT mode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030720" y="152280"/>
            <a:ext cx="2914920" cy="803520"/>
            <a:chOff x="6030720" y="152280"/>
            <a:chExt cx="2914920" cy="803520"/>
          </a:xfrm>
        </p:grpSpPr>
        <p:sp>
          <p:nvSpPr>
            <p:cNvPr id="337" name=""/>
            <p:cNvSpPr/>
            <p:nvPr/>
          </p:nvSpPr>
          <p:spPr>
            <a:xfrm>
              <a:off x="6030720" y="152280"/>
              <a:ext cx="291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Process Voltage Temoper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7388280" y="456840"/>
              <a:ext cx="311040" cy="498960"/>
              <a:chOff x="7388280" y="456840"/>
              <a:chExt cx="311040" cy="498960"/>
            </a:xfrm>
          </p:grpSpPr>
          <p:sp>
            <p:nvSpPr>
              <p:cNvPr id="339" name=""/>
              <p:cNvSpPr/>
              <p:nvPr/>
            </p:nvSpPr>
            <p:spPr>
              <a:xfrm>
                <a:off x="745056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48152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54416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38828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512480" y="87372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57512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63740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497000" y="58104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57512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45056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512840" y="72828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4196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543800" y="65484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48152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7495200" y="653760"/>
                <a:ext cx="96480" cy="302040"/>
                <a:chOff x="7495200" y="653760"/>
                <a:chExt cx="96480" cy="3020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7512480" y="65376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510680" y="67896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509240" y="70308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507440" y="72792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506000" y="75276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504560" y="77832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502760" y="80352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501320" y="82836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499880" y="85392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498080" y="88056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496640" y="90540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495200" y="93060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 rot="16200000">
                <a:off x="7481520" y="48636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7533720" y="606600"/>
                <a:ext cx="19800" cy="46800"/>
                <a:chOff x="7533720" y="606600"/>
                <a:chExt cx="19800" cy="46800"/>
              </a:xfrm>
            </p:grpSpPr>
            <p:grpSp>
              <p:nvGrpSpPr>
                <p:cNvPr id="368" name=""/>
                <p:cNvGrpSpPr/>
                <p:nvPr/>
              </p:nvGrpSpPr>
              <p:grpSpPr>
                <a:xfrm>
                  <a:off x="7533720" y="606600"/>
                  <a:ext cx="19800" cy="46800"/>
                  <a:chOff x="7533720" y="606600"/>
                  <a:chExt cx="19800" cy="4680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753372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755352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7533720" y="60660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2" name=""/>
                <p:cNvSpPr/>
                <p:nvPr/>
              </p:nvSpPr>
              <p:spPr>
                <a:xfrm>
                  <a:off x="7535160" y="60912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" name=""/>
              <p:cNvSpPr/>
              <p:nvPr/>
            </p:nvSpPr>
            <p:spPr>
              <a:xfrm>
                <a:off x="76060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VT for prop-de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4343400"/>
            <a:ext cx="441936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2120" y="3124080"/>
            <a:ext cx="426708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5257800" y="2367000"/>
            <a:ext cx="3615480" cy="2728080"/>
            <a:chOff x="5257800" y="2367000"/>
            <a:chExt cx="3615480" cy="2728080"/>
          </a:xfrm>
        </p:grpSpPr>
        <p:sp>
          <p:nvSpPr>
            <p:cNvPr id="378" name=""/>
            <p:cNvSpPr/>
            <p:nvPr/>
          </p:nvSpPr>
          <p:spPr>
            <a:xfrm>
              <a:off x="5713920" y="2367000"/>
              <a:ext cx="3159360" cy="272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Vcc(V)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Temp(°C) 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.6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stro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.45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0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stro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.3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50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ty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.15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wea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weak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5257800" y="2990880"/>
              <a:ext cx="380880" cy="1910880"/>
              <a:chOff x="5257800" y="2990880"/>
              <a:chExt cx="380880" cy="1910880"/>
            </a:xfrm>
          </p:grpSpPr>
          <p:sp>
            <p:nvSpPr>
              <p:cNvPr id="380" name=""/>
              <p:cNvSpPr/>
              <p:nvPr/>
            </p:nvSpPr>
            <p:spPr>
              <a:xfrm>
                <a:off x="5257800" y="4428720"/>
                <a:ext cx="38088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57800" y="4901760"/>
                <a:ext cx="38088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257800" y="3943800"/>
                <a:ext cx="38088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257800" y="3417120"/>
                <a:ext cx="38088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257800" y="29908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 flipV="1">
            <a:off x="5562720" y="1371240"/>
            <a:ext cx="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9400" y="5572080"/>
            <a:ext cx="1755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fferent Tp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50880" y="991800"/>
            <a:ext cx="228240" cy="4086720"/>
            <a:chOff x="650880" y="991800"/>
            <a:chExt cx="228240" cy="4086720"/>
          </a:xfrm>
        </p:grpSpPr>
        <p:grpSp>
          <p:nvGrpSpPr>
            <p:cNvPr id="388" name=""/>
            <p:cNvGrpSpPr/>
            <p:nvPr/>
          </p:nvGrpSpPr>
          <p:grpSpPr>
            <a:xfrm>
              <a:off x="707760" y="991800"/>
              <a:ext cx="171360" cy="4086720"/>
              <a:chOff x="707760" y="991800"/>
              <a:chExt cx="171360" cy="4086720"/>
            </a:xfrm>
          </p:grpSpPr>
          <p:sp>
            <p:nvSpPr>
              <p:cNvPr id="389" name=""/>
              <p:cNvSpPr/>
              <p:nvPr/>
            </p:nvSpPr>
            <p:spPr>
              <a:xfrm flipV="1">
                <a:off x="765000" y="991800"/>
                <a:ext cx="0" cy="408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07760" y="30351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07760" y="9921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07760" y="50785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650880" y="150300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0880" y="201384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0880" y="252432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50880" y="354600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50880" y="456768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0880" y="405684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762120" y="1706040"/>
            <a:ext cx="6400800" cy="3353400"/>
            <a:chOff x="762120" y="1706040"/>
            <a:chExt cx="6400800" cy="3353400"/>
          </a:xfrm>
        </p:grpSpPr>
        <p:grpSp>
          <p:nvGrpSpPr>
            <p:cNvPr id="400" name=""/>
            <p:cNvGrpSpPr/>
            <p:nvPr/>
          </p:nvGrpSpPr>
          <p:grpSpPr>
            <a:xfrm>
              <a:off x="762120" y="1706040"/>
              <a:ext cx="5333760" cy="3353400"/>
              <a:chOff x="762120" y="1706040"/>
              <a:chExt cx="5333760" cy="3353400"/>
            </a:xfrm>
          </p:grpSpPr>
          <p:sp>
            <p:nvSpPr>
              <p:cNvPr id="401" name=""/>
              <p:cNvSpPr/>
              <p:nvPr/>
            </p:nvSpPr>
            <p:spPr>
              <a:xfrm>
                <a:off x="762120" y="5059440"/>
                <a:ext cx="380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1143000" y="4754520"/>
                <a:ext cx="1143000" cy="3045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2286000" y="4144680"/>
                <a:ext cx="762120" cy="6094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3048120" y="2620440"/>
                <a:ext cx="761760" cy="15238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3809880" y="2011320"/>
                <a:ext cx="762120" cy="6091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4572000" y="1706040"/>
                <a:ext cx="1143000" cy="3049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15000" y="1706400"/>
                <a:ext cx="380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6019920" y="1706400"/>
              <a:ext cx="11430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758880" y="5013360"/>
            <a:ext cx="7619760" cy="182520"/>
            <a:chOff x="758880" y="5013360"/>
            <a:chExt cx="7619760" cy="182520"/>
          </a:xfrm>
        </p:grpSpPr>
        <p:grpSp>
          <p:nvGrpSpPr>
            <p:cNvPr id="410" name=""/>
            <p:cNvGrpSpPr/>
            <p:nvPr/>
          </p:nvGrpSpPr>
          <p:grpSpPr>
            <a:xfrm>
              <a:off x="758880" y="5013360"/>
              <a:ext cx="7619760" cy="182520"/>
              <a:chOff x="758880" y="5013360"/>
              <a:chExt cx="7619760" cy="182520"/>
            </a:xfrm>
          </p:grpSpPr>
          <p:sp>
            <p:nvSpPr>
              <p:cNvPr id="411" name=""/>
              <p:cNvSpPr/>
              <p:nvPr/>
            </p:nvSpPr>
            <p:spPr>
              <a:xfrm>
                <a:off x="758880" y="5074200"/>
                <a:ext cx="761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58880" y="5013360"/>
                <a:ext cx="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568760" y="5013360"/>
                <a:ext cx="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378640" y="5013360"/>
                <a:ext cx="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2282760" y="5013360"/>
              <a:ext cx="0" cy="18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06640" y="5013360"/>
              <a:ext cx="0" cy="18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30880" y="5013360"/>
              <a:ext cx="0" cy="18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54760" y="5013360"/>
              <a:ext cx="0" cy="18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44880" y="5013360"/>
              <a:ext cx="0" cy="18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92640" y="5013360"/>
              <a:ext cx="0" cy="18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520640" y="5013360"/>
              <a:ext cx="0" cy="18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16880" y="5013360"/>
              <a:ext cx="0" cy="18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762120" y="2055600"/>
            <a:ext cx="6398640" cy="3021120"/>
            <a:chOff x="762120" y="2055600"/>
            <a:chExt cx="6398640" cy="3021120"/>
          </a:xfrm>
        </p:grpSpPr>
        <p:sp>
          <p:nvSpPr>
            <p:cNvPr id="424" name=""/>
            <p:cNvSpPr/>
            <p:nvPr/>
          </p:nvSpPr>
          <p:spPr>
            <a:xfrm>
              <a:off x="762120" y="5076720"/>
              <a:ext cx="4568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218960" y="4802040"/>
              <a:ext cx="1371240" cy="27432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2590200" y="4252320"/>
              <a:ext cx="914040" cy="54900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504600" y="2879640"/>
              <a:ext cx="913680" cy="137304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4418280" y="2330280"/>
              <a:ext cx="914040" cy="54900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5332680" y="2055600"/>
              <a:ext cx="1371240" cy="274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03920" y="2055960"/>
              <a:ext cx="4568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762120" y="1554120"/>
            <a:ext cx="6400800" cy="3522600"/>
            <a:chOff x="762120" y="1554120"/>
            <a:chExt cx="6400800" cy="3522600"/>
          </a:xfrm>
        </p:grpSpPr>
        <p:grpSp>
          <p:nvGrpSpPr>
            <p:cNvPr id="432" name=""/>
            <p:cNvGrpSpPr/>
            <p:nvPr/>
          </p:nvGrpSpPr>
          <p:grpSpPr>
            <a:xfrm>
              <a:off x="762120" y="1554120"/>
              <a:ext cx="4800240" cy="3522600"/>
              <a:chOff x="762120" y="1554120"/>
              <a:chExt cx="4800240" cy="3522600"/>
            </a:xfrm>
          </p:grpSpPr>
          <p:sp>
            <p:nvSpPr>
              <p:cNvPr id="433" name=""/>
              <p:cNvSpPr/>
              <p:nvPr/>
            </p:nvSpPr>
            <p:spPr>
              <a:xfrm>
                <a:off x="762120" y="5076720"/>
                <a:ext cx="3427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1104840" y="4755960"/>
                <a:ext cx="1028520" cy="32004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2133360" y="4115520"/>
                <a:ext cx="685800" cy="64044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2819520" y="2514240"/>
                <a:ext cx="685440" cy="160092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3504960" y="1874520"/>
                <a:ext cx="685800" cy="64008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4191120" y="1554120"/>
                <a:ext cx="1028520" cy="3204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219640" y="1554120"/>
                <a:ext cx="3427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5486400" y="1554120"/>
              <a:ext cx="167652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762120" y="1886040"/>
            <a:ext cx="6400800" cy="3190320"/>
            <a:chOff x="762120" y="1886040"/>
            <a:chExt cx="6400800" cy="3190320"/>
          </a:xfrm>
        </p:grpSpPr>
        <p:grpSp>
          <p:nvGrpSpPr>
            <p:cNvPr id="442" name=""/>
            <p:cNvGrpSpPr/>
            <p:nvPr/>
          </p:nvGrpSpPr>
          <p:grpSpPr>
            <a:xfrm>
              <a:off x="762120" y="1888200"/>
              <a:ext cx="5865480" cy="3188160"/>
              <a:chOff x="762120" y="1888200"/>
              <a:chExt cx="5865480" cy="3188160"/>
            </a:xfrm>
          </p:grpSpPr>
          <p:sp>
            <p:nvSpPr>
              <p:cNvPr id="443" name=""/>
              <p:cNvSpPr/>
              <p:nvPr/>
            </p:nvSpPr>
            <p:spPr>
              <a:xfrm>
                <a:off x="762120" y="5076360"/>
                <a:ext cx="41868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1180800" y="4786560"/>
                <a:ext cx="1256760" cy="28944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2437920" y="4206960"/>
                <a:ext cx="838080" cy="5796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3276000" y="2757240"/>
                <a:ext cx="837720" cy="14490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4113720" y="2178000"/>
                <a:ext cx="838080" cy="57924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4951800" y="1888200"/>
                <a:ext cx="1256760" cy="2898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208920" y="1888560"/>
                <a:ext cx="41868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6591240" y="1886040"/>
              <a:ext cx="57168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762120" y="1383840"/>
            <a:ext cx="6400800" cy="3692880"/>
            <a:chOff x="762120" y="1383840"/>
            <a:chExt cx="6400800" cy="3692880"/>
          </a:xfrm>
        </p:grpSpPr>
        <p:grpSp>
          <p:nvGrpSpPr>
            <p:cNvPr id="452" name=""/>
            <p:cNvGrpSpPr/>
            <p:nvPr/>
          </p:nvGrpSpPr>
          <p:grpSpPr>
            <a:xfrm>
              <a:off x="762120" y="1383840"/>
              <a:ext cx="4268160" cy="3692880"/>
              <a:chOff x="762120" y="1383840"/>
              <a:chExt cx="4268160" cy="3692880"/>
            </a:xfrm>
          </p:grpSpPr>
          <p:sp>
            <p:nvSpPr>
              <p:cNvPr id="453" name=""/>
              <p:cNvSpPr/>
              <p:nvPr/>
            </p:nvSpPr>
            <p:spPr>
              <a:xfrm>
                <a:off x="762120" y="5076720"/>
                <a:ext cx="3045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1066680" y="4740840"/>
                <a:ext cx="914400" cy="335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1981440" y="4069080"/>
                <a:ext cx="609840" cy="67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2591280" y="2391120"/>
                <a:ext cx="609480" cy="1678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3201120" y="1720080"/>
                <a:ext cx="609840" cy="671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3810960" y="1383840"/>
                <a:ext cx="914400" cy="335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725720" y="1384200"/>
                <a:ext cx="3045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5029200" y="1384200"/>
              <a:ext cx="2133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109080" y="3886200"/>
            <a:ext cx="6537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n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6240" y="2514600"/>
            <a:ext cx="6962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785640" y="5068800"/>
            <a:ext cx="14140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ime  / ns 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50840" y="980280"/>
            <a:ext cx="653760" cy="782280"/>
            <a:chOff x="150840" y="980280"/>
            <a:chExt cx="653760" cy="782280"/>
          </a:xfrm>
        </p:grpSpPr>
        <p:sp>
          <p:nvSpPr>
            <p:cNvPr id="465" name=""/>
            <p:cNvSpPr/>
            <p:nvPr/>
          </p:nvSpPr>
          <p:spPr>
            <a:xfrm>
              <a:off x="150840" y="1343880"/>
              <a:ext cx="653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U / 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239760" y="957600"/>
              <a:ext cx="3733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6030720" y="152280"/>
            <a:ext cx="2914920" cy="803520"/>
            <a:chOff x="6030720" y="152280"/>
            <a:chExt cx="2914920" cy="803520"/>
          </a:xfrm>
        </p:grpSpPr>
        <p:sp>
          <p:nvSpPr>
            <p:cNvPr id="468" name=""/>
            <p:cNvSpPr/>
            <p:nvPr/>
          </p:nvSpPr>
          <p:spPr>
            <a:xfrm>
              <a:off x="6030720" y="152280"/>
              <a:ext cx="291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Process Voltage Temoper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7388280" y="456840"/>
              <a:ext cx="311040" cy="498960"/>
              <a:chOff x="7388280" y="456840"/>
              <a:chExt cx="311040" cy="498960"/>
            </a:xfrm>
          </p:grpSpPr>
          <p:sp>
            <p:nvSpPr>
              <p:cNvPr id="470" name=""/>
              <p:cNvSpPr/>
              <p:nvPr/>
            </p:nvSpPr>
            <p:spPr>
              <a:xfrm>
                <a:off x="745056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48152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54416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828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512480" y="87372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57512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63740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497000" y="58104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57512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5056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512840" y="72828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4196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543800" y="65484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48152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7495200" y="653760"/>
                <a:ext cx="96480" cy="302040"/>
                <a:chOff x="7495200" y="653760"/>
                <a:chExt cx="96480" cy="3020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7512480" y="65376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510680" y="67896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509240" y="70308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507440" y="72792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506000" y="75276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504560" y="77832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502760" y="80352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501320" y="82836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9880" y="85392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498080" y="88056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496640" y="90540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495200" y="93060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7" name=""/>
              <p:cNvSpPr/>
              <p:nvPr/>
            </p:nvSpPr>
            <p:spPr>
              <a:xfrm rot="16200000">
                <a:off x="7481520" y="48636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7533720" y="606600"/>
                <a:ext cx="19800" cy="46800"/>
                <a:chOff x="7533720" y="606600"/>
                <a:chExt cx="19800" cy="46800"/>
              </a:xfrm>
            </p:grpSpPr>
            <p:grpSp>
              <p:nvGrpSpPr>
                <p:cNvPr id="499" name=""/>
                <p:cNvGrpSpPr/>
                <p:nvPr/>
              </p:nvGrpSpPr>
              <p:grpSpPr>
                <a:xfrm>
                  <a:off x="7533720" y="606600"/>
                  <a:ext cx="19800" cy="46800"/>
                  <a:chOff x="7533720" y="606600"/>
                  <a:chExt cx="19800" cy="4680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753372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755352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533720" y="60660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3" name=""/>
                <p:cNvSpPr/>
                <p:nvPr/>
              </p:nvSpPr>
              <p:spPr>
                <a:xfrm>
                  <a:off x="7535160" y="60912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76060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5" name=""/>
          <p:cNvSpPr/>
          <p:nvPr/>
        </p:nvSpPr>
        <p:spPr>
          <a:xfrm>
            <a:off x="2590920" y="5867280"/>
            <a:ext cx="129528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62320" y="5638680"/>
            <a:ext cx="19047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5486400" y="1600200"/>
            <a:ext cx="0" cy="175248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5410080" y="1828800"/>
            <a:ext cx="0" cy="22096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5334120" y="2057040"/>
            <a:ext cx="0" cy="24382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257800" y="2514600"/>
            <a:ext cx="0" cy="236232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478240" y="4267080"/>
            <a:ext cx="228600" cy="152640"/>
          </a:xfrm>
          <a:custGeom>
            <a:avLst/>
            <a:gdLst>
              <a:gd name="textAreaLeft" fmla="*/ 52200 w 228600"/>
              <a:gd name="textAreaRight" fmla="*/ 176400 w 22860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10800" bIns="10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74960" y="3048120"/>
            <a:ext cx="228600" cy="152280"/>
          </a:xfrm>
          <a:custGeom>
            <a:avLst/>
            <a:gdLst>
              <a:gd name="textAreaLeft" fmla="*/ 52200 w 228600"/>
              <a:gd name="textAreaRight" fmla="*/ 176400 w 22860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11160" bIns="11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44600" y="4267080"/>
            <a:ext cx="228600" cy="152640"/>
          </a:xfrm>
          <a:custGeom>
            <a:avLst/>
            <a:gdLst>
              <a:gd name="textAreaLeft" fmla="*/ 52200 w 228600"/>
              <a:gd name="textAreaRight" fmla="*/ 176400 w 22860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10800" bIns="10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48280" y="3048120"/>
            <a:ext cx="228600" cy="152280"/>
          </a:xfrm>
          <a:custGeom>
            <a:avLst/>
            <a:gdLst>
              <a:gd name="textAreaLeft" fmla="*/ 52200 w 228600"/>
              <a:gd name="textAreaRight" fmla="*/ 176400 w 22860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11160" bIns="11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362320" y="4343400"/>
            <a:ext cx="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124080"/>
            <a:ext cx="0" cy="259092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86200" y="3124080"/>
            <a:ext cx="0" cy="28195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90920" y="4343400"/>
            <a:ext cx="0" cy="160020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4876920"/>
            <a:ext cx="3504960" cy="1752480"/>
          </a:xfrm>
          <a:prstGeom prst="irregularSeal1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VT for oversho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758880" y="6016680"/>
            <a:ext cx="7619760" cy="228600"/>
            <a:chOff x="758880" y="6016680"/>
            <a:chExt cx="7619760" cy="228600"/>
          </a:xfrm>
        </p:grpSpPr>
        <p:grpSp>
          <p:nvGrpSpPr>
            <p:cNvPr id="522" name=""/>
            <p:cNvGrpSpPr/>
            <p:nvPr/>
          </p:nvGrpSpPr>
          <p:grpSpPr>
            <a:xfrm>
              <a:off x="758880" y="6016680"/>
              <a:ext cx="7619760" cy="228600"/>
              <a:chOff x="758880" y="6016680"/>
              <a:chExt cx="7619760" cy="228600"/>
            </a:xfrm>
          </p:grpSpPr>
          <p:sp>
            <p:nvSpPr>
              <p:cNvPr id="523" name=""/>
              <p:cNvSpPr/>
              <p:nvPr/>
            </p:nvSpPr>
            <p:spPr>
              <a:xfrm>
                <a:off x="758880" y="6093000"/>
                <a:ext cx="761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58880" y="6016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568760" y="6016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378640" y="6016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2282760" y="6016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06640" y="6016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30880" y="6016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54760" y="6016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44880" y="6016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92640" y="6016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520640" y="6016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616880" y="6016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650880" y="992160"/>
            <a:ext cx="228240" cy="5105520"/>
            <a:chOff x="650880" y="992160"/>
            <a:chExt cx="228240" cy="5105520"/>
          </a:xfrm>
        </p:grpSpPr>
        <p:grpSp>
          <p:nvGrpSpPr>
            <p:cNvPr id="536" name=""/>
            <p:cNvGrpSpPr/>
            <p:nvPr/>
          </p:nvGrpSpPr>
          <p:grpSpPr>
            <a:xfrm>
              <a:off x="707760" y="992160"/>
              <a:ext cx="171360" cy="5105520"/>
              <a:chOff x="707760" y="992160"/>
              <a:chExt cx="171360" cy="5105520"/>
            </a:xfrm>
          </p:grpSpPr>
          <p:sp>
            <p:nvSpPr>
              <p:cNvPr id="537" name=""/>
              <p:cNvSpPr/>
              <p:nvPr/>
            </p:nvSpPr>
            <p:spPr>
              <a:xfrm flipV="1">
                <a:off x="765000" y="992160"/>
                <a:ext cx="0" cy="510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07760" y="3544920"/>
                <a:ext cx="17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07760" y="992160"/>
                <a:ext cx="17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07760" y="6097680"/>
                <a:ext cx="17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650880" y="163008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50880" y="226836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0880" y="290664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50880" y="418320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0880" y="545940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0880" y="482112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762120" y="5181480"/>
            <a:ext cx="2514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62120" y="3733920"/>
            <a:ext cx="2514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762120" y="2093760"/>
            <a:ext cx="4460400" cy="4002120"/>
            <a:chOff x="762120" y="2093760"/>
            <a:chExt cx="4460400" cy="4002120"/>
          </a:xfrm>
        </p:grpSpPr>
        <p:sp>
          <p:nvSpPr>
            <p:cNvPr id="550" name=""/>
            <p:cNvSpPr/>
            <p:nvPr/>
          </p:nvSpPr>
          <p:spPr>
            <a:xfrm>
              <a:off x="762120" y="6095880"/>
              <a:ext cx="3805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2284200" y="2530800"/>
              <a:ext cx="229680" cy="1093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1522080" y="3628080"/>
              <a:ext cx="763200" cy="2196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flipV="1">
              <a:off x="3428280" y="2695680"/>
              <a:ext cx="75960" cy="3564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00240" y="3079800"/>
              <a:ext cx="3808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514960" y="2093760"/>
              <a:ext cx="912960" cy="12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2512800" y="2093760"/>
              <a:ext cx="937080" cy="102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952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95282"/>
                </a:path>
              </a:pathLst>
            </a:cu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3507120" y="2558160"/>
              <a:ext cx="636840" cy="84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290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29006"/>
                </a:path>
              </a:pathLst>
            </a:cu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3504960" y="2558160"/>
              <a:ext cx="64008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428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42838"/>
                </a:path>
              </a:pathLst>
            </a:cu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154760" y="2861280"/>
              <a:ext cx="3290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952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952984"/>
                </a:path>
              </a:pathLst>
            </a:cu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4152600" y="2860200"/>
              <a:ext cx="331920" cy="43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428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42838"/>
                </a:path>
              </a:pathLst>
            </a:cu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flipV="1">
              <a:off x="4462200" y="2859480"/>
              <a:ext cx="76032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762120" y="5546880"/>
              <a:ext cx="761040" cy="54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762120" y="1828800"/>
            <a:ext cx="2971800" cy="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762120" y="1892160"/>
            <a:ext cx="4013280" cy="4203720"/>
            <a:chOff x="762120" y="1892160"/>
            <a:chExt cx="4013280" cy="4203720"/>
          </a:xfrm>
        </p:grpSpPr>
        <p:sp>
          <p:nvSpPr>
            <p:cNvPr id="565" name=""/>
            <p:cNvSpPr/>
            <p:nvPr/>
          </p:nvSpPr>
          <p:spPr>
            <a:xfrm>
              <a:off x="762120" y="6095880"/>
              <a:ext cx="3423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2131560" y="2351520"/>
              <a:ext cx="206640" cy="11484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446120" y="3503160"/>
              <a:ext cx="686880" cy="23065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flipV="1">
              <a:off x="3161520" y="2524320"/>
              <a:ext cx="68400" cy="3744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395600" y="2927880"/>
              <a:ext cx="34272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339280" y="1892160"/>
              <a:ext cx="821520" cy="126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2337120" y="1892160"/>
              <a:ext cx="843480" cy="107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952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95282"/>
                </a:path>
              </a:pathLst>
            </a:cu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232080" y="2379960"/>
              <a:ext cx="573120" cy="88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290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29006"/>
                </a:path>
              </a:pathLst>
            </a:cu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flipV="1">
              <a:off x="3230280" y="2380680"/>
              <a:ext cx="576000" cy="88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428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42838"/>
                </a:path>
              </a:pathLst>
            </a:cu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14920" y="2698200"/>
              <a:ext cx="295920" cy="4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952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952984"/>
                </a:path>
              </a:pathLst>
            </a:cu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3812760" y="2697120"/>
              <a:ext cx="298800" cy="45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428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42838"/>
                </a:path>
              </a:pathLst>
            </a:cu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 flipV="1">
              <a:off x="4091400" y="2696400"/>
              <a:ext cx="684000" cy="23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62120" y="5519520"/>
              <a:ext cx="68472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762120" y="1693800"/>
            <a:ext cx="3566160" cy="4402080"/>
            <a:chOff x="762120" y="1693800"/>
            <a:chExt cx="3566160" cy="4402080"/>
          </a:xfrm>
        </p:grpSpPr>
        <p:sp>
          <p:nvSpPr>
            <p:cNvPr id="579" name=""/>
            <p:cNvSpPr/>
            <p:nvPr/>
          </p:nvSpPr>
          <p:spPr>
            <a:xfrm>
              <a:off x="762120" y="6095880"/>
              <a:ext cx="304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1979280" y="2175120"/>
              <a:ext cx="183600" cy="1202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1369800" y="3380760"/>
              <a:ext cx="610200" cy="2415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2894040" y="2355480"/>
              <a:ext cx="60840" cy="392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90960" y="277812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163600" y="1693800"/>
              <a:ext cx="730080" cy="132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2162880" y="1693800"/>
              <a:ext cx="749520" cy="112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952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95282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2957400" y="2204640"/>
              <a:ext cx="509040" cy="92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290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29006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2955240" y="2205360"/>
              <a:ext cx="511920" cy="92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428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42838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74360" y="2538000"/>
              <a:ext cx="2638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952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952984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3473280" y="2536920"/>
              <a:ext cx="265680" cy="48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428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42838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3720600" y="2536200"/>
              <a:ext cx="607680" cy="24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62120" y="5492160"/>
              <a:ext cx="608400" cy="60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761760" y="2295360"/>
            <a:ext cx="4907880" cy="3800520"/>
            <a:chOff x="761760" y="2295360"/>
            <a:chExt cx="4907880" cy="3800520"/>
          </a:xfrm>
        </p:grpSpPr>
        <p:sp>
          <p:nvSpPr>
            <p:cNvPr id="593" name=""/>
            <p:cNvSpPr/>
            <p:nvPr/>
          </p:nvSpPr>
          <p:spPr>
            <a:xfrm>
              <a:off x="762120" y="6095880"/>
              <a:ext cx="41868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2436840" y="2710800"/>
              <a:ext cx="253080" cy="10382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1598400" y="3752280"/>
              <a:ext cx="839880" cy="20851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3695760" y="2867040"/>
              <a:ext cx="83880" cy="3384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204880" y="3231720"/>
              <a:ext cx="4194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690280" y="2295360"/>
              <a:ext cx="1005120" cy="114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2689200" y="2295360"/>
              <a:ext cx="1031760" cy="96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952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95282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3782160" y="2736360"/>
              <a:ext cx="700920" cy="79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290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29006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>
              <a:off x="3780000" y="2736360"/>
              <a:ext cx="704880" cy="80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428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42838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94600" y="3024360"/>
              <a:ext cx="362160" cy="41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952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952984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4492440" y="3023280"/>
              <a:ext cx="365760" cy="41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428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42838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flipV="1">
              <a:off x="4833000" y="3022560"/>
              <a:ext cx="836640" cy="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761760" y="5574600"/>
              <a:ext cx="8380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762120" y="2494080"/>
            <a:ext cx="5355360" cy="3601800"/>
            <a:chOff x="762120" y="2494080"/>
            <a:chExt cx="5355360" cy="3601800"/>
          </a:xfrm>
        </p:grpSpPr>
        <p:sp>
          <p:nvSpPr>
            <p:cNvPr id="607" name=""/>
            <p:cNvSpPr/>
            <p:nvPr/>
          </p:nvSpPr>
          <p:spPr>
            <a:xfrm>
              <a:off x="762120" y="6095880"/>
              <a:ext cx="45720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589120" y="2887560"/>
              <a:ext cx="276480" cy="98424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1674720" y="3875040"/>
              <a:ext cx="916200" cy="197640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 flipV="1">
              <a:off x="3963600" y="3034800"/>
              <a:ext cx="90360" cy="32076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865600" y="2494080"/>
              <a:ext cx="109800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2864880" y="2494080"/>
              <a:ext cx="1125360" cy="91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952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95282"/>
                </a:path>
              </a:pathLst>
            </a:custGeom>
            <a:noFill/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4057920" y="2912400"/>
              <a:ext cx="764640" cy="75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290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29006"/>
                </a:path>
              </a:pathLst>
            </a:custGeom>
            <a:noFill/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4054320" y="2913480"/>
              <a:ext cx="771120" cy="75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428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42838"/>
                </a:path>
              </a:pathLst>
            </a:custGeom>
            <a:noFill/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34080" y="3184560"/>
              <a:ext cx="396360" cy="39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952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952984"/>
                </a:path>
              </a:pathLst>
            </a:custGeom>
            <a:noFill/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4832280" y="3184560"/>
              <a:ext cx="39960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428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42838"/>
                </a:path>
              </a:pathLst>
            </a:custGeom>
            <a:noFill/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 flipV="1">
              <a:off x="5203800" y="3183480"/>
              <a:ext cx="913680" cy="19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62480" y="5603400"/>
              <a:ext cx="91368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2590920" y="1066680"/>
            <a:ext cx="6282720" cy="2728080"/>
            <a:chOff x="2590920" y="1066680"/>
            <a:chExt cx="6282720" cy="2728080"/>
          </a:xfrm>
        </p:grpSpPr>
        <p:sp>
          <p:nvSpPr>
            <p:cNvPr id="620" name=""/>
            <p:cNvSpPr/>
            <p:nvPr/>
          </p:nvSpPr>
          <p:spPr>
            <a:xfrm flipH="1">
              <a:off x="2590920" y="1675800"/>
              <a:ext cx="3047760" cy="7596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2971440" y="1981080"/>
              <a:ext cx="2590920" cy="152640"/>
            </a:xfrm>
            <a:prstGeom prst="line">
              <a:avLst/>
            </a:prstGeom>
            <a:ln cap="rnd" w="9360">
              <a:solidFill>
                <a:srgbClr val="3366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3200400" y="2133360"/>
              <a:ext cx="2362320" cy="533160"/>
            </a:xfrm>
            <a:prstGeom prst="line">
              <a:avLst/>
            </a:prstGeom>
            <a:ln cap="rnd" w="9360">
              <a:solidFill>
                <a:srgbClr val="66ff33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2743200" y="2590920"/>
              <a:ext cx="2819520" cy="457200"/>
            </a:xfrm>
            <a:prstGeom prst="line">
              <a:avLst/>
            </a:prstGeom>
            <a:ln cap="rnd" w="9360">
              <a:solidFill>
                <a:srgbClr val="00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2819520" y="3124080"/>
              <a:ext cx="2743200" cy="457200"/>
            </a:xfrm>
            <a:prstGeom prst="line">
              <a:avLst/>
            </a:prstGeom>
            <a:ln cap="rnd" w="9360">
              <a:solidFill>
                <a:srgbClr val="ff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5562720" y="1066680"/>
              <a:ext cx="3310920" cy="2728080"/>
              <a:chOff x="5562720" y="1066680"/>
              <a:chExt cx="3310920" cy="2728080"/>
            </a:xfrm>
          </p:grpSpPr>
          <p:sp>
            <p:nvSpPr>
              <p:cNvPr id="626" name=""/>
              <p:cNvSpPr/>
              <p:nvPr/>
            </p:nvSpPr>
            <p:spPr>
              <a:xfrm>
                <a:off x="5714280" y="1066680"/>
                <a:ext cx="3159360" cy="272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Vcc(V)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Temp(°C) Proce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3.6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-40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  stro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3.45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   0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  stro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 50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  ty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3.15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  wea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3.0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125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  weak</a:t>
                </a: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7" name=""/>
              <p:cNvGrpSpPr/>
              <p:nvPr/>
            </p:nvGrpSpPr>
            <p:grpSpPr>
              <a:xfrm>
                <a:off x="5562720" y="1690560"/>
                <a:ext cx="75960" cy="1911240"/>
                <a:chOff x="5562720" y="1690560"/>
                <a:chExt cx="75960" cy="191124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5562720" y="3128400"/>
                  <a:ext cx="75960" cy="0"/>
                </a:xfrm>
                <a:prstGeom prst="line">
                  <a:avLst/>
                </a:prstGeom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-72000" bIns="-72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562720" y="3601800"/>
                  <a:ext cx="7596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-72000" bIns="-72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562720" y="2643480"/>
                  <a:ext cx="75960" cy="0"/>
                </a:xfrm>
                <a:prstGeom prst="line">
                  <a:avLst/>
                </a:prstGeom>
                <a:ln w="3816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-72000" bIns="-72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562720" y="2116800"/>
                  <a:ext cx="75960" cy="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-72000" bIns="-72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562720" y="1690560"/>
                  <a:ext cx="759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-72000" bIns="-72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33" name=""/>
          <p:cNvSpPr/>
          <p:nvPr/>
        </p:nvSpPr>
        <p:spPr>
          <a:xfrm>
            <a:off x="-2880" y="1752480"/>
            <a:ext cx="9676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_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_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09080" y="4876920"/>
            <a:ext cx="6537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n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6240" y="3429000"/>
            <a:ext cx="6962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141320" y="5486400"/>
            <a:ext cx="14140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ime  / ns 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50840" y="1073880"/>
            <a:ext cx="653760" cy="776520"/>
            <a:chOff x="150840" y="1073880"/>
            <a:chExt cx="653760" cy="776520"/>
          </a:xfrm>
        </p:grpSpPr>
        <p:sp>
          <p:nvSpPr>
            <p:cNvPr id="638" name=""/>
            <p:cNvSpPr/>
            <p:nvPr/>
          </p:nvSpPr>
          <p:spPr>
            <a:xfrm>
              <a:off x="150840" y="1431720"/>
              <a:ext cx="653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U / 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6200000">
              <a:off x="239760" y="1051200"/>
              <a:ext cx="3733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3726720" y="4267080"/>
            <a:ext cx="46008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 max-model class 8 is violating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oundery for d-overshoot-hig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905120" y="1371600"/>
            <a:ext cx="1218960" cy="914400"/>
          </a:xfrm>
          <a:prstGeom prst="irregularSeal1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6030720" y="152280"/>
            <a:ext cx="2914920" cy="803520"/>
            <a:chOff x="6030720" y="152280"/>
            <a:chExt cx="2914920" cy="803520"/>
          </a:xfrm>
        </p:grpSpPr>
        <p:sp>
          <p:nvSpPr>
            <p:cNvPr id="643" name=""/>
            <p:cNvSpPr/>
            <p:nvPr/>
          </p:nvSpPr>
          <p:spPr>
            <a:xfrm>
              <a:off x="6030720" y="152280"/>
              <a:ext cx="291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Process Voltage Temoper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7388280" y="456840"/>
              <a:ext cx="311040" cy="498960"/>
              <a:chOff x="7388280" y="456840"/>
              <a:chExt cx="311040" cy="498960"/>
            </a:xfrm>
          </p:grpSpPr>
          <p:sp>
            <p:nvSpPr>
              <p:cNvPr id="645" name=""/>
              <p:cNvSpPr/>
              <p:nvPr/>
            </p:nvSpPr>
            <p:spPr>
              <a:xfrm>
                <a:off x="745056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48152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54416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38828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512480" y="87372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57512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63740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497000" y="58104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57512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45056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512840" y="72828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4196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543800" y="65484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48152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9" name=""/>
              <p:cNvGrpSpPr/>
              <p:nvPr/>
            </p:nvGrpSpPr>
            <p:grpSpPr>
              <a:xfrm>
                <a:off x="7495200" y="653760"/>
                <a:ext cx="96480" cy="302040"/>
                <a:chOff x="7495200" y="653760"/>
                <a:chExt cx="96480" cy="30204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7512480" y="65376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7510680" y="67896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7509240" y="70308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507440" y="72792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7506000" y="75276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7504560" y="77832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7502760" y="80352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7501320" y="82836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7499880" y="85392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498080" y="88056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7496640" y="90540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7495200" y="93060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2" name=""/>
              <p:cNvSpPr/>
              <p:nvPr/>
            </p:nvSpPr>
            <p:spPr>
              <a:xfrm rot="16200000">
                <a:off x="7481520" y="48636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3" name=""/>
              <p:cNvGrpSpPr/>
              <p:nvPr/>
            </p:nvGrpSpPr>
            <p:grpSpPr>
              <a:xfrm>
                <a:off x="7533720" y="606600"/>
                <a:ext cx="19800" cy="46800"/>
                <a:chOff x="7533720" y="606600"/>
                <a:chExt cx="19800" cy="46800"/>
              </a:xfrm>
            </p:grpSpPr>
            <p:grpSp>
              <p:nvGrpSpPr>
                <p:cNvPr id="674" name=""/>
                <p:cNvGrpSpPr/>
                <p:nvPr/>
              </p:nvGrpSpPr>
              <p:grpSpPr>
                <a:xfrm>
                  <a:off x="7533720" y="606600"/>
                  <a:ext cx="19800" cy="46800"/>
                  <a:chOff x="7533720" y="606600"/>
                  <a:chExt cx="19800" cy="4680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>
                    <a:off x="753372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755352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7533720" y="60660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8" name=""/>
                <p:cNvSpPr/>
                <p:nvPr/>
              </p:nvSpPr>
              <p:spPr>
                <a:xfrm>
                  <a:off x="7535160" y="60912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76060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"/>
          <p:cNvGrpSpPr/>
          <p:nvPr/>
        </p:nvGrpSpPr>
        <p:grpSpPr>
          <a:xfrm>
            <a:off x="762120" y="4354560"/>
            <a:ext cx="2007720" cy="1741320"/>
            <a:chOff x="762120" y="4354560"/>
            <a:chExt cx="2007720" cy="1741320"/>
          </a:xfrm>
        </p:grpSpPr>
        <p:sp>
          <p:nvSpPr>
            <p:cNvPr id="681" name=""/>
            <p:cNvSpPr/>
            <p:nvPr/>
          </p:nvSpPr>
          <p:spPr>
            <a:xfrm>
              <a:off x="762120" y="6095880"/>
              <a:ext cx="4183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1598760" y="4490280"/>
              <a:ext cx="334800" cy="13212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1933920" y="4354560"/>
              <a:ext cx="835920" cy="27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762480" y="5415840"/>
              <a:ext cx="835920" cy="67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2338560" y="4357800"/>
            <a:ext cx="60948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762120" y="2819520"/>
            <a:ext cx="4038120" cy="3276360"/>
            <a:chOff x="762120" y="2819520"/>
            <a:chExt cx="4038120" cy="3276360"/>
          </a:xfrm>
        </p:grpSpPr>
        <p:grpSp>
          <p:nvGrpSpPr>
            <p:cNvPr id="687" name=""/>
            <p:cNvGrpSpPr/>
            <p:nvPr/>
          </p:nvGrpSpPr>
          <p:grpSpPr>
            <a:xfrm>
              <a:off x="762120" y="4448160"/>
              <a:ext cx="2189520" cy="1647720"/>
              <a:chOff x="762120" y="4448160"/>
              <a:chExt cx="2189520" cy="1647720"/>
            </a:xfrm>
          </p:grpSpPr>
          <p:sp>
            <p:nvSpPr>
              <p:cNvPr id="688" name=""/>
              <p:cNvSpPr/>
              <p:nvPr/>
            </p:nvSpPr>
            <p:spPr>
              <a:xfrm>
                <a:off x="762120" y="6095880"/>
                <a:ext cx="45612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1674720" y="4576320"/>
                <a:ext cx="365400" cy="12502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2040120" y="4448160"/>
                <a:ext cx="911520" cy="25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762480" y="5452200"/>
                <a:ext cx="911520" cy="64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609280" y="2819520"/>
              <a:ext cx="2190960" cy="1632240"/>
              <a:chOff x="2609280" y="2819520"/>
              <a:chExt cx="2190960" cy="1632240"/>
            </a:xfrm>
          </p:grpSpPr>
          <p:sp>
            <p:nvSpPr>
              <p:cNvPr id="693" name=""/>
              <p:cNvSpPr/>
              <p:nvPr/>
            </p:nvSpPr>
            <p:spPr>
              <a:xfrm>
                <a:off x="4343760" y="2819520"/>
                <a:ext cx="45648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2609280" y="4194720"/>
                <a:ext cx="912240" cy="25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3521880" y="3072240"/>
                <a:ext cx="365400" cy="125136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 rot="10800000">
                <a:off x="3887640" y="2820600"/>
                <a:ext cx="912240" cy="64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2478240" y="4454640"/>
              <a:ext cx="6094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vt for first wave switc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525040" y="2625840"/>
            <a:ext cx="2275560" cy="1727640"/>
            <a:chOff x="2525040" y="2625840"/>
            <a:chExt cx="2275560" cy="1727640"/>
          </a:xfrm>
        </p:grpSpPr>
        <p:grpSp>
          <p:nvGrpSpPr>
            <p:cNvPr id="700" name=""/>
            <p:cNvGrpSpPr/>
            <p:nvPr/>
          </p:nvGrpSpPr>
          <p:grpSpPr>
            <a:xfrm>
              <a:off x="2525040" y="2630520"/>
              <a:ext cx="1972080" cy="1722960"/>
              <a:chOff x="2525040" y="2630520"/>
              <a:chExt cx="1972080" cy="1722960"/>
            </a:xfrm>
          </p:grpSpPr>
          <p:sp>
            <p:nvSpPr>
              <p:cNvPr id="701" name=""/>
              <p:cNvSpPr/>
              <p:nvPr/>
            </p:nvSpPr>
            <p:spPr>
              <a:xfrm>
                <a:off x="4086360" y="2630520"/>
                <a:ext cx="41076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525040" y="4082040"/>
                <a:ext cx="820800" cy="27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346200" y="2896920"/>
                <a:ext cx="328680" cy="132084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 rot="10800000">
                <a:off x="3675240" y="2631600"/>
                <a:ext cx="820800" cy="68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4495680" y="2625840"/>
              <a:ext cx="3049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762120" y="2438280"/>
            <a:ext cx="4038480" cy="3657600"/>
            <a:chOff x="762120" y="2438280"/>
            <a:chExt cx="4038480" cy="3657600"/>
          </a:xfrm>
        </p:grpSpPr>
        <p:grpSp>
          <p:nvGrpSpPr>
            <p:cNvPr id="707" name=""/>
            <p:cNvGrpSpPr/>
            <p:nvPr/>
          </p:nvGrpSpPr>
          <p:grpSpPr>
            <a:xfrm>
              <a:off x="762120" y="2438280"/>
              <a:ext cx="3504960" cy="3657600"/>
              <a:chOff x="762120" y="2438280"/>
              <a:chExt cx="3504960" cy="3657600"/>
            </a:xfrm>
          </p:grpSpPr>
          <p:grpSp>
            <p:nvGrpSpPr>
              <p:cNvPr id="708" name=""/>
              <p:cNvGrpSpPr/>
              <p:nvPr/>
            </p:nvGrpSpPr>
            <p:grpSpPr>
              <a:xfrm>
                <a:off x="762120" y="4265640"/>
                <a:ext cx="1827720" cy="1830240"/>
                <a:chOff x="762120" y="4265640"/>
                <a:chExt cx="1827720" cy="183024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762120" y="609588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-72000" bIns="-72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1523880" y="4408560"/>
                  <a:ext cx="304920" cy="138888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flipH="1">
                  <a:off x="1828800" y="4265640"/>
                  <a:ext cx="761040" cy="285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72000" bIns="72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V="1">
                  <a:off x="762480" y="5380920"/>
                  <a:ext cx="761040" cy="71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72000" bIns="72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3" name=""/>
              <p:cNvSpPr/>
              <p:nvPr/>
            </p:nvSpPr>
            <p:spPr>
              <a:xfrm>
                <a:off x="2209680" y="4260960"/>
                <a:ext cx="6098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4" name=""/>
              <p:cNvGrpSpPr/>
              <p:nvPr/>
            </p:nvGrpSpPr>
            <p:grpSpPr>
              <a:xfrm>
                <a:off x="2439000" y="2438280"/>
                <a:ext cx="1828080" cy="1814040"/>
                <a:chOff x="2439000" y="2438280"/>
                <a:chExt cx="1828080" cy="1814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886200" y="243828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-72000" bIns="-72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flipV="1">
                  <a:off x="2439000" y="3966480"/>
                  <a:ext cx="761040" cy="285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72000" bIns="72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V="1">
                  <a:off x="3200400" y="2719080"/>
                  <a:ext cx="304920" cy="139068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V="1" rot="10800000">
                  <a:off x="3505680" y="2439720"/>
                  <a:ext cx="761040" cy="716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72000" bIns="72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9" name=""/>
            <p:cNvSpPr/>
            <p:nvPr/>
          </p:nvSpPr>
          <p:spPr>
            <a:xfrm>
              <a:off x="4267080" y="2438280"/>
              <a:ext cx="533520" cy="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762120" y="2266920"/>
            <a:ext cx="4038480" cy="3828600"/>
            <a:chOff x="762120" y="2266920"/>
            <a:chExt cx="4038480" cy="3828600"/>
          </a:xfrm>
        </p:grpSpPr>
        <p:grpSp>
          <p:nvGrpSpPr>
            <p:cNvPr id="721" name=""/>
            <p:cNvGrpSpPr/>
            <p:nvPr/>
          </p:nvGrpSpPr>
          <p:grpSpPr>
            <a:xfrm>
              <a:off x="762120" y="2266920"/>
              <a:ext cx="3207960" cy="3828600"/>
              <a:chOff x="762120" y="2266920"/>
              <a:chExt cx="3207960" cy="3828600"/>
            </a:xfrm>
          </p:grpSpPr>
          <p:grpSp>
            <p:nvGrpSpPr>
              <p:cNvPr id="722" name=""/>
              <p:cNvGrpSpPr/>
              <p:nvPr/>
            </p:nvGrpSpPr>
            <p:grpSpPr>
              <a:xfrm>
                <a:off x="762120" y="4173480"/>
                <a:ext cx="1644840" cy="1922040"/>
                <a:chOff x="762120" y="4173480"/>
                <a:chExt cx="1644840" cy="192204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762120" y="6095520"/>
                  <a:ext cx="342720" cy="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-72000" bIns="-72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V="1">
                  <a:off x="1447920" y="4323240"/>
                  <a:ext cx="274320" cy="145872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flipH="1">
                  <a:off x="1722240" y="4173480"/>
                  <a:ext cx="684720" cy="29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72000" bIns="72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V="1">
                  <a:off x="762480" y="5345280"/>
                  <a:ext cx="684720" cy="74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72000" bIns="72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2324520" y="2266920"/>
                <a:ext cx="1645560" cy="1902240"/>
                <a:chOff x="2324520" y="2266920"/>
                <a:chExt cx="1645560" cy="190224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3627360" y="2266920"/>
                  <a:ext cx="342720" cy="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-72000" bIns="-72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flipV="1">
                  <a:off x="2324520" y="3869640"/>
                  <a:ext cx="684720" cy="29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72000" bIns="72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V="1">
                  <a:off x="3009600" y="2561400"/>
                  <a:ext cx="274320" cy="145836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V="1" rot="10800000">
                  <a:off x="3284640" y="2268360"/>
                  <a:ext cx="684720" cy="75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72000" bIns="72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2" name=""/>
              <p:cNvSpPr/>
              <p:nvPr/>
            </p:nvSpPr>
            <p:spPr>
              <a:xfrm>
                <a:off x="2057400" y="4173480"/>
                <a:ext cx="60948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3" name=""/>
            <p:cNvSpPr/>
            <p:nvPr/>
          </p:nvSpPr>
          <p:spPr>
            <a:xfrm>
              <a:off x="3962520" y="2266920"/>
              <a:ext cx="8380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762120" y="2093760"/>
            <a:ext cx="4038480" cy="4001760"/>
            <a:chOff x="762120" y="2093760"/>
            <a:chExt cx="4038480" cy="4001760"/>
          </a:xfrm>
        </p:grpSpPr>
        <p:grpSp>
          <p:nvGrpSpPr>
            <p:cNvPr id="735" name=""/>
            <p:cNvGrpSpPr/>
            <p:nvPr/>
          </p:nvGrpSpPr>
          <p:grpSpPr>
            <a:xfrm>
              <a:off x="762120" y="2093760"/>
              <a:ext cx="2911320" cy="4001760"/>
              <a:chOff x="762120" y="2093760"/>
              <a:chExt cx="2911320" cy="400176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762120" y="4079880"/>
                <a:ext cx="1463040" cy="2015640"/>
                <a:chOff x="762120" y="4079880"/>
                <a:chExt cx="1463040" cy="201564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62120" y="609552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-72000" bIns="-72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V="1">
                  <a:off x="1371960" y="4236840"/>
                  <a:ext cx="244080" cy="1529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H="1">
                  <a:off x="1616040" y="4079880"/>
                  <a:ext cx="609120" cy="31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72000" bIns="72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V="1">
                  <a:off x="762480" y="5308560"/>
                  <a:ext cx="609120" cy="785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72000" bIns="72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210040" y="2093760"/>
                <a:ext cx="1463400" cy="1992960"/>
                <a:chOff x="2210040" y="2093760"/>
                <a:chExt cx="1463400" cy="199296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368520" y="209376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-72000" bIns="-72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V="1">
                  <a:off x="2210040" y="3772800"/>
                  <a:ext cx="609120" cy="31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72000" bIns="72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flipV="1">
                  <a:off x="2819520" y="2402640"/>
                  <a:ext cx="244080" cy="1527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flipV="1" rot="10800000">
                  <a:off x="3063600" y="2095200"/>
                  <a:ext cx="609120" cy="78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72000" bIns="72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6" name=""/>
              <p:cNvSpPr/>
              <p:nvPr/>
            </p:nvSpPr>
            <p:spPr>
              <a:xfrm>
                <a:off x="1905120" y="4084560"/>
                <a:ext cx="609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3657600" y="209376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72000" bIns="-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758880" y="6016680"/>
            <a:ext cx="7619760" cy="228600"/>
            <a:chOff x="758880" y="6016680"/>
            <a:chExt cx="7619760" cy="228600"/>
          </a:xfrm>
        </p:grpSpPr>
        <p:grpSp>
          <p:nvGrpSpPr>
            <p:cNvPr id="749" name=""/>
            <p:cNvGrpSpPr/>
            <p:nvPr/>
          </p:nvGrpSpPr>
          <p:grpSpPr>
            <a:xfrm>
              <a:off x="758880" y="6016680"/>
              <a:ext cx="7619760" cy="228600"/>
              <a:chOff x="758880" y="6016680"/>
              <a:chExt cx="7619760" cy="228600"/>
            </a:xfrm>
          </p:grpSpPr>
          <p:sp>
            <p:nvSpPr>
              <p:cNvPr id="750" name=""/>
              <p:cNvSpPr/>
              <p:nvPr/>
            </p:nvSpPr>
            <p:spPr>
              <a:xfrm>
                <a:off x="758880" y="6093000"/>
                <a:ext cx="761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58880" y="6016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568760" y="6016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378640" y="6016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2282760" y="6016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806640" y="6016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30880" y="6016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54760" y="6016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044880" y="6016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2640" y="6016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520640" y="6016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616880" y="6016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650880" y="992160"/>
            <a:ext cx="228240" cy="5105520"/>
            <a:chOff x="650880" y="992160"/>
            <a:chExt cx="228240" cy="5105520"/>
          </a:xfrm>
        </p:grpSpPr>
        <p:grpSp>
          <p:nvGrpSpPr>
            <p:cNvPr id="763" name=""/>
            <p:cNvGrpSpPr/>
            <p:nvPr/>
          </p:nvGrpSpPr>
          <p:grpSpPr>
            <a:xfrm>
              <a:off x="707760" y="992160"/>
              <a:ext cx="171360" cy="5105520"/>
              <a:chOff x="707760" y="992160"/>
              <a:chExt cx="171360" cy="5105520"/>
            </a:xfrm>
          </p:grpSpPr>
          <p:sp>
            <p:nvSpPr>
              <p:cNvPr id="764" name=""/>
              <p:cNvSpPr/>
              <p:nvPr/>
            </p:nvSpPr>
            <p:spPr>
              <a:xfrm flipV="1">
                <a:off x="765000" y="992160"/>
                <a:ext cx="0" cy="510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07760" y="3544920"/>
                <a:ext cx="17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07760" y="992160"/>
                <a:ext cx="17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07760" y="6097680"/>
                <a:ext cx="17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650880" y="163008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0880" y="226836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0880" y="290664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50880" y="418320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50880" y="545940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50880" y="482112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762120" y="525780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62120" y="441972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4800240" y="2057040"/>
            <a:ext cx="762120" cy="1714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4800240" y="2209680"/>
            <a:ext cx="685800" cy="1905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4723920" y="2438280"/>
            <a:ext cx="762120" cy="22860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4419360" y="2590920"/>
            <a:ext cx="1066680" cy="25905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 flipV="1">
            <a:off x="4114440" y="2819160"/>
            <a:ext cx="1219320" cy="281916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257800" y="3124080"/>
            <a:ext cx="3615480" cy="2728080"/>
            <a:chOff x="5257800" y="3124080"/>
            <a:chExt cx="3615480" cy="2728080"/>
          </a:xfrm>
        </p:grpSpPr>
        <p:sp>
          <p:nvSpPr>
            <p:cNvPr id="782" name=""/>
            <p:cNvSpPr/>
            <p:nvPr/>
          </p:nvSpPr>
          <p:spPr>
            <a:xfrm>
              <a:off x="5713920" y="3124080"/>
              <a:ext cx="3159360" cy="272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Vcc(V)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Temp(°C) 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.6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stro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.45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0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stro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.3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50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ty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.15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wea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weak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5257800" y="3747960"/>
              <a:ext cx="380880" cy="1910880"/>
              <a:chOff x="5257800" y="3747960"/>
              <a:chExt cx="380880" cy="1910880"/>
            </a:xfrm>
          </p:grpSpPr>
          <p:sp>
            <p:nvSpPr>
              <p:cNvPr id="784" name=""/>
              <p:cNvSpPr/>
              <p:nvPr/>
            </p:nvSpPr>
            <p:spPr>
              <a:xfrm>
                <a:off x="5257800" y="5185800"/>
                <a:ext cx="38088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257800" y="5658840"/>
                <a:ext cx="38088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257800" y="4700880"/>
                <a:ext cx="38088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257800" y="4174200"/>
                <a:ext cx="38088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57800" y="37479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-72000" bIns="-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9" name=""/>
          <p:cNvSpPr/>
          <p:nvPr/>
        </p:nvSpPr>
        <p:spPr>
          <a:xfrm>
            <a:off x="109080" y="5038560"/>
            <a:ext cx="6537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n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6240" y="3962520"/>
            <a:ext cx="6962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319160" y="5754600"/>
            <a:ext cx="14140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ime  / ns 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150840" y="1073880"/>
            <a:ext cx="653760" cy="776520"/>
            <a:chOff x="150840" y="1073880"/>
            <a:chExt cx="653760" cy="776520"/>
          </a:xfrm>
        </p:grpSpPr>
        <p:sp>
          <p:nvSpPr>
            <p:cNvPr id="793" name=""/>
            <p:cNvSpPr/>
            <p:nvPr/>
          </p:nvSpPr>
          <p:spPr>
            <a:xfrm>
              <a:off x="150840" y="1431720"/>
              <a:ext cx="653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U / 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6200000">
              <a:off x="239760" y="1051200"/>
              <a:ext cx="3733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982440" y="1152360"/>
            <a:ext cx="45032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 min-model class 8 does not pa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rst-wave-switch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057400" y="3962520"/>
            <a:ext cx="1828800" cy="990360"/>
          </a:xfrm>
          <a:prstGeom prst="irregularSeal1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030720" y="152280"/>
            <a:ext cx="2914920" cy="803520"/>
            <a:chOff x="6030720" y="152280"/>
            <a:chExt cx="2914920" cy="803520"/>
          </a:xfrm>
        </p:grpSpPr>
        <p:sp>
          <p:nvSpPr>
            <p:cNvPr id="798" name=""/>
            <p:cNvSpPr/>
            <p:nvPr/>
          </p:nvSpPr>
          <p:spPr>
            <a:xfrm>
              <a:off x="6030720" y="152280"/>
              <a:ext cx="291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Process Voltage Temoper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7388280" y="456840"/>
              <a:ext cx="311040" cy="498960"/>
              <a:chOff x="7388280" y="456840"/>
              <a:chExt cx="311040" cy="498960"/>
            </a:xfrm>
          </p:grpSpPr>
          <p:sp>
            <p:nvSpPr>
              <p:cNvPr id="800" name=""/>
              <p:cNvSpPr/>
              <p:nvPr/>
            </p:nvSpPr>
            <p:spPr>
              <a:xfrm>
                <a:off x="745056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48152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54416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38828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12480" y="87372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57512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3740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497000" y="58104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7512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45056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512840" y="72828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4196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543800" y="65484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48152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4" name=""/>
              <p:cNvGrpSpPr/>
              <p:nvPr/>
            </p:nvGrpSpPr>
            <p:grpSpPr>
              <a:xfrm>
                <a:off x="7495200" y="653760"/>
                <a:ext cx="96480" cy="302040"/>
                <a:chOff x="7495200" y="653760"/>
                <a:chExt cx="96480" cy="30204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7512480" y="65376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510680" y="67896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7509240" y="70308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7507440" y="72792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7506000" y="75276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7504560" y="77832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7502760" y="80352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7501320" y="82836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499880" y="85392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498080" y="88056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7496640" y="90540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7495200" y="93060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7" name=""/>
              <p:cNvSpPr/>
              <p:nvPr/>
            </p:nvSpPr>
            <p:spPr>
              <a:xfrm rot="16200000">
                <a:off x="7481520" y="48636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8" name=""/>
              <p:cNvGrpSpPr/>
              <p:nvPr/>
            </p:nvGrpSpPr>
            <p:grpSpPr>
              <a:xfrm>
                <a:off x="7533720" y="606600"/>
                <a:ext cx="19800" cy="46800"/>
                <a:chOff x="7533720" y="606600"/>
                <a:chExt cx="19800" cy="46800"/>
              </a:xfrm>
            </p:grpSpPr>
            <p:grpSp>
              <p:nvGrpSpPr>
                <p:cNvPr id="829" name=""/>
                <p:cNvGrpSpPr/>
                <p:nvPr/>
              </p:nvGrpSpPr>
              <p:grpSpPr>
                <a:xfrm>
                  <a:off x="7533720" y="606600"/>
                  <a:ext cx="19800" cy="46800"/>
                  <a:chOff x="7533720" y="606600"/>
                  <a:chExt cx="19800" cy="46800"/>
                </a:xfrm>
              </p:grpSpPr>
              <p:sp>
                <p:nvSpPr>
                  <p:cNvPr id="830" name=""/>
                  <p:cNvSpPr/>
                  <p:nvPr/>
                </p:nvSpPr>
                <p:spPr>
                  <a:xfrm>
                    <a:off x="753372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755352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7533720" y="60660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3" name=""/>
                <p:cNvSpPr/>
                <p:nvPr/>
              </p:nvSpPr>
              <p:spPr>
                <a:xfrm>
                  <a:off x="7535160" y="60912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4" name=""/>
              <p:cNvSpPr/>
              <p:nvPr/>
            </p:nvSpPr>
            <p:spPr>
              <a:xfrm>
                <a:off x="76060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VT for HCMOS  and SST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682520" y="2695680"/>
            <a:ext cx="4198320" cy="19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ample 2 SSTL2 / DD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DR200-333 : Vcc :  2.3V  -  2.7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DR400        :  Vcc :  2.5V  -  2.7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45800" y="1152360"/>
            <a:ext cx="423792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CMOS         :   Vcc :  2.0V  -  6.0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VCMOS       :   Vcc :  1.0V  -  5.5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STL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:   Vcc:   2.3V  -  2.7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49760" y="2695680"/>
            <a:ext cx="3751920" cy="28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ample 1 LVCMO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cctyp :  1.2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LVCMOS1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5V      LVCMOS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3V      LVCMOS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.0V      LVCMOS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45440" y="5118120"/>
            <a:ext cx="33588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me vendors supply thes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O-models for logic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6030720" y="152280"/>
            <a:ext cx="2914920" cy="803520"/>
            <a:chOff x="6030720" y="152280"/>
            <a:chExt cx="2914920" cy="803520"/>
          </a:xfrm>
        </p:grpSpPr>
        <p:sp>
          <p:nvSpPr>
            <p:cNvPr id="841" name=""/>
            <p:cNvSpPr/>
            <p:nvPr/>
          </p:nvSpPr>
          <p:spPr>
            <a:xfrm>
              <a:off x="6030720" y="152280"/>
              <a:ext cx="291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Process Voltage Temoper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7388280" y="456840"/>
              <a:ext cx="311040" cy="498960"/>
              <a:chOff x="7388280" y="456840"/>
              <a:chExt cx="311040" cy="498960"/>
            </a:xfrm>
          </p:grpSpPr>
          <p:sp>
            <p:nvSpPr>
              <p:cNvPr id="843" name=""/>
              <p:cNvSpPr/>
              <p:nvPr/>
            </p:nvSpPr>
            <p:spPr>
              <a:xfrm>
                <a:off x="745056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48152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54416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38828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512480" y="87372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7512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3740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497000" y="58104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57512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45056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512840" y="72828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4196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543800" y="654840"/>
                <a:ext cx="6228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48152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7" name=""/>
              <p:cNvGrpSpPr/>
              <p:nvPr/>
            </p:nvGrpSpPr>
            <p:grpSpPr>
              <a:xfrm>
                <a:off x="7495200" y="653760"/>
                <a:ext cx="96480" cy="302040"/>
                <a:chOff x="7495200" y="653760"/>
                <a:chExt cx="96480" cy="30204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7512480" y="65376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7510680" y="67896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7509240" y="70308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7507440" y="72792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7506000" y="75276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504560" y="77832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502760" y="80352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7501320" y="82836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7499880" y="85392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7498080" y="88056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7496640" y="90540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7495200" y="93060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0" name=""/>
              <p:cNvSpPr/>
              <p:nvPr/>
            </p:nvSpPr>
            <p:spPr>
              <a:xfrm rot="16200000">
                <a:off x="7481520" y="486360"/>
                <a:ext cx="124200" cy="6516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1" name=""/>
              <p:cNvGrpSpPr/>
              <p:nvPr/>
            </p:nvGrpSpPr>
            <p:grpSpPr>
              <a:xfrm>
                <a:off x="7533720" y="606600"/>
                <a:ext cx="19800" cy="46800"/>
                <a:chOff x="7533720" y="606600"/>
                <a:chExt cx="19800" cy="46800"/>
              </a:xfrm>
            </p:grpSpPr>
            <p:grpSp>
              <p:nvGrpSpPr>
                <p:cNvPr id="872" name=""/>
                <p:cNvGrpSpPr/>
                <p:nvPr/>
              </p:nvGrpSpPr>
              <p:grpSpPr>
                <a:xfrm>
                  <a:off x="7533720" y="606600"/>
                  <a:ext cx="19800" cy="46800"/>
                  <a:chOff x="7533720" y="606600"/>
                  <a:chExt cx="19800" cy="4680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753372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755352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7533720" y="606600"/>
                    <a:ext cx="19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6" name=""/>
                <p:cNvSpPr/>
                <p:nvPr/>
              </p:nvSpPr>
              <p:spPr>
                <a:xfrm>
                  <a:off x="7535160" y="609120"/>
                  <a:ext cx="1692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7" name=""/>
              <p:cNvSpPr/>
              <p:nvPr/>
            </p:nvSpPr>
            <p:spPr>
              <a:xfrm>
                <a:off x="76060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42120" y="1066680"/>
            <a:ext cx="1973520" cy="22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BIS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June 199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-I-cur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-com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47920" y="1066680"/>
            <a:ext cx="228600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BIS 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Dec 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-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sink/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veforms (rise/fa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ckag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in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505320" y="1066680"/>
            <a:ext cx="22683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BIS 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ug  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sh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nh / Vin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b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yn. cla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us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iver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ckage with Z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mm-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580000" y="1066680"/>
            <a:ext cx="226872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BIS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July  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eiv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thresh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slew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nh/l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ac-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b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 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180200" y="1066680"/>
            <a:ext cx="19638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BIS 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Jan 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ternal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keley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Sp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HDL- 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505320" y="1066680"/>
            <a:ext cx="0" cy="502920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638680" y="1066680"/>
            <a:ext cx="0" cy="502920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238880" y="1066680"/>
            <a:ext cx="0" cy="502920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447920" y="1066680"/>
            <a:ext cx="0" cy="502920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story of ‚important‘ IBIS keywords/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5921280" y="152280"/>
            <a:ext cx="3210480" cy="803520"/>
            <a:chOff x="5921280" y="152280"/>
            <a:chExt cx="3210480" cy="803520"/>
          </a:xfrm>
        </p:grpSpPr>
        <p:sp>
          <p:nvSpPr>
            <p:cNvPr id="889" name=""/>
            <p:cNvSpPr/>
            <p:nvPr/>
          </p:nvSpPr>
          <p:spPr>
            <a:xfrm>
              <a:off x="5921280" y="152280"/>
              <a:ext cx="321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Model keywords and paramer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0" name=""/>
            <p:cNvGrpSpPr/>
            <p:nvPr/>
          </p:nvGrpSpPr>
          <p:grpSpPr>
            <a:xfrm>
              <a:off x="7311960" y="456840"/>
              <a:ext cx="310680" cy="498960"/>
              <a:chOff x="7311960" y="456840"/>
              <a:chExt cx="310680" cy="498960"/>
            </a:xfrm>
          </p:grpSpPr>
          <p:sp>
            <p:nvSpPr>
              <p:cNvPr id="891" name=""/>
              <p:cNvSpPr/>
              <p:nvPr/>
            </p:nvSpPr>
            <p:spPr>
              <a:xfrm>
                <a:off x="737424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4052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4674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31196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436160" y="87372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49844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56072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420680" y="58104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49880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37424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436520" y="728280"/>
                <a:ext cx="6192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3432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46748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40520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5" name=""/>
              <p:cNvGrpSpPr/>
              <p:nvPr/>
            </p:nvGrpSpPr>
            <p:grpSpPr>
              <a:xfrm>
                <a:off x="7418880" y="653760"/>
                <a:ext cx="96480" cy="302040"/>
                <a:chOff x="7418880" y="653760"/>
                <a:chExt cx="96480" cy="30204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7436160" y="65376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7434360" y="67896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7432920" y="70308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7431120" y="72792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7429680" y="75276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7428240" y="77832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7426440" y="80352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7425000" y="82836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7423560" y="85392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7421760" y="88056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7420320" y="90540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7418880" y="93060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8" name=""/>
              <p:cNvSpPr/>
              <p:nvPr/>
            </p:nvSpPr>
            <p:spPr>
              <a:xfrm rot="16200000">
                <a:off x="7404840" y="486360"/>
                <a:ext cx="124200" cy="6480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7457400" y="606600"/>
                <a:ext cx="19440" cy="46800"/>
                <a:chOff x="7457400" y="606600"/>
                <a:chExt cx="19440" cy="46800"/>
              </a:xfrm>
            </p:grpSpPr>
            <p:grpSp>
              <p:nvGrpSpPr>
                <p:cNvPr id="920" name=""/>
                <p:cNvGrpSpPr/>
                <p:nvPr/>
              </p:nvGrpSpPr>
              <p:grpSpPr>
                <a:xfrm>
                  <a:off x="7457400" y="606600"/>
                  <a:ext cx="19440" cy="46800"/>
                  <a:chOff x="7457400" y="606600"/>
                  <a:chExt cx="19440" cy="4680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>
                    <a:off x="745740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747684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7457400" y="606600"/>
                    <a:ext cx="19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4" name=""/>
                <p:cNvSpPr/>
                <p:nvPr/>
              </p:nvSpPr>
              <p:spPr>
                <a:xfrm>
                  <a:off x="7458840" y="609120"/>
                  <a:ext cx="1656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5" name=""/>
              <p:cNvSpPr/>
              <p:nvPr/>
            </p:nvSpPr>
            <p:spPr>
              <a:xfrm>
                <a:off x="75294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6" name=""/>
          <p:cNvGrpSpPr/>
          <p:nvPr/>
        </p:nvGrpSpPr>
        <p:grpSpPr>
          <a:xfrm>
            <a:off x="42120" y="1066680"/>
            <a:ext cx="9101880" cy="5030640"/>
            <a:chOff x="42120" y="1066680"/>
            <a:chExt cx="9101880" cy="5030640"/>
          </a:xfrm>
        </p:grpSpPr>
        <p:sp>
          <p:nvSpPr>
            <p:cNvPr id="927" name=""/>
            <p:cNvSpPr/>
            <p:nvPr/>
          </p:nvSpPr>
          <p:spPr>
            <a:xfrm>
              <a:off x="42120" y="1066680"/>
              <a:ext cx="1973520" cy="22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BIS 1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June 199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Ra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V-I-cur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-comp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447920" y="1066680"/>
              <a:ext cx="2286000" cy="42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BIS 2.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Dec 199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Model-typ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Open-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sink/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Waveforms (rise/fal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ackage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in mapp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505320" y="1066680"/>
              <a:ext cx="2268360" cy="50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BIS 3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Aug  199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Modelsp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Oversh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Vinh / Vin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ub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yn. cla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busho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river sched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ackage with Z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imm-modu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80000" y="1066680"/>
              <a:ext cx="2268720" cy="37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BIS 4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July  20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Receiver 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threshol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Tslew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Vinh/l 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ac-d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ub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all b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80200" y="1066680"/>
              <a:ext cx="1963800" cy="31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BIS 4.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Jan  200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xternal 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mod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Berkeley 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Sp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VHDL-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A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505320" y="1066680"/>
              <a:ext cx="0" cy="50292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638680" y="1066680"/>
              <a:ext cx="0" cy="50292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238880" y="1066680"/>
              <a:ext cx="0" cy="50292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447920" y="1066680"/>
              <a:ext cx="0" cy="50292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pport of ‚important‘ IBIS keywords/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76320" y="1905120"/>
            <a:ext cx="3276360" cy="1714320"/>
            <a:chOff x="76320" y="1905120"/>
            <a:chExt cx="3276360" cy="1714320"/>
          </a:xfrm>
        </p:grpSpPr>
        <p:sp>
          <p:nvSpPr>
            <p:cNvPr id="938" name=""/>
            <p:cNvSpPr/>
            <p:nvPr/>
          </p:nvSpPr>
          <p:spPr>
            <a:xfrm>
              <a:off x="76320" y="2819520"/>
              <a:ext cx="1371600" cy="431640"/>
            </a:xfrm>
            <a:prstGeom prst="rect">
              <a:avLst/>
            </a:prstGeom>
            <a:solidFill>
              <a:srgbClr val="66f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6320" y="1905120"/>
              <a:ext cx="1371600" cy="431640"/>
            </a:xfrm>
            <a:prstGeom prst="rect">
              <a:avLst/>
            </a:prstGeom>
            <a:solidFill>
              <a:srgbClr val="66f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6320" y="2438280"/>
              <a:ext cx="1371600" cy="432000"/>
            </a:xfrm>
            <a:prstGeom prst="rect">
              <a:avLst/>
            </a:prstGeom>
            <a:solidFill>
              <a:srgbClr val="66f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447920" y="3086280"/>
              <a:ext cx="1904760" cy="533160"/>
            </a:xfrm>
            <a:prstGeom prst="rect">
              <a:avLst/>
            </a:prstGeom>
            <a:solidFill>
              <a:srgbClr val="66f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1371240" y="3733920"/>
            <a:ext cx="4267440" cy="2400120"/>
            <a:chOff x="1371240" y="3733920"/>
            <a:chExt cx="4267440" cy="2400120"/>
          </a:xfrm>
        </p:grpSpPr>
        <p:grpSp>
          <p:nvGrpSpPr>
            <p:cNvPr id="943" name=""/>
            <p:cNvGrpSpPr/>
            <p:nvPr/>
          </p:nvGrpSpPr>
          <p:grpSpPr>
            <a:xfrm>
              <a:off x="1371240" y="3733920"/>
              <a:ext cx="2057760" cy="647280"/>
              <a:chOff x="1371240" y="3733920"/>
              <a:chExt cx="2057760" cy="647280"/>
            </a:xfrm>
          </p:grpSpPr>
          <p:sp>
            <p:nvSpPr>
              <p:cNvPr id="944" name=""/>
              <p:cNvSpPr/>
              <p:nvPr/>
            </p:nvSpPr>
            <p:spPr>
              <a:xfrm>
                <a:off x="1447560" y="3733920"/>
                <a:ext cx="1981440" cy="647280"/>
              </a:xfrm>
              <a:prstGeom prst="rtTriangle">
                <a:avLst/>
              </a:prstGeom>
              <a:solidFill>
                <a:srgbClr val="66ff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0800000">
                <a:off x="1371240" y="3733920"/>
                <a:ext cx="1981080" cy="647280"/>
              </a:xfrm>
              <a:prstGeom prst="rtTriangl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3428640" y="5600520"/>
              <a:ext cx="2210040" cy="533520"/>
              <a:chOff x="3428640" y="5600520"/>
              <a:chExt cx="2210040" cy="533520"/>
            </a:xfrm>
          </p:grpSpPr>
          <p:sp>
            <p:nvSpPr>
              <p:cNvPr id="947" name=""/>
              <p:cNvSpPr/>
              <p:nvPr/>
            </p:nvSpPr>
            <p:spPr>
              <a:xfrm>
                <a:off x="3511440" y="5600880"/>
                <a:ext cx="2127240" cy="533160"/>
              </a:xfrm>
              <a:prstGeom prst="rtTriangle">
                <a:avLst/>
              </a:prstGeom>
              <a:solidFill>
                <a:srgbClr val="66ff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0800000">
                <a:off x="3428640" y="5600520"/>
                <a:ext cx="2127240" cy="533160"/>
              </a:xfrm>
              <a:prstGeom prst="rtTriangl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9" name=""/>
          <p:cNvGrpSpPr/>
          <p:nvPr/>
        </p:nvGrpSpPr>
        <p:grpSpPr>
          <a:xfrm>
            <a:off x="1371240" y="1904760"/>
            <a:ext cx="4267080" cy="3810240"/>
            <a:chOff x="1371240" y="1904760"/>
            <a:chExt cx="4267080" cy="3810240"/>
          </a:xfrm>
        </p:grpSpPr>
        <p:grpSp>
          <p:nvGrpSpPr>
            <p:cNvPr id="950" name=""/>
            <p:cNvGrpSpPr/>
            <p:nvPr/>
          </p:nvGrpSpPr>
          <p:grpSpPr>
            <a:xfrm>
              <a:off x="1371600" y="2437920"/>
              <a:ext cx="2057400" cy="648000"/>
              <a:chOff x="1371600" y="2437920"/>
              <a:chExt cx="2057400" cy="648000"/>
            </a:xfrm>
          </p:grpSpPr>
          <p:sp>
            <p:nvSpPr>
              <p:cNvPr id="951" name=""/>
              <p:cNvSpPr/>
              <p:nvPr/>
            </p:nvSpPr>
            <p:spPr>
              <a:xfrm>
                <a:off x="1447920" y="2438280"/>
                <a:ext cx="1981080" cy="647640"/>
              </a:xfrm>
              <a:prstGeom prst="rtTriangle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0800000">
                <a:off x="1371600" y="2437920"/>
                <a:ext cx="1981440" cy="647640"/>
              </a:xfrm>
              <a:prstGeom prst="rtTriangl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3429000" y="2361960"/>
              <a:ext cx="2057400" cy="432000"/>
              <a:chOff x="3429000" y="2361960"/>
              <a:chExt cx="2057400" cy="432000"/>
            </a:xfrm>
          </p:grpSpPr>
          <p:sp>
            <p:nvSpPr>
              <p:cNvPr id="954" name=""/>
              <p:cNvSpPr/>
              <p:nvPr/>
            </p:nvSpPr>
            <p:spPr>
              <a:xfrm>
                <a:off x="3505320" y="2362320"/>
                <a:ext cx="1981080" cy="431640"/>
              </a:xfrm>
              <a:prstGeom prst="rtTriangle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68040" bIns="68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10800000">
                <a:off x="3429000" y="2361960"/>
                <a:ext cx="1981440" cy="431640"/>
              </a:xfrm>
              <a:prstGeom prst="rtTriangl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68040" bIns="68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3429000" y="2895480"/>
              <a:ext cx="2057400" cy="432000"/>
              <a:chOff x="3429000" y="2895480"/>
              <a:chExt cx="2057400" cy="432000"/>
            </a:xfrm>
          </p:grpSpPr>
          <p:sp>
            <p:nvSpPr>
              <p:cNvPr id="957" name=""/>
              <p:cNvSpPr/>
              <p:nvPr/>
            </p:nvSpPr>
            <p:spPr>
              <a:xfrm>
                <a:off x="3505320" y="2895480"/>
                <a:ext cx="1981080" cy="432000"/>
              </a:xfrm>
              <a:prstGeom prst="rtTriangle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68040" bIns="68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0800000">
                <a:off x="3429000" y="2895480"/>
                <a:ext cx="1981440" cy="432000"/>
              </a:xfrm>
              <a:prstGeom prst="rtTriangl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68040" bIns="68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3428640" y="3733560"/>
              <a:ext cx="2209680" cy="432000"/>
              <a:chOff x="3428640" y="3733560"/>
              <a:chExt cx="2209680" cy="432000"/>
            </a:xfrm>
          </p:grpSpPr>
          <p:sp>
            <p:nvSpPr>
              <p:cNvPr id="960" name=""/>
              <p:cNvSpPr/>
              <p:nvPr/>
            </p:nvSpPr>
            <p:spPr>
              <a:xfrm>
                <a:off x="3510720" y="3733920"/>
                <a:ext cx="2127600" cy="431640"/>
              </a:xfrm>
              <a:prstGeom prst="rtTriangle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68040" bIns="68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10800000">
                <a:off x="3428640" y="3733560"/>
                <a:ext cx="2127960" cy="431640"/>
              </a:xfrm>
              <a:prstGeom prst="rtTriangl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68040" bIns="68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1371240" y="4343040"/>
              <a:ext cx="2209680" cy="432000"/>
              <a:chOff x="1371240" y="4343040"/>
              <a:chExt cx="2209680" cy="432000"/>
            </a:xfrm>
          </p:grpSpPr>
          <p:sp>
            <p:nvSpPr>
              <p:cNvPr id="963" name=""/>
              <p:cNvSpPr/>
              <p:nvPr/>
            </p:nvSpPr>
            <p:spPr>
              <a:xfrm>
                <a:off x="1453320" y="4343400"/>
                <a:ext cx="2127600" cy="431640"/>
              </a:xfrm>
              <a:prstGeom prst="rtTriangle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68040" bIns="68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10800000">
                <a:off x="1371240" y="4343040"/>
                <a:ext cx="2127960" cy="431640"/>
              </a:xfrm>
              <a:prstGeom prst="rtTriangl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68040" bIns="68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3429000" y="1904760"/>
              <a:ext cx="2057400" cy="432000"/>
              <a:chOff x="3429000" y="1904760"/>
              <a:chExt cx="2057400" cy="432000"/>
            </a:xfrm>
          </p:grpSpPr>
          <p:sp>
            <p:nvSpPr>
              <p:cNvPr id="966" name=""/>
              <p:cNvSpPr/>
              <p:nvPr/>
            </p:nvSpPr>
            <p:spPr>
              <a:xfrm>
                <a:off x="3505320" y="1905120"/>
                <a:ext cx="1981080" cy="431640"/>
              </a:xfrm>
              <a:prstGeom prst="rtTriangle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68040" bIns="68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10800000">
                <a:off x="3429000" y="1904760"/>
                <a:ext cx="1981440" cy="431640"/>
              </a:xfrm>
              <a:prstGeom prst="rtTriangl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68040" bIns="68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3428640" y="4647960"/>
              <a:ext cx="2209680" cy="432000"/>
              <a:chOff x="3428640" y="4647960"/>
              <a:chExt cx="2209680" cy="432000"/>
            </a:xfrm>
          </p:grpSpPr>
          <p:sp>
            <p:nvSpPr>
              <p:cNvPr id="969" name=""/>
              <p:cNvSpPr/>
              <p:nvPr/>
            </p:nvSpPr>
            <p:spPr>
              <a:xfrm>
                <a:off x="3510720" y="4648320"/>
                <a:ext cx="2127600" cy="431640"/>
              </a:xfrm>
              <a:prstGeom prst="rtTriangle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68040" bIns="68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10800000">
                <a:off x="3428640" y="4647960"/>
                <a:ext cx="2127960" cy="431640"/>
              </a:xfrm>
              <a:prstGeom prst="rtTriangl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68040" bIns="68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3428640" y="5181480"/>
              <a:ext cx="2209680" cy="533520"/>
              <a:chOff x="3428640" y="5181480"/>
              <a:chExt cx="2209680" cy="533520"/>
            </a:xfrm>
          </p:grpSpPr>
          <p:sp>
            <p:nvSpPr>
              <p:cNvPr id="972" name=""/>
              <p:cNvSpPr/>
              <p:nvPr/>
            </p:nvSpPr>
            <p:spPr>
              <a:xfrm>
                <a:off x="3510720" y="5181480"/>
                <a:ext cx="2127600" cy="533520"/>
              </a:xfrm>
              <a:prstGeom prst="rtTriangle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10800000">
                <a:off x="3428640" y="5181480"/>
                <a:ext cx="2127960" cy="533520"/>
              </a:xfrm>
              <a:prstGeom prst="rtTriangl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1371600" y="1904760"/>
              <a:ext cx="2057400" cy="432000"/>
              <a:chOff x="1371600" y="1904760"/>
              <a:chExt cx="2057400" cy="432000"/>
            </a:xfrm>
          </p:grpSpPr>
          <p:sp>
            <p:nvSpPr>
              <p:cNvPr id="975" name=""/>
              <p:cNvSpPr/>
              <p:nvPr/>
            </p:nvSpPr>
            <p:spPr>
              <a:xfrm>
                <a:off x="1447920" y="1905120"/>
                <a:ext cx="1981080" cy="431640"/>
              </a:xfrm>
              <a:prstGeom prst="rtTriangle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68040" bIns="68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0800000">
                <a:off x="1371600" y="1904760"/>
                <a:ext cx="1981440" cy="431640"/>
              </a:xfrm>
              <a:prstGeom prst="rtTriangl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68040" bIns="68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3428640" y="3352680"/>
              <a:ext cx="2209680" cy="432000"/>
              <a:chOff x="3428640" y="3352680"/>
              <a:chExt cx="2209680" cy="432000"/>
            </a:xfrm>
          </p:grpSpPr>
          <p:sp>
            <p:nvSpPr>
              <p:cNvPr id="978" name=""/>
              <p:cNvSpPr/>
              <p:nvPr/>
            </p:nvSpPr>
            <p:spPr>
              <a:xfrm>
                <a:off x="3510720" y="3352680"/>
                <a:ext cx="2127600" cy="432000"/>
              </a:xfrm>
              <a:prstGeom prst="rtTriangle">
                <a:avLst/>
              </a:pr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68040" bIns="68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0800000">
                <a:off x="3428640" y="3352680"/>
                <a:ext cx="2127960" cy="432000"/>
              </a:xfrm>
              <a:prstGeom prst="rtTriangl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68040" bIns="68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0" name=""/>
          <p:cNvGrpSpPr/>
          <p:nvPr/>
        </p:nvGrpSpPr>
        <p:grpSpPr>
          <a:xfrm>
            <a:off x="1447920" y="2057400"/>
            <a:ext cx="7696080" cy="3251160"/>
            <a:chOff x="1447920" y="2057400"/>
            <a:chExt cx="7696080" cy="3251160"/>
          </a:xfrm>
        </p:grpSpPr>
        <p:sp>
          <p:nvSpPr>
            <p:cNvPr id="981" name=""/>
            <p:cNvSpPr/>
            <p:nvPr/>
          </p:nvSpPr>
          <p:spPr>
            <a:xfrm>
              <a:off x="7162920" y="2819520"/>
              <a:ext cx="1981080" cy="647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162920" y="3505320"/>
              <a:ext cx="1981080" cy="647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162920" y="2057400"/>
              <a:ext cx="1981080" cy="7621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447920" y="4876920"/>
              <a:ext cx="1981080" cy="431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638680" y="4343400"/>
              <a:ext cx="1524240" cy="431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638680" y="3886200"/>
              <a:ext cx="1524240" cy="431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638680" y="2057400"/>
              <a:ext cx="1524240" cy="647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638680" y="3200400"/>
              <a:ext cx="1524240" cy="647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638680" y="2590920"/>
              <a:ext cx="1524240" cy="647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505320" y="4191120"/>
              <a:ext cx="2057400" cy="4316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7238880" y="4343400"/>
            <a:ext cx="1624320" cy="1830240"/>
            <a:chOff x="7238880" y="4343400"/>
            <a:chExt cx="1624320" cy="1830240"/>
          </a:xfrm>
        </p:grpSpPr>
        <p:grpSp>
          <p:nvGrpSpPr>
            <p:cNvPr id="992" name=""/>
            <p:cNvGrpSpPr/>
            <p:nvPr/>
          </p:nvGrpSpPr>
          <p:grpSpPr>
            <a:xfrm>
              <a:off x="7246800" y="5754960"/>
              <a:ext cx="1561320" cy="418680"/>
              <a:chOff x="7246800" y="5754960"/>
              <a:chExt cx="1561320" cy="418680"/>
            </a:xfrm>
          </p:grpSpPr>
          <p:sp>
            <p:nvSpPr>
              <p:cNvPr id="993" name=""/>
              <p:cNvSpPr/>
              <p:nvPr/>
            </p:nvSpPr>
            <p:spPr>
              <a:xfrm>
                <a:off x="7246800" y="5791320"/>
                <a:ext cx="719280" cy="287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117640" y="5754960"/>
                <a:ext cx="69048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wors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7238880" y="4800600"/>
              <a:ext cx="1395720" cy="418680"/>
              <a:chOff x="7238880" y="4800600"/>
              <a:chExt cx="1395720" cy="418680"/>
            </a:xfrm>
          </p:grpSpPr>
          <p:grpSp>
            <p:nvGrpSpPr>
              <p:cNvPr id="996" name=""/>
              <p:cNvGrpSpPr/>
              <p:nvPr/>
            </p:nvGrpSpPr>
            <p:grpSpPr>
              <a:xfrm>
                <a:off x="7238880" y="4876920"/>
                <a:ext cx="718920" cy="287280"/>
                <a:chOff x="7238880" y="4876920"/>
                <a:chExt cx="718920" cy="28728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7265880" y="4876920"/>
                  <a:ext cx="691920" cy="287280"/>
                </a:xfrm>
                <a:prstGeom prst="rtTriangle">
                  <a:avLst/>
                </a:prstGeom>
                <a:solidFill>
                  <a:srgbClr val="00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21240" bIns="21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rot="10800000">
                  <a:off x="7238880" y="4876920"/>
                  <a:ext cx="691920" cy="287280"/>
                </a:xfrm>
                <a:prstGeom prst="rtTriangle">
                  <a:avLst/>
                </a:pr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21240" bIns="21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9" name=""/>
              <p:cNvSpPr/>
              <p:nvPr/>
            </p:nvSpPr>
            <p:spPr>
              <a:xfrm>
                <a:off x="8110440" y="4800600"/>
                <a:ext cx="52416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b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7238880" y="5257800"/>
              <a:ext cx="1624320" cy="418680"/>
              <a:chOff x="7238880" y="5257800"/>
              <a:chExt cx="1624320" cy="418680"/>
            </a:xfrm>
          </p:grpSpPr>
          <p:grpSp>
            <p:nvGrpSpPr>
              <p:cNvPr id="1001" name=""/>
              <p:cNvGrpSpPr/>
              <p:nvPr/>
            </p:nvGrpSpPr>
            <p:grpSpPr>
              <a:xfrm>
                <a:off x="7238880" y="5334120"/>
                <a:ext cx="718920" cy="287280"/>
                <a:chOff x="7238880" y="5334120"/>
                <a:chExt cx="718920" cy="28728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7265880" y="5334120"/>
                  <a:ext cx="691920" cy="287280"/>
                </a:xfrm>
                <a:prstGeom prst="rtTriangle">
                  <a:avLst/>
                </a:prstGeom>
                <a:solidFill>
                  <a:srgbClr val="ff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21240" bIns="21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10800000">
                  <a:off x="7238880" y="5334120"/>
                  <a:ext cx="691920" cy="287280"/>
                </a:xfrm>
                <a:prstGeom prst="rtTriangle">
                  <a:avLst/>
                </a:pr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21240" bIns="21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4" name=""/>
              <p:cNvSpPr/>
              <p:nvPr/>
            </p:nvSpPr>
            <p:spPr>
              <a:xfrm>
                <a:off x="8110440" y="5257800"/>
                <a:ext cx="75276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wor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7245000" y="4343400"/>
              <a:ext cx="1522080" cy="418680"/>
              <a:chOff x="7245000" y="4343400"/>
              <a:chExt cx="1522080" cy="418680"/>
            </a:xfrm>
          </p:grpSpPr>
          <p:sp>
            <p:nvSpPr>
              <p:cNvPr id="1006" name=""/>
              <p:cNvSpPr/>
              <p:nvPr/>
            </p:nvSpPr>
            <p:spPr>
              <a:xfrm>
                <a:off x="7245000" y="4419720"/>
                <a:ext cx="719280" cy="287280"/>
              </a:xfrm>
              <a:prstGeom prst="rect">
                <a:avLst/>
              </a:prstGeom>
              <a:solidFill>
                <a:srgbClr val="66ff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116560" y="4343400"/>
                <a:ext cx="650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goo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"/>
          <p:cNvGrpSpPr/>
          <p:nvPr/>
        </p:nvGrpSpPr>
        <p:grpSpPr>
          <a:xfrm>
            <a:off x="5921280" y="152280"/>
            <a:ext cx="3210480" cy="803520"/>
            <a:chOff x="5921280" y="152280"/>
            <a:chExt cx="3210480" cy="803520"/>
          </a:xfrm>
        </p:grpSpPr>
        <p:sp>
          <p:nvSpPr>
            <p:cNvPr id="1009" name=""/>
            <p:cNvSpPr/>
            <p:nvPr/>
          </p:nvSpPr>
          <p:spPr>
            <a:xfrm>
              <a:off x="5921280" y="152280"/>
              <a:ext cx="321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Monotype Corsiva"/>
                </a:rPr>
                <a:t>Model keywords and paramer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7311960" y="456840"/>
              <a:ext cx="310680" cy="498960"/>
              <a:chOff x="7311960" y="456840"/>
              <a:chExt cx="310680" cy="498960"/>
            </a:xfrm>
          </p:grpSpPr>
          <p:sp>
            <p:nvSpPr>
              <p:cNvPr id="1011" name=""/>
              <p:cNvSpPr/>
              <p:nvPr/>
            </p:nvSpPr>
            <p:spPr>
              <a:xfrm>
                <a:off x="737424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052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674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31196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36160" y="873720"/>
                <a:ext cx="6228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844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560720" y="87372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20680" y="581040"/>
                <a:ext cx="93600" cy="7308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880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374240" y="72828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36520" y="728280"/>
                <a:ext cx="61920" cy="72720"/>
              </a:xfrm>
              <a:prstGeom prst="rect">
                <a:avLst/>
              </a:prstGeom>
              <a:solidFill>
                <a:srgbClr val="afc2c8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34328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6748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05200" y="654840"/>
                <a:ext cx="61920" cy="73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5" name=""/>
              <p:cNvGrpSpPr/>
              <p:nvPr/>
            </p:nvGrpSpPr>
            <p:grpSpPr>
              <a:xfrm>
                <a:off x="7418880" y="653760"/>
                <a:ext cx="96480" cy="302040"/>
                <a:chOff x="7418880" y="653760"/>
                <a:chExt cx="96480" cy="30204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7436160" y="653760"/>
                  <a:ext cx="622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434360" y="678960"/>
                  <a:ext cx="655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7432920" y="703080"/>
                  <a:ext cx="684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7431120" y="727920"/>
                  <a:ext cx="716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429680" y="752760"/>
                  <a:ext cx="748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428240" y="778320"/>
                  <a:ext cx="777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7426440" y="803520"/>
                  <a:ext cx="810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7425000" y="828360"/>
                  <a:ext cx="8424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7423560" y="853920"/>
                  <a:ext cx="8712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7421760" y="880560"/>
                  <a:ext cx="9036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7420320" y="905400"/>
                  <a:ext cx="9360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418880" y="930600"/>
                  <a:ext cx="96480" cy="25200"/>
                </a:xfrm>
                <a:prstGeom prst="rect">
                  <a:avLst/>
                </a:prstGeom>
                <a:solidFill>
                  <a:srgbClr val="cc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8" name=""/>
              <p:cNvSpPr/>
              <p:nvPr/>
            </p:nvSpPr>
            <p:spPr>
              <a:xfrm rot="16200000">
                <a:off x="7404840" y="486360"/>
                <a:ext cx="124200" cy="64800"/>
              </a:xfrm>
              <a:prstGeom prst="rect">
                <a:avLst/>
              </a:prstGeom>
              <a:solidFill>
                <a:srgbClr val="ccff66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7457400" y="606600"/>
                <a:ext cx="19440" cy="46800"/>
                <a:chOff x="7457400" y="606600"/>
                <a:chExt cx="19440" cy="46800"/>
              </a:xfrm>
            </p:grpSpPr>
            <p:grpSp>
              <p:nvGrpSpPr>
                <p:cNvPr id="1040" name=""/>
                <p:cNvGrpSpPr/>
                <p:nvPr/>
              </p:nvGrpSpPr>
              <p:grpSpPr>
                <a:xfrm>
                  <a:off x="7457400" y="606600"/>
                  <a:ext cx="19440" cy="46800"/>
                  <a:chOff x="7457400" y="606600"/>
                  <a:chExt cx="19440" cy="46800"/>
                </a:xfrm>
              </p:grpSpPr>
              <p:sp>
                <p:nvSpPr>
                  <p:cNvPr id="1041" name=""/>
                  <p:cNvSpPr/>
                  <p:nvPr/>
                </p:nvSpPr>
                <p:spPr>
                  <a:xfrm>
                    <a:off x="745740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7476840" y="606600"/>
                    <a:ext cx="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457400" y="606600"/>
                    <a:ext cx="19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4" name=""/>
                <p:cNvSpPr/>
                <p:nvPr/>
              </p:nvSpPr>
              <p:spPr>
                <a:xfrm>
                  <a:off x="7458840" y="609120"/>
                  <a:ext cx="16560" cy="44280"/>
                </a:xfrm>
                <a:prstGeom prst="rect">
                  <a:avLst/>
                </a:prstGeom>
                <a:solidFill>
                  <a:srgbClr val="626465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5" name=""/>
              <p:cNvSpPr/>
              <p:nvPr/>
            </p:nvSpPr>
            <p:spPr>
              <a:xfrm>
                <a:off x="7529400" y="801000"/>
                <a:ext cx="61920" cy="72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20:24:34Z</dcterms:created>
  <dc:creator>Lenski Eckhard</dc:creator>
  <dc:description/>
  <dc:language>en-US</dc:language>
  <cp:lastModifiedBy>ICN Windows2000 Netz</cp:lastModifiedBy>
  <dcterms:modified xsi:type="dcterms:W3CDTF">2005-03-09T10:38:41Z</dcterms:modified>
  <cp:revision>75</cp:revision>
  <dc:subject/>
  <dc:title>Vorwort: Powerpoint Template für Siemens Communications</dc:title>
</cp:coreProperties>
</file>