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8975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904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2"/>
          </p:nvPr>
        </p:nvSpPr>
        <p:spPr>
          <a:xfrm>
            <a:off x="3901680" y="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15840" y="771120"/>
            <a:ext cx="5059440" cy="37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12720" y="4811400"/>
            <a:ext cx="56642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3"/>
          </p:nvPr>
        </p:nvSpPr>
        <p:spPr>
          <a:xfrm>
            <a:off x="-360" y="913932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4"/>
          </p:nvPr>
        </p:nvSpPr>
        <p:spPr>
          <a:xfrm>
            <a:off x="3901680" y="913932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770F-AC86-431C-9375-24D1D869A7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5840" y="771480"/>
            <a:ext cx="5059440" cy="37940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4811400"/>
            <a:ext cx="5664240" cy="40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on and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jitsu Siemens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&amp;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ial Solution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emens VDO Automotive 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cal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entral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ineon Semiconductor , a former Siemens group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gram and systemdevelopment  ( Programm- und Systementwicklung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SC SL CE23      IBIS Summit     DATE 2005       11. March 2005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DCEA742-667C-4CED-8B6D-B23B3E3FA1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8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66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" TargetMode="External"/><Relationship Id="rId2" Type="http://schemas.openxmlformats.org/officeDocument/2006/relationships/hyperlink" Target="http://www.sisoft.com/ibis-quality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emens IBIS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1066680"/>
            <a:ext cx="7686360" cy="1620000"/>
            <a:chOff x="152280" y="1066680"/>
            <a:chExt cx="7686360" cy="1620000"/>
          </a:xfrm>
        </p:grpSpPr>
        <p:sp>
          <p:nvSpPr>
            <p:cNvPr id="130" name=""/>
            <p:cNvSpPr/>
            <p:nvPr/>
          </p:nvSpPr>
          <p:spPr>
            <a:xfrm>
              <a:off x="1596960" y="1066680"/>
              <a:ext cx="62416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IEMENS IBIS GROUP is formed by members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fferent Siemens divisions. This group has defin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quality level for ibis model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hich i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all SIEMENS division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52280" y="1141200"/>
              <a:ext cx="1066680" cy="281160"/>
              <a:chOff x="152280" y="1141200"/>
              <a:chExt cx="1066680" cy="281160"/>
            </a:xfrm>
          </p:grpSpPr>
          <p:sp>
            <p:nvSpPr>
              <p:cNvPr id="132" name=""/>
              <p:cNvSpPr/>
              <p:nvPr/>
            </p:nvSpPr>
            <p:spPr>
              <a:xfrm>
                <a:off x="36576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268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6160" y="1335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228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8880" y="1376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2000" y="1376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0620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5240" y="1210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3440" y="1293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" y="1293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600" y="1293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992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6160" y="125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2680" y="125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519840" y="1252080"/>
                <a:ext cx="330480" cy="170280"/>
                <a:chOff x="519840" y="1252080"/>
                <a:chExt cx="330480" cy="1702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79240" y="1252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3120" y="1266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7720" y="1279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2320" y="1293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7280" y="1307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51880" y="1322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6480" y="1336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1080" y="1350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35680" y="1365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0640" y="1379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5240" y="1393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19840" y="1408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 rot="16200000">
                <a:off x="650520" y="1064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51240" y="1225440"/>
                <a:ext cx="68040" cy="26280"/>
                <a:chOff x="651240" y="1225440"/>
                <a:chExt cx="68040" cy="2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651240" y="1225440"/>
                  <a:ext cx="68040" cy="26280"/>
                  <a:chOff x="651240" y="1225440"/>
                  <a:chExt cx="68040" cy="262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651240" y="122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9280" y="122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51240" y="1225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657000" y="1226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89892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52280" y="3048120"/>
            <a:ext cx="7962480" cy="1620000"/>
            <a:chOff x="152280" y="3048120"/>
            <a:chExt cx="7962480" cy="1620000"/>
          </a:xfrm>
        </p:grpSpPr>
        <p:grpSp>
          <p:nvGrpSpPr>
            <p:cNvPr id="168" name=""/>
            <p:cNvGrpSpPr/>
            <p:nvPr/>
          </p:nvGrpSpPr>
          <p:grpSpPr>
            <a:xfrm>
              <a:off x="152280" y="3076560"/>
              <a:ext cx="1066680" cy="281160"/>
              <a:chOff x="152280" y="3076560"/>
              <a:chExt cx="1066680" cy="28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6576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268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6160" y="3270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28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8880" y="33116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2000" y="3311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0620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5240" y="31460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3440" y="3229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5760" y="32292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9600" y="32292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992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6160" y="318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2680" y="318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519840" y="3187440"/>
                <a:ext cx="330480" cy="170280"/>
                <a:chOff x="519840" y="3187440"/>
                <a:chExt cx="330480" cy="170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79240" y="31874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3120" y="32014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67720" y="32151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2320" y="32292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57280" y="32432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1880" y="3257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6480" y="32716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41080" y="3286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5680" y="33004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0640" y="33152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5240" y="33292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9840" y="33436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rot="16200000">
                <a:off x="650520" y="29995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1240" y="3160800"/>
                <a:ext cx="68040" cy="26280"/>
                <a:chOff x="651240" y="3160800"/>
                <a:chExt cx="68040" cy="262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51240" y="3160800"/>
                  <a:ext cx="68040" cy="26280"/>
                  <a:chOff x="651240" y="3160800"/>
                  <a:chExt cx="68040" cy="262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51240" y="316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19280" y="316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51240" y="31608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657000" y="31622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89892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600200" y="3048120"/>
              <a:ext cx="6514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MENS design flows include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ard/system simul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 a main topi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 suppor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ign to co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to mark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itiatives. The quality of the used mod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imaril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es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imulation resul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2760" y="4951440"/>
            <a:ext cx="6570000" cy="1202760"/>
            <a:chOff x="212760" y="4951440"/>
            <a:chExt cx="6570000" cy="1202760"/>
          </a:xfrm>
        </p:grpSpPr>
        <p:grpSp>
          <p:nvGrpSpPr>
            <p:cNvPr id="206" name=""/>
            <p:cNvGrpSpPr/>
            <p:nvPr/>
          </p:nvGrpSpPr>
          <p:grpSpPr>
            <a:xfrm>
              <a:off x="212760" y="4999320"/>
              <a:ext cx="1066680" cy="280800"/>
              <a:chOff x="212760" y="4999320"/>
              <a:chExt cx="1066680" cy="280800"/>
            </a:xfrm>
          </p:grpSpPr>
          <p:sp>
            <p:nvSpPr>
              <p:cNvPr id="207" name=""/>
              <p:cNvSpPr/>
              <p:nvPr/>
            </p:nvSpPr>
            <p:spPr>
              <a:xfrm>
                <a:off x="42624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316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6640" y="519300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276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9360" y="52340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2480" y="52340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6668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5720" y="50688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53920" y="5151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6240" y="51519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080" y="51519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040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6640" y="5110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3160" y="5110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580320" y="5109840"/>
                <a:ext cx="330480" cy="170280"/>
                <a:chOff x="580320" y="5109840"/>
                <a:chExt cx="330480" cy="1702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39720" y="51098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3600" y="51238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28200" y="51375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22800" y="51516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7760" y="51656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2360" y="51800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06960" y="51940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01560" y="52084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160" y="52228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20" y="52376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5720" y="52516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0320" y="52660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 rot="16200000">
                <a:off x="711000" y="49222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11720" y="5083200"/>
                <a:ext cx="68040" cy="26280"/>
                <a:chOff x="711720" y="5083200"/>
                <a:chExt cx="68040" cy="2628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711720" y="5083200"/>
                  <a:ext cx="68040" cy="26280"/>
                  <a:chOff x="711720" y="5083200"/>
                  <a:chExt cx="68040" cy="262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711720" y="5083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79760" y="5083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11720" y="5083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717480" y="50846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95940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1656720" y="4951440"/>
              <a:ext cx="5126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his light of responsibility we expect from 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 vendor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 IBIS model availabil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well a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d IBIS modelling know 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495680" y="1752480"/>
            <a:ext cx="4692960" cy="459720"/>
            <a:chOff x="4495680" y="1752480"/>
            <a:chExt cx="4692960" cy="459720"/>
          </a:xfrm>
        </p:grpSpPr>
        <p:grpSp>
          <p:nvGrpSpPr>
            <p:cNvPr id="245" name=""/>
            <p:cNvGrpSpPr/>
            <p:nvPr/>
          </p:nvGrpSpPr>
          <p:grpSpPr>
            <a:xfrm>
              <a:off x="4495680" y="1877760"/>
              <a:ext cx="1066680" cy="281160"/>
              <a:chOff x="4495680" y="1877760"/>
              <a:chExt cx="1066680" cy="281160"/>
            </a:xfrm>
          </p:grpSpPr>
          <p:sp>
            <p:nvSpPr>
              <p:cNvPr id="246" name=""/>
              <p:cNvSpPr/>
              <p:nvPr/>
            </p:nvSpPr>
            <p:spPr>
              <a:xfrm>
                <a:off x="4709160" y="2112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16080" y="2071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029560" y="20718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95680" y="2112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22280" y="2112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35400" y="21128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49600" y="2112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68640" y="19472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36840" y="2030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9160" y="20304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23000" y="20304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03320" y="2071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29560" y="19890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6080" y="19890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863240" y="1988640"/>
                <a:ext cx="330480" cy="170280"/>
                <a:chOff x="4863240" y="1988640"/>
                <a:chExt cx="330480" cy="1702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922640" y="19886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16520" y="20026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11120" y="20163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5720" y="20304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900680" y="20444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95280" y="20588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89880" y="20728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84480" y="20872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79080" y="21016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874040" y="21164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68640" y="21304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63240" y="21448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 rot="16200000">
                <a:off x="4993920" y="18007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4994640" y="1962000"/>
                <a:ext cx="68040" cy="26280"/>
                <a:chOff x="4994640" y="1962000"/>
                <a:chExt cx="68040" cy="26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994640" y="1962000"/>
                  <a:ext cx="68040" cy="26280"/>
                  <a:chOff x="4994640" y="1962000"/>
                  <a:chExt cx="68040" cy="262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994640" y="1962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062680" y="1962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994640" y="1962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5000400" y="19634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5242320" y="2071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944680" y="1752480"/>
              <a:ext cx="32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ujitsu Siemens Co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34120" y="4038480"/>
            <a:ext cx="2711520" cy="459720"/>
            <a:chOff x="5334120" y="4038480"/>
            <a:chExt cx="2711520" cy="459720"/>
          </a:xfrm>
        </p:grpSpPr>
        <p:grpSp>
          <p:nvGrpSpPr>
            <p:cNvPr id="283" name=""/>
            <p:cNvGrpSpPr/>
            <p:nvPr/>
          </p:nvGrpSpPr>
          <p:grpSpPr>
            <a:xfrm>
              <a:off x="5334120" y="4163760"/>
              <a:ext cx="1066680" cy="281160"/>
              <a:chOff x="5334120" y="4163760"/>
              <a:chExt cx="1066680" cy="281160"/>
            </a:xfrm>
          </p:grpSpPr>
          <p:sp>
            <p:nvSpPr>
              <p:cNvPr id="284" name=""/>
              <p:cNvSpPr/>
              <p:nvPr/>
            </p:nvSpPr>
            <p:spPr>
              <a:xfrm>
                <a:off x="5547600" y="4398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54520" y="435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00" y="43578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34120" y="4398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60720" y="4398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73840" y="43988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88040" y="4398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07080" y="42332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5280" y="4316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7600" y="43164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61440" y="43164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41760" y="435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00" y="42750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54520" y="42750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5701680" y="4274640"/>
                <a:ext cx="330480" cy="170280"/>
                <a:chOff x="5701680" y="4274640"/>
                <a:chExt cx="330480" cy="1702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761080" y="42746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54960" y="42886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749560" y="43023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744160" y="43164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739120" y="43304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33720" y="43448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28320" y="43588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722920" y="43732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717520" y="43876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712480" y="44024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07080" y="44164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01680" y="44308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rot="16200000">
                <a:off x="5832360" y="40867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5833080" y="4248000"/>
                <a:ext cx="68040" cy="26280"/>
                <a:chOff x="5833080" y="4248000"/>
                <a:chExt cx="68040" cy="2628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5833080" y="4248000"/>
                  <a:ext cx="68040" cy="26280"/>
                  <a:chOff x="5833080" y="4248000"/>
                  <a:chExt cx="68040" cy="262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5833080" y="4248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5901120" y="42480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833080" y="4248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5838840" y="42494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6080760" y="435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6781320" y="403848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fine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895480" y="2209680"/>
            <a:ext cx="2667240" cy="2590920"/>
            <a:chOff x="2895480" y="2209680"/>
            <a:chExt cx="2667240" cy="2590920"/>
          </a:xfrm>
        </p:grpSpPr>
        <p:sp>
          <p:nvSpPr>
            <p:cNvPr id="321" name=""/>
            <p:cNvSpPr/>
            <p:nvPr/>
          </p:nvSpPr>
          <p:spPr>
            <a:xfrm>
              <a:off x="2895480" y="2209680"/>
              <a:ext cx="2667240" cy="2590920"/>
            </a:xfrm>
            <a:prstGeom prst="ellipse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4760" y="3276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581280" y="2514600"/>
              <a:ext cx="1382760" cy="755640"/>
            </a:xfrm>
            <a:prstGeom prst="rect">
              <a:avLst/>
            </a:prstGeom>
          </p:spPr>
          <p:txBody>
            <a:bodyPr wrap="none" fromWordArt="1" lIns="72000" rIns="72000" tIns="72000" bIns="720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Siemens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3809880" y="4038480"/>
              <a:ext cx="935280" cy="527040"/>
            </a:xfrm>
            <a:prstGeom prst="rect">
              <a:avLst/>
            </a:prstGeom>
          </p:spPr>
          <p:txBody>
            <a:bodyPr wrap="none" fromWordArt="1" lIns="72000" rIns="72000" tIns="72000" bIns="720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16520" y="4114800"/>
            <a:ext cx="2707200" cy="694800"/>
            <a:chOff x="416520" y="4114800"/>
            <a:chExt cx="2707200" cy="694800"/>
          </a:xfrm>
        </p:grpSpPr>
        <p:grpSp>
          <p:nvGrpSpPr>
            <p:cNvPr id="326" name=""/>
            <p:cNvGrpSpPr/>
            <p:nvPr/>
          </p:nvGrpSpPr>
          <p:grpSpPr>
            <a:xfrm>
              <a:off x="1145520" y="4114800"/>
              <a:ext cx="1978200" cy="459720"/>
              <a:chOff x="1145520" y="4114800"/>
              <a:chExt cx="1978200" cy="459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057040" y="4163760"/>
                <a:ext cx="1066680" cy="281160"/>
                <a:chOff x="2057040" y="4163760"/>
                <a:chExt cx="1066680" cy="2811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270520" y="4398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377440" y="4357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90920" y="43578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057040" y="4398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483640" y="43988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96760" y="43988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910960" y="4398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430000" y="42332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98200" y="43164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270520" y="43164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484360" y="43164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164680" y="4357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90920" y="42750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77440" y="42750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2424600" y="4274640"/>
                  <a:ext cx="330480" cy="170280"/>
                  <a:chOff x="2424600" y="4274640"/>
                  <a:chExt cx="330480" cy="1702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2484000" y="42746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477880" y="42886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472480" y="43023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467080" y="43164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462040" y="43304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456640" y="43448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451240" y="43588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445840" y="43732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440440" y="43876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435400" y="44024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430000" y="44164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424600" y="44308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" name=""/>
                <p:cNvSpPr/>
                <p:nvPr/>
              </p:nvSpPr>
              <p:spPr>
                <a:xfrm rot="16200000">
                  <a:off x="2555280" y="40867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2556000" y="4248000"/>
                  <a:ext cx="68040" cy="26280"/>
                  <a:chOff x="2556000" y="4248000"/>
                  <a:chExt cx="68040" cy="2628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556000" y="4248000"/>
                    <a:ext cx="68040" cy="26280"/>
                    <a:chOff x="2556000" y="4248000"/>
                    <a:chExt cx="68040" cy="262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2556000" y="42480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2624040" y="42480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2556000" y="42480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1" name=""/>
                  <p:cNvSpPr/>
                  <p:nvPr/>
                </p:nvSpPr>
                <p:spPr>
                  <a:xfrm>
                    <a:off x="2561760" y="42494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" name=""/>
                <p:cNvSpPr/>
                <p:nvPr/>
              </p:nvSpPr>
              <p:spPr>
                <a:xfrm>
                  <a:off x="2803680" y="4357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45520" y="41148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A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16520" y="4437000"/>
              <a:ext cx="2446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tomation and Driv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1960" y="2514600"/>
            <a:ext cx="2679480" cy="782280"/>
            <a:chOff x="291960" y="2514600"/>
            <a:chExt cx="2679480" cy="782280"/>
          </a:xfrm>
        </p:grpSpPr>
        <p:grpSp>
          <p:nvGrpSpPr>
            <p:cNvPr id="366" name=""/>
            <p:cNvGrpSpPr/>
            <p:nvPr/>
          </p:nvGrpSpPr>
          <p:grpSpPr>
            <a:xfrm>
              <a:off x="992880" y="2514600"/>
              <a:ext cx="1978560" cy="459720"/>
              <a:chOff x="992880" y="2514600"/>
              <a:chExt cx="1978560" cy="4597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904760" y="2563560"/>
                <a:ext cx="1066680" cy="281160"/>
                <a:chOff x="1904760" y="2563560"/>
                <a:chExt cx="1066680" cy="2811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11824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22516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8640" y="27576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90476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31360" y="27986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480" y="27986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5868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277720" y="26330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545920" y="27162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118240" y="27162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32080" y="27162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01240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38640" y="2674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225160" y="2674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2272320" y="2674440"/>
                  <a:ext cx="330480" cy="170280"/>
                  <a:chOff x="2272320" y="2674440"/>
                  <a:chExt cx="330480" cy="1702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331720" y="26744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325600" y="26884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320200" y="27021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314800" y="27162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309760" y="27302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304360" y="27446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298960" y="27586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293560" y="27730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288160" y="27874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283120" y="28022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277720" y="28162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272320" y="28306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 rot="16200000">
                  <a:off x="2403000" y="24865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" name=""/>
                <p:cNvGrpSpPr/>
                <p:nvPr/>
              </p:nvGrpSpPr>
              <p:grpSpPr>
                <a:xfrm>
                  <a:off x="2403720" y="2647800"/>
                  <a:ext cx="68040" cy="26280"/>
                  <a:chOff x="2403720" y="2647800"/>
                  <a:chExt cx="68040" cy="2628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2403720" y="2647800"/>
                    <a:ext cx="68040" cy="26280"/>
                    <a:chOff x="2403720" y="2647800"/>
                    <a:chExt cx="68040" cy="26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2403720" y="2647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471760" y="2647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403720" y="26478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409480" y="26492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65140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992880" y="2514600"/>
                <a:ext cx="82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91960" y="2924280"/>
              <a:ext cx="18385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-189720" y="3352680"/>
            <a:ext cx="3291120" cy="763200"/>
            <a:chOff x="-189720" y="3352680"/>
            <a:chExt cx="3291120" cy="763200"/>
          </a:xfrm>
        </p:grpSpPr>
        <p:grpSp>
          <p:nvGrpSpPr>
            <p:cNvPr id="406" name=""/>
            <p:cNvGrpSpPr/>
            <p:nvPr/>
          </p:nvGrpSpPr>
          <p:grpSpPr>
            <a:xfrm>
              <a:off x="763560" y="3352680"/>
              <a:ext cx="1979280" cy="459720"/>
              <a:chOff x="763560" y="3352680"/>
              <a:chExt cx="1979280" cy="4597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1676160" y="3401640"/>
                <a:ext cx="1066680" cy="281160"/>
                <a:chOff x="1676160" y="3401640"/>
                <a:chExt cx="1066680" cy="2811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889640" y="363672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996560" y="35956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10040" y="359568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76160" y="363672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102760" y="363672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315880" y="363672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530080" y="363672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049120" y="347112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317320" y="35542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889640" y="355428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103480" y="355428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783800" y="35956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10040" y="351288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96560" y="351288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2043720" y="3512520"/>
                  <a:ext cx="330480" cy="170280"/>
                  <a:chOff x="2043720" y="3512520"/>
                  <a:chExt cx="330480" cy="1702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103120" y="351252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097000" y="352656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091600" y="354024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086200" y="355428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081160" y="356832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075760" y="358272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70360" y="359676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064960" y="361116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059560" y="362556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054520" y="364032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049120" y="365436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043720" y="366876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 rot="16200000">
                  <a:off x="2174400" y="332460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2175120" y="3485880"/>
                  <a:ext cx="68040" cy="26280"/>
                  <a:chOff x="2175120" y="3485880"/>
                  <a:chExt cx="68040" cy="2628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175120" y="3485880"/>
                    <a:ext cx="68040" cy="26280"/>
                    <a:chOff x="2175120" y="3485880"/>
                    <a:chExt cx="68040" cy="2628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2175120" y="348588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2243160" y="348588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2175120" y="348588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>
                    <a:off x="2180880" y="348732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422800" y="35956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63560" y="335268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I&amp;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-189720" y="3743280"/>
              <a:ext cx="32911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Industrial Solutions and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359720" y="4800600"/>
            <a:ext cx="2678400" cy="828360"/>
            <a:chOff x="1359720" y="4800600"/>
            <a:chExt cx="2678400" cy="828360"/>
          </a:xfrm>
        </p:grpSpPr>
        <p:grpSp>
          <p:nvGrpSpPr>
            <p:cNvPr id="446" name=""/>
            <p:cNvGrpSpPr/>
            <p:nvPr/>
          </p:nvGrpSpPr>
          <p:grpSpPr>
            <a:xfrm>
              <a:off x="2058840" y="4800600"/>
              <a:ext cx="1979280" cy="459720"/>
              <a:chOff x="2058840" y="4800600"/>
              <a:chExt cx="1979280" cy="45972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2971440" y="4849560"/>
                <a:ext cx="1066680" cy="281160"/>
                <a:chOff x="2971440" y="4849560"/>
                <a:chExt cx="1066680" cy="281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18492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9184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505320" y="50436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144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398040" y="50846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611160" y="50846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82536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344400" y="49190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12600" y="50022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84920" y="50022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398760" y="50022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07908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505320" y="4960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91840" y="4960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3339000" y="4960440"/>
                  <a:ext cx="330480" cy="170280"/>
                  <a:chOff x="3339000" y="4960440"/>
                  <a:chExt cx="330480" cy="1702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3398400" y="49604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392280" y="49744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386880" y="49881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381480" y="50022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376440" y="50162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371040" y="50306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365640" y="50446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360240" y="50590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354840" y="50734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349800" y="50882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344400" y="51022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339000" y="51166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 rot="16200000">
                  <a:off x="3469680" y="47725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3470400" y="4933800"/>
                  <a:ext cx="68040" cy="26280"/>
                  <a:chOff x="3470400" y="4933800"/>
                  <a:chExt cx="68040" cy="26280"/>
                </a:xfrm>
              </p:grpSpPr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470400" y="4933800"/>
                    <a:ext cx="68040" cy="26280"/>
                    <a:chOff x="3470400" y="4933800"/>
                    <a:chExt cx="68040" cy="2628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470400" y="4933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3538440" y="4933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470400" y="49338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3476160" y="49352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371808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2058840" y="480060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359720" y="5256360"/>
              <a:ext cx="2532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ransportation Syste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410080" y="2438280"/>
            <a:ext cx="3595680" cy="858600"/>
            <a:chOff x="5410080" y="2438280"/>
            <a:chExt cx="3595680" cy="858600"/>
          </a:xfrm>
        </p:grpSpPr>
        <p:grpSp>
          <p:nvGrpSpPr>
            <p:cNvPr id="486" name=""/>
            <p:cNvGrpSpPr/>
            <p:nvPr/>
          </p:nvGrpSpPr>
          <p:grpSpPr>
            <a:xfrm>
              <a:off x="5410080" y="2438280"/>
              <a:ext cx="2981520" cy="459720"/>
              <a:chOff x="5410080" y="2438280"/>
              <a:chExt cx="2981520" cy="45972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5410080" y="2563560"/>
                <a:ext cx="1066680" cy="281160"/>
                <a:chOff x="5410080" y="2563560"/>
                <a:chExt cx="1066680" cy="2811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562356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3048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43960" y="27576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1008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836680" y="27986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049800" y="27986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264000" y="2798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783040" y="26330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051240" y="27162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23560" y="27162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837400" y="27162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51772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43960" y="2674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730480" y="2674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5777640" y="2674440"/>
                  <a:ext cx="330480" cy="170280"/>
                  <a:chOff x="5777640" y="2674440"/>
                  <a:chExt cx="330480" cy="170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5837040" y="26744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830920" y="26884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825520" y="27021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820120" y="27162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815080" y="27302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809680" y="27446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804280" y="27586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798880" y="27730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793480" y="27874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788440" y="28022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783040" y="28162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777640" y="28306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 rot="16200000">
                  <a:off x="5908320" y="24865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5909040" y="2647800"/>
                  <a:ext cx="68040" cy="26280"/>
                  <a:chOff x="5909040" y="2647800"/>
                  <a:chExt cx="68040" cy="26280"/>
                </a:xfrm>
              </p:grpSpPr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909040" y="2647800"/>
                    <a:ext cx="68040" cy="26280"/>
                    <a:chOff x="5909040" y="2647800"/>
                    <a:chExt cx="68040" cy="2628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5909040" y="2647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977080" y="2647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909040" y="26478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5914800" y="26492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6156720" y="2757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6856200" y="2438280"/>
                <a:ext cx="153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V (VDO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6276960" y="2924280"/>
              <a:ext cx="27288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iemens VDO Automot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38680" y="3276720"/>
            <a:ext cx="3564720" cy="839160"/>
            <a:chOff x="5638680" y="3276720"/>
            <a:chExt cx="3564720" cy="839160"/>
          </a:xfrm>
        </p:grpSpPr>
        <p:grpSp>
          <p:nvGrpSpPr>
            <p:cNvPr id="526" name=""/>
            <p:cNvGrpSpPr/>
            <p:nvPr/>
          </p:nvGrpSpPr>
          <p:grpSpPr>
            <a:xfrm>
              <a:off x="5638680" y="3276720"/>
              <a:ext cx="2235960" cy="459720"/>
              <a:chOff x="5638680" y="3276720"/>
              <a:chExt cx="2235960" cy="45972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5638680" y="3402000"/>
                <a:ext cx="1066680" cy="281160"/>
                <a:chOff x="5638680" y="3402000"/>
                <a:chExt cx="1066680" cy="281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852160" y="36370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59080" y="35960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172560" y="359604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638680" y="36370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65280" y="363708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78400" y="363708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492600" y="363708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11640" y="347148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79840" y="355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852160" y="355464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066000" y="35546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746320" y="35960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172560" y="351324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959080" y="351324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06240" y="3512880"/>
                  <a:ext cx="330480" cy="170280"/>
                  <a:chOff x="6006240" y="3512880"/>
                  <a:chExt cx="330480" cy="1702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065640" y="351288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059520" y="352692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054120" y="354060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8720" y="355464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43680" y="356868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038280" y="358308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032880" y="359712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027480" y="361152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022080" y="362592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017040" y="364068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011640" y="365472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006240" y="366912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 rot="16200000">
                  <a:off x="6136920" y="332496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6137640" y="3486240"/>
                  <a:ext cx="68040" cy="26280"/>
                  <a:chOff x="6137640" y="3486240"/>
                  <a:chExt cx="68040" cy="2628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6137640" y="3486240"/>
                    <a:ext cx="68040" cy="26280"/>
                    <a:chOff x="6137640" y="3486240"/>
                    <a:chExt cx="68040" cy="262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6137640" y="348624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205680" y="348624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6137640" y="348624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143400" y="348768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>
                  <a:off x="6385320" y="35960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7085880" y="327672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5776560" y="3743280"/>
              <a:ext cx="34268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rogram and system develop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419720" y="4797360"/>
            <a:ext cx="3049560" cy="767880"/>
            <a:chOff x="4419720" y="4797360"/>
            <a:chExt cx="3049560" cy="767880"/>
          </a:xfrm>
        </p:grpSpPr>
        <p:grpSp>
          <p:nvGrpSpPr>
            <p:cNvPr id="566" name=""/>
            <p:cNvGrpSpPr/>
            <p:nvPr/>
          </p:nvGrpSpPr>
          <p:grpSpPr>
            <a:xfrm>
              <a:off x="4419720" y="4797360"/>
              <a:ext cx="2071080" cy="368280"/>
              <a:chOff x="4419720" y="4797360"/>
              <a:chExt cx="2071080" cy="36828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4419720" y="4849560"/>
                <a:ext cx="1066680" cy="281160"/>
                <a:chOff x="4419720" y="4849560"/>
                <a:chExt cx="1066680" cy="2811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63320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74012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953600" y="50436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41972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46320" y="50846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059440" y="50846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73640" y="50846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792680" y="49190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060880" y="50022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633200" y="50022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47040" y="50022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52736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53600" y="4960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740120" y="49608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4787280" y="4960440"/>
                  <a:ext cx="330480" cy="170280"/>
                  <a:chOff x="4787280" y="4960440"/>
                  <a:chExt cx="330480" cy="1702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4846680" y="49604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840560" y="49744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835160" y="49881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829760" y="50022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824720" y="50162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819320" y="50306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4813920" y="50446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808520" y="50590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803120" y="50734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798080" y="50882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792680" y="51022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787280" y="51166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 rot="16200000">
                  <a:off x="4917960" y="47725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4918680" y="4933800"/>
                  <a:ext cx="68040" cy="26280"/>
                  <a:chOff x="4918680" y="4933800"/>
                  <a:chExt cx="68040" cy="26280"/>
                </a:xfrm>
              </p:grpSpPr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4918680" y="4933800"/>
                    <a:ext cx="68040" cy="26280"/>
                    <a:chOff x="4918680" y="4933800"/>
                    <a:chExt cx="68040" cy="2628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4918680" y="4933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4986720" y="49338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918680" y="49338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4924440" y="49352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5166360" y="50436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5866560" y="479736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800" spc="-1" strike="noStrike">
                    <a:solidFill>
                      <a:srgbClr val="000000"/>
                    </a:solidFill>
                    <a:latin typeface="Arial"/>
                  </a:rPr>
                  <a:t>M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5458320" y="5192640"/>
              <a:ext cx="201096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edical Solu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7440" y="1828800"/>
            <a:ext cx="3142080" cy="712440"/>
            <a:chOff x="667440" y="1828800"/>
            <a:chExt cx="3142080" cy="712440"/>
          </a:xfrm>
        </p:grpSpPr>
        <p:grpSp>
          <p:nvGrpSpPr>
            <p:cNvPr id="606" name=""/>
            <p:cNvGrpSpPr/>
            <p:nvPr/>
          </p:nvGrpSpPr>
          <p:grpSpPr>
            <a:xfrm>
              <a:off x="1830960" y="1828800"/>
              <a:ext cx="1978560" cy="459720"/>
              <a:chOff x="1830960" y="1828800"/>
              <a:chExt cx="1978560" cy="45972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2742840" y="1877760"/>
                <a:ext cx="1066680" cy="281160"/>
                <a:chOff x="2742840" y="1877760"/>
                <a:chExt cx="1066680" cy="2811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2956320" y="2112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063240" y="2071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76720" y="20718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742840" y="2112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169440" y="211284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382560" y="2112840"/>
                  <a:ext cx="21348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596760" y="211284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115800" y="1947240"/>
                  <a:ext cx="322560" cy="4140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384000" y="20304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956320" y="2030400"/>
                  <a:ext cx="21312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170160" y="2030400"/>
                  <a:ext cx="213480" cy="41040"/>
                </a:xfrm>
                <a:prstGeom prst="rect">
                  <a:avLst/>
                </a:prstGeom>
                <a:solidFill>
                  <a:srgbClr val="afc2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850480" y="2071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276720" y="19890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063240" y="1989000"/>
                  <a:ext cx="212760" cy="41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2" name=""/>
                <p:cNvGrpSpPr/>
                <p:nvPr/>
              </p:nvGrpSpPr>
              <p:grpSpPr>
                <a:xfrm>
                  <a:off x="3110400" y="1988640"/>
                  <a:ext cx="330480" cy="170280"/>
                  <a:chOff x="3110400" y="1988640"/>
                  <a:chExt cx="330480" cy="17028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3169800" y="1988640"/>
                    <a:ext cx="2131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163680" y="2002680"/>
                    <a:ext cx="22392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158280" y="2016360"/>
                    <a:ext cx="2343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152880" y="2030400"/>
                    <a:ext cx="2451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147840" y="2044440"/>
                    <a:ext cx="25596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142440" y="2058840"/>
                    <a:ext cx="2664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137040" y="2072880"/>
                    <a:ext cx="2772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131640" y="2087280"/>
                    <a:ext cx="28800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126240" y="2101680"/>
                    <a:ext cx="2984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121200" y="2116440"/>
                    <a:ext cx="30924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115800" y="2130480"/>
                    <a:ext cx="3196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110400" y="2144880"/>
                    <a:ext cx="330480" cy="14040"/>
                  </a:xfrm>
                  <a:prstGeom prst="rect">
                    <a:avLst/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5" name=""/>
                <p:cNvSpPr/>
                <p:nvPr/>
              </p:nvSpPr>
              <p:spPr>
                <a:xfrm rot="16200000">
                  <a:off x="3241080" y="1800720"/>
                  <a:ext cx="69840" cy="2235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6" name=""/>
                <p:cNvGrpSpPr/>
                <p:nvPr/>
              </p:nvGrpSpPr>
              <p:grpSpPr>
                <a:xfrm>
                  <a:off x="3241800" y="1962000"/>
                  <a:ext cx="68040" cy="26280"/>
                  <a:chOff x="3241800" y="1962000"/>
                  <a:chExt cx="68040" cy="2628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3241800" y="1962000"/>
                    <a:ext cx="68040" cy="26280"/>
                    <a:chOff x="3241800" y="1962000"/>
                    <a:chExt cx="68040" cy="2628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3241800" y="19620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309840" y="1962000"/>
                      <a:ext cx="0" cy="26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241800" y="196200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1" name=""/>
                  <p:cNvSpPr/>
                  <p:nvPr/>
                </p:nvSpPr>
                <p:spPr>
                  <a:xfrm>
                    <a:off x="3247560" y="1963440"/>
                    <a:ext cx="57600" cy="24840"/>
                  </a:xfrm>
                  <a:prstGeom prst="rect">
                    <a:avLst/>
                  </a:prstGeom>
                  <a:solidFill>
                    <a:srgbClr val="626465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3489480" y="2071800"/>
                  <a:ext cx="212760" cy="41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1830960" y="1828800"/>
                <a:ext cx="5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667440" y="2168640"/>
              <a:ext cx="2257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Central technolog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s of Siemens IBIS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52280" y="1203480"/>
            <a:ext cx="8070480" cy="923400"/>
            <a:chOff x="152280" y="1203480"/>
            <a:chExt cx="8070480" cy="923400"/>
          </a:xfrm>
        </p:grpSpPr>
        <p:sp>
          <p:nvSpPr>
            <p:cNvPr id="647" name=""/>
            <p:cNvSpPr/>
            <p:nvPr/>
          </p:nvSpPr>
          <p:spPr>
            <a:xfrm>
              <a:off x="1586520" y="1203480"/>
              <a:ext cx="663624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tup of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With explanations how to get these keywords/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52280" y="1351080"/>
              <a:ext cx="1066680" cy="281160"/>
              <a:chOff x="152280" y="1351080"/>
              <a:chExt cx="1066680" cy="281160"/>
            </a:xfrm>
          </p:grpSpPr>
          <p:sp>
            <p:nvSpPr>
              <p:cNvPr id="649" name=""/>
              <p:cNvSpPr/>
              <p:nvPr/>
            </p:nvSpPr>
            <p:spPr>
              <a:xfrm>
                <a:off x="36576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268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6160" y="1545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5228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8880" y="1586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2000" y="1586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0620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25240" y="1420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3440" y="1503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5760" y="1503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9600" y="1503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992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6160" y="1462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2680" y="1462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519840" y="1461960"/>
                <a:ext cx="330480" cy="170280"/>
                <a:chOff x="519840" y="1461960"/>
                <a:chExt cx="330480" cy="1702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9240" y="1461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3120" y="1476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7720" y="1489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320" y="1503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7280" y="1517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1880" y="1532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46480" y="1546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41080" y="1560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35680" y="1575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30640" y="1589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5240" y="1603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19840" y="1618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 rot="16200000">
                <a:off x="650520" y="1274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651240" y="1435320"/>
                <a:ext cx="68040" cy="26280"/>
                <a:chOff x="651240" y="1435320"/>
                <a:chExt cx="68040" cy="26280"/>
              </a:xfrm>
            </p:grpSpPr>
            <p:grpSp>
              <p:nvGrpSpPr>
                <p:cNvPr id="678" name=""/>
                <p:cNvGrpSpPr/>
                <p:nvPr/>
              </p:nvGrpSpPr>
              <p:grpSpPr>
                <a:xfrm>
                  <a:off x="651240" y="1435320"/>
                  <a:ext cx="68040" cy="26280"/>
                  <a:chOff x="651240" y="1435320"/>
                  <a:chExt cx="68040" cy="2628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651240" y="1435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19280" y="1435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51240" y="1435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>
                  <a:off x="657000" y="1436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89892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152280" y="2514600"/>
            <a:ext cx="4421520" cy="923400"/>
            <a:chOff x="152280" y="2514600"/>
            <a:chExt cx="4421520" cy="923400"/>
          </a:xfrm>
        </p:grpSpPr>
        <p:grpSp>
          <p:nvGrpSpPr>
            <p:cNvPr id="685" name=""/>
            <p:cNvGrpSpPr/>
            <p:nvPr/>
          </p:nvGrpSpPr>
          <p:grpSpPr>
            <a:xfrm>
              <a:off x="152280" y="2635200"/>
              <a:ext cx="1066680" cy="280800"/>
              <a:chOff x="152280" y="2635200"/>
              <a:chExt cx="1066680" cy="280800"/>
            </a:xfrm>
          </p:grpSpPr>
          <p:sp>
            <p:nvSpPr>
              <p:cNvPr id="686" name=""/>
              <p:cNvSpPr/>
              <p:nvPr/>
            </p:nvSpPr>
            <p:spPr>
              <a:xfrm>
                <a:off x="365760" y="2869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680" y="2828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160" y="28288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2280" y="2869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8880" y="28699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92000" y="28699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06200" y="2869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5240" y="2704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93440" y="2787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65760" y="2787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9600" y="2787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59920" y="2828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6160" y="27460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72680" y="27460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519840" y="2745720"/>
                <a:ext cx="330480" cy="170280"/>
                <a:chOff x="519840" y="2745720"/>
                <a:chExt cx="330480" cy="1702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79240" y="27457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73120" y="27597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7720" y="27734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320" y="27874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57280" y="28015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51880" y="28159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46480" y="28299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41080" y="28443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35680" y="28587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30640" y="28735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25240" y="28875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19840" y="29019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 rot="16200000">
                <a:off x="650520" y="2558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651240" y="2719080"/>
                <a:ext cx="68040" cy="26280"/>
                <a:chOff x="651240" y="2719080"/>
                <a:chExt cx="68040" cy="2628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651240" y="2719080"/>
                  <a:ext cx="68040" cy="26280"/>
                  <a:chOff x="651240" y="2719080"/>
                  <a:chExt cx="68040" cy="2628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651240" y="2719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19280" y="2719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51240" y="27190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9" name=""/>
                <p:cNvSpPr/>
                <p:nvPr/>
              </p:nvSpPr>
              <p:spPr>
                <a:xfrm>
                  <a:off x="657000" y="27205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898920" y="2828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1599480" y="2514600"/>
              <a:ext cx="29743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quality check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 use for 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52280" y="3886200"/>
            <a:ext cx="7061400" cy="1850760"/>
            <a:chOff x="152280" y="3886200"/>
            <a:chExt cx="7061400" cy="1850760"/>
          </a:xfrm>
        </p:grpSpPr>
        <p:grpSp>
          <p:nvGrpSpPr>
            <p:cNvPr id="723" name=""/>
            <p:cNvGrpSpPr/>
            <p:nvPr/>
          </p:nvGrpSpPr>
          <p:grpSpPr>
            <a:xfrm>
              <a:off x="152280" y="4006800"/>
              <a:ext cx="1066680" cy="280800"/>
              <a:chOff x="152280" y="4006800"/>
              <a:chExt cx="1066680" cy="280800"/>
            </a:xfrm>
          </p:grpSpPr>
          <p:sp>
            <p:nvSpPr>
              <p:cNvPr id="724" name=""/>
              <p:cNvSpPr/>
              <p:nvPr/>
            </p:nvSpPr>
            <p:spPr>
              <a:xfrm>
                <a:off x="365760" y="4241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2680" y="4200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6160" y="42004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52280" y="4241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8880" y="42415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92000" y="4241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06200" y="4241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5240" y="40762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3440" y="4159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5760" y="41594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79600" y="41594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59920" y="4200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6160" y="41176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72680" y="41176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519840" y="4117320"/>
                <a:ext cx="330480" cy="170280"/>
                <a:chOff x="519840" y="4117320"/>
                <a:chExt cx="330480" cy="1702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579240" y="41173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73120" y="41313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67720" y="41450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62320" y="41590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57280" y="41731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51880" y="41875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46480" y="42015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41080" y="42159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5680" y="42303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0640" y="42451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25240" y="42591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19840" y="42735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 rot="16200000">
                <a:off x="650520" y="3929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651240" y="4090680"/>
                <a:ext cx="68040" cy="26280"/>
                <a:chOff x="651240" y="4090680"/>
                <a:chExt cx="68040" cy="2628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651240" y="4090680"/>
                  <a:ext cx="68040" cy="26280"/>
                  <a:chOff x="651240" y="4090680"/>
                  <a:chExt cx="68040" cy="262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651240" y="40906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19280" y="40906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51240" y="40906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7" name=""/>
                <p:cNvSpPr/>
                <p:nvPr/>
              </p:nvSpPr>
              <p:spPr>
                <a:xfrm>
                  <a:off x="657000" y="40921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898920" y="4200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590840" y="3886200"/>
              <a:ext cx="5622840" cy="18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formation interchange in Siem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on‘t check the models tw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se different SI-tools, but the same IBIS-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odel / vendor exper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57200" y="1419120"/>
            <a:ext cx="8001000" cy="41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 expect that a model request is answered at least after 2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working days ( receipt of model reques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model has to be delivered within 2 wee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estions regarding the model should be answered within 1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each Product Change Notification (PCN) it must be st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whether a new model release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new die-shrinks new models have to b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al models for different process/voltage/temperature setting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(PVT) should also be delivered on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emens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457200" y="1422360"/>
            <a:ext cx="800100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keywords and parameters which are optional in the IBI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have to be supplied, according to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specificatio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aveform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vershoot parameter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ckage-information for each pin of the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 / Min / Max values for all entries are mandatory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 min &lt; typ &lt; max has to be satisfied as it is stated in t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-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data have to reflect closely the content of the correspondi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ook e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delivered IBIS models have to fulfill at least quality level1 a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described by the IBIS quality specification.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Info 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www.sisoft.com</a:t>
            </a:r>
            <a:r>
              <a:rPr b="0" lang="en-US" sz="20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/ibis-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BIS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24:34Z</dcterms:created>
  <dc:creator>Lenski Eckhard</dc:creator>
  <dc:description/>
  <dc:language>en-US</dc:language>
  <cp:lastModifiedBy>ICN Windows2000 Netz</cp:lastModifiedBy>
  <dcterms:modified xsi:type="dcterms:W3CDTF">2005-03-09T10:36:49Z</dcterms:modified>
  <cp:revision>53</cp:revision>
  <dc:subject/>
  <dc:title>Vorwort: Powerpoint Template für Siemens Communications</dc:title>
</cp:coreProperties>
</file>