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976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" name="Logo_grau_auf_gelb" descr=""/>
          <p:cNvPicPr/>
          <p:nvPr/>
        </p:nvPicPr>
        <p:blipFill>
          <a:blip r:embed="rId2"/>
          <a:stretch/>
        </p:blipFill>
        <p:spPr>
          <a:xfrm>
            <a:off x="7448400" y="277920"/>
            <a:ext cx="130176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8757360" y="4523040"/>
            <a:ext cx="53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FA33-809F-47CE-824E-BA7DC2792459}" type="slidenum">
              <a:rPr b="0" lang="en-US" sz="1000" spc="-1" strike="noStrike">
                <a:solidFill>
                  <a:srgbClr val="5f5f5f"/>
                </a:solidFill>
                <a:latin typeface="Siemens Sans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782920" y="490716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pag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2120" y="6477120"/>
            <a:ext cx="74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3366"/>
                </a:solidFill>
                <a:latin typeface="Arial"/>
              </a:rPr>
              <a:t>Information 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166212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973840" y="6477120"/>
            <a:ext cx="18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BIS Basics tutori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 rot="16200000">
            <a:off x="8261280" y="5973840"/>
            <a:ext cx="15242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003366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Mar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. 200</a:t>
            </a: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reichstag_w_text" descr=""/>
          <p:cNvPicPr/>
          <p:nvPr/>
        </p:nvPicPr>
        <p:blipFill>
          <a:blip r:embed="rId3"/>
          <a:srcRect l="0" t="61465" r="0" b="7811"/>
          <a:stretch/>
        </p:blipFill>
        <p:spPr>
          <a:xfrm>
            <a:off x="0" y="6477120"/>
            <a:ext cx="1662120" cy="3808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 rot="16200000">
            <a:off x="8745480" y="420372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of   </a:t>
            </a:r>
            <a:r>
              <a:rPr b="0" lang="de-DE" sz="1000" spc="-1" strike="noStrike">
                <a:solidFill>
                  <a:srgbClr val="5f5f5f"/>
                </a:solidFill>
                <a:latin typeface="Siemens Sans"/>
              </a:rPr>
              <a:t>3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rot="16200000">
            <a:off x="7701840" y="2326320"/>
            <a:ext cx="26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European  IBIS SUMMIT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200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" name="Reichstag2" descr=""/>
          <p:cNvPicPr/>
          <p:nvPr/>
        </p:nvPicPr>
        <p:blipFill>
          <a:blip r:embed="rId4"/>
          <a:srcRect l="18885" t="0" r="0" b="33242"/>
          <a:stretch/>
        </p:blipFill>
        <p:spPr>
          <a:xfrm>
            <a:off x="0" y="0"/>
            <a:ext cx="1587600" cy="113976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371520" y="647712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E. Lensk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666800" cy="6864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5596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19920" y="3429000"/>
            <a:ext cx="2437920" cy="388800"/>
            <a:chOff x="6019920" y="3429000"/>
            <a:chExt cx="2437920" cy="388800"/>
          </a:xfrm>
        </p:grpSpPr>
        <p:sp>
          <p:nvSpPr>
            <p:cNvPr id="73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415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415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97960" y="3436560"/>
              <a:ext cx="45684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7960" y="3436560"/>
              <a:ext cx="45684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ichstag2" descr=""/>
          <p:cNvPicPr/>
          <p:nvPr/>
        </p:nvPicPr>
        <p:blipFill>
          <a:blip r:embed="rId1"/>
          <a:srcRect l="18869" t="83384" r="0" b="0"/>
          <a:stretch/>
        </p:blipFill>
        <p:spPr>
          <a:xfrm>
            <a:off x="1660680" y="5710320"/>
            <a:ext cx="748332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900" spc="-1" strike="noStrike">
                <a:solidFill>
                  <a:srgbClr val="003366"/>
                </a:solidFill>
                <a:latin typeface="Arial"/>
              </a:rPr>
              <a:t>IBIS Basics Tutorial</a:t>
            </a: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18120" y="3429000"/>
            <a:ext cx="2438640" cy="388800"/>
            <a:chOff x="6018120" y="3429000"/>
            <a:chExt cx="2438640" cy="388800"/>
          </a:xfrm>
        </p:grpSpPr>
        <p:sp>
          <p:nvSpPr>
            <p:cNvPr id="127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97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97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96520" y="3436560"/>
              <a:ext cx="45720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6520" y="3436560"/>
              <a:ext cx="45720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1" name="Reichstag2" descr=""/>
          <p:cNvPicPr/>
          <p:nvPr/>
        </p:nvPicPr>
        <p:blipFill>
          <a:blip r:embed="rId2"/>
          <a:srcRect l="18885" t="0" r="0" b="33242"/>
          <a:stretch/>
        </p:blipFill>
        <p:spPr>
          <a:xfrm>
            <a:off x="1662120" y="0"/>
            <a:ext cx="748044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61760" y="5791320"/>
            <a:ext cx="748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ckhard Lenski     Siemens A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85960" y="6257880"/>
            <a:ext cx="453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uropean 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BIS SUMMIT Meeting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DATE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00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V-t Curv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054760" y="1046160"/>
            <a:ext cx="408924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Rising Waveform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_fixture       =    50.000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       =     3.3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_min   =     3.135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_max   =     3.465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Time      V(typ)        V(min)       V(max)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00ns        0.65V         0.76V         0.57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48ns        0.66V         0.77V         0.59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40ns        3.30V         3.13V         3.46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Falling Waveform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_fixture       =    50.000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       =     3.3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_min   =     3.135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_max   =     3.465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Time      V(typ)       V(min)       V(max)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00ns        3.30V         3.13V         3.46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21ns        3.28V         3.12V         3.43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14ns        0.65V         0.76V         0.57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0" y="1160640"/>
            <a:ext cx="4915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Ramp]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variable         typ              min              max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V/dt_r   1.60V/0.15ns 1.45V/0.21ns 1.74V/0.11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V/dt_f  1.50V/0.17ns  1.42V/0.24ns 1.73V/0.13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_load      =    50.000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Rising Waveform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_fixture       =    50.000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       =     0.0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Time   V(typ)         V(min)         V(max)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00ns       -0.000V         0.000V         0.0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40ns        2.677V         2.420V         2.908V   </a:t>
            </a: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Falling Waveform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_fixture       =    50.000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_fixture       =     0.0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Time         V(typ)         V(min)         V(max)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000ns        2.677V         2.420V         2.908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148ns       0.000V         0.000V         0.0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CA728-053D-4451-A96B-FCE3692F25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Vcc-References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57" name=""/>
          <p:cNvCxnSpPr>
            <a:stCxn id="1158" idx="0"/>
            <a:endCxn id="1159" idx="2"/>
          </p:cNvCxnSpPr>
          <p:nvPr/>
        </p:nvCxnSpPr>
        <p:spPr>
          <a:xfrm flipH="1" flipV="1" rot="5400000">
            <a:off x="6048720" y="3516480"/>
            <a:ext cx="1143720" cy="1964520"/>
          </a:xfrm>
          <a:prstGeom prst="curvedConnector5">
            <a:avLst>
              <a:gd name="adj1" fmla="val 51637"/>
              <a:gd name="adj2" fmla="val 50000"/>
              <a:gd name="adj3" fmla="val 51637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160" name=""/>
          <p:cNvCxnSpPr>
            <a:stCxn id="1161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162" name=""/>
          <p:cNvCxnSpPr>
            <a:stCxn id="1161" idx="2"/>
            <a:endCxn id="1163" idx="3"/>
          </p:cNvCxnSpPr>
          <p:nvPr/>
        </p:nvCxnSpPr>
        <p:spPr>
          <a:xfrm flipV="1" rot="16200000">
            <a:off x="2729160" y="2793960"/>
            <a:ext cx="1307160" cy="2375280"/>
          </a:xfrm>
          <a:prstGeom prst="curvedConnector5">
            <a:avLst>
              <a:gd name="adj1" fmla="val -17493"/>
              <a:gd name="adj2" fmla="val 30953"/>
              <a:gd name="adj3" fmla="val -17493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164" name=""/>
          <p:cNvCxnSpPr>
            <a:stCxn id="1165" idx="1"/>
            <a:endCxn id="1159" idx="2"/>
          </p:cNvCxnSpPr>
          <p:nvPr/>
        </p:nvCxnSpPr>
        <p:spPr>
          <a:xfrm rot="10800000">
            <a:off x="7601760" y="3926880"/>
            <a:ext cx="167040" cy="236124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1166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1167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1169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5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1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2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3" name=""/>
          <p:cNvSpPr/>
          <p:nvPr/>
        </p:nvSpPr>
        <p:spPr>
          <a:xfrm>
            <a:off x="3276720" y="2209680"/>
            <a:ext cx="284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204" name=""/>
          <p:cNvCxnSpPr>
            <a:stCxn id="1205" idx="1"/>
            <a:endCxn id="1163" idx="3"/>
          </p:cNvCxnSpPr>
          <p:nvPr/>
        </p:nvCxnSpPr>
        <p:spPr>
          <a:xfrm flipV="1" rot="10800000">
            <a:off x="2194920" y="2692080"/>
            <a:ext cx="4561200" cy="63720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206" name=""/>
          <p:cNvCxnSpPr>
            <a:stCxn id="1163" idx="3"/>
            <a:endCxn id="1207" idx="0"/>
          </p:cNvCxnSpPr>
          <p:nvPr/>
        </p:nvCxnSpPr>
        <p:spPr>
          <a:xfrm>
            <a:off x="2195280" y="3328920"/>
            <a:ext cx="129240" cy="143424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208" name=""/>
          <p:cNvCxnSpPr>
            <a:stCxn id="1207" idx="1"/>
            <a:endCxn id="1209" idx="2"/>
          </p:cNvCxnSpPr>
          <p:nvPr/>
        </p:nvCxnSpPr>
        <p:spPr>
          <a:xfrm flipH="1" flipV="1" rot="10800000">
            <a:off x="1074240" y="5157720"/>
            <a:ext cx="1286640" cy="1192680"/>
          </a:xfrm>
          <a:prstGeom prst="curvedConnector5">
            <a:avLst>
              <a:gd name="adj1" fmla="val -18387"/>
              <a:gd name="adj2" fmla="val 59601"/>
              <a:gd name="adj3" fmla="val -1838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210" name=""/>
          <p:cNvCxnSpPr>
            <a:endCxn id="1211" idx="3"/>
          </p:cNvCxnSpPr>
          <p:nvPr/>
        </p:nvCxnSpPr>
        <p:spPr>
          <a:xfrm>
            <a:off x="2230560" y="64386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212" name=""/>
          <p:cNvCxnSpPr>
            <a:stCxn id="1211" idx="2"/>
            <a:endCxn id="1165" idx="1"/>
          </p:cNvCxnSpPr>
          <p:nvPr/>
        </p:nvCxnSpPr>
        <p:spPr>
          <a:xfrm flipH="1" flipV="1" rot="5400000">
            <a:off x="6624360" y="5331960"/>
            <a:ext cx="189720" cy="2100960"/>
          </a:xfrm>
          <a:prstGeom prst="curvedConnector5">
            <a:avLst>
              <a:gd name="adj1" fmla="val -120912"/>
              <a:gd name="adj2" fmla="val 27626"/>
              <a:gd name="adj3" fmla="val -120912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213" name=""/>
          <p:cNvCxnSpPr>
            <a:stCxn id="1159" idx="2"/>
            <a:endCxn id="1214" idx="0"/>
          </p:cNvCxnSpPr>
          <p:nvPr/>
        </p:nvCxnSpPr>
        <p:spPr>
          <a:xfrm flipV="1" rot="16200000">
            <a:off x="6602400" y="2927520"/>
            <a:ext cx="1032840" cy="967320"/>
          </a:xfrm>
          <a:prstGeom prst="curvedConnector5">
            <a:avLst>
              <a:gd name="adj1" fmla="val -22140"/>
              <a:gd name="adj2" fmla="val 62137"/>
              <a:gd name="adj3" fmla="val -2214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215" name=""/>
          <p:cNvCxnSpPr>
            <a:stCxn id="1216" idx="3"/>
            <a:endCxn id="1211" idx="2"/>
          </p:cNvCxnSpPr>
          <p:nvPr/>
        </p:nvCxnSpPr>
        <p:spPr>
          <a:xfrm>
            <a:off x="1356840" y="4987440"/>
            <a:ext cx="4312440" cy="1490040"/>
          </a:xfrm>
          <a:prstGeom prst="curvedConnector5">
            <a:avLst>
              <a:gd name="adj1" fmla="val 47420"/>
              <a:gd name="adj2" fmla="val 57660"/>
              <a:gd name="adj3" fmla="val 4742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1217" name=""/>
          <p:cNvGrpSpPr/>
          <p:nvPr/>
        </p:nvGrpSpPr>
        <p:grpSpPr>
          <a:xfrm>
            <a:off x="228600" y="1143000"/>
            <a:ext cx="9334080" cy="5333760"/>
            <a:chOff x="228600" y="1143000"/>
            <a:chExt cx="9334080" cy="5333760"/>
          </a:xfrm>
        </p:grpSpPr>
        <p:grpSp>
          <p:nvGrpSpPr>
            <p:cNvPr id="1218" name=""/>
            <p:cNvGrpSpPr/>
            <p:nvPr/>
          </p:nvGrpSpPr>
          <p:grpSpPr>
            <a:xfrm>
              <a:off x="1066680" y="4711680"/>
              <a:ext cx="2514240" cy="1638000"/>
              <a:chOff x="1066680" y="4711680"/>
              <a:chExt cx="2514240" cy="163800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1219320" y="5668200"/>
                <a:ext cx="2286000" cy="681480"/>
                <a:chOff x="1219320" y="5668200"/>
                <a:chExt cx="2286000" cy="681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167688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190584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363760" y="613836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21932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1344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590560" y="623772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0488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018880" y="5837400"/>
                  <a:ext cx="69012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59200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67688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135520" y="603864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144900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362680" y="59385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1905840" y="593820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4" name=""/>
                <p:cNvGrpSpPr/>
                <p:nvPr/>
              </p:nvGrpSpPr>
              <p:grpSpPr>
                <a:xfrm>
                  <a:off x="2007360" y="5937120"/>
                  <a:ext cx="708120" cy="412560"/>
                  <a:chOff x="2007360" y="5937120"/>
                  <a:chExt cx="708120" cy="41256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2134440" y="5937120"/>
                    <a:ext cx="456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121480" y="5971320"/>
                    <a:ext cx="479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2109960" y="6004440"/>
                    <a:ext cx="5022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2098800" y="6038280"/>
                    <a:ext cx="524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2087280" y="6072480"/>
                    <a:ext cx="548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2076120" y="6107040"/>
                    <a:ext cx="570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2064240" y="6141600"/>
                    <a:ext cx="5940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2053080" y="6175800"/>
                    <a:ext cx="6166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041560" y="6210360"/>
                    <a:ext cx="639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2030400" y="6246720"/>
                    <a:ext cx="662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2018880" y="6280920"/>
                    <a:ext cx="6850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007360" y="6315120"/>
                    <a:ext cx="708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6" name=""/>
                <p:cNvSpPr/>
                <p:nvPr/>
              </p:nvSpPr>
              <p:spPr>
                <a:xfrm rot="16200000">
                  <a:off x="2276280" y="5513760"/>
                  <a:ext cx="169920" cy="47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7" name=""/>
                <p:cNvGrpSpPr/>
                <p:nvPr/>
              </p:nvGrpSpPr>
              <p:grpSpPr>
                <a:xfrm>
                  <a:off x="2288880" y="5872320"/>
                  <a:ext cx="145080" cy="64440"/>
                  <a:chOff x="2288880" y="5872320"/>
                  <a:chExt cx="145080" cy="64440"/>
                </a:xfrm>
              </p:grpSpPr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2288880" y="5872320"/>
                    <a:ext cx="145080" cy="64440"/>
                    <a:chOff x="2288880" y="5872320"/>
                    <a:chExt cx="145080" cy="64440"/>
                  </a:xfrm>
                </p:grpSpPr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228888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243324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2288880" y="5872320"/>
                      <a:ext cx="145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2" name=""/>
                  <p:cNvSpPr/>
                  <p:nvPr/>
                </p:nvSpPr>
                <p:spPr>
                  <a:xfrm>
                    <a:off x="2301480" y="5875920"/>
                    <a:ext cx="12240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3" name=""/>
                <p:cNvSpPr/>
                <p:nvPr/>
              </p:nvSpPr>
              <p:spPr>
                <a:xfrm>
                  <a:off x="281988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1066680" y="4711680"/>
                <a:ext cx="2514240" cy="892800"/>
                <a:chOff x="1066680" y="4711680"/>
                <a:chExt cx="2514240" cy="8928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1066680" y="4711680"/>
                  <a:ext cx="2514240" cy="892800"/>
                </a:xfrm>
                <a:prstGeom prst="cloudCallout">
                  <a:avLst>
                    <a:gd name="adj1" fmla="val 2430"/>
                    <a:gd name="adj2" fmla="val 4903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IBIS-Technologie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988280" y="5535720"/>
                  <a:ext cx="586800" cy="687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6" name=""/>
            <p:cNvGrpSpPr/>
            <p:nvPr/>
          </p:nvGrpSpPr>
          <p:grpSpPr>
            <a:xfrm>
              <a:off x="6324480" y="4265640"/>
              <a:ext cx="3238200" cy="2047680"/>
              <a:chOff x="6324480" y="4265640"/>
              <a:chExt cx="3238200" cy="2047680"/>
            </a:xfrm>
          </p:grpSpPr>
          <p:grpSp>
            <p:nvGrpSpPr>
              <p:cNvPr id="1257" name=""/>
              <p:cNvGrpSpPr/>
              <p:nvPr/>
            </p:nvGrpSpPr>
            <p:grpSpPr>
              <a:xfrm>
                <a:off x="7277040" y="5302080"/>
                <a:ext cx="1428840" cy="1011240"/>
                <a:chOff x="7277040" y="5302080"/>
                <a:chExt cx="1428840" cy="101124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7562880" y="61470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7706160" y="59994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992360" y="5999400"/>
                  <a:ext cx="28548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7277040" y="61470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849080" y="61470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134200" y="6147000"/>
                  <a:ext cx="28548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420760" y="61470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776720" y="5553360"/>
                  <a:ext cx="43128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135280" y="5851440"/>
                  <a:ext cx="28548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562880" y="5851440"/>
                  <a:ext cx="28548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7849800" y="585144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7420680" y="59994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991640" y="570312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706160" y="570312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2" name=""/>
                <p:cNvGrpSpPr/>
                <p:nvPr/>
              </p:nvGrpSpPr>
              <p:grpSpPr>
                <a:xfrm>
                  <a:off x="7769520" y="5700960"/>
                  <a:ext cx="442440" cy="612360"/>
                  <a:chOff x="7769520" y="5700960"/>
                  <a:chExt cx="442440" cy="61236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7849080" y="5700960"/>
                    <a:ext cx="28512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7840800" y="5751720"/>
                    <a:ext cx="29988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7833600" y="5800680"/>
                    <a:ext cx="31392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7826760" y="5851440"/>
                    <a:ext cx="32796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7819560" y="5902200"/>
                    <a:ext cx="34236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7812360" y="5953320"/>
                    <a:ext cx="35676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7805160" y="6004080"/>
                    <a:ext cx="37116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797960" y="6055200"/>
                    <a:ext cx="38520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7790760" y="6106680"/>
                    <a:ext cx="39960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7783920" y="6160680"/>
                    <a:ext cx="41400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7776720" y="6211440"/>
                    <a:ext cx="42804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7769520" y="6262200"/>
                    <a:ext cx="442440" cy="5112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4" name=""/>
                <p:cNvSpPr/>
                <p:nvPr/>
              </p:nvSpPr>
              <p:spPr>
                <a:xfrm rot="16200000">
                  <a:off x="7864920" y="5278320"/>
                  <a:ext cx="252000" cy="2991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5" name=""/>
                <p:cNvGrpSpPr/>
                <p:nvPr/>
              </p:nvGrpSpPr>
              <p:grpSpPr>
                <a:xfrm>
                  <a:off x="7945560" y="5605200"/>
                  <a:ext cx="90720" cy="95760"/>
                  <a:chOff x="7945560" y="5605200"/>
                  <a:chExt cx="90720" cy="95760"/>
                </a:xfrm>
              </p:grpSpPr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7945560" y="5605200"/>
                    <a:ext cx="90720" cy="95760"/>
                    <a:chOff x="7945560" y="5605200"/>
                    <a:chExt cx="90720" cy="9576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7945560" y="5605200"/>
                      <a:ext cx="0" cy="957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8035920" y="5605200"/>
                      <a:ext cx="0" cy="957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7945560" y="560520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90" name=""/>
                  <p:cNvSpPr/>
                  <p:nvPr/>
                </p:nvSpPr>
                <p:spPr>
                  <a:xfrm>
                    <a:off x="7953480" y="5610960"/>
                    <a:ext cx="76680" cy="9000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1" name=""/>
                <p:cNvSpPr/>
                <p:nvPr/>
              </p:nvSpPr>
              <p:spPr>
                <a:xfrm>
                  <a:off x="8277480" y="5999400"/>
                  <a:ext cx="285120" cy="1479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24480" y="4265640"/>
                <a:ext cx="3238200" cy="875880"/>
                <a:chOff x="6324480" y="4265640"/>
                <a:chExt cx="3238200" cy="87588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6324480" y="4265640"/>
                  <a:ext cx="3238200" cy="875880"/>
                </a:xfrm>
                <a:prstGeom prst="cloudCallout">
                  <a:avLst>
                    <a:gd name="adj1" fmla="val 277"/>
                    <a:gd name="adj2" fmla="val 54925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2800" spc="-1" strike="noStrike">
                      <a:solidFill>
                        <a:srgbClr val="003366"/>
                      </a:solidFill>
                      <a:latin typeface="Monotype Corsiva"/>
                    </a:rPr>
                    <a:t>Vcc-References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7619760" y="4902840"/>
                  <a:ext cx="539640" cy="78840"/>
                  <a:chOff x="7619760" y="4902840"/>
                  <a:chExt cx="539640" cy="7884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7619760" y="4902840"/>
                    <a:ext cx="107640" cy="7884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835400" y="4902840"/>
                    <a:ext cx="108000" cy="7884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8051400" y="4902840"/>
                    <a:ext cx="108000" cy="7884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98" name=""/>
            <p:cNvGrpSpPr/>
            <p:nvPr/>
          </p:nvGrpSpPr>
          <p:grpSpPr>
            <a:xfrm>
              <a:off x="4495680" y="5030640"/>
              <a:ext cx="2286000" cy="1446120"/>
              <a:chOff x="4495680" y="5030640"/>
              <a:chExt cx="2286000" cy="1446120"/>
            </a:xfrm>
          </p:grpSpPr>
          <p:grpSp>
            <p:nvGrpSpPr>
              <p:cNvPr id="1299" name=""/>
              <p:cNvGrpSpPr/>
              <p:nvPr/>
            </p:nvGrpSpPr>
            <p:grpSpPr>
              <a:xfrm>
                <a:off x="4952880" y="5795280"/>
                <a:ext cx="1430280" cy="681480"/>
                <a:chOff x="4952880" y="5795280"/>
                <a:chExt cx="1430280" cy="6814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52390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38236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668920" y="626544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9528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5252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810760" y="636480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976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5453280" y="5964480"/>
                  <a:ext cx="4316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581184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523908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5526000" y="616572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09652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5668200" y="60656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382360" y="606528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5446080" y="6064200"/>
                  <a:ext cx="442800" cy="412560"/>
                  <a:chOff x="5446080" y="6064200"/>
                  <a:chExt cx="442800" cy="41256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5525640" y="6064200"/>
                    <a:ext cx="285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5517360" y="6098400"/>
                    <a:ext cx="299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5510160" y="6131520"/>
                    <a:ext cx="314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503320" y="6165360"/>
                    <a:ext cx="3283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5496120" y="6199560"/>
                    <a:ext cx="3427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5488920" y="6234120"/>
                    <a:ext cx="357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5481720" y="6268680"/>
                    <a:ext cx="371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5474520" y="6302880"/>
                    <a:ext cx="3855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5467320" y="6337440"/>
                    <a:ext cx="399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5460480" y="6373800"/>
                    <a:ext cx="414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5453280" y="6408000"/>
                    <a:ext cx="428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446080" y="6442200"/>
                    <a:ext cx="4428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6" name=""/>
                <p:cNvSpPr/>
                <p:nvPr/>
              </p:nvSpPr>
              <p:spPr>
                <a:xfrm rot="16200000">
                  <a:off x="5582520" y="5730480"/>
                  <a:ext cx="169920" cy="299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5622120" y="5999400"/>
                  <a:ext cx="90720" cy="64440"/>
                  <a:chOff x="5622120" y="5999400"/>
                  <a:chExt cx="90720" cy="64440"/>
                </a:xfrm>
              </p:grpSpPr>
              <p:grpSp>
                <p:nvGrpSpPr>
                  <p:cNvPr id="1328" name=""/>
                  <p:cNvGrpSpPr/>
                  <p:nvPr/>
                </p:nvGrpSpPr>
                <p:grpSpPr>
                  <a:xfrm>
                    <a:off x="5622120" y="5999400"/>
                    <a:ext cx="90720" cy="64440"/>
                    <a:chOff x="5622120" y="5999400"/>
                    <a:chExt cx="90720" cy="64440"/>
                  </a:xfrm>
                </p:grpSpPr>
                <p:sp>
                  <p:nvSpPr>
                    <p:cNvPr id="1329" name=""/>
                    <p:cNvSpPr/>
                    <p:nvPr/>
                  </p:nvSpPr>
                  <p:spPr>
                    <a:xfrm>
                      <a:off x="562212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>
                      <a:off x="571248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5622120" y="599940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2" name=""/>
                  <p:cNvSpPr/>
                  <p:nvPr/>
                </p:nvSpPr>
                <p:spPr>
                  <a:xfrm>
                    <a:off x="5630040" y="6003000"/>
                    <a:ext cx="7668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3" name=""/>
                <p:cNvSpPr/>
                <p:nvPr/>
              </p:nvSpPr>
              <p:spPr>
                <a:xfrm>
                  <a:off x="595440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4495680" y="5030640"/>
                <a:ext cx="2286000" cy="701280"/>
                <a:chOff x="4495680" y="5030640"/>
                <a:chExt cx="2286000" cy="7012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495680" y="5030640"/>
                  <a:ext cx="2286000" cy="701280"/>
                </a:xfrm>
                <a:prstGeom prst="cloudCallout">
                  <a:avLst>
                    <a:gd name="adj1" fmla="val 972"/>
                    <a:gd name="adj2" fmla="val 5340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Parameter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5" name=""/>
                <p:cNvGrpSpPr/>
                <p:nvPr/>
              </p:nvGrpSpPr>
              <p:grpSpPr>
                <a:xfrm>
                  <a:off x="5334120" y="5540400"/>
                  <a:ext cx="533160" cy="63720"/>
                  <a:chOff x="5334120" y="5540400"/>
                  <a:chExt cx="533160" cy="637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53341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548640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563868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57913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40" name=""/>
            <p:cNvGrpSpPr/>
            <p:nvPr/>
          </p:nvGrpSpPr>
          <p:grpSpPr>
            <a:xfrm>
              <a:off x="6629400" y="2544840"/>
              <a:ext cx="1905120" cy="1382760"/>
              <a:chOff x="6629400" y="2544840"/>
              <a:chExt cx="1905120" cy="1382760"/>
            </a:xfrm>
          </p:grpSpPr>
          <p:grpSp>
            <p:nvGrpSpPr>
              <p:cNvPr id="1341" name=""/>
              <p:cNvGrpSpPr/>
              <p:nvPr/>
            </p:nvGrpSpPr>
            <p:grpSpPr>
              <a:xfrm>
                <a:off x="6858000" y="3309840"/>
                <a:ext cx="1488960" cy="617760"/>
                <a:chOff x="6858000" y="3309840"/>
                <a:chExt cx="1488960" cy="6177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715608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30512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603560" y="373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8580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45416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751160" y="382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0496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378920" y="3463200"/>
                  <a:ext cx="44964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75224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15608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454880" y="364536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00740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602840" y="355500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305120" y="355464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6" name=""/>
                <p:cNvGrpSpPr/>
                <p:nvPr/>
              </p:nvGrpSpPr>
              <p:grpSpPr>
                <a:xfrm>
                  <a:off x="7371360" y="3553560"/>
                  <a:ext cx="461160" cy="374040"/>
                  <a:chOff x="7371360" y="3553560"/>
                  <a:chExt cx="461160" cy="374040"/>
                </a:xfrm>
              </p:grpSpPr>
              <p:sp>
                <p:nvSpPr>
                  <p:cNvPr id="1357" name=""/>
                  <p:cNvSpPr/>
                  <p:nvPr/>
                </p:nvSpPr>
                <p:spPr>
                  <a:xfrm>
                    <a:off x="7454160" y="3553560"/>
                    <a:ext cx="2973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7445520" y="3584520"/>
                    <a:ext cx="3124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7438320" y="3614400"/>
                    <a:ext cx="3272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7430760" y="3645360"/>
                    <a:ext cx="342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7423560" y="3676320"/>
                    <a:ext cx="3571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7416000" y="3707640"/>
                    <a:ext cx="3718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7408440" y="3738960"/>
                    <a:ext cx="387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7400880" y="3769920"/>
                    <a:ext cx="4017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7393680" y="3801240"/>
                    <a:ext cx="4165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7386120" y="3834360"/>
                    <a:ext cx="4312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7378920" y="3865320"/>
                    <a:ext cx="4460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371360" y="3896280"/>
                    <a:ext cx="4611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8" name=""/>
                <p:cNvSpPr/>
                <p:nvPr/>
              </p:nvSpPr>
              <p:spPr>
                <a:xfrm rot="16200000">
                  <a:off x="7525080" y="3231000"/>
                  <a:ext cx="154080" cy="311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7554600" y="3494880"/>
                  <a:ext cx="94320" cy="58320"/>
                  <a:chOff x="7554600" y="3494880"/>
                  <a:chExt cx="94320" cy="58320"/>
                </a:xfrm>
              </p:grpSpPr>
              <p:grpSp>
                <p:nvGrpSpPr>
                  <p:cNvPr id="1370" name=""/>
                  <p:cNvGrpSpPr/>
                  <p:nvPr/>
                </p:nvGrpSpPr>
                <p:grpSpPr>
                  <a:xfrm>
                    <a:off x="7554600" y="3494880"/>
                    <a:ext cx="94320" cy="58320"/>
                    <a:chOff x="7554600" y="3494880"/>
                    <a:chExt cx="94320" cy="58320"/>
                  </a:xfrm>
                </p:grpSpPr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755460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>
                      <a:off x="764856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3" name=""/>
                    <p:cNvSpPr/>
                    <p:nvPr/>
                  </p:nvSpPr>
                  <p:spPr>
                    <a:xfrm>
                      <a:off x="7554600" y="3494880"/>
                      <a:ext cx="943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4" name=""/>
                  <p:cNvSpPr/>
                  <p:nvPr/>
                </p:nvSpPr>
                <p:spPr>
                  <a:xfrm>
                    <a:off x="7562520" y="3498120"/>
                    <a:ext cx="79560" cy="5508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5" name=""/>
                <p:cNvSpPr/>
                <p:nvPr/>
              </p:nvSpPr>
              <p:spPr>
                <a:xfrm>
                  <a:off x="790056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6629400" y="2544840"/>
                <a:ext cx="1905120" cy="701280"/>
                <a:chOff x="6629400" y="2544840"/>
                <a:chExt cx="1905120" cy="7012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6629400" y="2544840"/>
                  <a:ext cx="1905120" cy="701280"/>
                </a:xfrm>
                <a:prstGeom prst="cloudCallout">
                  <a:avLst>
                    <a:gd name="adj1" fmla="val 578"/>
                    <a:gd name="adj2" fmla="val 4659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Exampl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7" name=""/>
                <p:cNvGrpSpPr/>
                <p:nvPr/>
              </p:nvGrpSpPr>
              <p:grpSpPr>
                <a:xfrm>
                  <a:off x="7528680" y="3054600"/>
                  <a:ext cx="158400" cy="63720"/>
                  <a:chOff x="7528680" y="3054600"/>
                  <a:chExt cx="158400" cy="63720"/>
                </a:xfrm>
              </p:grpSpPr>
              <p:sp>
                <p:nvSpPr>
                  <p:cNvPr id="1378" name=""/>
                  <p:cNvSpPr/>
                  <p:nvPr/>
                </p:nvSpPr>
                <p:spPr>
                  <a:xfrm>
                    <a:off x="7528680" y="3054600"/>
                    <a:ext cx="525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7634160" y="3054600"/>
                    <a:ext cx="529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80" name=""/>
            <p:cNvGrpSpPr/>
            <p:nvPr/>
          </p:nvGrpSpPr>
          <p:grpSpPr>
            <a:xfrm>
              <a:off x="914400" y="1589040"/>
              <a:ext cx="2286000" cy="1765080"/>
              <a:chOff x="914400" y="1589040"/>
              <a:chExt cx="2286000" cy="176508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1447920" y="2353680"/>
                <a:ext cx="1142640" cy="1000440"/>
                <a:chOff x="1447920" y="2353680"/>
                <a:chExt cx="1142640" cy="100044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167688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179136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02032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144792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90584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3372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36268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1847520" y="2602440"/>
                  <a:ext cx="344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2133720" y="289692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67688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190584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562040" y="3043080"/>
                  <a:ext cx="22896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019240" y="275076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1791360" y="275076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6" name=""/>
                <p:cNvGrpSpPr/>
                <p:nvPr/>
              </p:nvGrpSpPr>
              <p:grpSpPr>
                <a:xfrm>
                  <a:off x="1841400" y="2748600"/>
                  <a:ext cx="354240" cy="605520"/>
                  <a:chOff x="1841400" y="2748600"/>
                  <a:chExt cx="354240" cy="605520"/>
                </a:xfrm>
              </p:grpSpPr>
              <p:sp>
                <p:nvSpPr>
                  <p:cNvPr id="1397" name=""/>
                  <p:cNvSpPr/>
                  <p:nvPr/>
                </p:nvSpPr>
                <p:spPr>
                  <a:xfrm>
                    <a:off x="1904760" y="2748600"/>
                    <a:ext cx="2286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1898280" y="2799000"/>
                    <a:ext cx="2401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1892880" y="2847240"/>
                    <a:ext cx="2512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1887120" y="2897280"/>
                    <a:ext cx="2628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1881360" y="2947320"/>
                    <a:ext cx="2743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1875600" y="2998080"/>
                    <a:ext cx="2854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1869840" y="3048480"/>
                    <a:ext cx="2973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1864080" y="3098880"/>
                    <a:ext cx="3085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1858320" y="3149640"/>
                    <a:ext cx="3200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1852920" y="3202920"/>
                    <a:ext cx="3315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1847160" y="3253320"/>
                    <a:ext cx="3427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1841400" y="3303360"/>
                    <a:ext cx="3542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8" name=""/>
                <p:cNvSpPr/>
                <p:nvPr/>
              </p:nvSpPr>
              <p:spPr>
                <a:xfrm rot="16200000">
                  <a:off x="1894320" y="2359080"/>
                  <a:ext cx="249480" cy="2386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9" name=""/>
                <p:cNvGrpSpPr/>
                <p:nvPr/>
              </p:nvGrpSpPr>
              <p:grpSpPr>
                <a:xfrm>
                  <a:off x="1982880" y="2654280"/>
                  <a:ext cx="71640" cy="93960"/>
                  <a:chOff x="1982880" y="2654280"/>
                  <a:chExt cx="71640" cy="9396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1982880" y="2654280"/>
                    <a:ext cx="71640" cy="93960"/>
                    <a:chOff x="1982880" y="2654280"/>
                    <a:chExt cx="71640" cy="9396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198288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205416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>
                      <a:off x="1982880" y="2654280"/>
                      <a:ext cx="7164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4" name=""/>
                  <p:cNvSpPr/>
                  <p:nvPr/>
                </p:nvSpPr>
                <p:spPr>
                  <a:xfrm>
                    <a:off x="1989000" y="2659680"/>
                    <a:ext cx="60480" cy="88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5" name=""/>
                <p:cNvSpPr/>
                <p:nvPr/>
              </p:nvSpPr>
              <p:spPr>
                <a:xfrm>
                  <a:off x="2248560" y="3043080"/>
                  <a:ext cx="22752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914400" y="1589040"/>
                <a:ext cx="2286000" cy="828720"/>
                <a:chOff x="914400" y="1589040"/>
                <a:chExt cx="2286000" cy="82872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914400" y="1589040"/>
                  <a:ext cx="2286000" cy="828720"/>
                </a:xfrm>
                <a:prstGeom prst="cloudCallout">
                  <a:avLst>
                    <a:gd name="adj1" fmla="val -972"/>
                    <a:gd name="adj2" fmla="val 5352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Conclusion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8" name=""/>
                <p:cNvGrpSpPr/>
                <p:nvPr/>
              </p:nvGrpSpPr>
              <p:grpSpPr>
                <a:xfrm>
                  <a:off x="1752480" y="2099160"/>
                  <a:ext cx="533520" cy="190800"/>
                  <a:chOff x="1752480" y="2099160"/>
                  <a:chExt cx="533520" cy="190800"/>
                </a:xfrm>
              </p:grpSpPr>
              <p:sp>
                <p:nvSpPr>
                  <p:cNvPr id="1419" name=""/>
                  <p:cNvSpPr/>
                  <p:nvPr/>
                </p:nvSpPr>
                <p:spPr>
                  <a:xfrm>
                    <a:off x="1752480" y="2226600"/>
                    <a:ext cx="53352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1905120" y="2099160"/>
                    <a:ext cx="228600" cy="63720"/>
                    <a:chOff x="1905120" y="2099160"/>
                    <a:chExt cx="228600" cy="6372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1905120" y="2099160"/>
                      <a:ext cx="7596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2057400" y="2099160"/>
                      <a:ext cx="7632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23" name=""/>
            <p:cNvGrpSpPr/>
            <p:nvPr/>
          </p:nvGrpSpPr>
          <p:grpSpPr>
            <a:xfrm>
              <a:off x="228600" y="3246480"/>
              <a:ext cx="1905120" cy="1764720"/>
              <a:chOff x="228600" y="3246480"/>
              <a:chExt cx="1905120" cy="1764720"/>
            </a:xfrm>
          </p:grpSpPr>
          <p:grpSp>
            <p:nvGrpSpPr>
              <p:cNvPr id="1424" name=""/>
              <p:cNvGrpSpPr/>
              <p:nvPr/>
            </p:nvGrpSpPr>
            <p:grpSpPr>
              <a:xfrm>
                <a:off x="609480" y="4074840"/>
                <a:ext cx="1143000" cy="936360"/>
                <a:chOff x="609480" y="4074840"/>
                <a:chExt cx="1143000" cy="93636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8380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9525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1181880" y="47206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094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10670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1295280" y="48571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5242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1009440" y="4307400"/>
                  <a:ext cx="34488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129600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3808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1067760" y="45835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2432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1181160" y="444636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952560" y="444600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9" name=""/>
                <p:cNvGrpSpPr/>
                <p:nvPr/>
              </p:nvGrpSpPr>
              <p:grpSpPr>
                <a:xfrm>
                  <a:off x="1003320" y="4444200"/>
                  <a:ext cx="353880" cy="567000"/>
                  <a:chOff x="1003320" y="4444200"/>
                  <a:chExt cx="353880" cy="567000"/>
                </a:xfrm>
              </p:grpSpPr>
              <p:sp>
                <p:nvSpPr>
                  <p:cNvPr id="1440" name=""/>
                  <p:cNvSpPr/>
                  <p:nvPr/>
                </p:nvSpPr>
                <p:spPr>
                  <a:xfrm>
                    <a:off x="1066680" y="4444200"/>
                    <a:ext cx="2282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1060200" y="4491360"/>
                    <a:ext cx="2397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1054440" y="4536720"/>
                    <a:ext cx="25092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1049040" y="4583520"/>
                    <a:ext cx="2624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1043280" y="4630320"/>
                    <a:ext cx="2739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1037520" y="4677840"/>
                    <a:ext cx="2854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1031760" y="4725000"/>
                    <a:ext cx="2970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1026000" y="4772160"/>
                    <a:ext cx="3081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1020240" y="4820040"/>
                    <a:ext cx="3196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1014840" y="4869720"/>
                    <a:ext cx="3312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1009080" y="4916880"/>
                    <a:ext cx="3423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1003320" y="4963680"/>
                    <a:ext cx="3538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1" name=""/>
                <p:cNvSpPr/>
                <p:nvPr/>
              </p:nvSpPr>
              <p:spPr>
                <a:xfrm rot="16200000">
                  <a:off x="1063800" y="4071600"/>
                  <a:ext cx="23328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2" name=""/>
                <p:cNvGrpSpPr/>
                <p:nvPr/>
              </p:nvGrpSpPr>
              <p:grpSpPr>
                <a:xfrm>
                  <a:off x="1144080" y="4355640"/>
                  <a:ext cx="72360" cy="88560"/>
                  <a:chOff x="1144080" y="4355640"/>
                  <a:chExt cx="72360" cy="88560"/>
                </a:xfrm>
              </p:grpSpPr>
              <p:grpSp>
                <p:nvGrpSpPr>
                  <p:cNvPr id="1453" name=""/>
                  <p:cNvGrpSpPr/>
                  <p:nvPr/>
                </p:nvGrpSpPr>
                <p:grpSpPr>
                  <a:xfrm>
                    <a:off x="1144080" y="4355640"/>
                    <a:ext cx="72360" cy="88560"/>
                    <a:chOff x="1144080" y="4355640"/>
                    <a:chExt cx="72360" cy="88560"/>
                  </a:xfrm>
                </p:grpSpPr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1144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1216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6" name=""/>
                    <p:cNvSpPr/>
                    <p:nvPr/>
                  </p:nvSpPr>
                  <p:spPr>
                    <a:xfrm>
                      <a:off x="1144080" y="435564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7" name=""/>
                  <p:cNvSpPr/>
                  <p:nvPr/>
                </p:nvSpPr>
                <p:spPr>
                  <a:xfrm>
                    <a:off x="1150200" y="4360680"/>
                    <a:ext cx="61200" cy="83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8" name=""/>
                <p:cNvSpPr/>
                <p:nvPr/>
              </p:nvSpPr>
              <p:spPr>
                <a:xfrm>
                  <a:off x="14097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228600" y="3246480"/>
                <a:ext cx="1905120" cy="765000"/>
                <a:chOff x="228600" y="3246480"/>
                <a:chExt cx="1905120" cy="76500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228600" y="3246480"/>
                  <a:ext cx="1905120" cy="765000"/>
                </a:xfrm>
                <a:prstGeom prst="cloudCallout">
                  <a:avLst>
                    <a:gd name="adj1" fmla="val 2083"/>
                    <a:gd name="adj2" fmla="val 6441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Literatur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1" name=""/>
                <p:cNvGrpSpPr/>
                <p:nvPr/>
              </p:nvGrpSpPr>
              <p:grpSpPr>
                <a:xfrm>
                  <a:off x="990720" y="3692520"/>
                  <a:ext cx="444240" cy="190800"/>
                  <a:chOff x="990720" y="3692520"/>
                  <a:chExt cx="444240" cy="190800"/>
                </a:xfrm>
              </p:grpSpPr>
              <p:sp>
                <p:nvSpPr>
                  <p:cNvPr id="1462" name=""/>
                  <p:cNvSpPr/>
                  <p:nvPr/>
                </p:nvSpPr>
                <p:spPr>
                  <a:xfrm>
                    <a:off x="990720" y="3819960"/>
                    <a:ext cx="44424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1180800" y="3692520"/>
                    <a:ext cx="633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64" name=""/>
            <p:cNvGrpSpPr/>
            <p:nvPr/>
          </p:nvGrpSpPr>
          <p:grpSpPr>
            <a:xfrm>
              <a:off x="5638680" y="1143000"/>
              <a:ext cx="2514600" cy="1572120"/>
              <a:chOff x="5638680" y="1143000"/>
              <a:chExt cx="2514600" cy="1572120"/>
            </a:xfrm>
          </p:grpSpPr>
          <p:grpSp>
            <p:nvGrpSpPr>
              <p:cNvPr id="1465" name=""/>
              <p:cNvGrpSpPr/>
              <p:nvPr/>
            </p:nvGrpSpPr>
            <p:grpSpPr>
              <a:xfrm>
                <a:off x="6400800" y="1779480"/>
                <a:ext cx="1031400" cy="935640"/>
                <a:chOff x="6400800" y="1779480"/>
                <a:chExt cx="1031400" cy="93564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660672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71040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9177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40080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8140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018920" y="25614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2262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761880" y="2012400"/>
                  <a:ext cx="31104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02036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606720" y="22878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81408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50412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916320" y="2151360"/>
                  <a:ext cx="20628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710400" y="215136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0" name=""/>
                <p:cNvGrpSpPr/>
                <p:nvPr/>
              </p:nvGrpSpPr>
              <p:grpSpPr>
                <a:xfrm>
                  <a:off x="6756120" y="2149200"/>
                  <a:ext cx="319320" cy="565920"/>
                  <a:chOff x="6756120" y="2149200"/>
                  <a:chExt cx="319320" cy="56592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>
                    <a:off x="6813360" y="2149200"/>
                    <a:ext cx="2059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6807600" y="2196360"/>
                    <a:ext cx="216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6802560" y="2241360"/>
                    <a:ext cx="2264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6797160" y="2288160"/>
                    <a:ext cx="236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6792120" y="2335320"/>
                    <a:ext cx="247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6787080" y="2382840"/>
                    <a:ext cx="2574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6781680" y="2429640"/>
                    <a:ext cx="2678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6776640" y="2476440"/>
                    <a:ext cx="2782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6771600" y="2524320"/>
                    <a:ext cx="288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6766200" y="2574000"/>
                    <a:ext cx="2988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6761160" y="2621160"/>
                    <a:ext cx="308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6756120" y="2667960"/>
                    <a:ext cx="319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 rot="16200000">
                  <a:off x="6799320" y="1788480"/>
                  <a:ext cx="233640" cy="2152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3" name=""/>
                <p:cNvGrpSpPr/>
                <p:nvPr/>
              </p:nvGrpSpPr>
              <p:grpSpPr>
                <a:xfrm>
                  <a:off x="6883560" y="2061000"/>
                  <a:ext cx="64800" cy="88200"/>
                  <a:chOff x="6883560" y="2061000"/>
                  <a:chExt cx="64800" cy="88200"/>
                </a:xfrm>
              </p:grpSpPr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6883560" y="2061000"/>
                    <a:ext cx="64800" cy="88200"/>
                    <a:chOff x="6883560" y="2061000"/>
                    <a:chExt cx="64800" cy="8820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68835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69483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6883560" y="2061000"/>
                      <a:ext cx="6480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8" name=""/>
                  <p:cNvSpPr/>
                  <p:nvPr/>
                </p:nvSpPr>
                <p:spPr>
                  <a:xfrm>
                    <a:off x="6888960" y="2066040"/>
                    <a:ext cx="54720" cy="83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9" name=""/>
                <p:cNvSpPr/>
                <p:nvPr/>
              </p:nvSpPr>
              <p:spPr>
                <a:xfrm>
                  <a:off x="71229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5638680" y="1143000"/>
                <a:ext cx="2514600" cy="636840"/>
                <a:chOff x="5638680" y="1143000"/>
                <a:chExt cx="2514600" cy="63684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5638680" y="1143000"/>
                  <a:ext cx="2514600" cy="636840"/>
                </a:xfrm>
                <a:prstGeom prst="cloudCallout">
                  <a:avLst>
                    <a:gd name="adj1" fmla="val -189"/>
                    <a:gd name="adj2" fmla="val 43541"/>
                  </a:avLst>
                </a:prstGeom>
                <a:solidFill>
                  <a:srgbClr val="7d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Overview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858000" y="1588680"/>
                  <a:ext cx="76320" cy="6336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CFCDF-9146-4C40-A8FC-1A5808CB57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5632560" y="4521240"/>
            <a:ext cx="1828800" cy="38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50200" y="3452760"/>
            <a:ext cx="1501560" cy="218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805200" y="3452760"/>
            <a:ext cx="1828800" cy="218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References for V-I Curv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104760" y="2895480"/>
            <a:ext cx="9039240" cy="2762280"/>
            <a:chOff x="104760" y="2895480"/>
            <a:chExt cx="9039240" cy="2762280"/>
          </a:xfrm>
        </p:grpSpPr>
        <p:sp>
          <p:nvSpPr>
            <p:cNvPr id="1508" name=""/>
            <p:cNvSpPr/>
            <p:nvPr/>
          </p:nvSpPr>
          <p:spPr>
            <a:xfrm>
              <a:off x="104760" y="3003480"/>
              <a:ext cx="90392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V-I Curves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Technology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nd Clamp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ower Clamp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down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u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sh-pull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nd 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ower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down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up Re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CL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nd 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ower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down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up Re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pen sink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nd 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ower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down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Pullup Ref)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pen source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nd 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ower Ref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en-GB" sz="16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(Pulldown Ref)</a:t>
              </a:r>
              <a:r>
                <a:rPr b="0" lang="en-GB" sz="18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ullup Re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4760" y="3463920"/>
              <a:ext cx="0" cy="2187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933560" y="2895480"/>
              <a:ext cx="0" cy="2756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800520" y="2895480"/>
              <a:ext cx="0" cy="2756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641920" y="2895480"/>
              <a:ext cx="0" cy="2756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432560" y="2895480"/>
              <a:ext cx="0" cy="2756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969400" y="2895480"/>
              <a:ext cx="0" cy="2756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4760" y="5651640"/>
              <a:ext cx="8852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4760" y="3936960"/>
              <a:ext cx="8852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4760" y="5283360"/>
              <a:ext cx="8852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4760" y="4902120"/>
              <a:ext cx="8852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4760" y="4533840"/>
              <a:ext cx="8852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20960" y="2895480"/>
              <a:ext cx="7035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760" y="3463920"/>
              <a:ext cx="8852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8FA40-8638-4CD1-9C64-7C8A7BD8B1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Power Clamp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5661000" y="4149720"/>
            <a:ext cx="3281400" cy="2327400"/>
            <a:chOff x="5661000" y="4149720"/>
            <a:chExt cx="3281400" cy="2327400"/>
          </a:xfrm>
        </p:grpSpPr>
        <p:sp>
          <p:nvSpPr>
            <p:cNvPr id="1524" name=""/>
            <p:cNvSpPr/>
            <p:nvPr/>
          </p:nvSpPr>
          <p:spPr>
            <a:xfrm>
              <a:off x="5956920" y="414972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gnd-reference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25" name=""/>
            <p:cNvGrpSpPr/>
            <p:nvPr/>
          </p:nvGrpSpPr>
          <p:grpSpPr>
            <a:xfrm>
              <a:off x="5661000" y="4560840"/>
              <a:ext cx="3281400" cy="1916280"/>
              <a:chOff x="5661000" y="4560840"/>
              <a:chExt cx="3281400" cy="1916280"/>
            </a:xfrm>
          </p:grpSpPr>
          <p:sp>
            <p:nvSpPr>
              <p:cNvPr id="1526" name=""/>
              <p:cNvSpPr/>
              <p:nvPr/>
            </p:nvSpPr>
            <p:spPr>
              <a:xfrm>
                <a:off x="6643800" y="4560840"/>
                <a:ext cx="0" cy="19162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110280" y="5724360"/>
                <a:ext cx="20653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40520" y="5295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263640" y="476568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6491160" y="5020200"/>
                <a:ext cx="1676520" cy="683640"/>
                <a:chOff x="6491160" y="5020200"/>
                <a:chExt cx="1676520" cy="68364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6491160" y="5703840"/>
                  <a:ext cx="1295280" cy="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V="1">
                  <a:off x="7786800" y="5635440"/>
                  <a:ext cx="152280" cy="684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V="1">
                  <a:off x="7939080" y="5020200"/>
                  <a:ext cx="228600" cy="61524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661000" y="5700600"/>
                <a:ext cx="3281400" cy="459720"/>
                <a:chOff x="5661000" y="5700600"/>
                <a:chExt cx="3281400" cy="45972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5661000" y="5700600"/>
                  <a:ext cx="757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-3.3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396120" y="5700600"/>
                  <a:ext cx="382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834240" y="5700600"/>
                  <a:ext cx="2108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2.5 3.3  5.8 6.6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6186600" y="5020200"/>
                <a:ext cx="1676520" cy="683640"/>
                <a:chOff x="6186600" y="5020200"/>
                <a:chExt cx="1676520" cy="68364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6186600" y="5703840"/>
                  <a:ext cx="1295280" cy="0"/>
                </a:xfrm>
                <a:prstGeom prst="line">
                  <a:avLst/>
                </a:prstGeom>
                <a:ln w="57240">
                  <a:solidFill>
                    <a:srgbClr val="5dc22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V="1">
                  <a:off x="7482240" y="5635440"/>
                  <a:ext cx="152280" cy="68400"/>
                </a:xfrm>
                <a:prstGeom prst="line">
                  <a:avLst/>
                </a:prstGeom>
                <a:ln w="57240">
                  <a:solidFill>
                    <a:srgbClr val="5dc22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V="1">
                  <a:off x="7634520" y="5020200"/>
                  <a:ext cx="228600" cy="615240"/>
                </a:xfrm>
                <a:prstGeom prst="line">
                  <a:avLst/>
                </a:prstGeom>
                <a:ln w="57240">
                  <a:solidFill>
                    <a:srgbClr val="5dc22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2" name=""/>
          <p:cNvGrpSpPr/>
          <p:nvPr/>
        </p:nvGrpSpPr>
        <p:grpSpPr>
          <a:xfrm>
            <a:off x="5942520" y="1155600"/>
            <a:ext cx="2237760" cy="2327400"/>
            <a:chOff x="5942520" y="1155600"/>
            <a:chExt cx="2237760" cy="2327400"/>
          </a:xfrm>
        </p:grpSpPr>
        <p:sp>
          <p:nvSpPr>
            <p:cNvPr id="1543" name=""/>
            <p:cNvSpPr/>
            <p:nvPr/>
          </p:nvSpPr>
          <p:spPr>
            <a:xfrm>
              <a:off x="6670800" y="1566720"/>
              <a:ext cx="0" cy="19162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5942520" y="1155600"/>
              <a:ext cx="2237760" cy="1685160"/>
              <a:chOff x="5942520" y="1155600"/>
              <a:chExt cx="2237760" cy="1685160"/>
            </a:xfrm>
          </p:grpSpPr>
          <p:sp>
            <p:nvSpPr>
              <p:cNvPr id="1545" name=""/>
              <p:cNvSpPr/>
              <p:nvPr/>
            </p:nvSpPr>
            <p:spPr>
              <a:xfrm>
                <a:off x="5942520" y="1155600"/>
                <a:ext cx="206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cc-reference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815240" y="2441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00360" y="1731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6060600" y="2072880"/>
                <a:ext cx="1676520" cy="683640"/>
                <a:chOff x="6060600" y="2072880"/>
                <a:chExt cx="1676520" cy="683640"/>
              </a:xfrm>
            </p:grpSpPr>
            <p:sp>
              <p:nvSpPr>
                <p:cNvPr id="1549" name=""/>
                <p:cNvSpPr/>
                <p:nvPr/>
              </p:nvSpPr>
              <p:spPr>
                <a:xfrm flipH="1">
                  <a:off x="6441840" y="2756520"/>
                  <a:ext cx="1295280" cy="0"/>
                </a:xfrm>
                <a:prstGeom prst="line">
                  <a:avLst/>
                </a:prstGeom>
                <a:ln w="5724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>
                  <a:off x="6289200" y="2688120"/>
                  <a:ext cx="152280" cy="68400"/>
                </a:xfrm>
                <a:prstGeom prst="line">
                  <a:avLst/>
                </a:prstGeom>
                <a:ln w="5724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 flipV="1">
                  <a:off x="6060600" y="2072880"/>
                  <a:ext cx="228600" cy="615240"/>
                </a:xfrm>
                <a:prstGeom prst="line">
                  <a:avLst/>
                </a:prstGeom>
                <a:ln w="5724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52" name=""/>
          <p:cNvGrpSpPr/>
          <p:nvPr/>
        </p:nvGrpSpPr>
        <p:grpSpPr>
          <a:xfrm>
            <a:off x="228960" y="1360440"/>
            <a:ext cx="4609800" cy="2836080"/>
            <a:chOff x="228960" y="1360440"/>
            <a:chExt cx="4609800" cy="2836080"/>
          </a:xfrm>
        </p:grpSpPr>
        <p:grpSp>
          <p:nvGrpSpPr>
            <p:cNvPr id="1553" name=""/>
            <p:cNvGrpSpPr/>
            <p:nvPr/>
          </p:nvGrpSpPr>
          <p:grpSpPr>
            <a:xfrm>
              <a:off x="299880" y="1908000"/>
              <a:ext cx="4538880" cy="2288520"/>
              <a:chOff x="299880" y="1908000"/>
              <a:chExt cx="4538880" cy="2288520"/>
            </a:xfrm>
          </p:grpSpPr>
          <p:sp>
            <p:nvSpPr>
              <p:cNvPr id="1554" name=""/>
              <p:cNvSpPr/>
              <p:nvPr/>
            </p:nvSpPr>
            <p:spPr>
              <a:xfrm>
                <a:off x="299880" y="1920960"/>
                <a:ext cx="838440" cy="22194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3080" y="1908000"/>
                <a:ext cx="44956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-3.3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100m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-1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  10m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-0.5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    1m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0.0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    0m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3.3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    0m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6.6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    0mA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228960" y="13604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Vtabl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429720" y="136044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724640" y="2757600"/>
            <a:ext cx="3470040" cy="500760"/>
            <a:chOff x="4724640" y="2757600"/>
            <a:chExt cx="3470040" cy="500760"/>
          </a:xfrm>
        </p:grpSpPr>
        <p:sp>
          <p:nvSpPr>
            <p:cNvPr id="1559" name=""/>
            <p:cNvSpPr/>
            <p:nvPr/>
          </p:nvSpPr>
          <p:spPr>
            <a:xfrm>
              <a:off x="6060960" y="2757600"/>
              <a:ext cx="21337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5757480" y="2798640"/>
              <a:ext cx="2238120" cy="459720"/>
              <a:chOff x="5757480" y="2798640"/>
              <a:chExt cx="2238120" cy="459720"/>
            </a:xfrm>
          </p:grpSpPr>
          <p:sp>
            <p:nvSpPr>
              <p:cNvPr id="1561" name=""/>
              <p:cNvSpPr/>
              <p:nvPr/>
            </p:nvSpPr>
            <p:spPr>
              <a:xfrm>
                <a:off x="5757480" y="2798640"/>
                <a:ext cx="6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66ff"/>
                    </a:solidFill>
                    <a:latin typeface="Times New Roman"/>
                  </a:rPr>
                  <a:t>-3.3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671880" y="2798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66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434000" y="27986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66ff"/>
                    </a:solidFill>
                    <a:latin typeface="Times New Roman"/>
                  </a:rPr>
                  <a:t>3.3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>
              <a:off x="4724640" y="27986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Vtabl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03840" y="5068800"/>
            <a:ext cx="2716560" cy="1076040"/>
            <a:chOff x="303840" y="5068800"/>
            <a:chExt cx="2716560" cy="1076040"/>
          </a:xfrm>
        </p:grpSpPr>
        <p:sp>
          <p:nvSpPr>
            <p:cNvPr id="1566" name=""/>
            <p:cNvSpPr/>
            <p:nvPr/>
          </p:nvSpPr>
          <p:spPr>
            <a:xfrm>
              <a:off x="303840" y="506880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Vtable</a:t>
              </a:r>
              <a:r>
                <a:rPr b="0" lang="de-DE" sz="24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= </a:t>
              </a:r>
              <a:r>
                <a:rPr b="0" i="1" lang="de-DE" sz="2400" spc="-1" strike="noStrike">
                  <a:solidFill>
                    <a:srgbClr val="010000"/>
                  </a:solidFill>
                  <a:latin typeface="Times New Roman"/>
                </a:rPr>
                <a:t>Vcc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- 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56851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= </a:t>
              </a:r>
              <a:r>
                <a:rPr b="0" i="1" lang="de-DE" sz="2400" spc="-1" strike="noStrike">
                  <a:solidFill>
                    <a:srgbClr val="010000"/>
                  </a:solidFill>
                  <a:latin typeface="Times New Roman"/>
                </a:rPr>
                <a:t>Vcc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- </a:t>
              </a:r>
              <a:r>
                <a:rPr b="0" lang="de-DE" sz="2400" spc="-1" strike="noStrike">
                  <a:solidFill>
                    <a:srgbClr val="0066ff"/>
                  </a:solidFill>
                  <a:latin typeface="Times New Roman"/>
                </a:rPr>
                <a:t>Vtabl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1674360" y="3263760"/>
            <a:ext cx="6092640" cy="1280520"/>
            <a:chOff x="1674360" y="3263760"/>
            <a:chExt cx="6092640" cy="1280520"/>
          </a:xfrm>
        </p:grpSpPr>
        <p:grpSp>
          <p:nvGrpSpPr>
            <p:cNvPr id="1569" name=""/>
            <p:cNvGrpSpPr/>
            <p:nvPr/>
          </p:nvGrpSpPr>
          <p:grpSpPr>
            <a:xfrm>
              <a:off x="4827600" y="3263760"/>
              <a:ext cx="2939400" cy="459720"/>
              <a:chOff x="4827600" y="3263760"/>
              <a:chExt cx="2939400" cy="45972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5757840" y="3263760"/>
                <a:ext cx="2009160" cy="459720"/>
                <a:chOff x="5757840" y="3263760"/>
                <a:chExt cx="2009160" cy="45972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5757840" y="32637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6.6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6671880" y="32637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3.3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434000" y="3263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4" name=""/>
              <p:cNvSpPr/>
              <p:nvPr/>
            </p:nvSpPr>
            <p:spPr>
              <a:xfrm>
                <a:off x="4827600" y="326376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ou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1674360" y="3492000"/>
              <a:ext cx="3151800" cy="1052280"/>
              <a:chOff x="1674360" y="3492000"/>
              <a:chExt cx="3151800" cy="1052280"/>
            </a:xfrm>
          </p:grpSpPr>
          <p:sp>
            <p:nvSpPr>
              <p:cNvPr id="1576" name=""/>
              <p:cNvSpPr/>
              <p:nvPr/>
            </p:nvSpPr>
            <p:spPr>
              <a:xfrm>
                <a:off x="2821680" y="4084560"/>
                <a:ext cx="134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cc 3.3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cxnSp>
            <p:nvCxnSpPr>
              <p:cNvPr id="1577" name=""/>
              <p:cNvCxnSpPr>
                <a:stCxn id="1576" idx="1"/>
                <a:endCxn id="1578" idx="2"/>
              </p:cNvCxnSpPr>
              <p:nvPr/>
            </p:nvCxnSpPr>
            <p:spPr>
              <a:xfrm rot="10800000">
                <a:off x="1674000" y="4135320"/>
                <a:ext cx="1145520" cy="178200"/>
              </a:xfrm>
              <a:prstGeom prst="bentConnector2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</p:cxnSp>
          <p:cxnSp>
            <p:nvCxnSpPr>
              <p:cNvPr id="1579" name=""/>
              <p:cNvCxnSpPr>
                <a:stCxn id="1576" idx="3"/>
                <a:endCxn id="1574" idx="1"/>
              </p:cNvCxnSpPr>
              <p:nvPr/>
            </p:nvCxnSpPr>
            <p:spPr>
              <a:xfrm flipV="1">
                <a:off x="4171680" y="3492000"/>
                <a:ext cx="654840" cy="821520"/>
              </a:xfrm>
              <a:prstGeom prst="bentConnector3">
                <a:avLst>
                  <a:gd name="adj1" fmla="val 50000"/>
                </a:avLst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2552400" y="3610080"/>
            <a:ext cx="5557680" cy="1437840"/>
            <a:chOff x="2552400" y="3610080"/>
            <a:chExt cx="5557680" cy="1437840"/>
          </a:xfrm>
        </p:grpSpPr>
        <p:grpSp>
          <p:nvGrpSpPr>
            <p:cNvPr id="1581" name=""/>
            <p:cNvGrpSpPr/>
            <p:nvPr/>
          </p:nvGrpSpPr>
          <p:grpSpPr>
            <a:xfrm>
              <a:off x="4840200" y="3610080"/>
              <a:ext cx="3269880" cy="479520"/>
              <a:chOff x="4840200" y="3610080"/>
              <a:chExt cx="3269880" cy="479520"/>
            </a:xfrm>
          </p:grpSpPr>
          <p:grpSp>
            <p:nvGrpSpPr>
              <p:cNvPr id="1582" name=""/>
              <p:cNvGrpSpPr/>
              <p:nvPr/>
            </p:nvGrpSpPr>
            <p:grpSpPr>
              <a:xfrm>
                <a:off x="5770440" y="3610080"/>
                <a:ext cx="2339640" cy="459720"/>
                <a:chOff x="5770440" y="3610080"/>
                <a:chExt cx="2339640" cy="45972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5770440" y="361008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5dc22a"/>
                      </a:solidFill>
                      <a:latin typeface="Times New Roman"/>
                    </a:rPr>
                    <a:t>5.8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684480" y="361008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5dc22a"/>
                      </a:solidFill>
                      <a:latin typeface="Times New Roman"/>
                    </a:rPr>
                    <a:t>2.5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446240" y="3610080"/>
                  <a:ext cx="663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5dc22a"/>
                      </a:solidFill>
                      <a:latin typeface="Times New Roman"/>
                    </a:rPr>
                    <a:t>-0.8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6" name=""/>
              <p:cNvSpPr/>
              <p:nvPr/>
            </p:nvSpPr>
            <p:spPr>
              <a:xfrm>
                <a:off x="4840200" y="3629880"/>
                <a:ext cx="79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5dc22a"/>
                    </a:solidFill>
                    <a:latin typeface="Times New Roman"/>
                  </a:rPr>
                  <a:t>Vou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2552400" y="3834720"/>
              <a:ext cx="2286360" cy="1213200"/>
              <a:chOff x="2552400" y="3834720"/>
              <a:chExt cx="2286360" cy="1213200"/>
            </a:xfrm>
          </p:grpSpPr>
          <p:sp>
            <p:nvSpPr>
              <p:cNvPr id="1588" name=""/>
              <p:cNvSpPr/>
              <p:nvPr/>
            </p:nvSpPr>
            <p:spPr>
              <a:xfrm>
                <a:off x="2834280" y="4588200"/>
                <a:ext cx="134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5dc22a"/>
                    </a:solidFill>
                    <a:latin typeface="Times New Roman"/>
                  </a:rPr>
                  <a:t>Vcc 2.5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cxnSp>
            <p:nvCxnSpPr>
              <p:cNvPr id="1589" name=""/>
              <p:cNvCxnSpPr>
                <a:stCxn id="1588" idx="1"/>
                <a:endCxn id="1590" idx="2"/>
              </p:cNvCxnSpPr>
              <p:nvPr/>
            </p:nvCxnSpPr>
            <p:spPr>
              <a:xfrm rot="10800000">
                <a:off x="2552040" y="4066920"/>
                <a:ext cx="280080" cy="726480"/>
              </a:xfrm>
              <a:prstGeom prst="bentConnector2">
                <a:avLst/>
              </a:prstGeom>
              <a:ln w="38160">
                <a:solidFill>
                  <a:srgbClr val="5dc22a"/>
                </a:solidFill>
                <a:miter/>
                <a:tailEnd len="med" type="triangle" w="med"/>
              </a:ln>
            </p:spPr>
          </p:cxnSp>
          <p:cxnSp>
            <p:nvCxnSpPr>
              <p:cNvPr id="1591" name=""/>
              <p:cNvCxnSpPr>
                <a:stCxn id="1588" idx="3"/>
                <a:endCxn id="1586" idx="1"/>
              </p:cNvCxnSpPr>
              <p:nvPr/>
            </p:nvCxnSpPr>
            <p:spPr>
              <a:xfrm flipV="1">
                <a:off x="4184280" y="3834720"/>
                <a:ext cx="654840" cy="958680"/>
              </a:xfrm>
              <a:prstGeom prst="bentConnector3">
                <a:avLst>
                  <a:gd name="adj1" fmla="val 50000"/>
                </a:avLst>
              </a:prstGeom>
              <a:ln w="38160">
                <a:solidFill>
                  <a:srgbClr val="5dc22a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592" name=""/>
          <p:cNvGrpSpPr/>
          <p:nvPr/>
        </p:nvGrpSpPr>
        <p:grpSpPr>
          <a:xfrm>
            <a:off x="1255680" y="1360440"/>
            <a:ext cx="1981080" cy="2849040"/>
            <a:chOff x="1255680" y="1360440"/>
            <a:chExt cx="1981080" cy="2849040"/>
          </a:xfrm>
        </p:grpSpPr>
        <p:sp>
          <p:nvSpPr>
            <p:cNvPr id="1593" name=""/>
            <p:cNvSpPr/>
            <p:nvPr/>
          </p:nvSpPr>
          <p:spPr>
            <a:xfrm>
              <a:off x="1678320" y="1360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255680" y="1920960"/>
              <a:ext cx="1981080" cy="2288520"/>
              <a:chOff x="1255680" y="1920960"/>
              <a:chExt cx="1981080" cy="2288520"/>
            </a:xfrm>
          </p:grpSpPr>
          <p:sp>
            <p:nvSpPr>
              <p:cNvPr id="1590" name=""/>
              <p:cNvSpPr/>
              <p:nvPr/>
            </p:nvSpPr>
            <p:spPr>
              <a:xfrm>
                <a:off x="2170080" y="1920960"/>
                <a:ext cx="838080" cy="221508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255680" y="1920960"/>
                <a:ext cx="838080" cy="2215080"/>
              </a:xfrm>
              <a:prstGeom prst="rect">
                <a:avLst/>
              </a:prstGeom>
              <a:solidFill>
                <a:srgbClr val="ff66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255680" y="1920960"/>
                <a:ext cx="19810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6.6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5.8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4.3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3.5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3.8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3.0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3.3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2.5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0.0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-0.8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-3.3V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	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-4.1V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B7164-6C48-4995-84A1-4EAB08663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312840" y="1790640"/>
            <a:ext cx="5327640" cy="4367160"/>
          </a:xfrm>
          <a:prstGeom prst="hexagon">
            <a:avLst>
              <a:gd name="adj" fmla="val 30498"/>
              <a:gd name="vf" fmla="val 115470"/>
            </a:avLst>
          </a:prstGeom>
          <a:solidFill>
            <a:srgbClr val="ffffff"/>
          </a:solidFill>
          <a:ln w="38160">
            <a:solidFill>
              <a:srgbClr val="65d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Pullup Curv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1243080" y="3106800"/>
            <a:ext cx="2350440" cy="2989800"/>
            <a:chOff x="1243080" y="3106800"/>
            <a:chExt cx="2350440" cy="2989800"/>
          </a:xfrm>
        </p:grpSpPr>
        <p:sp>
          <p:nvSpPr>
            <p:cNvPr id="1599" name=""/>
            <p:cNvSpPr/>
            <p:nvPr/>
          </p:nvSpPr>
          <p:spPr>
            <a:xfrm>
              <a:off x="1835280" y="3411360"/>
              <a:ext cx="0" cy="21337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766880" y="4674960"/>
              <a:ext cx="1608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02320" y="41734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243080" y="3639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I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03" name=""/>
            <p:cNvGrpSpPr/>
            <p:nvPr/>
          </p:nvGrpSpPr>
          <p:grpSpPr>
            <a:xfrm>
              <a:off x="1816200" y="3570120"/>
              <a:ext cx="1460520" cy="1168200"/>
              <a:chOff x="1816200" y="3570120"/>
              <a:chExt cx="1460520" cy="1168200"/>
            </a:xfrm>
          </p:grpSpPr>
          <p:sp>
            <p:nvSpPr>
              <p:cNvPr id="1604" name=""/>
              <p:cNvSpPr/>
              <p:nvPr/>
            </p:nvSpPr>
            <p:spPr>
              <a:xfrm flipV="1">
                <a:off x="1816200" y="4284360"/>
                <a:ext cx="243000" cy="453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>
                <a:off x="2059200" y="3959280"/>
                <a:ext cx="244440" cy="325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2303640" y="3700080"/>
                <a:ext cx="388800" cy="2588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flipV="1">
                <a:off x="2692440" y="3570120"/>
                <a:ext cx="584280" cy="1303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1816200" y="4674960"/>
              <a:ext cx="1413000" cy="777960"/>
              <a:chOff x="1816200" y="4674960"/>
              <a:chExt cx="1413000" cy="777960"/>
            </a:xfrm>
          </p:grpSpPr>
          <p:sp>
            <p:nvSpPr>
              <p:cNvPr id="1609" name=""/>
              <p:cNvSpPr/>
              <p:nvPr/>
            </p:nvSpPr>
            <p:spPr>
              <a:xfrm>
                <a:off x="1816200" y="4674960"/>
                <a:ext cx="49320" cy="1936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865160" y="4868640"/>
                <a:ext cx="195120" cy="325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060280" y="5194080"/>
                <a:ext cx="341280" cy="19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401920" y="5389560"/>
                <a:ext cx="535320" cy="633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937240" y="5452920"/>
                <a:ext cx="291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1834920" y="5392800"/>
              <a:ext cx="8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igh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up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834200" y="3106800"/>
              <a:ext cx="114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Low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dow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5587920" y="3106800"/>
            <a:ext cx="2350440" cy="2989800"/>
            <a:chOff x="5587920" y="3106800"/>
            <a:chExt cx="2350440" cy="2989800"/>
          </a:xfrm>
        </p:grpSpPr>
        <p:sp>
          <p:nvSpPr>
            <p:cNvPr id="1617" name=""/>
            <p:cNvSpPr/>
            <p:nvPr/>
          </p:nvSpPr>
          <p:spPr>
            <a:xfrm>
              <a:off x="6180120" y="3411360"/>
              <a:ext cx="0" cy="21337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11720" y="4674960"/>
              <a:ext cx="1608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47160" y="41734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587920" y="363996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I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21" name=""/>
            <p:cNvGrpSpPr/>
            <p:nvPr/>
          </p:nvGrpSpPr>
          <p:grpSpPr>
            <a:xfrm>
              <a:off x="6161040" y="3570120"/>
              <a:ext cx="1460520" cy="1168200"/>
              <a:chOff x="6161040" y="3570120"/>
              <a:chExt cx="1460520" cy="1168200"/>
            </a:xfrm>
          </p:grpSpPr>
          <p:sp>
            <p:nvSpPr>
              <p:cNvPr id="1622" name=""/>
              <p:cNvSpPr/>
              <p:nvPr/>
            </p:nvSpPr>
            <p:spPr>
              <a:xfrm flipV="1">
                <a:off x="6161040" y="4284360"/>
                <a:ext cx="243000" cy="453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6404040" y="3959280"/>
                <a:ext cx="244440" cy="325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6648480" y="3700080"/>
                <a:ext cx="388800" cy="2588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7037280" y="3570120"/>
                <a:ext cx="584280" cy="1303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6160680" y="4674960"/>
              <a:ext cx="1413000" cy="777960"/>
              <a:chOff x="6160680" y="4674960"/>
              <a:chExt cx="1413000" cy="777960"/>
            </a:xfrm>
          </p:grpSpPr>
          <p:sp>
            <p:nvSpPr>
              <p:cNvPr id="1627" name=""/>
              <p:cNvSpPr/>
              <p:nvPr/>
            </p:nvSpPr>
            <p:spPr>
              <a:xfrm flipH="1">
                <a:off x="7524360" y="4674960"/>
                <a:ext cx="49320" cy="1936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7329600" y="4868640"/>
                <a:ext cx="195120" cy="325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>
                <a:off x="6988320" y="5194080"/>
                <a:ext cx="341280" cy="19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6452640" y="5389560"/>
                <a:ext cx="535320" cy="633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>
                <a:off x="6160680" y="5452920"/>
                <a:ext cx="291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32" name=""/>
            <p:cNvSpPr/>
            <p:nvPr/>
          </p:nvSpPr>
          <p:spPr>
            <a:xfrm>
              <a:off x="6179760" y="5392800"/>
              <a:ext cx="8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igh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up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179040" y="3106800"/>
              <a:ext cx="114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Low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dow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5925240" y="2068560"/>
            <a:ext cx="250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Gnd Reference f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ullup &amp; pulldow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1229760" y="2068560"/>
            <a:ext cx="3679920" cy="993240"/>
            <a:chOff x="1229760" y="2068560"/>
            <a:chExt cx="3679920" cy="993240"/>
          </a:xfrm>
        </p:grpSpPr>
        <p:sp>
          <p:nvSpPr>
            <p:cNvPr id="1636" name=""/>
            <p:cNvSpPr/>
            <p:nvPr/>
          </p:nvSpPr>
          <p:spPr>
            <a:xfrm>
              <a:off x="1229760" y="2602080"/>
              <a:ext cx="367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Gnd Reference for pulldow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391760" y="2068560"/>
              <a:ext cx="32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cc Reference for pullu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1494360" y="12049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BIS-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ECCE1-4FC5-4BE8-969A-E42C5EB543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0" y="1790640"/>
            <a:ext cx="5327640" cy="4367160"/>
          </a:xfrm>
          <a:prstGeom prst="hexagon">
            <a:avLst>
              <a:gd name="adj" fmla="val 30498"/>
              <a:gd name="vf" fmla="val 115470"/>
            </a:avLst>
          </a:prstGeom>
          <a:solidFill>
            <a:srgbClr val="ffffff"/>
          </a:solidFill>
          <a:ln w="38160">
            <a:solidFill>
              <a:srgbClr val="65d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ECL Curv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5472720" y="3127320"/>
            <a:ext cx="2445120" cy="2966760"/>
            <a:chOff x="5472720" y="3127320"/>
            <a:chExt cx="2445120" cy="2966760"/>
          </a:xfrm>
        </p:grpSpPr>
        <p:sp>
          <p:nvSpPr>
            <p:cNvPr id="1642" name=""/>
            <p:cNvSpPr/>
            <p:nvPr/>
          </p:nvSpPr>
          <p:spPr>
            <a:xfrm>
              <a:off x="6464520" y="3127320"/>
              <a:ext cx="0" cy="21337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226640" y="388944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02400" y="335592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I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73640" y="4803840"/>
              <a:ext cx="8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igh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up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72720" y="3965760"/>
              <a:ext cx="114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Low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dow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464520" y="4422960"/>
              <a:ext cx="13507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48" name=""/>
            <p:cNvGrpSpPr/>
            <p:nvPr/>
          </p:nvGrpSpPr>
          <p:grpSpPr>
            <a:xfrm>
              <a:off x="6043680" y="4422600"/>
              <a:ext cx="1728720" cy="1671480"/>
              <a:chOff x="6043680" y="4422600"/>
              <a:chExt cx="1728720" cy="1671480"/>
            </a:xfrm>
          </p:grpSpPr>
          <p:sp>
            <p:nvSpPr>
              <p:cNvPr id="1649" name=""/>
              <p:cNvSpPr/>
              <p:nvPr/>
            </p:nvSpPr>
            <p:spPr>
              <a:xfrm flipV="1">
                <a:off x="6183360" y="5562360"/>
                <a:ext cx="138240" cy="531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6311880" y="4498560"/>
                <a:ext cx="1067040" cy="10638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16800" y="4427640"/>
                <a:ext cx="2556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6043680" y="5203440"/>
                <a:ext cx="266760" cy="885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6299280" y="4493880"/>
                <a:ext cx="711360" cy="7095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20080" y="4422960"/>
                <a:ext cx="5763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6997680" y="4422600"/>
                <a:ext cx="138240" cy="75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7378920" y="4422600"/>
                <a:ext cx="137880" cy="75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7" name=""/>
          <p:cNvGrpSpPr/>
          <p:nvPr/>
        </p:nvGrpSpPr>
        <p:grpSpPr>
          <a:xfrm>
            <a:off x="836640" y="3127320"/>
            <a:ext cx="2973240" cy="2966760"/>
            <a:chOff x="836640" y="3127320"/>
            <a:chExt cx="2973240" cy="2966760"/>
          </a:xfrm>
        </p:grpSpPr>
        <p:sp>
          <p:nvSpPr>
            <p:cNvPr id="1658" name=""/>
            <p:cNvSpPr/>
            <p:nvPr/>
          </p:nvSpPr>
          <p:spPr>
            <a:xfrm>
              <a:off x="1598400" y="3127320"/>
              <a:ext cx="0" cy="21337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60880" y="388944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6640" y="335592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Iou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598040" y="5032440"/>
              <a:ext cx="83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High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up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64360" y="4346640"/>
              <a:ext cx="114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Low/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pulldow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98400" y="4422960"/>
              <a:ext cx="13510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64" name=""/>
            <p:cNvGrpSpPr/>
            <p:nvPr/>
          </p:nvGrpSpPr>
          <p:grpSpPr>
            <a:xfrm>
              <a:off x="1598400" y="4422600"/>
              <a:ext cx="1728720" cy="1671480"/>
              <a:chOff x="1598400" y="4422600"/>
              <a:chExt cx="1728720" cy="1671480"/>
            </a:xfrm>
          </p:grpSpPr>
          <p:sp>
            <p:nvSpPr>
              <p:cNvPr id="1665" name=""/>
              <p:cNvSpPr/>
              <p:nvPr/>
            </p:nvSpPr>
            <p:spPr>
              <a:xfrm flipH="1" flipV="1">
                <a:off x="3049200" y="5562360"/>
                <a:ext cx="138240" cy="5317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flipV="1">
                <a:off x="1991880" y="4498560"/>
                <a:ext cx="1067040" cy="10638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>
                <a:off x="1598400" y="4427640"/>
                <a:ext cx="2556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3060360" y="5203440"/>
                <a:ext cx="266760" cy="885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 flipV="1">
                <a:off x="2360160" y="4493880"/>
                <a:ext cx="711360" cy="7095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1674360" y="4422960"/>
                <a:ext cx="5763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flipV="1">
                <a:off x="2234880" y="4422600"/>
                <a:ext cx="138240" cy="75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flipV="1">
                <a:off x="1854000" y="4422600"/>
                <a:ext cx="137880" cy="75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3" name=""/>
          <p:cNvGrpSpPr/>
          <p:nvPr/>
        </p:nvGrpSpPr>
        <p:grpSpPr>
          <a:xfrm>
            <a:off x="835200" y="2068560"/>
            <a:ext cx="3646440" cy="920160"/>
            <a:chOff x="835200" y="2068560"/>
            <a:chExt cx="3646440" cy="920160"/>
          </a:xfrm>
        </p:grpSpPr>
        <p:sp>
          <p:nvSpPr>
            <p:cNvPr id="1674" name=""/>
            <p:cNvSpPr/>
            <p:nvPr/>
          </p:nvSpPr>
          <p:spPr>
            <a:xfrm>
              <a:off x="835200" y="2529000"/>
              <a:ext cx="364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cc Reference for pulldow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063080" y="2068560"/>
              <a:ext cx="32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cc Reference for pullu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5760360" y="2016000"/>
            <a:ext cx="250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Gnd Reference f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ullup &amp; pulldow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519560" y="119232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BIS-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F7B4B-1AD0-427C-8477-3077EC89D5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Paramet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9" name=""/>
          <p:cNvCxnSpPr>
            <a:stCxn id="1680" idx="0"/>
            <a:endCxn id="1681" idx="2"/>
          </p:cNvCxnSpPr>
          <p:nvPr/>
        </p:nvCxnSpPr>
        <p:spPr>
          <a:xfrm flipH="1" flipV="1" rot="5400000">
            <a:off x="6120360" y="3564360"/>
            <a:ext cx="1143720" cy="1869120"/>
          </a:xfrm>
          <a:prstGeom prst="curvedConnector5">
            <a:avLst>
              <a:gd name="adj1" fmla="val 51637"/>
              <a:gd name="adj2" fmla="val 49990"/>
              <a:gd name="adj3" fmla="val 51637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682" name=""/>
          <p:cNvCxnSpPr>
            <a:stCxn id="1683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684" name=""/>
          <p:cNvCxnSpPr>
            <a:stCxn id="1683" idx="2"/>
            <a:endCxn id="1685" idx="3"/>
          </p:cNvCxnSpPr>
          <p:nvPr/>
        </p:nvCxnSpPr>
        <p:spPr>
          <a:xfrm flipV="1" rot="16200000">
            <a:off x="2741040" y="2805840"/>
            <a:ext cx="1307160" cy="2351880"/>
          </a:xfrm>
          <a:prstGeom prst="curvedConnector5">
            <a:avLst>
              <a:gd name="adj1" fmla="val -17493"/>
              <a:gd name="adj2" fmla="val 31016"/>
              <a:gd name="adj3" fmla="val -17493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686" name=""/>
          <p:cNvCxnSpPr>
            <a:endCxn id="1681" idx="2"/>
          </p:cNvCxnSpPr>
          <p:nvPr/>
        </p:nvCxnSpPr>
        <p:spPr>
          <a:xfrm flipH="1" rot="10800000">
            <a:off x="7502760" y="3926880"/>
            <a:ext cx="122400" cy="1956240"/>
          </a:xfrm>
          <a:prstGeom prst="curvedConnector5">
            <a:avLst>
              <a:gd name="adj1" fmla="val -187315"/>
              <a:gd name="adj2" fmla="val 25234"/>
              <a:gd name="adj3" fmla="val -18731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1687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1688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89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1690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6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1718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2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3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4" name=""/>
          <p:cNvSpPr/>
          <p:nvPr/>
        </p:nvSpPr>
        <p:spPr>
          <a:xfrm>
            <a:off x="3276720" y="2209680"/>
            <a:ext cx="284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725" name=""/>
          <p:cNvCxnSpPr>
            <a:stCxn id="1726" idx="1"/>
            <a:endCxn id="1685" idx="3"/>
          </p:cNvCxnSpPr>
          <p:nvPr/>
        </p:nvCxnSpPr>
        <p:spPr>
          <a:xfrm flipV="1" rot="10800000">
            <a:off x="2218680" y="2692080"/>
            <a:ext cx="4561200" cy="63720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727" name=""/>
          <p:cNvCxnSpPr>
            <a:stCxn id="1685" idx="3"/>
            <a:endCxn id="1728" idx="0"/>
          </p:cNvCxnSpPr>
          <p:nvPr/>
        </p:nvCxnSpPr>
        <p:spPr>
          <a:xfrm>
            <a:off x="2219040" y="3328920"/>
            <a:ext cx="129240" cy="143424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729" name=""/>
          <p:cNvCxnSpPr>
            <a:stCxn id="1728" idx="1"/>
            <a:endCxn id="1730" idx="2"/>
          </p:cNvCxnSpPr>
          <p:nvPr/>
        </p:nvCxnSpPr>
        <p:spPr>
          <a:xfrm flipH="1" flipV="1" rot="10800000">
            <a:off x="1097640" y="5157720"/>
            <a:ext cx="1286280" cy="1192680"/>
          </a:xfrm>
          <a:prstGeom prst="curvedConnector5">
            <a:avLst>
              <a:gd name="adj1" fmla="val -18393"/>
              <a:gd name="adj2" fmla="val 59601"/>
              <a:gd name="adj3" fmla="val -18393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731" name=""/>
          <p:cNvCxnSpPr>
            <a:endCxn id="1732" idx="3"/>
          </p:cNvCxnSpPr>
          <p:nvPr/>
        </p:nvCxnSpPr>
        <p:spPr>
          <a:xfrm>
            <a:off x="2254320" y="64386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733" name=""/>
          <p:cNvCxnSpPr>
            <a:stCxn id="1732" idx="2"/>
          </p:cNvCxnSpPr>
          <p:nvPr/>
        </p:nvCxnSpPr>
        <p:spPr>
          <a:xfrm flipH="1" flipV="1" rot="5400000">
            <a:off x="6301080" y="5274000"/>
            <a:ext cx="594720" cy="1812240"/>
          </a:xfrm>
          <a:prstGeom prst="curvedConnector5">
            <a:avLst>
              <a:gd name="adj1" fmla="val -38461"/>
              <a:gd name="adj2" fmla="val 28034"/>
              <a:gd name="adj3" fmla="val -38461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734" name=""/>
          <p:cNvCxnSpPr>
            <a:stCxn id="1681" idx="2"/>
            <a:endCxn id="1735" idx="0"/>
          </p:cNvCxnSpPr>
          <p:nvPr/>
        </p:nvCxnSpPr>
        <p:spPr>
          <a:xfrm flipV="1" rot="16200000">
            <a:off x="6626160" y="2927520"/>
            <a:ext cx="1032840" cy="967320"/>
          </a:xfrm>
          <a:prstGeom prst="curvedConnector5">
            <a:avLst>
              <a:gd name="adj1" fmla="val -22140"/>
              <a:gd name="adj2" fmla="val 62137"/>
              <a:gd name="adj3" fmla="val -2214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736" name=""/>
          <p:cNvCxnSpPr>
            <a:stCxn id="1737" idx="3"/>
            <a:endCxn id="1732" idx="2"/>
          </p:cNvCxnSpPr>
          <p:nvPr/>
        </p:nvCxnSpPr>
        <p:spPr>
          <a:xfrm>
            <a:off x="1380600" y="4987440"/>
            <a:ext cx="4312440" cy="1490040"/>
          </a:xfrm>
          <a:prstGeom prst="curvedConnector5">
            <a:avLst>
              <a:gd name="adj1" fmla="val 47420"/>
              <a:gd name="adj2" fmla="val 57660"/>
              <a:gd name="adj3" fmla="val 4742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1738" name=""/>
          <p:cNvGrpSpPr/>
          <p:nvPr/>
        </p:nvGrpSpPr>
        <p:grpSpPr>
          <a:xfrm>
            <a:off x="252360" y="1143000"/>
            <a:ext cx="8305920" cy="5333760"/>
            <a:chOff x="252360" y="1143000"/>
            <a:chExt cx="8305920" cy="5333760"/>
          </a:xfrm>
        </p:grpSpPr>
        <p:grpSp>
          <p:nvGrpSpPr>
            <p:cNvPr id="1739" name=""/>
            <p:cNvGrpSpPr/>
            <p:nvPr/>
          </p:nvGrpSpPr>
          <p:grpSpPr>
            <a:xfrm>
              <a:off x="1090440" y="4711680"/>
              <a:ext cx="2514240" cy="1638000"/>
              <a:chOff x="1090440" y="4711680"/>
              <a:chExt cx="2514240" cy="1638000"/>
            </a:xfrm>
          </p:grpSpPr>
          <p:grpSp>
            <p:nvGrpSpPr>
              <p:cNvPr id="1740" name=""/>
              <p:cNvGrpSpPr/>
              <p:nvPr/>
            </p:nvGrpSpPr>
            <p:grpSpPr>
              <a:xfrm>
                <a:off x="1243080" y="5668200"/>
                <a:ext cx="2286000" cy="681480"/>
                <a:chOff x="1243080" y="5668200"/>
                <a:chExt cx="2286000" cy="68148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17006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192960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2387520" y="613836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124308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15820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614320" y="623772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307260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2042640" y="5837400"/>
                  <a:ext cx="69012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261576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170064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159280" y="603864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147276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386440" y="59385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1929600" y="593820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2031120" y="5937120"/>
                  <a:ext cx="708120" cy="412560"/>
                  <a:chOff x="2031120" y="5937120"/>
                  <a:chExt cx="708120" cy="41256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2158200" y="5937120"/>
                    <a:ext cx="456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2145240" y="5971320"/>
                    <a:ext cx="479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2133720" y="6004440"/>
                    <a:ext cx="5022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2122560" y="6038280"/>
                    <a:ext cx="524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2111040" y="6072480"/>
                    <a:ext cx="548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2099880" y="6107040"/>
                    <a:ext cx="570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2088000" y="6141600"/>
                    <a:ext cx="5940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2076840" y="6175800"/>
                    <a:ext cx="6166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2065320" y="6210360"/>
                    <a:ext cx="639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2054160" y="6246720"/>
                    <a:ext cx="662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2042640" y="6280920"/>
                    <a:ext cx="6850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031120" y="6315120"/>
                    <a:ext cx="708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7" name=""/>
                <p:cNvSpPr/>
                <p:nvPr/>
              </p:nvSpPr>
              <p:spPr>
                <a:xfrm rot="16200000">
                  <a:off x="2300040" y="5513760"/>
                  <a:ext cx="169920" cy="47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2312640" y="5872320"/>
                  <a:ext cx="145080" cy="64440"/>
                  <a:chOff x="2312640" y="5872320"/>
                  <a:chExt cx="145080" cy="64440"/>
                </a:xfrm>
              </p:grpSpPr>
              <p:grpSp>
                <p:nvGrpSpPr>
                  <p:cNvPr id="1769" name=""/>
                  <p:cNvGrpSpPr/>
                  <p:nvPr/>
                </p:nvGrpSpPr>
                <p:grpSpPr>
                  <a:xfrm>
                    <a:off x="2312640" y="5872320"/>
                    <a:ext cx="145080" cy="64440"/>
                    <a:chOff x="2312640" y="5872320"/>
                    <a:chExt cx="145080" cy="64440"/>
                  </a:xfrm>
                </p:grpSpPr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231264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>
                      <a:off x="245700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>
                      <a:off x="2312640" y="5872320"/>
                      <a:ext cx="145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3" name=""/>
                  <p:cNvSpPr/>
                  <p:nvPr/>
                </p:nvSpPr>
                <p:spPr>
                  <a:xfrm>
                    <a:off x="2325240" y="5875920"/>
                    <a:ext cx="12240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4" name=""/>
                <p:cNvSpPr/>
                <p:nvPr/>
              </p:nvSpPr>
              <p:spPr>
                <a:xfrm>
                  <a:off x="284364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1090440" y="4711680"/>
                <a:ext cx="2514240" cy="892800"/>
                <a:chOff x="1090440" y="4711680"/>
                <a:chExt cx="2514240" cy="892800"/>
              </a:xfrm>
            </p:grpSpPr>
            <p:sp>
              <p:nvSpPr>
                <p:cNvPr id="1728" name=""/>
                <p:cNvSpPr/>
                <p:nvPr/>
              </p:nvSpPr>
              <p:spPr>
                <a:xfrm>
                  <a:off x="1090440" y="4711680"/>
                  <a:ext cx="2514240" cy="892800"/>
                </a:xfrm>
                <a:prstGeom prst="cloudCallout">
                  <a:avLst>
                    <a:gd name="adj1" fmla="val 2430"/>
                    <a:gd name="adj2" fmla="val 4903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IBIS-Technologie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2012040" y="5535720"/>
                  <a:ext cx="586800" cy="687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7" name=""/>
            <p:cNvGrpSpPr/>
            <p:nvPr/>
          </p:nvGrpSpPr>
          <p:grpSpPr>
            <a:xfrm>
              <a:off x="4519440" y="5030640"/>
              <a:ext cx="2476440" cy="1446120"/>
              <a:chOff x="4519440" y="5030640"/>
              <a:chExt cx="2476440" cy="1446120"/>
            </a:xfrm>
          </p:grpSpPr>
          <p:grpSp>
            <p:nvGrpSpPr>
              <p:cNvPr id="1778" name=""/>
              <p:cNvGrpSpPr/>
              <p:nvPr/>
            </p:nvGrpSpPr>
            <p:grpSpPr>
              <a:xfrm>
                <a:off x="4976640" y="5796000"/>
                <a:ext cx="1430640" cy="680760"/>
                <a:chOff x="4976640" y="5796000"/>
                <a:chExt cx="1430640" cy="680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5262840" y="636516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5406120" y="626580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693040" y="6265800"/>
                  <a:ext cx="285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976640" y="636516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549400" y="636516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834880" y="6365160"/>
                  <a:ext cx="285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121800" y="636516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477040" y="5965200"/>
                  <a:ext cx="43200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5835960" y="6166080"/>
                  <a:ext cx="285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262840" y="6166080"/>
                  <a:ext cx="285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550120" y="616608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120280" y="626580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692320" y="606600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406120" y="606600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3" name=""/>
                <p:cNvGrpSpPr/>
                <p:nvPr/>
              </p:nvGrpSpPr>
              <p:grpSpPr>
                <a:xfrm>
                  <a:off x="5469840" y="6064560"/>
                  <a:ext cx="443160" cy="412200"/>
                  <a:chOff x="5469840" y="6064560"/>
                  <a:chExt cx="443160" cy="41220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>
                    <a:off x="5549400" y="6064560"/>
                    <a:ext cx="28584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5541120" y="6098760"/>
                    <a:ext cx="30024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5533920" y="6131520"/>
                    <a:ext cx="3142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5527080" y="6165720"/>
                    <a:ext cx="3286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5519880" y="6199920"/>
                    <a:ext cx="3430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5512680" y="6234480"/>
                    <a:ext cx="35712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5505480" y="6268680"/>
                    <a:ext cx="3718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5498280" y="6302880"/>
                    <a:ext cx="38592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5491080" y="6337800"/>
                    <a:ext cx="39996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4240" y="6373800"/>
                    <a:ext cx="41472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5477040" y="6408000"/>
                    <a:ext cx="42876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5469840" y="6442200"/>
                    <a:ext cx="44316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5" name=""/>
                <p:cNvSpPr/>
                <p:nvPr/>
              </p:nvSpPr>
              <p:spPr>
                <a:xfrm rot="16200000">
                  <a:off x="5606640" y="5731200"/>
                  <a:ext cx="169920" cy="29952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6" name=""/>
                <p:cNvGrpSpPr/>
                <p:nvPr/>
              </p:nvGrpSpPr>
              <p:grpSpPr>
                <a:xfrm>
                  <a:off x="5645880" y="6000120"/>
                  <a:ext cx="90720" cy="64440"/>
                  <a:chOff x="5645880" y="6000120"/>
                  <a:chExt cx="90720" cy="64440"/>
                </a:xfrm>
              </p:grpSpPr>
              <p:grpSp>
                <p:nvGrpSpPr>
                  <p:cNvPr id="1807" name=""/>
                  <p:cNvGrpSpPr/>
                  <p:nvPr/>
                </p:nvGrpSpPr>
                <p:grpSpPr>
                  <a:xfrm>
                    <a:off x="5645880" y="6000120"/>
                    <a:ext cx="90720" cy="64440"/>
                    <a:chOff x="5645880" y="6000120"/>
                    <a:chExt cx="90720" cy="64440"/>
                  </a:xfrm>
                </p:grpSpPr>
                <p:sp>
                  <p:nvSpPr>
                    <p:cNvPr id="1808" name=""/>
                    <p:cNvSpPr/>
                    <p:nvPr/>
                  </p:nvSpPr>
                  <p:spPr>
                    <a:xfrm>
                      <a:off x="5645880" y="60001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9" name=""/>
                    <p:cNvSpPr/>
                    <p:nvPr/>
                  </p:nvSpPr>
                  <p:spPr>
                    <a:xfrm>
                      <a:off x="5736240" y="60001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0" name=""/>
                    <p:cNvSpPr/>
                    <p:nvPr/>
                  </p:nvSpPr>
                  <p:spPr>
                    <a:xfrm>
                      <a:off x="5645880" y="600012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1" name=""/>
                  <p:cNvSpPr/>
                  <p:nvPr/>
                </p:nvSpPr>
                <p:spPr>
                  <a:xfrm>
                    <a:off x="5653800" y="6003720"/>
                    <a:ext cx="76680" cy="6084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2" name=""/>
                <p:cNvSpPr/>
                <p:nvPr/>
              </p:nvSpPr>
              <p:spPr>
                <a:xfrm>
                  <a:off x="5978520" y="6265800"/>
                  <a:ext cx="285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3" name=""/>
              <p:cNvGrpSpPr/>
              <p:nvPr/>
            </p:nvGrpSpPr>
            <p:grpSpPr>
              <a:xfrm>
                <a:off x="4519440" y="5030640"/>
                <a:ext cx="2476440" cy="702000"/>
                <a:chOff x="4519440" y="5030640"/>
                <a:chExt cx="2476440" cy="70200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4519440" y="5030640"/>
                  <a:ext cx="2476440" cy="702000"/>
                </a:xfrm>
                <a:prstGeom prst="cloudCallout">
                  <a:avLst>
                    <a:gd name="adj1" fmla="val 972"/>
                    <a:gd name="adj2" fmla="val 5340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800" spc="-1" strike="noStrike">
                      <a:solidFill>
                        <a:srgbClr val="003366"/>
                      </a:solidFill>
                      <a:latin typeface="Monotype Corsiva"/>
                    </a:rPr>
                    <a:t>Parameters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4" name=""/>
                <p:cNvGrpSpPr/>
                <p:nvPr/>
              </p:nvGrpSpPr>
              <p:grpSpPr>
                <a:xfrm>
                  <a:off x="5427720" y="5541120"/>
                  <a:ext cx="577080" cy="63720"/>
                  <a:chOff x="5427720" y="5541120"/>
                  <a:chExt cx="577080" cy="6372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>
                    <a:off x="5427720" y="5541120"/>
                    <a:ext cx="8208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5592600" y="5541120"/>
                    <a:ext cx="8244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5757480" y="5541120"/>
                    <a:ext cx="8244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5922720" y="5541120"/>
                    <a:ext cx="8208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19" name=""/>
            <p:cNvGrpSpPr/>
            <p:nvPr/>
          </p:nvGrpSpPr>
          <p:grpSpPr>
            <a:xfrm>
              <a:off x="6653160" y="2544840"/>
              <a:ext cx="1905120" cy="1382760"/>
              <a:chOff x="6653160" y="2544840"/>
              <a:chExt cx="1905120" cy="138276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6881760" y="3309840"/>
                <a:ext cx="1488960" cy="617760"/>
                <a:chOff x="6881760" y="3309840"/>
                <a:chExt cx="1488960" cy="61776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717984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32888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627320" y="373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88176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47792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774920" y="382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807336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402680" y="3463200"/>
                  <a:ext cx="44964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77600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17984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478640" y="364536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03116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626600" y="355500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328880" y="355464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5" name=""/>
                <p:cNvGrpSpPr/>
                <p:nvPr/>
              </p:nvGrpSpPr>
              <p:grpSpPr>
                <a:xfrm>
                  <a:off x="7395120" y="3553560"/>
                  <a:ext cx="461160" cy="374040"/>
                  <a:chOff x="7395120" y="3553560"/>
                  <a:chExt cx="461160" cy="37404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7477920" y="3553560"/>
                    <a:ext cx="2973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7469280" y="3584520"/>
                    <a:ext cx="3124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7462080" y="3614400"/>
                    <a:ext cx="3272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7454520" y="3645360"/>
                    <a:ext cx="342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7447320" y="3676320"/>
                    <a:ext cx="3571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7439760" y="3707640"/>
                    <a:ext cx="3718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7432200" y="3738960"/>
                    <a:ext cx="387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7424640" y="3769920"/>
                    <a:ext cx="4017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7417440" y="3801240"/>
                    <a:ext cx="4165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>
                    <a:off x="7409880" y="3834360"/>
                    <a:ext cx="4312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>
                    <a:off x="7402680" y="3865320"/>
                    <a:ext cx="4460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7395120" y="3896280"/>
                    <a:ext cx="4611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7" name=""/>
                <p:cNvSpPr/>
                <p:nvPr/>
              </p:nvSpPr>
              <p:spPr>
                <a:xfrm rot="16200000">
                  <a:off x="7548840" y="3231000"/>
                  <a:ext cx="154080" cy="311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8" name=""/>
                <p:cNvGrpSpPr/>
                <p:nvPr/>
              </p:nvGrpSpPr>
              <p:grpSpPr>
                <a:xfrm>
                  <a:off x="7578360" y="3494880"/>
                  <a:ext cx="94320" cy="58320"/>
                  <a:chOff x="7578360" y="3494880"/>
                  <a:chExt cx="94320" cy="58320"/>
                </a:xfrm>
              </p:grpSpPr>
              <p:grpSp>
                <p:nvGrpSpPr>
                  <p:cNvPr id="1849" name=""/>
                  <p:cNvGrpSpPr/>
                  <p:nvPr/>
                </p:nvGrpSpPr>
                <p:grpSpPr>
                  <a:xfrm>
                    <a:off x="7578360" y="3494880"/>
                    <a:ext cx="94320" cy="58320"/>
                    <a:chOff x="7578360" y="3494880"/>
                    <a:chExt cx="94320" cy="58320"/>
                  </a:xfrm>
                </p:grpSpPr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757836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67232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578360" y="3494880"/>
                      <a:ext cx="943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3" name=""/>
                  <p:cNvSpPr/>
                  <p:nvPr/>
                </p:nvSpPr>
                <p:spPr>
                  <a:xfrm>
                    <a:off x="7586280" y="3498120"/>
                    <a:ext cx="79560" cy="5508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4" name=""/>
                <p:cNvSpPr/>
                <p:nvPr/>
              </p:nvSpPr>
              <p:spPr>
                <a:xfrm>
                  <a:off x="792432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6653160" y="2544840"/>
                <a:ext cx="1905120" cy="701280"/>
                <a:chOff x="6653160" y="2544840"/>
                <a:chExt cx="1905120" cy="70128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6653160" y="2544840"/>
                  <a:ext cx="1905120" cy="701280"/>
                </a:xfrm>
                <a:prstGeom prst="cloudCallout">
                  <a:avLst>
                    <a:gd name="adj1" fmla="val 578"/>
                    <a:gd name="adj2" fmla="val 4659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Exampl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6" name=""/>
                <p:cNvGrpSpPr/>
                <p:nvPr/>
              </p:nvGrpSpPr>
              <p:grpSpPr>
                <a:xfrm>
                  <a:off x="7552440" y="3054600"/>
                  <a:ext cx="158400" cy="63720"/>
                  <a:chOff x="7552440" y="3054600"/>
                  <a:chExt cx="158400" cy="63720"/>
                </a:xfrm>
              </p:grpSpPr>
              <p:sp>
                <p:nvSpPr>
                  <p:cNvPr id="1857" name=""/>
                  <p:cNvSpPr/>
                  <p:nvPr/>
                </p:nvSpPr>
                <p:spPr>
                  <a:xfrm>
                    <a:off x="7552440" y="3054600"/>
                    <a:ext cx="525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7657920" y="3054600"/>
                    <a:ext cx="529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59" name=""/>
            <p:cNvGrpSpPr/>
            <p:nvPr/>
          </p:nvGrpSpPr>
          <p:grpSpPr>
            <a:xfrm>
              <a:off x="938160" y="1589040"/>
              <a:ext cx="2286000" cy="1765080"/>
              <a:chOff x="938160" y="1589040"/>
              <a:chExt cx="2286000" cy="1765080"/>
            </a:xfrm>
          </p:grpSpPr>
          <p:grpSp>
            <p:nvGrpSpPr>
              <p:cNvPr id="1860" name=""/>
              <p:cNvGrpSpPr/>
              <p:nvPr/>
            </p:nvGrpSpPr>
            <p:grpSpPr>
              <a:xfrm>
                <a:off x="1471680" y="2353680"/>
                <a:ext cx="1142640" cy="1000440"/>
                <a:chOff x="1471680" y="2353680"/>
                <a:chExt cx="1142640" cy="100044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170064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81512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204408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7168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92960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215748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238644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871280" y="2602440"/>
                  <a:ext cx="344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2157480" y="289692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70064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92960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1585800" y="3043080"/>
                  <a:ext cx="22896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2043000" y="275076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1815120" y="275076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5" name=""/>
                <p:cNvGrpSpPr/>
                <p:nvPr/>
              </p:nvGrpSpPr>
              <p:grpSpPr>
                <a:xfrm>
                  <a:off x="1865160" y="2748600"/>
                  <a:ext cx="354240" cy="605520"/>
                  <a:chOff x="1865160" y="2748600"/>
                  <a:chExt cx="354240" cy="605520"/>
                </a:xfrm>
              </p:grpSpPr>
              <p:sp>
                <p:nvSpPr>
                  <p:cNvPr id="1876" name=""/>
                  <p:cNvSpPr/>
                  <p:nvPr/>
                </p:nvSpPr>
                <p:spPr>
                  <a:xfrm>
                    <a:off x="1928520" y="2748600"/>
                    <a:ext cx="2286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1922040" y="2799000"/>
                    <a:ext cx="2401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1916640" y="2847240"/>
                    <a:ext cx="2512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1910880" y="2897280"/>
                    <a:ext cx="2628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1905120" y="2947320"/>
                    <a:ext cx="2743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1899360" y="2998080"/>
                    <a:ext cx="2854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1893600" y="3048480"/>
                    <a:ext cx="2973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1887840" y="3098880"/>
                    <a:ext cx="3085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1882080" y="3149640"/>
                    <a:ext cx="3200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1876680" y="3202920"/>
                    <a:ext cx="3315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1870920" y="3253320"/>
                    <a:ext cx="3427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1865160" y="3303360"/>
                    <a:ext cx="3542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7" name=""/>
                <p:cNvSpPr/>
                <p:nvPr/>
              </p:nvSpPr>
              <p:spPr>
                <a:xfrm rot="16200000">
                  <a:off x="1918080" y="2359080"/>
                  <a:ext cx="249480" cy="2386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8" name=""/>
                <p:cNvGrpSpPr/>
                <p:nvPr/>
              </p:nvGrpSpPr>
              <p:grpSpPr>
                <a:xfrm>
                  <a:off x="2006640" y="2654280"/>
                  <a:ext cx="71640" cy="93960"/>
                  <a:chOff x="2006640" y="2654280"/>
                  <a:chExt cx="71640" cy="93960"/>
                </a:xfrm>
              </p:grpSpPr>
              <p:grpSp>
                <p:nvGrpSpPr>
                  <p:cNvPr id="1889" name=""/>
                  <p:cNvGrpSpPr/>
                  <p:nvPr/>
                </p:nvGrpSpPr>
                <p:grpSpPr>
                  <a:xfrm>
                    <a:off x="2006640" y="2654280"/>
                    <a:ext cx="71640" cy="93960"/>
                    <a:chOff x="2006640" y="2654280"/>
                    <a:chExt cx="71640" cy="93960"/>
                  </a:xfrm>
                </p:grpSpPr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200664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207792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2006640" y="2654280"/>
                      <a:ext cx="7164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3" name=""/>
                  <p:cNvSpPr/>
                  <p:nvPr/>
                </p:nvSpPr>
                <p:spPr>
                  <a:xfrm>
                    <a:off x="2012760" y="2659680"/>
                    <a:ext cx="60480" cy="88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4" name=""/>
                <p:cNvSpPr/>
                <p:nvPr/>
              </p:nvSpPr>
              <p:spPr>
                <a:xfrm>
                  <a:off x="2272320" y="3043080"/>
                  <a:ext cx="22752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938160" y="1589040"/>
                <a:ext cx="2286000" cy="828720"/>
                <a:chOff x="938160" y="1589040"/>
                <a:chExt cx="2286000" cy="82872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938160" y="1589040"/>
                  <a:ext cx="2286000" cy="828720"/>
                </a:xfrm>
                <a:prstGeom prst="cloudCallout">
                  <a:avLst>
                    <a:gd name="adj1" fmla="val -972"/>
                    <a:gd name="adj2" fmla="val 5352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Conclusion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7" name=""/>
                <p:cNvGrpSpPr/>
                <p:nvPr/>
              </p:nvGrpSpPr>
              <p:grpSpPr>
                <a:xfrm>
                  <a:off x="1776240" y="2099160"/>
                  <a:ext cx="533520" cy="190800"/>
                  <a:chOff x="1776240" y="2099160"/>
                  <a:chExt cx="533520" cy="190800"/>
                </a:xfrm>
              </p:grpSpPr>
              <p:sp>
                <p:nvSpPr>
                  <p:cNvPr id="1898" name=""/>
                  <p:cNvSpPr/>
                  <p:nvPr/>
                </p:nvSpPr>
                <p:spPr>
                  <a:xfrm>
                    <a:off x="1776240" y="2226600"/>
                    <a:ext cx="53352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9" name=""/>
                  <p:cNvGrpSpPr/>
                  <p:nvPr/>
                </p:nvGrpSpPr>
                <p:grpSpPr>
                  <a:xfrm>
                    <a:off x="1928880" y="2099160"/>
                    <a:ext cx="228600" cy="63720"/>
                    <a:chOff x="1928880" y="2099160"/>
                    <a:chExt cx="228600" cy="63720"/>
                  </a:xfrm>
                </p:grpSpPr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1928880" y="2099160"/>
                      <a:ext cx="7596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2081160" y="2099160"/>
                      <a:ext cx="7632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902" name=""/>
            <p:cNvGrpSpPr/>
            <p:nvPr/>
          </p:nvGrpSpPr>
          <p:grpSpPr>
            <a:xfrm>
              <a:off x="252360" y="3246480"/>
              <a:ext cx="1905120" cy="1764720"/>
              <a:chOff x="252360" y="3246480"/>
              <a:chExt cx="1905120" cy="1764720"/>
            </a:xfrm>
          </p:grpSpPr>
          <p:grpSp>
            <p:nvGrpSpPr>
              <p:cNvPr id="1903" name=""/>
              <p:cNvGrpSpPr/>
              <p:nvPr/>
            </p:nvGrpSpPr>
            <p:grpSpPr>
              <a:xfrm>
                <a:off x="633240" y="4074840"/>
                <a:ext cx="1143000" cy="936360"/>
                <a:chOff x="633240" y="4074840"/>
                <a:chExt cx="1143000" cy="93636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8618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97632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1205640" y="47206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332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09080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319040" y="48571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54800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033200" y="4307400"/>
                  <a:ext cx="34488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1976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86184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091520" y="45835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74808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204920" y="444636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976320" y="444600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8" name=""/>
                <p:cNvGrpSpPr/>
                <p:nvPr/>
              </p:nvGrpSpPr>
              <p:grpSpPr>
                <a:xfrm>
                  <a:off x="1027080" y="4444200"/>
                  <a:ext cx="353880" cy="567000"/>
                  <a:chOff x="1027080" y="4444200"/>
                  <a:chExt cx="353880" cy="567000"/>
                </a:xfrm>
              </p:grpSpPr>
              <p:sp>
                <p:nvSpPr>
                  <p:cNvPr id="1919" name=""/>
                  <p:cNvSpPr/>
                  <p:nvPr/>
                </p:nvSpPr>
                <p:spPr>
                  <a:xfrm>
                    <a:off x="1090440" y="4444200"/>
                    <a:ext cx="2282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1083960" y="4491360"/>
                    <a:ext cx="2397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1078200" y="4536720"/>
                    <a:ext cx="25092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072800" y="4583520"/>
                    <a:ext cx="2624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067040" y="4630320"/>
                    <a:ext cx="2739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1061280" y="4677840"/>
                    <a:ext cx="2854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1055520" y="4725000"/>
                    <a:ext cx="2970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1049760" y="4772160"/>
                    <a:ext cx="3081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1044000" y="4820040"/>
                    <a:ext cx="3196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1038600" y="4869720"/>
                    <a:ext cx="3312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1032840" y="4916880"/>
                    <a:ext cx="3423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1027080" y="4963680"/>
                    <a:ext cx="3538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0" name=""/>
                <p:cNvSpPr/>
                <p:nvPr/>
              </p:nvSpPr>
              <p:spPr>
                <a:xfrm rot="16200000">
                  <a:off x="1087560" y="4071600"/>
                  <a:ext cx="23328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1" name=""/>
                <p:cNvGrpSpPr/>
                <p:nvPr/>
              </p:nvGrpSpPr>
              <p:grpSpPr>
                <a:xfrm>
                  <a:off x="1167840" y="4355640"/>
                  <a:ext cx="72360" cy="88560"/>
                  <a:chOff x="1167840" y="4355640"/>
                  <a:chExt cx="72360" cy="88560"/>
                </a:xfrm>
              </p:grpSpPr>
              <p:grpSp>
                <p:nvGrpSpPr>
                  <p:cNvPr id="1932" name=""/>
                  <p:cNvGrpSpPr/>
                  <p:nvPr/>
                </p:nvGrpSpPr>
                <p:grpSpPr>
                  <a:xfrm>
                    <a:off x="1167840" y="4355640"/>
                    <a:ext cx="72360" cy="88560"/>
                    <a:chOff x="1167840" y="4355640"/>
                    <a:chExt cx="72360" cy="88560"/>
                  </a:xfrm>
                </p:grpSpPr>
                <p:sp>
                  <p:nvSpPr>
                    <p:cNvPr id="1933" name=""/>
                    <p:cNvSpPr/>
                    <p:nvPr/>
                  </p:nvSpPr>
                  <p:spPr>
                    <a:xfrm>
                      <a:off x="116784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4" name=""/>
                    <p:cNvSpPr/>
                    <p:nvPr/>
                  </p:nvSpPr>
                  <p:spPr>
                    <a:xfrm>
                      <a:off x="123984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5" name=""/>
                    <p:cNvSpPr/>
                    <p:nvPr/>
                  </p:nvSpPr>
                  <p:spPr>
                    <a:xfrm>
                      <a:off x="1167840" y="435564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6" name=""/>
                  <p:cNvSpPr/>
                  <p:nvPr/>
                </p:nvSpPr>
                <p:spPr>
                  <a:xfrm>
                    <a:off x="1173960" y="4360680"/>
                    <a:ext cx="61200" cy="83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7" name=""/>
                <p:cNvSpPr/>
                <p:nvPr/>
              </p:nvSpPr>
              <p:spPr>
                <a:xfrm>
                  <a:off x="143352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8" name=""/>
              <p:cNvGrpSpPr/>
              <p:nvPr/>
            </p:nvGrpSpPr>
            <p:grpSpPr>
              <a:xfrm>
                <a:off x="252360" y="3246480"/>
                <a:ext cx="1905120" cy="765000"/>
                <a:chOff x="252360" y="3246480"/>
                <a:chExt cx="1905120" cy="76500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252360" y="3246480"/>
                  <a:ext cx="1905120" cy="765000"/>
                </a:xfrm>
                <a:prstGeom prst="cloudCallout">
                  <a:avLst>
                    <a:gd name="adj1" fmla="val 2083"/>
                    <a:gd name="adj2" fmla="val 6441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Literatur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0" name=""/>
                <p:cNvGrpSpPr/>
                <p:nvPr/>
              </p:nvGrpSpPr>
              <p:grpSpPr>
                <a:xfrm>
                  <a:off x="1014480" y="3692520"/>
                  <a:ext cx="444240" cy="190800"/>
                  <a:chOff x="1014480" y="3692520"/>
                  <a:chExt cx="444240" cy="19080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1014480" y="3819960"/>
                    <a:ext cx="44424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1204560" y="3692520"/>
                    <a:ext cx="633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43" name=""/>
            <p:cNvGrpSpPr/>
            <p:nvPr/>
          </p:nvGrpSpPr>
          <p:grpSpPr>
            <a:xfrm>
              <a:off x="5662440" y="1143000"/>
              <a:ext cx="2514600" cy="1572120"/>
              <a:chOff x="5662440" y="1143000"/>
              <a:chExt cx="2514600" cy="157212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6424560" y="1779480"/>
                <a:ext cx="1031400" cy="935640"/>
                <a:chOff x="6424560" y="1779480"/>
                <a:chExt cx="1031400" cy="93564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6304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7341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94152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42456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83784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7042680" y="25614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25004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785640" y="2012400"/>
                  <a:ext cx="31104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04412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630480" y="22878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83784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52788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940080" y="2151360"/>
                  <a:ext cx="20628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734160" y="215136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9" name=""/>
                <p:cNvGrpSpPr/>
                <p:nvPr/>
              </p:nvGrpSpPr>
              <p:grpSpPr>
                <a:xfrm>
                  <a:off x="6779880" y="2149200"/>
                  <a:ext cx="319320" cy="565920"/>
                  <a:chOff x="6779880" y="2149200"/>
                  <a:chExt cx="319320" cy="56592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6837120" y="2149200"/>
                    <a:ext cx="2059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6831360" y="2196360"/>
                    <a:ext cx="216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6826320" y="2241360"/>
                    <a:ext cx="2264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6820920" y="2288160"/>
                    <a:ext cx="236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6815880" y="2335320"/>
                    <a:ext cx="247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6810840" y="2382840"/>
                    <a:ext cx="2574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6805440" y="2429640"/>
                    <a:ext cx="2678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6800400" y="2476440"/>
                    <a:ext cx="2782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6795360" y="2524320"/>
                    <a:ext cx="288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6789960" y="2574000"/>
                    <a:ext cx="2988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6784920" y="2621160"/>
                    <a:ext cx="308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6779880" y="2667960"/>
                    <a:ext cx="319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1" name=""/>
                <p:cNvSpPr/>
                <p:nvPr/>
              </p:nvSpPr>
              <p:spPr>
                <a:xfrm rot="16200000">
                  <a:off x="6823080" y="1788480"/>
                  <a:ext cx="233640" cy="2152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2" name=""/>
                <p:cNvGrpSpPr/>
                <p:nvPr/>
              </p:nvGrpSpPr>
              <p:grpSpPr>
                <a:xfrm>
                  <a:off x="6907320" y="2061000"/>
                  <a:ext cx="64800" cy="88200"/>
                  <a:chOff x="6907320" y="2061000"/>
                  <a:chExt cx="64800" cy="88200"/>
                </a:xfrm>
              </p:grpSpPr>
              <p:grpSp>
                <p:nvGrpSpPr>
                  <p:cNvPr id="1973" name=""/>
                  <p:cNvGrpSpPr/>
                  <p:nvPr/>
                </p:nvGrpSpPr>
                <p:grpSpPr>
                  <a:xfrm>
                    <a:off x="6907320" y="2061000"/>
                    <a:ext cx="64800" cy="88200"/>
                    <a:chOff x="6907320" y="2061000"/>
                    <a:chExt cx="64800" cy="88200"/>
                  </a:xfrm>
                </p:grpSpPr>
                <p:sp>
                  <p:nvSpPr>
                    <p:cNvPr id="1974" name=""/>
                    <p:cNvSpPr/>
                    <p:nvPr/>
                  </p:nvSpPr>
                  <p:spPr>
                    <a:xfrm>
                      <a:off x="690732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5" name=""/>
                    <p:cNvSpPr/>
                    <p:nvPr/>
                  </p:nvSpPr>
                  <p:spPr>
                    <a:xfrm>
                      <a:off x="697212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6" name=""/>
                    <p:cNvSpPr/>
                    <p:nvPr/>
                  </p:nvSpPr>
                  <p:spPr>
                    <a:xfrm>
                      <a:off x="6907320" y="2061000"/>
                      <a:ext cx="6480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77" name=""/>
                  <p:cNvSpPr/>
                  <p:nvPr/>
                </p:nvSpPr>
                <p:spPr>
                  <a:xfrm>
                    <a:off x="6912720" y="2066040"/>
                    <a:ext cx="54720" cy="83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8" name=""/>
                <p:cNvSpPr/>
                <p:nvPr/>
              </p:nvSpPr>
              <p:spPr>
                <a:xfrm>
                  <a:off x="714672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5662440" y="1143000"/>
                <a:ext cx="2514600" cy="636840"/>
                <a:chOff x="5662440" y="1143000"/>
                <a:chExt cx="2514600" cy="63684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5662440" y="1143000"/>
                  <a:ext cx="2514600" cy="636840"/>
                </a:xfrm>
                <a:prstGeom prst="cloudCallout">
                  <a:avLst>
                    <a:gd name="adj1" fmla="val -189"/>
                    <a:gd name="adj2" fmla="val 43541"/>
                  </a:avLst>
                </a:prstGeom>
                <a:solidFill>
                  <a:srgbClr val="7d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Overview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6881760" y="1588680"/>
                  <a:ext cx="76320" cy="6336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2" name=""/>
          <p:cNvGrpSpPr/>
          <p:nvPr/>
        </p:nvGrpSpPr>
        <p:grpSpPr>
          <a:xfrm>
            <a:off x="6264360" y="4156200"/>
            <a:ext cx="2723760" cy="1747800"/>
            <a:chOff x="6264360" y="4156200"/>
            <a:chExt cx="2723760" cy="1747800"/>
          </a:xfrm>
        </p:grpSpPr>
        <p:grpSp>
          <p:nvGrpSpPr>
            <p:cNvPr id="1983" name=""/>
            <p:cNvGrpSpPr/>
            <p:nvPr/>
          </p:nvGrpSpPr>
          <p:grpSpPr>
            <a:xfrm>
              <a:off x="7086600" y="5094000"/>
              <a:ext cx="1143000" cy="810000"/>
              <a:chOff x="7086600" y="5094000"/>
              <a:chExt cx="1143000" cy="810000"/>
            </a:xfrm>
          </p:grpSpPr>
          <p:sp>
            <p:nvSpPr>
              <p:cNvPr id="1984" name=""/>
              <p:cNvSpPr/>
              <p:nvPr/>
            </p:nvSpPr>
            <p:spPr>
              <a:xfrm>
                <a:off x="73152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4296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659000" y="565272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0866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5441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772400" y="577080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80013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486560" y="5295600"/>
                <a:ext cx="34488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77312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1520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544880" y="55342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20144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6582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4296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998" name=""/>
              <p:cNvGrpSpPr/>
              <p:nvPr/>
            </p:nvGrpSpPr>
            <p:grpSpPr>
              <a:xfrm>
                <a:off x="7480440" y="5413680"/>
                <a:ext cx="353880" cy="490320"/>
                <a:chOff x="7480440" y="5413680"/>
                <a:chExt cx="353880" cy="49032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7543800" y="5413680"/>
                  <a:ext cx="2282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7537320" y="5454360"/>
                  <a:ext cx="2397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31560" y="5493600"/>
                  <a:ext cx="25092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526160" y="5533920"/>
                  <a:ext cx="2624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7520400" y="5574600"/>
                  <a:ext cx="2739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7514640" y="5616000"/>
                  <a:ext cx="2854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08880" y="5656680"/>
                  <a:ext cx="2970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503120" y="5697360"/>
                  <a:ext cx="3081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7497360" y="5738400"/>
                  <a:ext cx="3196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7491960" y="5781600"/>
                  <a:ext cx="3312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486200" y="5822280"/>
                  <a:ext cx="3423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480440" y="5862960"/>
                  <a:ext cx="3538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 rot="16200000">
                <a:off x="7556760" y="5075280"/>
                <a:ext cx="201960" cy="2394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012" name=""/>
              <p:cNvGrpSpPr/>
              <p:nvPr/>
            </p:nvGrpSpPr>
            <p:grpSpPr>
              <a:xfrm>
                <a:off x="7621200" y="5337000"/>
                <a:ext cx="72360" cy="76680"/>
                <a:chOff x="7621200" y="5337000"/>
                <a:chExt cx="72360" cy="76680"/>
              </a:xfrm>
            </p:grpSpPr>
            <p:grpSp>
              <p:nvGrpSpPr>
                <p:cNvPr id="2013" name=""/>
                <p:cNvGrpSpPr/>
                <p:nvPr/>
              </p:nvGrpSpPr>
              <p:grpSpPr>
                <a:xfrm>
                  <a:off x="7621200" y="5337000"/>
                  <a:ext cx="72360" cy="76680"/>
                  <a:chOff x="7621200" y="5337000"/>
                  <a:chExt cx="72360" cy="76680"/>
                </a:xfrm>
              </p:grpSpPr>
              <p:sp>
                <p:nvSpPr>
                  <p:cNvPr id="2014" name=""/>
                  <p:cNvSpPr/>
                  <p:nvPr/>
                </p:nvSpPr>
                <p:spPr>
                  <a:xfrm>
                    <a:off x="7621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7693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7621200" y="5337000"/>
                    <a:ext cx="7236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7" name=""/>
                <p:cNvSpPr/>
                <p:nvPr/>
              </p:nvSpPr>
              <p:spPr>
                <a:xfrm>
                  <a:off x="7627320" y="5341320"/>
                  <a:ext cx="61200" cy="72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8" name=""/>
              <p:cNvSpPr/>
              <p:nvPr/>
            </p:nvSpPr>
            <p:spPr>
              <a:xfrm>
                <a:off x="78868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6264360" y="4156200"/>
              <a:ext cx="2723760" cy="811080"/>
              <a:chOff x="6264360" y="4156200"/>
              <a:chExt cx="2723760" cy="811080"/>
            </a:xfrm>
          </p:grpSpPr>
          <p:sp>
            <p:nvSpPr>
              <p:cNvPr id="2020" name=""/>
              <p:cNvSpPr/>
              <p:nvPr/>
            </p:nvSpPr>
            <p:spPr>
              <a:xfrm>
                <a:off x="6264360" y="4156200"/>
                <a:ext cx="2723760" cy="811080"/>
              </a:xfrm>
              <a:prstGeom prst="cloudCallout">
                <a:avLst>
                  <a:gd name="adj1" fmla="val 277"/>
                  <a:gd name="adj2" fmla="val 54925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Vcc-Reference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021" name=""/>
              <p:cNvGrpSpPr/>
              <p:nvPr/>
            </p:nvGrpSpPr>
            <p:grpSpPr>
              <a:xfrm>
                <a:off x="7353720" y="4745880"/>
                <a:ext cx="453600" cy="73440"/>
                <a:chOff x="7353720" y="4745880"/>
                <a:chExt cx="453600" cy="7344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7353720" y="4745880"/>
                  <a:ext cx="9036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53516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71660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22167-C93C-49A1-A8ED-4DF724AD57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"/>
          <p:cNvSpPr/>
          <p:nvPr/>
        </p:nvSpPr>
        <p:spPr>
          <a:xfrm>
            <a:off x="225360" y="3379680"/>
            <a:ext cx="8639280" cy="1433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Ramp Calcul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292320" y="1743120"/>
            <a:ext cx="8640000" cy="2948400"/>
            <a:chOff x="292320" y="1743120"/>
            <a:chExt cx="8640000" cy="2948400"/>
          </a:xfrm>
        </p:grpSpPr>
        <p:sp>
          <p:nvSpPr>
            <p:cNvPr id="2028" name=""/>
            <p:cNvSpPr/>
            <p:nvPr/>
          </p:nvSpPr>
          <p:spPr>
            <a:xfrm>
              <a:off x="292320" y="2768760"/>
              <a:ext cx="1443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loa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load ri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load fall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798920" y="1743120"/>
              <a:ext cx="689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ush-pull    ECL             Open sink  Open source  </a:t>
              </a:r>
              <a:r>
                <a:rPr b="0" i="1" lang="de-DE" sz="2400" spc="-1" strike="noStrike">
                  <a:solidFill>
                    <a:srgbClr val="003366"/>
                  </a:solidFill>
                  <a:latin typeface="Times New Roman"/>
                </a:rPr>
                <a:t>hint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893600" y="2768760"/>
              <a:ext cx="505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50              50                 50                 5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815480" y="3530520"/>
              <a:ext cx="60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Gnd           Vcc-2V        Vcc/Vterm  Gnd/Vterm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91080" y="4216320"/>
              <a:ext cx="59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cc           Vcc-2V        Vcc/Vterm  Gnd/Vterm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835760" y="2768760"/>
              <a:ext cx="1096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3366"/>
                  </a:solidFill>
                  <a:latin typeface="Times New Roman"/>
                </a:rPr>
                <a:t>Defaul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3366"/>
                  </a:solidFill>
                  <a:latin typeface="Times New Roman"/>
                </a:rPr>
                <a:t>Fixe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3366"/>
                  </a:solidFill>
                  <a:latin typeface="Times New Roman"/>
                </a:rPr>
                <a:t>Fixe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216000" y="1854360"/>
            <a:ext cx="8686800" cy="2971800"/>
            <a:chOff x="216000" y="1854360"/>
            <a:chExt cx="8686800" cy="2971800"/>
          </a:xfrm>
        </p:grpSpPr>
        <p:sp>
          <p:nvSpPr>
            <p:cNvPr id="2035" name=""/>
            <p:cNvSpPr/>
            <p:nvPr/>
          </p:nvSpPr>
          <p:spPr>
            <a:xfrm>
              <a:off x="1739880" y="1854360"/>
              <a:ext cx="0" cy="29718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16000" y="2567160"/>
              <a:ext cx="0" cy="22590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835760" y="1854360"/>
              <a:ext cx="0" cy="29718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11880" y="1854360"/>
              <a:ext cx="0" cy="297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788000" y="1854360"/>
              <a:ext cx="0" cy="297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87800" y="1854360"/>
              <a:ext cx="0" cy="2971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16000" y="4140360"/>
              <a:ext cx="8686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16000" y="3378240"/>
              <a:ext cx="8686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6000" y="4826160"/>
              <a:ext cx="8686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16000" y="2540160"/>
              <a:ext cx="8686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1262160" y="5324400"/>
            <a:ext cx="7509600" cy="951840"/>
            <a:chOff x="1262160" y="5324400"/>
            <a:chExt cx="7509600" cy="951840"/>
          </a:xfrm>
        </p:grpSpPr>
        <p:sp>
          <p:nvSpPr>
            <p:cNvPr id="2046" name=""/>
            <p:cNvSpPr/>
            <p:nvPr/>
          </p:nvSpPr>
          <p:spPr>
            <a:xfrm>
              <a:off x="1262160" y="5324400"/>
              <a:ext cx="703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efault:  value can be changed ( e.g. 75Ohm, 100Ohm 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275840" y="5816520"/>
              <a:ext cx="749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ixed:  value cannot be changed ( assumed by technology )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CC90C-16D3-40F9-B6F9-75DD497B50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Ramp Min Max Valu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836640" y="3884760"/>
            <a:ext cx="7175160" cy="2209680"/>
            <a:chOff x="836640" y="3884760"/>
            <a:chExt cx="7175160" cy="2209680"/>
          </a:xfrm>
        </p:grpSpPr>
        <p:grpSp>
          <p:nvGrpSpPr>
            <p:cNvPr id="2050" name=""/>
            <p:cNvGrpSpPr/>
            <p:nvPr/>
          </p:nvGrpSpPr>
          <p:grpSpPr>
            <a:xfrm>
              <a:off x="839160" y="3884760"/>
              <a:ext cx="7172640" cy="2105640"/>
              <a:chOff x="839160" y="3884760"/>
              <a:chExt cx="7172640" cy="210564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914400" y="4799160"/>
                <a:ext cx="7097400" cy="1191240"/>
                <a:chOff x="914400" y="4799160"/>
                <a:chExt cx="7097400" cy="119124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914400" y="4799160"/>
                  <a:ext cx="9259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lo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lo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2590200" y="4799160"/>
                  <a:ext cx="5421600" cy="11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50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	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	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 50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	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          50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r>
                    <a:rPr b="0" i="1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	</a:t>
                  </a:r>
                  <a:r>
                    <a:rPr b="0" i="1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          Vccmin             Vccmax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marL="457200" indent="-4572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-2V  Vccmin-2V  Vccmax –2V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4" name=""/>
              <p:cNvSpPr/>
              <p:nvPr/>
            </p:nvSpPr>
            <p:spPr>
              <a:xfrm>
                <a:off x="3045600" y="4265640"/>
                <a:ext cx="340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typ         min               max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839160" y="388476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3366"/>
                    </a:solidFill>
                    <a:latin typeface="Times New Roman"/>
                  </a:rPr>
                  <a:t>ECL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836640" y="4418280"/>
              <a:ext cx="6705720" cy="1676160"/>
              <a:chOff x="836640" y="4418280"/>
              <a:chExt cx="6705720" cy="1676160"/>
            </a:xfrm>
          </p:grpSpPr>
          <p:sp>
            <p:nvSpPr>
              <p:cNvPr id="2057" name=""/>
              <p:cNvSpPr/>
              <p:nvPr/>
            </p:nvSpPr>
            <p:spPr>
              <a:xfrm>
                <a:off x="2436840" y="4418280"/>
                <a:ext cx="0" cy="16761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713560" y="4418280"/>
                <a:ext cx="0" cy="16761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113360" y="4418280"/>
                <a:ext cx="0" cy="16761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36640" y="4418280"/>
                <a:ext cx="0" cy="16761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542360" y="4418280"/>
                <a:ext cx="0" cy="16761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36640" y="609444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836640" y="441828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836640" y="479916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836640" y="556128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836640" y="525636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7" name=""/>
          <p:cNvGrpSpPr/>
          <p:nvPr/>
        </p:nvGrpSpPr>
        <p:grpSpPr>
          <a:xfrm>
            <a:off x="836640" y="1257480"/>
            <a:ext cx="6755400" cy="2590200"/>
            <a:chOff x="836640" y="1257480"/>
            <a:chExt cx="6755400" cy="2590200"/>
          </a:xfrm>
        </p:grpSpPr>
        <p:grpSp>
          <p:nvGrpSpPr>
            <p:cNvPr id="2068" name=""/>
            <p:cNvGrpSpPr/>
            <p:nvPr/>
          </p:nvGrpSpPr>
          <p:grpSpPr>
            <a:xfrm>
              <a:off x="838800" y="1257480"/>
              <a:ext cx="6753240" cy="2470680"/>
              <a:chOff x="838800" y="1257480"/>
              <a:chExt cx="6753240" cy="2470680"/>
            </a:xfrm>
          </p:grpSpPr>
          <p:grpSp>
            <p:nvGrpSpPr>
              <p:cNvPr id="2069" name=""/>
              <p:cNvGrpSpPr/>
              <p:nvPr/>
            </p:nvGrpSpPr>
            <p:grpSpPr>
              <a:xfrm>
                <a:off x="1065240" y="1638360"/>
                <a:ext cx="6526800" cy="2089800"/>
                <a:chOff x="1065240" y="1638360"/>
                <a:chExt cx="6526800" cy="2089800"/>
              </a:xfrm>
            </p:grpSpPr>
            <p:grpSp>
              <p:nvGrpSpPr>
                <p:cNvPr id="2070" name=""/>
                <p:cNvGrpSpPr/>
                <p:nvPr/>
              </p:nvGrpSpPr>
              <p:grpSpPr>
                <a:xfrm>
                  <a:off x="1065240" y="2171160"/>
                  <a:ext cx="6526800" cy="1557000"/>
                  <a:chOff x="1065240" y="2171160"/>
                  <a:chExt cx="6526800" cy="155700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>
                    <a:off x="1065240" y="2171160"/>
                    <a:ext cx="1443960" cy="155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Rload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load rise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load fall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2532960" y="2212200"/>
                    <a:ext cx="5059080" cy="1496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457200" indent="-45720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50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50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         50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 marL="457200" indent="-45720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r>
                      <a:rPr b="0" i="1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i="1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       Vccmin             Vccmax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 marL="457200" indent="-45720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         Gnd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 marL="457200" indent="-45720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	</a:t>
                    </a:r>
                    <a:r>
                      <a:rPr b="0" lang="de-DE" sz="2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min        Vccmax</a:t>
                    </a: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3" name=""/>
                <p:cNvSpPr/>
                <p:nvPr/>
              </p:nvSpPr>
              <p:spPr>
                <a:xfrm>
                  <a:off x="3197880" y="1638360"/>
                  <a:ext cx="3248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typ       min               ma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4" name=""/>
              <p:cNvSpPr/>
              <p:nvPr/>
            </p:nvSpPr>
            <p:spPr>
              <a:xfrm>
                <a:off x="838800" y="1257480"/>
                <a:ext cx="161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3366"/>
                    </a:solidFill>
                    <a:latin typeface="Times New Roman"/>
                  </a:rPr>
                  <a:t>Push pull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836640" y="1714320"/>
              <a:ext cx="6705720" cy="2133360"/>
              <a:chOff x="836640" y="1714320"/>
              <a:chExt cx="6705720" cy="2133360"/>
            </a:xfrm>
          </p:grpSpPr>
          <p:sp>
            <p:nvSpPr>
              <p:cNvPr id="2076" name=""/>
              <p:cNvSpPr/>
              <p:nvPr/>
            </p:nvSpPr>
            <p:spPr>
              <a:xfrm>
                <a:off x="2436840" y="1714320"/>
                <a:ext cx="0" cy="2133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713560" y="1714320"/>
                <a:ext cx="0" cy="2133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113360" y="1714320"/>
                <a:ext cx="0" cy="2133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836640" y="1714320"/>
                <a:ext cx="0" cy="2133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542360" y="1714320"/>
                <a:ext cx="0" cy="21333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836640" y="384768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836640" y="171432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836640" y="219816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836640" y="331416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36640" y="293328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836640" y="2628360"/>
                <a:ext cx="6705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BFDEE-49EA-4A31-8FC0-DE9CC2E0A7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541440" y="3314880"/>
            <a:ext cx="2201760" cy="380880"/>
          </a:xfrm>
          <a:prstGeom prst="ellipse">
            <a:avLst/>
          </a:prstGeom>
          <a:solidFill>
            <a:srgbClr val="eed99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862600" y="3340080"/>
            <a:ext cx="2201760" cy="380880"/>
          </a:xfrm>
          <a:prstGeom prst="ellipse">
            <a:avLst/>
          </a:prstGeom>
          <a:solidFill>
            <a:srgbClr val="eed99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41440" y="2946240"/>
            <a:ext cx="2201760" cy="381240"/>
          </a:xfrm>
          <a:prstGeom prst="ellipse">
            <a:avLst/>
          </a:prstGeom>
          <a:solidFill>
            <a:srgbClr val="e8f99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5862600" y="2959200"/>
            <a:ext cx="2201760" cy="380880"/>
          </a:xfrm>
          <a:prstGeom prst="ellipse">
            <a:avLst/>
          </a:prstGeom>
          <a:solidFill>
            <a:srgbClr val="e8f99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888160" y="2590920"/>
            <a:ext cx="2049480" cy="380880"/>
          </a:xfrm>
          <a:prstGeom prst="ellipse">
            <a:avLst/>
          </a:prstGeom>
          <a:solidFill>
            <a:srgbClr val="b4f99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93720" y="2603520"/>
            <a:ext cx="2049480" cy="380880"/>
          </a:xfrm>
          <a:prstGeom prst="ellipse">
            <a:avLst/>
          </a:prstGeom>
          <a:solidFill>
            <a:srgbClr val="b4f99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Rising / Falling Wavefor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693720" y="2068560"/>
            <a:ext cx="7803360" cy="3843000"/>
            <a:chOff x="693720" y="2068560"/>
            <a:chExt cx="7803360" cy="3843000"/>
          </a:xfrm>
        </p:grpSpPr>
        <p:grpSp>
          <p:nvGrpSpPr>
            <p:cNvPr id="2095" name=""/>
            <p:cNvGrpSpPr/>
            <p:nvPr/>
          </p:nvGrpSpPr>
          <p:grpSpPr>
            <a:xfrm>
              <a:off x="768960" y="2068560"/>
              <a:ext cx="7728120" cy="3843000"/>
              <a:chOff x="768960" y="2068560"/>
              <a:chExt cx="7728120" cy="3843000"/>
            </a:xfrm>
          </p:grpSpPr>
          <p:sp>
            <p:nvSpPr>
              <p:cNvPr id="2096" name=""/>
              <p:cNvSpPr/>
              <p:nvPr/>
            </p:nvSpPr>
            <p:spPr>
              <a:xfrm>
                <a:off x="768960" y="2525760"/>
                <a:ext cx="194544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-fixtur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-fixture-mi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V-fixture-max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-fixtur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L-fixtur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-fixtur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-du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L-du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-du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056040" y="2525760"/>
                <a:ext cx="119880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quire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quire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option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4579560" y="2525760"/>
                <a:ext cx="141048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Default: 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79400" y="2525760"/>
                <a:ext cx="1012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typica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mi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max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103440" y="2068560"/>
                <a:ext cx="239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Supply condition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844200" y="2068560"/>
                <a:ext cx="293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Subparameter       not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693720" y="2068560"/>
              <a:ext cx="7772400" cy="3809880"/>
              <a:chOff x="693720" y="2068560"/>
              <a:chExt cx="7772400" cy="3809880"/>
            </a:xfrm>
          </p:grpSpPr>
          <p:sp>
            <p:nvSpPr>
              <p:cNvPr id="2103" name=""/>
              <p:cNvSpPr/>
              <p:nvPr/>
            </p:nvSpPr>
            <p:spPr>
              <a:xfrm>
                <a:off x="693720" y="2068560"/>
                <a:ext cx="0" cy="3809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8466120" y="2068560"/>
                <a:ext cx="0" cy="3809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903760" y="2068560"/>
                <a:ext cx="0" cy="3809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503960" y="2068560"/>
                <a:ext cx="0" cy="3809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027840" y="2068560"/>
                <a:ext cx="0" cy="3809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93720" y="5878440"/>
                <a:ext cx="77724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93720" y="2525760"/>
                <a:ext cx="77724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30968-20D9-43AD-8DB9-D51CAA111E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6" idx="0"/>
            <a:endCxn id="147" idx="2"/>
          </p:cNvCxnSpPr>
          <p:nvPr/>
        </p:nvCxnSpPr>
        <p:spPr>
          <a:xfrm flipH="1" flipV="1" rot="5400000">
            <a:off x="6048720" y="3516480"/>
            <a:ext cx="1143720" cy="1964520"/>
          </a:xfrm>
          <a:prstGeom prst="curvedConnector5">
            <a:avLst>
              <a:gd name="adj1" fmla="val 51637"/>
              <a:gd name="adj2" fmla="val 50000"/>
              <a:gd name="adj3" fmla="val 51637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48" name=""/>
          <p:cNvCxnSpPr>
            <a:stCxn id="149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50" name=""/>
          <p:cNvCxnSpPr>
            <a:stCxn id="149" idx="2"/>
            <a:endCxn id="151" idx="3"/>
          </p:cNvCxnSpPr>
          <p:nvPr/>
        </p:nvCxnSpPr>
        <p:spPr>
          <a:xfrm flipV="1" rot="16200000">
            <a:off x="2729160" y="2793960"/>
            <a:ext cx="1307160" cy="2375280"/>
          </a:xfrm>
          <a:prstGeom prst="curvedConnector5">
            <a:avLst>
              <a:gd name="adj1" fmla="val -17493"/>
              <a:gd name="adj2" fmla="val 30953"/>
              <a:gd name="adj3" fmla="val -17493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52" name=""/>
          <p:cNvCxnSpPr>
            <a:endCxn id="147" idx="2"/>
          </p:cNvCxnSpPr>
          <p:nvPr/>
        </p:nvCxnSpPr>
        <p:spPr>
          <a:xfrm flipH="1" rot="10800000">
            <a:off x="7479000" y="3926880"/>
            <a:ext cx="122400" cy="1956240"/>
          </a:xfrm>
          <a:prstGeom prst="curvedConnector5">
            <a:avLst>
              <a:gd name="adj1" fmla="val -187315"/>
              <a:gd name="adj2" fmla="val 25234"/>
              <a:gd name="adj3" fmla="val -18731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153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154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156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3276720" y="2209680"/>
            <a:ext cx="282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2" idx="1"/>
            <a:endCxn id="151" idx="3"/>
          </p:cNvCxnSpPr>
          <p:nvPr/>
        </p:nvCxnSpPr>
        <p:spPr>
          <a:xfrm flipV="1" rot="10800000">
            <a:off x="2194920" y="2692080"/>
            <a:ext cx="4561200" cy="63720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93" name=""/>
          <p:cNvCxnSpPr>
            <a:stCxn id="151" idx="3"/>
            <a:endCxn id="194" idx="0"/>
          </p:cNvCxnSpPr>
          <p:nvPr/>
        </p:nvCxnSpPr>
        <p:spPr>
          <a:xfrm>
            <a:off x="2195280" y="3328920"/>
            <a:ext cx="129240" cy="143424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95" name=""/>
          <p:cNvCxnSpPr>
            <a:stCxn id="194" idx="1"/>
            <a:endCxn id="196" idx="2"/>
          </p:cNvCxnSpPr>
          <p:nvPr/>
        </p:nvCxnSpPr>
        <p:spPr>
          <a:xfrm flipH="1" flipV="1" rot="10800000">
            <a:off x="1074240" y="5157720"/>
            <a:ext cx="1286640" cy="1192680"/>
          </a:xfrm>
          <a:prstGeom prst="curvedConnector5">
            <a:avLst>
              <a:gd name="adj1" fmla="val -18387"/>
              <a:gd name="adj2" fmla="val 59601"/>
              <a:gd name="adj3" fmla="val -1838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97" name=""/>
          <p:cNvCxnSpPr>
            <a:endCxn id="198" idx="3"/>
          </p:cNvCxnSpPr>
          <p:nvPr/>
        </p:nvCxnSpPr>
        <p:spPr>
          <a:xfrm>
            <a:off x="2230560" y="64386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199" name=""/>
          <p:cNvCxnSpPr>
            <a:stCxn id="198" idx="2"/>
          </p:cNvCxnSpPr>
          <p:nvPr/>
        </p:nvCxnSpPr>
        <p:spPr>
          <a:xfrm flipH="1" flipV="1" rot="5400000">
            <a:off x="6277320" y="5274000"/>
            <a:ext cx="594720" cy="1812240"/>
          </a:xfrm>
          <a:prstGeom prst="curvedConnector5">
            <a:avLst>
              <a:gd name="adj1" fmla="val -38461"/>
              <a:gd name="adj2" fmla="val 28034"/>
              <a:gd name="adj3" fmla="val -38461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00" name=""/>
          <p:cNvCxnSpPr>
            <a:stCxn id="147" idx="2"/>
            <a:endCxn id="201" idx="0"/>
          </p:cNvCxnSpPr>
          <p:nvPr/>
        </p:nvCxnSpPr>
        <p:spPr>
          <a:xfrm flipV="1" rot="16200000">
            <a:off x="6602400" y="2927520"/>
            <a:ext cx="1032840" cy="967320"/>
          </a:xfrm>
          <a:prstGeom prst="curvedConnector5">
            <a:avLst>
              <a:gd name="adj1" fmla="val -22140"/>
              <a:gd name="adj2" fmla="val 62137"/>
              <a:gd name="adj3" fmla="val -2214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02" name=""/>
          <p:cNvCxnSpPr>
            <a:stCxn id="203" idx="3"/>
            <a:endCxn id="198" idx="2"/>
          </p:cNvCxnSpPr>
          <p:nvPr/>
        </p:nvCxnSpPr>
        <p:spPr>
          <a:xfrm>
            <a:off x="1356840" y="4987440"/>
            <a:ext cx="4312440" cy="1490040"/>
          </a:xfrm>
          <a:prstGeom prst="curvedConnector5">
            <a:avLst>
              <a:gd name="adj1" fmla="val 47420"/>
              <a:gd name="adj2" fmla="val 57660"/>
              <a:gd name="adj3" fmla="val 4742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204" name=""/>
          <p:cNvGrpSpPr/>
          <p:nvPr/>
        </p:nvGrpSpPr>
        <p:grpSpPr>
          <a:xfrm>
            <a:off x="228600" y="1143000"/>
            <a:ext cx="8305920" cy="5333760"/>
            <a:chOff x="228600" y="1143000"/>
            <a:chExt cx="8305920" cy="5333760"/>
          </a:xfrm>
        </p:grpSpPr>
        <p:grpSp>
          <p:nvGrpSpPr>
            <p:cNvPr id="205" name=""/>
            <p:cNvGrpSpPr/>
            <p:nvPr/>
          </p:nvGrpSpPr>
          <p:grpSpPr>
            <a:xfrm>
              <a:off x="1066680" y="4711680"/>
              <a:ext cx="2514240" cy="1638000"/>
              <a:chOff x="1066680" y="4711680"/>
              <a:chExt cx="2514240" cy="1638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219320" y="5668200"/>
                <a:ext cx="2286000" cy="681480"/>
                <a:chOff x="1219320" y="5668200"/>
                <a:chExt cx="2286000" cy="6814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7688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0584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63760" y="613836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1932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1344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590560" y="623772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488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018880" y="5837400"/>
                  <a:ext cx="69012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59200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67688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135520" y="603864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4900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362680" y="59385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905840" y="593820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2007360" y="5937120"/>
                  <a:ext cx="708120" cy="412560"/>
                  <a:chOff x="2007360" y="5937120"/>
                  <a:chExt cx="708120" cy="4125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2134440" y="5937120"/>
                    <a:ext cx="456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121480" y="5971320"/>
                    <a:ext cx="479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109960" y="6004440"/>
                    <a:ext cx="5022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098800" y="6038280"/>
                    <a:ext cx="524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087280" y="6072480"/>
                    <a:ext cx="548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076120" y="6107040"/>
                    <a:ext cx="570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064240" y="6141600"/>
                    <a:ext cx="5940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053080" y="6175800"/>
                    <a:ext cx="6166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41560" y="6210360"/>
                    <a:ext cx="639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030400" y="6246720"/>
                    <a:ext cx="662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18880" y="6280920"/>
                    <a:ext cx="6850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007360" y="6315120"/>
                    <a:ext cx="708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16200000">
                  <a:off x="2276280" y="5513760"/>
                  <a:ext cx="169920" cy="47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2288880" y="5872320"/>
                  <a:ext cx="145080" cy="64440"/>
                  <a:chOff x="2288880" y="5872320"/>
                  <a:chExt cx="145080" cy="6444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2288880" y="5872320"/>
                    <a:ext cx="145080" cy="64440"/>
                    <a:chOff x="2288880" y="5872320"/>
                    <a:chExt cx="145080" cy="644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28888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243324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288880" y="5872320"/>
                      <a:ext cx="145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2301480" y="5875920"/>
                    <a:ext cx="12240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281988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066680" y="4711680"/>
                <a:ext cx="2514240" cy="892800"/>
                <a:chOff x="1066680" y="4711680"/>
                <a:chExt cx="2514240" cy="8928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066680" y="4711680"/>
                  <a:ext cx="2514240" cy="892800"/>
                </a:xfrm>
                <a:prstGeom prst="cloudCallout">
                  <a:avLst>
                    <a:gd name="adj1" fmla="val 2430"/>
                    <a:gd name="adj2" fmla="val 4903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IBIS-Technologie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988280" y="5535720"/>
                  <a:ext cx="586800" cy="687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4495680" y="5030640"/>
              <a:ext cx="2286000" cy="1446120"/>
              <a:chOff x="4495680" y="5030640"/>
              <a:chExt cx="2286000" cy="144612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4952880" y="5795280"/>
                <a:ext cx="1430280" cy="681480"/>
                <a:chOff x="4952880" y="5795280"/>
                <a:chExt cx="1430280" cy="681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2390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38236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68920" y="626544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528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5252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10760" y="636480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0976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3280" y="5964480"/>
                  <a:ext cx="4316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1184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23908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526000" y="616572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9652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668200" y="60656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82360" y="606528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5446080" y="6064200"/>
                  <a:ext cx="442800" cy="412560"/>
                  <a:chOff x="5446080" y="6064200"/>
                  <a:chExt cx="442800" cy="412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5525640" y="6064200"/>
                    <a:ext cx="285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17360" y="6098400"/>
                    <a:ext cx="299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0160" y="6131520"/>
                    <a:ext cx="314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03320" y="6165360"/>
                    <a:ext cx="3283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496120" y="6199560"/>
                    <a:ext cx="3427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488920" y="6234120"/>
                    <a:ext cx="357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481720" y="6268680"/>
                    <a:ext cx="371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474520" y="6302880"/>
                    <a:ext cx="3855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467320" y="6337440"/>
                    <a:ext cx="399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460480" y="6373800"/>
                    <a:ext cx="414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453280" y="6408000"/>
                    <a:ext cx="428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446080" y="6442200"/>
                    <a:ext cx="4428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 rot="16200000">
                  <a:off x="5582520" y="5730480"/>
                  <a:ext cx="169920" cy="299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5622120" y="5999400"/>
                  <a:ext cx="90720" cy="64440"/>
                  <a:chOff x="5622120" y="5999400"/>
                  <a:chExt cx="90720" cy="6444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622120" y="5999400"/>
                    <a:ext cx="90720" cy="64440"/>
                    <a:chOff x="5622120" y="5999400"/>
                    <a:chExt cx="90720" cy="6444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62212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71248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622120" y="599940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7" name=""/>
                  <p:cNvSpPr/>
                  <p:nvPr/>
                </p:nvSpPr>
                <p:spPr>
                  <a:xfrm>
                    <a:off x="5630040" y="6003000"/>
                    <a:ext cx="7668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595440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495680" y="5030640"/>
                <a:ext cx="2286000" cy="701280"/>
                <a:chOff x="4495680" y="5030640"/>
                <a:chExt cx="2286000" cy="701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495680" y="5030640"/>
                  <a:ext cx="2286000" cy="701280"/>
                </a:xfrm>
                <a:prstGeom prst="cloudCallout">
                  <a:avLst>
                    <a:gd name="adj1" fmla="val 972"/>
                    <a:gd name="adj2" fmla="val 5340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Parameter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5334120" y="5540400"/>
                  <a:ext cx="533160" cy="63720"/>
                  <a:chOff x="5334120" y="5540400"/>
                  <a:chExt cx="533160" cy="637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3341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48640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63868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913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5" name=""/>
            <p:cNvGrpSpPr/>
            <p:nvPr/>
          </p:nvGrpSpPr>
          <p:grpSpPr>
            <a:xfrm>
              <a:off x="6629400" y="2544840"/>
              <a:ext cx="1905120" cy="1382760"/>
              <a:chOff x="6629400" y="2544840"/>
              <a:chExt cx="1905120" cy="13827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6858000" y="3309840"/>
                <a:ext cx="1488960" cy="617760"/>
                <a:chOff x="6858000" y="3309840"/>
                <a:chExt cx="1488960" cy="6177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15608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0512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603560" y="373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8580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45416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751160" y="382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496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378920" y="3463200"/>
                  <a:ext cx="44964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75224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15608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454880" y="364536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00740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602840" y="355500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305120" y="355464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7371360" y="3553560"/>
                  <a:ext cx="461160" cy="374040"/>
                  <a:chOff x="7371360" y="3553560"/>
                  <a:chExt cx="461160" cy="37404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7454160" y="3553560"/>
                    <a:ext cx="2973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445520" y="3584520"/>
                    <a:ext cx="3124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438320" y="3614400"/>
                    <a:ext cx="3272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430760" y="3645360"/>
                    <a:ext cx="342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423560" y="3676320"/>
                    <a:ext cx="3571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416000" y="3707640"/>
                    <a:ext cx="3718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408440" y="3738960"/>
                    <a:ext cx="387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400880" y="3769920"/>
                    <a:ext cx="4017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393680" y="3801240"/>
                    <a:ext cx="4165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386120" y="3834360"/>
                    <a:ext cx="4312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378920" y="3865320"/>
                    <a:ext cx="4460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371360" y="3896280"/>
                    <a:ext cx="4611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 rot="16200000">
                  <a:off x="7525080" y="3231000"/>
                  <a:ext cx="154080" cy="311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7554600" y="3494880"/>
                  <a:ext cx="94320" cy="58320"/>
                  <a:chOff x="7554600" y="3494880"/>
                  <a:chExt cx="94320" cy="58320"/>
                </a:xfrm>
              </p:grpSpPr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7554600" y="3494880"/>
                    <a:ext cx="94320" cy="58320"/>
                    <a:chOff x="7554600" y="3494880"/>
                    <a:chExt cx="94320" cy="58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55460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64856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554600" y="3494880"/>
                      <a:ext cx="943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9" name=""/>
                  <p:cNvSpPr/>
                  <p:nvPr/>
                </p:nvSpPr>
                <p:spPr>
                  <a:xfrm>
                    <a:off x="7562520" y="3498120"/>
                    <a:ext cx="79560" cy="5508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790056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629400" y="2544840"/>
                <a:ext cx="1905120" cy="701280"/>
                <a:chOff x="6629400" y="2544840"/>
                <a:chExt cx="1905120" cy="701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629400" y="2544840"/>
                  <a:ext cx="1905120" cy="701280"/>
                </a:xfrm>
                <a:prstGeom prst="cloudCallout">
                  <a:avLst>
                    <a:gd name="adj1" fmla="val 578"/>
                    <a:gd name="adj2" fmla="val 4659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Exampl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7528680" y="3054600"/>
                  <a:ext cx="158400" cy="63720"/>
                  <a:chOff x="7528680" y="3054600"/>
                  <a:chExt cx="158400" cy="637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7528680" y="3054600"/>
                    <a:ext cx="525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634160" y="3054600"/>
                    <a:ext cx="529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5" name=""/>
            <p:cNvGrpSpPr/>
            <p:nvPr/>
          </p:nvGrpSpPr>
          <p:grpSpPr>
            <a:xfrm>
              <a:off x="914400" y="1589040"/>
              <a:ext cx="2286000" cy="1765080"/>
              <a:chOff x="914400" y="1589040"/>
              <a:chExt cx="2286000" cy="176508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447920" y="2353680"/>
                <a:ext cx="1142640" cy="1000440"/>
                <a:chOff x="1447920" y="2353680"/>
                <a:chExt cx="1142640" cy="10004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67688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9136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02032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4792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90584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13372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6268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847520" y="2602440"/>
                  <a:ext cx="344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133720" y="289692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67688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0584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62040" y="3043080"/>
                  <a:ext cx="22896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019240" y="275076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91360" y="275076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"/>
                <p:cNvGrpSpPr/>
                <p:nvPr/>
              </p:nvGrpSpPr>
              <p:grpSpPr>
                <a:xfrm>
                  <a:off x="1841400" y="2748600"/>
                  <a:ext cx="354240" cy="605520"/>
                  <a:chOff x="1841400" y="2748600"/>
                  <a:chExt cx="354240" cy="6055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1904760" y="2748600"/>
                    <a:ext cx="2286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898280" y="2799000"/>
                    <a:ext cx="2401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1892880" y="2847240"/>
                    <a:ext cx="2512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1887120" y="2897280"/>
                    <a:ext cx="2628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1881360" y="2947320"/>
                    <a:ext cx="2743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75600" y="2998080"/>
                    <a:ext cx="2854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869840" y="3048480"/>
                    <a:ext cx="2973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864080" y="3098880"/>
                    <a:ext cx="3085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858320" y="3149640"/>
                    <a:ext cx="3200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852920" y="3202920"/>
                    <a:ext cx="3315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1847160" y="3253320"/>
                    <a:ext cx="3427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841400" y="3303360"/>
                    <a:ext cx="3542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rot="16200000">
                  <a:off x="1894320" y="2359080"/>
                  <a:ext cx="249480" cy="2386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"/>
                <p:cNvGrpSpPr/>
                <p:nvPr/>
              </p:nvGrpSpPr>
              <p:grpSpPr>
                <a:xfrm>
                  <a:off x="1982880" y="2654280"/>
                  <a:ext cx="71640" cy="93960"/>
                  <a:chOff x="1982880" y="2654280"/>
                  <a:chExt cx="71640" cy="9396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1982880" y="2654280"/>
                    <a:ext cx="71640" cy="93960"/>
                    <a:chOff x="1982880" y="2654280"/>
                    <a:chExt cx="71640" cy="9396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98288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205416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1982880" y="2654280"/>
                      <a:ext cx="7164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>
                    <a:off x="1989000" y="2659680"/>
                    <a:ext cx="60480" cy="88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2248560" y="3043080"/>
                  <a:ext cx="22752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914400" y="1589040"/>
                <a:ext cx="2286000" cy="828720"/>
                <a:chOff x="914400" y="1589040"/>
                <a:chExt cx="2286000" cy="828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914400" y="1589040"/>
                  <a:ext cx="2286000" cy="828720"/>
                </a:xfrm>
                <a:prstGeom prst="cloudCallout">
                  <a:avLst>
                    <a:gd name="adj1" fmla="val -972"/>
                    <a:gd name="adj2" fmla="val 5352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Conclusion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1752480" y="2099160"/>
                  <a:ext cx="533520" cy="190800"/>
                  <a:chOff x="1752480" y="2099160"/>
                  <a:chExt cx="533520" cy="1908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1752480" y="2226600"/>
                    <a:ext cx="53352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1905120" y="2099160"/>
                    <a:ext cx="228600" cy="63720"/>
                    <a:chOff x="1905120" y="2099160"/>
                    <a:chExt cx="228600" cy="637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1905120" y="2099160"/>
                      <a:ext cx="7596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2057400" y="2099160"/>
                      <a:ext cx="7632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8" name=""/>
            <p:cNvGrpSpPr/>
            <p:nvPr/>
          </p:nvGrpSpPr>
          <p:grpSpPr>
            <a:xfrm>
              <a:off x="228600" y="3246480"/>
              <a:ext cx="1905120" cy="1764720"/>
              <a:chOff x="228600" y="3246480"/>
              <a:chExt cx="1905120" cy="176472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609480" y="4074840"/>
                <a:ext cx="1143000" cy="936360"/>
                <a:chOff x="609480" y="4074840"/>
                <a:chExt cx="1143000" cy="936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8380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9525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81880" y="47206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094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670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295280" y="48571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5242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009440" y="4307400"/>
                  <a:ext cx="34488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29600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3808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67760" y="45835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2432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81160" y="444636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952560" y="444600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1003320" y="4444200"/>
                  <a:ext cx="353880" cy="567000"/>
                  <a:chOff x="1003320" y="4444200"/>
                  <a:chExt cx="353880" cy="5670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066680" y="4444200"/>
                    <a:ext cx="2282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060200" y="4491360"/>
                    <a:ext cx="2397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054440" y="4536720"/>
                    <a:ext cx="25092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049040" y="4583520"/>
                    <a:ext cx="2624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043280" y="4630320"/>
                    <a:ext cx="2739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037520" y="4677840"/>
                    <a:ext cx="2854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031760" y="4725000"/>
                    <a:ext cx="2970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026000" y="4772160"/>
                    <a:ext cx="3081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020240" y="4820040"/>
                    <a:ext cx="3196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014840" y="4869720"/>
                    <a:ext cx="3312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09080" y="4916880"/>
                    <a:ext cx="3423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003320" y="4963680"/>
                    <a:ext cx="3538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 rot="16200000">
                  <a:off x="1063800" y="4071600"/>
                  <a:ext cx="23328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1144080" y="4355640"/>
                  <a:ext cx="72360" cy="88560"/>
                  <a:chOff x="1144080" y="4355640"/>
                  <a:chExt cx="72360" cy="8856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1144080" y="4355640"/>
                    <a:ext cx="72360" cy="88560"/>
                    <a:chOff x="1144080" y="4355640"/>
                    <a:chExt cx="72360" cy="885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1144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216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144080" y="435564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2" name=""/>
                  <p:cNvSpPr/>
                  <p:nvPr/>
                </p:nvSpPr>
                <p:spPr>
                  <a:xfrm>
                    <a:off x="1150200" y="4360680"/>
                    <a:ext cx="61200" cy="83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>
                  <a:off x="14097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28600" y="3246480"/>
                <a:ext cx="1905120" cy="765000"/>
                <a:chOff x="228600" y="3246480"/>
                <a:chExt cx="1905120" cy="765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28600" y="3246480"/>
                  <a:ext cx="1905120" cy="765000"/>
                </a:xfrm>
                <a:prstGeom prst="cloudCallout">
                  <a:avLst>
                    <a:gd name="adj1" fmla="val 2083"/>
                    <a:gd name="adj2" fmla="val 6441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Literatur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" name=""/>
                <p:cNvGrpSpPr/>
                <p:nvPr/>
              </p:nvGrpSpPr>
              <p:grpSpPr>
                <a:xfrm>
                  <a:off x="990720" y="3692520"/>
                  <a:ext cx="444240" cy="190800"/>
                  <a:chOff x="990720" y="3692520"/>
                  <a:chExt cx="444240" cy="1908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990720" y="3819960"/>
                    <a:ext cx="44424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180800" y="3692520"/>
                    <a:ext cx="633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9" name=""/>
            <p:cNvGrpSpPr/>
            <p:nvPr/>
          </p:nvGrpSpPr>
          <p:grpSpPr>
            <a:xfrm>
              <a:off x="5638680" y="1143000"/>
              <a:ext cx="2514600" cy="1572120"/>
              <a:chOff x="5638680" y="1143000"/>
              <a:chExt cx="2514600" cy="15721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6400800" y="1779480"/>
                <a:ext cx="1031400" cy="935640"/>
                <a:chOff x="6400800" y="1779480"/>
                <a:chExt cx="1031400" cy="9356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60672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71040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9177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0080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140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018920" y="25614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262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761880" y="2012400"/>
                  <a:ext cx="31104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02036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606720" y="22878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81408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50412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16320" y="2151360"/>
                  <a:ext cx="20628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710400" y="215136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6756120" y="2149200"/>
                  <a:ext cx="319320" cy="565920"/>
                  <a:chOff x="6756120" y="2149200"/>
                  <a:chExt cx="319320" cy="5659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6813360" y="2149200"/>
                    <a:ext cx="2059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807600" y="2196360"/>
                    <a:ext cx="216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802560" y="2241360"/>
                    <a:ext cx="2264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797160" y="2288160"/>
                    <a:ext cx="236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792120" y="2335320"/>
                    <a:ext cx="247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787080" y="2382840"/>
                    <a:ext cx="2574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781680" y="2429640"/>
                    <a:ext cx="2678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776640" y="2476440"/>
                    <a:ext cx="2782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771600" y="2524320"/>
                    <a:ext cx="288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766200" y="2574000"/>
                    <a:ext cx="2988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761160" y="2621160"/>
                    <a:ext cx="308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756120" y="2667960"/>
                    <a:ext cx="319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"/>
                <p:cNvSpPr/>
                <p:nvPr/>
              </p:nvSpPr>
              <p:spPr>
                <a:xfrm rot="16200000">
                  <a:off x="6799320" y="1788480"/>
                  <a:ext cx="233640" cy="2152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6883560" y="2061000"/>
                  <a:ext cx="64800" cy="88200"/>
                  <a:chOff x="6883560" y="2061000"/>
                  <a:chExt cx="64800" cy="8820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883560" y="2061000"/>
                    <a:ext cx="64800" cy="88200"/>
                    <a:chOff x="6883560" y="2061000"/>
                    <a:chExt cx="64800" cy="882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68835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69483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6883560" y="2061000"/>
                      <a:ext cx="6480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3" name=""/>
                  <p:cNvSpPr/>
                  <p:nvPr/>
                </p:nvSpPr>
                <p:spPr>
                  <a:xfrm>
                    <a:off x="6888960" y="2066040"/>
                    <a:ext cx="54720" cy="83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4" name=""/>
                <p:cNvSpPr/>
                <p:nvPr/>
              </p:nvSpPr>
              <p:spPr>
                <a:xfrm>
                  <a:off x="71229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5638680" y="1143000"/>
                <a:ext cx="2514600" cy="636840"/>
                <a:chOff x="5638680" y="1143000"/>
                <a:chExt cx="2514600" cy="6368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638680" y="1143000"/>
                  <a:ext cx="2514600" cy="636840"/>
                </a:xfrm>
                <a:prstGeom prst="cloudCallout">
                  <a:avLst>
                    <a:gd name="adj1" fmla="val -189"/>
                    <a:gd name="adj2" fmla="val 43541"/>
                  </a:avLst>
                </a:prstGeom>
                <a:solidFill>
                  <a:srgbClr val="7d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2800" spc="-1" strike="noStrike">
                      <a:solidFill>
                        <a:srgbClr val="003366"/>
                      </a:solidFill>
                      <a:latin typeface="Monotype Corsiva"/>
                    </a:rPr>
                    <a:t>Overview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858000" y="1588680"/>
                  <a:ext cx="76320" cy="6336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264360" y="4156200"/>
            <a:ext cx="2723760" cy="1747800"/>
            <a:chOff x="6264360" y="4156200"/>
            <a:chExt cx="2723760" cy="1747800"/>
          </a:xfrm>
        </p:grpSpPr>
        <p:grpSp>
          <p:nvGrpSpPr>
            <p:cNvPr id="449" name=""/>
            <p:cNvGrpSpPr/>
            <p:nvPr/>
          </p:nvGrpSpPr>
          <p:grpSpPr>
            <a:xfrm>
              <a:off x="7086600" y="5094000"/>
              <a:ext cx="1143000" cy="810000"/>
              <a:chOff x="7086600" y="5094000"/>
              <a:chExt cx="1143000" cy="810000"/>
            </a:xfrm>
          </p:grpSpPr>
          <p:sp>
            <p:nvSpPr>
              <p:cNvPr id="450" name=""/>
              <p:cNvSpPr/>
              <p:nvPr/>
            </p:nvSpPr>
            <p:spPr>
              <a:xfrm>
                <a:off x="73152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4296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59000" y="565272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0866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441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72400" y="577080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0013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486560" y="5295600"/>
                <a:ext cx="34488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77312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520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44880" y="55342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144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582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296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7480440" y="5413680"/>
                <a:ext cx="353880" cy="490320"/>
                <a:chOff x="7480440" y="5413680"/>
                <a:chExt cx="353880" cy="4903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3800" y="5413680"/>
                  <a:ext cx="2282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537320" y="5454360"/>
                  <a:ext cx="2397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531560" y="5493600"/>
                  <a:ext cx="25092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526160" y="5533920"/>
                  <a:ext cx="2624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20400" y="5574600"/>
                  <a:ext cx="2739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514640" y="5616000"/>
                  <a:ext cx="2854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508880" y="5656680"/>
                  <a:ext cx="2970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03120" y="5697360"/>
                  <a:ext cx="3081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497360" y="5738400"/>
                  <a:ext cx="3196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491960" y="5781600"/>
                  <a:ext cx="3312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486200" y="5822280"/>
                  <a:ext cx="3423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480440" y="5862960"/>
                  <a:ext cx="3538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 rot="16200000">
                <a:off x="7556760" y="5075280"/>
                <a:ext cx="201960" cy="2394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7621200" y="5337000"/>
                <a:ext cx="72360" cy="76680"/>
                <a:chOff x="7621200" y="5337000"/>
                <a:chExt cx="72360" cy="7668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7621200" y="5337000"/>
                  <a:ext cx="72360" cy="76680"/>
                  <a:chOff x="7621200" y="5337000"/>
                  <a:chExt cx="72360" cy="766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7621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693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621200" y="5337000"/>
                    <a:ext cx="7236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7627320" y="5341320"/>
                  <a:ext cx="61200" cy="72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78868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264360" y="4156200"/>
              <a:ext cx="2723760" cy="811080"/>
              <a:chOff x="6264360" y="4156200"/>
              <a:chExt cx="2723760" cy="811080"/>
            </a:xfrm>
          </p:grpSpPr>
          <p:sp>
            <p:nvSpPr>
              <p:cNvPr id="486" name=""/>
              <p:cNvSpPr/>
              <p:nvPr/>
            </p:nvSpPr>
            <p:spPr>
              <a:xfrm>
                <a:off x="6264360" y="4156200"/>
                <a:ext cx="2723760" cy="811080"/>
              </a:xfrm>
              <a:prstGeom prst="cloudCallout">
                <a:avLst>
                  <a:gd name="adj1" fmla="val 277"/>
                  <a:gd name="adj2" fmla="val 54925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Vcc-Reference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7353720" y="4745880"/>
                <a:ext cx="453600" cy="73440"/>
                <a:chOff x="7353720" y="4745880"/>
                <a:chExt cx="453600" cy="734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7353720" y="4745880"/>
                  <a:ext cx="9036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53516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71660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FCFA4-1333-46CF-98CD-EEFCB24D2F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4483080" y="3022560"/>
            <a:ext cx="4343400" cy="863640"/>
          </a:xfrm>
          <a:prstGeom prst="ellipse">
            <a:avLst/>
          </a:prstGeom>
          <a:solidFill>
            <a:srgbClr val="bafa9a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Example Rising Wavefor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06360" y="1928880"/>
            <a:ext cx="3962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Rising waveform]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-fixture =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-fixture = 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Time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yp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i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ax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n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0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2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8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n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2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4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2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n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7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8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9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n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1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0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3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n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2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1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4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1076400"/>
                <a:tab algn="l" pos="1967040"/>
                <a:tab algn="l" pos="2857680"/>
                <a:tab algn="l" pos="3848040"/>
                <a:tab algn="l" pos="495936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ns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3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15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4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306720" y="1268280"/>
            <a:ext cx="3399480" cy="2552760"/>
            <a:chOff x="306720" y="1268280"/>
            <a:chExt cx="3399480" cy="2552760"/>
          </a:xfrm>
        </p:grpSpPr>
        <p:sp>
          <p:nvSpPr>
            <p:cNvPr id="2114" name=""/>
            <p:cNvSpPr/>
            <p:nvPr/>
          </p:nvSpPr>
          <p:spPr>
            <a:xfrm>
              <a:off x="308160" y="2995560"/>
              <a:ext cx="338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V-fixture-min = </a:t>
              </a:r>
              <a:r>
                <a:rPr b="0" i="1" lang="fr-FR" sz="24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fr-FR" sz="24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 0.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V-fixture-max =</a:t>
              </a:r>
              <a:r>
                <a:rPr b="0" i="1" lang="fr-FR" sz="24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fr-FR" sz="24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 0.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6720" y="1268280"/>
              <a:ext cx="339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ff6600"/>
                  </a:solidFill>
                  <a:latin typeface="Times New Roman"/>
                </a:rPr>
                <a:t>Zero-values by default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4802040" y="1268280"/>
            <a:ext cx="4267440" cy="7338240"/>
            <a:chOff x="4802040" y="1268280"/>
            <a:chExt cx="4267440" cy="7338240"/>
          </a:xfrm>
        </p:grpSpPr>
        <p:sp>
          <p:nvSpPr>
            <p:cNvPr id="2117" name=""/>
            <p:cNvSpPr/>
            <p:nvPr/>
          </p:nvSpPr>
          <p:spPr>
            <a:xfrm>
              <a:off x="4802040" y="1928880"/>
              <a:ext cx="4267440" cy="66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[Rising waveform]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R-fixture =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50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V-fixture =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V-fixture-min =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15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V-fixture-max =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45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|Time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Typ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in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ax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0n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0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2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1.8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1n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2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4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2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n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7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8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9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n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1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0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3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4n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2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1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45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76400"/>
                  <a:tab algn="l" pos="1967040"/>
                  <a:tab algn="l" pos="2857680"/>
                  <a:tab algn="l" pos="3848040"/>
                  <a:tab algn="l" pos="495936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5n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3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15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3.4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803120" y="1268280"/>
              <a:ext cx="33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366"/>
                  </a:solidFill>
                  <a:latin typeface="Times New Roman"/>
                </a:rPr>
                <a:t>Correct subparameters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EA7BE-CB35-488C-B577-FA93D7CC92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Waveform Time Correla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10280" y="582624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common reference point for stimulus wavefor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837360" y="1538280"/>
            <a:ext cx="5774400" cy="1614960"/>
            <a:chOff x="837360" y="1538280"/>
            <a:chExt cx="5774400" cy="1614960"/>
          </a:xfrm>
        </p:grpSpPr>
        <p:grpSp>
          <p:nvGrpSpPr>
            <p:cNvPr id="2122" name=""/>
            <p:cNvGrpSpPr/>
            <p:nvPr/>
          </p:nvGrpSpPr>
          <p:grpSpPr>
            <a:xfrm>
              <a:off x="837360" y="1603440"/>
              <a:ext cx="5774400" cy="1549800"/>
              <a:chOff x="837360" y="1603440"/>
              <a:chExt cx="5774400" cy="1549800"/>
            </a:xfrm>
          </p:grpSpPr>
          <p:sp>
            <p:nvSpPr>
              <p:cNvPr id="2123" name=""/>
              <p:cNvSpPr/>
              <p:nvPr/>
            </p:nvSpPr>
            <p:spPr>
              <a:xfrm>
                <a:off x="1359000" y="1603440"/>
                <a:ext cx="0" cy="12621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311120" y="2817720"/>
                <a:ext cx="53006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1293840" y="2009880"/>
                <a:ext cx="1396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838080" y="1676520"/>
                <a:ext cx="59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837360" y="2543040"/>
                <a:ext cx="62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128" name=""/>
              <p:cNvGrpSpPr/>
              <p:nvPr/>
            </p:nvGrpSpPr>
            <p:grpSpPr>
              <a:xfrm>
                <a:off x="1370160" y="2009520"/>
                <a:ext cx="669240" cy="761760"/>
                <a:chOff x="1370160" y="2009520"/>
                <a:chExt cx="669240" cy="76176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1370160" y="2771280"/>
                  <a:ext cx="26784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V="1">
                  <a:off x="1638000" y="2009520"/>
                  <a:ext cx="178560" cy="76140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816560" y="2009880"/>
                  <a:ext cx="22284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2" name=""/>
              <p:cNvGrpSpPr/>
              <p:nvPr/>
            </p:nvGrpSpPr>
            <p:grpSpPr>
              <a:xfrm>
                <a:off x="2008080" y="1991880"/>
                <a:ext cx="4066920" cy="762480"/>
                <a:chOff x="2008080" y="1991880"/>
                <a:chExt cx="4066920" cy="762480"/>
              </a:xfrm>
            </p:grpSpPr>
            <p:sp>
              <p:nvSpPr>
                <p:cNvPr id="2133" name=""/>
                <p:cNvSpPr/>
                <p:nvPr/>
              </p:nvSpPr>
              <p:spPr>
                <a:xfrm flipH="1">
                  <a:off x="5806800" y="2754360"/>
                  <a:ext cx="2682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flipV="1">
                  <a:off x="5608440" y="1991880"/>
                  <a:ext cx="177480" cy="76212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2008080" y="2006640"/>
                  <a:ext cx="3600720" cy="1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6" name=""/>
              <p:cNvSpPr/>
              <p:nvPr/>
            </p:nvSpPr>
            <p:spPr>
              <a:xfrm>
                <a:off x="6308640" y="275436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37" name=""/>
            <p:cNvSpPr/>
            <p:nvPr/>
          </p:nvSpPr>
          <p:spPr>
            <a:xfrm>
              <a:off x="2681280" y="1538280"/>
              <a:ext cx="26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timulus waveform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1536840" y="1940040"/>
            <a:ext cx="5495760" cy="1263600"/>
            <a:chOff x="1536840" y="1940040"/>
            <a:chExt cx="5495760" cy="1263600"/>
          </a:xfrm>
        </p:grpSpPr>
        <p:sp>
          <p:nvSpPr>
            <p:cNvPr id="2139" name=""/>
            <p:cNvSpPr/>
            <p:nvPr/>
          </p:nvSpPr>
          <p:spPr>
            <a:xfrm>
              <a:off x="1536840" y="2639880"/>
              <a:ext cx="228600" cy="22860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494320" y="1940040"/>
              <a:ext cx="228600" cy="22860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2133720" y="2754360"/>
              <a:ext cx="900000" cy="449280"/>
            </a:xfrm>
            <a:prstGeom prst="wedgeEllipseCallout">
              <a:avLst>
                <a:gd name="adj1" fmla="val -103263"/>
                <a:gd name="adj2" fmla="val 32685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6132600" y="1992240"/>
              <a:ext cx="900000" cy="449280"/>
            </a:xfrm>
            <a:prstGeom prst="wedgeEllipseCallout">
              <a:avLst>
                <a:gd name="adj1" fmla="val -103263"/>
                <a:gd name="adj2" fmla="val 32685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=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1018080" y="1825560"/>
            <a:ext cx="5981040" cy="3605400"/>
            <a:chOff x="1018080" y="1825560"/>
            <a:chExt cx="5981040" cy="3605400"/>
          </a:xfrm>
        </p:grpSpPr>
        <p:sp>
          <p:nvSpPr>
            <p:cNvPr id="2144" name=""/>
            <p:cNvSpPr/>
            <p:nvPr/>
          </p:nvSpPr>
          <p:spPr>
            <a:xfrm>
              <a:off x="2736360" y="3452760"/>
              <a:ext cx="24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output waveforms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145" name=""/>
            <p:cNvGrpSpPr/>
            <p:nvPr/>
          </p:nvGrpSpPr>
          <p:grpSpPr>
            <a:xfrm>
              <a:off x="1018080" y="1825560"/>
              <a:ext cx="5981040" cy="3605400"/>
              <a:chOff x="1018080" y="1825560"/>
              <a:chExt cx="5981040" cy="3605400"/>
            </a:xfrm>
          </p:grpSpPr>
          <p:grpSp>
            <p:nvGrpSpPr>
              <p:cNvPr id="2146" name=""/>
              <p:cNvGrpSpPr/>
              <p:nvPr/>
            </p:nvGrpSpPr>
            <p:grpSpPr>
              <a:xfrm>
                <a:off x="1018080" y="3313080"/>
                <a:ext cx="5981040" cy="2117880"/>
                <a:chOff x="1018080" y="3313080"/>
                <a:chExt cx="5981040" cy="2117880"/>
              </a:xfrm>
            </p:grpSpPr>
            <p:sp>
              <p:nvSpPr>
                <p:cNvPr id="2147" name=""/>
                <p:cNvSpPr/>
                <p:nvPr/>
              </p:nvSpPr>
              <p:spPr>
                <a:xfrm flipV="1">
                  <a:off x="1639800" y="4981680"/>
                  <a:ext cx="900360" cy="449280"/>
                </a:xfrm>
                <a:prstGeom prst="wedgeEllipseCallout">
                  <a:avLst>
                    <a:gd name="adj1" fmla="val -46476"/>
                    <a:gd name="adj2" fmla="val 69787"/>
                  </a:avLst>
                </a:prstGeom>
                <a:solidFill>
                  <a:srgbClr val="66ff33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t=0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1525680" y="4689360"/>
                  <a:ext cx="228600" cy="228600"/>
                </a:xfrm>
                <a:prstGeom prst="ellipse">
                  <a:avLst/>
                </a:prstGeom>
                <a:solidFill>
                  <a:srgbClr val="00ffff"/>
                </a:solidFill>
                <a:ln w="572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5483160" y="4653000"/>
                  <a:ext cx="228600" cy="228600"/>
                </a:xfrm>
                <a:prstGeom prst="ellipse">
                  <a:avLst/>
                </a:prstGeom>
                <a:solidFill>
                  <a:srgbClr val="00ffff"/>
                </a:solidFill>
                <a:ln w="572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0" name=""/>
                <p:cNvGrpSpPr/>
                <p:nvPr/>
              </p:nvGrpSpPr>
              <p:grpSpPr>
                <a:xfrm>
                  <a:off x="1109160" y="3340080"/>
                  <a:ext cx="1913400" cy="1541520"/>
                  <a:chOff x="1109160" y="3340080"/>
                  <a:chExt cx="1913400" cy="154152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1630080" y="3619440"/>
                    <a:ext cx="0" cy="12621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1582560" y="4834080"/>
                    <a:ext cx="14400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1582560" y="455472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1536480" y="380520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1490400" y="3340080"/>
                    <a:ext cx="184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1109520" y="369252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1109160" y="444204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8" name=""/>
                <p:cNvGrpSpPr/>
                <p:nvPr/>
              </p:nvGrpSpPr>
              <p:grpSpPr>
                <a:xfrm>
                  <a:off x="4988520" y="3313080"/>
                  <a:ext cx="2010600" cy="1922760"/>
                  <a:chOff x="4988520" y="3313080"/>
                  <a:chExt cx="2010600" cy="1922760"/>
                </a:xfrm>
              </p:grpSpPr>
              <p:grpSp>
                <p:nvGrpSpPr>
                  <p:cNvPr id="2159" name=""/>
                  <p:cNvGrpSpPr/>
                  <p:nvPr/>
                </p:nvGrpSpPr>
                <p:grpSpPr>
                  <a:xfrm>
                    <a:off x="5085720" y="3313080"/>
                    <a:ext cx="1913400" cy="1540800"/>
                    <a:chOff x="5085720" y="3313080"/>
                    <a:chExt cx="1913400" cy="1540800"/>
                  </a:xfrm>
                </p:grpSpPr>
                <p:sp>
                  <p:nvSpPr>
                    <p:cNvPr id="2160" name=""/>
                    <p:cNvSpPr/>
                    <p:nvPr/>
                  </p:nvSpPr>
                  <p:spPr>
                    <a:xfrm>
                      <a:off x="5607000" y="3592080"/>
                      <a:ext cx="0" cy="1261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1" name=""/>
                    <p:cNvSpPr/>
                    <p:nvPr/>
                  </p:nvSpPr>
                  <p:spPr>
                    <a:xfrm>
                      <a:off x="5559480" y="4806720"/>
                      <a:ext cx="143964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2" name=""/>
                    <p:cNvSpPr/>
                    <p:nvPr/>
                  </p:nvSpPr>
                  <p:spPr>
                    <a:xfrm>
                      <a:off x="5559480" y="4527360"/>
                      <a:ext cx="1396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3" name=""/>
                    <p:cNvSpPr/>
                    <p:nvPr/>
                  </p:nvSpPr>
                  <p:spPr>
                    <a:xfrm>
                      <a:off x="5513400" y="3777840"/>
                      <a:ext cx="1396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4" name=""/>
                    <p:cNvSpPr/>
                    <p:nvPr/>
                  </p:nvSpPr>
                  <p:spPr>
                    <a:xfrm>
                      <a:off x="5467320" y="3313080"/>
                      <a:ext cx="18432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5" name=""/>
                    <p:cNvSpPr/>
                    <p:nvPr/>
                  </p:nvSpPr>
                  <p:spPr>
                    <a:xfrm>
                      <a:off x="5086080" y="3665160"/>
                      <a:ext cx="590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c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/>
                    <p:nvPr/>
                  </p:nvSpPr>
                  <p:spPr>
                    <a:xfrm>
                      <a:off x="5085720" y="441468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7" name=""/>
                  <p:cNvGrpSpPr/>
                  <p:nvPr/>
                </p:nvGrpSpPr>
                <p:grpSpPr>
                  <a:xfrm>
                    <a:off x="5603040" y="3769920"/>
                    <a:ext cx="763920" cy="719280"/>
                    <a:chOff x="5603040" y="3769920"/>
                    <a:chExt cx="763920" cy="719280"/>
                  </a:xfrm>
                </p:grpSpPr>
                <p:sp>
                  <p:nvSpPr>
                    <p:cNvPr id="2168" name=""/>
                    <p:cNvSpPr/>
                    <p:nvPr/>
                  </p:nvSpPr>
                  <p:spPr>
                    <a:xfrm>
                      <a:off x="5618160" y="4489200"/>
                      <a:ext cx="159480" cy="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9" name=""/>
                    <p:cNvSpPr/>
                    <p:nvPr/>
                  </p:nvSpPr>
                  <p:spPr>
                    <a:xfrm>
                      <a:off x="6177240" y="3770280"/>
                      <a:ext cx="159480" cy="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0" name=""/>
                    <p:cNvGrpSpPr/>
                    <p:nvPr/>
                  </p:nvGrpSpPr>
                  <p:grpSpPr>
                    <a:xfrm>
                      <a:off x="5603040" y="3769920"/>
                      <a:ext cx="763920" cy="718560"/>
                      <a:chOff x="5603040" y="3769920"/>
                      <a:chExt cx="763920" cy="718560"/>
                    </a:xfrm>
                  </p:grpSpPr>
                  <p:sp>
                    <p:nvSpPr>
                      <p:cNvPr id="2171" name=""/>
                      <p:cNvSpPr/>
                      <p:nvPr/>
                    </p:nvSpPr>
                    <p:spPr>
                      <a:xfrm flipV="1">
                        <a:off x="5603040" y="3769560"/>
                        <a:ext cx="38232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2" name=""/>
                      <p:cNvSpPr/>
                      <p:nvPr/>
                    </p:nvSpPr>
                    <p:spPr>
                      <a:xfrm flipV="1" rot="10800000">
                        <a:off x="5986080" y="3769920"/>
                        <a:ext cx="38088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73" name=""/>
                  <p:cNvSpPr/>
                  <p:nvPr/>
                </p:nvSpPr>
                <p:spPr>
                  <a:xfrm>
                    <a:off x="6609960" y="4836960"/>
                    <a:ext cx="250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t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5469840" y="433368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  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5115960" y="395892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4988520" y="4789440"/>
                    <a:ext cx="621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77" name=""/>
                  <p:cNvGrpSpPr/>
                  <p:nvPr/>
                </p:nvGrpSpPr>
                <p:grpSpPr>
                  <a:xfrm>
                    <a:off x="5587560" y="4095360"/>
                    <a:ext cx="1145880" cy="719280"/>
                    <a:chOff x="5587560" y="4095360"/>
                    <a:chExt cx="1145880" cy="719280"/>
                  </a:xfrm>
                </p:grpSpPr>
                <p:sp>
                  <p:nvSpPr>
                    <p:cNvPr id="2178" name=""/>
                    <p:cNvSpPr/>
                    <p:nvPr/>
                  </p:nvSpPr>
                  <p:spPr>
                    <a:xfrm>
                      <a:off x="5610240" y="4814640"/>
                      <a:ext cx="239400" cy="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9" name=""/>
                    <p:cNvSpPr/>
                    <p:nvPr/>
                  </p:nvSpPr>
                  <p:spPr>
                    <a:xfrm>
                      <a:off x="6449400" y="4095720"/>
                      <a:ext cx="239400" cy="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80" name=""/>
                    <p:cNvGrpSpPr/>
                    <p:nvPr/>
                  </p:nvGrpSpPr>
                  <p:grpSpPr>
                    <a:xfrm>
                      <a:off x="5587560" y="4095360"/>
                      <a:ext cx="1145880" cy="718560"/>
                      <a:chOff x="5587560" y="4095360"/>
                      <a:chExt cx="1145880" cy="718560"/>
                    </a:xfrm>
                  </p:grpSpPr>
                  <p:sp>
                    <p:nvSpPr>
                      <p:cNvPr id="2181" name=""/>
                      <p:cNvSpPr/>
                      <p:nvPr/>
                    </p:nvSpPr>
                    <p:spPr>
                      <a:xfrm flipV="1">
                        <a:off x="5587560" y="4095000"/>
                        <a:ext cx="57384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2" name=""/>
                      <p:cNvSpPr/>
                      <p:nvPr/>
                    </p:nvSpPr>
                    <p:spPr>
                      <a:xfrm flipV="1" rot="10800000">
                        <a:off x="6161760" y="4095360"/>
                        <a:ext cx="57168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83" name=""/>
                <p:cNvGrpSpPr/>
                <p:nvPr/>
              </p:nvGrpSpPr>
              <p:grpSpPr>
                <a:xfrm>
                  <a:off x="1018080" y="3785760"/>
                  <a:ext cx="1866240" cy="1465920"/>
                  <a:chOff x="1018080" y="3785760"/>
                  <a:chExt cx="1866240" cy="1465920"/>
                </a:xfrm>
              </p:grpSpPr>
              <p:grpSp>
                <p:nvGrpSpPr>
                  <p:cNvPr id="2184" name=""/>
                  <p:cNvGrpSpPr/>
                  <p:nvPr/>
                </p:nvGrpSpPr>
                <p:grpSpPr>
                  <a:xfrm>
                    <a:off x="1596960" y="3785760"/>
                    <a:ext cx="1145880" cy="719640"/>
                    <a:chOff x="1596960" y="3785760"/>
                    <a:chExt cx="1145880" cy="719640"/>
                  </a:xfrm>
                </p:grpSpPr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2480760" y="4505400"/>
                      <a:ext cx="239400" cy="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86" name=""/>
                    <p:cNvGrpSpPr/>
                    <p:nvPr/>
                  </p:nvGrpSpPr>
                  <p:grpSpPr>
                    <a:xfrm>
                      <a:off x="1596960" y="3785760"/>
                      <a:ext cx="1145880" cy="718560"/>
                      <a:chOff x="1596960" y="3785760"/>
                      <a:chExt cx="1145880" cy="718560"/>
                    </a:xfrm>
                  </p:grpSpPr>
                  <p:sp>
                    <p:nvSpPr>
                      <p:cNvPr id="2187" name=""/>
                      <p:cNvSpPr/>
                      <p:nvPr/>
                    </p:nvSpPr>
                    <p:spPr>
                      <a:xfrm flipH="1" flipV="1">
                        <a:off x="2169000" y="3785400"/>
                        <a:ext cx="57384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8" name=""/>
                      <p:cNvSpPr/>
                      <p:nvPr/>
                    </p:nvSpPr>
                    <p:spPr>
                      <a:xfrm flipH="1" flipV="1" rot="10800000">
                        <a:off x="1596960" y="3785760"/>
                        <a:ext cx="57168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89" name=""/>
                    <p:cNvSpPr/>
                    <p:nvPr/>
                  </p:nvSpPr>
                  <p:spPr>
                    <a:xfrm>
                      <a:off x="1641600" y="3786120"/>
                      <a:ext cx="239400" cy="0"/>
                    </a:xfrm>
                    <a:prstGeom prst="line">
                      <a:avLst/>
                    </a:prstGeom>
                    <a:ln w="3816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90" name=""/>
                  <p:cNvSpPr/>
                  <p:nvPr/>
                </p:nvSpPr>
                <p:spPr>
                  <a:xfrm>
                    <a:off x="2633400" y="4852800"/>
                    <a:ext cx="250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t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91" name=""/>
                  <p:cNvGrpSpPr/>
                  <p:nvPr/>
                </p:nvGrpSpPr>
                <p:grpSpPr>
                  <a:xfrm>
                    <a:off x="1609560" y="4100040"/>
                    <a:ext cx="763920" cy="719640"/>
                    <a:chOff x="1609560" y="4100040"/>
                    <a:chExt cx="763920" cy="719640"/>
                  </a:xfrm>
                </p:grpSpPr>
                <p:sp>
                  <p:nvSpPr>
                    <p:cNvPr id="2192" name=""/>
                    <p:cNvSpPr/>
                    <p:nvPr/>
                  </p:nvSpPr>
                  <p:spPr>
                    <a:xfrm>
                      <a:off x="2199240" y="4819680"/>
                      <a:ext cx="159480" cy="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93" name=""/>
                    <p:cNvGrpSpPr/>
                    <p:nvPr/>
                  </p:nvGrpSpPr>
                  <p:grpSpPr>
                    <a:xfrm>
                      <a:off x="1609560" y="4100040"/>
                      <a:ext cx="763920" cy="718560"/>
                      <a:chOff x="1609560" y="4100040"/>
                      <a:chExt cx="763920" cy="718560"/>
                    </a:xfrm>
                  </p:grpSpPr>
                  <p:sp>
                    <p:nvSpPr>
                      <p:cNvPr id="2194" name=""/>
                      <p:cNvSpPr/>
                      <p:nvPr/>
                    </p:nvSpPr>
                    <p:spPr>
                      <a:xfrm flipH="1" flipV="1">
                        <a:off x="1991160" y="4099680"/>
                        <a:ext cx="38232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5" name=""/>
                      <p:cNvSpPr/>
                      <p:nvPr/>
                    </p:nvSpPr>
                    <p:spPr>
                      <a:xfrm flipH="1" flipV="1" rot="10800000">
                        <a:off x="1609560" y="4100040"/>
                        <a:ext cx="38088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96" name=""/>
                    <p:cNvSpPr/>
                    <p:nvPr/>
                  </p:nvSpPr>
                  <p:spPr>
                    <a:xfrm>
                      <a:off x="1639800" y="4100400"/>
                      <a:ext cx="159480" cy="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97" name=""/>
                  <p:cNvSpPr/>
                  <p:nvPr/>
                </p:nvSpPr>
                <p:spPr>
                  <a:xfrm>
                    <a:off x="1469880" y="4689360"/>
                    <a:ext cx="184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1145520" y="397008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1018080" y="4736880"/>
                    <a:ext cx="621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00" name=""/>
                <p:cNvSpPr/>
                <p:nvPr/>
              </p:nvSpPr>
              <p:spPr>
                <a:xfrm flipV="1">
                  <a:off x="5597640" y="4889520"/>
                  <a:ext cx="900000" cy="449280"/>
                </a:xfrm>
                <a:prstGeom prst="wedgeEllipseCallout">
                  <a:avLst>
                    <a:gd name="adj1" fmla="val -46476"/>
                    <a:gd name="adj2" fmla="val 69787"/>
                  </a:avLst>
                </a:prstGeom>
                <a:solidFill>
                  <a:srgbClr val="66ff33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t=0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1" name=""/>
              <p:cNvSpPr/>
              <p:nvPr/>
            </p:nvSpPr>
            <p:spPr>
              <a:xfrm flipH="1">
                <a:off x="5605200" y="1825560"/>
                <a:ext cx="12600" cy="2055960"/>
              </a:xfrm>
              <a:prstGeom prst="line">
                <a:avLst/>
              </a:prstGeom>
              <a:ln cap="rnd" w="3816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>
                <a:off x="1623600" y="1967040"/>
                <a:ext cx="12600" cy="2055600"/>
              </a:xfrm>
              <a:prstGeom prst="line">
                <a:avLst/>
              </a:prstGeom>
              <a:ln cap="rnd" w="3816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DC2FB-2F00-4AC8-95F3-284F55A42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BIS-Technologi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04" name=""/>
          <p:cNvCxnSpPr>
            <a:stCxn id="2205" idx="0"/>
            <a:endCxn id="2206" idx="2"/>
          </p:cNvCxnSpPr>
          <p:nvPr/>
        </p:nvCxnSpPr>
        <p:spPr>
          <a:xfrm flipH="1" flipV="1" rot="5400000">
            <a:off x="6048720" y="3516480"/>
            <a:ext cx="1143720" cy="1964520"/>
          </a:xfrm>
          <a:prstGeom prst="curvedConnector5">
            <a:avLst>
              <a:gd name="adj1" fmla="val 51637"/>
              <a:gd name="adj2" fmla="val 50000"/>
              <a:gd name="adj3" fmla="val 51637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07" name=""/>
          <p:cNvCxnSpPr>
            <a:stCxn id="2208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09" name=""/>
          <p:cNvCxnSpPr>
            <a:stCxn id="2208" idx="2"/>
            <a:endCxn id="2210" idx="3"/>
          </p:cNvCxnSpPr>
          <p:nvPr/>
        </p:nvCxnSpPr>
        <p:spPr>
          <a:xfrm flipV="1" rot="16200000">
            <a:off x="2729160" y="2793960"/>
            <a:ext cx="1307160" cy="2375280"/>
          </a:xfrm>
          <a:prstGeom prst="curvedConnector5">
            <a:avLst>
              <a:gd name="adj1" fmla="val -17493"/>
              <a:gd name="adj2" fmla="val 30953"/>
              <a:gd name="adj3" fmla="val -17493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11" name=""/>
          <p:cNvCxnSpPr>
            <a:endCxn id="2206" idx="2"/>
          </p:cNvCxnSpPr>
          <p:nvPr/>
        </p:nvCxnSpPr>
        <p:spPr>
          <a:xfrm flipH="1" rot="10800000">
            <a:off x="7479000" y="3926880"/>
            <a:ext cx="122400" cy="1956240"/>
          </a:xfrm>
          <a:prstGeom prst="curvedConnector5">
            <a:avLst>
              <a:gd name="adj1" fmla="val -187315"/>
              <a:gd name="adj2" fmla="val 25234"/>
              <a:gd name="adj3" fmla="val -18731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2212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2213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214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2215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29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1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42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2243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2244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7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8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9" name=""/>
          <p:cNvSpPr/>
          <p:nvPr/>
        </p:nvSpPr>
        <p:spPr>
          <a:xfrm>
            <a:off x="3276720" y="2209680"/>
            <a:ext cx="283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2250" name=""/>
          <p:cNvCxnSpPr/>
          <p:nvPr/>
        </p:nvCxnSpPr>
        <p:spPr>
          <a:xfrm flipV="1" rot="10800000">
            <a:off x="2218680" y="2668320"/>
            <a:ext cx="4561200" cy="63720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51" name=""/>
          <p:cNvCxnSpPr>
            <a:stCxn id="2210" idx="3"/>
            <a:endCxn id="2252" idx="0"/>
          </p:cNvCxnSpPr>
          <p:nvPr/>
        </p:nvCxnSpPr>
        <p:spPr>
          <a:xfrm>
            <a:off x="2195280" y="3328560"/>
            <a:ext cx="106920" cy="125028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53" name=""/>
          <p:cNvCxnSpPr>
            <a:stCxn id="2252" idx="1"/>
            <a:endCxn id="2254" idx="2"/>
          </p:cNvCxnSpPr>
          <p:nvPr/>
        </p:nvCxnSpPr>
        <p:spPr>
          <a:xfrm flipH="1" flipV="1" rot="10800000">
            <a:off x="834120" y="5050440"/>
            <a:ext cx="1526040" cy="1299240"/>
          </a:xfrm>
          <a:prstGeom prst="curvedConnector5">
            <a:avLst>
              <a:gd name="adj1" fmla="val -15596"/>
              <a:gd name="adj2" fmla="val 58786"/>
              <a:gd name="adj3" fmla="val -15596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55" name=""/>
          <p:cNvCxnSpPr>
            <a:endCxn id="2256" idx="3"/>
          </p:cNvCxnSpPr>
          <p:nvPr/>
        </p:nvCxnSpPr>
        <p:spPr>
          <a:xfrm>
            <a:off x="2230560" y="64386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57" name=""/>
          <p:cNvCxnSpPr>
            <a:stCxn id="2256" idx="2"/>
          </p:cNvCxnSpPr>
          <p:nvPr/>
        </p:nvCxnSpPr>
        <p:spPr>
          <a:xfrm flipH="1" flipV="1" rot="5400000">
            <a:off x="6277320" y="5274000"/>
            <a:ext cx="594720" cy="1812240"/>
          </a:xfrm>
          <a:prstGeom prst="curvedConnector5">
            <a:avLst>
              <a:gd name="adj1" fmla="val -38461"/>
              <a:gd name="adj2" fmla="val 28034"/>
              <a:gd name="adj3" fmla="val -38461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58" name=""/>
          <p:cNvCxnSpPr>
            <a:stCxn id="2206" idx="2"/>
            <a:endCxn id="2259" idx="0"/>
          </p:cNvCxnSpPr>
          <p:nvPr/>
        </p:nvCxnSpPr>
        <p:spPr>
          <a:xfrm flipV="1" rot="16200000">
            <a:off x="6602400" y="2927520"/>
            <a:ext cx="1032840" cy="967320"/>
          </a:xfrm>
          <a:prstGeom prst="curvedConnector5">
            <a:avLst>
              <a:gd name="adj1" fmla="val -22140"/>
              <a:gd name="adj2" fmla="val 62137"/>
              <a:gd name="adj3" fmla="val -2214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2260" name=""/>
          <p:cNvCxnSpPr>
            <a:stCxn id="2261" idx="3"/>
            <a:endCxn id="2256" idx="2"/>
          </p:cNvCxnSpPr>
          <p:nvPr/>
        </p:nvCxnSpPr>
        <p:spPr>
          <a:xfrm>
            <a:off x="1356840" y="4987440"/>
            <a:ext cx="4312440" cy="1490040"/>
          </a:xfrm>
          <a:prstGeom prst="curvedConnector5">
            <a:avLst>
              <a:gd name="adj1" fmla="val 47420"/>
              <a:gd name="adj2" fmla="val 57660"/>
              <a:gd name="adj3" fmla="val 4742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2262" name=""/>
          <p:cNvGrpSpPr/>
          <p:nvPr/>
        </p:nvGrpSpPr>
        <p:grpSpPr>
          <a:xfrm>
            <a:off x="228600" y="1143000"/>
            <a:ext cx="8305920" cy="5333760"/>
            <a:chOff x="228600" y="1143000"/>
            <a:chExt cx="8305920" cy="5333760"/>
          </a:xfrm>
        </p:grpSpPr>
        <p:grpSp>
          <p:nvGrpSpPr>
            <p:cNvPr id="2263" name=""/>
            <p:cNvGrpSpPr/>
            <p:nvPr/>
          </p:nvGrpSpPr>
          <p:grpSpPr>
            <a:xfrm>
              <a:off x="825480" y="4518000"/>
              <a:ext cx="2951280" cy="1831680"/>
              <a:chOff x="825480" y="4518000"/>
              <a:chExt cx="2951280" cy="1831680"/>
            </a:xfrm>
          </p:grpSpPr>
          <p:grpSp>
            <p:nvGrpSpPr>
              <p:cNvPr id="2264" name=""/>
              <p:cNvGrpSpPr/>
              <p:nvPr/>
            </p:nvGrpSpPr>
            <p:grpSpPr>
              <a:xfrm>
                <a:off x="1219320" y="5668920"/>
                <a:ext cx="2286000" cy="680760"/>
                <a:chOff x="1219320" y="5668920"/>
                <a:chExt cx="2286000" cy="68076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1676880" y="623808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1905840" y="613872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2363760" y="6138720"/>
                  <a:ext cx="456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1219320" y="623808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2134440" y="623808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2590560" y="6238080"/>
                  <a:ext cx="456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048840" y="623808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2018880" y="5838120"/>
                  <a:ext cx="69012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592000" y="6039000"/>
                  <a:ext cx="456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1676880" y="6039000"/>
                  <a:ext cx="45684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135520" y="603900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1449000" y="613872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362680" y="593892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1905840" y="593892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9" name=""/>
                <p:cNvGrpSpPr/>
                <p:nvPr/>
              </p:nvGrpSpPr>
              <p:grpSpPr>
                <a:xfrm>
                  <a:off x="2007360" y="5937480"/>
                  <a:ext cx="708120" cy="412200"/>
                  <a:chOff x="2007360" y="5937480"/>
                  <a:chExt cx="708120" cy="412200"/>
                </a:xfrm>
              </p:grpSpPr>
              <p:sp>
                <p:nvSpPr>
                  <p:cNvPr id="2280" name=""/>
                  <p:cNvSpPr/>
                  <p:nvPr/>
                </p:nvSpPr>
                <p:spPr>
                  <a:xfrm>
                    <a:off x="2134440" y="5937480"/>
                    <a:ext cx="4564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2121480" y="5971680"/>
                    <a:ext cx="47952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2109960" y="6004440"/>
                    <a:ext cx="50220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2098800" y="6038640"/>
                    <a:ext cx="5248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2087280" y="6072840"/>
                    <a:ext cx="5482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2076120" y="6107400"/>
                    <a:ext cx="57096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2064240" y="6141600"/>
                    <a:ext cx="59400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2053080" y="6175800"/>
                    <a:ext cx="6166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2041560" y="6210720"/>
                    <a:ext cx="63936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2030400" y="6246720"/>
                    <a:ext cx="66240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2018880" y="6280920"/>
                    <a:ext cx="68508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2007360" y="6315120"/>
                    <a:ext cx="708120" cy="34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1" name=""/>
                <p:cNvSpPr/>
                <p:nvPr/>
              </p:nvSpPr>
              <p:spPr>
                <a:xfrm rot="16200000">
                  <a:off x="2276280" y="5514480"/>
                  <a:ext cx="169920" cy="47844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2" name=""/>
                <p:cNvGrpSpPr/>
                <p:nvPr/>
              </p:nvGrpSpPr>
              <p:grpSpPr>
                <a:xfrm>
                  <a:off x="2288880" y="5873040"/>
                  <a:ext cx="145080" cy="64440"/>
                  <a:chOff x="2288880" y="5873040"/>
                  <a:chExt cx="145080" cy="64440"/>
                </a:xfrm>
              </p:grpSpPr>
              <p:grpSp>
                <p:nvGrpSpPr>
                  <p:cNvPr id="2293" name=""/>
                  <p:cNvGrpSpPr/>
                  <p:nvPr/>
                </p:nvGrpSpPr>
                <p:grpSpPr>
                  <a:xfrm>
                    <a:off x="2288880" y="5873040"/>
                    <a:ext cx="145080" cy="64440"/>
                    <a:chOff x="2288880" y="5873040"/>
                    <a:chExt cx="145080" cy="64440"/>
                  </a:xfrm>
                </p:grpSpPr>
                <p:sp>
                  <p:nvSpPr>
                    <p:cNvPr id="2294" name=""/>
                    <p:cNvSpPr/>
                    <p:nvPr/>
                  </p:nvSpPr>
                  <p:spPr>
                    <a:xfrm>
                      <a:off x="2288880" y="587304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5" name=""/>
                    <p:cNvSpPr/>
                    <p:nvPr/>
                  </p:nvSpPr>
                  <p:spPr>
                    <a:xfrm>
                      <a:off x="2433240" y="587304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6" name=""/>
                    <p:cNvSpPr/>
                    <p:nvPr/>
                  </p:nvSpPr>
                  <p:spPr>
                    <a:xfrm>
                      <a:off x="2288880" y="5873040"/>
                      <a:ext cx="145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97" name=""/>
                  <p:cNvSpPr/>
                  <p:nvPr/>
                </p:nvSpPr>
                <p:spPr>
                  <a:xfrm>
                    <a:off x="2301480" y="5876640"/>
                    <a:ext cx="122400" cy="6084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8" name=""/>
                <p:cNvSpPr/>
                <p:nvPr/>
              </p:nvSpPr>
              <p:spPr>
                <a:xfrm>
                  <a:off x="2819880" y="6138720"/>
                  <a:ext cx="456480" cy="993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9" name=""/>
              <p:cNvGrpSpPr/>
              <p:nvPr/>
            </p:nvGrpSpPr>
            <p:grpSpPr>
              <a:xfrm>
                <a:off x="825480" y="4518000"/>
                <a:ext cx="2951280" cy="1190160"/>
                <a:chOff x="825480" y="4518000"/>
                <a:chExt cx="2951280" cy="119016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825480" y="4518000"/>
                  <a:ext cx="2951280" cy="1065240"/>
                </a:xfrm>
                <a:prstGeom prst="cloudCallout">
                  <a:avLst>
                    <a:gd name="adj1" fmla="val 2430"/>
                    <a:gd name="adj2" fmla="val 4903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2800" spc="-1" strike="noStrike">
                      <a:solidFill>
                        <a:srgbClr val="003366"/>
                      </a:solidFill>
                      <a:latin typeface="Monotype Corsiva"/>
                    </a:rPr>
                    <a:t>IBIS-Technologies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1994040" y="5627160"/>
                  <a:ext cx="687240" cy="8100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1" name=""/>
            <p:cNvGrpSpPr/>
            <p:nvPr/>
          </p:nvGrpSpPr>
          <p:grpSpPr>
            <a:xfrm>
              <a:off x="4495680" y="5030640"/>
              <a:ext cx="2286000" cy="1446120"/>
              <a:chOff x="4495680" y="5030640"/>
              <a:chExt cx="2286000" cy="1446120"/>
            </a:xfrm>
          </p:grpSpPr>
          <p:grpSp>
            <p:nvGrpSpPr>
              <p:cNvPr id="2302" name=""/>
              <p:cNvGrpSpPr/>
              <p:nvPr/>
            </p:nvGrpSpPr>
            <p:grpSpPr>
              <a:xfrm>
                <a:off x="4952880" y="5795280"/>
                <a:ext cx="1430280" cy="681480"/>
                <a:chOff x="4952880" y="5795280"/>
                <a:chExt cx="1430280" cy="68148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52390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538236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5668920" y="626544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9528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55252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5810760" y="636480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60976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5453280" y="5964480"/>
                  <a:ext cx="4316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581184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23908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26000" y="616572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509652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5668200" y="60656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5382360" y="606528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7" name=""/>
                <p:cNvGrpSpPr/>
                <p:nvPr/>
              </p:nvGrpSpPr>
              <p:grpSpPr>
                <a:xfrm>
                  <a:off x="5446080" y="6064200"/>
                  <a:ext cx="442800" cy="412560"/>
                  <a:chOff x="5446080" y="6064200"/>
                  <a:chExt cx="442800" cy="412560"/>
                </a:xfrm>
              </p:grpSpPr>
              <p:sp>
                <p:nvSpPr>
                  <p:cNvPr id="2318" name=""/>
                  <p:cNvSpPr/>
                  <p:nvPr/>
                </p:nvSpPr>
                <p:spPr>
                  <a:xfrm>
                    <a:off x="5525640" y="6064200"/>
                    <a:ext cx="285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5517360" y="6098400"/>
                    <a:ext cx="299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5510160" y="6131520"/>
                    <a:ext cx="314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5503320" y="6165360"/>
                    <a:ext cx="3283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5496120" y="6199560"/>
                    <a:ext cx="3427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5488920" y="6234120"/>
                    <a:ext cx="357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5481720" y="6268680"/>
                    <a:ext cx="371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5474520" y="6302880"/>
                    <a:ext cx="3855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5467320" y="6337440"/>
                    <a:ext cx="399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5460480" y="6373800"/>
                    <a:ext cx="414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5453280" y="6408000"/>
                    <a:ext cx="428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5446080" y="6442200"/>
                    <a:ext cx="4428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9" name=""/>
                <p:cNvSpPr/>
                <p:nvPr/>
              </p:nvSpPr>
              <p:spPr>
                <a:xfrm rot="16200000">
                  <a:off x="5582520" y="5730480"/>
                  <a:ext cx="169920" cy="299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0" name=""/>
                <p:cNvGrpSpPr/>
                <p:nvPr/>
              </p:nvGrpSpPr>
              <p:grpSpPr>
                <a:xfrm>
                  <a:off x="5622120" y="5999400"/>
                  <a:ext cx="90720" cy="64440"/>
                  <a:chOff x="5622120" y="5999400"/>
                  <a:chExt cx="90720" cy="64440"/>
                </a:xfrm>
              </p:grpSpPr>
              <p:grpSp>
                <p:nvGrpSpPr>
                  <p:cNvPr id="2331" name=""/>
                  <p:cNvGrpSpPr/>
                  <p:nvPr/>
                </p:nvGrpSpPr>
                <p:grpSpPr>
                  <a:xfrm>
                    <a:off x="5622120" y="5999400"/>
                    <a:ext cx="90720" cy="64440"/>
                    <a:chOff x="5622120" y="5999400"/>
                    <a:chExt cx="90720" cy="64440"/>
                  </a:xfrm>
                </p:grpSpPr>
                <p:sp>
                  <p:nvSpPr>
                    <p:cNvPr id="2332" name=""/>
                    <p:cNvSpPr/>
                    <p:nvPr/>
                  </p:nvSpPr>
                  <p:spPr>
                    <a:xfrm>
                      <a:off x="562212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3" name=""/>
                    <p:cNvSpPr/>
                    <p:nvPr/>
                  </p:nvSpPr>
                  <p:spPr>
                    <a:xfrm>
                      <a:off x="571248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4" name=""/>
                    <p:cNvSpPr/>
                    <p:nvPr/>
                  </p:nvSpPr>
                  <p:spPr>
                    <a:xfrm>
                      <a:off x="5622120" y="599940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5" name=""/>
                  <p:cNvSpPr/>
                  <p:nvPr/>
                </p:nvSpPr>
                <p:spPr>
                  <a:xfrm>
                    <a:off x="5630040" y="6003000"/>
                    <a:ext cx="7668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6" name=""/>
                <p:cNvSpPr/>
                <p:nvPr/>
              </p:nvSpPr>
              <p:spPr>
                <a:xfrm>
                  <a:off x="595440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7" name=""/>
              <p:cNvGrpSpPr/>
              <p:nvPr/>
            </p:nvGrpSpPr>
            <p:grpSpPr>
              <a:xfrm>
                <a:off x="4495680" y="5030640"/>
                <a:ext cx="2286000" cy="701280"/>
                <a:chOff x="4495680" y="5030640"/>
                <a:chExt cx="2286000" cy="701280"/>
              </a:xfrm>
            </p:grpSpPr>
            <p:sp>
              <p:nvSpPr>
                <p:cNvPr id="2205" name=""/>
                <p:cNvSpPr/>
                <p:nvPr/>
              </p:nvSpPr>
              <p:spPr>
                <a:xfrm>
                  <a:off x="4495680" y="5030640"/>
                  <a:ext cx="2286000" cy="701280"/>
                </a:xfrm>
                <a:prstGeom prst="cloudCallout">
                  <a:avLst>
                    <a:gd name="adj1" fmla="val 972"/>
                    <a:gd name="adj2" fmla="val 5340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Parameter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8" name=""/>
                <p:cNvGrpSpPr/>
                <p:nvPr/>
              </p:nvGrpSpPr>
              <p:grpSpPr>
                <a:xfrm>
                  <a:off x="5334120" y="5540400"/>
                  <a:ext cx="533160" cy="63720"/>
                  <a:chOff x="5334120" y="5540400"/>
                  <a:chExt cx="533160" cy="6372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>
                    <a:off x="53341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548640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563868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7913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43" name=""/>
            <p:cNvGrpSpPr/>
            <p:nvPr/>
          </p:nvGrpSpPr>
          <p:grpSpPr>
            <a:xfrm>
              <a:off x="6629400" y="2544840"/>
              <a:ext cx="1905120" cy="1382760"/>
              <a:chOff x="6629400" y="2544840"/>
              <a:chExt cx="1905120" cy="1382760"/>
            </a:xfrm>
          </p:grpSpPr>
          <p:grpSp>
            <p:nvGrpSpPr>
              <p:cNvPr id="2344" name=""/>
              <p:cNvGrpSpPr/>
              <p:nvPr/>
            </p:nvGrpSpPr>
            <p:grpSpPr>
              <a:xfrm>
                <a:off x="6858000" y="3309840"/>
                <a:ext cx="1488960" cy="617760"/>
                <a:chOff x="6858000" y="3309840"/>
                <a:chExt cx="1488960" cy="617760"/>
              </a:xfrm>
            </p:grpSpPr>
            <p:sp>
              <p:nvSpPr>
                <p:cNvPr id="2345" name=""/>
                <p:cNvSpPr/>
                <p:nvPr/>
              </p:nvSpPr>
              <p:spPr>
                <a:xfrm>
                  <a:off x="715608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730512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7603560" y="373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68580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745416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7751160" y="382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80496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7378920" y="3463200"/>
                  <a:ext cx="44964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775224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715608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7454880" y="364536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700740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7602840" y="355500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7305120" y="355464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9" name=""/>
                <p:cNvGrpSpPr/>
                <p:nvPr/>
              </p:nvGrpSpPr>
              <p:grpSpPr>
                <a:xfrm>
                  <a:off x="7371360" y="3553560"/>
                  <a:ext cx="461160" cy="374040"/>
                  <a:chOff x="7371360" y="3553560"/>
                  <a:chExt cx="461160" cy="374040"/>
                </a:xfrm>
              </p:grpSpPr>
              <p:sp>
                <p:nvSpPr>
                  <p:cNvPr id="2360" name=""/>
                  <p:cNvSpPr/>
                  <p:nvPr/>
                </p:nvSpPr>
                <p:spPr>
                  <a:xfrm>
                    <a:off x="7454160" y="3553560"/>
                    <a:ext cx="2973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7445520" y="3584520"/>
                    <a:ext cx="3124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7438320" y="3614400"/>
                    <a:ext cx="3272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7430760" y="3645360"/>
                    <a:ext cx="342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7423560" y="3676320"/>
                    <a:ext cx="3571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7416000" y="3707640"/>
                    <a:ext cx="3718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7408440" y="3738960"/>
                    <a:ext cx="387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7400880" y="3769920"/>
                    <a:ext cx="4017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7393680" y="3801240"/>
                    <a:ext cx="4165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7386120" y="3834360"/>
                    <a:ext cx="4312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7378920" y="3865320"/>
                    <a:ext cx="4460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7371360" y="3896280"/>
                    <a:ext cx="4611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1" name=""/>
                <p:cNvSpPr/>
                <p:nvPr/>
              </p:nvSpPr>
              <p:spPr>
                <a:xfrm rot="16200000">
                  <a:off x="7525080" y="3231000"/>
                  <a:ext cx="154080" cy="311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2" name=""/>
                <p:cNvGrpSpPr/>
                <p:nvPr/>
              </p:nvGrpSpPr>
              <p:grpSpPr>
                <a:xfrm>
                  <a:off x="7554600" y="3494880"/>
                  <a:ext cx="94320" cy="58320"/>
                  <a:chOff x="7554600" y="3494880"/>
                  <a:chExt cx="94320" cy="58320"/>
                </a:xfrm>
              </p:grpSpPr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7554600" y="3494880"/>
                    <a:ext cx="94320" cy="58320"/>
                    <a:chOff x="7554600" y="3494880"/>
                    <a:chExt cx="94320" cy="58320"/>
                  </a:xfrm>
                </p:grpSpPr>
                <p:sp>
                  <p:nvSpPr>
                    <p:cNvPr id="2374" name=""/>
                    <p:cNvSpPr/>
                    <p:nvPr/>
                  </p:nvSpPr>
                  <p:spPr>
                    <a:xfrm>
                      <a:off x="755460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/>
                    <p:nvPr/>
                  </p:nvSpPr>
                  <p:spPr>
                    <a:xfrm>
                      <a:off x="764856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>
                      <a:off x="7554600" y="3494880"/>
                      <a:ext cx="943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77" name=""/>
                  <p:cNvSpPr/>
                  <p:nvPr/>
                </p:nvSpPr>
                <p:spPr>
                  <a:xfrm>
                    <a:off x="7562520" y="3498120"/>
                    <a:ext cx="79560" cy="5508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8" name=""/>
                <p:cNvSpPr/>
                <p:nvPr/>
              </p:nvSpPr>
              <p:spPr>
                <a:xfrm>
                  <a:off x="790056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6629400" y="2544840"/>
                <a:ext cx="1905120" cy="701280"/>
                <a:chOff x="6629400" y="2544840"/>
                <a:chExt cx="1905120" cy="70128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6629400" y="2544840"/>
                  <a:ext cx="1905120" cy="701280"/>
                </a:xfrm>
                <a:prstGeom prst="cloudCallout">
                  <a:avLst>
                    <a:gd name="adj1" fmla="val 578"/>
                    <a:gd name="adj2" fmla="val 4659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Exampl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0" name=""/>
                <p:cNvGrpSpPr/>
                <p:nvPr/>
              </p:nvGrpSpPr>
              <p:grpSpPr>
                <a:xfrm>
                  <a:off x="7528680" y="3054600"/>
                  <a:ext cx="158400" cy="63720"/>
                  <a:chOff x="7528680" y="3054600"/>
                  <a:chExt cx="158400" cy="6372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>
                    <a:off x="7528680" y="3054600"/>
                    <a:ext cx="525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7634160" y="3054600"/>
                    <a:ext cx="529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83" name=""/>
            <p:cNvGrpSpPr/>
            <p:nvPr/>
          </p:nvGrpSpPr>
          <p:grpSpPr>
            <a:xfrm>
              <a:off x="914400" y="1589040"/>
              <a:ext cx="2286000" cy="1765080"/>
              <a:chOff x="914400" y="1589040"/>
              <a:chExt cx="2286000" cy="1765080"/>
            </a:xfrm>
          </p:grpSpPr>
          <p:grpSp>
            <p:nvGrpSpPr>
              <p:cNvPr id="2384" name=""/>
              <p:cNvGrpSpPr/>
              <p:nvPr/>
            </p:nvGrpSpPr>
            <p:grpSpPr>
              <a:xfrm>
                <a:off x="1447920" y="2353680"/>
                <a:ext cx="1142640" cy="1000440"/>
                <a:chOff x="1447920" y="2353680"/>
                <a:chExt cx="1142640" cy="1000440"/>
              </a:xfrm>
            </p:grpSpPr>
            <p:sp>
              <p:nvSpPr>
                <p:cNvPr id="2385" name=""/>
                <p:cNvSpPr/>
                <p:nvPr/>
              </p:nvSpPr>
              <p:spPr>
                <a:xfrm>
                  <a:off x="167688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179136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2020320" y="30430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144792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1905840" y="31888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213372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2362680" y="31888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1847520" y="2602440"/>
                  <a:ext cx="344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2133720" y="289692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167688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1905840" y="28969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1562040" y="3043080"/>
                  <a:ext cx="22896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2019240" y="275076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1791360" y="275076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9" name=""/>
                <p:cNvGrpSpPr/>
                <p:nvPr/>
              </p:nvGrpSpPr>
              <p:grpSpPr>
                <a:xfrm>
                  <a:off x="1841400" y="2748600"/>
                  <a:ext cx="354240" cy="605520"/>
                  <a:chOff x="1841400" y="2748600"/>
                  <a:chExt cx="354240" cy="605520"/>
                </a:xfrm>
              </p:grpSpPr>
              <p:sp>
                <p:nvSpPr>
                  <p:cNvPr id="2400" name=""/>
                  <p:cNvSpPr/>
                  <p:nvPr/>
                </p:nvSpPr>
                <p:spPr>
                  <a:xfrm>
                    <a:off x="1904760" y="2748600"/>
                    <a:ext cx="2286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1898280" y="2799000"/>
                    <a:ext cx="2401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1892880" y="2847240"/>
                    <a:ext cx="2512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1887120" y="2897280"/>
                    <a:ext cx="2628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1881360" y="2947320"/>
                    <a:ext cx="2743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1875600" y="2998080"/>
                    <a:ext cx="2854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1869840" y="3048480"/>
                    <a:ext cx="2973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1864080" y="3098880"/>
                    <a:ext cx="3085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1858320" y="3149640"/>
                    <a:ext cx="3200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1852920" y="3202920"/>
                    <a:ext cx="3315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1847160" y="3253320"/>
                    <a:ext cx="3427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1841400" y="3303360"/>
                    <a:ext cx="3542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1" name=""/>
                <p:cNvSpPr/>
                <p:nvPr/>
              </p:nvSpPr>
              <p:spPr>
                <a:xfrm rot="16200000">
                  <a:off x="1894320" y="2359080"/>
                  <a:ext cx="249480" cy="2386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2" name=""/>
                <p:cNvGrpSpPr/>
                <p:nvPr/>
              </p:nvGrpSpPr>
              <p:grpSpPr>
                <a:xfrm>
                  <a:off x="1982880" y="2654280"/>
                  <a:ext cx="71640" cy="93960"/>
                  <a:chOff x="1982880" y="2654280"/>
                  <a:chExt cx="71640" cy="93960"/>
                </a:xfrm>
              </p:grpSpPr>
              <p:grpSp>
                <p:nvGrpSpPr>
                  <p:cNvPr id="2413" name=""/>
                  <p:cNvGrpSpPr/>
                  <p:nvPr/>
                </p:nvGrpSpPr>
                <p:grpSpPr>
                  <a:xfrm>
                    <a:off x="1982880" y="2654280"/>
                    <a:ext cx="71640" cy="93960"/>
                    <a:chOff x="1982880" y="2654280"/>
                    <a:chExt cx="71640" cy="93960"/>
                  </a:xfrm>
                </p:grpSpPr>
                <p:sp>
                  <p:nvSpPr>
                    <p:cNvPr id="2414" name=""/>
                    <p:cNvSpPr/>
                    <p:nvPr/>
                  </p:nvSpPr>
                  <p:spPr>
                    <a:xfrm>
                      <a:off x="198288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"/>
                    <p:cNvSpPr/>
                    <p:nvPr/>
                  </p:nvSpPr>
                  <p:spPr>
                    <a:xfrm>
                      <a:off x="2054160" y="26542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6" name=""/>
                    <p:cNvSpPr/>
                    <p:nvPr/>
                  </p:nvSpPr>
                  <p:spPr>
                    <a:xfrm>
                      <a:off x="1982880" y="2654280"/>
                      <a:ext cx="7164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17" name=""/>
                  <p:cNvSpPr/>
                  <p:nvPr/>
                </p:nvSpPr>
                <p:spPr>
                  <a:xfrm>
                    <a:off x="1989000" y="2659680"/>
                    <a:ext cx="60480" cy="88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8" name=""/>
                <p:cNvSpPr/>
                <p:nvPr/>
              </p:nvSpPr>
              <p:spPr>
                <a:xfrm>
                  <a:off x="2248560" y="3043080"/>
                  <a:ext cx="22752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914400" y="1589040"/>
                <a:ext cx="2286000" cy="828720"/>
                <a:chOff x="914400" y="1589040"/>
                <a:chExt cx="2286000" cy="82872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914400" y="1589040"/>
                  <a:ext cx="2286000" cy="828720"/>
                </a:xfrm>
                <a:prstGeom prst="cloudCallout">
                  <a:avLst>
                    <a:gd name="adj1" fmla="val -972"/>
                    <a:gd name="adj2" fmla="val 5352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Conclusion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1" name=""/>
                <p:cNvGrpSpPr/>
                <p:nvPr/>
              </p:nvGrpSpPr>
              <p:grpSpPr>
                <a:xfrm>
                  <a:off x="1752480" y="2099160"/>
                  <a:ext cx="533520" cy="190800"/>
                  <a:chOff x="1752480" y="2099160"/>
                  <a:chExt cx="533520" cy="19080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>
                    <a:off x="1752480" y="2226600"/>
                    <a:ext cx="53352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23" name=""/>
                  <p:cNvGrpSpPr/>
                  <p:nvPr/>
                </p:nvGrpSpPr>
                <p:grpSpPr>
                  <a:xfrm>
                    <a:off x="1905120" y="2099160"/>
                    <a:ext cx="228600" cy="63720"/>
                    <a:chOff x="1905120" y="2099160"/>
                    <a:chExt cx="228600" cy="63720"/>
                  </a:xfrm>
                </p:grpSpPr>
                <p:sp>
                  <p:nvSpPr>
                    <p:cNvPr id="2424" name=""/>
                    <p:cNvSpPr/>
                    <p:nvPr/>
                  </p:nvSpPr>
                  <p:spPr>
                    <a:xfrm>
                      <a:off x="1905120" y="2099160"/>
                      <a:ext cx="7596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5" name=""/>
                    <p:cNvSpPr/>
                    <p:nvPr/>
                  </p:nvSpPr>
                  <p:spPr>
                    <a:xfrm>
                      <a:off x="2057400" y="2099160"/>
                      <a:ext cx="7632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26" name=""/>
            <p:cNvGrpSpPr/>
            <p:nvPr/>
          </p:nvGrpSpPr>
          <p:grpSpPr>
            <a:xfrm>
              <a:off x="228600" y="3246480"/>
              <a:ext cx="1905120" cy="1764720"/>
              <a:chOff x="228600" y="3246480"/>
              <a:chExt cx="1905120" cy="1764720"/>
            </a:xfrm>
          </p:grpSpPr>
          <p:grpSp>
            <p:nvGrpSpPr>
              <p:cNvPr id="2427" name=""/>
              <p:cNvGrpSpPr/>
              <p:nvPr/>
            </p:nvGrpSpPr>
            <p:grpSpPr>
              <a:xfrm>
                <a:off x="609480" y="4074840"/>
                <a:ext cx="1143000" cy="936360"/>
                <a:chOff x="609480" y="4074840"/>
                <a:chExt cx="1143000" cy="93636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8380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9525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1181880" y="47206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094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10670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1295280" y="48571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15242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1009440" y="4307400"/>
                  <a:ext cx="34488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129600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3808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1067760" y="45835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72432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1181160" y="444636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952560" y="444600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2" name=""/>
                <p:cNvGrpSpPr/>
                <p:nvPr/>
              </p:nvGrpSpPr>
              <p:grpSpPr>
                <a:xfrm>
                  <a:off x="1003320" y="4444200"/>
                  <a:ext cx="353880" cy="567000"/>
                  <a:chOff x="1003320" y="4444200"/>
                  <a:chExt cx="353880" cy="56700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>
                    <a:off x="1066680" y="4444200"/>
                    <a:ext cx="2282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1060200" y="4491360"/>
                    <a:ext cx="2397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1054440" y="4536720"/>
                    <a:ext cx="25092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1049040" y="4583520"/>
                    <a:ext cx="2624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1043280" y="4630320"/>
                    <a:ext cx="2739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1037520" y="4677840"/>
                    <a:ext cx="2854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1031760" y="4725000"/>
                    <a:ext cx="2970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1026000" y="4772160"/>
                    <a:ext cx="3081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1020240" y="4820040"/>
                    <a:ext cx="3196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1014840" y="4869720"/>
                    <a:ext cx="3312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1009080" y="4916880"/>
                    <a:ext cx="3423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1003320" y="4963680"/>
                    <a:ext cx="3538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4" name=""/>
                <p:cNvSpPr/>
                <p:nvPr/>
              </p:nvSpPr>
              <p:spPr>
                <a:xfrm rot="16200000">
                  <a:off x="1063800" y="4071600"/>
                  <a:ext cx="23328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5" name=""/>
                <p:cNvGrpSpPr/>
                <p:nvPr/>
              </p:nvGrpSpPr>
              <p:grpSpPr>
                <a:xfrm>
                  <a:off x="1144080" y="4355640"/>
                  <a:ext cx="72360" cy="88560"/>
                  <a:chOff x="1144080" y="4355640"/>
                  <a:chExt cx="72360" cy="88560"/>
                </a:xfrm>
              </p:grpSpPr>
              <p:grpSp>
                <p:nvGrpSpPr>
                  <p:cNvPr id="2456" name=""/>
                  <p:cNvGrpSpPr/>
                  <p:nvPr/>
                </p:nvGrpSpPr>
                <p:grpSpPr>
                  <a:xfrm>
                    <a:off x="1144080" y="4355640"/>
                    <a:ext cx="72360" cy="88560"/>
                    <a:chOff x="1144080" y="4355640"/>
                    <a:chExt cx="72360" cy="88560"/>
                  </a:xfrm>
                </p:grpSpPr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1144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8" name=""/>
                    <p:cNvSpPr/>
                    <p:nvPr/>
                  </p:nvSpPr>
                  <p:spPr>
                    <a:xfrm>
                      <a:off x="1216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"/>
                    <p:cNvSpPr/>
                    <p:nvPr/>
                  </p:nvSpPr>
                  <p:spPr>
                    <a:xfrm>
                      <a:off x="1144080" y="435564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0" name=""/>
                  <p:cNvSpPr/>
                  <p:nvPr/>
                </p:nvSpPr>
                <p:spPr>
                  <a:xfrm>
                    <a:off x="1150200" y="4360680"/>
                    <a:ext cx="61200" cy="83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1" name=""/>
                <p:cNvSpPr/>
                <p:nvPr/>
              </p:nvSpPr>
              <p:spPr>
                <a:xfrm>
                  <a:off x="14097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228600" y="3246480"/>
                <a:ext cx="1905120" cy="765000"/>
                <a:chOff x="228600" y="3246480"/>
                <a:chExt cx="1905120" cy="76500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228600" y="3246480"/>
                  <a:ext cx="1905120" cy="765000"/>
                </a:xfrm>
                <a:prstGeom prst="cloudCallout">
                  <a:avLst>
                    <a:gd name="adj1" fmla="val 2083"/>
                    <a:gd name="adj2" fmla="val 6441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Literatur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4" name=""/>
                <p:cNvGrpSpPr/>
                <p:nvPr/>
              </p:nvGrpSpPr>
              <p:grpSpPr>
                <a:xfrm>
                  <a:off x="990720" y="3692520"/>
                  <a:ext cx="444240" cy="190800"/>
                  <a:chOff x="990720" y="3692520"/>
                  <a:chExt cx="444240" cy="190800"/>
                </a:xfrm>
              </p:grpSpPr>
              <p:sp>
                <p:nvSpPr>
                  <p:cNvPr id="2465" name=""/>
                  <p:cNvSpPr/>
                  <p:nvPr/>
                </p:nvSpPr>
                <p:spPr>
                  <a:xfrm>
                    <a:off x="990720" y="3819960"/>
                    <a:ext cx="44424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1180800" y="3692520"/>
                    <a:ext cx="633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67" name=""/>
            <p:cNvGrpSpPr/>
            <p:nvPr/>
          </p:nvGrpSpPr>
          <p:grpSpPr>
            <a:xfrm>
              <a:off x="5638680" y="1143000"/>
              <a:ext cx="2514600" cy="1572120"/>
              <a:chOff x="5638680" y="1143000"/>
              <a:chExt cx="2514600" cy="1572120"/>
            </a:xfrm>
          </p:grpSpPr>
          <p:grpSp>
            <p:nvGrpSpPr>
              <p:cNvPr id="2468" name=""/>
              <p:cNvGrpSpPr/>
              <p:nvPr/>
            </p:nvGrpSpPr>
            <p:grpSpPr>
              <a:xfrm>
                <a:off x="6400800" y="1779480"/>
                <a:ext cx="1031400" cy="935640"/>
                <a:chOff x="6400800" y="1779480"/>
                <a:chExt cx="1031400" cy="93564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660672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71040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9177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40080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8140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018920" y="25614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72262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761880" y="2012400"/>
                  <a:ext cx="31104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702036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606720" y="22878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81408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50412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916320" y="2151360"/>
                  <a:ext cx="20628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710400" y="215136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3" name=""/>
                <p:cNvGrpSpPr/>
                <p:nvPr/>
              </p:nvGrpSpPr>
              <p:grpSpPr>
                <a:xfrm>
                  <a:off x="6756120" y="2149200"/>
                  <a:ext cx="319320" cy="565920"/>
                  <a:chOff x="6756120" y="2149200"/>
                  <a:chExt cx="319320" cy="56592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>
                    <a:off x="6813360" y="2149200"/>
                    <a:ext cx="2059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6807600" y="2196360"/>
                    <a:ext cx="216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6802560" y="2241360"/>
                    <a:ext cx="2264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6797160" y="2288160"/>
                    <a:ext cx="236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6792120" y="2335320"/>
                    <a:ext cx="247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6787080" y="2382840"/>
                    <a:ext cx="2574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6781680" y="2429640"/>
                    <a:ext cx="2678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6776640" y="2476440"/>
                    <a:ext cx="2782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6771600" y="2524320"/>
                    <a:ext cx="288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6766200" y="2574000"/>
                    <a:ext cx="2988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6761160" y="2621160"/>
                    <a:ext cx="308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6756120" y="2667960"/>
                    <a:ext cx="319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6" name=""/>
                <p:cNvSpPr/>
                <p:nvPr/>
              </p:nvSpPr>
              <p:spPr>
                <a:xfrm rot="16200000">
                  <a:off x="6799320" y="1788480"/>
                  <a:ext cx="233640" cy="2152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7" name=""/>
                <p:cNvGrpSpPr/>
                <p:nvPr/>
              </p:nvGrpSpPr>
              <p:grpSpPr>
                <a:xfrm>
                  <a:off x="6883560" y="2061000"/>
                  <a:ext cx="64800" cy="88200"/>
                  <a:chOff x="6883560" y="2061000"/>
                  <a:chExt cx="64800" cy="88200"/>
                </a:xfrm>
              </p:grpSpPr>
              <p:grpSp>
                <p:nvGrpSpPr>
                  <p:cNvPr id="2498" name=""/>
                  <p:cNvGrpSpPr/>
                  <p:nvPr/>
                </p:nvGrpSpPr>
                <p:grpSpPr>
                  <a:xfrm>
                    <a:off x="6883560" y="2061000"/>
                    <a:ext cx="64800" cy="88200"/>
                    <a:chOff x="6883560" y="2061000"/>
                    <a:chExt cx="64800" cy="88200"/>
                  </a:xfrm>
                </p:grpSpPr>
                <p:sp>
                  <p:nvSpPr>
                    <p:cNvPr id="2499" name=""/>
                    <p:cNvSpPr/>
                    <p:nvPr/>
                  </p:nvSpPr>
                  <p:spPr>
                    <a:xfrm>
                      <a:off x="68835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0" name=""/>
                    <p:cNvSpPr/>
                    <p:nvPr/>
                  </p:nvSpPr>
                  <p:spPr>
                    <a:xfrm>
                      <a:off x="69483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6883560" y="2061000"/>
                      <a:ext cx="6480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02" name=""/>
                  <p:cNvSpPr/>
                  <p:nvPr/>
                </p:nvSpPr>
                <p:spPr>
                  <a:xfrm>
                    <a:off x="6888960" y="2066040"/>
                    <a:ext cx="54720" cy="83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3" name=""/>
                <p:cNvSpPr/>
                <p:nvPr/>
              </p:nvSpPr>
              <p:spPr>
                <a:xfrm>
                  <a:off x="71229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4" name=""/>
              <p:cNvGrpSpPr/>
              <p:nvPr/>
            </p:nvGrpSpPr>
            <p:grpSpPr>
              <a:xfrm>
                <a:off x="5638680" y="1143000"/>
                <a:ext cx="2514600" cy="636840"/>
                <a:chOff x="5638680" y="1143000"/>
                <a:chExt cx="2514600" cy="63684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38680" y="1143000"/>
                  <a:ext cx="2514600" cy="636840"/>
                </a:xfrm>
                <a:prstGeom prst="cloudCallout">
                  <a:avLst>
                    <a:gd name="adj1" fmla="val -189"/>
                    <a:gd name="adj2" fmla="val 43541"/>
                  </a:avLst>
                </a:prstGeom>
                <a:solidFill>
                  <a:srgbClr val="7d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Overview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6858000" y="1588680"/>
                  <a:ext cx="76320" cy="6336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07" name=""/>
          <p:cNvGrpSpPr/>
          <p:nvPr/>
        </p:nvGrpSpPr>
        <p:grpSpPr>
          <a:xfrm>
            <a:off x="6264360" y="4156200"/>
            <a:ext cx="2723760" cy="1747800"/>
            <a:chOff x="6264360" y="4156200"/>
            <a:chExt cx="2723760" cy="1747800"/>
          </a:xfrm>
        </p:grpSpPr>
        <p:grpSp>
          <p:nvGrpSpPr>
            <p:cNvPr id="2508" name=""/>
            <p:cNvGrpSpPr/>
            <p:nvPr/>
          </p:nvGrpSpPr>
          <p:grpSpPr>
            <a:xfrm>
              <a:off x="7086600" y="5094000"/>
              <a:ext cx="1143000" cy="810000"/>
              <a:chOff x="7086600" y="5094000"/>
              <a:chExt cx="1143000" cy="810000"/>
            </a:xfrm>
          </p:grpSpPr>
          <p:sp>
            <p:nvSpPr>
              <p:cNvPr id="2509" name=""/>
              <p:cNvSpPr/>
              <p:nvPr/>
            </p:nvSpPr>
            <p:spPr>
              <a:xfrm>
                <a:off x="73152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4296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59000" y="565272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866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5441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772400" y="577080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013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486560" y="5295600"/>
                <a:ext cx="34488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77312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31520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44880" y="55342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20144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582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4296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23" name=""/>
              <p:cNvGrpSpPr/>
              <p:nvPr/>
            </p:nvGrpSpPr>
            <p:grpSpPr>
              <a:xfrm>
                <a:off x="7480440" y="5413680"/>
                <a:ext cx="353880" cy="490320"/>
                <a:chOff x="7480440" y="5413680"/>
                <a:chExt cx="353880" cy="49032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7543800" y="5413680"/>
                  <a:ext cx="2282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537320" y="5454360"/>
                  <a:ext cx="2397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531560" y="5493600"/>
                  <a:ext cx="25092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526160" y="5533920"/>
                  <a:ext cx="2624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520400" y="5574600"/>
                  <a:ext cx="2739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514640" y="5616000"/>
                  <a:ext cx="2854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508880" y="5656680"/>
                  <a:ext cx="2970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503120" y="5697360"/>
                  <a:ext cx="3081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497360" y="5738400"/>
                  <a:ext cx="3196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491960" y="5781600"/>
                  <a:ext cx="3312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486200" y="5822280"/>
                  <a:ext cx="3423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480440" y="5862960"/>
                  <a:ext cx="3538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6" name=""/>
              <p:cNvSpPr/>
              <p:nvPr/>
            </p:nvSpPr>
            <p:spPr>
              <a:xfrm rot="16200000">
                <a:off x="7556760" y="5075280"/>
                <a:ext cx="201960" cy="2394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37" name=""/>
              <p:cNvGrpSpPr/>
              <p:nvPr/>
            </p:nvGrpSpPr>
            <p:grpSpPr>
              <a:xfrm>
                <a:off x="7621200" y="5337000"/>
                <a:ext cx="72360" cy="76680"/>
                <a:chOff x="7621200" y="5337000"/>
                <a:chExt cx="72360" cy="76680"/>
              </a:xfrm>
            </p:grpSpPr>
            <p:grpSp>
              <p:nvGrpSpPr>
                <p:cNvPr id="2538" name=""/>
                <p:cNvGrpSpPr/>
                <p:nvPr/>
              </p:nvGrpSpPr>
              <p:grpSpPr>
                <a:xfrm>
                  <a:off x="7621200" y="5337000"/>
                  <a:ext cx="72360" cy="76680"/>
                  <a:chOff x="7621200" y="5337000"/>
                  <a:chExt cx="72360" cy="76680"/>
                </a:xfrm>
              </p:grpSpPr>
              <p:sp>
                <p:nvSpPr>
                  <p:cNvPr id="2539" name=""/>
                  <p:cNvSpPr/>
                  <p:nvPr/>
                </p:nvSpPr>
                <p:spPr>
                  <a:xfrm>
                    <a:off x="7621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7693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7621200" y="5337000"/>
                    <a:ext cx="7236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2" name=""/>
                <p:cNvSpPr/>
                <p:nvPr/>
              </p:nvSpPr>
              <p:spPr>
                <a:xfrm>
                  <a:off x="7627320" y="5341320"/>
                  <a:ext cx="61200" cy="72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3" name=""/>
              <p:cNvSpPr/>
              <p:nvPr/>
            </p:nvSpPr>
            <p:spPr>
              <a:xfrm>
                <a:off x="78868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6264360" y="4156200"/>
              <a:ext cx="2723760" cy="811080"/>
              <a:chOff x="6264360" y="4156200"/>
              <a:chExt cx="2723760" cy="811080"/>
            </a:xfrm>
          </p:grpSpPr>
          <p:sp>
            <p:nvSpPr>
              <p:cNvPr id="2545" name=""/>
              <p:cNvSpPr/>
              <p:nvPr/>
            </p:nvSpPr>
            <p:spPr>
              <a:xfrm>
                <a:off x="6264360" y="4156200"/>
                <a:ext cx="2723760" cy="811080"/>
              </a:xfrm>
              <a:prstGeom prst="cloudCallout">
                <a:avLst>
                  <a:gd name="adj1" fmla="val 277"/>
                  <a:gd name="adj2" fmla="val 54925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Vcc-Reference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46" name=""/>
              <p:cNvGrpSpPr/>
              <p:nvPr/>
            </p:nvGrpSpPr>
            <p:grpSpPr>
              <a:xfrm>
                <a:off x="7353720" y="4745880"/>
                <a:ext cx="453600" cy="73440"/>
                <a:chOff x="7353720" y="4745880"/>
                <a:chExt cx="453600" cy="7344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7353720" y="4745880"/>
                  <a:ext cx="9036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53516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71660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DF84C-621C-4E80-93E3-311662E479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Push Pull (CMOS)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147600" y="1403280"/>
            <a:ext cx="1973880" cy="1936800"/>
            <a:chOff x="147600" y="1403280"/>
            <a:chExt cx="1973880" cy="1936800"/>
          </a:xfrm>
        </p:grpSpPr>
        <p:sp>
          <p:nvSpPr>
            <p:cNvPr id="2552" name=""/>
            <p:cNvSpPr/>
            <p:nvPr/>
          </p:nvSpPr>
          <p:spPr>
            <a:xfrm>
              <a:off x="147600" y="1403280"/>
              <a:ext cx="1904760" cy="193680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1936800"/>
                <a:gd name="textAreaBottom" fmla="*/ 1843920 h 1936800"/>
              </a:gdLst>
              <a:ahLst/>
              <a:rect l="textAreaLeft" t="textAreaTop" r="textAreaRight" b="textAreaBottom"/>
              <a:pathLst>
                <a:path w="21600" h="21963">
                  <a:moveTo>
                    <a:pt x="3600" y="0"/>
                  </a:moveTo>
                  <a:arcTo wR="3600" hR="3600" stAng="16200000" swAng="-5400000"/>
                  <a:lnTo>
                    <a:pt x="0" y="18363"/>
                  </a:lnTo>
                  <a:arcTo wR="3600" hR="3600" stAng="10800000" swAng="-5400000"/>
                  <a:lnTo>
                    <a:pt x="18000" y="219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553" name=""/>
            <p:cNvGrpSpPr/>
            <p:nvPr/>
          </p:nvGrpSpPr>
          <p:grpSpPr>
            <a:xfrm>
              <a:off x="375480" y="1524240"/>
              <a:ext cx="1746000" cy="1754280"/>
              <a:chOff x="375480" y="1524240"/>
              <a:chExt cx="1746000" cy="1754280"/>
            </a:xfrm>
          </p:grpSpPr>
          <p:sp>
            <p:nvSpPr>
              <p:cNvPr id="2554" name=""/>
              <p:cNvSpPr/>
              <p:nvPr/>
            </p:nvSpPr>
            <p:spPr>
              <a:xfrm>
                <a:off x="797760" y="1524240"/>
                <a:ext cx="0" cy="16945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18320" y="2553120"/>
                <a:ext cx="1252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499400" y="26125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88960" y="164376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27040" y="2879640"/>
                <a:ext cx="130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Gnd clam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02640" y="200844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60" name=""/>
              <p:cNvGrpSpPr/>
              <p:nvPr/>
            </p:nvGrpSpPr>
            <p:grpSpPr>
              <a:xfrm>
                <a:off x="375480" y="2553120"/>
                <a:ext cx="948960" cy="604440"/>
                <a:chOff x="375480" y="2553120"/>
                <a:chExt cx="948960" cy="604440"/>
              </a:xfrm>
            </p:grpSpPr>
            <p:sp>
              <p:nvSpPr>
                <p:cNvPr id="2561" name=""/>
                <p:cNvSpPr/>
                <p:nvPr/>
              </p:nvSpPr>
              <p:spPr>
                <a:xfrm flipH="1">
                  <a:off x="591120" y="2553120"/>
                  <a:ext cx="73332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>
                  <a:off x="504720" y="2553120"/>
                  <a:ext cx="86040" cy="6048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H="1">
                  <a:off x="375480" y="2613600"/>
                  <a:ext cx="129240" cy="54396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418320" y="1947960"/>
                <a:ext cx="950400" cy="604800"/>
                <a:chOff x="418320" y="1947960"/>
                <a:chExt cx="950400" cy="604800"/>
              </a:xfrm>
            </p:grpSpPr>
            <p:sp>
              <p:nvSpPr>
                <p:cNvPr id="2565" name=""/>
                <p:cNvSpPr/>
                <p:nvPr/>
              </p:nvSpPr>
              <p:spPr>
                <a:xfrm flipH="1">
                  <a:off x="633960" y="2552760"/>
                  <a:ext cx="73476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flipV="1">
                  <a:off x="547560" y="2492280"/>
                  <a:ext cx="86040" cy="6048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 flipV="1">
                  <a:off x="418320" y="1947960"/>
                  <a:ext cx="129600" cy="5443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68" name=""/>
          <p:cNvGrpSpPr/>
          <p:nvPr/>
        </p:nvGrpSpPr>
        <p:grpSpPr>
          <a:xfrm>
            <a:off x="2128680" y="1241280"/>
            <a:ext cx="1728360" cy="2784600"/>
            <a:chOff x="2128680" y="1241280"/>
            <a:chExt cx="1728360" cy="2784600"/>
          </a:xfrm>
        </p:grpSpPr>
        <p:sp>
          <p:nvSpPr>
            <p:cNvPr id="2569" name=""/>
            <p:cNvSpPr/>
            <p:nvPr/>
          </p:nvSpPr>
          <p:spPr>
            <a:xfrm>
              <a:off x="2205000" y="1241280"/>
              <a:ext cx="1600200" cy="278460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2784600"/>
                <a:gd name="textAreaBottom" fmla="*/ 2706480 h 2784600"/>
              </a:gdLst>
              <a:ahLst/>
              <a:rect l="textAreaLeft" t="textAreaTop" r="textAreaRight" b="textAreaBottom"/>
              <a:pathLst>
                <a:path w="21600" h="37584">
                  <a:moveTo>
                    <a:pt x="3600" y="0"/>
                  </a:moveTo>
                  <a:arcTo wR="3600" hR="3600" stAng="16200000" swAng="-5400000"/>
                  <a:lnTo>
                    <a:pt x="0" y="33984"/>
                  </a:lnTo>
                  <a:arcTo wR="3600" hR="3600" stAng="10800000" swAng="-5400000"/>
                  <a:lnTo>
                    <a:pt x="18000" y="37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2128680" y="1484280"/>
              <a:ext cx="1728360" cy="2520000"/>
              <a:chOff x="2128680" y="1484280"/>
              <a:chExt cx="1728360" cy="2520000"/>
            </a:xfrm>
          </p:grpSpPr>
          <p:sp>
            <p:nvSpPr>
              <p:cNvPr id="2571" name=""/>
              <p:cNvSpPr/>
              <p:nvPr/>
            </p:nvSpPr>
            <p:spPr>
              <a:xfrm>
                <a:off x="2628720" y="1725120"/>
                <a:ext cx="0" cy="16952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588760" y="2729160"/>
                <a:ext cx="9464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043440" y="269388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ou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128680" y="1905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ou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575" name=""/>
              <p:cNvGrpSpPr/>
              <p:nvPr/>
            </p:nvGrpSpPr>
            <p:grpSpPr>
              <a:xfrm>
                <a:off x="2617560" y="1850760"/>
                <a:ext cx="858600" cy="928080"/>
                <a:chOff x="2617560" y="1850760"/>
                <a:chExt cx="858600" cy="928080"/>
              </a:xfrm>
            </p:grpSpPr>
            <p:sp>
              <p:nvSpPr>
                <p:cNvPr id="2576" name=""/>
                <p:cNvSpPr/>
                <p:nvPr/>
              </p:nvSpPr>
              <p:spPr>
                <a:xfrm flipV="1">
                  <a:off x="2617560" y="2418480"/>
                  <a:ext cx="142920" cy="3603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2760480" y="2160000"/>
                  <a:ext cx="143640" cy="2584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>
                  <a:off x="2904120" y="1954080"/>
                  <a:ext cx="228600" cy="2055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V="1">
                  <a:off x="3132720" y="1850760"/>
                  <a:ext cx="343440" cy="10332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0" name=""/>
              <p:cNvGrpSpPr/>
              <p:nvPr/>
            </p:nvGrpSpPr>
            <p:grpSpPr>
              <a:xfrm>
                <a:off x="2617920" y="2729160"/>
                <a:ext cx="829800" cy="618120"/>
                <a:chOff x="2617920" y="2729160"/>
                <a:chExt cx="829800" cy="61812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2617920" y="2729160"/>
                  <a:ext cx="28800" cy="15372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2646720" y="2882880"/>
                  <a:ext cx="114480" cy="2584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2761560" y="3141360"/>
                  <a:ext cx="200520" cy="1551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2962440" y="3296880"/>
                  <a:ext cx="314280" cy="500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3276360" y="3347280"/>
                  <a:ext cx="1713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6" name=""/>
              <p:cNvSpPr/>
              <p:nvPr/>
            </p:nvSpPr>
            <p:spPr>
              <a:xfrm>
                <a:off x="2628360" y="3300480"/>
                <a:ext cx="91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ullup/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High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627640" y="1484280"/>
                <a:ext cx="1229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ulldown/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8" name=""/>
          <p:cNvGrpSpPr/>
          <p:nvPr/>
        </p:nvGrpSpPr>
        <p:grpSpPr>
          <a:xfrm>
            <a:off x="4573440" y="4549680"/>
            <a:ext cx="4216680" cy="1876320"/>
            <a:chOff x="4573440" y="4549680"/>
            <a:chExt cx="4216680" cy="1876320"/>
          </a:xfrm>
        </p:grpSpPr>
        <p:grpSp>
          <p:nvGrpSpPr>
            <p:cNvPr id="2589" name=""/>
            <p:cNvGrpSpPr/>
            <p:nvPr/>
          </p:nvGrpSpPr>
          <p:grpSpPr>
            <a:xfrm>
              <a:off x="7488360" y="5064120"/>
              <a:ext cx="718920" cy="877680"/>
              <a:chOff x="7488360" y="5064120"/>
              <a:chExt cx="718920" cy="877680"/>
            </a:xfrm>
          </p:grpSpPr>
          <p:sp>
            <p:nvSpPr>
              <p:cNvPr id="2590" name=""/>
              <p:cNvSpPr/>
              <p:nvPr/>
            </p:nvSpPr>
            <p:spPr>
              <a:xfrm>
                <a:off x="7488360" y="5064120"/>
                <a:ext cx="718920" cy="3934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488360" y="5548320"/>
                <a:ext cx="718920" cy="3934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592" name=""/>
            <p:cNvGrpSpPr/>
            <p:nvPr/>
          </p:nvGrpSpPr>
          <p:grpSpPr>
            <a:xfrm>
              <a:off x="7488360" y="4640400"/>
              <a:ext cx="718920" cy="1739520"/>
              <a:chOff x="7488360" y="4640400"/>
              <a:chExt cx="718920" cy="1739520"/>
            </a:xfrm>
          </p:grpSpPr>
          <p:sp>
            <p:nvSpPr>
              <p:cNvPr id="2593" name=""/>
              <p:cNvSpPr/>
              <p:nvPr/>
            </p:nvSpPr>
            <p:spPr>
              <a:xfrm>
                <a:off x="7488360" y="4640400"/>
                <a:ext cx="718920" cy="393120"/>
              </a:xfrm>
              <a:prstGeom prst="rect">
                <a:avLst/>
              </a:prstGeom>
              <a:solidFill>
                <a:srgbClr val="ff33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488360" y="5986800"/>
                <a:ext cx="718920" cy="393120"/>
              </a:xfrm>
              <a:prstGeom prst="rect">
                <a:avLst/>
              </a:prstGeom>
              <a:solidFill>
                <a:srgbClr val="ff33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595" name=""/>
            <p:cNvGrpSpPr/>
            <p:nvPr/>
          </p:nvGrpSpPr>
          <p:grpSpPr>
            <a:xfrm>
              <a:off x="6048360" y="4943520"/>
              <a:ext cx="1338120" cy="1088640"/>
              <a:chOff x="6048360" y="4943520"/>
              <a:chExt cx="1338120" cy="1088640"/>
            </a:xfrm>
          </p:grpSpPr>
          <p:sp>
            <p:nvSpPr>
              <p:cNvPr id="2596" name=""/>
              <p:cNvSpPr/>
              <p:nvPr/>
            </p:nvSpPr>
            <p:spPr>
              <a:xfrm>
                <a:off x="6719760" y="4943520"/>
                <a:ext cx="666720" cy="39276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e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719760" y="5639040"/>
                <a:ext cx="666720" cy="3931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amp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048360" y="4943520"/>
                <a:ext cx="647640" cy="39276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ullu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048360" y="5639040"/>
                <a:ext cx="647640" cy="39312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ulldown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600" name=""/>
            <p:cNvGrpSpPr/>
            <p:nvPr/>
          </p:nvGrpSpPr>
          <p:grpSpPr>
            <a:xfrm>
              <a:off x="4573440" y="4943520"/>
              <a:ext cx="1446480" cy="1088640"/>
              <a:chOff x="4573440" y="4943520"/>
              <a:chExt cx="1446480" cy="1088640"/>
            </a:xfrm>
          </p:grpSpPr>
          <p:sp>
            <p:nvSpPr>
              <p:cNvPr id="2601" name=""/>
              <p:cNvSpPr/>
              <p:nvPr/>
            </p:nvSpPr>
            <p:spPr>
              <a:xfrm>
                <a:off x="5529240" y="4943520"/>
                <a:ext cx="490680" cy="39276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ower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l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529240" y="5639040"/>
                <a:ext cx="490680" cy="39312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Gnd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l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4573440" y="5276160"/>
                <a:ext cx="900360" cy="51408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Threshold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Over-under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_co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604" name=""/>
            <p:cNvGrpSpPr/>
            <p:nvPr/>
          </p:nvGrpSpPr>
          <p:grpSpPr>
            <a:xfrm>
              <a:off x="5494320" y="5337000"/>
              <a:ext cx="1595160" cy="301680"/>
              <a:chOff x="5494320" y="5337000"/>
              <a:chExt cx="1595160" cy="301680"/>
            </a:xfrm>
          </p:grpSpPr>
          <p:sp>
            <p:nvSpPr>
              <p:cNvPr id="2605" name=""/>
              <p:cNvSpPr/>
              <p:nvPr/>
            </p:nvSpPr>
            <p:spPr>
              <a:xfrm>
                <a:off x="5494320" y="5487840"/>
                <a:ext cx="1577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405840" y="5337000"/>
                <a:ext cx="360" cy="301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054560" y="5472720"/>
                <a:ext cx="34920" cy="2988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792040" y="5472720"/>
                <a:ext cx="34200" cy="2988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388200" y="5472720"/>
                <a:ext cx="34200" cy="2988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809680" y="5337000"/>
                <a:ext cx="360" cy="301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072200" y="5337000"/>
                <a:ext cx="360" cy="3016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612" name=""/>
            <p:cNvGrpSpPr/>
            <p:nvPr/>
          </p:nvGrpSpPr>
          <p:grpSpPr>
            <a:xfrm>
              <a:off x="5808600" y="4549680"/>
              <a:ext cx="2981520" cy="1876320"/>
              <a:chOff x="5808600" y="4549680"/>
              <a:chExt cx="2981520" cy="1876320"/>
            </a:xfrm>
          </p:grpSpPr>
          <p:grpSp>
            <p:nvGrpSpPr>
              <p:cNvPr id="2613" name=""/>
              <p:cNvGrpSpPr/>
              <p:nvPr/>
            </p:nvGrpSpPr>
            <p:grpSpPr>
              <a:xfrm>
                <a:off x="8247240" y="5397120"/>
                <a:ext cx="542880" cy="181440"/>
                <a:chOff x="8247240" y="5397120"/>
                <a:chExt cx="542880" cy="18144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8264520" y="5487840"/>
                  <a:ext cx="105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8247240" y="5472720"/>
                  <a:ext cx="34920" cy="2988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8369640" y="5397120"/>
                  <a:ext cx="280440" cy="1814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8685000" y="5442480"/>
                  <a:ext cx="105120" cy="90720"/>
                </a:xfrm>
                <a:prstGeom prst="hexagon">
                  <a:avLst>
                    <a:gd name="adj" fmla="val 28968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5808600" y="4549680"/>
                <a:ext cx="526680" cy="393480"/>
                <a:chOff x="5808600" y="4549680"/>
                <a:chExt cx="526680" cy="39348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054120" y="4852440"/>
                  <a:ext cx="0" cy="30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5808600" y="4882680"/>
                  <a:ext cx="0" cy="604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334920" y="4882680"/>
                  <a:ext cx="360" cy="604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5808600" y="4882680"/>
                  <a:ext cx="526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5913720" y="4670640"/>
                  <a:ext cx="280440" cy="1814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001560" y="4549680"/>
                  <a:ext cx="105120" cy="90720"/>
                </a:xfrm>
                <a:prstGeom prst="hexagon">
                  <a:avLst>
                    <a:gd name="adj" fmla="val 28968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054120" y="4640400"/>
                  <a:ext cx="0" cy="298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5808600" y="6032880"/>
                <a:ext cx="527040" cy="393120"/>
                <a:chOff x="5808600" y="6032880"/>
                <a:chExt cx="527040" cy="393120"/>
              </a:xfrm>
            </p:grpSpPr>
            <p:sp>
              <p:nvSpPr>
                <p:cNvPr id="2627" name=""/>
                <p:cNvSpPr/>
                <p:nvPr/>
              </p:nvSpPr>
              <p:spPr>
                <a:xfrm>
                  <a:off x="6335640" y="6032880"/>
                  <a:ext cx="0" cy="604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5808600" y="6032880"/>
                  <a:ext cx="360" cy="604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5808600" y="6093360"/>
                  <a:ext cx="5270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5913720" y="6123600"/>
                  <a:ext cx="280800" cy="1814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001560" y="6335280"/>
                  <a:ext cx="105120" cy="90720"/>
                </a:xfrm>
                <a:prstGeom prst="hexagon">
                  <a:avLst>
                    <a:gd name="adj" fmla="val 28968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054480" y="6093360"/>
                  <a:ext cx="0" cy="298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054480" y="6305040"/>
                  <a:ext cx="0" cy="30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4" name=""/>
            <p:cNvGrpSpPr/>
            <p:nvPr/>
          </p:nvGrpSpPr>
          <p:grpSpPr>
            <a:xfrm>
              <a:off x="7386480" y="4807080"/>
              <a:ext cx="1298880" cy="1361880"/>
              <a:chOff x="7386480" y="4807080"/>
              <a:chExt cx="1298880" cy="1361880"/>
            </a:xfrm>
          </p:grpSpPr>
          <p:grpSp>
            <p:nvGrpSpPr>
              <p:cNvPr id="2635" name=""/>
              <p:cNvGrpSpPr/>
              <p:nvPr/>
            </p:nvGrpSpPr>
            <p:grpSpPr>
              <a:xfrm>
                <a:off x="7386480" y="4807080"/>
                <a:ext cx="894600" cy="1361880"/>
                <a:chOff x="7386480" y="4807080"/>
                <a:chExt cx="894600" cy="1361880"/>
              </a:xfrm>
            </p:grpSpPr>
            <p:sp>
              <p:nvSpPr>
                <p:cNvPr id="2636" name=""/>
                <p:cNvSpPr/>
                <p:nvPr/>
              </p:nvSpPr>
              <p:spPr>
                <a:xfrm>
                  <a:off x="7456320" y="4807080"/>
                  <a:ext cx="0" cy="5144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8264160" y="4807080"/>
                  <a:ext cx="0" cy="13618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7456320" y="5624280"/>
                  <a:ext cx="0" cy="5144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7386480" y="501876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7386480" y="592668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7456320" y="480708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7456320" y="532152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7456320" y="562428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7456320" y="613872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8193960" y="568476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7439040" y="5911560"/>
                  <a:ext cx="34920" cy="2988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7439040" y="5003640"/>
                  <a:ext cx="34920" cy="2988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8246880" y="5245920"/>
                  <a:ext cx="34200" cy="3024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8193960" y="480708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8193960" y="616896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8246880" y="5669640"/>
                  <a:ext cx="34200" cy="3024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8193960" y="526104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3" name=""/>
              <p:cNvSpPr/>
              <p:nvPr/>
            </p:nvSpPr>
            <p:spPr>
              <a:xfrm>
                <a:off x="8650440" y="5487840"/>
                <a:ext cx="349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4" name=""/>
          <p:cNvGrpSpPr/>
          <p:nvPr/>
        </p:nvGrpSpPr>
        <p:grpSpPr>
          <a:xfrm>
            <a:off x="3881520" y="1143000"/>
            <a:ext cx="1600200" cy="3074400"/>
            <a:chOff x="3881520" y="1143000"/>
            <a:chExt cx="1600200" cy="3074400"/>
          </a:xfrm>
        </p:grpSpPr>
        <p:sp>
          <p:nvSpPr>
            <p:cNvPr id="2655" name=""/>
            <p:cNvSpPr/>
            <p:nvPr/>
          </p:nvSpPr>
          <p:spPr>
            <a:xfrm>
              <a:off x="3881520" y="1263600"/>
              <a:ext cx="1600200" cy="278460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2784600"/>
                <a:gd name="textAreaBottom" fmla="*/ 2706480 h 2784600"/>
              </a:gdLst>
              <a:ahLst/>
              <a:rect l="textAreaLeft" t="textAreaTop" r="textAreaRight" b="textAreaBottom"/>
              <a:pathLst>
                <a:path w="21600" h="37584">
                  <a:moveTo>
                    <a:pt x="3600" y="0"/>
                  </a:moveTo>
                  <a:arcTo wR="3600" hR="3600" stAng="16200000" swAng="-5400000"/>
                  <a:lnTo>
                    <a:pt x="0" y="33984"/>
                  </a:lnTo>
                  <a:arcTo wR="3600" hR="3600" stAng="10800000" swAng="-5400000"/>
                  <a:lnTo>
                    <a:pt x="18000" y="37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56" name=""/>
            <p:cNvGrpSpPr/>
            <p:nvPr/>
          </p:nvGrpSpPr>
          <p:grpSpPr>
            <a:xfrm>
              <a:off x="3882600" y="1143000"/>
              <a:ext cx="1546560" cy="3074400"/>
              <a:chOff x="3882600" y="1143000"/>
              <a:chExt cx="1546560" cy="3074400"/>
            </a:xfrm>
          </p:grpSpPr>
          <p:grpSp>
            <p:nvGrpSpPr>
              <p:cNvPr id="2657" name=""/>
              <p:cNvGrpSpPr/>
              <p:nvPr/>
            </p:nvGrpSpPr>
            <p:grpSpPr>
              <a:xfrm>
                <a:off x="3882600" y="1143000"/>
                <a:ext cx="1546560" cy="1623240"/>
                <a:chOff x="3882600" y="1143000"/>
                <a:chExt cx="1546560" cy="1623240"/>
              </a:xfrm>
            </p:grpSpPr>
            <p:grpSp>
              <p:nvGrpSpPr>
                <p:cNvPr id="2658" name=""/>
                <p:cNvGrpSpPr/>
                <p:nvPr/>
              </p:nvGrpSpPr>
              <p:grpSpPr>
                <a:xfrm>
                  <a:off x="3882600" y="1143000"/>
                  <a:ext cx="1462320" cy="1246320"/>
                  <a:chOff x="3882600" y="1143000"/>
                  <a:chExt cx="1462320" cy="1246320"/>
                </a:xfrm>
              </p:grpSpPr>
              <p:grpSp>
                <p:nvGrpSpPr>
                  <p:cNvPr id="2659" name=""/>
                  <p:cNvGrpSpPr/>
                  <p:nvPr/>
                </p:nvGrpSpPr>
                <p:grpSpPr>
                  <a:xfrm>
                    <a:off x="4312440" y="1505520"/>
                    <a:ext cx="830160" cy="571320"/>
                    <a:chOff x="4312440" y="1505520"/>
                    <a:chExt cx="830160" cy="571320"/>
                  </a:xfrm>
                </p:grpSpPr>
                <p:sp>
                  <p:nvSpPr>
                    <p:cNvPr id="2660" name=""/>
                    <p:cNvSpPr/>
                    <p:nvPr/>
                  </p:nvSpPr>
                  <p:spPr>
                    <a:xfrm flipH="1">
                      <a:off x="4952880" y="2076840"/>
                      <a:ext cx="1731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 flipH="1">
                      <a:off x="4345200" y="1505880"/>
                      <a:ext cx="1731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62" name=""/>
                    <p:cNvGrpSpPr/>
                    <p:nvPr/>
                  </p:nvGrpSpPr>
                  <p:grpSpPr>
                    <a:xfrm>
                      <a:off x="4312440" y="1505520"/>
                      <a:ext cx="830160" cy="570240"/>
                      <a:chOff x="4312440" y="1505520"/>
                      <a:chExt cx="830160" cy="570240"/>
                    </a:xfrm>
                  </p:grpSpPr>
                  <p:sp>
                    <p:nvSpPr>
                      <p:cNvPr id="2663" name=""/>
                      <p:cNvSpPr/>
                      <p:nvPr/>
                    </p:nvSpPr>
                    <p:spPr>
                      <a:xfrm flipH="1" flipV="1">
                        <a:off x="4727160" y="1505160"/>
                        <a:ext cx="41544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4" name=""/>
                      <p:cNvSpPr/>
                      <p:nvPr/>
                    </p:nvSpPr>
                    <p:spPr>
                      <a:xfrm flipH="1" flipV="1" rot="10800000">
                        <a:off x="4312440" y="1505520"/>
                        <a:ext cx="41400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3882600" y="1143000"/>
                    <a:ext cx="1462320" cy="1246320"/>
                    <a:chOff x="3882600" y="1143000"/>
                    <a:chExt cx="1462320" cy="124632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4335480" y="1364760"/>
                      <a:ext cx="0" cy="100224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4302000" y="2329200"/>
                      <a:ext cx="10429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/>
                    <p:nvPr/>
                  </p:nvSpPr>
                  <p:spPr>
                    <a:xfrm>
                      <a:off x="4302000" y="2107440"/>
                      <a:ext cx="1000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4268880" y="1512360"/>
                      <a:ext cx="997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>
                      <a:off x="4235400" y="1143000"/>
                      <a:ext cx="18432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/>
                    <p:nvPr/>
                  </p:nvSpPr>
                  <p:spPr>
                    <a:xfrm>
                      <a:off x="3882960" y="1445760"/>
                      <a:ext cx="590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c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2" name=""/>
                    <p:cNvSpPr/>
                    <p:nvPr/>
                  </p:nvSpPr>
                  <p:spPr>
                    <a:xfrm>
                      <a:off x="3882600" y="19904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73" name=""/>
                <p:cNvSpPr/>
                <p:nvPr/>
              </p:nvSpPr>
              <p:spPr>
                <a:xfrm flipH="1" flipV="1">
                  <a:off x="4675320" y="1640880"/>
                  <a:ext cx="55440" cy="3628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5178240" y="23673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3958560" y="1156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3882600" y="2488320"/>
                <a:ext cx="1546560" cy="1729080"/>
                <a:chOff x="3882600" y="2488320"/>
                <a:chExt cx="1546560" cy="1729080"/>
              </a:xfrm>
            </p:grpSpPr>
            <p:grpSp>
              <p:nvGrpSpPr>
                <p:cNvPr id="2677" name=""/>
                <p:cNvGrpSpPr/>
                <p:nvPr/>
              </p:nvGrpSpPr>
              <p:grpSpPr>
                <a:xfrm>
                  <a:off x="3882600" y="2488320"/>
                  <a:ext cx="1468800" cy="1619280"/>
                  <a:chOff x="3882600" y="2488320"/>
                  <a:chExt cx="1468800" cy="1619280"/>
                </a:xfrm>
              </p:grpSpPr>
              <p:grpSp>
                <p:nvGrpSpPr>
                  <p:cNvPr id="2678" name=""/>
                  <p:cNvGrpSpPr/>
                  <p:nvPr/>
                </p:nvGrpSpPr>
                <p:grpSpPr>
                  <a:xfrm>
                    <a:off x="3882600" y="2488320"/>
                    <a:ext cx="1468800" cy="1619280"/>
                    <a:chOff x="3882600" y="2488320"/>
                    <a:chExt cx="1468800" cy="1619280"/>
                  </a:xfrm>
                </p:grpSpPr>
                <p:sp>
                  <p:nvSpPr>
                    <p:cNvPr id="2679" name=""/>
                    <p:cNvSpPr/>
                    <p:nvPr/>
                  </p:nvSpPr>
                  <p:spPr>
                    <a:xfrm>
                      <a:off x="4343400" y="2783160"/>
                      <a:ext cx="0" cy="10036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>
                      <a:off x="4308480" y="3749040"/>
                      <a:ext cx="10429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>
                      <a:off x="4308480" y="3155400"/>
                      <a:ext cx="1015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>
                      <a:off x="4241880" y="2488320"/>
                      <a:ext cx="183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>
                      <a:off x="3882600" y="305676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>
                      <a:off x="3958560" y="3708720"/>
                      <a:ext cx="734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5" name=""/>
                  <p:cNvGrpSpPr/>
                  <p:nvPr/>
                </p:nvGrpSpPr>
                <p:grpSpPr>
                  <a:xfrm>
                    <a:off x="4322160" y="3177360"/>
                    <a:ext cx="831240" cy="571680"/>
                    <a:chOff x="4322160" y="3177360"/>
                    <a:chExt cx="831240" cy="571680"/>
                  </a:xfrm>
                </p:grpSpPr>
                <p:sp>
                  <p:nvSpPr>
                    <p:cNvPr id="2686" name=""/>
                    <p:cNvSpPr/>
                    <p:nvPr/>
                  </p:nvSpPr>
                  <p:spPr>
                    <a:xfrm>
                      <a:off x="4338720" y="3749040"/>
                      <a:ext cx="1735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7" name=""/>
                    <p:cNvSpPr/>
                    <p:nvPr/>
                  </p:nvSpPr>
                  <p:spPr>
                    <a:xfrm>
                      <a:off x="4947480" y="3177720"/>
                      <a:ext cx="1735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88" name=""/>
                    <p:cNvGrpSpPr/>
                    <p:nvPr/>
                  </p:nvGrpSpPr>
                  <p:grpSpPr>
                    <a:xfrm>
                      <a:off x="4322160" y="3177360"/>
                      <a:ext cx="831240" cy="570600"/>
                      <a:chOff x="4322160" y="3177360"/>
                      <a:chExt cx="831240" cy="570600"/>
                    </a:xfrm>
                  </p:grpSpPr>
                  <p:sp>
                    <p:nvSpPr>
                      <p:cNvPr id="2689" name=""/>
                      <p:cNvSpPr/>
                      <p:nvPr/>
                    </p:nvSpPr>
                    <p:spPr>
                      <a:xfrm flipV="1">
                        <a:off x="4322160" y="3177000"/>
                        <a:ext cx="416160" cy="57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0" name=""/>
                      <p:cNvSpPr/>
                      <p:nvPr/>
                    </p:nvSpPr>
                    <p:spPr>
                      <a:xfrm flipV="1" rot="10800000">
                        <a:off x="4738680" y="3177000"/>
                        <a:ext cx="414720" cy="57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691" name=""/>
                <p:cNvSpPr/>
                <p:nvPr/>
              </p:nvSpPr>
              <p:spPr>
                <a:xfrm flipV="1">
                  <a:off x="4730760" y="3275280"/>
                  <a:ext cx="55440" cy="36288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3958560" y="2669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178240" y="381852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94" name=""/>
          <p:cNvGrpSpPr/>
          <p:nvPr/>
        </p:nvGrpSpPr>
        <p:grpSpPr>
          <a:xfrm>
            <a:off x="5482800" y="1143000"/>
            <a:ext cx="1751400" cy="3074400"/>
            <a:chOff x="5482800" y="1143000"/>
            <a:chExt cx="1751400" cy="3074400"/>
          </a:xfrm>
        </p:grpSpPr>
        <p:sp>
          <p:nvSpPr>
            <p:cNvPr id="2695" name=""/>
            <p:cNvSpPr/>
            <p:nvPr/>
          </p:nvSpPr>
          <p:spPr>
            <a:xfrm>
              <a:off x="5558040" y="1263960"/>
              <a:ext cx="1676160" cy="2784240"/>
            </a:xfrm>
            <a:custGeom>
              <a:avLst/>
              <a:gdLst>
                <a:gd name="textAreaLeft" fmla="*/ 81720 w 1676160"/>
                <a:gd name="textAreaRight" fmla="*/ 1594440 w 1676160"/>
                <a:gd name="textAreaTop" fmla="*/ 81720 h 2784240"/>
                <a:gd name="textAreaBottom" fmla="*/ 2702520 h 2784240"/>
              </a:gdLst>
              <a:ahLst/>
              <a:rect l="textAreaLeft" t="textAreaTop" r="textAreaRight" b="textAreaBottom"/>
              <a:pathLst>
                <a:path w="21600" h="35876">
                  <a:moveTo>
                    <a:pt x="3600" y="0"/>
                  </a:moveTo>
                  <a:arcTo wR="3600" hR="3600" stAng="16200000" swAng="-5400000"/>
                  <a:lnTo>
                    <a:pt x="0" y="32276"/>
                  </a:lnTo>
                  <a:arcTo wR="3600" hR="3600" stAng="10800000" swAng="-5400000"/>
                  <a:lnTo>
                    <a:pt x="18000" y="358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96" name=""/>
            <p:cNvGrpSpPr/>
            <p:nvPr/>
          </p:nvGrpSpPr>
          <p:grpSpPr>
            <a:xfrm>
              <a:off x="5482800" y="1143000"/>
              <a:ext cx="1546560" cy="3074400"/>
              <a:chOff x="5482800" y="1143000"/>
              <a:chExt cx="1546560" cy="3074400"/>
            </a:xfrm>
          </p:grpSpPr>
          <p:grpSp>
            <p:nvGrpSpPr>
              <p:cNvPr id="2697" name=""/>
              <p:cNvGrpSpPr/>
              <p:nvPr/>
            </p:nvGrpSpPr>
            <p:grpSpPr>
              <a:xfrm>
                <a:off x="5482800" y="1143000"/>
                <a:ext cx="1546560" cy="1623240"/>
                <a:chOff x="5482800" y="1143000"/>
                <a:chExt cx="1546560" cy="1623240"/>
              </a:xfrm>
            </p:grpSpPr>
            <p:grpSp>
              <p:nvGrpSpPr>
                <p:cNvPr id="2698" name=""/>
                <p:cNvGrpSpPr/>
                <p:nvPr/>
              </p:nvGrpSpPr>
              <p:grpSpPr>
                <a:xfrm>
                  <a:off x="5910840" y="1519560"/>
                  <a:ext cx="831240" cy="571680"/>
                  <a:chOff x="5910840" y="1519560"/>
                  <a:chExt cx="831240" cy="571680"/>
                </a:xfrm>
              </p:grpSpPr>
              <p:sp>
                <p:nvSpPr>
                  <p:cNvPr id="2699" name=""/>
                  <p:cNvSpPr/>
                  <p:nvPr/>
                </p:nvSpPr>
                <p:spPr>
                  <a:xfrm>
                    <a:off x="6552360" y="2091240"/>
                    <a:ext cx="1735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00" name=""/>
                  <p:cNvGrpSpPr/>
                  <p:nvPr/>
                </p:nvGrpSpPr>
                <p:grpSpPr>
                  <a:xfrm>
                    <a:off x="5910840" y="1519560"/>
                    <a:ext cx="831240" cy="570600"/>
                    <a:chOff x="5910840" y="1519560"/>
                    <a:chExt cx="831240" cy="570600"/>
                  </a:xfrm>
                </p:grpSpPr>
                <p:sp>
                  <p:nvSpPr>
                    <p:cNvPr id="2701" name=""/>
                    <p:cNvSpPr/>
                    <p:nvPr/>
                  </p:nvSpPr>
                  <p:spPr>
                    <a:xfrm flipH="1" flipV="1">
                      <a:off x="6325920" y="1519200"/>
                      <a:ext cx="416160" cy="57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 flipH="1" flipV="1" rot="10800000">
                      <a:off x="5910840" y="1519200"/>
                      <a:ext cx="414720" cy="57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03" name=""/>
                  <p:cNvSpPr/>
                  <p:nvPr/>
                </p:nvSpPr>
                <p:spPr>
                  <a:xfrm>
                    <a:off x="5943600" y="1519920"/>
                    <a:ext cx="1735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4" name=""/>
                <p:cNvGrpSpPr/>
                <p:nvPr/>
              </p:nvGrpSpPr>
              <p:grpSpPr>
                <a:xfrm>
                  <a:off x="5482800" y="1143000"/>
                  <a:ext cx="1462320" cy="1246320"/>
                  <a:chOff x="5482800" y="1143000"/>
                  <a:chExt cx="1462320" cy="1246320"/>
                </a:xfrm>
              </p:grpSpPr>
              <p:grpSp>
                <p:nvGrpSpPr>
                  <p:cNvPr id="2705" name=""/>
                  <p:cNvGrpSpPr/>
                  <p:nvPr/>
                </p:nvGrpSpPr>
                <p:grpSpPr>
                  <a:xfrm>
                    <a:off x="5912640" y="1505520"/>
                    <a:ext cx="830160" cy="571320"/>
                    <a:chOff x="5912640" y="1505520"/>
                    <a:chExt cx="830160" cy="571320"/>
                  </a:xfrm>
                </p:grpSpPr>
                <p:sp>
                  <p:nvSpPr>
                    <p:cNvPr id="2706" name=""/>
                    <p:cNvSpPr/>
                    <p:nvPr/>
                  </p:nvSpPr>
                  <p:spPr>
                    <a:xfrm flipH="1">
                      <a:off x="6553080" y="2076840"/>
                      <a:ext cx="1731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/>
                    <p:nvPr/>
                  </p:nvSpPr>
                  <p:spPr>
                    <a:xfrm flipH="1">
                      <a:off x="5945400" y="1505880"/>
                      <a:ext cx="1731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08" name=""/>
                    <p:cNvGrpSpPr/>
                    <p:nvPr/>
                  </p:nvGrpSpPr>
                  <p:grpSpPr>
                    <a:xfrm>
                      <a:off x="5912640" y="1505520"/>
                      <a:ext cx="830160" cy="570240"/>
                      <a:chOff x="5912640" y="1505520"/>
                      <a:chExt cx="830160" cy="570240"/>
                    </a:xfrm>
                  </p:grpSpPr>
                  <p:sp>
                    <p:nvSpPr>
                      <p:cNvPr id="2709" name=""/>
                      <p:cNvSpPr/>
                      <p:nvPr/>
                    </p:nvSpPr>
                    <p:spPr>
                      <a:xfrm flipH="1" flipV="1">
                        <a:off x="6327360" y="1505160"/>
                        <a:ext cx="41544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0" name=""/>
                      <p:cNvSpPr/>
                      <p:nvPr/>
                    </p:nvSpPr>
                    <p:spPr>
                      <a:xfrm flipH="1" flipV="1" rot="10800000">
                        <a:off x="5912640" y="1505520"/>
                        <a:ext cx="41400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11" name=""/>
                  <p:cNvGrpSpPr/>
                  <p:nvPr/>
                </p:nvGrpSpPr>
                <p:grpSpPr>
                  <a:xfrm>
                    <a:off x="5482800" y="1143000"/>
                    <a:ext cx="1462320" cy="1246320"/>
                    <a:chOff x="5482800" y="1143000"/>
                    <a:chExt cx="1462320" cy="1246320"/>
                  </a:xfrm>
                </p:grpSpPr>
                <p:sp>
                  <p:nvSpPr>
                    <p:cNvPr id="2712" name=""/>
                    <p:cNvSpPr/>
                    <p:nvPr/>
                  </p:nvSpPr>
                  <p:spPr>
                    <a:xfrm>
                      <a:off x="5935680" y="1364760"/>
                      <a:ext cx="0" cy="100224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/>
                    <p:nvPr/>
                  </p:nvSpPr>
                  <p:spPr>
                    <a:xfrm>
                      <a:off x="5902200" y="2329200"/>
                      <a:ext cx="10429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4" name=""/>
                    <p:cNvSpPr/>
                    <p:nvPr/>
                  </p:nvSpPr>
                  <p:spPr>
                    <a:xfrm>
                      <a:off x="5902200" y="2107440"/>
                      <a:ext cx="1000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>
                      <a:off x="5869080" y="1512360"/>
                      <a:ext cx="997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>
                      <a:off x="5835600" y="1143000"/>
                      <a:ext cx="18432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>
                      <a:off x="5483160" y="1445760"/>
                      <a:ext cx="590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c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>
                      <a:off x="5482800" y="19904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19" name=""/>
                <p:cNvSpPr/>
                <p:nvPr/>
              </p:nvSpPr>
              <p:spPr>
                <a:xfrm>
                  <a:off x="6778440" y="23673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5558760" y="1156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482800" y="2488320"/>
                <a:ext cx="1546560" cy="1729080"/>
                <a:chOff x="5482800" y="2488320"/>
                <a:chExt cx="1546560" cy="1729080"/>
              </a:xfrm>
            </p:grpSpPr>
            <p:grpSp>
              <p:nvGrpSpPr>
                <p:cNvPr id="2722" name=""/>
                <p:cNvGrpSpPr/>
                <p:nvPr/>
              </p:nvGrpSpPr>
              <p:grpSpPr>
                <a:xfrm>
                  <a:off x="5927040" y="3187440"/>
                  <a:ext cx="831240" cy="571680"/>
                  <a:chOff x="5927040" y="3187440"/>
                  <a:chExt cx="831240" cy="571680"/>
                </a:xfrm>
              </p:grpSpPr>
              <p:sp>
                <p:nvSpPr>
                  <p:cNvPr id="2723" name=""/>
                  <p:cNvSpPr/>
                  <p:nvPr/>
                </p:nvSpPr>
                <p:spPr>
                  <a:xfrm>
                    <a:off x="5943600" y="3759120"/>
                    <a:ext cx="1735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6552360" y="3187800"/>
                    <a:ext cx="1735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25" name=""/>
                  <p:cNvGrpSpPr/>
                  <p:nvPr/>
                </p:nvGrpSpPr>
                <p:grpSpPr>
                  <a:xfrm>
                    <a:off x="5927040" y="3187440"/>
                    <a:ext cx="831240" cy="570600"/>
                    <a:chOff x="5927040" y="3187440"/>
                    <a:chExt cx="831240" cy="570600"/>
                  </a:xfrm>
                </p:grpSpPr>
                <p:sp>
                  <p:nvSpPr>
                    <p:cNvPr id="2726" name=""/>
                    <p:cNvSpPr/>
                    <p:nvPr/>
                  </p:nvSpPr>
                  <p:spPr>
                    <a:xfrm flipV="1">
                      <a:off x="5927040" y="3187080"/>
                      <a:ext cx="416160" cy="57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7" name=""/>
                    <p:cNvSpPr/>
                    <p:nvPr/>
                  </p:nvSpPr>
                  <p:spPr>
                    <a:xfrm flipV="1" rot="10800000">
                      <a:off x="6343560" y="3187080"/>
                      <a:ext cx="414720" cy="57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28" name=""/>
                <p:cNvGrpSpPr/>
                <p:nvPr/>
              </p:nvGrpSpPr>
              <p:grpSpPr>
                <a:xfrm>
                  <a:off x="5482800" y="2488320"/>
                  <a:ext cx="1468800" cy="1619280"/>
                  <a:chOff x="5482800" y="2488320"/>
                  <a:chExt cx="1468800" cy="1619280"/>
                </a:xfrm>
              </p:grpSpPr>
              <p:grpSp>
                <p:nvGrpSpPr>
                  <p:cNvPr id="2729" name=""/>
                  <p:cNvGrpSpPr/>
                  <p:nvPr/>
                </p:nvGrpSpPr>
                <p:grpSpPr>
                  <a:xfrm>
                    <a:off x="5482800" y="2488320"/>
                    <a:ext cx="1468800" cy="1619280"/>
                    <a:chOff x="5482800" y="2488320"/>
                    <a:chExt cx="1468800" cy="1619280"/>
                  </a:xfrm>
                </p:grpSpPr>
                <p:sp>
                  <p:nvSpPr>
                    <p:cNvPr id="2730" name=""/>
                    <p:cNvSpPr/>
                    <p:nvPr/>
                  </p:nvSpPr>
                  <p:spPr>
                    <a:xfrm>
                      <a:off x="5943600" y="2783160"/>
                      <a:ext cx="0" cy="10036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1" name=""/>
                    <p:cNvSpPr/>
                    <p:nvPr/>
                  </p:nvSpPr>
                  <p:spPr>
                    <a:xfrm>
                      <a:off x="5908680" y="3749040"/>
                      <a:ext cx="10429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2" name=""/>
                    <p:cNvSpPr/>
                    <p:nvPr/>
                  </p:nvSpPr>
                  <p:spPr>
                    <a:xfrm>
                      <a:off x="5908680" y="3155400"/>
                      <a:ext cx="1015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>
                      <a:off x="5842080" y="2488320"/>
                      <a:ext cx="183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>
                      <a:off x="5482800" y="305676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5" name=""/>
                    <p:cNvSpPr/>
                    <p:nvPr/>
                  </p:nvSpPr>
                  <p:spPr>
                    <a:xfrm>
                      <a:off x="5558760" y="3708720"/>
                      <a:ext cx="734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6" name=""/>
                  <p:cNvGrpSpPr/>
                  <p:nvPr/>
                </p:nvGrpSpPr>
                <p:grpSpPr>
                  <a:xfrm>
                    <a:off x="5922360" y="3177360"/>
                    <a:ext cx="831240" cy="571680"/>
                    <a:chOff x="5922360" y="3177360"/>
                    <a:chExt cx="831240" cy="571680"/>
                  </a:xfrm>
                </p:grpSpPr>
                <p:sp>
                  <p:nvSpPr>
                    <p:cNvPr id="2737" name=""/>
                    <p:cNvSpPr/>
                    <p:nvPr/>
                  </p:nvSpPr>
                  <p:spPr>
                    <a:xfrm>
                      <a:off x="5938920" y="3749040"/>
                      <a:ext cx="1735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>
                      <a:off x="6547680" y="3177720"/>
                      <a:ext cx="17352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39" name=""/>
                    <p:cNvGrpSpPr/>
                    <p:nvPr/>
                  </p:nvGrpSpPr>
                  <p:grpSpPr>
                    <a:xfrm>
                      <a:off x="5922360" y="3177360"/>
                      <a:ext cx="831240" cy="570600"/>
                      <a:chOff x="5922360" y="3177360"/>
                      <a:chExt cx="831240" cy="570600"/>
                    </a:xfrm>
                  </p:grpSpPr>
                  <p:sp>
                    <p:nvSpPr>
                      <p:cNvPr id="2740" name=""/>
                      <p:cNvSpPr/>
                      <p:nvPr/>
                    </p:nvSpPr>
                    <p:spPr>
                      <a:xfrm flipV="1">
                        <a:off x="5922360" y="3177000"/>
                        <a:ext cx="416160" cy="57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1" name=""/>
                      <p:cNvSpPr/>
                      <p:nvPr/>
                    </p:nvSpPr>
                    <p:spPr>
                      <a:xfrm flipV="1" rot="10800000">
                        <a:off x="6338880" y="3177000"/>
                        <a:ext cx="414720" cy="57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42" name=""/>
                <p:cNvSpPr/>
                <p:nvPr/>
              </p:nvSpPr>
              <p:spPr>
                <a:xfrm>
                  <a:off x="5558760" y="2669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778440" y="381852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44" name=""/>
          <p:cNvGrpSpPr/>
          <p:nvPr/>
        </p:nvGrpSpPr>
        <p:grpSpPr>
          <a:xfrm>
            <a:off x="7158960" y="1143000"/>
            <a:ext cx="1675080" cy="3074040"/>
            <a:chOff x="7158960" y="1143000"/>
            <a:chExt cx="1675080" cy="3074040"/>
          </a:xfrm>
        </p:grpSpPr>
        <p:sp>
          <p:nvSpPr>
            <p:cNvPr id="2745" name=""/>
            <p:cNvSpPr/>
            <p:nvPr/>
          </p:nvSpPr>
          <p:spPr>
            <a:xfrm>
              <a:off x="7233840" y="1263960"/>
              <a:ext cx="1600200" cy="2784240"/>
            </a:xfrm>
            <a:custGeom>
              <a:avLst/>
              <a:gdLst>
                <a:gd name="textAreaLeft" fmla="*/ 78120 w 1600200"/>
                <a:gd name="textAreaRight" fmla="*/ 1522080 w 1600200"/>
                <a:gd name="textAreaTop" fmla="*/ 78120 h 2784240"/>
                <a:gd name="textAreaBottom" fmla="*/ 2706120 h 2784240"/>
              </a:gdLst>
              <a:ahLst/>
              <a:rect l="textAreaLeft" t="textAreaTop" r="textAreaRight" b="textAreaBottom"/>
              <a:pathLst>
                <a:path w="21600" h="37579">
                  <a:moveTo>
                    <a:pt x="3600" y="0"/>
                  </a:moveTo>
                  <a:arcTo wR="3600" hR="3600" stAng="16200000" swAng="-5400000"/>
                  <a:lnTo>
                    <a:pt x="0" y="33979"/>
                  </a:lnTo>
                  <a:arcTo wR="3600" hR="3600" stAng="10800000" swAng="-5400000"/>
                  <a:lnTo>
                    <a:pt x="18000" y="375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7158960" y="1143000"/>
              <a:ext cx="1546920" cy="3074040"/>
              <a:chOff x="7158960" y="1143000"/>
              <a:chExt cx="1546920" cy="3074040"/>
            </a:xfrm>
          </p:grpSpPr>
          <p:grpSp>
            <p:nvGrpSpPr>
              <p:cNvPr id="2747" name=""/>
              <p:cNvGrpSpPr/>
              <p:nvPr/>
            </p:nvGrpSpPr>
            <p:grpSpPr>
              <a:xfrm>
                <a:off x="7158960" y="1143000"/>
                <a:ext cx="1546920" cy="1623240"/>
                <a:chOff x="7158960" y="1143000"/>
                <a:chExt cx="1546920" cy="1623240"/>
              </a:xfrm>
            </p:grpSpPr>
            <p:grpSp>
              <p:nvGrpSpPr>
                <p:cNvPr id="2748" name=""/>
                <p:cNvGrpSpPr/>
                <p:nvPr/>
              </p:nvGrpSpPr>
              <p:grpSpPr>
                <a:xfrm>
                  <a:off x="7610760" y="1519560"/>
                  <a:ext cx="551880" cy="571680"/>
                  <a:chOff x="7610760" y="1519560"/>
                  <a:chExt cx="551880" cy="57168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7621560" y="2091240"/>
                    <a:ext cx="11556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8026560" y="1519920"/>
                    <a:ext cx="11556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51" name=""/>
                  <p:cNvGrpSpPr/>
                  <p:nvPr/>
                </p:nvGrpSpPr>
                <p:grpSpPr>
                  <a:xfrm>
                    <a:off x="7610760" y="1519560"/>
                    <a:ext cx="551880" cy="570600"/>
                    <a:chOff x="7610760" y="1519560"/>
                    <a:chExt cx="551880" cy="570600"/>
                  </a:xfrm>
                </p:grpSpPr>
                <p:sp>
                  <p:nvSpPr>
                    <p:cNvPr id="2752" name=""/>
                    <p:cNvSpPr/>
                    <p:nvPr/>
                  </p:nvSpPr>
                  <p:spPr>
                    <a:xfrm flipV="1">
                      <a:off x="7610760" y="1519200"/>
                      <a:ext cx="276480" cy="57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 flipV="1" rot="10800000">
                      <a:off x="7887600" y="1519200"/>
                      <a:ext cx="275040" cy="57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54" name=""/>
                <p:cNvGrpSpPr/>
                <p:nvPr/>
              </p:nvGrpSpPr>
              <p:grpSpPr>
                <a:xfrm>
                  <a:off x="7158960" y="1143000"/>
                  <a:ext cx="1462320" cy="1246320"/>
                  <a:chOff x="7158960" y="1143000"/>
                  <a:chExt cx="1462320" cy="1246320"/>
                </a:xfrm>
              </p:grpSpPr>
              <p:sp>
                <p:nvSpPr>
                  <p:cNvPr id="2755" name=""/>
                  <p:cNvSpPr/>
                  <p:nvPr/>
                </p:nvSpPr>
                <p:spPr>
                  <a:xfrm>
                    <a:off x="7611840" y="1364760"/>
                    <a:ext cx="0" cy="100224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7578360" y="232920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7578360" y="21074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7545240" y="1512360"/>
                    <a:ext cx="997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7511760" y="1143000"/>
                    <a:ext cx="184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7159320" y="144576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7158960" y="199044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2" name=""/>
                <p:cNvSpPr/>
                <p:nvPr/>
              </p:nvSpPr>
              <p:spPr>
                <a:xfrm>
                  <a:off x="8454960" y="23673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7235280" y="115668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4" name=""/>
              <p:cNvGrpSpPr/>
              <p:nvPr/>
            </p:nvGrpSpPr>
            <p:grpSpPr>
              <a:xfrm>
                <a:off x="7158960" y="2488320"/>
                <a:ext cx="1546920" cy="1728720"/>
                <a:chOff x="7158960" y="2488320"/>
                <a:chExt cx="1546920" cy="1728720"/>
              </a:xfrm>
            </p:grpSpPr>
            <p:grpSp>
              <p:nvGrpSpPr>
                <p:cNvPr id="2765" name=""/>
                <p:cNvGrpSpPr/>
                <p:nvPr/>
              </p:nvGrpSpPr>
              <p:grpSpPr>
                <a:xfrm>
                  <a:off x="7158960" y="2488320"/>
                  <a:ext cx="1468800" cy="1619280"/>
                  <a:chOff x="7158960" y="2488320"/>
                  <a:chExt cx="1468800" cy="1619280"/>
                </a:xfrm>
              </p:grpSpPr>
              <p:sp>
                <p:nvSpPr>
                  <p:cNvPr id="2766" name=""/>
                  <p:cNvSpPr/>
                  <p:nvPr/>
                </p:nvSpPr>
                <p:spPr>
                  <a:xfrm>
                    <a:off x="7619760" y="2783160"/>
                    <a:ext cx="0" cy="10036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7584840" y="374904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"/>
                  <p:cNvSpPr/>
                  <p:nvPr/>
                </p:nvSpPr>
                <p:spPr>
                  <a:xfrm>
                    <a:off x="7584840" y="315540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7518240" y="2488320"/>
                    <a:ext cx="183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7158960" y="305676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7234920" y="370872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2" name=""/>
                <p:cNvGrpSpPr/>
                <p:nvPr/>
              </p:nvGrpSpPr>
              <p:grpSpPr>
                <a:xfrm>
                  <a:off x="7235280" y="2669760"/>
                  <a:ext cx="1470600" cy="1547280"/>
                  <a:chOff x="7235280" y="2669760"/>
                  <a:chExt cx="1470600" cy="1547280"/>
                </a:xfrm>
              </p:grpSpPr>
              <p:grpSp>
                <p:nvGrpSpPr>
                  <p:cNvPr id="2773" name=""/>
                  <p:cNvGrpSpPr/>
                  <p:nvPr/>
                </p:nvGrpSpPr>
                <p:grpSpPr>
                  <a:xfrm>
                    <a:off x="7593840" y="3153240"/>
                    <a:ext cx="554040" cy="571680"/>
                    <a:chOff x="7593840" y="3153240"/>
                    <a:chExt cx="554040" cy="571680"/>
                  </a:xfrm>
                </p:grpSpPr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8021160" y="3724920"/>
                      <a:ext cx="115920" cy="0"/>
                    </a:xfrm>
                    <a:prstGeom prst="line">
                      <a:avLst/>
                    </a:prstGeom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75" name=""/>
                    <p:cNvGrpSpPr/>
                    <p:nvPr/>
                  </p:nvGrpSpPr>
                  <p:grpSpPr>
                    <a:xfrm>
                      <a:off x="7593840" y="3153240"/>
                      <a:ext cx="554040" cy="570600"/>
                      <a:chOff x="7593840" y="3153240"/>
                      <a:chExt cx="554040" cy="570600"/>
                    </a:xfrm>
                  </p:grpSpPr>
                  <p:sp>
                    <p:nvSpPr>
                      <p:cNvPr id="2776" name=""/>
                      <p:cNvSpPr/>
                      <p:nvPr/>
                    </p:nvSpPr>
                    <p:spPr>
                      <a:xfrm flipH="1" flipV="1">
                        <a:off x="7870680" y="3152880"/>
                        <a:ext cx="277200" cy="57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381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7" name=""/>
                      <p:cNvSpPr/>
                      <p:nvPr/>
                    </p:nvSpPr>
                    <p:spPr>
                      <a:xfrm flipH="1" flipV="1" rot="10800000">
                        <a:off x="7593840" y="3152880"/>
                        <a:ext cx="276480" cy="57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381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78" name=""/>
                    <p:cNvSpPr/>
                    <p:nvPr/>
                  </p:nvSpPr>
                  <p:spPr>
                    <a:xfrm>
                      <a:off x="7615080" y="3153600"/>
                      <a:ext cx="115920" cy="0"/>
                    </a:xfrm>
                    <a:prstGeom prst="line">
                      <a:avLst/>
                    </a:prstGeom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79" name=""/>
                  <p:cNvSpPr/>
                  <p:nvPr/>
                </p:nvSpPr>
                <p:spPr>
                  <a:xfrm>
                    <a:off x="7235280" y="2669760"/>
                    <a:ext cx="3088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u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8454960" y="3818160"/>
                    <a:ext cx="250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t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781" name=""/>
          <p:cNvGrpSpPr/>
          <p:nvPr/>
        </p:nvGrpSpPr>
        <p:grpSpPr>
          <a:xfrm>
            <a:off x="147600" y="4284720"/>
            <a:ext cx="3746520" cy="2179440"/>
            <a:chOff x="147600" y="4284720"/>
            <a:chExt cx="3746520" cy="2179440"/>
          </a:xfrm>
        </p:grpSpPr>
        <p:sp>
          <p:nvSpPr>
            <p:cNvPr id="2782" name=""/>
            <p:cNvSpPr/>
            <p:nvPr/>
          </p:nvSpPr>
          <p:spPr>
            <a:xfrm>
              <a:off x="528480" y="4284720"/>
              <a:ext cx="1447920" cy="109044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04800" y="5435640"/>
              <a:ext cx="838080" cy="102852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1028520"/>
                <a:gd name="textAreaBottom" fmla="*/ 987840 h 1028520"/>
              </a:gdLst>
              <a:ahLst/>
              <a:rect l="textAreaLeft" t="textAreaTop" r="textAreaRight" b="textAreaBottom"/>
              <a:pathLst>
                <a:path w="21600" h="26506">
                  <a:moveTo>
                    <a:pt x="3600" y="0"/>
                  </a:moveTo>
                  <a:arcTo wR="3600" hR="3600" stAng="16200000" swAng="-5400000"/>
                  <a:lnTo>
                    <a:pt x="0" y="22906"/>
                  </a:lnTo>
                  <a:arcTo wR="3600" hR="3600" stAng="10800000" swAng="-5400000"/>
                  <a:lnTo>
                    <a:pt x="18000" y="265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205000" y="4587840"/>
              <a:ext cx="838080" cy="157320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1573200"/>
                <a:gd name="textAreaBottom" fmla="*/ 1532520 h 1573200"/>
              </a:gdLst>
              <a:ahLst/>
              <a:rect l="textAreaLeft" t="textAreaTop" r="textAreaRight" b="textAreaBottom"/>
              <a:pathLst>
                <a:path w="21600" h="40538">
                  <a:moveTo>
                    <a:pt x="3600" y="0"/>
                  </a:moveTo>
                  <a:arcTo wR="3600" hR="3600" stAng="16200000" swAng="-5400000"/>
                  <a:lnTo>
                    <a:pt x="0" y="36938"/>
                  </a:lnTo>
                  <a:arcTo wR="3600" hR="3600" stAng="10800000" swAng="-5400000"/>
                  <a:lnTo>
                    <a:pt x="18000" y="405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785" name=""/>
            <p:cNvGrpSpPr/>
            <p:nvPr/>
          </p:nvGrpSpPr>
          <p:grpSpPr>
            <a:xfrm>
              <a:off x="147600" y="4344840"/>
              <a:ext cx="3746520" cy="2079360"/>
              <a:chOff x="147600" y="4344840"/>
              <a:chExt cx="3746520" cy="2079360"/>
            </a:xfrm>
          </p:grpSpPr>
          <p:grpSp>
            <p:nvGrpSpPr>
              <p:cNvPr id="2786" name=""/>
              <p:cNvGrpSpPr/>
              <p:nvPr/>
            </p:nvGrpSpPr>
            <p:grpSpPr>
              <a:xfrm>
                <a:off x="147600" y="4344840"/>
                <a:ext cx="1953720" cy="1055520"/>
                <a:chOff x="147600" y="4344840"/>
                <a:chExt cx="1953720" cy="1055520"/>
              </a:xfrm>
            </p:grpSpPr>
            <p:grpSp>
              <p:nvGrpSpPr>
                <p:cNvPr id="2787" name=""/>
                <p:cNvGrpSpPr/>
                <p:nvPr/>
              </p:nvGrpSpPr>
              <p:grpSpPr>
                <a:xfrm>
                  <a:off x="1518480" y="4773960"/>
                  <a:ext cx="582840" cy="626400"/>
                  <a:chOff x="1518480" y="4773960"/>
                  <a:chExt cx="582840" cy="626400"/>
                </a:xfrm>
              </p:grpSpPr>
              <p:sp>
                <p:nvSpPr>
                  <p:cNvPr id="2788" name=""/>
                  <p:cNvSpPr/>
                  <p:nvPr/>
                </p:nvSpPr>
                <p:spPr>
                  <a:xfrm>
                    <a:off x="2052000" y="4773960"/>
                    <a:ext cx="0" cy="602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 flipH="1">
                    <a:off x="1518480" y="477396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2003040" y="5351040"/>
                    <a:ext cx="98280" cy="4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1" name=""/>
                <p:cNvGrpSpPr/>
                <p:nvPr/>
              </p:nvGrpSpPr>
              <p:grpSpPr>
                <a:xfrm>
                  <a:off x="147600" y="4344840"/>
                  <a:ext cx="1938960" cy="1002240"/>
                  <a:chOff x="147600" y="4344840"/>
                  <a:chExt cx="1938960" cy="1002240"/>
                </a:xfrm>
              </p:grpSpPr>
              <p:grpSp>
                <p:nvGrpSpPr>
                  <p:cNvPr id="2792" name=""/>
                  <p:cNvGrpSpPr/>
                  <p:nvPr/>
                </p:nvGrpSpPr>
                <p:grpSpPr>
                  <a:xfrm>
                    <a:off x="680760" y="4421880"/>
                    <a:ext cx="292320" cy="369360"/>
                    <a:chOff x="680760" y="4421880"/>
                    <a:chExt cx="292320" cy="369360"/>
                  </a:xfrm>
                </p:grpSpPr>
                <p:sp>
                  <p:nvSpPr>
                    <p:cNvPr id="2793" name=""/>
                    <p:cNvSpPr/>
                    <p:nvPr/>
                  </p:nvSpPr>
                  <p:spPr>
                    <a:xfrm>
                      <a:off x="875520" y="447084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4" name=""/>
                    <p:cNvSpPr/>
                    <p:nvPr/>
                  </p:nvSpPr>
                  <p:spPr>
                    <a:xfrm>
                      <a:off x="875520" y="456948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5" name=""/>
                    <p:cNvSpPr/>
                    <p:nvPr/>
                  </p:nvSpPr>
                  <p:spPr>
                    <a:xfrm>
                      <a:off x="875520" y="466812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 flipH="1">
                      <a:off x="875160" y="471744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7" name=""/>
                    <p:cNvSpPr/>
                    <p:nvPr/>
                  </p:nvSpPr>
                  <p:spPr>
                    <a:xfrm flipH="1">
                      <a:off x="875160" y="449568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8" name=""/>
                    <p:cNvSpPr/>
                    <p:nvPr/>
                  </p:nvSpPr>
                  <p:spPr>
                    <a:xfrm>
                      <a:off x="973080" y="442188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9" name=""/>
                    <p:cNvSpPr/>
                    <p:nvPr/>
                  </p:nvSpPr>
                  <p:spPr>
                    <a:xfrm>
                      <a:off x="973080" y="471744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0" name=""/>
                    <p:cNvSpPr/>
                    <p:nvPr/>
                  </p:nvSpPr>
                  <p:spPr>
                    <a:xfrm>
                      <a:off x="777960" y="4520160"/>
                      <a:ext cx="0" cy="1720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 flipH="1">
                      <a:off x="680760" y="4692600"/>
                      <a:ext cx="972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 flipH="1">
                      <a:off x="875160" y="461880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3" name=""/>
                  <p:cNvGrpSpPr/>
                  <p:nvPr/>
                </p:nvGrpSpPr>
                <p:grpSpPr>
                  <a:xfrm>
                    <a:off x="680760" y="4791240"/>
                    <a:ext cx="292320" cy="369360"/>
                    <a:chOff x="680760" y="4791240"/>
                    <a:chExt cx="292320" cy="369360"/>
                  </a:xfrm>
                </p:grpSpPr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875520" y="484020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5" name=""/>
                    <p:cNvSpPr/>
                    <p:nvPr/>
                  </p:nvSpPr>
                  <p:spPr>
                    <a:xfrm>
                      <a:off x="875520" y="493884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/>
                    <p:nvPr/>
                  </p:nvSpPr>
                  <p:spPr>
                    <a:xfrm>
                      <a:off x="875520" y="503748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7" name=""/>
                    <p:cNvSpPr/>
                    <p:nvPr/>
                  </p:nvSpPr>
                  <p:spPr>
                    <a:xfrm flipH="1">
                      <a:off x="875160" y="508680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8" name=""/>
                    <p:cNvSpPr/>
                    <p:nvPr/>
                  </p:nvSpPr>
                  <p:spPr>
                    <a:xfrm flipH="1">
                      <a:off x="875160" y="486504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/>
                    <p:nvPr/>
                  </p:nvSpPr>
                  <p:spPr>
                    <a:xfrm>
                      <a:off x="973080" y="479124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0" name=""/>
                    <p:cNvSpPr/>
                    <p:nvPr/>
                  </p:nvSpPr>
                  <p:spPr>
                    <a:xfrm>
                      <a:off x="973080" y="508680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1" name=""/>
                    <p:cNvSpPr/>
                    <p:nvPr/>
                  </p:nvSpPr>
                  <p:spPr>
                    <a:xfrm>
                      <a:off x="777960" y="4889520"/>
                      <a:ext cx="0" cy="1720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2" name=""/>
                    <p:cNvSpPr/>
                    <p:nvPr/>
                  </p:nvSpPr>
                  <p:spPr>
                    <a:xfrm flipH="1">
                      <a:off x="680760" y="5061960"/>
                      <a:ext cx="972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3" name=""/>
                    <p:cNvSpPr/>
                    <p:nvPr/>
                  </p:nvSpPr>
                  <p:spPr>
                    <a:xfrm flipH="1">
                      <a:off x="875160" y="498816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14" name=""/>
                  <p:cNvSpPr/>
                  <p:nvPr/>
                </p:nvSpPr>
                <p:spPr>
                  <a:xfrm>
                    <a:off x="1022040" y="4791240"/>
                    <a:ext cx="4860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1168200" y="4496040"/>
                    <a:ext cx="0" cy="1962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1168200" y="4692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1168200" y="4889880"/>
                    <a:ext cx="0" cy="1962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1168200" y="4889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1302480" y="4453920"/>
                    <a:ext cx="784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I high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1303200" y="4948200"/>
                    <a:ext cx="712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I low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923760" y="4767120"/>
                    <a:ext cx="9828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909360" y="4344840"/>
                    <a:ext cx="146160" cy="7416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680760" y="4691880"/>
                    <a:ext cx="0" cy="3754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147600" y="4807080"/>
                    <a:ext cx="485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604800" y="4778640"/>
                    <a:ext cx="9828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26" name=""/>
                  <p:cNvGrpSpPr/>
                  <p:nvPr/>
                </p:nvGrpSpPr>
                <p:grpSpPr>
                  <a:xfrm>
                    <a:off x="895320" y="5161320"/>
                    <a:ext cx="179280" cy="101160"/>
                    <a:chOff x="895320" y="5161320"/>
                    <a:chExt cx="179280" cy="101160"/>
                  </a:xfrm>
                </p:grpSpPr>
                <p:sp>
                  <p:nvSpPr>
                    <p:cNvPr id="2827" name=""/>
                    <p:cNvSpPr/>
                    <p:nvPr/>
                  </p:nvSpPr>
                  <p:spPr>
                    <a:xfrm>
                      <a:off x="939960" y="5237280"/>
                      <a:ext cx="8964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8" name=""/>
                    <p:cNvSpPr/>
                    <p:nvPr/>
                  </p:nvSpPr>
                  <p:spPr>
                    <a:xfrm>
                      <a:off x="984960" y="526248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9" name=""/>
                    <p:cNvSpPr/>
                    <p:nvPr/>
                  </p:nvSpPr>
                  <p:spPr>
                    <a:xfrm>
                      <a:off x="895320" y="52117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0" name=""/>
                    <p:cNvSpPr/>
                    <p:nvPr/>
                  </p:nvSpPr>
                  <p:spPr>
                    <a:xfrm>
                      <a:off x="984960" y="5161320"/>
                      <a:ext cx="0" cy="5040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31" name=""/>
              <p:cNvGrpSpPr/>
              <p:nvPr/>
            </p:nvGrpSpPr>
            <p:grpSpPr>
              <a:xfrm>
                <a:off x="452520" y="4559400"/>
                <a:ext cx="2520000" cy="1864800"/>
                <a:chOff x="452520" y="4559400"/>
                <a:chExt cx="2520000" cy="1864800"/>
              </a:xfrm>
            </p:grpSpPr>
            <p:grpSp>
              <p:nvGrpSpPr>
                <p:cNvPr id="2832" name=""/>
                <p:cNvGrpSpPr/>
                <p:nvPr/>
              </p:nvGrpSpPr>
              <p:grpSpPr>
                <a:xfrm>
                  <a:off x="2351520" y="4559400"/>
                  <a:ext cx="621000" cy="1687680"/>
                  <a:chOff x="2351520" y="4559400"/>
                  <a:chExt cx="621000" cy="1687680"/>
                </a:xfrm>
              </p:grpSpPr>
              <p:grpSp>
                <p:nvGrpSpPr>
                  <p:cNvPr id="2833" name=""/>
                  <p:cNvGrpSpPr/>
                  <p:nvPr/>
                </p:nvGrpSpPr>
                <p:grpSpPr>
                  <a:xfrm>
                    <a:off x="2548080" y="5162400"/>
                    <a:ext cx="228600" cy="203400"/>
                    <a:chOff x="2548080" y="5162400"/>
                    <a:chExt cx="228600" cy="203400"/>
                  </a:xfrm>
                </p:grpSpPr>
                <p:sp>
                  <p:nvSpPr>
                    <p:cNvPr id="2834" name=""/>
                    <p:cNvSpPr/>
                    <p:nvPr/>
                  </p:nvSpPr>
                  <p:spPr>
                    <a:xfrm>
                      <a:off x="2548080" y="5220360"/>
                      <a:ext cx="228600" cy="87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5" name=""/>
                    <p:cNvSpPr/>
                    <p:nvPr/>
                  </p:nvSpPr>
                  <p:spPr>
                    <a:xfrm>
                      <a:off x="2548080" y="52203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6" name=""/>
                    <p:cNvSpPr/>
                    <p:nvPr/>
                  </p:nvSpPr>
                  <p:spPr>
                    <a:xfrm>
                      <a:off x="2662200" y="5307840"/>
                      <a:ext cx="0" cy="5796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7" name=""/>
                    <p:cNvSpPr/>
                    <p:nvPr/>
                  </p:nvSpPr>
                  <p:spPr>
                    <a:xfrm>
                      <a:off x="2662200" y="5162400"/>
                      <a:ext cx="0" cy="5796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38" name=""/>
                  <p:cNvSpPr/>
                  <p:nvPr/>
                </p:nvSpPr>
                <p:spPr>
                  <a:xfrm>
                    <a:off x="2589120" y="4902120"/>
                    <a:ext cx="146160" cy="7452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39" name=""/>
                  <p:cNvGrpSpPr/>
                  <p:nvPr/>
                </p:nvGrpSpPr>
                <p:grpSpPr>
                  <a:xfrm>
                    <a:off x="2548080" y="5365800"/>
                    <a:ext cx="228600" cy="201600"/>
                    <a:chOff x="2548080" y="5365800"/>
                    <a:chExt cx="228600" cy="201600"/>
                  </a:xfrm>
                </p:grpSpPr>
                <p:sp>
                  <p:nvSpPr>
                    <p:cNvPr id="2840" name=""/>
                    <p:cNvSpPr/>
                    <p:nvPr/>
                  </p:nvSpPr>
                  <p:spPr>
                    <a:xfrm>
                      <a:off x="2548080" y="5423400"/>
                      <a:ext cx="228600" cy="86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1" name=""/>
                    <p:cNvSpPr/>
                    <p:nvPr/>
                  </p:nvSpPr>
                  <p:spPr>
                    <a:xfrm>
                      <a:off x="2548080" y="542340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2" name=""/>
                    <p:cNvSpPr/>
                    <p:nvPr/>
                  </p:nvSpPr>
                  <p:spPr>
                    <a:xfrm>
                      <a:off x="2662200" y="5509800"/>
                      <a:ext cx="0" cy="5760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2662200" y="5365800"/>
                      <a:ext cx="0" cy="5760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4" name=""/>
                  <p:cNvSpPr/>
                  <p:nvPr/>
                </p:nvSpPr>
                <p:spPr>
                  <a:xfrm>
                    <a:off x="2662200" y="5567400"/>
                    <a:ext cx="0" cy="14292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2662200" y="4989600"/>
                    <a:ext cx="0" cy="172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2612880" y="5351400"/>
                    <a:ext cx="98640" cy="4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 flipH="1">
                    <a:off x="2366280" y="455940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 flipH="1">
                    <a:off x="2351160" y="5848200"/>
                    <a:ext cx="621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49" name=""/>
                  <p:cNvGrpSpPr/>
                  <p:nvPr/>
                </p:nvGrpSpPr>
                <p:grpSpPr>
                  <a:xfrm>
                    <a:off x="2571840" y="5678640"/>
                    <a:ext cx="179280" cy="99720"/>
                    <a:chOff x="2571840" y="5678640"/>
                    <a:chExt cx="179280" cy="99720"/>
                  </a:xfrm>
                </p:grpSpPr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2616480" y="5753520"/>
                      <a:ext cx="8964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1" name=""/>
                    <p:cNvSpPr/>
                    <p:nvPr/>
                  </p:nvSpPr>
                  <p:spPr>
                    <a:xfrm>
                      <a:off x="2661480" y="577836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2571840" y="5728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2661480" y="5678640"/>
                      <a:ext cx="0" cy="4968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54" name=""/>
                <p:cNvGrpSpPr/>
                <p:nvPr/>
              </p:nvGrpSpPr>
              <p:grpSpPr>
                <a:xfrm>
                  <a:off x="452520" y="5505480"/>
                  <a:ext cx="1360080" cy="918720"/>
                  <a:chOff x="452520" y="5505480"/>
                  <a:chExt cx="1360080" cy="918720"/>
                </a:xfrm>
              </p:grpSpPr>
              <p:grpSp>
                <p:nvGrpSpPr>
                  <p:cNvPr id="2855" name=""/>
                  <p:cNvGrpSpPr/>
                  <p:nvPr/>
                </p:nvGrpSpPr>
                <p:grpSpPr>
                  <a:xfrm>
                    <a:off x="987480" y="5582520"/>
                    <a:ext cx="292320" cy="369360"/>
                    <a:chOff x="987480" y="5582520"/>
                    <a:chExt cx="292320" cy="369360"/>
                  </a:xfrm>
                </p:grpSpPr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1085040" y="563148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1085040" y="573012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1085040" y="582876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987840" y="587808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0" name=""/>
                    <p:cNvSpPr/>
                    <p:nvPr/>
                  </p:nvSpPr>
                  <p:spPr>
                    <a:xfrm>
                      <a:off x="987840" y="565632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987480" y="558252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987480" y="587808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1182600" y="5680800"/>
                      <a:ext cx="0" cy="1720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1182600" y="5853240"/>
                      <a:ext cx="972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987840" y="577944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6" name=""/>
                  <p:cNvGrpSpPr/>
                  <p:nvPr/>
                </p:nvGrpSpPr>
                <p:grpSpPr>
                  <a:xfrm>
                    <a:off x="987480" y="5951880"/>
                    <a:ext cx="292320" cy="369360"/>
                    <a:chOff x="987480" y="5951880"/>
                    <a:chExt cx="292320" cy="369360"/>
                  </a:xfrm>
                </p:grpSpPr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1085040" y="600084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1085040" y="609948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9" name=""/>
                    <p:cNvSpPr/>
                    <p:nvPr/>
                  </p:nvSpPr>
                  <p:spPr>
                    <a:xfrm>
                      <a:off x="1085040" y="6198120"/>
                      <a:ext cx="0" cy="73800"/>
                    </a:xfrm>
                    <a:prstGeom prst="line">
                      <a:avLst/>
                    </a:prstGeom>
                    <a:ln w="57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0" name=""/>
                    <p:cNvSpPr/>
                    <p:nvPr/>
                  </p:nvSpPr>
                  <p:spPr>
                    <a:xfrm>
                      <a:off x="987840" y="624744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1" name=""/>
                    <p:cNvSpPr/>
                    <p:nvPr/>
                  </p:nvSpPr>
                  <p:spPr>
                    <a:xfrm>
                      <a:off x="987840" y="602568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2" name=""/>
                    <p:cNvSpPr/>
                    <p:nvPr/>
                  </p:nvSpPr>
                  <p:spPr>
                    <a:xfrm>
                      <a:off x="987480" y="595188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3" name=""/>
                    <p:cNvSpPr/>
                    <p:nvPr/>
                  </p:nvSpPr>
                  <p:spPr>
                    <a:xfrm>
                      <a:off x="987480" y="6247440"/>
                      <a:ext cx="0" cy="738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4" name=""/>
                    <p:cNvSpPr/>
                    <p:nvPr/>
                  </p:nvSpPr>
                  <p:spPr>
                    <a:xfrm>
                      <a:off x="1182600" y="6050160"/>
                      <a:ext cx="0" cy="17208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5" name=""/>
                    <p:cNvSpPr/>
                    <p:nvPr/>
                  </p:nvSpPr>
                  <p:spPr>
                    <a:xfrm>
                      <a:off x="1182600" y="6222600"/>
                      <a:ext cx="972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6" name=""/>
                    <p:cNvSpPr/>
                    <p:nvPr/>
                  </p:nvSpPr>
                  <p:spPr>
                    <a:xfrm>
                      <a:off x="987840" y="6148800"/>
                      <a:ext cx="9756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7" name=""/>
                  <p:cNvSpPr/>
                  <p:nvPr/>
                </p:nvSpPr>
                <p:spPr>
                  <a:xfrm flipH="1">
                    <a:off x="452520" y="5951880"/>
                    <a:ext cx="4860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>
                    <a:off x="937800" y="5927760"/>
                    <a:ext cx="9828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>
                    <a:off x="905040" y="5505480"/>
                    <a:ext cx="146160" cy="74160"/>
                  </a:xfrm>
                  <a:prstGeom prst="ellipse">
                    <a:avLst/>
                  </a:prstGeom>
                  <a:solidFill>
                    <a:srgbClr val="dddddd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1279800" y="5852160"/>
                    <a:ext cx="0" cy="3754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 flipH="1">
                    <a:off x="1326960" y="5968080"/>
                    <a:ext cx="485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>
                    <a:off x="1256760" y="5939280"/>
                    <a:ext cx="9828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83" name=""/>
                  <p:cNvGrpSpPr/>
                  <p:nvPr/>
                </p:nvGrpSpPr>
                <p:grpSpPr>
                  <a:xfrm>
                    <a:off x="895680" y="6323040"/>
                    <a:ext cx="179280" cy="101160"/>
                    <a:chOff x="895680" y="6323040"/>
                    <a:chExt cx="179280" cy="101160"/>
                  </a:xfrm>
                </p:grpSpPr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940320" y="6399000"/>
                      <a:ext cx="8964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985320" y="6424200"/>
                      <a:ext cx="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6" name=""/>
                    <p:cNvSpPr/>
                    <p:nvPr/>
                  </p:nvSpPr>
                  <p:spPr>
                    <a:xfrm>
                      <a:off x="895680" y="63734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985320" y="6323040"/>
                      <a:ext cx="0" cy="5040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88" name=""/>
                <p:cNvGrpSpPr/>
                <p:nvPr/>
              </p:nvGrpSpPr>
              <p:grpSpPr>
                <a:xfrm>
                  <a:off x="1823760" y="5376960"/>
                  <a:ext cx="1143360" cy="601560"/>
                  <a:chOff x="1823760" y="5376960"/>
                  <a:chExt cx="1143360" cy="601560"/>
                </a:xfrm>
              </p:grpSpPr>
              <p:sp>
                <p:nvSpPr>
                  <p:cNvPr id="2889" name=""/>
                  <p:cNvSpPr/>
                  <p:nvPr/>
                </p:nvSpPr>
                <p:spPr>
                  <a:xfrm flipH="1">
                    <a:off x="2052720" y="537696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 flipH="1">
                    <a:off x="1823760" y="5978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2052720" y="5376960"/>
                    <a:ext cx="0" cy="6015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2" name=""/>
              <p:cNvGrpSpPr/>
              <p:nvPr/>
            </p:nvGrpSpPr>
            <p:grpSpPr>
              <a:xfrm>
                <a:off x="2854080" y="4767120"/>
                <a:ext cx="1025640" cy="1153800"/>
                <a:chOff x="2854080" y="4767120"/>
                <a:chExt cx="1025640" cy="1153800"/>
              </a:xfrm>
            </p:grpSpPr>
            <p:grpSp>
              <p:nvGrpSpPr>
                <p:cNvPr id="2893" name=""/>
                <p:cNvGrpSpPr/>
                <p:nvPr/>
              </p:nvGrpSpPr>
              <p:grpSpPr>
                <a:xfrm>
                  <a:off x="3611520" y="4895280"/>
                  <a:ext cx="268200" cy="417600"/>
                  <a:chOff x="3611520" y="4895280"/>
                  <a:chExt cx="268200" cy="417600"/>
                </a:xfrm>
              </p:grpSpPr>
              <p:grpSp>
                <p:nvGrpSpPr>
                  <p:cNvPr id="2894" name=""/>
                  <p:cNvGrpSpPr/>
                  <p:nvPr/>
                </p:nvGrpSpPr>
                <p:grpSpPr>
                  <a:xfrm>
                    <a:off x="3733560" y="4895280"/>
                    <a:ext cx="146160" cy="417240"/>
                    <a:chOff x="3733560" y="4895280"/>
                    <a:chExt cx="146160" cy="417240"/>
                  </a:xfrm>
                </p:grpSpPr>
                <p:sp>
                  <p:nvSpPr>
                    <p:cNvPr id="2895" name=""/>
                    <p:cNvSpPr/>
                    <p:nvPr/>
                  </p:nvSpPr>
                  <p:spPr>
                    <a:xfrm>
                      <a:off x="3733560" y="4895280"/>
                      <a:ext cx="146160" cy="25704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6" name=""/>
                    <p:cNvSpPr/>
                    <p:nvPr/>
                  </p:nvSpPr>
                  <p:spPr>
                    <a:xfrm>
                      <a:off x="3806640" y="5152320"/>
                      <a:ext cx="0" cy="16020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7" name=""/>
                  <p:cNvSpPr/>
                  <p:nvPr/>
                </p:nvSpPr>
                <p:spPr>
                  <a:xfrm flipH="1">
                    <a:off x="3611520" y="5312880"/>
                    <a:ext cx="1951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3611520" y="5439600"/>
                  <a:ext cx="268200" cy="417600"/>
                  <a:chOff x="3611520" y="5439600"/>
                  <a:chExt cx="268200" cy="417600"/>
                </a:xfrm>
              </p:grpSpPr>
              <p:grpSp>
                <p:nvGrpSpPr>
                  <p:cNvPr id="2899" name=""/>
                  <p:cNvGrpSpPr/>
                  <p:nvPr/>
                </p:nvGrpSpPr>
                <p:grpSpPr>
                  <a:xfrm>
                    <a:off x="3733560" y="5439600"/>
                    <a:ext cx="146160" cy="417600"/>
                    <a:chOff x="3733560" y="5439600"/>
                    <a:chExt cx="146160" cy="417600"/>
                  </a:xfrm>
                </p:grpSpPr>
                <p:sp>
                  <p:nvSpPr>
                    <p:cNvPr id="2900" name=""/>
                    <p:cNvSpPr/>
                    <p:nvPr/>
                  </p:nvSpPr>
                  <p:spPr>
                    <a:xfrm flipV="1">
                      <a:off x="3733560" y="5600160"/>
                      <a:ext cx="146160" cy="257040"/>
                    </a:xfrm>
                    <a:prstGeom prst="rect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1" name=""/>
                    <p:cNvSpPr/>
                    <p:nvPr/>
                  </p:nvSpPr>
                  <p:spPr>
                    <a:xfrm flipV="1">
                      <a:off x="3806640" y="5439600"/>
                      <a:ext cx="0" cy="16020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02" name=""/>
                  <p:cNvSpPr/>
                  <p:nvPr/>
                </p:nvSpPr>
                <p:spPr>
                  <a:xfrm flipH="1">
                    <a:off x="3611520" y="5439960"/>
                    <a:ext cx="1951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3" name=""/>
                <p:cNvGrpSpPr/>
                <p:nvPr/>
              </p:nvGrpSpPr>
              <p:grpSpPr>
                <a:xfrm>
                  <a:off x="2854080" y="5041800"/>
                  <a:ext cx="806400" cy="796680"/>
                  <a:chOff x="2854080" y="5041800"/>
                  <a:chExt cx="806400" cy="796680"/>
                </a:xfrm>
              </p:grpSpPr>
              <p:sp>
                <p:nvSpPr>
                  <p:cNvPr id="2904" name=""/>
                  <p:cNvSpPr/>
                  <p:nvPr/>
                </p:nvSpPr>
                <p:spPr>
                  <a:xfrm flipH="1">
                    <a:off x="3466800" y="5375880"/>
                    <a:ext cx="1936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 flipH="1">
                    <a:off x="3271680" y="5375880"/>
                    <a:ext cx="1951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3441600" y="5360040"/>
                    <a:ext cx="48960" cy="3204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120" bIns="-241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rot="2700000">
                    <a:off x="3049200" y="5079600"/>
                    <a:ext cx="40608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3660480" y="5360040"/>
                    <a:ext cx="0" cy="320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9" name=""/>
                <p:cNvSpPr/>
                <p:nvPr/>
              </p:nvSpPr>
              <p:spPr>
                <a:xfrm>
                  <a:off x="3757320" y="4767120"/>
                  <a:ext cx="98640" cy="64440"/>
                </a:xfrm>
                <a:prstGeom prst="ellipse">
                  <a:avLst/>
                </a:prstGeom>
                <a:noFill/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3806640" y="4831560"/>
                  <a:ext cx="0" cy="633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3806640" y="5857560"/>
                  <a:ext cx="0" cy="633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3714840" y="5935680"/>
                <a:ext cx="179280" cy="101520"/>
                <a:chOff x="3714840" y="5935680"/>
                <a:chExt cx="179280" cy="10152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3759480" y="6011640"/>
                  <a:ext cx="896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804480" y="6037200"/>
                  <a:ext cx="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714840" y="5986440"/>
                  <a:ext cx="179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804480" y="5935680"/>
                  <a:ext cx="0" cy="507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575AF-8E8E-4EDD-8117-A1E05EA29D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ECL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18" name=""/>
          <p:cNvGrpSpPr/>
          <p:nvPr/>
        </p:nvGrpSpPr>
        <p:grpSpPr>
          <a:xfrm>
            <a:off x="5525640" y="1098720"/>
            <a:ext cx="3351600" cy="1940040"/>
            <a:chOff x="5525640" y="1098720"/>
            <a:chExt cx="3351600" cy="1940040"/>
          </a:xfrm>
        </p:grpSpPr>
        <p:sp>
          <p:nvSpPr>
            <p:cNvPr id="2919" name=""/>
            <p:cNvSpPr/>
            <p:nvPr/>
          </p:nvSpPr>
          <p:spPr>
            <a:xfrm>
              <a:off x="5600880" y="1251000"/>
              <a:ext cx="3276360" cy="167580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920" name=""/>
            <p:cNvGrpSpPr/>
            <p:nvPr/>
          </p:nvGrpSpPr>
          <p:grpSpPr>
            <a:xfrm>
              <a:off x="5953680" y="1573200"/>
              <a:ext cx="831240" cy="718560"/>
              <a:chOff x="5953680" y="1573200"/>
              <a:chExt cx="831240" cy="718560"/>
            </a:xfrm>
          </p:grpSpPr>
          <p:sp>
            <p:nvSpPr>
              <p:cNvPr id="2921" name=""/>
              <p:cNvSpPr/>
              <p:nvPr/>
            </p:nvSpPr>
            <p:spPr>
              <a:xfrm>
                <a:off x="6595200" y="2291760"/>
                <a:ext cx="1735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22" name=""/>
              <p:cNvGrpSpPr/>
              <p:nvPr/>
            </p:nvGrpSpPr>
            <p:grpSpPr>
              <a:xfrm>
                <a:off x="5953680" y="1573200"/>
                <a:ext cx="831240" cy="717480"/>
                <a:chOff x="5953680" y="1573200"/>
                <a:chExt cx="831240" cy="717480"/>
              </a:xfrm>
            </p:grpSpPr>
            <p:sp>
              <p:nvSpPr>
                <p:cNvPr id="2923" name=""/>
                <p:cNvSpPr/>
                <p:nvPr/>
              </p:nvSpPr>
              <p:spPr>
                <a:xfrm flipH="1" flipV="1">
                  <a:off x="6368760" y="1573560"/>
                  <a:ext cx="416160" cy="71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64" y="41"/>
                      </a:moveTo>
                      <a:arcTo wR="10800" hR="10800" stAng="-5698349" swAng="56983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64" y="41"/>
                      </a:moveTo>
                      <a:arcTo wR="10800" hR="10800" stAng="-5698349" swAng="5698349"/>
                    </a:path>
                  </a:pathLst>
                </a:custGeom>
                <a:noFill/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 flipV="1" rot="10800000">
                  <a:off x="5953680" y="1573200"/>
                  <a:ext cx="414720" cy="71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5" name=""/>
              <p:cNvSpPr/>
              <p:nvPr/>
            </p:nvSpPr>
            <p:spPr>
              <a:xfrm>
                <a:off x="5986440" y="1573200"/>
                <a:ext cx="1735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926" name=""/>
            <p:cNvGrpSpPr/>
            <p:nvPr/>
          </p:nvGrpSpPr>
          <p:grpSpPr>
            <a:xfrm>
              <a:off x="5525640" y="1098720"/>
              <a:ext cx="1462320" cy="1540800"/>
              <a:chOff x="5525640" y="1098720"/>
              <a:chExt cx="1462320" cy="1540800"/>
            </a:xfrm>
          </p:grpSpPr>
          <p:grpSp>
            <p:nvGrpSpPr>
              <p:cNvPr id="2927" name=""/>
              <p:cNvGrpSpPr/>
              <p:nvPr/>
            </p:nvGrpSpPr>
            <p:grpSpPr>
              <a:xfrm>
                <a:off x="5955480" y="1555200"/>
                <a:ext cx="830160" cy="719280"/>
                <a:chOff x="5955480" y="1555200"/>
                <a:chExt cx="830160" cy="719280"/>
              </a:xfrm>
            </p:grpSpPr>
            <p:sp>
              <p:nvSpPr>
                <p:cNvPr id="2928" name=""/>
                <p:cNvSpPr/>
                <p:nvPr/>
              </p:nvSpPr>
              <p:spPr>
                <a:xfrm flipH="1">
                  <a:off x="6595920" y="227448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H="1">
                  <a:off x="5988240" y="1555560"/>
                  <a:ext cx="1731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0" name=""/>
                <p:cNvGrpSpPr/>
                <p:nvPr/>
              </p:nvGrpSpPr>
              <p:grpSpPr>
                <a:xfrm>
                  <a:off x="5955480" y="1555200"/>
                  <a:ext cx="830160" cy="718560"/>
                  <a:chOff x="5955480" y="1555200"/>
                  <a:chExt cx="830160" cy="718560"/>
                </a:xfrm>
              </p:grpSpPr>
              <p:sp>
                <p:nvSpPr>
                  <p:cNvPr id="2931" name=""/>
                  <p:cNvSpPr/>
                  <p:nvPr/>
                </p:nvSpPr>
                <p:spPr>
                  <a:xfrm flipH="1" flipV="1">
                    <a:off x="6370200" y="1554840"/>
                    <a:ext cx="41544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H="1" flipV="1" rot="10800000">
                    <a:off x="5955480" y="1555200"/>
                    <a:ext cx="41400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3" name=""/>
              <p:cNvGrpSpPr/>
              <p:nvPr/>
            </p:nvGrpSpPr>
            <p:grpSpPr>
              <a:xfrm>
                <a:off x="5525640" y="1098720"/>
                <a:ext cx="1462320" cy="1540800"/>
                <a:chOff x="5525640" y="1098720"/>
                <a:chExt cx="1462320" cy="154080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5978520" y="1377720"/>
                  <a:ext cx="0" cy="126180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5945040" y="2592360"/>
                  <a:ext cx="1042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5945040" y="231300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5911920" y="1563480"/>
                  <a:ext cx="99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5878440" y="109872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5525640" y="1479600"/>
                  <a:ext cx="49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h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5526000" y="2165400"/>
                  <a:ext cx="43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l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1" name=""/>
            <p:cNvSpPr/>
            <p:nvPr/>
          </p:nvSpPr>
          <p:spPr>
            <a:xfrm>
              <a:off x="6821280" y="2639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5601960" y="111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943" name=""/>
            <p:cNvGrpSpPr/>
            <p:nvPr/>
          </p:nvGrpSpPr>
          <p:grpSpPr>
            <a:xfrm>
              <a:off x="7653600" y="1573200"/>
              <a:ext cx="552960" cy="718560"/>
              <a:chOff x="7653600" y="1573200"/>
              <a:chExt cx="552960" cy="718560"/>
            </a:xfrm>
          </p:grpSpPr>
          <p:sp>
            <p:nvSpPr>
              <p:cNvPr id="2944" name=""/>
              <p:cNvSpPr/>
              <p:nvPr/>
            </p:nvSpPr>
            <p:spPr>
              <a:xfrm>
                <a:off x="7664400" y="2291760"/>
                <a:ext cx="115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069400" y="1573200"/>
                <a:ext cx="115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946" name=""/>
              <p:cNvGrpSpPr/>
              <p:nvPr/>
            </p:nvGrpSpPr>
            <p:grpSpPr>
              <a:xfrm>
                <a:off x="7653600" y="1573200"/>
                <a:ext cx="552960" cy="717480"/>
                <a:chOff x="7653600" y="1573200"/>
                <a:chExt cx="552960" cy="717480"/>
              </a:xfrm>
            </p:grpSpPr>
            <p:sp>
              <p:nvSpPr>
                <p:cNvPr id="2947" name=""/>
                <p:cNvSpPr/>
                <p:nvPr/>
              </p:nvSpPr>
              <p:spPr>
                <a:xfrm flipV="1">
                  <a:off x="7653600" y="1573560"/>
                  <a:ext cx="276480" cy="71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64" y="41"/>
                      </a:moveTo>
                      <a:arcTo wR="10800" hR="10800" stAng="-5698349" swAng="56983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64" y="41"/>
                      </a:moveTo>
                      <a:arcTo wR="10800" hR="10800" stAng="-5698349" swAng="5698349"/>
                    </a:path>
                  </a:pathLst>
                </a:custGeom>
                <a:noFill/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V="1" rot="10800000">
                  <a:off x="7930800" y="1573200"/>
                  <a:ext cx="275760" cy="71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9" name=""/>
            <p:cNvGrpSpPr/>
            <p:nvPr/>
          </p:nvGrpSpPr>
          <p:grpSpPr>
            <a:xfrm>
              <a:off x="7202160" y="1098720"/>
              <a:ext cx="1462320" cy="1540800"/>
              <a:chOff x="7202160" y="1098720"/>
              <a:chExt cx="1462320" cy="1540800"/>
            </a:xfrm>
          </p:grpSpPr>
          <p:sp>
            <p:nvSpPr>
              <p:cNvPr id="2950" name=""/>
              <p:cNvSpPr/>
              <p:nvPr/>
            </p:nvSpPr>
            <p:spPr>
              <a:xfrm>
                <a:off x="7655040" y="1377720"/>
                <a:ext cx="0" cy="126180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621560" y="2592360"/>
                <a:ext cx="10429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621560" y="2313000"/>
                <a:ext cx="1000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588440" y="1563480"/>
                <a:ext cx="99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554960" y="109872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202160" y="147960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h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202520" y="2165400"/>
                <a:ext cx="4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l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957" name=""/>
            <p:cNvSpPr/>
            <p:nvPr/>
          </p:nvSpPr>
          <p:spPr>
            <a:xfrm>
              <a:off x="8497800" y="263988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78120" y="111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4927680" y="3830760"/>
            <a:ext cx="4216320" cy="2399760"/>
            <a:chOff x="4927680" y="3830760"/>
            <a:chExt cx="4216320" cy="2399760"/>
          </a:xfrm>
        </p:grpSpPr>
        <p:grpSp>
          <p:nvGrpSpPr>
            <p:cNvPr id="2960" name=""/>
            <p:cNvGrpSpPr/>
            <p:nvPr/>
          </p:nvGrpSpPr>
          <p:grpSpPr>
            <a:xfrm>
              <a:off x="7842240" y="4478040"/>
              <a:ext cx="718920" cy="1104840"/>
              <a:chOff x="7842240" y="4478040"/>
              <a:chExt cx="718920" cy="1104840"/>
            </a:xfrm>
          </p:grpSpPr>
          <p:sp>
            <p:nvSpPr>
              <p:cNvPr id="2961" name=""/>
              <p:cNvSpPr/>
              <p:nvPr/>
            </p:nvSpPr>
            <p:spPr>
              <a:xfrm>
                <a:off x="7842240" y="4478040"/>
                <a:ext cx="718920" cy="4953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tt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842240" y="5087520"/>
                <a:ext cx="718920" cy="4953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tt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963" name=""/>
            <p:cNvGrpSpPr/>
            <p:nvPr/>
          </p:nvGrpSpPr>
          <p:grpSpPr>
            <a:xfrm>
              <a:off x="7842240" y="3944880"/>
              <a:ext cx="718920" cy="2189880"/>
              <a:chOff x="7842240" y="3944880"/>
              <a:chExt cx="718920" cy="2189880"/>
            </a:xfrm>
          </p:grpSpPr>
          <p:sp>
            <p:nvSpPr>
              <p:cNvPr id="2964" name=""/>
              <p:cNvSpPr/>
              <p:nvPr/>
            </p:nvSpPr>
            <p:spPr>
              <a:xfrm>
                <a:off x="7842240" y="3944880"/>
                <a:ext cx="718920" cy="495000"/>
              </a:xfrm>
              <a:prstGeom prst="rect">
                <a:avLst/>
              </a:prstGeom>
              <a:solidFill>
                <a:srgbClr val="ff33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842240" y="5639760"/>
                <a:ext cx="718920" cy="495000"/>
              </a:xfrm>
              <a:prstGeom prst="rect">
                <a:avLst/>
              </a:prstGeom>
              <a:solidFill>
                <a:srgbClr val="ff33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966" name=""/>
            <p:cNvGrpSpPr/>
            <p:nvPr/>
          </p:nvGrpSpPr>
          <p:grpSpPr>
            <a:xfrm>
              <a:off x="6402240" y="4325760"/>
              <a:ext cx="1338120" cy="1370880"/>
              <a:chOff x="6402240" y="4325760"/>
              <a:chExt cx="1338120" cy="1370880"/>
            </a:xfrm>
          </p:grpSpPr>
          <p:sp>
            <p:nvSpPr>
              <p:cNvPr id="2967" name=""/>
              <p:cNvSpPr/>
              <p:nvPr/>
            </p:nvSpPr>
            <p:spPr>
              <a:xfrm>
                <a:off x="7073640" y="4325760"/>
                <a:ext cx="666720" cy="49464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e Vtt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073640" y="5201640"/>
                <a:ext cx="666720" cy="49500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amp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 Vtt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402240" y="4325760"/>
                <a:ext cx="647640" cy="49464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ullu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402240" y="5201640"/>
                <a:ext cx="647640" cy="49500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ulldown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4927680" y="4325760"/>
              <a:ext cx="1445760" cy="1370880"/>
              <a:chOff x="4927680" y="4325760"/>
              <a:chExt cx="1445760" cy="1370880"/>
            </a:xfrm>
          </p:grpSpPr>
          <p:sp>
            <p:nvSpPr>
              <p:cNvPr id="2972" name=""/>
              <p:cNvSpPr/>
              <p:nvPr/>
            </p:nvSpPr>
            <p:spPr>
              <a:xfrm>
                <a:off x="5883120" y="4325760"/>
                <a:ext cx="490320" cy="49464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ower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l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883120" y="5201640"/>
                <a:ext cx="490320" cy="4950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Gnd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l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927680" y="4744440"/>
                <a:ext cx="900000" cy="64728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Threshold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Over-under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_co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975" name=""/>
            <p:cNvGrpSpPr/>
            <p:nvPr/>
          </p:nvGrpSpPr>
          <p:grpSpPr>
            <a:xfrm>
              <a:off x="5848200" y="4821120"/>
              <a:ext cx="1595160" cy="380520"/>
              <a:chOff x="5848200" y="4821120"/>
              <a:chExt cx="1595160" cy="380520"/>
            </a:xfrm>
          </p:grpSpPr>
          <p:sp>
            <p:nvSpPr>
              <p:cNvPr id="2976" name=""/>
              <p:cNvSpPr/>
              <p:nvPr/>
            </p:nvSpPr>
            <p:spPr>
              <a:xfrm>
                <a:off x="5848200" y="5011200"/>
                <a:ext cx="1577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759720" y="4821120"/>
                <a:ext cx="360" cy="380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408440" y="4992480"/>
                <a:ext cx="34920" cy="3780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145920" y="4992480"/>
                <a:ext cx="34200" cy="3780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742080" y="4992480"/>
                <a:ext cx="34200" cy="3780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163560" y="4821120"/>
                <a:ext cx="360" cy="380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426080" y="4821120"/>
                <a:ext cx="360" cy="380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6162480" y="3830760"/>
              <a:ext cx="2981520" cy="2361960"/>
              <a:chOff x="6162480" y="3830760"/>
              <a:chExt cx="2981520" cy="2361960"/>
            </a:xfrm>
          </p:grpSpPr>
          <p:grpSp>
            <p:nvGrpSpPr>
              <p:cNvPr id="2984" name=""/>
              <p:cNvGrpSpPr/>
              <p:nvPr/>
            </p:nvGrpSpPr>
            <p:grpSpPr>
              <a:xfrm>
                <a:off x="8601120" y="4897440"/>
                <a:ext cx="542880" cy="228600"/>
                <a:chOff x="8601120" y="4897440"/>
                <a:chExt cx="542880" cy="228600"/>
              </a:xfrm>
            </p:grpSpPr>
            <p:sp>
              <p:nvSpPr>
                <p:cNvPr id="2985" name=""/>
                <p:cNvSpPr/>
                <p:nvPr/>
              </p:nvSpPr>
              <p:spPr>
                <a:xfrm>
                  <a:off x="8618400" y="5011560"/>
                  <a:ext cx="105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8601120" y="4992840"/>
                  <a:ext cx="3492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8723520" y="4897440"/>
                  <a:ext cx="280440" cy="2286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9038880" y="4954680"/>
                  <a:ext cx="105120" cy="1141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9" name=""/>
              <p:cNvGrpSpPr/>
              <p:nvPr/>
            </p:nvGrpSpPr>
            <p:grpSpPr>
              <a:xfrm>
                <a:off x="6162480" y="3830760"/>
                <a:ext cx="526680" cy="495000"/>
                <a:chOff x="6162480" y="3830760"/>
                <a:chExt cx="526680" cy="495000"/>
              </a:xfrm>
            </p:grpSpPr>
            <p:sp>
              <p:nvSpPr>
                <p:cNvPr id="2990" name=""/>
                <p:cNvSpPr/>
                <p:nvPr/>
              </p:nvSpPr>
              <p:spPr>
                <a:xfrm>
                  <a:off x="6408000" y="4211640"/>
                  <a:ext cx="0" cy="381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6162480" y="4249800"/>
                  <a:ext cx="0" cy="759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6688800" y="4249800"/>
                  <a:ext cx="360" cy="759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6162480" y="4249800"/>
                  <a:ext cx="5263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6267600" y="3983040"/>
                  <a:ext cx="280440" cy="2286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6355440" y="3830760"/>
                  <a:ext cx="105120" cy="1141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6408000" y="3944880"/>
                  <a:ext cx="0" cy="378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6162480" y="5697720"/>
                <a:ext cx="527040" cy="495000"/>
                <a:chOff x="6162480" y="5697720"/>
                <a:chExt cx="527040" cy="49500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6689520" y="5697720"/>
                  <a:ext cx="0" cy="759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6162480" y="5697720"/>
                  <a:ext cx="360" cy="759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6162480" y="5773680"/>
                  <a:ext cx="5270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6267600" y="5811840"/>
                  <a:ext cx="280800" cy="2282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6355440" y="6078600"/>
                  <a:ext cx="105120" cy="1141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6408360" y="5773680"/>
                  <a:ext cx="0" cy="378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6408360" y="6040440"/>
                  <a:ext cx="0" cy="378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5" name=""/>
            <p:cNvGrpSpPr/>
            <p:nvPr/>
          </p:nvGrpSpPr>
          <p:grpSpPr>
            <a:xfrm>
              <a:off x="7740720" y="4154400"/>
              <a:ext cx="1298520" cy="1713960"/>
              <a:chOff x="7740720" y="4154400"/>
              <a:chExt cx="1298520" cy="1713960"/>
            </a:xfrm>
          </p:grpSpPr>
          <p:grpSp>
            <p:nvGrpSpPr>
              <p:cNvPr id="3006" name=""/>
              <p:cNvGrpSpPr/>
              <p:nvPr/>
            </p:nvGrpSpPr>
            <p:grpSpPr>
              <a:xfrm>
                <a:off x="7740720" y="4154400"/>
                <a:ext cx="894240" cy="1713960"/>
                <a:chOff x="7740720" y="4154400"/>
                <a:chExt cx="894240" cy="1713960"/>
              </a:xfrm>
            </p:grpSpPr>
            <p:sp>
              <p:nvSpPr>
                <p:cNvPr id="3007" name=""/>
                <p:cNvSpPr/>
                <p:nvPr/>
              </p:nvSpPr>
              <p:spPr>
                <a:xfrm>
                  <a:off x="7810560" y="4154400"/>
                  <a:ext cx="0" cy="647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8618040" y="4154400"/>
                  <a:ext cx="0" cy="17139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7810560" y="5182560"/>
                  <a:ext cx="0" cy="647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740720" y="442080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7740720" y="556344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7810560" y="415440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7810560" y="480168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7810560" y="518256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7810560" y="583020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8547840" y="525888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7793280" y="5544720"/>
                  <a:ext cx="3492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7793280" y="4401720"/>
                  <a:ext cx="3492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8600760" y="4706640"/>
                  <a:ext cx="3420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8547840" y="415440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8547840" y="586836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8600760" y="5239800"/>
                  <a:ext cx="3420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8547840" y="4725720"/>
                  <a:ext cx="6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4" name=""/>
              <p:cNvSpPr/>
              <p:nvPr/>
            </p:nvSpPr>
            <p:spPr>
              <a:xfrm>
                <a:off x="9004320" y="5011200"/>
                <a:ext cx="349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025" name=""/>
            <p:cNvSpPr/>
            <p:nvPr/>
          </p:nvSpPr>
          <p:spPr>
            <a:xfrm>
              <a:off x="7893000" y="5621040"/>
              <a:ext cx="609480" cy="60948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893000" y="3868560"/>
              <a:ext cx="609480" cy="60912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27" name=""/>
          <p:cNvGrpSpPr/>
          <p:nvPr/>
        </p:nvGrpSpPr>
        <p:grpSpPr>
          <a:xfrm>
            <a:off x="3924360" y="1098720"/>
            <a:ext cx="2255400" cy="3692520"/>
            <a:chOff x="3924360" y="1098720"/>
            <a:chExt cx="2255400" cy="3692520"/>
          </a:xfrm>
        </p:grpSpPr>
        <p:sp>
          <p:nvSpPr>
            <p:cNvPr id="3028" name=""/>
            <p:cNvSpPr/>
            <p:nvPr/>
          </p:nvSpPr>
          <p:spPr>
            <a:xfrm>
              <a:off x="3924360" y="1251000"/>
              <a:ext cx="1676160" cy="3428640"/>
            </a:xfrm>
            <a:custGeom>
              <a:avLst/>
              <a:gdLst>
                <a:gd name="textAreaLeft" fmla="*/ 81720 w 1676160"/>
                <a:gd name="textAreaRight" fmla="*/ 1594440 w 1676160"/>
                <a:gd name="textAreaTop" fmla="*/ 81720 h 3428640"/>
                <a:gd name="textAreaBottom" fmla="*/ 3346920 h 3428640"/>
              </a:gdLst>
              <a:ahLst/>
              <a:rect l="textAreaLeft" t="textAreaTop" r="textAreaRight" b="textAreaBottom"/>
              <a:pathLst>
                <a:path w="21600" h="44179">
                  <a:moveTo>
                    <a:pt x="3600" y="0"/>
                  </a:moveTo>
                  <a:arcTo wR="3600" hR="3600" stAng="16200000" swAng="-5400000"/>
                  <a:lnTo>
                    <a:pt x="0" y="40579"/>
                  </a:lnTo>
                  <a:arcTo wR="3600" hR="3600" stAng="10800000" swAng="-5400000"/>
                  <a:lnTo>
                    <a:pt x="18000" y="441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029" name=""/>
            <p:cNvGrpSpPr/>
            <p:nvPr/>
          </p:nvGrpSpPr>
          <p:grpSpPr>
            <a:xfrm>
              <a:off x="3925440" y="1098720"/>
              <a:ext cx="1546200" cy="1940040"/>
              <a:chOff x="3925440" y="1098720"/>
              <a:chExt cx="1546200" cy="1940040"/>
            </a:xfrm>
          </p:grpSpPr>
          <p:grpSp>
            <p:nvGrpSpPr>
              <p:cNvPr id="3030" name=""/>
              <p:cNvGrpSpPr/>
              <p:nvPr/>
            </p:nvGrpSpPr>
            <p:grpSpPr>
              <a:xfrm>
                <a:off x="3925440" y="1098720"/>
                <a:ext cx="1462320" cy="1540800"/>
                <a:chOff x="3925440" y="1098720"/>
                <a:chExt cx="1462320" cy="1540800"/>
              </a:xfrm>
            </p:grpSpPr>
            <p:grpSp>
              <p:nvGrpSpPr>
                <p:cNvPr id="3031" name=""/>
                <p:cNvGrpSpPr/>
                <p:nvPr/>
              </p:nvGrpSpPr>
              <p:grpSpPr>
                <a:xfrm>
                  <a:off x="4355280" y="1555200"/>
                  <a:ext cx="830160" cy="719280"/>
                  <a:chOff x="4355280" y="1555200"/>
                  <a:chExt cx="830160" cy="719280"/>
                </a:xfrm>
              </p:grpSpPr>
              <p:sp>
                <p:nvSpPr>
                  <p:cNvPr id="3032" name=""/>
                  <p:cNvSpPr/>
                  <p:nvPr/>
                </p:nvSpPr>
                <p:spPr>
                  <a:xfrm flipH="1">
                    <a:off x="4995720" y="2274480"/>
                    <a:ext cx="1731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 flipH="1">
                    <a:off x="4388040" y="1555560"/>
                    <a:ext cx="1731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34" name=""/>
                  <p:cNvGrpSpPr/>
                  <p:nvPr/>
                </p:nvGrpSpPr>
                <p:grpSpPr>
                  <a:xfrm>
                    <a:off x="4355280" y="1555200"/>
                    <a:ext cx="830160" cy="718560"/>
                    <a:chOff x="4355280" y="1555200"/>
                    <a:chExt cx="830160" cy="718560"/>
                  </a:xfrm>
                </p:grpSpPr>
                <p:sp>
                  <p:nvSpPr>
                    <p:cNvPr id="3035" name=""/>
                    <p:cNvSpPr/>
                    <p:nvPr/>
                  </p:nvSpPr>
                  <p:spPr>
                    <a:xfrm flipH="1" flipV="1">
                      <a:off x="4770000" y="1554840"/>
                      <a:ext cx="41544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6" name=""/>
                    <p:cNvSpPr/>
                    <p:nvPr/>
                  </p:nvSpPr>
                  <p:spPr>
                    <a:xfrm flipH="1" flipV="1" rot="10800000">
                      <a:off x="4355280" y="1555200"/>
                      <a:ext cx="41400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37" name=""/>
                <p:cNvGrpSpPr/>
                <p:nvPr/>
              </p:nvGrpSpPr>
              <p:grpSpPr>
                <a:xfrm>
                  <a:off x="3925440" y="1098720"/>
                  <a:ext cx="1462320" cy="1540800"/>
                  <a:chOff x="3925440" y="1098720"/>
                  <a:chExt cx="1462320" cy="1540800"/>
                </a:xfrm>
              </p:grpSpPr>
              <p:sp>
                <p:nvSpPr>
                  <p:cNvPr id="3038" name=""/>
                  <p:cNvSpPr/>
                  <p:nvPr/>
                </p:nvSpPr>
                <p:spPr>
                  <a:xfrm>
                    <a:off x="4378320" y="1377720"/>
                    <a:ext cx="0" cy="12618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4344840" y="259236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4344840" y="231300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4311720" y="1563480"/>
                    <a:ext cx="997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4278240" y="1098720"/>
                    <a:ext cx="18432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3925440" y="147960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h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3925800" y="2165400"/>
                    <a:ext cx="4352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l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45" name=""/>
              <p:cNvSpPr/>
              <p:nvPr/>
            </p:nvSpPr>
            <p:spPr>
              <a:xfrm flipH="1" flipV="1">
                <a:off x="4717440" y="1725120"/>
                <a:ext cx="55080" cy="4568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220720" y="26398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001040" y="1116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048" name=""/>
            <p:cNvGrpSpPr/>
            <p:nvPr/>
          </p:nvGrpSpPr>
          <p:grpSpPr>
            <a:xfrm>
              <a:off x="3925440" y="2851200"/>
              <a:ext cx="1546200" cy="1940040"/>
              <a:chOff x="3925440" y="2851200"/>
              <a:chExt cx="1546200" cy="1940040"/>
            </a:xfrm>
          </p:grpSpPr>
          <p:grpSp>
            <p:nvGrpSpPr>
              <p:cNvPr id="3049" name=""/>
              <p:cNvGrpSpPr/>
              <p:nvPr/>
            </p:nvGrpSpPr>
            <p:grpSpPr>
              <a:xfrm>
                <a:off x="4376520" y="3324960"/>
                <a:ext cx="551880" cy="719280"/>
                <a:chOff x="4376520" y="3324960"/>
                <a:chExt cx="551880" cy="719280"/>
              </a:xfrm>
            </p:grpSpPr>
            <p:sp>
              <p:nvSpPr>
                <p:cNvPr id="3050" name=""/>
                <p:cNvSpPr/>
                <p:nvPr/>
              </p:nvSpPr>
              <p:spPr>
                <a:xfrm>
                  <a:off x="4387680" y="4044240"/>
                  <a:ext cx="1152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4792320" y="3325320"/>
                  <a:ext cx="1152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2" name=""/>
                <p:cNvGrpSpPr/>
                <p:nvPr/>
              </p:nvGrpSpPr>
              <p:grpSpPr>
                <a:xfrm>
                  <a:off x="4376520" y="3324960"/>
                  <a:ext cx="551880" cy="718560"/>
                  <a:chOff x="4376520" y="3324960"/>
                  <a:chExt cx="551880" cy="718560"/>
                </a:xfrm>
              </p:grpSpPr>
              <p:sp>
                <p:nvSpPr>
                  <p:cNvPr id="3053" name=""/>
                  <p:cNvSpPr/>
                  <p:nvPr/>
                </p:nvSpPr>
                <p:spPr>
                  <a:xfrm flipV="1">
                    <a:off x="4376520" y="3324600"/>
                    <a:ext cx="27648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 flipV="1" rot="10800000">
                    <a:off x="4653360" y="3324960"/>
                    <a:ext cx="27504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5" name=""/>
              <p:cNvGrpSpPr/>
              <p:nvPr/>
            </p:nvGrpSpPr>
            <p:grpSpPr>
              <a:xfrm>
                <a:off x="3925440" y="2851200"/>
                <a:ext cx="1462320" cy="1540800"/>
                <a:chOff x="3925440" y="2851200"/>
                <a:chExt cx="1462320" cy="1540800"/>
              </a:xfrm>
            </p:grpSpPr>
            <p:sp>
              <p:nvSpPr>
                <p:cNvPr id="3056" name=""/>
                <p:cNvSpPr/>
                <p:nvPr/>
              </p:nvSpPr>
              <p:spPr>
                <a:xfrm>
                  <a:off x="4378320" y="3130200"/>
                  <a:ext cx="0" cy="126180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4344840" y="4344840"/>
                  <a:ext cx="1042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4344840" y="406548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4311720" y="3315960"/>
                  <a:ext cx="99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4278240" y="285120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3925440" y="3232080"/>
                  <a:ext cx="49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h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3925800" y="3917880"/>
                  <a:ext cx="435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l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3" name=""/>
              <p:cNvSpPr/>
              <p:nvPr/>
            </p:nvSpPr>
            <p:spPr>
              <a:xfrm>
                <a:off x="5220720" y="439236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001040" y="2868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065" name=""/>
            <p:cNvSpPr/>
            <p:nvPr/>
          </p:nvSpPr>
          <p:spPr>
            <a:xfrm flipV="1">
              <a:off x="4609800" y="3460320"/>
              <a:ext cx="55080" cy="4568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617800" y="285120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de-DE" sz="2000" spc="-1" strike="noStrike">
                  <a:solidFill>
                    <a:srgbClr val="003366"/>
                  </a:solidFill>
                  <a:latin typeface="Times New Roman"/>
                </a:rPr>
                <a:t>Vc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703480" y="3994200"/>
              <a:ext cx="4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de-DE" sz="2000" spc="-1" strike="noStrike">
                  <a:solidFill>
                    <a:srgbClr val="003366"/>
                  </a:solidFill>
                  <a:latin typeface="Times New Roman"/>
                </a:rPr>
                <a:t>Vt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304880" y="4222800"/>
              <a:ext cx="137124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381200" y="3079800"/>
              <a:ext cx="1371240" cy="0"/>
            </a:xfrm>
            <a:prstGeom prst="line">
              <a:avLst/>
            </a:prstGeom>
            <a:ln cap="rnd" w="936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1638360" y="1251000"/>
            <a:ext cx="2287440" cy="3429000"/>
            <a:chOff x="1638360" y="1251000"/>
            <a:chExt cx="2287440" cy="3429000"/>
          </a:xfrm>
        </p:grpSpPr>
        <p:sp>
          <p:nvSpPr>
            <p:cNvPr id="3071" name=""/>
            <p:cNvSpPr/>
            <p:nvPr/>
          </p:nvSpPr>
          <p:spPr>
            <a:xfrm>
              <a:off x="1638360" y="1251000"/>
              <a:ext cx="2209680" cy="3429000"/>
            </a:xfrm>
            <a:custGeom>
              <a:avLst/>
              <a:gdLst>
                <a:gd name="textAreaLeft" fmla="*/ 107640 w 2209680"/>
                <a:gd name="textAreaRight" fmla="*/ 2102040 w 2209680"/>
                <a:gd name="textAreaTop" fmla="*/ 107640 h 3429000"/>
                <a:gd name="textAreaBottom" fmla="*/ 3321360 h 3429000"/>
              </a:gdLst>
              <a:ahLst/>
              <a:rect l="textAreaLeft" t="textAreaTop" r="textAreaRight" b="textAreaBottom"/>
              <a:pathLst>
                <a:path w="21600" h="33517">
                  <a:moveTo>
                    <a:pt x="3600" y="0"/>
                  </a:moveTo>
                  <a:arcTo wR="3600" hR="3600" stAng="16200000" swAng="-5400000"/>
                  <a:lnTo>
                    <a:pt x="0" y="29917"/>
                  </a:lnTo>
                  <a:arcTo wR="3600" hR="3600" stAng="10800000" swAng="-5400000"/>
                  <a:lnTo>
                    <a:pt x="18000" y="335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072" name=""/>
            <p:cNvGrpSpPr/>
            <p:nvPr/>
          </p:nvGrpSpPr>
          <p:grpSpPr>
            <a:xfrm>
              <a:off x="1790280" y="1631880"/>
              <a:ext cx="2135520" cy="2966760"/>
              <a:chOff x="1790280" y="1631880"/>
              <a:chExt cx="2135520" cy="2966760"/>
            </a:xfrm>
          </p:grpSpPr>
          <p:sp>
            <p:nvSpPr>
              <p:cNvPr id="3073" name=""/>
              <p:cNvSpPr/>
              <p:nvPr/>
            </p:nvSpPr>
            <p:spPr>
              <a:xfrm>
                <a:off x="1790640" y="1631880"/>
                <a:ext cx="0" cy="21337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2553120" y="239400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ou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1866960" y="1860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ou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1790280" y="3537000"/>
                <a:ext cx="83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High/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ullu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2780280" y="2774880"/>
                <a:ext cx="114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Low/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ulldow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1809720" y="2895480"/>
                <a:ext cx="13510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079" name=""/>
              <p:cNvGrpSpPr/>
              <p:nvPr/>
            </p:nvGrpSpPr>
            <p:grpSpPr>
              <a:xfrm>
                <a:off x="1790640" y="2927160"/>
                <a:ext cx="1728720" cy="1671480"/>
                <a:chOff x="1790640" y="2927160"/>
                <a:chExt cx="1728720" cy="1671480"/>
              </a:xfrm>
            </p:grpSpPr>
            <p:sp>
              <p:nvSpPr>
                <p:cNvPr id="3080" name=""/>
                <p:cNvSpPr/>
                <p:nvPr/>
              </p:nvSpPr>
              <p:spPr>
                <a:xfrm flipH="1" flipV="1">
                  <a:off x="3241440" y="4066920"/>
                  <a:ext cx="138240" cy="53172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H="1" flipV="1">
                  <a:off x="2184120" y="3003120"/>
                  <a:ext cx="1067040" cy="106380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H="1">
                  <a:off x="1790640" y="2932200"/>
                  <a:ext cx="2556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 flipV="1">
                  <a:off x="3252600" y="3708000"/>
                  <a:ext cx="266760" cy="8859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flipH="1" flipV="1">
                  <a:off x="2552400" y="2998440"/>
                  <a:ext cx="711360" cy="7095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flipH="1">
                  <a:off x="1866600" y="2927520"/>
                  <a:ext cx="5763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H="1" flipV="1">
                  <a:off x="2427120" y="2927160"/>
                  <a:ext cx="138240" cy="759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 flipH="1" flipV="1">
                  <a:off x="2046240" y="2927160"/>
                  <a:ext cx="137880" cy="759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88" name=""/>
          <p:cNvGrpSpPr/>
          <p:nvPr/>
        </p:nvGrpSpPr>
        <p:grpSpPr>
          <a:xfrm>
            <a:off x="151920" y="3429000"/>
            <a:ext cx="2287800" cy="2792880"/>
            <a:chOff x="151920" y="3429000"/>
            <a:chExt cx="2287800" cy="2792880"/>
          </a:xfrm>
        </p:grpSpPr>
        <p:grpSp>
          <p:nvGrpSpPr>
            <p:cNvPr id="3089" name=""/>
            <p:cNvGrpSpPr/>
            <p:nvPr/>
          </p:nvGrpSpPr>
          <p:grpSpPr>
            <a:xfrm>
              <a:off x="151920" y="4194360"/>
              <a:ext cx="379080" cy="382680"/>
              <a:chOff x="151920" y="4194360"/>
              <a:chExt cx="379080" cy="382680"/>
            </a:xfrm>
          </p:grpSpPr>
          <p:sp>
            <p:nvSpPr>
              <p:cNvPr id="3090" name=""/>
              <p:cNvSpPr/>
              <p:nvPr/>
            </p:nvSpPr>
            <p:spPr>
              <a:xfrm>
                <a:off x="314640" y="4194360"/>
                <a:ext cx="0" cy="3351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314640" y="4194360"/>
                <a:ext cx="162360" cy="1915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14640" y="4385880"/>
                <a:ext cx="216360" cy="1911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H="1">
                <a:off x="151920" y="4385880"/>
                <a:ext cx="1623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094" name=""/>
            <p:cNvSpPr/>
            <p:nvPr/>
          </p:nvSpPr>
          <p:spPr>
            <a:xfrm>
              <a:off x="856080" y="3429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1072080" y="4194360"/>
              <a:ext cx="379080" cy="382680"/>
              <a:chOff x="1072080" y="4194360"/>
              <a:chExt cx="379080" cy="382680"/>
            </a:xfrm>
          </p:grpSpPr>
          <p:sp>
            <p:nvSpPr>
              <p:cNvPr id="3096" name=""/>
              <p:cNvSpPr/>
              <p:nvPr/>
            </p:nvSpPr>
            <p:spPr>
              <a:xfrm>
                <a:off x="1234800" y="4194360"/>
                <a:ext cx="0" cy="3351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1234800" y="4194360"/>
                <a:ext cx="162360" cy="1915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1234800" y="4385880"/>
                <a:ext cx="216360" cy="1911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H="1">
                <a:off x="1072080" y="4385880"/>
                <a:ext cx="16236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100" name=""/>
            <p:cNvSpPr/>
            <p:nvPr/>
          </p:nvSpPr>
          <p:spPr>
            <a:xfrm flipV="1">
              <a:off x="477000" y="3619800"/>
              <a:ext cx="0" cy="57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1397520" y="3619800"/>
              <a:ext cx="0" cy="57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77000" y="3620160"/>
              <a:ext cx="9201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910080" y="3524400"/>
              <a:ext cx="0" cy="95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104" name=""/>
            <p:cNvGrpSpPr/>
            <p:nvPr/>
          </p:nvGrpSpPr>
          <p:grpSpPr>
            <a:xfrm>
              <a:off x="531360" y="4577040"/>
              <a:ext cx="1515600" cy="574560"/>
              <a:chOff x="531360" y="4577040"/>
              <a:chExt cx="1515600" cy="574560"/>
            </a:xfrm>
          </p:grpSpPr>
          <p:sp>
            <p:nvSpPr>
              <p:cNvPr id="3105" name=""/>
              <p:cNvSpPr/>
              <p:nvPr/>
            </p:nvSpPr>
            <p:spPr>
              <a:xfrm flipV="1">
                <a:off x="531360" y="4577040"/>
                <a:ext cx="0" cy="5742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1451520" y="4577400"/>
                <a:ext cx="0" cy="3348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31360" y="5151600"/>
                <a:ext cx="1299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451520" y="4912200"/>
                <a:ext cx="595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1667880" y="5151960"/>
              <a:ext cx="190440" cy="606960"/>
              <a:chOff x="1667880" y="5151960"/>
              <a:chExt cx="190440" cy="606960"/>
            </a:xfrm>
          </p:grpSpPr>
          <p:grpSp>
            <p:nvGrpSpPr>
              <p:cNvPr id="3110" name=""/>
              <p:cNvGrpSpPr/>
              <p:nvPr/>
            </p:nvGrpSpPr>
            <p:grpSpPr>
              <a:xfrm>
                <a:off x="1667880" y="5151960"/>
                <a:ext cx="190440" cy="464400"/>
                <a:chOff x="1667880" y="5151960"/>
                <a:chExt cx="190440" cy="464400"/>
              </a:xfrm>
            </p:grpSpPr>
            <p:grpSp>
              <p:nvGrpSpPr>
                <p:cNvPr id="3111" name=""/>
                <p:cNvGrpSpPr/>
                <p:nvPr/>
              </p:nvGrpSpPr>
              <p:grpSpPr>
                <a:xfrm>
                  <a:off x="1754640" y="5152320"/>
                  <a:ext cx="103680" cy="464040"/>
                  <a:chOff x="1754640" y="5152320"/>
                  <a:chExt cx="103680" cy="464040"/>
                </a:xfrm>
              </p:grpSpPr>
              <p:sp>
                <p:nvSpPr>
                  <p:cNvPr id="3112" name=""/>
                  <p:cNvSpPr/>
                  <p:nvPr/>
                </p:nvSpPr>
                <p:spPr>
                  <a:xfrm flipV="1">
                    <a:off x="1754640" y="5330520"/>
                    <a:ext cx="103680" cy="28584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 flipV="1">
                    <a:off x="1806480" y="5152320"/>
                    <a:ext cx="0" cy="1782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4" name=""/>
                <p:cNvSpPr/>
                <p:nvPr/>
              </p:nvSpPr>
              <p:spPr>
                <a:xfrm flipH="1">
                  <a:off x="1667880" y="5151960"/>
                  <a:ext cx="13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5" name=""/>
              <p:cNvSpPr/>
              <p:nvPr/>
            </p:nvSpPr>
            <p:spPr>
              <a:xfrm flipV="1">
                <a:off x="1771920" y="5686920"/>
                <a:ext cx="69480" cy="7164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1806840" y="5616720"/>
                <a:ext cx="0" cy="70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1938600" y="4912560"/>
              <a:ext cx="190440" cy="606960"/>
              <a:chOff x="1938600" y="4912560"/>
              <a:chExt cx="190440" cy="606960"/>
            </a:xfrm>
          </p:grpSpPr>
          <p:grpSp>
            <p:nvGrpSpPr>
              <p:cNvPr id="3118" name=""/>
              <p:cNvGrpSpPr/>
              <p:nvPr/>
            </p:nvGrpSpPr>
            <p:grpSpPr>
              <a:xfrm>
                <a:off x="1938600" y="4912560"/>
                <a:ext cx="190440" cy="464400"/>
                <a:chOff x="1938600" y="4912560"/>
                <a:chExt cx="190440" cy="464400"/>
              </a:xfrm>
            </p:grpSpPr>
            <p:grpSp>
              <p:nvGrpSpPr>
                <p:cNvPr id="3119" name=""/>
                <p:cNvGrpSpPr/>
                <p:nvPr/>
              </p:nvGrpSpPr>
              <p:grpSpPr>
                <a:xfrm>
                  <a:off x="2025360" y="4912920"/>
                  <a:ext cx="103680" cy="464040"/>
                  <a:chOff x="2025360" y="4912920"/>
                  <a:chExt cx="103680" cy="464040"/>
                </a:xfrm>
              </p:grpSpPr>
              <p:sp>
                <p:nvSpPr>
                  <p:cNvPr id="3120" name=""/>
                  <p:cNvSpPr/>
                  <p:nvPr/>
                </p:nvSpPr>
                <p:spPr>
                  <a:xfrm flipV="1">
                    <a:off x="2025360" y="5091120"/>
                    <a:ext cx="103680" cy="28584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V="1">
                    <a:off x="2077200" y="4912920"/>
                    <a:ext cx="0" cy="1782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2" name=""/>
                <p:cNvSpPr/>
                <p:nvPr/>
              </p:nvSpPr>
              <p:spPr>
                <a:xfrm flipH="1">
                  <a:off x="1938600" y="4912560"/>
                  <a:ext cx="13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3" name=""/>
              <p:cNvSpPr/>
              <p:nvPr/>
            </p:nvSpPr>
            <p:spPr>
              <a:xfrm flipV="1">
                <a:off x="2042640" y="5447520"/>
                <a:ext cx="69480" cy="71640"/>
              </a:xfrm>
              <a:prstGeom prst="ellipse">
                <a:avLst/>
              </a:prstGeom>
              <a:noFill/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2077560" y="5377320"/>
                <a:ext cx="0" cy="70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125" name=""/>
            <p:cNvSpPr/>
            <p:nvPr/>
          </p:nvSpPr>
          <p:spPr>
            <a:xfrm>
              <a:off x="694800" y="366804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c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1451160" y="582300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cc-2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A598E-49D7-4FB2-8C2E-21E11F88E4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Open Sink / Open Drai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2870280" y="3071880"/>
            <a:ext cx="1506960" cy="3258000"/>
            <a:chOff x="2870280" y="3071880"/>
            <a:chExt cx="1506960" cy="3258000"/>
          </a:xfrm>
        </p:grpSpPr>
        <p:grpSp>
          <p:nvGrpSpPr>
            <p:cNvPr id="3129" name=""/>
            <p:cNvGrpSpPr/>
            <p:nvPr/>
          </p:nvGrpSpPr>
          <p:grpSpPr>
            <a:xfrm>
              <a:off x="2971800" y="3071880"/>
              <a:ext cx="1405440" cy="3258000"/>
              <a:chOff x="2971800" y="3071880"/>
              <a:chExt cx="1405440" cy="3258000"/>
            </a:xfrm>
          </p:grpSpPr>
          <p:sp>
            <p:nvSpPr>
              <p:cNvPr id="3130" name=""/>
              <p:cNvSpPr/>
              <p:nvPr/>
            </p:nvSpPr>
            <p:spPr>
              <a:xfrm>
                <a:off x="3049920" y="5931000"/>
                <a:ext cx="62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131" name=""/>
              <p:cNvGrpSpPr/>
              <p:nvPr/>
            </p:nvGrpSpPr>
            <p:grpSpPr>
              <a:xfrm>
                <a:off x="2971800" y="3071880"/>
                <a:ext cx="1405440" cy="2774880"/>
                <a:chOff x="2971800" y="3071880"/>
                <a:chExt cx="1405440" cy="2774880"/>
              </a:xfrm>
            </p:grpSpPr>
            <p:grpSp>
              <p:nvGrpSpPr>
                <p:cNvPr id="3132" name=""/>
                <p:cNvGrpSpPr/>
                <p:nvPr/>
              </p:nvGrpSpPr>
              <p:grpSpPr>
                <a:xfrm>
                  <a:off x="2971800" y="3732120"/>
                  <a:ext cx="291960" cy="973080"/>
                  <a:chOff x="2971800" y="3732120"/>
                  <a:chExt cx="291960" cy="973080"/>
                </a:xfrm>
              </p:grpSpPr>
              <p:sp>
                <p:nvSpPr>
                  <p:cNvPr id="3133" name=""/>
                  <p:cNvSpPr/>
                  <p:nvPr/>
                </p:nvSpPr>
                <p:spPr>
                  <a:xfrm>
                    <a:off x="3166200" y="3861720"/>
                    <a:ext cx="0" cy="19440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>
                    <a:off x="3166200" y="4121280"/>
                    <a:ext cx="0" cy="19440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>
                    <a:off x="3166200" y="4381200"/>
                    <a:ext cx="0" cy="19440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 flipH="1">
                    <a:off x="3166200" y="451080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H="1">
                    <a:off x="3166200" y="392652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3263760" y="3732120"/>
                    <a:ext cx="0" cy="1944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>
                    <a:off x="3263760" y="4510800"/>
                    <a:ext cx="0" cy="1944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>
                    <a:off x="3069000" y="3991680"/>
                    <a:ext cx="0" cy="453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H="1">
                    <a:off x="2971800" y="444564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H="1">
                    <a:off x="3166200" y="425088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3" name=""/>
                <p:cNvGrpSpPr/>
                <p:nvPr/>
              </p:nvGrpSpPr>
              <p:grpSpPr>
                <a:xfrm>
                  <a:off x="2971800" y="4705560"/>
                  <a:ext cx="291960" cy="974160"/>
                  <a:chOff x="2971800" y="4705560"/>
                  <a:chExt cx="291960" cy="974160"/>
                </a:xfrm>
              </p:grpSpPr>
              <p:sp>
                <p:nvSpPr>
                  <p:cNvPr id="3144" name=""/>
                  <p:cNvSpPr/>
                  <p:nvPr/>
                </p:nvSpPr>
                <p:spPr>
                  <a:xfrm>
                    <a:off x="3166200" y="4835160"/>
                    <a:ext cx="0" cy="1947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3166200" y="5095080"/>
                    <a:ext cx="0" cy="1947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3166200" y="5355360"/>
                    <a:ext cx="0" cy="1947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H="1">
                    <a:off x="3166200" y="548496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flipH="1">
                    <a:off x="3166200" y="490032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>
                    <a:off x="3263760" y="4705560"/>
                    <a:ext cx="0" cy="1947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3263760" y="5484960"/>
                    <a:ext cx="0" cy="1947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>
                    <a:off x="3069000" y="4965480"/>
                    <a:ext cx="0" cy="4543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H="1">
                    <a:off x="2971800" y="541980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H="1">
                    <a:off x="3166200" y="522504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4" name=""/>
                <p:cNvSpPr/>
                <p:nvPr/>
              </p:nvSpPr>
              <p:spPr>
                <a:xfrm>
                  <a:off x="3313080" y="4707000"/>
                  <a:ext cx="48564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3458880" y="3927600"/>
                  <a:ext cx="0" cy="519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3458880" y="4446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3458880" y="4965840"/>
                  <a:ext cx="0" cy="519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3458880" y="4965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3593160" y="3816360"/>
                  <a:ext cx="784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I high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593880" y="5116680"/>
                  <a:ext cx="712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I low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3214440" y="4641840"/>
                  <a:ext cx="98640" cy="128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3205080" y="5651640"/>
                  <a:ext cx="145800" cy="19512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3205080" y="3506760"/>
                  <a:ext cx="145800" cy="19548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3099960" y="3071880"/>
                  <a:ext cx="59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5" name=""/>
            <p:cNvSpPr/>
            <p:nvPr/>
          </p:nvSpPr>
          <p:spPr>
            <a:xfrm>
              <a:off x="2870280" y="3884760"/>
              <a:ext cx="609480" cy="60948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66" name=""/>
          <p:cNvGrpSpPr/>
          <p:nvPr/>
        </p:nvGrpSpPr>
        <p:grpSpPr>
          <a:xfrm>
            <a:off x="5257800" y="1031760"/>
            <a:ext cx="3505320" cy="2075400"/>
            <a:chOff x="5257800" y="1031760"/>
            <a:chExt cx="3505320" cy="2075400"/>
          </a:xfrm>
        </p:grpSpPr>
        <p:sp>
          <p:nvSpPr>
            <p:cNvPr id="3167" name=""/>
            <p:cNvSpPr/>
            <p:nvPr/>
          </p:nvSpPr>
          <p:spPr>
            <a:xfrm>
              <a:off x="5257800" y="1319040"/>
              <a:ext cx="3505320" cy="1752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5335200" y="1031760"/>
              <a:ext cx="1546560" cy="2075400"/>
              <a:chOff x="5335200" y="1031760"/>
              <a:chExt cx="1546560" cy="2075400"/>
            </a:xfrm>
          </p:grpSpPr>
          <p:grpSp>
            <p:nvGrpSpPr>
              <p:cNvPr id="3169" name=""/>
              <p:cNvGrpSpPr/>
              <p:nvPr/>
            </p:nvGrpSpPr>
            <p:grpSpPr>
              <a:xfrm>
                <a:off x="5779440" y="1912320"/>
                <a:ext cx="831240" cy="719640"/>
                <a:chOff x="5779440" y="1912320"/>
                <a:chExt cx="831240" cy="719640"/>
              </a:xfrm>
            </p:grpSpPr>
            <p:sp>
              <p:nvSpPr>
                <p:cNvPr id="3170" name=""/>
                <p:cNvSpPr/>
                <p:nvPr/>
              </p:nvSpPr>
              <p:spPr>
                <a:xfrm>
                  <a:off x="5796000" y="263196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6404760" y="191268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2" name=""/>
                <p:cNvGrpSpPr/>
                <p:nvPr/>
              </p:nvGrpSpPr>
              <p:grpSpPr>
                <a:xfrm>
                  <a:off x="5779440" y="1912320"/>
                  <a:ext cx="831240" cy="718560"/>
                  <a:chOff x="5779440" y="1912320"/>
                  <a:chExt cx="831240" cy="718560"/>
                </a:xfrm>
              </p:grpSpPr>
              <p:sp>
                <p:nvSpPr>
                  <p:cNvPr id="3173" name=""/>
                  <p:cNvSpPr/>
                  <p:nvPr/>
                </p:nvSpPr>
                <p:spPr>
                  <a:xfrm flipV="1">
                    <a:off x="5779440" y="1911960"/>
                    <a:ext cx="41616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V="1" rot="10800000">
                    <a:off x="6195960" y="1912320"/>
                    <a:ext cx="41472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75" name=""/>
              <p:cNvGrpSpPr/>
              <p:nvPr/>
            </p:nvGrpSpPr>
            <p:grpSpPr>
              <a:xfrm>
                <a:off x="5335200" y="1031760"/>
                <a:ext cx="1468800" cy="1937160"/>
                <a:chOff x="5335200" y="1031760"/>
                <a:chExt cx="1468800" cy="1937160"/>
              </a:xfrm>
            </p:grpSpPr>
            <p:grpSp>
              <p:nvGrpSpPr>
                <p:cNvPr id="3176" name=""/>
                <p:cNvGrpSpPr/>
                <p:nvPr/>
              </p:nvGrpSpPr>
              <p:grpSpPr>
                <a:xfrm>
                  <a:off x="5335200" y="1031760"/>
                  <a:ext cx="1468800" cy="1937160"/>
                  <a:chOff x="5335200" y="1031760"/>
                  <a:chExt cx="1468800" cy="1937160"/>
                </a:xfrm>
              </p:grpSpPr>
              <p:sp>
                <p:nvSpPr>
                  <p:cNvPr id="3177" name=""/>
                  <p:cNvSpPr/>
                  <p:nvPr/>
                </p:nvSpPr>
                <p:spPr>
                  <a:xfrm>
                    <a:off x="5796000" y="1403280"/>
                    <a:ext cx="0" cy="12636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5761080" y="261936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5761080" y="187164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5694480" y="1031760"/>
                    <a:ext cx="1839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5335200" y="174780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5411160" y="257004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3" name=""/>
                <p:cNvGrpSpPr/>
                <p:nvPr/>
              </p:nvGrpSpPr>
              <p:grpSpPr>
                <a:xfrm>
                  <a:off x="5774760" y="1899720"/>
                  <a:ext cx="831240" cy="719640"/>
                  <a:chOff x="5774760" y="1899720"/>
                  <a:chExt cx="831240" cy="719640"/>
                </a:xfrm>
              </p:grpSpPr>
              <p:sp>
                <p:nvSpPr>
                  <p:cNvPr id="3184" name=""/>
                  <p:cNvSpPr/>
                  <p:nvPr/>
                </p:nvSpPr>
                <p:spPr>
                  <a:xfrm>
                    <a:off x="5791320" y="2619360"/>
                    <a:ext cx="173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>
                    <a:off x="6400080" y="1900080"/>
                    <a:ext cx="173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6" name=""/>
                  <p:cNvGrpSpPr/>
                  <p:nvPr/>
                </p:nvGrpSpPr>
                <p:grpSpPr>
                  <a:xfrm>
                    <a:off x="5774760" y="1899720"/>
                    <a:ext cx="831240" cy="718560"/>
                    <a:chOff x="5774760" y="1899720"/>
                    <a:chExt cx="831240" cy="718560"/>
                  </a:xfrm>
                </p:grpSpPr>
                <p:sp>
                  <p:nvSpPr>
                    <p:cNvPr id="3187" name=""/>
                    <p:cNvSpPr/>
                    <p:nvPr/>
                  </p:nvSpPr>
                  <p:spPr>
                    <a:xfrm flipV="1">
                      <a:off x="5774760" y="1899360"/>
                      <a:ext cx="41616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8" name=""/>
                    <p:cNvSpPr/>
                    <p:nvPr/>
                  </p:nvSpPr>
                  <p:spPr>
                    <a:xfrm flipV="1" rot="10800000">
                      <a:off x="6191280" y="1899720"/>
                      <a:ext cx="41472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189" name=""/>
              <p:cNvSpPr/>
              <p:nvPr/>
            </p:nvSpPr>
            <p:spPr>
              <a:xfrm>
                <a:off x="5411160" y="1260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630840" y="2708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191" name=""/>
            <p:cNvGrpSpPr/>
            <p:nvPr/>
          </p:nvGrpSpPr>
          <p:grpSpPr>
            <a:xfrm>
              <a:off x="7011360" y="1031760"/>
              <a:ext cx="1546920" cy="2075400"/>
              <a:chOff x="7011360" y="1031760"/>
              <a:chExt cx="1546920" cy="2075400"/>
            </a:xfrm>
          </p:grpSpPr>
          <p:grpSp>
            <p:nvGrpSpPr>
              <p:cNvPr id="3192" name=""/>
              <p:cNvGrpSpPr/>
              <p:nvPr/>
            </p:nvGrpSpPr>
            <p:grpSpPr>
              <a:xfrm>
                <a:off x="7011360" y="1031760"/>
                <a:ext cx="1468800" cy="1937160"/>
                <a:chOff x="7011360" y="1031760"/>
                <a:chExt cx="1468800" cy="193716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7472160" y="1403280"/>
                  <a:ext cx="0" cy="126360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7437240" y="2619360"/>
                  <a:ext cx="1042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7437240" y="18716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7370640" y="1031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7011360" y="1747800"/>
                  <a:ext cx="49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1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7087320" y="2570040"/>
                  <a:ext cx="73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9" name=""/>
              <p:cNvGrpSpPr/>
              <p:nvPr/>
            </p:nvGrpSpPr>
            <p:grpSpPr>
              <a:xfrm>
                <a:off x="7087680" y="1260360"/>
                <a:ext cx="1470600" cy="1846800"/>
                <a:chOff x="7087680" y="1260360"/>
                <a:chExt cx="1470600" cy="1846800"/>
              </a:xfrm>
            </p:grpSpPr>
            <p:grpSp>
              <p:nvGrpSpPr>
                <p:cNvPr id="3200" name=""/>
                <p:cNvGrpSpPr/>
                <p:nvPr/>
              </p:nvGrpSpPr>
              <p:grpSpPr>
                <a:xfrm>
                  <a:off x="7446240" y="1869480"/>
                  <a:ext cx="554040" cy="719640"/>
                  <a:chOff x="7446240" y="1869480"/>
                  <a:chExt cx="554040" cy="719640"/>
                </a:xfrm>
              </p:grpSpPr>
              <p:sp>
                <p:nvSpPr>
                  <p:cNvPr id="3201" name=""/>
                  <p:cNvSpPr/>
                  <p:nvPr/>
                </p:nvSpPr>
                <p:spPr>
                  <a:xfrm>
                    <a:off x="7873560" y="2589120"/>
                    <a:ext cx="1159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2" name=""/>
                  <p:cNvGrpSpPr/>
                  <p:nvPr/>
                </p:nvGrpSpPr>
                <p:grpSpPr>
                  <a:xfrm>
                    <a:off x="7446240" y="1869480"/>
                    <a:ext cx="554040" cy="718560"/>
                    <a:chOff x="7446240" y="1869480"/>
                    <a:chExt cx="554040" cy="718560"/>
                  </a:xfrm>
                </p:grpSpPr>
                <p:sp>
                  <p:nvSpPr>
                    <p:cNvPr id="3203" name=""/>
                    <p:cNvSpPr/>
                    <p:nvPr/>
                  </p:nvSpPr>
                  <p:spPr>
                    <a:xfrm flipH="1" flipV="1">
                      <a:off x="7723080" y="1869120"/>
                      <a:ext cx="27720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4" name=""/>
                    <p:cNvSpPr/>
                    <p:nvPr/>
                  </p:nvSpPr>
                  <p:spPr>
                    <a:xfrm flipH="1" flipV="1" rot="10800000">
                      <a:off x="7446240" y="1869480"/>
                      <a:ext cx="27648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5" name=""/>
                  <p:cNvSpPr/>
                  <p:nvPr/>
                </p:nvSpPr>
                <p:spPr>
                  <a:xfrm>
                    <a:off x="7467480" y="1869840"/>
                    <a:ext cx="1159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6" name=""/>
                <p:cNvSpPr/>
                <p:nvPr/>
              </p:nvSpPr>
              <p:spPr>
                <a:xfrm>
                  <a:off x="7087680" y="1260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8307360" y="270828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08" name=""/>
            <p:cNvSpPr/>
            <p:nvPr/>
          </p:nvSpPr>
          <p:spPr>
            <a:xfrm>
              <a:off x="5867280" y="1928520"/>
              <a:ext cx="609840" cy="60948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391520" y="1928520"/>
              <a:ext cx="609480" cy="60948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355680" y="3300480"/>
            <a:ext cx="2375640" cy="2989800"/>
            <a:chOff x="355680" y="3300480"/>
            <a:chExt cx="2375640" cy="2989800"/>
          </a:xfrm>
        </p:grpSpPr>
        <p:sp>
          <p:nvSpPr>
            <p:cNvPr id="3211" name=""/>
            <p:cNvSpPr/>
            <p:nvPr/>
          </p:nvSpPr>
          <p:spPr>
            <a:xfrm>
              <a:off x="355680" y="3352680"/>
              <a:ext cx="2324160" cy="2855880"/>
            </a:xfrm>
            <a:custGeom>
              <a:avLst/>
              <a:gdLst>
                <a:gd name="textAreaLeft" fmla="*/ 113400 w 2324160"/>
                <a:gd name="textAreaRight" fmla="*/ 2210760 w 2324160"/>
                <a:gd name="textAreaTop" fmla="*/ 113400 h 2855880"/>
                <a:gd name="textAreaBottom" fmla="*/ 2742480 h 2855880"/>
              </a:gdLst>
              <a:ahLst/>
              <a:rect l="textAreaLeft" t="textAreaTop" r="textAreaRight" b="textAreaBottom"/>
              <a:pathLst>
                <a:path w="21600" h="26541">
                  <a:moveTo>
                    <a:pt x="3600" y="0"/>
                  </a:moveTo>
                  <a:arcTo wR="3600" hR="3600" stAng="16200000" swAng="-5400000"/>
                  <a:lnTo>
                    <a:pt x="0" y="22941"/>
                  </a:lnTo>
                  <a:arcTo wR="3600" hR="3600" stAng="10800000" swAng="-5400000"/>
                  <a:lnTo>
                    <a:pt x="18000" y="265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212" name=""/>
            <p:cNvGrpSpPr/>
            <p:nvPr/>
          </p:nvGrpSpPr>
          <p:grpSpPr>
            <a:xfrm>
              <a:off x="380880" y="3300480"/>
              <a:ext cx="2350440" cy="2989800"/>
              <a:chOff x="380880" y="3300480"/>
              <a:chExt cx="2350440" cy="2989800"/>
            </a:xfrm>
          </p:grpSpPr>
          <p:grpSp>
            <p:nvGrpSpPr>
              <p:cNvPr id="3213" name=""/>
              <p:cNvGrpSpPr/>
              <p:nvPr/>
            </p:nvGrpSpPr>
            <p:grpSpPr>
              <a:xfrm>
                <a:off x="380880" y="3300480"/>
                <a:ext cx="2350440" cy="2989800"/>
                <a:chOff x="380880" y="3300480"/>
                <a:chExt cx="2350440" cy="298980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973080" y="3605040"/>
                  <a:ext cx="0" cy="21337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905040" y="4869000"/>
                  <a:ext cx="1608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2040120" y="4367160"/>
                  <a:ext cx="69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ou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380880" y="3833640"/>
                  <a:ext cx="59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Iou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8" name=""/>
                <p:cNvGrpSpPr/>
                <p:nvPr/>
              </p:nvGrpSpPr>
              <p:grpSpPr>
                <a:xfrm>
                  <a:off x="954000" y="3763800"/>
                  <a:ext cx="1460520" cy="1168200"/>
                  <a:chOff x="954000" y="3763800"/>
                  <a:chExt cx="1460520" cy="1168200"/>
                </a:xfrm>
              </p:grpSpPr>
              <p:sp>
                <p:nvSpPr>
                  <p:cNvPr id="3219" name=""/>
                  <p:cNvSpPr/>
                  <p:nvPr/>
                </p:nvSpPr>
                <p:spPr>
                  <a:xfrm flipV="1">
                    <a:off x="954000" y="4478040"/>
                    <a:ext cx="243000" cy="45396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 flipV="1">
                    <a:off x="1197000" y="4152960"/>
                    <a:ext cx="244440" cy="32544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 flipV="1">
                    <a:off x="1441440" y="3893760"/>
                    <a:ext cx="388800" cy="25884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 flipV="1">
                    <a:off x="1830240" y="3763800"/>
                    <a:ext cx="584280" cy="13032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3" name=""/>
                <p:cNvGrpSpPr/>
                <p:nvPr/>
              </p:nvGrpSpPr>
              <p:grpSpPr>
                <a:xfrm>
                  <a:off x="954000" y="4869000"/>
                  <a:ext cx="1413000" cy="777600"/>
                  <a:chOff x="954000" y="4869000"/>
                  <a:chExt cx="1413000" cy="777600"/>
                </a:xfrm>
              </p:grpSpPr>
              <p:sp>
                <p:nvSpPr>
                  <p:cNvPr id="3224" name=""/>
                  <p:cNvSpPr/>
                  <p:nvPr/>
                </p:nvSpPr>
                <p:spPr>
                  <a:xfrm>
                    <a:off x="954000" y="4869000"/>
                    <a:ext cx="49320" cy="19332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1002960" y="5062320"/>
                    <a:ext cx="195120" cy="32508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1198080" y="5387760"/>
                    <a:ext cx="341280" cy="19512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1539720" y="5583240"/>
                    <a:ext cx="535320" cy="6300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2075040" y="5646600"/>
                    <a:ext cx="29196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9" name=""/>
                <p:cNvSpPr/>
                <p:nvPr/>
              </p:nvSpPr>
              <p:spPr>
                <a:xfrm>
                  <a:off x="972720" y="5586480"/>
                  <a:ext cx="8330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High/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pullup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972000" y="3300480"/>
                  <a:ext cx="11455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Low/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pulldown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1" name=""/>
              <p:cNvSpPr/>
              <p:nvPr/>
            </p:nvSpPr>
            <p:spPr>
              <a:xfrm>
                <a:off x="1353960" y="5281560"/>
                <a:ext cx="60984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973080" y="4900680"/>
                <a:ext cx="1447920" cy="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3" name=""/>
          <p:cNvGrpSpPr/>
          <p:nvPr/>
        </p:nvGrpSpPr>
        <p:grpSpPr>
          <a:xfrm>
            <a:off x="685800" y="1166760"/>
            <a:ext cx="3505320" cy="1940400"/>
            <a:chOff x="685800" y="1166760"/>
            <a:chExt cx="3505320" cy="1940400"/>
          </a:xfrm>
        </p:grpSpPr>
        <p:sp>
          <p:nvSpPr>
            <p:cNvPr id="3234" name=""/>
            <p:cNvSpPr/>
            <p:nvPr/>
          </p:nvSpPr>
          <p:spPr>
            <a:xfrm>
              <a:off x="685800" y="1319040"/>
              <a:ext cx="3505320" cy="175212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235" name=""/>
            <p:cNvGrpSpPr/>
            <p:nvPr/>
          </p:nvGrpSpPr>
          <p:grpSpPr>
            <a:xfrm>
              <a:off x="763200" y="1166760"/>
              <a:ext cx="1546560" cy="1940400"/>
              <a:chOff x="763200" y="1166760"/>
              <a:chExt cx="1546560" cy="1940400"/>
            </a:xfrm>
          </p:grpSpPr>
          <p:grpSp>
            <p:nvGrpSpPr>
              <p:cNvPr id="3236" name=""/>
              <p:cNvGrpSpPr/>
              <p:nvPr/>
            </p:nvGrpSpPr>
            <p:grpSpPr>
              <a:xfrm>
                <a:off x="1191240" y="1640880"/>
                <a:ext cx="831240" cy="719640"/>
                <a:chOff x="1191240" y="1640880"/>
                <a:chExt cx="831240" cy="719640"/>
              </a:xfrm>
            </p:grpSpPr>
            <p:sp>
              <p:nvSpPr>
                <p:cNvPr id="3237" name=""/>
                <p:cNvSpPr/>
                <p:nvPr/>
              </p:nvSpPr>
              <p:spPr>
                <a:xfrm>
                  <a:off x="1832760" y="236052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8" name=""/>
                <p:cNvGrpSpPr/>
                <p:nvPr/>
              </p:nvGrpSpPr>
              <p:grpSpPr>
                <a:xfrm>
                  <a:off x="1191240" y="1640880"/>
                  <a:ext cx="831240" cy="718560"/>
                  <a:chOff x="1191240" y="1640880"/>
                  <a:chExt cx="831240" cy="718560"/>
                </a:xfrm>
              </p:grpSpPr>
              <p:sp>
                <p:nvSpPr>
                  <p:cNvPr id="3239" name=""/>
                  <p:cNvSpPr/>
                  <p:nvPr/>
                </p:nvSpPr>
                <p:spPr>
                  <a:xfrm flipH="1" flipV="1">
                    <a:off x="1606320" y="1640520"/>
                    <a:ext cx="41616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H="1" flipV="1" rot="10800000">
                    <a:off x="1191240" y="1640880"/>
                    <a:ext cx="41472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1" name=""/>
                <p:cNvSpPr/>
                <p:nvPr/>
              </p:nvSpPr>
              <p:spPr>
                <a:xfrm>
                  <a:off x="1224000" y="164124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2" name=""/>
              <p:cNvGrpSpPr/>
              <p:nvPr/>
            </p:nvGrpSpPr>
            <p:grpSpPr>
              <a:xfrm>
                <a:off x="763200" y="1166760"/>
                <a:ext cx="1462320" cy="1541520"/>
                <a:chOff x="763200" y="1166760"/>
                <a:chExt cx="1462320" cy="1541520"/>
              </a:xfrm>
            </p:grpSpPr>
            <p:grpSp>
              <p:nvGrpSpPr>
                <p:cNvPr id="3243" name=""/>
                <p:cNvGrpSpPr/>
                <p:nvPr/>
              </p:nvGrpSpPr>
              <p:grpSpPr>
                <a:xfrm>
                  <a:off x="1193040" y="1623600"/>
                  <a:ext cx="830160" cy="719640"/>
                  <a:chOff x="1193040" y="1623600"/>
                  <a:chExt cx="830160" cy="719640"/>
                </a:xfrm>
              </p:grpSpPr>
              <p:sp>
                <p:nvSpPr>
                  <p:cNvPr id="3244" name=""/>
                  <p:cNvSpPr/>
                  <p:nvPr/>
                </p:nvSpPr>
                <p:spPr>
                  <a:xfrm flipH="1">
                    <a:off x="1833480" y="2343240"/>
                    <a:ext cx="1731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 flipH="1">
                    <a:off x="1225800" y="1623960"/>
                    <a:ext cx="1731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46" name=""/>
                  <p:cNvGrpSpPr/>
                  <p:nvPr/>
                </p:nvGrpSpPr>
                <p:grpSpPr>
                  <a:xfrm>
                    <a:off x="1193040" y="1623600"/>
                    <a:ext cx="830160" cy="718560"/>
                    <a:chOff x="1193040" y="1623600"/>
                    <a:chExt cx="830160" cy="718560"/>
                  </a:xfrm>
                </p:grpSpPr>
                <p:sp>
                  <p:nvSpPr>
                    <p:cNvPr id="3247" name=""/>
                    <p:cNvSpPr/>
                    <p:nvPr/>
                  </p:nvSpPr>
                  <p:spPr>
                    <a:xfrm flipH="1" flipV="1">
                      <a:off x="1607760" y="1623240"/>
                      <a:ext cx="41544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8" name=""/>
                    <p:cNvSpPr/>
                    <p:nvPr/>
                  </p:nvSpPr>
                  <p:spPr>
                    <a:xfrm flipH="1" flipV="1" rot="10800000">
                      <a:off x="1193040" y="1623600"/>
                      <a:ext cx="41400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49" name=""/>
                <p:cNvGrpSpPr/>
                <p:nvPr/>
              </p:nvGrpSpPr>
              <p:grpSpPr>
                <a:xfrm>
                  <a:off x="763200" y="1166760"/>
                  <a:ext cx="1462320" cy="1541520"/>
                  <a:chOff x="763200" y="1166760"/>
                  <a:chExt cx="1462320" cy="1541520"/>
                </a:xfrm>
              </p:grpSpPr>
              <p:sp>
                <p:nvSpPr>
                  <p:cNvPr id="3250" name=""/>
                  <p:cNvSpPr/>
                  <p:nvPr/>
                </p:nvSpPr>
                <p:spPr>
                  <a:xfrm>
                    <a:off x="1216080" y="1446120"/>
                    <a:ext cx="0" cy="12621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1182600" y="266076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1182600" y="238140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1149480" y="1631880"/>
                    <a:ext cx="997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>
                    <a:off x="1116000" y="1166760"/>
                    <a:ext cx="184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>
                    <a:off x="763560" y="154800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763200" y="223380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57" name=""/>
              <p:cNvSpPr/>
              <p:nvPr/>
            </p:nvSpPr>
            <p:spPr>
              <a:xfrm>
                <a:off x="2058840" y="2708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39160" y="1184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2439720" y="1166760"/>
              <a:ext cx="1546920" cy="1940400"/>
              <a:chOff x="2439720" y="1166760"/>
              <a:chExt cx="1546920" cy="1940400"/>
            </a:xfrm>
          </p:grpSpPr>
          <p:grpSp>
            <p:nvGrpSpPr>
              <p:cNvPr id="3260" name=""/>
              <p:cNvGrpSpPr/>
              <p:nvPr/>
            </p:nvGrpSpPr>
            <p:grpSpPr>
              <a:xfrm>
                <a:off x="2891520" y="1640880"/>
                <a:ext cx="551880" cy="719640"/>
                <a:chOff x="2891520" y="1640880"/>
                <a:chExt cx="551880" cy="719640"/>
              </a:xfrm>
            </p:grpSpPr>
            <p:sp>
              <p:nvSpPr>
                <p:cNvPr id="3261" name=""/>
                <p:cNvSpPr/>
                <p:nvPr/>
              </p:nvSpPr>
              <p:spPr>
                <a:xfrm>
                  <a:off x="2902320" y="2360520"/>
                  <a:ext cx="115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3307320" y="1641240"/>
                  <a:ext cx="115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3" name=""/>
                <p:cNvGrpSpPr/>
                <p:nvPr/>
              </p:nvGrpSpPr>
              <p:grpSpPr>
                <a:xfrm>
                  <a:off x="2891520" y="1640880"/>
                  <a:ext cx="551880" cy="718560"/>
                  <a:chOff x="2891520" y="1640880"/>
                  <a:chExt cx="551880" cy="718560"/>
                </a:xfrm>
              </p:grpSpPr>
              <p:sp>
                <p:nvSpPr>
                  <p:cNvPr id="3264" name=""/>
                  <p:cNvSpPr/>
                  <p:nvPr/>
                </p:nvSpPr>
                <p:spPr>
                  <a:xfrm flipV="1">
                    <a:off x="2891520" y="1640520"/>
                    <a:ext cx="27648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V="1" rot="10800000">
                    <a:off x="3168360" y="1640880"/>
                    <a:ext cx="27504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6" name=""/>
              <p:cNvGrpSpPr/>
              <p:nvPr/>
            </p:nvGrpSpPr>
            <p:grpSpPr>
              <a:xfrm>
                <a:off x="2439720" y="1166760"/>
                <a:ext cx="1462320" cy="1541520"/>
                <a:chOff x="2439720" y="1166760"/>
                <a:chExt cx="1462320" cy="1541520"/>
              </a:xfrm>
            </p:grpSpPr>
            <p:sp>
              <p:nvSpPr>
                <p:cNvPr id="3267" name=""/>
                <p:cNvSpPr/>
                <p:nvPr/>
              </p:nvSpPr>
              <p:spPr>
                <a:xfrm>
                  <a:off x="2892600" y="1446120"/>
                  <a:ext cx="0" cy="1262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2859120" y="2660760"/>
                  <a:ext cx="1042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2859120" y="238140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2826000" y="1631880"/>
                  <a:ext cx="99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2792520" y="116676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2440080" y="1548000"/>
                  <a:ext cx="59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2439720" y="2233800"/>
                  <a:ext cx="49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2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4" name=""/>
              <p:cNvSpPr/>
              <p:nvPr/>
            </p:nvSpPr>
            <p:spPr>
              <a:xfrm>
                <a:off x="3735720" y="2708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516040" y="1184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276" name=""/>
            <p:cNvSpPr/>
            <p:nvPr/>
          </p:nvSpPr>
          <p:spPr>
            <a:xfrm>
              <a:off x="1600200" y="1852200"/>
              <a:ext cx="7632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3124080" y="1852200"/>
              <a:ext cx="7596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8" name=""/>
          <p:cNvGrpSpPr/>
          <p:nvPr/>
        </p:nvGrpSpPr>
        <p:grpSpPr>
          <a:xfrm>
            <a:off x="4927680" y="3452760"/>
            <a:ext cx="4215600" cy="2361960"/>
            <a:chOff x="4927680" y="3452760"/>
            <a:chExt cx="4215600" cy="2361960"/>
          </a:xfrm>
        </p:grpSpPr>
        <p:grpSp>
          <p:nvGrpSpPr>
            <p:cNvPr id="3279" name=""/>
            <p:cNvGrpSpPr/>
            <p:nvPr/>
          </p:nvGrpSpPr>
          <p:grpSpPr>
            <a:xfrm>
              <a:off x="4927680" y="3452760"/>
              <a:ext cx="4215600" cy="2361960"/>
              <a:chOff x="4927680" y="3452760"/>
              <a:chExt cx="4215600" cy="2361960"/>
            </a:xfrm>
          </p:grpSpPr>
          <p:grpSp>
            <p:nvGrpSpPr>
              <p:cNvPr id="3280" name=""/>
              <p:cNvGrpSpPr/>
              <p:nvPr/>
            </p:nvGrpSpPr>
            <p:grpSpPr>
              <a:xfrm>
                <a:off x="7842240" y="4100400"/>
                <a:ext cx="719280" cy="1104840"/>
                <a:chOff x="7842240" y="4100400"/>
                <a:chExt cx="719280" cy="110484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7842240" y="4100400"/>
                  <a:ext cx="719280" cy="49536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is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Vcc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7842240" y="4709880"/>
                  <a:ext cx="719280" cy="495360"/>
                </a:xfrm>
                <a:prstGeom prst="rect">
                  <a:avLst/>
                </a:prstGeom>
                <a:solidFill>
                  <a:srgbClr val="ff00ff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Fall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Gnd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7842240" y="3566880"/>
                <a:ext cx="719280" cy="2190960"/>
                <a:chOff x="7842240" y="3566880"/>
                <a:chExt cx="719280" cy="219096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7842240" y="3566880"/>
                  <a:ext cx="719280" cy="495360"/>
                </a:xfrm>
                <a:prstGeom prst="rect">
                  <a:avLst/>
                </a:prstGeom>
                <a:solidFill>
                  <a:srgbClr val="ff33cc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is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Gnd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7842240" y="5262480"/>
                  <a:ext cx="719280" cy="49536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Fall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Vcc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6402240" y="3948120"/>
                <a:ext cx="1338120" cy="1371600"/>
                <a:chOff x="6402240" y="3948120"/>
                <a:chExt cx="1338120" cy="137160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7073640" y="3948120"/>
                  <a:ext cx="666720" cy="49500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a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ise Vcc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7073640" y="4824360"/>
                  <a:ext cx="666720" cy="49536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amp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fall Vcc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6402240" y="3948120"/>
                  <a:ext cx="647640" cy="49500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ullu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402240" y="4824360"/>
                  <a:ext cx="647640" cy="49536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ulldown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1" name=""/>
              <p:cNvGrpSpPr/>
              <p:nvPr/>
            </p:nvGrpSpPr>
            <p:grpSpPr>
              <a:xfrm>
                <a:off x="4927680" y="3948120"/>
                <a:ext cx="1445760" cy="1371600"/>
                <a:chOff x="4927680" y="3948120"/>
                <a:chExt cx="1445760" cy="1371600"/>
              </a:xfrm>
            </p:grpSpPr>
            <p:sp>
              <p:nvSpPr>
                <p:cNvPr id="3292" name=""/>
                <p:cNvSpPr/>
                <p:nvPr/>
              </p:nvSpPr>
              <p:spPr>
                <a:xfrm>
                  <a:off x="5883120" y="3948120"/>
                  <a:ext cx="490320" cy="4950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ower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cla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5883120" y="4824360"/>
                  <a:ext cx="490320" cy="49536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Gnd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cla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4927680" y="4367160"/>
                  <a:ext cx="900000" cy="6476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Threshold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Over-under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C_co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5848200" y="4443120"/>
                <a:ext cx="1595160" cy="381240"/>
                <a:chOff x="5848200" y="4443120"/>
                <a:chExt cx="1595160" cy="38124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5848200" y="4633560"/>
                  <a:ext cx="15778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6759720" y="4443120"/>
                  <a:ext cx="360" cy="381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7408440" y="4614480"/>
                  <a:ext cx="3492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6145920" y="4614480"/>
                  <a:ext cx="3420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6742080" y="4614480"/>
                  <a:ext cx="3420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6163560" y="4443120"/>
                  <a:ext cx="360" cy="381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7426080" y="4443120"/>
                  <a:ext cx="360" cy="3812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3" name=""/>
              <p:cNvGrpSpPr/>
              <p:nvPr/>
            </p:nvGrpSpPr>
            <p:grpSpPr>
              <a:xfrm>
                <a:off x="6162840" y="3452760"/>
                <a:ext cx="2980440" cy="2361960"/>
                <a:chOff x="6162840" y="3452760"/>
                <a:chExt cx="2980440" cy="2361960"/>
              </a:xfrm>
            </p:grpSpPr>
            <p:grpSp>
              <p:nvGrpSpPr>
                <p:cNvPr id="3304" name=""/>
                <p:cNvGrpSpPr/>
                <p:nvPr/>
              </p:nvGrpSpPr>
              <p:grpSpPr>
                <a:xfrm>
                  <a:off x="8601120" y="4519440"/>
                  <a:ext cx="542160" cy="228600"/>
                  <a:chOff x="8601120" y="4519440"/>
                  <a:chExt cx="542160" cy="228600"/>
                </a:xfrm>
              </p:grpSpPr>
              <p:sp>
                <p:nvSpPr>
                  <p:cNvPr id="3305" name=""/>
                  <p:cNvSpPr/>
                  <p:nvPr/>
                </p:nvSpPr>
                <p:spPr>
                  <a:xfrm>
                    <a:off x="8618400" y="463356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8601120" y="4614840"/>
                    <a:ext cx="3456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8723520" y="4519440"/>
                    <a:ext cx="280080" cy="2286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pkg</a:t>
                    </a:r>
                    <a:endParaRPr b="0" lang="en-US" sz="1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9038520" y="4576680"/>
                    <a:ext cx="104760" cy="1141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9" name=""/>
                <p:cNvGrpSpPr/>
                <p:nvPr/>
              </p:nvGrpSpPr>
              <p:grpSpPr>
                <a:xfrm>
                  <a:off x="6162840" y="3452760"/>
                  <a:ext cx="526320" cy="495000"/>
                  <a:chOff x="6162840" y="3452760"/>
                  <a:chExt cx="526320" cy="495000"/>
                </a:xfrm>
              </p:grpSpPr>
              <p:sp>
                <p:nvSpPr>
                  <p:cNvPr id="3310" name=""/>
                  <p:cNvSpPr/>
                  <p:nvPr/>
                </p:nvSpPr>
                <p:spPr>
                  <a:xfrm>
                    <a:off x="6408000" y="3833640"/>
                    <a:ext cx="0" cy="381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6162840" y="387180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6688800" y="3871800"/>
                    <a:ext cx="36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6162840" y="3871800"/>
                    <a:ext cx="5259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6267960" y="3605040"/>
                    <a:ext cx="280440" cy="2286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pkg</a:t>
                    </a:r>
                    <a:endParaRPr b="0" lang="en-US" sz="1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6355440" y="3452760"/>
                    <a:ext cx="105120" cy="1141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6408000" y="3566880"/>
                    <a:ext cx="0" cy="37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7" name=""/>
                <p:cNvGrpSpPr/>
                <p:nvPr/>
              </p:nvGrpSpPr>
              <p:grpSpPr>
                <a:xfrm>
                  <a:off x="6162840" y="5319720"/>
                  <a:ext cx="526680" cy="495000"/>
                  <a:chOff x="6162840" y="5319720"/>
                  <a:chExt cx="526680" cy="495000"/>
                </a:xfrm>
              </p:grpSpPr>
              <p:sp>
                <p:nvSpPr>
                  <p:cNvPr id="3318" name=""/>
                  <p:cNvSpPr/>
                  <p:nvPr/>
                </p:nvSpPr>
                <p:spPr>
                  <a:xfrm>
                    <a:off x="6689520" y="5319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6162840" y="5319720"/>
                    <a:ext cx="36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6162840" y="5395680"/>
                    <a:ext cx="5266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6267960" y="5433840"/>
                    <a:ext cx="280800" cy="2282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pkg</a:t>
                    </a:r>
                    <a:endParaRPr b="0" lang="en-US" sz="1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6355800" y="5700600"/>
                    <a:ext cx="105120" cy="1141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6408360" y="5395680"/>
                    <a:ext cx="0" cy="37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6408360" y="5662440"/>
                    <a:ext cx="0" cy="37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5" name=""/>
              <p:cNvGrpSpPr/>
              <p:nvPr/>
            </p:nvGrpSpPr>
            <p:grpSpPr>
              <a:xfrm>
                <a:off x="7740720" y="3776400"/>
                <a:ext cx="1298520" cy="1714680"/>
                <a:chOff x="7740720" y="3776400"/>
                <a:chExt cx="1298520" cy="1714680"/>
              </a:xfrm>
            </p:grpSpPr>
            <p:grpSp>
              <p:nvGrpSpPr>
                <p:cNvPr id="3326" name=""/>
                <p:cNvGrpSpPr/>
                <p:nvPr/>
              </p:nvGrpSpPr>
              <p:grpSpPr>
                <a:xfrm>
                  <a:off x="7740720" y="3776400"/>
                  <a:ext cx="894240" cy="1714680"/>
                  <a:chOff x="7740720" y="3776400"/>
                  <a:chExt cx="894240" cy="1714680"/>
                </a:xfrm>
              </p:grpSpPr>
              <p:sp>
                <p:nvSpPr>
                  <p:cNvPr id="3327" name=""/>
                  <p:cNvSpPr/>
                  <p:nvPr/>
                </p:nvSpPr>
                <p:spPr>
                  <a:xfrm>
                    <a:off x="7810560" y="3776400"/>
                    <a:ext cx="0" cy="6476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8618040" y="3776400"/>
                    <a:ext cx="0" cy="17146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>
                    <a:off x="7810560" y="4805280"/>
                    <a:ext cx="0" cy="6476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7740720" y="404280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7740720" y="518616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7810560" y="377640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7810560" y="442404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7810560" y="480528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7810560" y="545292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8547840" y="488124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7793280" y="5167080"/>
                    <a:ext cx="3492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7793280" y="4024080"/>
                    <a:ext cx="3492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8600760" y="4328640"/>
                    <a:ext cx="34200" cy="3816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8547840" y="377640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8547840" y="549108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8600760" y="4862160"/>
                    <a:ext cx="34200" cy="3816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8547840" y="434772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4" name=""/>
                <p:cNvSpPr/>
                <p:nvPr/>
              </p:nvSpPr>
              <p:spPr>
                <a:xfrm>
                  <a:off x="9004320" y="4633560"/>
                  <a:ext cx="349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5" name=""/>
            <p:cNvGrpSpPr/>
            <p:nvPr/>
          </p:nvGrpSpPr>
          <p:grpSpPr>
            <a:xfrm>
              <a:off x="6400800" y="3452760"/>
              <a:ext cx="2133720" cy="1828800"/>
              <a:chOff x="6400800" y="3452760"/>
              <a:chExt cx="2133720" cy="1828800"/>
            </a:xfrm>
          </p:grpSpPr>
          <p:sp>
            <p:nvSpPr>
              <p:cNvPr id="3346" name=""/>
              <p:cNvSpPr/>
              <p:nvPr/>
            </p:nvSpPr>
            <p:spPr>
              <a:xfrm>
                <a:off x="6400800" y="3909960"/>
                <a:ext cx="60948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cc66"/>
              </a:solidFill>
              <a:ln cap="rnd" w="936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4680" y="3452760"/>
                <a:ext cx="60984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4680" y="4671720"/>
                <a:ext cx="609840" cy="60984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77A0-F33C-4C2B-9A02-AB1C566526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Open Sour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50" name=""/>
          <p:cNvGrpSpPr/>
          <p:nvPr/>
        </p:nvGrpSpPr>
        <p:grpSpPr>
          <a:xfrm>
            <a:off x="2894040" y="3317760"/>
            <a:ext cx="1499400" cy="3258000"/>
            <a:chOff x="2894040" y="3317760"/>
            <a:chExt cx="1499400" cy="3258000"/>
          </a:xfrm>
        </p:grpSpPr>
        <p:grpSp>
          <p:nvGrpSpPr>
            <p:cNvPr id="3351" name=""/>
            <p:cNvGrpSpPr/>
            <p:nvPr/>
          </p:nvGrpSpPr>
          <p:grpSpPr>
            <a:xfrm>
              <a:off x="2988000" y="3317760"/>
              <a:ext cx="1405440" cy="3258000"/>
              <a:chOff x="2988000" y="3317760"/>
              <a:chExt cx="1405440" cy="3258000"/>
            </a:xfrm>
          </p:grpSpPr>
          <p:sp>
            <p:nvSpPr>
              <p:cNvPr id="3352" name=""/>
              <p:cNvSpPr/>
              <p:nvPr/>
            </p:nvSpPr>
            <p:spPr>
              <a:xfrm>
                <a:off x="3066120" y="6176880"/>
                <a:ext cx="621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353" name=""/>
              <p:cNvGrpSpPr/>
              <p:nvPr/>
            </p:nvGrpSpPr>
            <p:grpSpPr>
              <a:xfrm>
                <a:off x="2988000" y="3317760"/>
                <a:ext cx="1405440" cy="2774880"/>
                <a:chOff x="2988000" y="3317760"/>
                <a:chExt cx="1405440" cy="2774880"/>
              </a:xfrm>
            </p:grpSpPr>
            <p:grpSp>
              <p:nvGrpSpPr>
                <p:cNvPr id="3354" name=""/>
                <p:cNvGrpSpPr/>
                <p:nvPr/>
              </p:nvGrpSpPr>
              <p:grpSpPr>
                <a:xfrm>
                  <a:off x="2988000" y="3978000"/>
                  <a:ext cx="291960" cy="973080"/>
                  <a:chOff x="2988000" y="3978000"/>
                  <a:chExt cx="291960" cy="973080"/>
                </a:xfrm>
              </p:grpSpPr>
              <p:sp>
                <p:nvSpPr>
                  <p:cNvPr id="3355" name=""/>
                  <p:cNvSpPr/>
                  <p:nvPr/>
                </p:nvSpPr>
                <p:spPr>
                  <a:xfrm>
                    <a:off x="3182400" y="4107600"/>
                    <a:ext cx="0" cy="19440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3182400" y="4367160"/>
                    <a:ext cx="0" cy="19440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3182400" y="4627080"/>
                    <a:ext cx="0" cy="19440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 flipH="1">
                    <a:off x="3182400" y="475668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H="1">
                    <a:off x="3182400" y="417240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3279960" y="3978000"/>
                    <a:ext cx="0" cy="1944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3279960" y="4756680"/>
                    <a:ext cx="0" cy="1944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3085200" y="4237560"/>
                    <a:ext cx="0" cy="453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 flipH="1">
                    <a:off x="2988000" y="469152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 flipH="1">
                    <a:off x="3182400" y="449676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5" name=""/>
                <p:cNvGrpSpPr/>
                <p:nvPr/>
              </p:nvGrpSpPr>
              <p:grpSpPr>
                <a:xfrm>
                  <a:off x="2988000" y="4951440"/>
                  <a:ext cx="291960" cy="974160"/>
                  <a:chOff x="2988000" y="4951440"/>
                  <a:chExt cx="291960" cy="974160"/>
                </a:xfrm>
              </p:grpSpPr>
              <p:sp>
                <p:nvSpPr>
                  <p:cNvPr id="3366" name=""/>
                  <p:cNvSpPr/>
                  <p:nvPr/>
                </p:nvSpPr>
                <p:spPr>
                  <a:xfrm>
                    <a:off x="3182400" y="5081040"/>
                    <a:ext cx="0" cy="1947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3182400" y="5340960"/>
                    <a:ext cx="0" cy="1947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3182400" y="5601240"/>
                    <a:ext cx="0" cy="1947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 flipH="1">
                    <a:off x="3182400" y="573084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 flipH="1">
                    <a:off x="3182400" y="514620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3279960" y="4951440"/>
                    <a:ext cx="0" cy="1947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3279960" y="5730840"/>
                    <a:ext cx="0" cy="1947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3085200" y="5211360"/>
                    <a:ext cx="0" cy="4543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 flipH="1">
                    <a:off x="2988000" y="566568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 flipH="1">
                    <a:off x="3182400" y="547092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6" name=""/>
                <p:cNvSpPr/>
                <p:nvPr/>
              </p:nvSpPr>
              <p:spPr>
                <a:xfrm>
                  <a:off x="3329280" y="4952880"/>
                  <a:ext cx="48564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3475080" y="4173480"/>
                  <a:ext cx="0" cy="519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3475080" y="4692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3475080" y="5211720"/>
                  <a:ext cx="0" cy="519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3475080" y="5211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3609360" y="4062240"/>
                  <a:ext cx="784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I high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3610080" y="5362560"/>
                  <a:ext cx="712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I low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3230640" y="4887720"/>
                  <a:ext cx="98640" cy="128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3221280" y="5897520"/>
                  <a:ext cx="145800" cy="19512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3221280" y="3752640"/>
                  <a:ext cx="145800" cy="19548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3116160" y="3317760"/>
                  <a:ext cx="59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7" name=""/>
            <p:cNvSpPr/>
            <p:nvPr/>
          </p:nvSpPr>
          <p:spPr>
            <a:xfrm>
              <a:off x="2894040" y="5127480"/>
              <a:ext cx="609840" cy="60948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836640" y="1031760"/>
            <a:ext cx="3504960" cy="2075400"/>
            <a:chOff x="836640" y="1031760"/>
            <a:chExt cx="3504960" cy="2075400"/>
          </a:xfrm>
        </p:grpSpPr>
        <p:sp>
          <p:nvSpPr>
            <p:cNvPr id="3389" name=""/>
            <p:cNvSpPr/>
            <p:nvPr/>
          </p:nvSpPr>
          <p:spPr>
            <a:xfrm>
              <a:off x="836640" y="1319040"/>
              <a:ext cx="3504960" cy="175248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390" name=""/>
            <p:cNvGrpSpPr/>
            <p:nvPr/>
          </p:nvGrpSpPr>
          <p:grpSpPr>
            <a:xfrm>
              <a:off x="990000" y="1031760"/>
              <a:ext cx="1546560" cy="2075400"/>
              <a:chOff x="990000" y="1031760"/>
              <a:chExt cx="1546560" cy="2075400"/>
            </a:xfrm>
          </p:grpSpPr>
          <p:grpSp>
            <p:nvGrpSpPr>
              <p:cNvPr id="3391" name=""/>
              <p:cNvGrpSpPr/>
              <p:nvPr/>
            </p:nvGrpSpPr>
            <p:grpSpPr>
              <a:xfrm>
                <a:off x="1434240" y="1912320"/>
                <a:ext cx="831240" cy="719640"/>
                <a:chOff x="1434240" y="1912320"/>
                <a:chExt cx="831240" cy="719640"/>
              </a:xfrm>
            </p:grpSpPr>
            <p:sp>
              <p:nvSpPr>
                <p:cNvPr id="3392" name=""/>
                <p:cNvSpPr/>
                <p:nvPr/>
              </p:nvSpPr>
              <p:spPr>
                <a:xfrm>
                  <a:off x="1450800" y="263196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2059560" y="191268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94" name=""/>
                <p:cNvGrpSpPr/>
                <p:nvPr/>
              </p:nvGrpSpPr>
              <p:grpSpPr>
                <a:xfrm>
                  <a:off x="1434240" y="1912320"/>
                  <a:ext cx="831240" cy="718560"/>
                  <a:chOff x="1434240" y="1912320"/>
                  <a:chExt cx="831240" cy="718560"/>
                </a:xfrm>
              </p:grpSpPr>
              <p:sp>
                <p:nvSpPr>
                  <p:cNvPr id="3395" name=""/>
                  <p:cNvSpPr/>
                  <p:nvPr/>
                </p:nvSpPr>
                <p:spPr>
                  <a:xfrm flipV="1">
                    <a:off x="1434240" y="1911960"/>
                    <a:ext cx="41616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 flipV="1" rot="10800000">
                    <a:off x="1850760" y="1912320"/>
                    <a:ext cx="41472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7" name=""/>
              <p:cNvGrpSpPr/>
              <p:nvPr/>
            </p:nvGrpSpPr>
            <p:grpSpPr>
              <a:xfrm>
                <a:off x="990000" y="1031760"/>
                <a:ext cx="1468800" cy="1937160"/>
                <a:chOff x="990000" y="1031760"/>
                <a:chExt cx="1468800" cy="1937160"/>
              </a:xfrm>
            </p:grpSpPr>
            <p:grpSp>
              <p:nvGrpSpPr>
                <p:cNvPr id="3398" name=""/>
                <p:cNvGrpSpPr/>
                <p:nvPr/>
              </p:nvGrpSpPr>
              <p:grpSpPr>
                <a:xfrm>
                  <a:off x="990000" y="1031760"/>
                  <a:ext cx="1468800" cy="1937160"/>
                  <a:chOff x="990000" y="1031760"/>
                  <a:chExt cx="1468800" cy="1937160"/>
                </a:xfrm>
              </p:grpSpPr>
              <p:sp>
                <p:nvSpPr>
                  <p:cNvPr id="3399" name=""/>
                  <p:cNvSpPr/>
                  <p:nvPr/>
                </p:nvSpPr>
                <p:spPr>
                  <a:xfrm>
                    <a:off x="1450800" y="1403280"/>
                    <a:ext cx="0" cy="12636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1415880" y="261936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>
                    <a:off x="1415880" y="187164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>
                    <a:off x="1349280" y="1031760"/>
                    <a:ext cx="1839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990000" y="174780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1065960" y="257004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5" name=""/>
                <p:cNvGrpSpPr/>
                <p:nvPr/>
              </p:nvGrpSpPr>
              <p:grpSpPr>
                <a:xfrm>
                  <a:off x="1429560" y="1899720"/>
                  <a:ext cx="831240" cy="719640"/>
                  <a:chOff x="1429560" y="1899720"/>
                  <a:chExt cx="831240" cy="719640"/>
                </a:xfrm>
              </p:grpSpPr>
              <p:sp>
                <p:nvSpPr>
                  <p:cNvPr id="3406" name=""/>
                  <p:cNvSpPr/>
                  <p:nvPr/>
                </p:nvSpPr>
                <p:spPr>
                  <a:xfrm>
                    <a:off x="1446120" y="2619360"/>
                    <a:ext cx="173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2054880" y="1900080"/>
                    <a:ext cx="1735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08" name=""/>
                  <p:cNvGrpSpPr/>
                  <p:nvPr/>
                </p:nvGrpSpPr>
                <p:grpSpPr>
                  <a:xfrm>
                    <a:off x="1429560" y="1899720"/>
                    <a:ext cx="831240" cy="718560"/>
                    <a:chOff x="1429560" y="1899720"/>
                    <a:chExt cx="831240" cy="718560"/>
                  </a:xfrm>
                </p:grpSpPr>
                <p:sp>
                  <p:nvSpPr>
                    <p:cNvPr id="3409" name=""/>
                    <p:cNvSpPr/>
                    <p:nvPr/>
                  </p:nvSpPr>
                  <p:spPr>
                    <a:xfrm flipV="1">
                      <a:off x="1429560" y="1899360"/>
                      <a:ext cx="41616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0" name=""/>
                    <p:cNvSpPr/>
                    <p:nvPr/>
                  </p:nvSpPr>
                  <p:spPr>
                    <a:xfrm flipV="1" rot="10800000">
                      <a:off x="1846080" y="1899720"/>
                      <a:ext cx="41472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11" name=""/>
              <p:cNvSpPr/>
              <p:nvPr/>
            </p:nvSpPr>
            <p:spPr>
              <a:xfrm>
                <a:off x="1065960" y="1260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2285640" y="270828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413" name=""/>
            <p:cNvGrpSpPr/>
            <p:nvPr/>
          </p:nvGrpSpPr>
          <p:grpSpPr>
            <a:xfrm>
              <a:off x="2666520" y="1031760"/>
              <a:ext cx="1546920" cy="2075400"/>
              <a:chOff x="2666520" y="1031760"/>
              <a:chExt cx="1546920" cy="2075400"/>
            </a:xfrm>
          </p:grpSpPr>
          <p:grpSp>
            <p:nvGrpSpPr>
              <p:cNvPr id="3414" name=""/>
              <p:cNvGrpSpPr/>
              <p:nvPr/>
            </p:nvGrpSpPr>
            <p:grpSpPr>
              <a:xfrm>
                <a:off x="2666520" y="1031760"/>
                <a:ext cx="1468800" cy="1937160"/>
                <a:chOff x="2666520" y="1031760"/>
                <a:chExt cx="1468800" cy="1937160"/>
              </a:xfrm>
            </p:grpSpPr>
            <p:sp>
              <p:nvSpPr>
                <p:cNvPr id="3415" name=""/>
                <p:cNvSpPr/>
                <p:nvPr/>
              </p:nvSpPr>
              <p:spPr>
                <a:xfrm>
                  <a:off x="3127320" y="1403280"/>
                  <a:ext cx="0" cy="126360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3092400" y="2619360"/>
                  <a:ext cx="1042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3092400" y="1871640"/>
                  <a:ext cx="1015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3025800" y="1031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2666520" y="1747800"/>
                  <a:ext cx="49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1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2742480" y="2570040"/>
                  <a:ext cx="73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1" name=""/>
              <p:cNvGrpSpPr/>
              <p:nvPr/>
            </p:nvGrpSpPr>
            <p:grpSpPr>
              <a:xfrm>
                <a:off x="2742840" y="1260360"/>
                <a:ext cx="1470600" cy="1846800"/>
                <a:chOff x="2742840" y="1260360"/>
                <a:chExt cx="1470600" cy="1846800"/>
              </a:xfrm>
            </p:grpSpPr>
            <p:grpSp>
              <p:nvGrpSpPr>
                <p:cNvPr id="3422" name=""/>
                <p:cNvGrpSpPr/>
                <p:nvPr/>
              </p:nvGrpSpPr>
              <p:grpSpPr>
                <a:xfrm>
                  <a:off x="3101400" y="1869480"/>
                  <a:ext cx="554040" cy="719640"/>
                  <a:chOff x="3101400" y="1869480"/>
                  <a:chExt cx="554040" cy="719640"/>
                </a:xfrm>
              </p:grpSpPr>
              <p:sp>
                <p:nvSpPr>
                  <p:cNvPr id="3423" name=""/>
                  <p:cNvSpPr/>
                  <p:nvPr/>
                </p:nvSpPr>
                <p:spPr>
                  <a:xfrm>
                    <a:off x="3528720" y="2589120"/>
                    <a:ext cx="1159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24" name=""/>
                  <p:cNvGrpSpPr/>
                  <p:nvPr/>
                </p:nvGrpSpPr>
                <p:grpSpPr>
                  <a:xfrm>
                    <a:off x="3101400" y="1869480"/>
                    <a:ext cx="554040" cy="718560"/>
                    <a:chOff x="3101400" y="1869480"/>
                    <a:chExt cx="554040" cy="718560"/>
                  </a:xfrm>
                </p:grpSpPr>
                <p:sp>
                  <p:nvSpPr>
                    <p:cNvPr id="3425" name=""/>
                    <p:cNvSpPr/>
                    <p:nvPr/>
                  </p:nvSpPr>
                  <p:spPr>
                    <a:xfrm flipH="1" flipV="1">
                      <a:off x="3378240" y="1869120"/>
                      <a:ext cx="27720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6" name=""/>
                    <p:cNvSpPr/>
                    <p:nvPr/>
                  </p:nvSpPr>
                  <p:spPr>
                    <a:xfrm flipH="1" flipV="1" rot="10800000">
                      <a:off x="3101400" y="1869480"/>
                      <a:ext cx="27648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27" name=""/>
                  <p:cNvSpPr/>
                  <p:nvPr/>
                </p:nvSpPr>
                <p:spPr>
                  <a:xfrm>
                    <a:off x="3122640" y="1869840"/>
                    <a:ext cx="11592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8" name=""/>
                <p:cNvSpPr/>
                <p:nvPr/>
              </p:nvSpPr>
              <p:spPr>
                <a:xfrm>
                  <a:off x="2742840" y="1260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3962520" y="270828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0" name=""/>
            <p:cNvSpPr/>
            <p:nvPr/>
          </p:nvSpPr>
          <p:spPr>
            <a:xfrm>
              <a:off x="3351240" y="2080800"/>
              <a:ext cx="7596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H="1">
              <a:off x="1827000" y="2080800"/>
              <a:ext cx="76320" cy="3812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32" name=""/>
          <p:cNvGrpSpPr/>
          <p:nvPr/>
        </p:nvGrpSpPr>
        <p:grpSpPr>
          <a:xfrm>
            <a:off x="343080" y="3470400"/>
            <a:ext cx="2386800" cy="2992320"/>
            <a:chOff x="343080" y="3470400"/>
            <a:chExt cx="2386800" cy="2992320"/>
          </a:xfrm>
        </p:grpSpPr>
        <p:sp>
          <p:nvSpPr>
            <p:cNvPr id="3433" name=""/>
            <p:cNvSpPr/>
            <p:nvPr/>
          </p:nvSpPr>
          <p:spPr>
            <a:xfrm>
              <a:off x="343080" y="3568680"/>
              <a:ext cx="2323800" cy="2894040"/>
            </a:xfrm>
            <a:custGeom>
              <a:avLst/>
              <a:gdLst>
                <a:gd name="textAreaLeft" fmla="*/ 113400 w 2323800"/>
                <a:gd name="textAreaRight" fmla="*/ 2210400 w 2323800"/>
                <a:gd name="textAreaTop" fmla="*/ 113400 h 2894040"/>
                <a:gd name="textAreaBottom" fmla="*/ 2780640 h 2894040"/>
              </a:gdLst>
              <a:ahLst/>
              <a:rect l="textAreaLeft" t="textAreaTop" r="textAreaRight" b="textAreaBottom"/>
              <a:pathLst>
                <a:path w="21600" h="26900">
                  <a:moveTo>
                    <a:pt x="3600" y="0"/>
                  </a:moveTo>
                  <a:arcTo wR="3600" hR="3600" stAng="16200000" swAng="-5400000"/>
                  <a:lnTo>
                    <a:pt x="0" y="23300"/>
                  </a:lnTo>
                  <a:arcTo wR="3600" hR="3600" stAng="10800000" swAng="-5400000"/>
                  <a:lnTo>
                    <a:pt x="18000" y="2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434" name=""/>
            <p:cNvGrpSpPr/>
            <p:nvPr/>
          </p:nvGrpSpPr>
          <p:grpSpPr>
            <a:xfrm>
              <a:off x="379440" y="3470400"/>
              <a:ext cx="2350440" cy="2989800"/>
              <a:chOff x="379440" y="3470400"/>
              <a:chExt cx="2350440" cy="2989800"/>
            </a:xfrm>
          </p:grpSpPr>
          <p:grpSp>
            <p:nvGrpSpPr>
              <p:cNvPr id="3435" name=""/>
              <p:cNvGrpSpPr/>
              <p:nvPr/>
            </p:nvGrpSpPr>
            <p:grpSpPr>
              <a:xfrm>
                <a:off x="379440" y="3470400"/>
                <a:ext cx="2350440" cy="2989800"/>
                <a:chOff x="379440" y="3470400"/>
                <a:chExt cx="2350440" cy="2989800"/>
              </a:xfrm>
            </p:grpSpPr>
            <p:sp>
              <p:nvSpPr>
                <p:cNvPr id="3436" name=""/>
                <p:cNvSpPr/>
                <p:nvPr/>
              </p:nvSpPr>
              <p:spPr>
                <a:xfrm>
                  <a:off x="971640" y="3774960"/>
                  <a:ext cx="0" cy="21337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903240" y="5038560"/>
                  <a:ext cx="1608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2038680" y="4537080"/>
                  <a:ext cx="69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ou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379440" y="4003560"/>
                  <a:ext cx="592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Iout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0" name=""/>
                <p:cNvGrpSpPr/>
                <p:nvPr/>
              </p:nvGrpSpPr>
              <p:grpSpPr>
                <a:xfrm>
                  <a:off x="952560" y="3933720"/>
                  <a:ext cx="1460520" cy="1168200"/>
                  <a:chOff x="952560" y="3933720"/>
                  <a:chExt cx="1460520" cy="1168200"/>
                </a:xfrm>
              </p:grpSpPr>
              <p:sp>
                <p:nvSpPr>
                  <p:cNvPr id="3441" name=""/>
                  <p:cNvSpPr/>
                  <p:nvPr/>
                </p:nvSpPr>
                <p:spPr>
                  <a:xfrm flipV="1">
                    <a:off x="952560" y="4647960"/>
                    <a:ext cx="243000" cy="45396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V="1">
                    <a:off x="1195560" y="4322880"/>
                    <a:ext cx="244440" cy="32544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V="1">
                    <a:off x="1440000" y="4063680"/>
                    <a:ext cx="388800" cy="25884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V="1">
                    <a:off x="1828800" y="3933720"/>
                    <a:ext cx="584280" cy="13032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5" name=""/>
                <p:cNvGrpSpPr/>
                <p:nvPr/>
              </p:nvGrpSpPr>
              <p:grpSpPr>
                <a:xfrm>
                  <a:off x="952920" y="5038560"/>
                  <a:ext cx="1412280" cy="777960"/>
                  <a:chOff x="952920" y="5038560"/>
                  <a:chExt cx="1412280" cy="777960"/>
                </a:xfrm>
              </p:grpSpPr>
              <p:sp>
                <p:nvSpPr>
                  <p:cNvPr id="3446" name=""/>
                  <p:cNvSpPr/>
                  <p:nvPr/>
                </p:nvSpPr>
                <p:spPr>
                  <a:xfrm>
                    <a:off x="952920" y="5038560"/>
                    <a:ext cx="48960" cy="19368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>
                    <a:off x="1002600" y="5232240"/>
                    <a:ext cx="194760" cy="32544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1197720" y="5557680"/>
                    <a:ext cx="340920" cy="19548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1538640" y="5753160"/>
                    <a:ext cx="534960" cy="6336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2073600" y="5816520"/>
                    <a:ext cx="29160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1" name=""/>
                <p:cNvSpPr/>
                <p:nvPr/>
              </p:nvSpPr>
              <p:spPr>
                <a:xfrm>
                  <a:off x="970920" y="5756400"/>
                  <a:ext cx="8330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High/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pullup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970560" y="3470400"/>
                  <a:ext cx="11455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Low/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pulldown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3" name=""/>
              <p:cNvSpPr/>
              <p:nvPr/>
            </p:nvSpPr>
            <p:spPr>
              <a:xfrm>
                <a:off x="1276200" y="3927600"/>
                <a:ext cx="60984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971640" y="5070600"/>
                <a:ext cx="1447560" cy="0"/>
              </a:xfrm>
              <a:prstGeom prst="line">
                <a:avLst/>
              </a:prstGeom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5" name=""/>
          <p:cNvGrpSpPr/>
          <p:nvPr/>
        </p:nvGrpSpPr>
        <p:grpSpPr>
          <a:xfrm>
            <a:off x="5332320" y="1184400"/>
            <a:ext cx="3504960" cy="1940400"/>
            <a:chOff x="5332320" y="1184400"/>
            <a:chExt cx="3504960" cy="1940400"/>
          </a:xfrm>
        </p:grpSpPr>
        <p:sp>
          <p:nvSpPr>
            <p:cNvPr id="3456" name=""/>
            <p:cNvSpPr/>
            <p:nvPr/>
          </p:nvSpPr>
          <p:spPr>
            <a:xfrm>
              <a:off x="5332320" y="1336680"/>
              <a:ext cx="3504960" cy="17521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457" name=""/>
            <p:cNvGrpSpPr/>
            <p:nvPr/>
          </p:nvGrpSpPr>
          <p:grpSpPr>
            <a:xfrm>
              <a:off x="5485680" y="1184400"/>
              <a:ext cx="1546560" cy="1940400"/>
              <a:chOff x="5485680" y="1184400"/>
              <a:chExt cx="1546560" cy="1940400"/>
            </a:xfrm>
          </p:grpSpPr>
          <p:grpSp>
            <p:nvGrpSpPr>
              <p:cNvPr id="3458" name=""/>
              <p:cNvGrpSpPr/>
              <p:nvPr/>
            </p:nvGrpSpPr>
            <p:grpSpPr>
              <a:xfrm>
                <a:off x="5913720" y="1658520"/>
                <a:ext cx="831240" cy="719640"/>
                <a:chOff x="5913720" y="1658520"/>
                <a:chExt cx="831240" cy="719640"/>
              </a:xfrm>
            </p:grpSpPr>
            <p:sp>
              <p:nvSpPr>
                <p:cNvPr id="3459" name=""/>
                <p:cNvSpPr/>
                <p:nvPr/>
              </p:nvSpPr>
              <p:spPr>
                <a:xfrm>
                  <a:off x="6555240" y="237816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0" name=""/>
                <p:cNvGrpSpPr/>
                <p:nvPr/>
              </p:nvGrpSpPr>
              <p:grpSpPr>
                <a:xfrm>
                  <a:off x="5913720" y="1658520"/>
                  <a:ext cx="831240" cy="718560"/>
                  <a:chOff x="5913720" y="1658520"/>
                  <a:chExt cx="831240" cy="718560"/>
                </a:xfrm>
              </p:grpSpPr>
              <p:sp>
                <p:nvSpPr>
                  <p:cNvPr id="3461" name=""/>
                  <p:cNvSpPr/>
                  <p:nvPr/>
                </p:nvSpPr>
                <p:spPr>
                  <a:xfrm flipH="1" flipV="1">
                    <a:off x="6328800" y="1658160"/>
                    <a:ext cx="41616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 flipV="1" rot="10800000">
                    <a:off x="5913720" y="1658520"/>
                    <a:ext cx="41472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3" name=""/>
                <p:cNvSpPr/>
                <p:nvPr/>
              </p:nvSpPr>
              <p:spPr>
                <a:xfrm>
                  <a:off x="5946480" y="1658880"/>
                  <a:ext cx="17352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4" name=""/>
              <p:cNvGrpSpPr/>
              <p:nvPr/>
            </p:nvGrpSpPr>
            <p:grpSpPr>
              <a:xfrm>
                <a:off x="5485680" y="1184400"/>
                <a:ext cx="1462320" cy="1541520"/>
                <a:chOff x="5485680" y="1184400"/>
                <a:chExt cx="1462320" cy="1541520"/>
              </a:xfrm>
            </p:grpSpPr>
            <p:grpSp>
              <p:nvGrpSpPr>
                <p:cNvPr id="3465" name=""/>
                <p:cNvGrpSpPr/>
                <p:nvPr/>
              </p:nvGrpSpPr>
              <p:grpSpPr>
                <a:xfrm>
                  <a:off x="5915520" y="1641240"/>
                  <a:ext cx="830160" cy="719640"/>
                  <a:chOff x="5915520" y="1641240"/>
                  <a:chExt cx="830160" cy="719640"/>
                </a:xfrm>
              </p:grpSpPr>
              <p:sp>
                <p:nvSpPr>
                  <p:cNvPr id="3466" name=""/>
                  <p:cNvSpPr/>
                  <p:nvPr/>
                </p:nvSpPr>
                <p:spPr>
                  <a:xfrm flipH="1">
                    <a:off x="6555960" y="2360880"/>
                    <a:ext cx="1731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H="1">
                    <a:off x="5948280" y="1641600"/>
                    <a:ext cx="1731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68" name=""/>
                  <p:cNvGrpSpPr/>
                  <p:nvPr/>
                </p:nvGrpSpPr>
                <p:grpSpPr>
                  <a:xfrm>
                    <a:off x="5915520" y="1641240"/>
                    <a:ext cx="830160" cy="718560"/>
                    <a:chOff x="5915520" y="1641240"/>
                    <a:chExt cx="830160" cy="718560"/>
                  </a:xfrm>
                </p:grpSpPr>
                <p:sp>
                  <p:nvSpPr>
                    <p:cNvPr id="3469" name=""/>
                    <p:cNvSpPr/>
                    <p:nvPr/>
                  </p:nvSpPr>
                  <p:spPr>
                    <a:xfrm flipH="1" flipV="1">
                      <a:off x="6330240" y="1640880"/>
                      <a:ext cx="41544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0" name=""/>
                    <p:cNvSpPr/>
                    <p:nvPr/>
                  </p:nvSpPr>
                  <p:spPr>
                    <a:xfrm flipH="1" flipV="1" rot="10800000">
                      <a:off x="5915520" y="1641240"/>
                      <a:ext cx="41400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71" name=""/>
                <p:cNvGrpSpPr/>
                <p:nvPr/>
              </p:nvGrpSpPr>
              <p:grpSpPr>
                <a:xfrm>
                  <a:off x="5485680" y="1184400"/>
                  <a:ext cx="1462320" cy="1541520"/>
                  <a:chOff x="5485680" y="1184400"/>
                  <a:chExt cx="1462320" cy="1541520"/>
                </a:xfrm>
              </p:grpSpPr>
              <p:sp>
                <p:nvSpPr>
                  <p:cNvPr id="3472" name=""/>
                  <p:cNvSpPr/>
                  <p:nvPr/>
                </p:nvSpPr>
                <p:spPr>
                  <a:xfrm>
                    <a:off x="5938560" y="1463760"/>
                    <a:ext cx="0" cy="12621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5905080" y="2678400"/>
                    <a:ext cx="10429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5905080" y="23990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>
                    <a:off x="5871960" y="1649520"/>
                    <a:ext cx="997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5838480" y="1184400"/>
                    <a:ext cx="184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>
                    <a:off x="5486040" y="156564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>
                    <a:off x="5485680" y="225144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79" name=""/>
              <p:cNvSpPr/>
              <p:nvPr/>
            </p:nvSpPr>
            <p:spPr>
              <a:xfrm>
                <a:off x="6781320" y="27259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561640" y="1201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481" name=""/>
            <p:cNvGrpSpPr/>
            <p:nvPr/>
          </p:nvGrpSpPr>
          <p:grpSpPr>
            <a:xfrm>
              <a:off x="7162200" y="1184400"/>
              <a:ext cx="1546920" cy="1940400"/>
              <a:chOff x="7162200" y="1184400"/>
              <a:chExt cx="1546920" cy="1940400"/>
            </a:xfrm>
          </p:grpSpPr>
          <p:grpSp>
            <p:nvGrpSpPr>
              <p:cNvPr id="3482" name=""/>
              <p:cNvGrpSpPr/>
              <p:nvPr/>
            </p:nvGrpSpPr>
            <p:grpSpPr>
              <a:xfrm>
                <a:off x="7614000" y="1658520"/>
                <a:ext cx="551880" cy="719640"/>
                <a:chOff x="7614000" y="1658520"/>
                <a:chExt cx="551880" cy="71964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7624800" y="2378160"/>
                  <a:ext cx="115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8029800" y="1658880"/>
                  <a:ext cx="115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5" name=""/>
                <p:cNvGrpSpPr/>
                <p:nvPr/>
              </p:nvGrpSpPr>
              <p:grpSpPr>
                <a:xfrm>
                  <a:off x="7614000" y="1658520"/>
                  <a:ext cx="551880" cy="718560"/>
                  <a:chOff x="7614000" y="1658520"/>
                  <a:chExt cx="551880" cy="718560"/>
                </a:xfrm>
              </p:grpSpPr>
              <p:sp>
                <p:nvSpPr>
                  <p:cNvPr id="3486" name=""/>
                  <p:cNvSpPr/>
                  <p:nvPr/>
                </p:nvSpPr>
                <p:spPr>
                  <a:xfrm flipV="1">
                    <a:off x="7614000" y="1658160"/>
                    <a:ext cx="27648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864" y="41"/>
                        </a:moveTo>
                        <a:arcTo wR="10800" hR="10800" stAng="-5698349" swAng="569834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864" y="41"/>
                        </a:moveTo>
                        <a:arcTo wR="10800" hR="10800" stAng="-5698349" swAng="5698349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V="1" rot="10800000">
                    <a:off x="7890840" y="1658520"/>
                    <a:ext cx="275040" cy="71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8" name=""/>
              <p:cNvGrpSpPr/>
              <p:nvPr/>
            </p:nvGrpSpPr>
            <p:grpSpPr>
              <a:xfrm>
                <a:off x="7162200" y="1184400"/>
                <a:ext cx="1462320" cy="1541520"/>
                <a:chOff x="7162200" y="1184400"/>
                <a:chExt cx="1462320" cy="1541520"/>
              </a:xfrm>
            </p:grpSpPr>
            <p:sp>
              <p:nvSpPr>
                <p:cNvPr id="3489" name=""/>
                <p:cNvSpPr/>
                <p:nvPr/>
              </p:nvSpPr>
              <p:spPr>
                <a:xfrm>
                  <a:off x="7615080" y="1463760"/>
                  <a:ext cx="0" cy="1262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581600" y="2678400"/>
                  <a:ext cx="1042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7581600" y="2399040"/>
                  <a:ext cx="100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7548480" y="1649520"/>
                  <a:ext cx="99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7515000" y="118440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7162560" y="1565640"/>
                  <a:ext cx="59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7162200" y="2251440"/>
                  <a:ext cx="49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2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6" name=""/>
              <p:cNvSpPr/>
              <p:nvPr/>
            </p:nvSpPr>
            <p:spPr>
              <a:xfrm>
                <a:off x="8458200" y="27259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238520" y="1201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498" name=""/>
            <p:cNvSpPr/>
            <p:nvPr/>
          </p:nvSpPr>
          <p:spPr>
            <a:xfrm>
              <a:off x="6018120" y="1717560"/>
              <a:ext cx="609480" cy="60912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618320" y="1717560"/>
              <a:ext cx="609480" cy="609120"/>
            </a:xfrm>
            <a:prstGeom prst="noSmoking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4925880" y="3699000"/>
            <a:ext cx="4215600" cy="2361960"/>
            <a:chOff x="4925880" y="3699000"/>
            <a:chExt cx="4215600" cy="2361960"/>
          </a:xfrm>
        </p:grpSpPr>
        <p:grpSp>
          <p:nvGrpSpPr>
            <p:cNvPr id="3501" name=""/>
            <p:cNvGrpSpPr/>
            <p:nvPr/>
          </p:nvGrpSpPr>
          <p:grpSpPr>
            <a:xfrm>
              <a:off x="4925880" y="3699000"/>
              <a:ext cx="4215600" cy="2361960"/>
              <a:chOff x="4925880" y="3699000"/>
              <a:chExt cx="4215600" cy="2361960"/>
            </a:xfrm>
          </p:grpSpPr>
          <p:grpSp>
            <p:nvGrpSpPr>
              <p:cNvPr id="3502" name=""/>
              <p:cNvGrpSpPr/>
              <p:nvPr/>
            </p:nvGrpSpPr>
            <p:grpSpPr>
              <a:xfrm>
                <a:off x="7840440" y="4346280"/>
                <a:ext cx="719280" cy="1104120"/>
                <a:chOff x="7840440" y="4346280"/>
                <a:chExt cx="719280" cy="1104120"/>
              </a:xfrm>
            </p:grpSpPr>
            <p:sp>
              <p:nvSpPr>
                <p:cNvPr id="3503" name=""/>
                <p:cNvSpPr/>
                <p:nvPr/>
              </p:nvSpPr>
              <p:spPr>
                <a:xfrm>
                  <a:off x="7840440" y="4346280"/>
                  <a:ext cx="719280" cy="495000"/>
                </a:xfrm>
                <a:prstGeom prst="rect">
                  <a:avLst/>
                </a:prstGeom>
                <a:solidFill>
                  <a:srgbClr val="ff33cc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is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Vcc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7840440" y="4955760"/>
                  <a:ext cx="719280" cy="49464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Fall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Gnd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5" name=""/>
              <p:cNvGrpSpPr/>
              <p:nvPr/>
            </p:nvGrpSpPr>
            <p:grpSpPr>
              <a:xfrm>
                <a:off x="7840440" y="3813120"/>
                <a:ext cx="725400" cy="2208960"/>
                <a:chOff x="7840440" y="3813120"/>
                <a:chExt cx="725400" cy="2208960"/>
              </a:xfrm>
            </p:grpSpPr>
            <p:sp>
              <p:nvSpPr>
                <p:cNvPr id="3506" name=""/>
                <p:cNvSpPr/>
                <p:nvPr/>
              </p:nvSpPr>
              <p:spPr>
                <a:xfrm>
                  <a:off x="7840440" y="3813120"/>
                  <a:ext cx="719280" cy="49464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is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Gnd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7846920" y="5527080"/>
                  <a:ext cx="718920" cy="495000"/>
                </a:xfrm>
                <a:prstGeom prst="rect">
                  <a:avLst/>
                </a:prstGeom>
                <a:solidFill>
                  <a:srgbClr val="ff33cc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Falling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-fix Vcc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8" name=""/>
              <p:cNvGrpSpPr/>
              <p:nvPr/>
            </p:nvGrpSpPr>
            <p:grpSpPr>
              <a:xfrm>
                <a:off x="6400440" y="4194000"/>
                <a:ext cx="1338120" cy="1370880"/>
                <a:chOff x="6400440" y="4194000"/>
                <a:chExt cx="1338120" cy="1370880"/>
              </a:xfrm>
            </p:grpSpPr>
            <p:sp>
              <p:nvSpPr>
                <p:cNvPr id="3509" name=""/>
                <p:cNvSpPr/>
                <p:nvPr/>
              </p:nvSpPr>
              <p:spPr>
                <a:xfrm>
                  <a:off x="7071840" y="4194000"/>
                  <a:ext cx="666720" cy="49464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a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ise Gnd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7071840" y="5069880"/>
                  <a:ext cx="666720" cy="49500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Ramp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fall Gnd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6400440" y="4194000"/>
                  <a:ext cx="647640" cy="49464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ullu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6400440" y="5069880"/>
                  <a:ext cx="647640" cy="495000"/>
                </a:xfrm>
                <a:prstGeom prst="rect">
                  <a:avLst/>
                </a:prstGeom>
                <a:solidFill>
                  <a:srgbClr val="ff9966">
                    <a:alpha val="50000"/>
                  </a:srgbClr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ulldown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3" name=""/>
              <p:cNvGrpSpPr/>
              <p:nvPr/>
            </p:nvGrpSpPr>
            <p:grpSpPr>
              <a:xfrm>
                <a:off x="4925880" y="4194000"/>
                <a:ext cx="1445760" cy="1370880"/>
                <a:chOff x="4925880" y="4194000"/>
                <a:chExt cx="1445760" cy="1370880"/>
              </a:xfrm>
            </p:grpSpPr>
            <p:sp>
              <p:nvSpPr>
                <p:cNvPr id="3514" name=""/>
                <p:cNvSpPr/>
                <p:nvPr/>
              </p:nvSpPr>
              <p:spPr>
                <a:xfrm>
                  <a:off x="5881320" y="4194000"/>
                  <a:ext cx="490320" cy="4946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ower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cla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5881320" y="5069880"/>
                  <a:ext cx="490320" cy="4950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Gnd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cla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4925880" y="4612680"/>
                  <a:ext cx="900000" cy="64728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Threshold 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Over-under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C_comp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7" name=""/>
              <p:cNvGrpSpPr/>
              <p:nvPr/>
            </p:nvGrpSpPr>
            <p:grpSpPr>
              <a:xfrm>
                <a:off x="5846400" y="4689360"/>
                <a:ext cx="1595160" cy="380520"/>
                <a:chOff x="5846400" y="4689360"/>
                <a:chExt cx="1595160" cy="380520"/>
              </a:xfrm>
            </p:grpSpPr>
            <p:sp>
              <p:nvSpPr>
                <p:cNvPr id="3518" name=""/>
                <p:cNvSpPr/>
                <p:nvPr/>
              </p:nvSpPr>
              <p:spPr>
                <a:xfrm>
                  <a:off x="5846400" y="4879440"/>
                  <a:ext cx="15778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757920" y="4689360"/>
                  <a:ext cx="360" cy="3805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7406640" y="4860720"/>
                  <a:ext cx="3492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6144120" y="4860720"/>
                  <a:ext cx="3420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740280" y="4860720"/>
                  <a:ext cx="34200" cy="3780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6161760" y="4689360"/>
                  <a:ext cx="360" cy="3805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7424280" y="4689360"/>
                  <a:ext cx="360" cy="3805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5" name=""/>
              <p:cNvGrpSpPr/>
              <p:nvPr/>
            </p:nvGrpSpPr>
            <p:grpSpPr>
              <a:xfrm>
                <a:off x="6161040" y="3699000"/>
                <a:ext cx="2980440" cy="2361960"/>
                <a:chOff x="6161040" y="3699000"/>
                <a:chExt cx="2980440" cy="2361960"/>
              </a:xfrm>
            </p:grpSpPr>
            <p:grpSp>
              <p:nvGrpSpPr>
                <p:cNvPr id="3526" name=""/>
                <p:cNvGrpSpPr/>
                <p:nvPr/>
              </p:nvGrpSpPr>
              <p:grpSpPr>
                <a:xfrm>
                  <a:off x="8599320" y="4765680"/>
                  <a:ext cx="542160" cy="228600"/>
                  <a:chOff x="8599320" y="4765680"/>
                  <a:chExt cx="542160" cy="228600"/>
                </a:xfrm>
              </p:grpSpPr>
              <p:sp>
                <p:nvSpPr>
                  <p:cNvPr id="3527" name=""/>
                  <p:cNvSpPr/>
                  <p:nvPr/>
                </p:nvSpPr>
                <p:spPr>
                  <a:xfrm>
                    <a:off x="8616600" y="4879800"/>
                    <a:ext cx="1047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8599320" y="4861080"/>
                    <a:ext cx="3456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8721720" y="4765680"/>
                    <a:ext cx="280080" cy="2286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pkg</a:t>
                    </a:r>
                    <a:endParaRPr b="0" lang="en-US" sz="1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9036720" y="4822920"/>
                    <a:ext cx="104760" cy="1141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1" name=""/>
                <p:cNvGrpSpPr/>
                <p:nvPr/>
              </p:nvGrpSpPr>
              <p:grpSpPr>
                <a:xfrm>
                  <a:off x="6161040" y="3699000"/>
                  <a:ext cx="526320" cy="495000"/>
                  <a:chOff x="6161040" y="3699000"/>
                  <a:chExt cx="526320" cy="495000"/>
                </a:xfrm>
              </p:grpSpPr>
              <p:sp>
                <p:nvSpPr>
                  <p:cNvPr id="3532" name=""/>
                  <p:cNvSpPr/>
                  <p:nvPr/>
                </p:nvSpPr>
                <p:spPr>
                  <a:xfrm>
                    <a:off x="6406200" y="4079880"/>
                    <a:ext cx="0" cy="381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6161040" y="411804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>
                    <a:off x="6687000" y="4118040"/>
                    <a:ext cx="36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6161040" y="4118040"/>
                    <a:ext cx="5259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6266160" y="3851280"/>
                    <a:ext cx="280440" cy="2286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pkg</a:t>
                    </a:r>
                    <a:endParaRPr b="0" lang="en-US" sz="1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6353640" y="3699000"/>
                    <a:ext cx="105120" cy="1141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6406200" y="3813120"/>
                    <a:ext cx="0" cy="37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9" name=""/>
                <p:cNvGrpSpPr/>
                <p:nvPr/>
              </p:nvGrpSpPr>
              <p:grpSpPr>
                <a:xfrm>
                  <a:off x="6161040" y="5565960"/>
                  <a:ext cx="526680" cy="495000"/>
                  <a:chOff x="6161040" y="5565960"/>
                  <a:chExt cx="526680" cy="495000"/>
                </a:xfrm>
              </p:grpSpPr>
              <p:sp>
                <p:nvSpPr>
                  <p:cNvPr id="3540" name=""/>
                  <p:cNvSpPr/>
                  <p:nvPr/>
                </p:nvSpPr>
                <p:spPr>
                  <a:xfrm>
                    <a:off x="6687720" y="556596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6161040" y="5565960"/>
                    <a:ext cx="360" cy="75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6161040" y="5641920"/>
                    <a:ext cx="5266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6266160" y="5680080"/>
                    <a:ext cx="280800" cy="2282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4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pkg</a:t>
                    </a:r>
                    <a:endParaRPr b="0" lang="en-US" sz="1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6354000" y="5946840"/>
                    <a:ext cx="105120" cy="11412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6406560" y="5641920"/>
                    <a:ext cx="0" cy="37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6406560" y="5908680"/>
                    <a:ext cx="0" cy="3780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7" name=""/>
              <p:cNvGrpSpPr/>
              <p:nvPr/>
            </p:nvGrpSpPr>
            <p:grpSpPr>
              <a:xfrm>
                <a:off x="7738920" y="4022640"/>
                <a:ext cx="1298520" cy="1713960"/>
                <a:chOff x="7738920" y="4022640"/>
                <a:chExt cx="1298520" cy="1713960"/>
              </a:xfrm>
            </p:grpSpPr>
            <p:grpSp>
              <p:nvGrpSpPr>
                <p:cNvPr id="3548" name=""/>
                <p:cNvGrpSpPr/>
                <p:nvPr/>
              </p:nvGrpSpPr>
              <p:grpSpPr>
                <a:xfrm>
                  <a:off x="7738920" y="4022640"/>
                  <a:ext cx="894240" cy="1713960"/>
                  <a:chOff x="7738920" y="4022640"/>
                  <a:chExt cx="894240" cy="171396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>
                    <a:off x="7808760" y="4022640"/>
                    <a:ext cx="0" cy="647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8616240" y="4022640"/>
                    <a:ext cx="0" cy="171396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7808760" y="5050800"/>
                    <a:ext cx="0" cy="647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7738920" y="428904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7738920" y="543168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7808760" y="402264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7808760" y="466992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7808760" y="505080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7808760" y="569844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8546040" y="512712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7791480" y="5412960"/>
                    <a:ext cx="3492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7791480" y="4269960"/>
                    <a:ext cx="3492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>
                    <a:off x="8598960" y="4574880"/>
                    <a:ext cx="3420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>
                    <a:off x="8546040" y="402264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>
                    <a:off x="8546040" y="573660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>
                    <a:off x="8598960" y="5108040"/>
                    <a:ext cx="34200" cy="3780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8546040" y="4593960"/>
                    <a:ext cx="698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6" name=""/>
                <p:cNvSpPr/>
                <p:nvPr/>
              </p:nvSpPr>
              <p:spPr>
                <a:xfrm>
                  <a:off x="9002520" y="4879440"/>
                  <a:ext cx="349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67" name=""/>
            <p:cNvGrpSpPr/>
            <p:nvPr/>
          </p:nvGrpSpPr>
          <p:grpSpPr>
            <a:xfrm>
              <a:off x="6399360" y="4308480"/>
              <a:ext cx="2133000" cy="1752480"/>
              <a:chOff x="6399360" y="4308480"/>
              <a:chExt cx="2133000" cy="1752480"/>
            </a:xfrm>
          </p:grpSpPr>
          <p:sp>
            <p:nvSpPr>
              <p:cNvPr id="3568" name=""/>
              <p:cNvSpPr/>
              <p:nvPr/>
            </p:nvSpPr>
            <p:spPr>
              <a:xfrm>
                <a:off x="6399360" y="4994280"/>
                <a:ext cx="60912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cc66"/>
              </a:solidFill>
              <a:ln cap="rnd" w="9360">
                <a:solidFill>
                  <a:srgbClr val="0033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2880" y="4308480"/>
                <a:ext cx="60948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2880" y="5451480"/>
                <a:ext cx="609480" cy="609480"/>
              </a:xfrm>
              <a:prstGeom prst="noSmoking">
                <a:avLst>
                  <a:gd name="adj" fmla="val 12500"/>
                </a:avLst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A7A5B-F0C8-4804-90EE-DACBB96BE0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Technologies Overview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572" name=""/>
          <p:cNvGrpSpPr/>
          <p:nvPr/>
        </p:nvGrpSpPr>
        <p:grpSpPr>
          <a:xfrm>
            <a:off x="0" y="1230480"/>
            <a:ext cx="9144000" cy="5029200"/>
            <a:chOff x="0" y="1230480"/>
            <a:chExt cx="9144000" cy="5029200"/>
          </a:xfrm>
        </p:grpSpPr>
        <p:sp>
          <p:nvSpPr>
            <p:cNvPr id="3573" name=""/>
            <p:cNvSpPr/>
            <p:nvPr/>
          </p:nvSpPr>
          <p:spPr>
            <a:xfrm>
              <a:off x="0" y="1306440"/>
              <a:ext cx="91440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Model-Type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Push Pull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ECL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pen Sink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Open Sour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1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Technologie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TTL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MOS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CI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SSTL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ECL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PECL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fr-FR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TL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GTLP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ML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LVDS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170000"/>
                  <a:tab algn="l" pos="2340000"/>
                  <a:tab algn="l" pos="3508200"/>
                  <a:tab algn="l" pos="4680000"/>
                  <a:tab algn="l" pos="58500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CAN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574" name=""/>
            <p:cNvGrpSpPr/>
            <p:nvPr/>
          </p:nvGrpSpPr>
          <p:grpSpPr>
            <a:xfrm>
              <a:off x="147600" y="1230480"/>
              <a:ext cx="8844120" cy="5029200"/>
              <a:chOff x="147600" y="1230480"/>
              <a:chExt cx="8844120" cy="5029200"/>
            </a:xfrm>
          </p:grpSpPr>
          <p:grpSp>
            <p:nvGrpSpPr>
              <p:cNvPr id="3575" name=""/>
              <p:cNvGrpSpPr/>
              <p:nvPr/>
            </p:nvGrpSpPr>
            <p:grpSpPr>
              <a:xfrm>
                <a:off x="152280" y="1230480"/>
                <a:ext cx="8839440" cy="5029200"/>
                <a:chOff x="152280" y="1230480"/>
                <a:chExt cx="8839440" cy="5029200"/>
              </a:xfrm>
            </p:grpSpPr>
            <p:sp>
              <p:nvSpPr>
                <p:cNvPr id="3576" name=""/>
                <p:cNvSpPr/>
                <p:nvPr/>
              </p:nvSpPr>
              <p:spPr>
                <a:xfrm>
                  <a:off x="2981160" y="1230480"/>
                  <a:ext cx="0" cy="50292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8991720" y="1230480"/>
                  <a:ext cx="0" cy="50292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7315200" y="1230480"/>
                  <a:ext cx="0" cy="50292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5715000" y="1230480"/>
                  <a:ext cx="0" cy="50292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4343400" y="1230480"/>
                  <a:ext cx="0" cy="50292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152280" y="3516480"/>
                  <a:ext cx="88394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152280" y="6259680"/>
                  <a:ext cx="88394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152280" y="4278240"/>
                  <a:ext cx="88394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152280" y="5802480"/>
                  <a:ext cx="88394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152280" y="2068560"/>
                  <a:ext cx="88394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198360" y="1409760"/>
                  <a:ext cx="2697120" cy="6588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7" name=""/>
              <p:cNvSpPr/>
              <p:nvPr/>
            </p:nvSpPr>
            <p:spPr>
              <a:xfrm>
                <a:off x="147600" y="5421240"/>
                <a:ext cx="8839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F214-C8C7-47A0-B8EA-ECC3EE0058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Literatur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589" name=""/>
          <p:cNvCxnSpPr>
            <a:stCxn id="3590" idx="0"/>
            <a:endCxn id="3591" idx="2"/>
          </p:cNvCxnSpPr>
          <p:nvPr/>
        </p:nvCxnSpPr>
        <p:spPr>
          <a:xfrm flipH="1" flipV="1" rot="5400000">
            <a:off x="6048720" y="3516480"/>
            <a:ext cx="1143720" cy="1964520"/>
          </a:xfrm>
          <a:prstGeom prst="curvedConnector5">
            <a:avLst>
              <a:gd name="adj1" fmla="val 51637"/>
              <a:gd name="adj2" fmla="val 50000"/>
              <a:gd name="adj3" fmla="val 51637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592" name=""/>
          <p:cNvCxnSpPr>
            <a:stCxn id="3593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594" name=""/>
          <p:cNvCxnSpPr>
            <a:stCxn id="3593" idx="2"/>
            <a:endCxn id="3595" idx="3"/>
          </p:cNvCxnSpPr>
          <p:nvPr/>
        </p:nvCxnSpPr>
        <p:spPr>
          <a:xfrm flipV="1" rot="16200000">
            <a:off x="2729160" y="2793960"/>
            <a:ext cx="1307160" cy="2375280"/>
          </a:xfrm>
          <a:prstGeom prst="curvedConnector5">
            <a:avLst>
              <a:gd name="adj1" fmla="val -17493"/>
              <a:gd name="adj2" fmla="val 30953"/>
              <a:gd name="adj3" fmla="val -17493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596" name=""/>
          <p:cNvCxnSpPr>
            <a:stCxn id="3597" idx="1"/>
            <a:endCxn id="3591" idx="2"/>
          </p:cNvCxnSpPr>
          <p:nvPr/>
        </p:nvCxnSpPr>
        <p:spPr>
          <a:xfrm flipH="1" rot="10800000">
            <a:off x="7479000" y="3926880"/>
            <a:ext cx="122400" cy="1956240"/>
          </a:xfrm>
          <a:prstGeom prst="curvedConnector5">
            <a:avLst>
              <a:gd name="adj1" fmla="val -187315"/>
              <a:gd name="adj2" fmla="val 25234"/>
              <a:gd name="adj3" fmla="val -18731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3598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3599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600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3601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615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3616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7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628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3629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3630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3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4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5" name=""/>
          <p:cNvSpPr/>
          <p:nvPr/>
        </p:nvSpPr>
        <p:spPr>
          <a:xfrm>
            <a:off x="3276720" y="2209680"/>
            <a:ext cx="3278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636" name=""/>
          <p:cNvCxnSpPr>
            <a:stCxn id="3637" idx="1"/>
            <a:endCxn id="3595" idx="3"/>
          </p:cNvCxnSpPr>
          <p:nvPr/>
        </p:nvCxnSpPr>
        <p:spPr>
          <a:xfrm flipV="1" rot="10800000">
            <a:off x="2194920" y="2692080"/>
            <a:ext cx="4561200" cy="63720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638" name=""/>
          <p:cNvCxnSpPr>
            <a:stCxn id="3595" idx="3"/>
            <a:endCxn id="3639" idx="0"/>
          </p:cNvCxnSpPr>
          <p:nvPr/>
        </p:nvCxnSpPr>
        <p:spPr>
          <a:xfrm>
            <a:off x="2195280" y="3328920"/>
            <a:ext cx="129240" cy="143424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640" name=""/>
          <p:cNvCxnSpPr>
            <a:stCxn id="3639" idx="1"/>
            <a:endCxn id="3641" idx="2"/>
          </p:cNvCxnSpPr>
          <p:nvPr/>
        </p:nvCxnSpPr>
        <p:spPr>
          <a:xfrm flipH="1" flipV="1" rot="10800000">
            <a:off x="1074240" y="5157720"/>
            <a:ext cx="1286640" cy="1192680"/>
          </a:xfrm>
          <a:prstGeom prst="curvedConnector5">
            <a:avLst>
              <a:gd name="adj1" fmla="val -18387"/>
              <a:gd name="adj2" fmla="val 59601"/>
              <a:gd name="adj3" fmla="val -1838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642" name=""/>
          <p:cNvCxnSpPr>
            <a:endCxn id="3643" idx="3"/>
          </p:cNvCxnSpPr>
          <p:nvPr/>
        </p:nvCxnSpPr>
        <p:spPr>
          <a:xfrm>
            <a:off x="2230560" y="64386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644" name=""/>
          <p:cNvCxnSpPr>
            <a:stCxn id="3643" idx="2"/>
            <a:endCxn id="3597" idx="1"/>
          </p:cNvCxnSpPr>
          <p:nvPr/>
        </p:nvCxnSpPr>
        <p:spPr>
          <a:xfrm flipH="1" flipV="1" rot="5400000">
            <a:off x="6277320" y="5274000"/>
            <a:ext cx="594720" cy="1812240"/>
          </a:xfrm>
          <a:prstGeom prst="curvedConnector5">
            <a:avLst>
              <a:gd name="adj1" fmla="val -38461"/>
              <a:gd name="adj2" fmla="val 28034"/>
              <a:gd name="adj3" fmla="val -38461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645" name=""/>
          <p:cNvCxnSpPr>
            <a:stCxn id="3591" idx="2"/>
            <a:endCxn id="3646" idx="0"/>
          </p:cNvCxnSpPr>
          <p:nvPr/>
        </p:nvCxnSpPr>
        <p:spPr>
          <a:xfrm flipV="1" rot="16200000">
            <a:off x="6602400" y="2927520"/>
            <a:ext cx="1032840" cy="967320"/>
          </a:xfrm>
          <a:prstGeom prst="curvedConnector5">
            <a:avLst>
              <a:gd name="adj1" fmla="val -22140"/>
              <a:gd name="adj2" fmla="val 62137"/>
              <a:gd name="adj3" fmla="val -2214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647" name=""/>
          <p:cNvCxnSpPr>
            <a:stCxn id="3648" idx="3"/>
            <a:endCxn id="3643" idx="2"/>
          </p:cNvCxnSpPr>
          <p:nvPr/>
        </p:nvCxnSpPr>
        <p:spPr>
          <a:xfrm>
            <a:off x="1515960" y="4987440"/>
            <a:ext cx="4153680" cy="1490040"/>
          </a:xfrm>
          <a:prstGeom prst="curvedConnector5">
            <a:avLst>
              <a:gd name="adj1" fmla="val 47317"/>
              <a:gd name="adj2" fmla="val 57660"/>
              <a:gd name="adj3" fmla="val 4731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3649" name=""/>
          <p:cNvGrpSpPr/>
          <p:nvPr/>
        </p:nvGrpSpPr>
        <p:grpSpPr>
          <a:xfrm>
            <a:off x="1066680" y="4711680"/>
            <a:ext cx="2514240" cy="1638000"/>
            <a:chOff x="1066680" y="4711680"/>
            <a:chExt cx="2514240" cy="1638000"/>
          </a:xfrm>
        </p:grpSpPr>
        <p:grpSp>
          <p:nvGrpSpPr>
            <p:cNvPr id="3650" name=""/>
            <p:cNvGrpSpPr/>
            <p:nvPr/>
          </p:nvGrpSpPr>
          <p:grpSpPr>
            <a:xfrm>
              <a:off x="1219320" y="5668200"/>
              <a:ext cx="2286000" cy="681480"/>
              <a:chOff x="1219320" y="5668200"/>
              <a:chExt cx="2286000" cy="681480"/>
            </a:xfrm>
          </p:grpSpPr>
          <p:sp>
            <p:nvSpPr>
              <p:cNvPr id="3651" name=""/>
              <p:cNvSpPr/>
              <p:nvPr/>
            </p:nvSpPr>
            <p:spPr>
              <a:xfrm>
                <a:off x="1676880" y="623772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1905840" y="613836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2363760" y="6138360"/>
                <a:ext cx="456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219320" y="623772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134440" y="623772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2590560" y="6237720"/>
                <a:ext cx="456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048840" y="623772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2018880" y="5837400"/>
                <a:ext cx="69012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2592000" y="6038640"/>
                <a:ext cx="456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1676880" y="6038640"/>
                <a:ext cx="456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135520" y="603864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1449000" y="613836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362680" y="593856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1905840" y="593820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665" name=""/>
              <p:cNvGrpSpPr/>
              <p:nvPr/>
            </p:nvGrpSpPr>
            <p:grpSpPr>
              <a:xfrm>
                <a:off x="2007360" y="5937120"/>
                <a:ext cx="708120" cy="412560"/>
                <a:chOff x="2007360" y="5937120"/>
                <a:chExt cx="708120" cy="412560"/>
              </a:xfrm>
            </p:grpSpPr>
            <p:sp>
              <p:nvSpPr>
                <p:cNvPr id="3666" name=""/>
                <p:cNvSpPr/>
                <p:nvPr/>
              </p:nvSpPr>
              <p:spPr>
                <a:xfrm>
                  <a:off x="2134440" y="5937120"/>
                  <a:ext cx="4564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2121480" y="5971320"/>
                  <a:ext cx="47952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>
                  <a:off x="2109960" y="6004440"/>
                  <a:ext cx="50220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>
                  <a:off x="2098800" y="6038280"/>
                  <a:ext cx="5248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>
                  <a:off x="2087280" y="6072480"/>
                  <a:ext cx="5482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2076120" y="6107040"/>
                  <a:ext cx="57096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2064240" y="6141600"/>
                  <a:ext cx="59400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2053080" y="6175800"/>
                  <a:ext cx="6166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2041560" y="6210360"/>
                  <a:ext cx="63936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2030400" y="6246720"/>
                  <a:ext cx="66240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2018880" y="6280920"/>
                  <a:ext cx="6850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2007360" y="6315120"/>
                  <a:ext cx="70812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7" name=""/>
              <p:cNvSpPr/>
              <p:nvPr/>
            </p:nvSpPr>
            <p:spPr>
              <a:xfrm rot="16200000">
                <a:off x="2276280" y="5513760"/>
                <a:ext cx="169920" cy="47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678" name=""/>
              <p:cNvGrpSpPr/>
              <p:nvPr/>
            </p:nvGrpSpPr>
            <p:grpSpPr>
              <a:xfrm>
                <a:off x="2288880" y="5872320"/>
                <a:ext cx="145080" cy="64440"/>
                <a:chOff x="2288880" y="5872320"/>
                <a:chExt cx="145080" cy="64440"/>
              </a:xfrm>
            </p:grpSpPr>
            <p:grpSp>
              <p:nvGrpSpPr>
                <p:cNvPr id="3679" name=""/>
                <p:cNvGrpSpPr/>
                <p:nvPr/>
              </p:nvGrpSpPr>
              <p:grpSpPr>
                <a:xfrm>
                  <a:off x="2288880" y="5872320"/>
                  <a:ext cx="145080" cy="64440"/>
                  <a:chOff x="2288880" y="5872320"/>
                  <a:chExt cx="145080" cy="64440"/>
                </a:xfrm>
              </p:grpSpPr>
              <p:sp>
                <p:nvSpPr>
                  <p:cNvPr id="3680" name=""/>
                  <p:cNvSpPr/>
                  <p:nvPr/>
                </p:nvSpPr>
                <p:spPr>
                  <a:xfrm>
                    <a:off x="2288880" y="5872320"/>
                    <a:ext cx="0" cy="6444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2433240" y="5872320"/>
                    <a:ext cx="0" cy="6444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2288880" y="5872320"/>
                    <a:ext cx="14508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3" name=""/>
                <p:cNvSpPr/>
                <p:nvPr/>
              </p:nvSpPr>
              <p:spPr>
                <a:xfrm>
                  <a:off x="2301480" y="5875920"/>
                  <a:ext cx="122400" cy="608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4" name=""/>
              <p:cNvSpPr/>
              <p:nvPr/>
            </p:nvSpPr>
            <p:spPr>
              <a:xfrm>
                <a:off x="2819880" y="6138360"/>
                <a:ext cx="456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685" name=""/>
            <p:cNvGrpSpPr/>
            <p:nvPr/>
          </p:nvGrpSpPr>
          <p:grpSpPr>
            <a:xfrm>
              <a:off x="1066680" y="4711680"/>
              <a:ext cx="2514240" cy="892800"/>
              <a:chOff x="1066680" y="4711680"/>
              <a:chExt cx="2514240" cy="892800"/>
            </a:xfrm>
          </p:grpSpPr>
          <p:sp>
            <p:nvSpPr>
              <p:cNvPr id="3639" name=""/>
              <p:cNvSpPr/>
              <p:nvPr/>
            </p:nvSpPr>
            <p:spPr>
              <a:xfrm>
                <a:off x="1066680" y="4711680"/>
                <a:ext cx="2514240" cy="892800"/>
              </a:xfrm>
              <a:prstGeom prst="cloudCallout">
                <a:avLst>
                  <a:gd name="adj1" fmla="val 2430"/>
                  <a:gd name="adj2" fmla="val 49037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IBIS-Technologie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988280" y="5535720"/>
                <a:ext cx="586800" cy="68760"/>
              </a:xfrm>
              <a:prstGeom prst="flowChartProcess">
                <a:avLst/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7" name=""/>
          <p:cNvGrpSpPr/>
          <p:nvPr/>
        </p:nvGrpSpPr>
        <p:grpSpPr>
          <a:xfrm>
            <a:off x="6264360" y="4156200"/>
            <a:ext cx="2723760" cy="1747800"/>
            <a:chOff x="6264360" y="4156200"/>
            <a:chExt cx="2723760" cy="1747800"/>
          </a:xfrm>
        </p:grpSpPr>
        <p:grpSp>
          <p:nvGrpSpPr>
            <p:cNvPr id="3688" name=""/>
            <p:cNvGrpSpPr/>
            <p:nvPr/>
          </p:nvGrpSpPr>
          <p:grpSpPr>
            <a:xfrm>
              <a:off x="7086600" y="5094000"/>
              <a:ext cx="1143000" cy="810000"/>
              <a:chOff x="7086600" y="5094000"/>
              <a:chExt cx="1143000" cy="810000"/>
            </a:xfrm>
          </p:grpSpPr>
          <p:sp>
            <p:nvSpPr>
              <p:cNvPr id="3689" name=""/>
              <p:cNvSpPr/>
              <p:nvPr/>
            </p:nvSpPr>
            <p:spPr>
              <a:xfrm>
                <a:off x="73152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4296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659000" y="565272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08660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5441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772400" y="577080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001360" y="577080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486560" y="5295600"/>
                <a:ext cx="34488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77312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315200" y="553428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544880" y="55342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20144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6582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429680" y="541548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03" name=""/>
              <p:cNvGrpSpPr/>
              <p:nvPr/>
            </p:nvGrpSpPr>
            <p:grpSpPr>
              <a:xfrm>
                <a:off x="7480440" y="5413680"/>
                <a:ext cx="353880" cy="490320"/>
                <a:chOff x="7480440" y="5413680"/>
                <a:chExt cx="353880" cy="490320"/>
              </a:xfrm>
            </p:grpSpPr>
            <p:sp>
              <p:nvSpPr>
                <p:cNvPr id="3704" name=""/>
                <p:cNvSpPr/>
                <p:nvPr/>
              </p:nvSpPr>
              <p:spPr>
                <a:xfrm>
                  <a:off x="7543800" y="5413680"/>
                  <a:ext cx="2282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7537320" y="5454360"/>
                  <a:ext cx="2397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7531560" y="5493600"/>
                  <a:ext cx="25092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7526160" y="5533920"/>
                  <a:ext cx="2624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7520400" y="5574600"/>
                  <a:ext cx="2739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7514640" y="5616000"/>
                  <a:ext cx="2854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7508880" y="5656680"/>
                  <a:ext cx="2970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7503120" y="5697360"/>
                  <a:ext cx="3081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7497360" y="5738400"/>
                  <a:ext cx="3196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>
                  <a:off x="7491960" y="5781600"/>
                  <a:ext cx="3312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7486200" y="5822280"/>
                  <a:ext cx="3423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7480440" y="5862960"/>
                  <a:ext cx="3538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5" name=""/>
              <p:cNvSpPr/>
              <p:nvPr/>
            </p:nvSpPr>
            <p:spPr>
              <a:xfrm rot="16200000">
                <a:off x="7556760" y="5075280"/>
                <a:ext cx="201960" cy="2394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16" name=""/>
              <p:cNvGrpSpPr/>
              <p:nvPr/>
            </p:nvGrpSpPr>
            <p:grpSpPr>
              <a:xfrm>
                <a:off x="7621200" y="5337000"/>
                <a:ext cx="72360" cy="76680"/>
                <a:chOff x="7621200" y="5337000"/>
                <a:chExt cx="72360" cy="76680"/>
              </a:xfrm>
            </p:grpSpPr>
            <p:grpSp>
              <p:nvGrpSpPr>
                <p:cNvPr id="3717" name=""/>
                <p:cNvGrpSpPr/>
                <p:nvPr/>
              </p:nvGrpSpPr>
              <p:grpSpPr>
                <a:xfrm>
                  <a:off x="7621200" y="5337000"/>
                  <a:ext cx="72360" cy="76680"/>
                  <a:chOff x="7621200" y="5337000"/>
                  <a:chExt cx="72360" cy="76680"/>
                </a:xfrm>
              </p:grpSpPr>
              <p:sp>
                <p:nvSpPr>
                  <p:cNvPr id="3718" name=""/>
                  <p:cNvSpPr/>
                  <p:nvPr/>
                </p:nvSpPr>
                <p:spPr>
                  <a:xfrm>
                    <a:off x="7621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693200" y="533700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7621200" y="5337000"/>
                    <a:ext cx="7236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1" name=""/>
                <p:cNvSpPr/>
                <p:nvPr/>
              </p:nvSpPr>
              <p:spPr>
                <a:xfrm>
                  <a:off x="7627320" y="5341320"/>
                  <a:ext cx="61200" cy="72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2" name=""/>
              <p:cNvSpPr/>
              <p:nvPr/>
            </p:nvSpPr>
            <p:spPr>
              <a:xfrm>
                <a:off x="7886880" y="5652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723" name=""/>
            <p:cNvGrpSpPr/>
            <p:nvPr/>
          </p:nvGrpSpPr>
          <p:grpSpPr>
            <a:xfrm>
              <a:off x="6264360" y="4156200"/>
              <a:ext cx="2723760" cy="811080"/>
              <a:chOff x="6264360" y="4156200"/>
              <a:chExt cx="2723760" cy="811080"/>
            </a:xfrm>
          </p:grpSpPr>
          <p:sp>
            <p:nvSpPr>
              <p:cNvPr id="3724" name=""/>
              <p:cNvSpPr/>
              <p:nvPr/>
            </p:nvSpPr>
            <p:spPr>
              <a:xfrm>
                <a:off x="6264360" y="4156200"/>
                <a:ext cx="2723760" cy="811080"/>
              </a:xfrm>
              <a:prstGeom prst="cloudCallout">
                <a:avLst>
                  <a:gd name="adj1" fmla="val 277"/>
                  <a:gd name="adj2" fmla="val 54925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Vcc-Reference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25" name=""/>
              <p:cNvGrpSpPr/>
              <p:nvPr/>
            </p:nvGrpSpPr>
            <p:grpSpPr>
              <a:xfrm>
                <a:off x="7353720" y="4745880"/>
                <a:ext cx="453600" cy="73440"/>
                <a:chOff x="7353720" y="4745880"/>
                <a:chExt cx="453600" cy="73440"/>
              </a:xfrm>
            </p:grpSpPr>
            <p:sp>
              <p:nvSpPr>
                <p:cNvPr id="3726" name=""/>
                <p:cNvSpPr/>
                <p:nvPr/>
              </p:nvSpPr>
              <p:spPr>
                <a:xfrm>
                  <a:off x="7353720" y="4745880"/>
                  <a:ext cx="9036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753516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7716600" y="474588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29" name=""/>
          <p:cNvGrpSpPr/>
          <p:nvPr/>
        </p:nvGrpSpPr>
        <p:grpSpPr>
          <a:xfrm>
            <a:off x="4495680" y="5030640"/>
            <a:ext cx="2286000" cy="1446120"/>
            <a:chOff x="4495680" y="5030640"/>
            <a:chExt cx="2286000" cy="1446120"/>
          </a:xfrm>
        </p:grpSpPr>
        <p:grpSp>
          <p:nvGrpSpPr>
            <p:cNvPr id="3730" name=""/>
            <p:cNvGrpSpPr/>
            <p:nvPr/>
          </p:nvGrpSpPr>
          <p:grpSpPr>
            <a:xfrm>
              <a:off x="4952880" y="5795280"/>
              <a:ext cx="1430280" cy="681480"/>
              <a:chOff x="4952880" y="5795280"/>
              <a:chExt cx="1430280" cy="681480"/>
            </a:xfrm>
          </p:grpSpPr>
          <p:sp>
            <p:nvSpPr>
              <p:cNvPr id="3731" name=""/>
              <p:cNvSpPr/>
              <p:nvPr/>
            </p:nvSpPr>
            <p:spPr>
              <a:xfrm>
                <a:off x="5239080" y="636480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382360" y="626544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668920" y="6265440"/>
                <a:ext cx="285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952880" y="636480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525280" y="636480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810760" y="6364800"/>
                <a:ext cx="285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097680" y="636480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453280" y="5964480"/>
                <a:ext cx="4316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811840" y="6165720"/>
                <a:ext cx="285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239080" y="6165720"/>
                <a:ext cx="28584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526000" y="616572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96520" y="626544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668200" y="606564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382360" y="606528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45" name=""/>
              <p:cNvGrpSpPr/>
              <p:nvPr/>
            </p:nvGrpSpPr>
            <p:grpSpPr>
              <a:xfrm>
                <a:off x="5446080" y="6064200"/>
                <a:ext cx="442800" cy="412560"/>
                <a:chOff x="5446080" y="6064200"/>
                <a:chExt cx="442800" cy="41256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5525640" y="6064200"/>
                  <a:ext cx="2854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5517360" y="6098400"/>
                  <a:ext cx="2998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5510160" y="6131520"/>
                  <a:ext cx="31428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5503320" y="6165360"/>
                  <a:ext cx="32832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5496120" y="6199560"/>
                  <a:ext cx="34272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5488920" y="6234120"/>
                  <a:ext cx="35712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5481720" y="6268680"/>
                  <a:ext cx="37152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5474520" y="6302880"/>
                  <a:ext cx="38556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5467320" y="6337440"/>
                  <a:ext cx="39996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5460480" y="6373800"/>
                  <a:ext cx="41436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>
                  <a:off x="5453280" y="6408000"/>
                  <a:ext cx="42840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5446080" y="6442200"/>
                  <a:ext cx="442800" cy="34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57" name=""/>
              <p:cNvSpPr/>
              <p:nvPr/>
            </p:nvSpPr>
            <p:spPr>
              <a:xfrm rot="16200000">
                <a:off x="5582520" y="5730480"/>
                <a:ext cx="169920" cy="2995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58" name=""/>
              <p:cNvGrpSpPr/>
              <p:nvPr/>
            </p:nvGrpSpPr>
            <p:grpSpPr>
              <a:xfrm>
                <a:off x="5622120" y="5999400"/>
                <a:ext cx="90720" cy="64440"/>
                <a:chOff x="5622120" y="5999400"/>
                <a:chExt cx="90720" cy="64440"/>
              </a:xfrm>
            </p:grpSpPr>
            <p:grpSp>
              <p:nvGrpSpPr>
                <p:cNvPr id="3759" name=""/>
                <p:cNvGrpSpPr/>
                <p:nvPr/>
              </p:nvGrpSpPr>
              <p:grpSpPr>
                <a:xfrm>
                  <a:off x="5622120" y="5999400"/>
                  <a:ext cx="90720" cy="64440"/>
                  <a:chOff x="5622120" y="5999400"/>
                  <a:chExt cx="90720" cy="64440"/>
                </a:xfrm>
              </p:grpSpPr>
              <p:sp>
                <p:nvSpPr>
                  <p:cNvPr id="3760" name=""/>
                  <p:cNvSpPr/>
                  <p:nvPr/>
                </p:nvSpPr>
                <p:spPr>
                  <a:xfrm>
                    <a:off x="5622120" y="5999400"/>
                    <a:ext cx="0" cy="6444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>
                    <a:off x="5712480" y="5999400"/>
                    <a:ext cx="0" cy="6444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2" name=""/>
                  <p:cNvSpPr/>
                  <p:nvPr/>
                </p:nvSpPr>
                <p:spPr>
                  <a:xfrm>
                    <a:off x="5622120" y="5999400"/>
                    <a:ext cx="9072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3" name=""/>
                <p:cNvSpPr/>
                <p:nvPr/>
              </p:nvSpPr>
              <p:spPr>
                <a:xfrm>
                  <a:off x="5630040" y="6003000"/>
                  <a:ext cx="76680" cy="608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4" name=""/>
              <p:cNvSpPr/>
              <p:nvPr/>
            </p:nvSpPr>
            <p:spPr>
              <a:xfrm>
                <a:off x="5954400" y="6265440"/>
                <a:ext cx="285480" cy="997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765" name=""/>
            <p:cNvGrpSpPr/>
            <p:nvPr/>
          </p:nvGrpSpPr>
          <p:grpSpPr>
            <a:xfrm>
              <a:off x="4495680" y="5030640"/>
              <a:ext cx="2286000" cy="701280"/>
              <a:chOff x="4495680" y="5030640"/>
              <a:chExt cx="2286000" cy="701280"/>
            </a:xfrm>
          </p:grpSpPr>
          <p:sp>
            <p:nvSpPr>
              <p:cNvPr id="3590" name=""/>
              <p:cNvSpPr/>
              <p:nvPr/>
            </p:nvSpPr>
            <p:spPr>
              <a:xfrm>
                <a:off x="4495680" y="5030640"/>
                <a:ext cx="2286000" cy="701280"/>
              </a:xfrm>
              <a:prstGeom prst="cloudCallout">
                <a:avLst>
                  <a:gd name="adj1" fmla="val 972"/>
                  <a:gd name="adj2" fmla="val 53407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Parameter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66" name=""/>
              <p:cNvGrpSpPr/>
              <p:nvPr/>
            </p:nvGrpSpPr>
            <p:grpSpPr>
              <a:xfrm>
                <a:off x="5334120" y="5540400"/>
                <a:ext cx="533160" cy="63720"/>
                <a:chOff x="5334120" y="5540400"/>
                <a:chExt cx="533160" cy="63720"/>
              </a:xfrm>
            </p:grpSpPr>
            <p:sp>
              <p:nvSpPr>
                <p:cNvPr id="3767" name=""/>
                <p:cNvSpPr/>
                <p:nvPr/>
              </p:nvSpPr>
              <p:spPr>
                <a:xfrm>
                  <a:off x="5334120" y="5540400"/>
                  <a:ext cx="7596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5486400" y="5540400"/>
                  <a:ext cx="7632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5638680" y="5540400"/>
                  <a:ext cx="7632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5791320" y="5540400"/>
                  <a:ext cx="7596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71" name=""/>
          <p:cNvGrpSpPr/>
          <p:nvPr/>
        </p:nvGrpSpPr>
        <p:grpSpPr>
          <a:xfrm>
            <a:off x="6629400" y="2544840"/>
            <a:ext cx="1905120" cy="1382760"/>
            <a:chOff x="6629400" y="2544840"/>
            <a:chExt cx="1905120" cy="1382760"/>
          </a:xfrm>
        </p:grpSpPr>
        <p:grpSp>
          <p:nvGrpSpPr>
            <p:cNvPr id="3772" name=""/>
            <p:cNvGrpSpPr/>
            <p:nvPr/>
          </p:nvGrpSpPr>
          <p:grpSpPr>
            <a:xfrm>
              <a:off x="6858000" y="3309840"/>
              <a:ext cx="1488960" cy="617760"/>
              <a:chOff x="6858000" y="3309840"/>
              <a:chExt cx="1488960" cy="617760"/>
            </a:xfrm>
          </p:grpSpPr>
          <p:sp>
            <p:nvSpPr>
              <p:cNvPr id="3773" name=""/>
              <p:cNvSpPr/>
              <p:nvPr/>
            </p:nvSpPr>
            <p:spPr>
              <a:xfrm>
                <a:off x="7156080" y="382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305120" y="373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603560" y="3736080"/>
                <a:ext cx="29772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58000" y="382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454160" y="382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751160" y="3826080"/>
                <a:ext cx="29772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8049600" y="382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378920" y="3463200"/>
                <a:ext cx="44964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752240" y="3645360"/>
                <a:ext cx="29772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156080" y="3645360"/>
                <a:ext cx="29772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454880" y="364536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007400" y="373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602840" y="355500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305120" y="355464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787" name=""/>
              <p:cNvGrpSpPr/>
              <p:nvPr/>
            </p:nvGrpSpPr>
            <p:grpSpPr>
              <a:xfrm>
                <a:off x="7371360" y="3553560"/>
                <a:ext cx="461160" cy="374040"/>
                <a:chOff x="7371360" y="3553560"/>
                <a:chExt cx="461160" cy="374040"/>
              </a:xfrm>
            </p:grpSpPr>
            <p:sp>
              <p:nvSpPr>
                <p:cNvPr id="3788" name=""/>
                <p:cNvSpPr/>
                <p:nvPr/>
              </p:nvSpPr>
              <p:spPr>
                <a:xfrm>
                  <a:off x="7454160" y="3553560"/>
                  <a:ext cx="29736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7445520" y="3584520"/>
                  <a:ext cx="31248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7438320" y="3614400"/>
                  <a:ext cx="32724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7430760" y="3645360"/>
                  <a:ext cx="34200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7423560" y="3676320"/>
                  <a:ext cx="35712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7416000" y="3707640"/>
                  <a:ext cx="37188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7408440" y="3738960"/>
                  <a:ext cx="38700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7400880" y="3769920"/>
                  <a:ext cx="40176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7393680" y="3801240"/>
                  <a:ext cx="41652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7386120" y="3834360"/>
                  <a:ext cx="43128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7378920" y="3865320"/>
                  <a:ext cx="44604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7371360" y="3896280"/>
                  <a:ext cx="461160" cy="313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9" name=""/>
              <p:cNvSpPr/>
              <p:nvPr/>
            </p:nvSpPr>
            <p:spPr>
              <a:xfrm rot="16200000">
                <a:off x="7525080" y="3231000"/>
                <a:ext cx="154080" cy="3117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00" name=""/>
              <p:cNvGrpSpPr/>
              <p:nvPr/>
            </p:nvGrpSpPr>
            <p:grpSpPr>
              <a:xfrm>
                <a:off x="7554600" y="3494880"/>
                <a:ext cx="94320" cy="58320"/>
                <a:chOff x="7554600" y="3494880"/>
                <a:chExt cx="94320" cy="58320"/>
              </a:xfrm>
            </p:grpSpPr>
            <p:grpSp>
              <p:nvGrpSpPr>
                <p:cNvPr id="3801" name=""/>
                <p:cNvGrpSpPr/>
                <p:nvPr/>
              </p:nvGrpSpPr>
              <p:grpSpPr>
                <a:xfrm>
                  <a:off x="7554600" y="3494880"/>
                  <a:ext cx="94320" cy="58320"/>
                  <a:chOff x="7554600" y="3494880"/>
                  <a:chExt cx="94320" cy="58320"/>
                </a:xfrm>
              </p:grpSpPr>
              <p:sp>
                <p:nvSpPr>
                  <p:cNvPr id="3802" name=""/>
                  <p:cNvSpPr/>
                  <p:nvPr/>
                </p:nvSpPr>
                <p:spPr>
                  <a:xfrm>
                    <a:off x="7554600" y="3494880"/>
                    <a:ext cx="0" cy="5832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>
                    <a:off x="7648560" y="3494880"/>
                    <a:ext cx="0" cy="5832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>
                    <a:off x="7554600" y="3494880"/>
                    <a:ext cx="9432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5" name=""/>
                <p:cNvSpPr/>
                <p:nvPr/>
              </p:nvSpPr>
              <p:spPr>
                <a:xfrm>
                  <a:off x="7562520" y="3498120"/>
                  <a:ext cx="79560" cy="550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6" name=""/>
              <p:cNvSpPr/>
              <p:nvPr/>
            </p:nvSpPr>
            <p:spPr>
              <a:xfrm>
                <a:off x="7900560" y="3736080"/>
                <a:ext cx="297360" cy="9036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807" name=""/>
            <p:cNvGrpSpPr/>
            <p:nvPr/>
          </p:nvGrpSpPr>
          <p:grpSpPr>
            <a:xfrm>
              <a:off x="6629400" y="2544840"/>
              <a:ext cx="1905120" cy="701280"/>
              <a:chOff x="6629400" y="2544840"/>
              <a:chExt cx="1905120" cy="701280"/>
            </a:xfrm>
          </p:grpSpPr>
          <p:sp>
            <p:nvSpPr>
              <p:cNvPr id="3646" name=""/>
              <p:cNvSpPr/>
              <p:nvPr/>
            </p:nvSpPr>
            <p:spPr>
              <a:xfrm>
                <a:off x="6629400" y="2544840"/>
                <a:ext cx="1905120" cy="701280"/>
              </a:xfrm>
              <a:prstGeom prst="cloudCallout">
                <a:avLst>
                  <a:gd name="adj1" fmla="val 578"/>
                  <a:gd name="adj2" fmla="val 46592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Exampl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08" name=""/>
              <p:cNvGrpSpPr/>
              <p:nvPr/>
            </p:nvGrpSpPr>
            <p:grpSpPr>
              <a:xfrm>
                <a:off x="7528680" y="3054600"/>
                <a:ext cx="158400" cy="63720"/>
                <a:chOff x="7528680" y="3054600"/>
                <a:chExt cx="158400" cy="63720"/>
              </a:xfrm>
            </p:grpSpPr>
            <p:sp>
              <p:nvSpPr>
                <p:cNvPr id="3809" name=""/>
                <p:cNvSpPr/>
                <p:nvPr/>
              </p:nvSpPr>
              <p:spPr>
                <a:xfrm>
                  <a:off x="7528680" y="3054600"/>
                  <a:ext cx="5256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7634160" y="3054600"/>
                  <a:ext cx="5292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1" name=""/>
          <p:cNvGrpSpPr/>
          <p:nvPr/>
        </p:nvGrpSpPr>
        <p:grpSpPr>
          <a:xfrm>
            <a:off x="914400" y="1589040"/>
            <a:ext cx="2286000" cy="1765080"/>
            <a:chOff x="914400" y="1589040"/>
            <a:chExt cx="2286000" cy="1765080"/>
          </a:xfrm>
        </p:grpSpPr>
        <p:grpSp>
          <p:nvGrpSpPr>
            <p:cNvPr id="3812" name=""/>
            <p:cNvGrpSpPr/>
            <p:nvPr/>
          </p:nvGrpSpPr>
          <p:grpSpPr>
            <a:xfrm>
              <a:off x="1447920" y="2353680"/>
              <a:ext cx="1142640" cy="1000440"/>
              <a:chOff x="1447920" y="2353680"/>
              <a:chExt cx="1142640" cy="1000440"/>
            </a:xfrm>
          </p:grpSpPr>
          <p:sp>
            <p:nvSpPr>
              <p:cNvPr id="3813" name=""/>
              <p:cNvSpPr/>
              <p:nvPr/>
            </p:nvSpPr>
            <p:spPr>
              <a:xfrm>
                <a:off x="1676880" y="3188880"/>
                <a:ext cx="22752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1791360" y="3043080"/>
                <a:ext cx="227880" cy="1468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2020320" y="3043080"/>
                <a:ext cx="227880" cy="1468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1447920" y="3188880"/>
                <a:ext cx="22752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1905840" y="3188880"/>
                <a:ext cx="22752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2133720" y="3188880"/>
                <a:ext cx="22788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2362680" y="3188880"/>
                <a:ext cx="22788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847520" y="2602440"/>
                <a:ext cx="34488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2133720" y="2896920"/>
                <a:ext cx="22896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676880" y="2896920"/>
                <a:ext cx="22752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905840" y="2896920"/>
                <a:ext cx="22752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562040" y="3043080"/>
                <a:ext cx="228960" cy="1468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2019240" y="2750760"/>
                <a:ext cx="22896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791360" y="2750760"/>
                <a:ext cx="227880" cy="145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27" name=""/>
              <p:cNvGrpSpPr/>
              <p:nvPr/>
            </p:nvGrpSpPr>
            <p:grpSpPr>
              <a:xfrm>
                <a:off x="1841400" y="2748600"/>
                <a:ext cx="354240" cy="605520"/>
                <a:chOff x="1841400" y="2748600"/>
                <a:chExt cx="354240" cy="605520"/>
              </a:xfrm>
            </p:grpSpPr>
            <p:sp>
              <p:nvSpPr>
                <p:cNvPr id="3828" name=""/>
                <p:cNvSpPr/>
                <p:nvPr/>
              </p:nvSpPr>
              <p:spPr>
                <a:xfrm>
                  <a:off x="1904760" y="2748600"/>
                  <a:ext cx="22860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1898280" y="2799000"/>
                  <a:ext cx="24012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1892880" y="2847240"/>
                  <a:ext cx="25128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1887120" y="2897280"/>
                  <a:ext cx="26280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1881360" y="2947320"/>
                  <a:ext cx="27432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1875600" y="2998080"/>
                  <a:ext cx="28548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>
                  <a:off x="1869840" y="3048480"/>
                  <a:ext cx="29736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1864080" y="3098880"/>
                  <a:ext cx="30852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1858320" y="3149640"/>
                  <a:ext cx="32004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1852920" y="3202920"/>
                  <a:ext cx="33156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1847160" y="3253320"/>
                  <a:ext cx="34272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1841400" y="3303360"/>
                  <a:ext cx="354240" cy="50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9" name=""/>
              <p:cNvSpPr/>
              <p:nvPr/>
            </p:nvSpPr>
            <p:spPr>
              <a:xfrm rot="16200000">
                <a:off x="1894320" y="2359080"/>
                <a:ext cx="249480" cy="2386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40" name=""/>
              <p:cNvGrpSpPr/>
              <p:nvPr/>
            </p:nvGrpSpPr>
            <p:grpSpPr>
              <a:xfrm>
                <a:off x="1982880" y="2654280"/>
                <a:ext cx="71640" cy="93960"/>
                <a:chOff x="1982880" y="2654280"/>
                <a:chExt cx="71640" cy="93960"/>
              </a:xfrm>
            </p:grpSpPr>
            <p:grpSp>
              <p:nvGrpSpPr>
                <p:cNvPr id="3841" name=""/>
                <p:cNvGrpSpPr/>
                <p:nvPr/>
              </p:nvGrpSpPr>
              <p:grpSpPr>
                <a:xfrm>
                  <a:off x="1982880" y="2654280"/>
                  <a:ext cx="71640" cy="93960"/>
                  <a:chOff x="1982880" y="2654280"/>
                  <a:chExt cx="71640" cy="93960"/>
                </a:xfrm>
              </p:grpSpPr>
              <p:sp>
                <p:nvSpPr>
                  <p:cNvPr id="3842" name=""/>
                  <p:cNvSpPr/>
                  <p:nvPr/>
                </p:nvSpPr>
                <p:spPr>
                  <a:xfrm>
                    <a:off x="1982880" y="2654280"/>
                    <a:ext cx="0" cy="9396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2054160" y="2654280"/>
                    <a:ext cx="0" cy="9396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>
                    <a:off x="1982880" y="2654280"/>
                    <a:ext cx="7164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45" name=""/>
                <p:cNvSpPr/>
                <p:nvPr/>
              </p:nvSpPr>
              <p:spPr>
                <a:xfrm>
                  <a:off x="1989000" y="2659680"/>
                  <a:ext cx="60480" cy="885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6" name=""/>
              <p:cNvSpPr/>
              <p:nvPr/>
            </p:nvSpPr>
            <p:spPr>
              <a:xfrm>
                <a:off x="2248560" y="3043080"/>
                <a:ext cx="227520" cy="1468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847" name=""/>
            <p:cNvGrpSpPr/>
            <p:nvPr/>
          </p:nvGrpSpPr>
          <p:grpSpPr>
            <a:xfrm>
              <a:off x="914400" y="1589040"/>
              <a:ext cx="2286000" cy="828720"/>
              <a:chOff x="914400" y="1589040"/>
              <a:chExt cx="2286000" cy="828720"/>
            </a:xfrm>
          </p:grpSpPr>
          <p:sp>
            <p:nvSpPr>
              <p:cNvPr id="3848" name=""/>
              <p:cNvSpPr/>
              <p:nvPr/>
            </p:nvSpPr>
            <p:spPr>
              <a:xfrm>
                <a:off x="914400" y="1589040"/>
                <a:ext cx="2286000" cy="828720"/>
              </a:xfrm>
              <a:prstGeom prst="cloudCallout">
                <a:avLst>
                  <a:gd name="adj1" fmla="val -972"/>
                  <a:gd name="adj2" fmla="val 53527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Conclusion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49" name=""/>
              <p:cNvGrpSpPr/>
              <p:nvPr/>
            </p:nvGrpSpPr>
            <p:grpSpPr>
              <a:xfrm>
                <a:off x="1752480" y="2099160"/>
                <a:ext cx="533520" cy="190800"/>
                <a:chOff x="1752480" y="2099160"/>
                <a:chExt cx="533520" cy="190800"/>
              </a:xfrm>
            </p:grpSpPr>
            <p:sp>
              <p:nvSpPr>
                <p:cNvPr id="3850" name=""/>
                <p:cNvSpPr/>
                <p:nvPr/>
              </p:nvSpPr>
              <p:spPr>
                <a:xfrm>
                  <a:off x="1752480" y="2226600"/>
                  <a:ext cx="533520" cy="633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1" name=""/>
                <p:cNvGrpSpPr/>
                <p:nvPr/>
              </p:nvGrpSpPr>
              <p:grpSpPr>
                <a:xfrm>
                  <a:off x="1905120" y="2099160"/>
                  <a:ext cx="228600" cy="63720"/>
                  <a:chOff x="1905120" y="2099160"/>
                  <a:chExt cx="228600" cy="63720"/>
                </a:xfrm>
              </p:grpSpPr>
              <p:sp>
                <p:nvSpPr>
                  <p:cNvPr id="3852" name=""/>
                  <p:cNvSpPr/>
                  <p:nvPr/>
                </p:nvSpPr>
                <p:spPr>
                  <a:xfrm>
                    <a:off x="1905120" y="209916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2057400" y="209916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854" name=""/>
          <p:cNvGrpSpPr/>
          <p:nvPr/>
        </p:nvGrpSpPr>
        <p:grpSpPr>
          <a:xfrm>
            <a:off x="252360" y="3246480"/>
            <a:ext cx="2131200" cy="1764720"/>
            <a:chOff x="252360" y="3246480"/>
            <a:chExt cx="2131200" cy="1764720"/>
          </a:xfrm>
        </p:grpSpPr>
        <p:grpSp>
          <p:nvGrpSpPr>
            <p:cNvPr id="3855" name=""/>
            <p:cNvGrpSpPr/>
            <p:nvPr/>
          </p:nvGrpSpPr>
          <p:grpSpPr>
            <a:xfrm>
              <a:off x="678240" y="4074840"/>
              <a:ext cx="1278720" cy="936360"/>
              <a:chOff x="678240" y="4074840"/>
              <a:chExt cx="1278720" cy="936360"/>
            </a:xfrm>
          </p:grpSpPr>
          <p:sp>
            <p:nvSpPr>
              <p:cNvPr id="3856" name=""/>
              <p:cNvSpPr/>
              <p:nvPr/>
            </p:nvSpPr>
            <p:spPr>
              <a:xfrm>
                <a:off x="934200" y="485712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062000" y="472068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318320" y="4720680"/>
                <a:ext cx="25560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678240" y="485712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190160" y="485712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445400" y="4857120"/>
                <a:ext cx="25560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701720" y="485712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125720" y="4307400"/>
                <a:ext cx="38592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446120" y="4583520"/>
                <a:ext cx="25560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934200" y="4583520"/>
                <a:ext cx="25560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190880" y="458352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806760" y="472068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317960" y="444636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062000" y="444600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70" name=""/>
              <p:cNvGrpSpPr/>
              <p:nvPr/>
            </p:nvGrpSpPr>
            <p:grpSpPr>
              <a:xfrm>
                <a:off x="1118880" y="4444200"/>
                <a:ext cx="396000" cy="567000"/>
                <a:chOff x="1118880" y="4444200"/>
                <a:chExt cx="396000" cy="567000"/>
              </a:xfrm>
            </p:grpSpPr>
            <p:sp>
              <p:nvSpPr>
                <p:cNvPr id="3871" name=""/>
                <p:cNvSpPr/>
                <p:nvPr/>
              </p:nvSpPr>
              <p:spPr>
                <a:xfrm>
                  <a:off x="1189800" y="4444200"/>
                  <a:ext cx="25524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1182600" y="4491360"/>
                  <a:ext cx="26820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1176120" y="4536720"/>
                  <a:ext cx="28080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1170000" y="4583520"/>
                  <a:ext cx="29376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1163520" y="4630320"/>
                  <a:ext cx="30672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1157400" y="4677840"/>
                  <a:ext cx="31932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1150560" y="4725000"/>
                  <a:ext cx="33228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1144440" y="4772160"/>
                  <a:ext cx="34488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1137960" y="4820040"/>
                  <a:ext cx="35748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1131480" y="4869720"/>
                  <a:ext cx="37044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1125360" y="4916880"/>
                  <a:ext cx="38304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1118880" y="4963680"/>
                  <a:ext cx="396000" cy="4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2" name=""/>
              <p:cNvSpPr/>
              <p:nvPr/>
            </p:nvSpPr>
            <p:spPr>
              <a:xfrm rot="16200000">
                <a:off x="1200240" y="4057560"/>
                <a:ext cx="233280" cy="2674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83" name=""/>
              <p:cNvGrpSpPr/>
              <p:nvPr/>
            </p:nvGrpSpPr>
            <p:grpSpPr>
              <a:xfrm>
                <a:off x="1276560" y="4355640"/>
                <a:ext cx="81000" cy="88560"/>
                <a:chOff x="1276560" y="4355640"/>
                <a:chExt cx="81000" cy="88560"/>
              </a:xfrm>
            </p:grpSpPr>
            <p:grpSp>
              <p:nvGrpSpPr>
                <p:cNvPr id="3884" name=""/>
                <p:cNvGrpSpPr/>
                <p:nvPr/>
              </p:nvGrpSpPr>
              <p:grpSpPr>
                <a:xfrm>
                  <a:off x="1276560" y="4355640"/>
                  <a:ext cx="81000" cy="88560"/>
                  <a:chOff x="1276560" y="4355640"/>
                  <a:chExt cx="81000" cy="88560"/>
                </a:xfrm>
              </p:grpSpPr>
              <p:sp>
                <p:nvSpPr>
                  <p:cNvPr id="3885" name=""/>
                  <p:cNvSpPr/>
                  <p:nvPr/>
                </p:nvSpPr>
                <p:spPr>
                  <a:xfrm>
                    <a:off x="1276560" y="4355640"/>
                    <a:ext cx="0" cy="8856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1357200" y="4355640"/>
                    <a:ext cx="0" cy="8856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1276560" y="4355640"/>
                    <a:ext cx="8100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8" name=""/>
                <p:cNvSpPr/>
                <p:nvPr/>
              </p:nvSpPr>
              <p:spPr>
                <a:xfrm>
                  <a:off x="1283400" y="4360680"/>
                  <a:ext cx="68400" cy="83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9" name=""/>
              <p:cNvSpPr/>
              <p:nvPr/>
            </p:nvSpPr>
            <p:spPr>
              <a:xfrm>
                <a:off x="1573560" y="4720680"/>
                <a:ext cx="255240" cy="1368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890" name=""/>
            <p:cNvGrpSpPr/>
            <p:nvPr/>
          </p:nvGrpSpPr>
          <p:grpSpPr>
            <a:xfrm>
              <a:off x="252360" y="3246480"/>
              <a:ext cx="2131200" cy="765000"/>
              <a:chOff x="252360" y="3246480"/>
              <a:chExt cx="2131200" cy="765000"/>
            </a:xfrm>
          </p:grpSpPr>
          <p:sp>
            <p:nvSpPr>
              <p:cNvPr id="3891" name=""/>
              <p:cNvSpPr/>
              <p:nvPr/>
            </p:nvSpPr>
            <p:spPr>
              <a:xfrm>
                <a:off x="252360" y="3246480"/>
                <a:ext cx="2131200" cy="765000"/>
              </a:xfrm>
              <a:prstGeom prst="cloudCallout">
                <a:avLst>
                  <a:gd name="adj1" fmla="val 2083"/>
                  <a:gd name="adj2" fmla="val 64412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003366"/>
                    </a:solidFill>
                    <a:latin typeface="Monotype Corsiva"/>
                  </a:rPr>
                  <a:t>Literature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892" name=""/>
              <p:cNvGrpSpPr/>
              <p:nvPr/>
            </p:nvGrpSpPr>
            <p:grpSpPr>
              <a:xfrm>
                <a:off x="1104840" y="3692520"/>
                <a:ext cx="496800" cy="190800"/>
                <a:chOff x="1104840" y="3692520"/>
                <a:chExt cx="496800" cy="190800"/>
              </a:xfrm>
            </p:grpSpPr>
            <p:sp>
              <p:nvSpPr>
                <p:cNvPr id="3893" name=""/>
                <p:cNvSpPr/>
                <p:nvPr/>
              </p:nvSpPr>
              <p:spPr>
                <a:xfrm>
                  <a:off x="1104840" y="3819960"/>
                  <a:ext cx="496800" cy="633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1317600" y="3692520"/>
                  <a:ext cx="70920" cy="6372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95" name=""/>
          <p:cNvGrpSpPr/>
          <p:nvPr/>
        </p:nvGrpSpPr>
        <p:grpSpPr>
          <a:xfrm>
            <a:off x="5638680" y="1143000"/>
            <a:ext cx="2514600" cy="1572120"/>
            <a:chOff x="5638680" y="1143000"/>
            <a:chExt cx="2514600" cy="1572120"/>
          </a:xfrm>
        </p:grpSpPr>
        <p:grpSp>
          <p:nvGrpSpPr>
            <p:cNvPr id="3896" name=""/>
            <p:cNvGrpSpPr/>
            <p:nvPr/>
          </p:nvGrpSpPr>
          <p:grpSpPr>
            <a:xfrm>
              <a:off x="6400800" y="1779480"/>
              <a:ext cx="1031400" cy="935640"/>
              <a:chOff x="6400800" y="1779480"/>
              <a:chExt cx="1031400" cy="935640"/>
            </a:xfrm>
          </p:grpSpPr>
          <p:sp>
            <p:nvSpPr>
              <p:cNvPr id="3897" name=""/>
              <p:cNvSpPr/>
              <p:nvPr/>
            </p:nvSpPr>
            <p:spPr>
              <a:xfrm>
                <a:off x="6606720" y="256140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710400" y="2424600"/>
                <a:ext cx="205920" cy="1375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917760" y="2424600"/>
                <a:ext cx="205920" cy="1375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400800" y="256140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814080" y="256140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018920" y="2561400"/>
                <a:ext cx="20736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226280" y="256140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6761880" y="2012400"/>
                <a:ext cx="31104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020360" y="228780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606720" y="2287800"/>
                <a:ext cx="20736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814080" y="228780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504120" y="2424600"/>
                <a:ext cx="205920" cy="1375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916320" y="2151360"/>
                <a:ext cx="20628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710400" y="2151360"/>
                <a:ext cx="205920" cy="136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911" name=""/>
              <p:cNvGrpSpPr/>
              <p:nvPr/>
            </p:nvGrpSpPr>
            <p:grpSpPr>
              <a:xfrm>
                <a:off x="6756120" y="2149200"/>
                <a:ext cx="319320" cy="565920"/>
                <a:chOff x="6756120" y="2149200"/>
                <a:chExt cx="319320" cy="565920"/>
              </a:xfrm>
            </p:grpSpPr>
            <p:sp>
              <p:nvSpPr>
                <p:cNvPr id="3912" name=""/>
                <p:cNvSpPr/>
                <p:nvPr/>
              </p:nvSpPr>
              <p:spPr>
                <a:xfrm>
                  <a:off x="6813360" y="2149200"/>
                  <a:ext cx="20592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6807600" y="2196360"/>
                  <a:ext cx="21636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6802560" y="2241360"/>
                  <a:ext cx="22644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6797160" y="2288160"/>
                  <a:ext cx="23688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6792120" y="2335320"/>
                  <a:ext cx="24732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6787080" y="2382840"/>
                  <a:ext cx="25740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6781680" y="2429640"/>
                  <a:ext cx="26784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6776640" y="2476440"/>
                  <a:ext cx="27828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6771600" y="2524320"/>
                  <a:ext cx="28836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6766200" y="2574000"/>
                  <a:ext cx="29880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6761160" y="2621160"/>
                  <a:ext cx="30888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6756120" y="2667960"/>
                  <a:ext cx="319320" cy="47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3" name=""/>
              <p:cNvSpPr/>
              <p:nvPr/>
            </p:nvSpPr>
            <p:spPr>
              <a:xfrm rot="16200000">
                <a:off x="6799320" y="1788480"/>
                <a:ext cx="233640" cy="21528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924" name=""/>
              <p:cNvGrpSpPr/>
              <p:nvPr/>
            </p:nvGrpSpPr>
            <p:grpSpPr>
              <a:xfrm>
                <a:off x="6883560" y="2061000"/>
                <a:ext cx="64800" cy="88200"/>
                <a:chOff x="6883560" y="2061000"/>
                <a:chExt cx="64800" cy="88200"/>
              </a:xfrm>
            </p:grpSpPr>
            <p:grpSp>
              <p:nvGrpSpPr>
                <p:cNvPr id="3925" name=""/>
                <p:cNvGrpSpPr/>
                <p:nvPr/>
              </p:nvGrpSpPr>
              <p:grpSpPr>
                <a:xfrm>
                  <a:off x="6883560" y="2061000"/>
                  <a:ext cx="64800" cy="88200"/>
                  <a:chOff x="6883560" y="2061000"/>
                  <a:chExt cx="64800" cy="88200"/>
                </a:xfrm>
              </p:grpSpPr>
              <p:sp>
                <p:nvSpPr>
                  <p:cNvPr id="3926" name=""/>
                  <p:cNvSpPr/>
                  <p:nvPr/>
                </p:nvSpPr>
                <p:spPr>
                  <a:xfrm>
                    <a:off x="6883560" y="2061000"/>
                    <a:ext cx="0" cy="8820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6948360" y="2061000"/>
                    <a:ext cx="0" cy="8820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6883560" y="2061000"/>
                    <a:ext cx="6480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29" name=""/>
                <p:cNvSpPr/>
                <p:nvPr/>
              </p:nvSpPr>
              <p:spPr>
                <a:xfrm>
                  <a:off x="6888960" y="2066040"/>
                  <a:ext cx="54720" cy="831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0" name=""/>
              <p:cNvSpPr/>
              <p:nvPr/>
            </p:nvSpPr>
            <p:spPr>
              <a:xfrm>
                <a:off x="7122960" y="2424600"/>
                <a:ext cx="205920" cy="13752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931" name=""/>
            <p:cNvGrpSpPr/>
            <p:nvPr/>
          </p:nvGrpSpPr>
          <p:grpSpPr>
            <a:xfrm>
              <a:off x="5638680" y="1143000"/>
              <a:ext cx="2514600" cy="636840"/>
              <a:chOff x="5638680" y="1143000"/>
              <a:chExt cx="2514600" cy="636840"/>
            </a:xfrm>
          </p:grpSpPr>
          <p:sp>
            <p:nvSpPr>
              <p:cNvPr id="3932" name=""/>
              <p:cNvSpPr/>
              <p:nvPr/>
            </p:nvSpPr>
            <p:spPr>
              <a:xfrm>
                <a:off x="5638680" y="1143000"/>
                <a:ext cx="2514600" cy="636840"/>
              </a:xfrm>
              <a:prstGeom prst="cloudCallout">
                <a:avLst>
                  <a:gd name="adj1" fmla="val -189"/>
                  <a:gd name="adj2" fmla="val 43541"/>
                </a:avLst>
              </a:prstGeom>
              <a:solidFill>
                <a:srgbClr val="7d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Overview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6858000" y="1588680"/>
                <a:ext cx="76320" cy="633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4" name=""/>
          <p:cNvGrpSpPr/>
          <p:nvPr/>
        </p:nvGrpSpPr>
        <p:grpSpPr>
          <a:xfrm>
            <a:off x="0" y="2940120"/>
            <a:ext cx="2919240" cy="1771200"/>
            <a:chOff x="0" y="2940120"/>
            <a:chExt cx="2919240" cy="1771200"/>
          </a:xfrm>
        </p:grpSpPr>
        <p:pic>
          <p:nvPicPr>
            <p:cNvPr id="3935" name="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0" y="3274920"/>
              <a:ext cx="1331640" cy="11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6" name="" descr=""/>
            <p:cNvPicPr/>
            <p:nvPr/>
          </p:nvPicPr>
          <p:blipFill>
            <a:blip r:embed="rId2">
              <a:lum bright="32000"/>
            </a:blip>
            <a:stretch/>
          </p:blipFill>
          <p:spPr>
            <a:xfrm>
              <a:off x="1960560" y="3452760"/>
              <a:ext cx="95868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7" name="" descr=""/>
            <p:cNvPicPr/>
            <p:nvPr/>
          </p:nvPicPr>
          <p:blipFill>
            <a:blip r:embed="rId3"/>
            <a:stretch/>
          </p:blipFill>
          <p:spPr>
            <a:xfrm>
              <a:off x="1136520" y="2940120"/>
              <a:ext cx="1087560" cy="112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8" name="" descr="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1327320" y="3841920"/>
            <a:ext cx="1331640" cy="1150920"/>
          </a:xfrm>
          <a:prstGeom prst="rect">
            <a:avLst/>
          </a:prstGeom>
          <a:ln w="0">
            <a:noFill/>
          </a:ln>
        </p:spPr>
      </p:pic>
      <p:pic>
        <p:nvPicPr>
          <p:cNvPr id="3939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0" y="3903840"/>
            <a:ext cx="1332000" cy="1150920"/>
          </a:xfrm>
          <a:prstGeom prst="rect">
            <a:avLst/>
          </a:prstGeom>
          <a:ln w="0">
            <a:noFill/>
          </a:ln>
        </p:spPr>
      </p:pic>
      <p:pic>
        <p:nvPicPr>
          <p:cNvPr id="3940" name="" descr=""/>
          <p:cNvPicPr/>
          <p:nvPr/>
        </p:nvPicPr>
        <p:blipFill>
          <a:blip r:embed="rId6">
            <a:lum bright="30000"/>
          </a:blip>
          <a:stretch/>
        </p:blipFill>
        <p:spPr>
          <a:xfrm>
            <a:off x="403200" y="4170240"/>
            <a:ext cx="1332000" cy="1150920"/>
          </a:xfrm>
          <a:prstGeom prst="rect">
            <a:avLst/>
          </a:prstGeom>
          <a:ln w="0">
            <a:noFill/>
          </a:ln>
        </p:spPr>
      </p:pic>
      <p:pic>
        <p:nvPicPr>
          <p:cNvPr id="3941" name="" descr=""/>
          <p:cNvPicPr/>
          <p:nvPr/>
        </p:nvPicPr>
        <p:blipFill>
          <a:blip r:embed="rId7"/>
          <a:stretch/>
        </p:blipFill>
        <p:spPr>
          <a:xfrm>
            <a:off x="1449360" y="3795840"/>
            <a:ext cx="1087560" cy="1123920"/>
          </a:xfrm>
          <a:prstGeom prst="rect">
            <a:avLst/>
          </a:prstGeom>
          <a:ln w="0">
            <a:noFill/>
          </a:ln>
        </p:spPr>
      </p:pic>
      <p:pic>
        <p:nvPicPr>
          <p:cNvPr id="3942" name="" descr=""/>
          <p:cNvPicPr/>
          <p:nvPr/>
        </p:nvPicPr>
        <p:blipFill>
          <a:blip r:embed="rId8"/>
          <a:stretch/>
        </p:blipFill>
        <p:spPr>
          <a:xfrm>
            <a:off x="0" y="4143240"/>
            <a:ext cx="1087560" cy="1123920"/>
          </a:xfrm>
          <a:prstGeom prst="rect">
            <a:avLst/>
          </a:prstGeom>
          <a:ln w="0">
            <a:noFill/>
          </a:ln>
        </p:spPr>
      </p:pic>
      <p:pic>
        <p:nvPicPr>
          <p:cNvPr id="3943" name="" descr=""/>
          <p:cNvPicPr/>
          <p:nvPr/>
        </p:nvPicPr>
        <p:blipFill>
          <a:blip r:embed="rId9">
            <a:lum bright="32000"/>
          </a:blip>
          <a:stretch/>
        </p:blipFill>
        <p:spPr>
          <a:xfrm>
            <a:off x="836640" y="3801960"/>
            <a:ext cx="958680" cy="125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C9180-80A7-4F5A-BD76-D741ACE97E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Literatur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173160" y="1174680"/>
            <a:ext cx="74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://www.eigroup.org/ibis/ibis.htm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://www.eigroup.org/ibis/articles.ht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 summit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://www.eigroup.org/ibis/tools.ht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cookbook v2.1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ttp://www.eda.org/pub/ibis/training/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 IBIS_class_JEDEC.zip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tp://ftp.eda.org/pub/ib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http://www.sisoft.com/ibis-quality/check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87A8B-80FE-4611-969F-6C9D597C30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BIS- Evolu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252360" y="1550880"/>
          <a:ext cx="841536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550880"/>
                    <a:ext cx="841536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1DE4-E712-4A64-ABE2-9A3B1E04AE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Conclusions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947" name=""/>
          <p:cNvCxnSpPr>
            <a:stCxn id="3948" idx="0"/>
            <a:endCxn id="3949" idx="2"/>
          </p:cNvCxnSpPr>
          <p:nvPr/>
        </p:nvCxnSpPr>
        <p:spPr>
          <a:xfrm flipH="1" flipV="1" rot="5400000">
            <a:off x="6048720" y="3516480"/>
            <a:ext cx="1143720" cy="1964520"/>
          </a:xfrm>
          <a:prstGeom prst="curvedConnector5">
            <a:avLst>
              <a:gd name="adj1" fmla="val 51637"/>
              <a:gd name="adj2" fmla="val 50000"/>
              <a:gd name="adj3" fmla="val 51637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950" name=""/>
          <p:cNvCxnSpPr>
            <a:stCxn id="3951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952" name=""/>
          <p:cNvCxnSpPr>
            <a:stCxn id="3951" idx="2"/>
            <a:endCxn id="3953" idx="3"/>
          </p:cNvCxnSpPr>
          <p:nvPr/>
        </p:nvCxnSpPr>
        <p:spPr>
          <a:xfrm flipV="1" rot="16200000">
            <a:off x="2772360" y="2836800"/>
            <a:ext cx="1195920" cy="2401200"/>
          </a:xfrm>
          <a:prstGeom prst="curvedConnector5">
            <a:avLst>
              <a:gd name="adj1" fmla="val -19120"/>
              <a:gd name="adj2" fmla="val 30874"/>
              <a:gd name="adj3" fmla="val -1912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954" name=""/>
          <p:cNvCxnSpPr>
            <a:endCxn id="3949" idx="2"/>
          </p:cNvCxnSpPr>
          <p:nvPr/>
        </p:nvCxnSpPr>
        <p:spPr>
          <a:xfrm flipH="1" rot="10800000">
            <a:off x="7479000" y="3926880"/>
            <a:ext cx="122400" cy="1956240"/>
          </a:xfrm>
          <a:prstGeom prst="curvedConnector5">
            <a:avLst>
              <a:gd name="adj1" fmla="val -187315"/>
              <a:gd name="adj2" fmla="val 25234"/>
              <a:gd name="adj3" fmla="val -187315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3955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3956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3957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3958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972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3973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4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3985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3986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3987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0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1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2" name=""/>
          <p:cNvSpPr/>
          <p:nvPr/>
        </p:nvSpPr>
        <p:spPr>
          <a:xfrm>
            <a:off x="3276720" y="2209680"/>
            <a:ext cx="2873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93" name=""/>
          <p:cNvCxnSpPr>
            <a:stCxn id="3994" idx="1"/>
            <a:endCxn id="3953" idx="3"/>
          </p:cNvCxnSpPr>
          <p:nvPr/>
        </p:nvCxnSpPr>
        <p:spPr>
          <a:xfrm flipV="1" rot="10800000">
            <a:off x="2170080" y="2691360"/>
            <a:ext cx="4586760" cy="74844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995" name=""/>
          <p:cNvCxnSpPr>
            <a:stCxn id="3953" idx="3"/>
            <a:endCxn id="3996" idx="0"/>
          </p:cNvCxnSpPr>
          <p:nvPr/>
        </p:nvCxnSpPr>
        <p:spPr>
          <a:xfrm>
            <a:off x="2170080" y="3439800"/>
            <a:ext cx="154800" cy="132300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997" name=""/>
          <p:cNvCxnSpPr>
            <a:stCxn id="3996" idx="1"/>
            <a:endCxn id="3998" idx="2"/>
          </p:cNvCxnSpPr>
          <p:nvPr/>
        </p:nvCxnSpPr>
        <p:spPr>
          <a:xfrm flipH="1" flipV="1" rot="10800000">
            <a:off x="1074240" y="5157720"/>
            <a:ext cx="1286640" cy="1192680"/>
          </a:xfrm>
          <a:prstGeom prst="curvedConnector5">
            <a:avLst>
              <a:gd name="adj1" fmla="val -18387"/>
              <a:gd name="adj2" fmla="val 59601"/>
              <a:gd name="adj3" fmla="val -1838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3999" name=""/>
          <p:cNvCxnSpPr>
            <a:endCxn id="4000" idx="3"/>
          </p:cNvCxnSpPr>
          <p:nvPr/>
        </p:nvCxnSpPr>
        <p:spPr>
          <a:xfrm>
            <a:off x="2230560" y="64386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4001" name=""/>
          <p:cNvCxnSpPr>
            <a:stCxn id="4000" idx="2"/>
          </p:cNvCxnSpPr>
          <p:nvPr/>
        </p:nvCxnSpPr>
        <p:spPr>
          <a:xfrm flipH="1" flipV="1" rot="5400000">
            <a:off x="6277320" y="5274000"/>
            <a:ext cx="594720" cy="1812240"/>
          </a:xfrm>
          <a:prstGeom prst="curvedConnector5">
            <a:avLst>
              <a:gd name="adj1" fmla="val -38461"/>
              <a:gd name="adj2" fmla="val 28034"/>
              <a:gd name="adj3" fmla="val -38461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4002" name=""/>
          <p:cNvCxnSpPr>
            <a:stCxn id="3949" idx="2"/>
            <a:endCxn id="4003" idx="0"/>
          </p:cNvCxnSpPr>
          <p:nvPr/>
        </p:nvCxnSpPr>
        <p:spPr>
          <a:xfrm flipV="1" rot="16200000">
            <a:off x="6602400" y="2927520"/>
            <a:ext cx="1032840" cy="967320"/>
          </a:xfrm>
          <a:prstGeom prst="curvedConnector5">
            <a:avLst>
              <a:gd name="adj1" fmla="val -22140"/>
              <a:gd name="adj2" fmla="val 62137"/>
              <a:gd name="adj3" fmla="val -2214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4004" name=""/>
          <p:cNvCxnSpPr>
            <a:stCxn id="4005" idx="3"/>
            <a:endCxn id="4000" idx="2"/>
          </p:cNvCxnSpPr>
          <p:nvPr/>
        </p:nvCxnSpPr>
        <p:spPr>
          <a:xfrm>
            <a:off x="1356840" y="4987440"/>
            <a:ext cx="4312440" cy="1490040"/>
          </a:xfrm>
          <a:prstGeom prst="curvedConnector5">
            <a:avLst>
              <a:gd name="adj1" fmla="val 47420"/>
              <a:gd name="adj2" fmla="val 57660"/>
              <a:gd name="adj3" fmla="val 4742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4006" name=""/>
          <p:cNvGrpSpPr/>
          <p:nvPr/>
        </p:nvGrpSpPr>
        <p:grpSpPr>
          <a:xfrm>
            <a:off x="228600" y="1143000"/>
            <a:ext cx="8759520" cy="5333760"/>
            <a:chOff x="228600" y="1143000"/>
            <a:chExt cx="8759520" cy="5333760"/>
          </a:xfrm>
        </p:grpSpPr>
        <p:grpSp>
          <p:nvGrpSpPr>
            <p:cNvPr id="4007" name=""/>
            <p:cNvGrpSpPr/>
            <p:nvPr/>
          </p:nvGrpSpPr>
          <p:grpSpPr>
            <a:xfrm>
              <a:off x="1066680" y="4711680"/>
              <a:ext cx="2514240" cy="1638000"/>
              <a:chOff x="1066680" y="4711680"/>
              <a:chExt cx="2514240" cy="1638000"/>
            </a:xfrm>
          </p:grpSpPr>
          <p:grpSp>
            <p:nvGrpSpPr>
              <p:cNvPr id="4008" name=""/>
              <p:cNvGrpSpPr/>
              <p:nvPr/>
            </p:nvGrpSpPr>
            <p:grpSpPr>
              <a:xfrm>
                <a:off x="1219320" y="5668200"/>
                <a:ext cx="2286000" cy="681480"/>
                <a:chOff x="1219320" y="5668200"/>
                <a:chExt cx="2286000" cy="681480"/>
              </a:xfrm>
            </p:grpSpPr>
            <p:sp>
              <p:nvSpPr>
                <p:cNvPr id="4009" name=""/>
                <p:cNvSpPr/>
                <p:nvPr/>
              </p:nvSpPr>
              <p:spPr>
                <a:xfrm>
                  <a:off x="167688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190584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2363760" y="613836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121932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21344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2590560" y="623772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3048840" y="62377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2018880" y="5837400"/>
                  <a:ext cx="69012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259200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1676880" y="60386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2135520" y="603864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144900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2362680" y="59385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1905840" y="593820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23" name=""/>
                <p:cNvGrpSpPr/>
                <p:nvPr/>
              </p:nvGrpSpPr>
              <p:grpSpPr>
                <a:xfrm>
                  <a:off x="2007360" y="5937120"/>
                  <a:ext cx="708120" cy="412560"/>
                  <a:chOff x="2007360" y="5937120"/>
                  <a:chExt cx="708120" cy="412560"/>
                </a:xfrm>
              </p:grpSpPr>
              <p:sp>
                <p:nvSpPr>
                  <p:cNvPr id="4024" name=""/>
                  <p:cNvSpPr/>
                  <p:nvPr/>
                </p:nvSpPr>
                <p:spPr>
                  <a:xfrm>
                    <a:off x="2134440" y="5937120"/>
                    <a:ext cx="456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>
                    <a:off x="2121480" y="5971320"/>
                    <a:ext cx="479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>
                    <a:off x="2109960" y="6004440"/>
                    <a:ext cx="5022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7" name=""/>
                  <p:cNvSpPr/>
                  <p:nvPr/>
                </p:nvSpPr>
                <p:spPr>
                  <a:xfrm>
                    <a:off x="2098800" y="6038280"/>
                    <a:ext cx="524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8" name=""/>
                  <p:cNvSpPr/>
                  <p:nvPr/>
                </p:nvSpPr>
                <p:spPr>
                  <a:xfrm>
                    <a:off x="2087280" y="6072480"/>
                    <a:ext cx="548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>
                    <a:off x="2076120" y="6107040"/>
                    <a:ext cx="570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0" name=""/>
                  <p:cNvSpPr/>
                  <p:nvPr/>
                </p:nvSpPr>
                <p:spPr>
                  <a:xfrm>
                    <a:off x="2064240" y="6141600"/>
                    <a:ext cx="5940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>
                    <a:off x="2053080" y="6175800"/>
                    <a:ext cx="6166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>
                    <a:off x="2041560" y="6210360"/>
                    <a:ext cx="639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2030400" y="6246720"/>
                    <a:ext cx="662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2018880" y="6280920"/>
                    <a:ext cx="6850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>
                    <a:off x="2007360" y="6315120"/>
                    <a:ext cx="708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5" name=""/>
                <p:cNvSpPr/>
                <p:nvPr/>
              </p:nvSpPr>
              <p:spPr>
                <a:xfrm rot="16200000">
                  <a:off x="2276280" y="5513760"/>
                  <a:ext cx="169920" cy="47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6" name=""/>
                <p:cNvGrpSpPr/>
                <p:nvPr/>
              </p:nvGrpSpPr>
              <p:grpSpPr>
                <a:xfrm>
                  <a:off x="2288880" y="5872320"/>
                  <a:ext cx="145080" cy="64440"/>
                  <a:chOff x="2288880" y="5872320"/>
                  <a:chExt cx="145080" cy="64440"/>
                </a:xfrm>
              </p:grpSpPr>
              <p:grpSp>
                <p:nvGrpSpPr>
                  <p:cNvPr id="4037" name=""/>
                  <p:cNvGrpSpPr/>
                  <p:nvPr/>
                </p:nvGrpSpPr>
                <p:grpSpPr>
                  <a:xfrm>
                    <a:off x="2288880" y="5872320"/>
                    <a:ext cx="145080" cy="64440"/>
                    <a:chOff x="2288880" y="5872320"/>
                    <a:chExt cx="145080" cy="64440"/>
                  </a:xfrm>
                </p:grpSpPr>
                <p:sp>
                  <p:nvSpPr>
                    <p:cNvPr id="4038" name=""/>
                    <p:cNvSpPr/>
                    <p:nvPr/>
                  </p:nvSpPr>
                  <p:spPr>
                    <a:xfrm>
                      <a:off x="228888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9" name=""/>
                    <p:cNvSpPr/>
                    <p:nvPr/>
                  </p:nvSpPr>
                  <p:spPr>
                    <a:xfrm>
                      <a:off x="2433240" y="58723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0" name=""/>
                    <p:cNvSpPr/>
                    <p:nvPr/>
                  </p:nvSpPr>
                  <p:spPr>
                    <a:xfrm>
                      <a:off x="2288880" y="5872320"/>
                      <a:ext cx="145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41" name=""/>
                  <p:cNvSpPr/>
                  <p:nvPr/>
                </p:nvSpPr>
                <p:spPr>
                  <a:xfrm>
                    <a:off x="2301480" y="5875920"/>
                    <a:ext cx="12240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2" name=""/>
                <p:cNvSpPr/>
                <p:nvPr/>
              </p:nvSpPr>
              <p:spPr>
                <a:xfrm>
                  <a:off x="2819880" y="61383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3" name=""/>
              <p:cNvGrpSpPr/>
              <p:nvPr/>
            </p:nvGrpSpPr>
            <p:grpSpPr>
              <a:xfrm>
                <a:off x="1066680" y="4711680"/>
                <a:ext cx="2514240" cy="892800"/>
                <a:chOff x="1066680" y="4711680"/>
                <a:chExt cx="2514240" cy="89280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1066680" y="4711680"/>
                  <a:ext cx="2514240" cy="892800"/>
                </a:xfrm>
                <a:prstGeom prst="cloudCallout">
                  <a:avLst>
                    <a:gd name="adj1" fmla="val 2430"/>
                    <a:gd name="adj2" fmla="val 4903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IBIS-Technologie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1988280" y="5535720"/>
                  <a:ext cx="586800" cy="687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5" name=""/>
            <p:cNvGrpSpPr/>
            <p:nvPr/>
          </p:nvGrpSpPr>
          <p:grpSpPr>
            <a:xfrm>
              <a:off x="4495680" y="5030640"/>
              <a:ext cx="2286000" cy="1446120"/>
              <a:chOff x="4495680" y="5030640"/>
              <a:chExt cx="2286000" cy="1446120"/>
            </a:xfrm>
          </p:grpSpPr>
          <p:grpSp>
            <p:nvGrpSpPr>
              <p:cNvPr id="4046" name=""/>
              <p:cNvGrpSpPr/>
              <p:nvPr/>
            </p:nvGrpSpPr>
            <p:grpSpPr>
              <a:xfrm>
                <a:off x="4952880" y="5795280"/>
                <a:ext cx="1430280" cy="681480"/>
                <a:chOff x="4952880" y="5795280"/>
                <a:chExt cx="1430280" cy="681480"/>
              </a:xfrm>
            </p:grpSpPr>
            <p:sp>
              <p:nvSpPr>
                <p:cNvPr id="4047" name=""/>
                <p:cNvSpPr/>
                <p:nvPr/>
              </p:nvSpPr>
              <p:spPr>
                <a:xfrm>
                  <a:off x="52390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538236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5668920" y="626544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49528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55252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5810760" y="636480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6097680" y="636480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5453280" y="5964480"/>
                  <a:ext cx="4316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581184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5239080" y="6165720"/>
                  <a:ext cx="285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5526000" y="616572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509652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5668200" y="60656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5382360" y="606528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1" name=""/>
                <p:cNvGrpSpPr/>
                <p:nvPr/>
              </p:nvGrpSpPr>
              <p:grpSpPr>
                <a:xfrm>
                  <a:off x="5446080" y="6064200"/>
                  <a:ext cx="442800" cy="412560"/>
                  <a:chOff x="5446080" y="6064200"/>
                  <a:chExt cx="442800" cy="412560"/>
                </a:xfrm>
              </p:grpSpPr>
              <p:sp>
                <p:nvSpPr>
                  <p:cNvPr id="4062" name=""/>
                  <p:cNvSpPr/>
                  <p:nvPr/>
                </p:nvSpPr>
                <p:spPr>
                  <a:xfrm>
                    <a:off x="5525640" y="6064200"/>
                    <a:ext cx="285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>
                    <a:off x="5517360" y="6098400"/>
                    <a:ext cx="299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>
                    <a:off x="5510160" y="6131520"/>
                    <a:ext cx="314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5503320" y="6165360"/>
                    <a:ext cx="3283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5496120" y="6199560"/>
                    <a:ext cx="3427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5488920" y="6234120"/>
                    <a:ext cx="357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5481720" y="6268680"/>
                    <a:ext cx="371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5474520" y="6302880"/>
                    <a:ext cx="3855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5467320" y="6337440"/>
                    <a:ext cx="399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5460480" y="6373800"/>
                    <a:ext cx="414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>
                    <a:off x="5453280" y="6408000"/>
                    <a:ext cx="428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0" name=""/>
                  <p:cNvSpPr/>
                  <p:nvPr/>
                </p:nvSpPr>
                <p:spPr>
                  <a:xfrm>
                    <a:off x="5446080" y="6442200"/>
                    <a:ext cx="4428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73" name=""/>
                <p:cNvSpPr/>
                <p:nvPr/>
              </p:nvSpPr>
              <p:spPr>
                <a:xfrm rot="16200000">
                  <a:off x="5582520" y="5730480"/>
                  <a:ext cx="169920" cy="299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4" name=""/>
                <p:cNvGrpSpPr/>
                <p:nvPr/>
              </p:nvGrpSpPr>
              <p:grpSpPr>
                <a:xfrm>
                  <a:off x="5622120" y="5999400"/>
                  <a:ext cx="90720" cy="64440"/>
                  <a:chOff x="5622120" y="5999400"/>
                  <a:chExt cx="90720" cy="64440"/>
                </a:xfrm>
              </p:grpSpPr>
              <p:grpSp>
                <p:nvGrpSpPr>
                  <p:cNvPr id="4075" name=""/>
                  <p:cNvGrpSpPr/>
                  <p:nvPr/>
                </p:nvGrpSpPr>
                <p:grpSpPr>
                  <a:xfrm>
                    <a:off x="5622120" y="5999400"/>
                    <a:ext cx="90720" cy="64440"/>
                    <a:chOff x="5622120" y="5999400"/>
                    <a:chExt cx="90720" cy="64440"/>
                  </a:xfrm>
                </p:grpSpPr>
                <p:sp>
                  <p:nvSpPr>
                    <p:cNvPr id="4076" name=""/>
                    <p:cNvSpPr/>
                    <p:nvPr/>
                  </p:nvSpPr>
                  <p:spPr>
                    <a:xfrm>
                      <a:off x="562212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7" name=""/>
                    <p:cNvSpPr/>
                    <p:nvPr/>
                  </p:nvSpPr>
                  <p:spPr>
                    <a:xfrm>
                      <a:off x="5712480" y="599940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8" name=""/>
                    <p:cNvSpPr/>
                    <p:nvPr/>
                  </p:nvSpPr>
                  <p:spPr>
                    <a:xfrm>
                      <a:off x="5622120" y="599940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79" name=""/>
                  <p:cNvSpPr/>
                  <p:nvPr/>
                </p:nvSpPr>
                <p:spPr>
                  <a:xfrm>
                    <a:off x="5630040" y="6003000"/>
                    <a:ext cx="7668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0" name=""/>
                <p:cNvSpPr/>
                <p:nvPr/>
              </p:nvSpPr>
              <p:spPr>
                <a:xfrm>
                  <a:off x="5954400" y="6265440"/>
                  <a:ext cx="285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4495680" y="5030640"/>
                <a:ext cx="2286000" cy="701280"/>
                <a:chOff x="4495680" y="5030640"/>
                <a:chExt cx="2286000" cy="701280"/>
              </a:xfrm>
            </p:grpSpPr>
            <p:sp>
              <p:nvSpPr>
                <p:cNvPr id="3948" name=""/>
                <p:cNvSpPr/>
                <p:nvPr/>
              </p:nvSpPr>
              <p:spPr>
                <a:xfrm>
                  <a:off x="4495680" y="5030640"/>
                  <a:ext cx="2286000" cy="701280"/>
                </a:xfrm>
                <a:prstGeom prst="cloudCallout">
                  <a:avLst>
                    <a:gd name="adj1" fmla="val 972"/>
                    <a:gd name="adj2" fmla="val 5340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Parameter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2" name=""/>
                <p:cNvGrpSpPr/>
                <p:nvPr/>
              </p:nvGrpSpPr>
              <p:grpSpPr>
                <a:xfrm>
                  <a:off x="5334120" y="5540400"/>
                  <a:ext cx="533160" cy="63720"/>
                  <a:chOff x="5334120" y="5540400"/>
                  <a:chExt cx="533160" cy="63720"/>
                </a:xfrm>
              </p:grpSpPr>
              <p:sp>
                <p:nvSpPr>
                  <p:cNvPr id="4083" name=""/>
                  <p:cNvSpPr/>
                  <p:nvPr/>
                </p:nvSpPr>
                <p:spPr>
                  <a:xfrm>
                    <a:off x="53341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548640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5638680" y="554040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5791320" y="554040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87" name=""/>
            <p:cNvGrpSpPr/>
            <p:nvPr/>
          </p:nvGrpSpPr>
          <p:grpSpPr>
            <a:xfrm>
              <a:off x="6629400" y="2544840"/>
              <a:ext cx="1905120" cy="1382760"/>
              <a:chOff x="6629400" y="2544840"/>
              <a:chExt cx="1905120" cy="1382760"/>
            </a:xfrm>
          </p:grpSpPr>
          <p:grpSp>
            <p:nvGrpSpPr>
              <p:cNvPr id="4088" name=""/>
              <p:cNvGrpSpPr/>
              <p:nvPr/>
            </p:nvGrpSpPr>
            <p:grpSpPr>
              <a:xfrm>
                <a:off x="6858000" y="3309840"/>
                <a:ext cx="1488960" cy="617760"/>
                <a:chOff x="6858000" y="3309840"/>
                <a:chExt cx="1488960" cy="617760"/>
              </a:xfrm>
            </p:grpSpPr>
            <p:sp>
              <p:nvSpPr>
                <p:cNvPr id="4089" name=""/>
                <p:cNvSpPr/>
                <p:nvPr/>
              </p:nvSpPr>
              <p:spPr>
                <a:xfrm>
                  <a:off x="715608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730512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>
                  <a:off x="7603560" y="373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>
                  <a:off x="68580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745416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7751160" y="382608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8049600" y="382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>
                  <a:off x="7378920" y="3463200"/>
                  <a:ext cx="44964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>
                  <a:off x="775224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7156080" y="3645360"/>
                  <a:ext cx="29772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7454880" y="364536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700740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>
                  <a:off x="7602840" y="355500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7305120" y="355464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3" name=""/>
                <p:cNvGrpSpPr/>
                <p:nvPr/>
              </p:nvGrpSpPr>
              <p:grpSpPr>
                <a:xfrm>
                  <a:off x="7371360" y="3553560"/>
                  <a:ext cx="461160" cy="374040"/>
                  <a:chOff x="7371360" y="3553560"/>
                  <a:chExt cx="461160" cy="374040"/>
                </a:xfrm>
              </p:grpSpPr>
              <p:sp>
                <p:nvSpPr>
                  <p:cNvPr id="4104" name=""/>
                  <p:cNvSpPr/>
                  <p:nvPr/>
                </p:nvSpPr>
                <p:spPr>
                  <a:xfrm>
                    <a:off x="7454160" y="3553560"/>
                    <a:ext cx="2973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7445520" y="3584520"/>
                    <a:ext cx="3124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7438320" y="3614400"/>
                    <a:ext cx="3272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7430760" y="3645360"/>
                    <a:ext cx="342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7423560" y="3676320"/>
                    <a:ext cx="3571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7416000" y="3707640"/>
                    <a:ext cx="3718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7408440" y="3738960"/>
                    <a:ext cx="38700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7400880" y="3769920"/>
                    <a:ext cx="4017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>
                    <a:off x="7393680" y="3801240"/>
                    <a:ext cx="41652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7386120" y="3834360"/>
                    <a:ext cx="43128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7378920" y="3865320"/>
                    <a:ext cx="44604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7371360" y="3896280"/>
                    <a:ext cx="461160" cy="313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5" name=""/>
                <p:cNvSpPr/>
                <p:nvPr/>
              </p:nvSpPr>
              <p:spPr>
                <a:xfrm rot="16200000">
                  <a:off x="7525080" y="3231000"/>
                  <a:ext cx="154080" cy="3117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6" name=""/>
                <p:cNvGrpSpPr/>
                <p:nvPr/>
              </p:nvGrpSpPr>
              <p:grpSpPr>
                <a:xfrm>
                  <a:off x="7554600" y="3494880"/>
                  <a:ext cx="94320" cy="58320"/>
                  <a:chOff x="7554600" y="3494880"/>
                  <a:chExt cx="94320" cy="58320"/>
                </a:xfrm>
              </p:grpSpPr>
              <p:grpSp>
                <p:nvGrpSpPr>
                  <p:cNvPr id="4117" name=""/>
                  <p:cNvGrpSpPr/>
                  <p:nvPr/>
                </p:nvGrpSpPr>
                <p:grpSpPr>
                  <a:xfrm>
                    <a:off x="7554600" y="3494880"/>
                    <a:ext cx="94320" cy="58320"/>
                    <a:chOff x="7554600" y="3494880"/>
                    <a:chExt cx="94320" cy="58320"/>
                  </a:xfrm>
                </p:grpSpPr>
                <p:sp>
                  <p:nvSpPr>
                    <p:cNvPr id="4118" name=""/>
                    <p:cNvSpPr/>
                    <p:nvPr/>
                  </p:nvSpPr>
                  <p:spPr>
                    <a:xfrm>
                      <a:off x="755460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9" name=""/>
                    <p:cNvSpPr/>
                    <p:nvPr/>
                  </p:nvSpPr>
                  <p:spPr>
                    <a:xfrm>
                      <a:off x="7648560" y="3494880"/>
                      <a:ext cx="0" cy="5832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0" name=""/>
                    <p:cNvSpPr/>
                    <p:nvPr/>
                  </p:nvSpPr>
                  <p:spPr>
                    <a:xfrm>
                      <a:off x="7554600" y="3494880"/>
                      <a:ext cx="943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21" name=""/>
                  <p:cNvSpPr/>
                  <p:nvPr/>
                </p:nvSpPr>
                <p:spPr>
                  <a:xfrm>
                    <a:off x="7562520" y="3498120"/>
                    <a:ext cx="79560" cy="5508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2" name=""/>
                <p:cNvSpPr/>
                <p:nvPr/>
              </p:nvSpPr>
              <p:spPr>
                <a:xfrm>
                  <a:off x="7900560" y="3736080"/>
                  <a:ext cx="297360" cy="90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3" name=""/>
              <p:cNvGrpSpPr/>
              <p:nvPr/>
            </p:nvGrpSpPr>
            <p:grpSpPr>
              <a:xfrm>
                <a:off x="6629400" y="2544840"/>
                <a:ext cx="1905120" cy="701280"/>
                <a:chOff x="6629400" y="2544840"/>
                <a:chExt cx="1905120" cy="701280"/>
              </a:xfrm>
            </p:grpSpPr>
            <p:sp>
              <p:nvSpPr>
                <p:cNvPr id="4003" name=""/>
                <p:cNvSpPr/>
                <p:nvPr/>
              </p:nvSpPr>
              <p:spPr>
                <a:xfrm>
                  <a:off x="6629400" y="2544840"/>
                  <a:ext cx="1905120" cy="701280"/>
                </a:xfrm>
                <a:prstGeom prst="cloudCallout">
                  <a:avLst>
                    <a:gd name="adj1" fmla="val 578"/>
                    <a:gd name="adj2" fmla="val 4659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Exampl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4" name=""/>
                <p:cNvGrpSpPr/>
                <p:nvPr/>
              </p:nvGrpSpPr>
              <p:grpSpPr>
                <a:xfrm>
                  <a:off x="7528680" y="3054600"/>
                  <a:ext cx="158400" cy="63720"/>
                  <a:chOff x="7528680" y="3054600"/>
                  <a:chExt cx="158400" cy="63720"/>
                </a:xfrm>
              </p:grpSpPr>
              <p:sp>
                <p:nvSpPr>
                  <p:cNvPr id="4125" name=""/>
                  <p:cNvSpPr/>
                  <p:nvPr/>
                </p:nvSpPr>
                <p:spPr>
                  <a:xfrm>
                    <a:off x="7528680" y="3054600"/>
                    <a:ext cx="525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7634160" y="3054600"/>
                    <a:ext cx="529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27" name=""/>
            <p:cNvGrpSpPr/>
            <p:nvPr/>
          </p:nvGrpSpPr>
          <p:grpSpPr>
            <a:xfrm>
              <a:off x="719280" y="1589040"/>
              <a:ext cx="2639520" cy="1876320"/>
              <a:chOff x="719280" y="1589040"/>
              <a:chExt cx="2639520" cy="1876320"/>
            </a:xfrm>
          </p:grpSpPr>
          <p:grpSp>
            <p:nvGrpSpPr>
              <p:cNvPr id="4128" name=""/>
              <p:cNvGrpSpPr/>
              <p:nvPr/>
            </p:nvGrpSpPr>
            <p:grpSpPr>
              <a:xfrm>
                <a:off x="1422360" y="2464920"/>
                <a:ext cx="1142640" cy="1000440"/>
                <a:chOff x="1422360" y="2464920"/>
                <a:chExt cx="1142640" cy="1000440"/>
              </a:xfrm>
            </p:grpSpPr>
            <p:sp>
              <p:nvSpPr>
                <p:cNvPr id="4129" name=""/>
                <p:cNvSpPr/>
                <p:nvPr/>
              </p:nvSpPr>
              <p:spPr>
                <a:xfrm>
                  <a:off x="1651320" y="3300120"/>
                  <a:ext cx="22752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1765800" y="3154320"/>
                  <a:ext cx="227880" cy="1468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1994760" y="3154320"/>
                  <a:ext cx="227880" cy="1468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1422360" y="3300120"/>
                  <a:ext cx="22752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>
                  <a:off x="1880280" y="3300120"/>
                  <a:ext cx="22752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2108160" y="3300120"/>
                  <a:ext cx="22788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2337120" y="3300120"/>
                  <a:ext cx="22788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>
                  <a:off x="1821960" y="2713680"/>
                  <a:ext cx="34488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2108160" y="3008160"/>
                  <a:ext cx="22896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1651320" y="3008160"/>
                  <a:ext cx="22752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1880280" y="3008160"/>
                  <a:ext cx="22752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1536480" y="3154320"/>
                  <a:ext cx="228960" cy="1468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>
                  <a:off x="1993680" y="2862000"/>
                  <a:ext cx="22896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1765800" y="2862000"/>
                  <a:ext cx="227880" cy="14580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3" name=""/>
                <p:cNvGrpSpPr/>
                <p:nvPr/>
              </p:nvGrpSpPr>
              <p:grpSpPr>
                <a:xfrm>
                  <a:off x="1815840" y="2859840"/>
                  <a:ext cx="354240" cy="605520"/>
                  <a:chOff x="1815840" y="2859840"/>
                  <a:chExt cx="354240" cy="605520"/>
                </a:xfrm>
              </p:grpSpPr>
              <p:sp>
                <p:nvSpPr>
                  <p:cNvPr id="4144" name=""/>
                  <p:cNvSpPr/>
                  <p:nvPr/>
                </p:nvSpPr>
                <p:spPr>
                  <a:xfrm>
                    <a:off x="1879200" y="2859840"/>
                    <a:ext cx="22860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1872720" y="2910240"/>
                    <a:ext cx="24012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1867320" y="2958480"/>
                    <a:ext cx="25128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7" name=""/>
                  <p:cNvSpPr/>
                  <p:nvPr/>
                </p:nvSpPr>
                <p:spPr>
                  <a:xfrm>
                    <a:off x="1861560" y="3008520"/>
                    <a:ext cx="26280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8" name=""/>
                  <p:cNvSpPr/>
                  <p:nvPr/>
                </p:nvSpPr>
                <p:spPr>
                  <a:xfrm>
                    <a:off x="1855800" y="3058560"/>
                    <a:ext cx="27432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1850040" y="3109320"/>
                    <a:ext cx="28548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1844280" y="3159720"/>
                    <a:ext cx="29736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1838520" y="3210120"/>
                    <a:ext cx="30852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1832760" y="3260880"/>
                    <a:ext cx="32004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1827360" y="3314160"/>
                    <a:ext cx="33156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1821600" y="3364560"/>
                    <a:ext cx="34272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>
                    <a:off x="1815840" y="3414600"/>
                    <a:ext cx="354240" cy="50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5" name=""/>
                <p:cNvSpPr/>
                <p:nvPr/>
              </p:nvSpPr>
              <p:spPr>
                <a:xfrm rot="16200000">
                  <a:off x="1868760" y="2470320"/>
                  <a:ext cx="249480" cy="238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6" name=""/>
                <p:cNvGrpSpPr/>
                <p:nvPr/>
              </p:nvGrpSpPr>
              <p:grpSpPr>
                <a:xfrm>
                  <a:off x="1957320" y="2765520"/>
                  <a:ext cx="71640" cy="93960"/>
                  <a:chOff x="1957320" y="2765520"/>
                  <a:chExt cx="71640" cy="93960"/>
                </a:xfrm>
              </p:grpSpPr>
              <p:grpSp>
                <p:nvGrpSpPr>
                  <p:cNvPr id="4157" name=""/>
                  <p:cNvGrpSpPr/>
                  <p:nvPr/>
                </p:nvGrpSpPr>
                <p:grpSpPr>
                  <a:xfrm>
                    <a:off x="1957320" y="2765520"/>
                    <a:ext cx="71640" cy="93960"/>
                    <a:chOff x="1957320" y="2765520"/>
                    <a:chExt cx="71640" cy="93960"/>
                  </a:xfrm>
                </p:grpSpPr>
                <p:sp>
                  <p:nvSpPr>
                    <p:cNvPr id="4158" name=""/>
                    <p:cNvSpPr/>
                    <p:nvPr/>
                  </p:nvSpPr>
                  <p:spPr>
                    <a:xfrm>
                      <a:off x="1957320" y="276552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9" name=""/>
                    <p:cNvSpPr/>
                    <p:nvPr/>
                  </p:nvSpPr>
                  <p:spPr>
                    <a:xfrm>
                      <a:off x="2028600" y="276552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0" name=""/>
                    <p:cNvSpPr/>
                    <p:nvPr/>
                  </p:nvSpPr>
                  <p:spPr>
                    <a:xfrm>
                      <a:off x="1957320" y="2765520"/>
                      <a:ext cx="7164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1" name=""/>
                  <p:cNvSpPr/>
                  <p:nvPr/>
                </p:nvSpPr>
                <p:spPr>
                  <a:xfrm>
                    <a:off x="1963440" y="2770920"/>
                    <a:ext cx="60480" cy="885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2" name=""/>
                <p:cNvSpPr/>
                <p:nvPr/>
              </p:nvSpPr>
              <p:spPr>
                <a:xfrm>
                  <a:off x="2223000" y="3154320"/>
                  <a:ext cx="227520" cy="1468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3" name=""/>
              <p:cNvGrpSpPr/>
              <p:nvPr/>
            </p:nvGrpSpPr>
            <p:grpSpPr>
              <a:xfrm>
                <a:off x="719280" y="1589040"/>
                <a:ext cx="2639520" cy="828720"/>
                <a:chOff x="719280" y="1589040"/>
                <a:chExt cx="2639520" cy="828720"/>
              </a:xfrm>
            </p:grpSpPr>
            <p:sp>
              <p:nvSpPr>
                <p:cNvPr id="4164" name=""/>
                <p:cNvSpPr/>
                <p:nvPr/>
              </p:nvSpPr>
              <p:spPr>
                <a:xfrm>
                  <a:off x="719280" y="1589040"/>
                  <a:ext cx="2639520" cy="828720"/>
                </a:xfrm>
                <a:prstGeom prst="cloudCallout">
                  <a:avLst>
                    <a:gd name="adj1" fmla="val -972"/>
                    <a:gd name="adj2" fmla="val 5352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2800" spc="-1" strike="noStrike">
                      <a:solidFill>
                        <a:srgbClr val="003366"/>
                      </a:solidFill>
                      <a:latin typeface="Monotype Corsiva"/>
                    </a:rPr>
                    <a:t>Conclusions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5" name=""/>
                <p:cNvGrpSpPr/>
                <p:nvPr/>
              </p:nvGrpSpPr>
              <p:grpSpPr>
                <a:xfrm>
                  <a:off x="1686960" y="2099160"/>
                  <a:ext cx="615600" cy="190800"/>
                  <a:chOff x="1686960" y="2099160"/>
                  <a:chExt cx="615600" cy="190800"/>
                </a:xfrm>
              </p:grpSpPr>
              <p:sp>
                <p:nvSpPr>
                  <p:cNvPr id="4166" name=""/>
                  <p:cNvSpPr/>
                  <p:nvPr/>
                </p:nvSpPr>
                <p:spPr>
                  <a:xfrm>
                    <a:off x="1686960" y="2226600"/>
                    <a:ext cx="61560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67" name=""/>
                  <p:cNvGrpSpPr/>
                  <p:nvPr/>
                </p:nvGrpSpPr>
                <p:grpSpPr>
                  <a:xfrm>
                    <a:off x="1863000" y="2099160"/>
                    <a:ext cx="263520" cy="63720"/>
                    <a:chOff x="1863000" y="2099160"/>
                    <a:chExt cx="263520" cy="63720"/>
                  </a:xfrm>
                </p:grpSpPr>
                <p:sp>
                  <p:nvSpPr>
                    <p:cNvPr id="4168" name=""/>
                    <p:cNvSpPr/>
                    <p:nvPr/>
                  </p:nvSpPr>
                  <p:spPr>
                    <a:xfrm>
                      <a:off x="1863000" y="2099160"/>
                      <a:ext cx="8748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9" name=""/>
                    <p:cNvSpPr/>
                    <p:nvPr/>
                  </p:nvSpPr>
                  <p:spPr>
                    <a:xfrm>
                      <a:off x="2038680" y="2099160"/>
                      <a:ext cx="8784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170" name=""/>
            <p:cNvGrpSpPr/>
            <p:nvPr/>
          </p:nvGrpSpPr>
          <p:grpSpPr>
            <a:xfrm>
              <a:off x="228600" y="3246480"/>
              <a:ext cx="1905120" cy="1764720"/>
              <a:chOff x="228600" y="3246480"/>
              <a:chExt cx="1905120" cy="1764720"/>
            </a:xfrm>
          </p:grpSpPr>
          <p:grpSp>
            <p:nvGrpSpPr>
              <p:cNvPr id="4171" name=""/>
              <p:cNvGrpSpPr/>
              <p:nvPr/>
            </p:nvGrpSpPr>
            <p:grpSpPr>
              <a:xfrm>
                <a:off x="609480" y="4074840"/>
                <a:ext cx="1143000" cy="936360"/>
                <a:chOff x="609480" y="4074840"/>
                <a:chExt cx="1143000" cy="936360"/>
              </a:xfrm>
            </p:grpSpPr>
            <p:sp>
              <p:nvSpPr>
                <p:cNvPr id="4172" name=""/>
                <p:cNvSpPr/>
                <p:nvPr/>
              </p:nvSpPr>
              <p:spPr>
                <a:xfrm>
                  <a:off x="8380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9525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1181880" y="47206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60948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10670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>
                  <a:off x="1295280" y="48571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>
                  <a:off x="1524240" y="48571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1009440" y="4307400"/>
                  <a:ext cx="34488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129600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838080" y="458352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1067760" y="45835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>
                  <a:off x="72432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1181160" y="444636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952560" y="444600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6" name=""/>
                <p:cNvGrpSpPr/>
                <p:nvPr/>
              </p:nvGrpSpPr>
              <p:grpSpPr>
                <a:xfrm>
                  <a:off x="1003320" y="4444200"/>
                  <a:ext cx="353880" cy="567000"/>
                  <a:chOff x="1003320" y="4444200"/>
                  <a:chExt cx="353880" cy="567000"/>
                </a:xfrm>
              </p:grpSpPr>
              <p:sp>
                <p:nvSpPr>
                  <p:cNvPr id="4187" name=""/>
                  <p:cNvSpPr/>
                  <p:nvPr/>
                </p:nvSpPr>
                <p:spPr>
                  <a:xfrm>
                    <a:off x="1066680" y="4444200"/>
                    <a:ext cx="2282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1060200" y="4491360"/>
                    <a:ext cx="2397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1054440" y="4536720"/>
                    <a:ext cx="25092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1049040" y="4583520"/>
                    <a:ext cx="2624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1" name=""/>
                  <p:cNvSpPr/>
                  <p:nvPr/>
                </p:nvSpPr>
                <p:spPr>
                  <a:xfrm>
                    <a:off x="1043280" y="4630320"/>
                    <a:ext cx="2739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"/>
                  <p:cNvSpPr/>
                  <p:nvPr/>
                </p:nvSpPr>
                <p:spPr>
                  <a:xfrm>
                    <a:off x="1037520" y="4677840"/>
                    <a:ext cx="2854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1031760" y="4725000"/>
                    <a:ext cx="2970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1026000" y="4772160"/>
                    <a:ext cx="3081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>
                    <a:off x="1020240" y="4820040"/>
                    <a:ext cx="3196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>
                    <a:off x="1014840" y="4869720"/>
                    <a:ext cx="3312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1009080" y="4916880"/>
                    <a:ext cx="3423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1003320" y="4963680"/>
                    <a:ext cx="3538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8" name=""/>
                <p:cNvSpPr/>
                <p:nvPr/>
              </p:nvSpPr>
              <p:spPr>
                <a:xfrm rot="16200000">
                  <a:off x="1063800" y="4071600"/>
                  <a:ext cx="23328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9" name=""/>
                <p:cNvGrpSpPr/>
                <p:nvPr/>
              </p:nvGrpSpPr>
              <p:grpSpPr>
                <a:xfrm>
                  <a:off x="1144080" y="4355640"/>
                  <a:ext cx="72360" cy="88560"/>
                  <a:chOff x="1144080" y="4355640"/>
                  <a:chExt cx="72360" cy="88560"/>
                </a:xfrm>
              </p:grpSpPr>
              <p:grpSp>
                <p:nvGrpSpPr>
                  <p:cNvPr id="4200" name=""/>
                  <p:cNvGrpSpPr/>
                  <p:nvPr/>
                </p:nvGrpSpPr>
                <p:grpSpPr>
                  <a:xfrm>
                    <a:off x="1144080" y="4355640"/>
                    <a:ext cx="72360" cy="88560"/>
                    <a:chOff x="1144080" y="4355640"/>
                    <a:chExt cx="72360" cy="88560"/>
                  </a:xfrm>
                </p:grpSpPr>
                <p:sp>
                  <p:nvSpPr>
                    <p:cNvPr id="4201" name=""/>
                    <p:cNvSpPr/>
                    <p:nvPr/>
                  </p:nvSpPr>
                  <p:spPr>
                    <a:xfrm>
                      <a:off x="1144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2" name=""/>
                    <p:cNvSpPr/>
                    <p:nvPr/>
                  </p:nvSpPr>
                  <p:spPr>
                    <a:xfrm>
                      <a:off x="1216080" y="435564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3" name=""/>
                    <p:cNvSpPr/>
                    <p:nvPr/>
                  </p:nvSpPr>
                  <p:spPr>
                    <a:xfrm>
                      <a:off x="1144080" y="435564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04" name=""/>
                  <p:cNvSpPr/>
                  <p:nvPr/>
                </p:nvSpPr>
                <p:spPr>
                  <a:xfrm>
                    <a:off x="1150200" y="4360680"/>
                    <a:ext cx="61200" cy="83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05" name=""/>
                <p:cNvSpPr/>
                <p:nvPr/>
              </p:nvSpPr>
              <p:spPr>
                <a:xfrm>
                  <a:off x="1409760" y="47206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6" name=""/>
              <p:cNvGrpSpPr/>
              <p:nvPr/>
            </p:nvGrpSpPr>
            <p:grpSpPr>
              <a:xfrm>
                <a:off x="228600" y="3246480"/>
                <a:ext cx="1905120" cy="765000"/>
                <a:chOff x="228600" y="3246480"/>
                <a:chExt cx="1905120" cy="765000"/>
              </a:xfrm>
            </p:grpSpPr>
            <p:sp>
              <p:nvSpPr>
                <p:cNvPr id="4207" name=""/>
                <p:cNvSpPr/>
                <p:nvPr/>
              </p:nvSpPr>
              <p:spPr>
                <a:xfrm>
                  <a:off x="228600" y="3246480"/>
                  <a:ext cx="1905120" cy="765000"/>
                </a:xfrm>
                <a:prstGeom prst="cloudCallout">
                  <a:avLst>
                    <a:gd name="adj1" fmla="val 2083"/>
                    <a:gd name="adj2" fmla="val 6441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Literatur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8" name=""/>
                <p:cNvGrpSpPr/>
                <p:nvPr/>
              </p:nvGrpSpPr>
              <p:grpSpPr>
                <a:xfrm>
                  <a:off x="990720" y="3692520"/>
                  <a:ext cx="444240" cy="190800"/>
                  <a:chOff x="990720" y="3692520"/>
                  <a:chExt cx="444240" cy="190800"/>
                </a:xfrm>
              </p:grpSpPr>
              <p:sp>
                <p:nvSpPr>
                  <p:cNvPr id="4209" name=""/>
                  <p:cNvSpPr/>
                  <p:nvPr/>
                </p:nvSpPr>
                <p:spPr>
                  <a:xfrm>
                    <a:off x="990720" y="3819960"/>
                    <a:ext cx="44424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0" name=""/>
                  <p:cNvSpPr/>
                  <p:nvPr/>
                </p:nvSpPr>
                <p:spPr>
                  <a:xfrm>
                    <a:off x="1180800" y="3692520"/>
                    <a:ext cx="633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11" name=""/>
            <p:cNvGrpSpPr/>
            <p:nvPr/>
          </p:nvGrpSpPr>
          <p:grpSpPr>
            <a:xfrm>
              <a:off x="5638680" y="1143000"/>
              <a:ext cx="2514600" cy="1572120"/>
              <a:chOff x="5638680" y="1143000"/>
              <a:chExt cx="2514600" cy="1572120"/>
            </a:xfrm>
          </p:grpSpPr>
          <p:grpSp>
            <p:nvGrpSpPr>
              <p:cNvPr id="4212" name=""/>
              <p:cNvGrpSpPr/>
              <p:nvPr/>
            </p:nvGrpSpPr>
            <p:grpSpPr>
              <a:xfrm>
                <a:off x="6400800" y="1779480"/>
                <a:ext cx="1031400" cy="935640"/>
                <a:chOff x="6400800" y="1779480"/>
                <a:chExt cx="1031400" cy="935640"/>
              </a:xfrm>
            </p:grpSpPr>
            <p:sp>
              <p:nvSpPr>
                <p:cNvPr id="4213" name=""/>
                <p:cNvSpPr/>
                <p:nvPr/>
              </p:nvSpPr>
              <p:spPr>
                <a:xfrm>
                  <a:off x="660672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671040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69177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640080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>
                  <a:off x="68140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7018920" y="25614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7226280" y="2561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0" name=""/>
                <p:cNvSpPr/>
                <p:nvPr/>
              </p:nvSpPr>
              <p:spPr>
                <a:xfrm>
                  <a:off x="6761880" y="2012400"/>
                  <a:ext cx="31104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702036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2" name=""/>
                <p:cNvSpPr/>
                <p:nvPr/>
              </p:nvSpPr>
              <p:spPr>
                <a:xfrm>
                  <a:off x="6606720" y="22878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3" name=""/>
                <p:cNvSpPr/>
                <p:nvPr/>
              </p:nvSpPr>
              <p:spPr>
                <a:xfrm>
                  <a:off x="6814080" y="22878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>
                  <a:off x="650412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5" name=""/>
                <p:cNvSpPr/>
                <p:nvPr/>
              </p:nvSpPr>
              <p:spPr>
                <a:xfrm>
                  <a:off x="6916320" y="2151360"/>
                  <a:ext cx="20628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26" name=""/>
                <p:cNvSpPr/>
                <p:nvPr/>
              </p:nvSpPr>
              <p:spPr>
                <a:xfrm>
                  <a:off x="6710400" y="215136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27" name=""/>
                <p:cNvGrpSpPr/>
                <p:nvPr/>
              </p:nvGrpSpPr>
              <p:grpSpPr>
                <a:xfrm>
                  <a:off x="6756120" y="2149200"/>
                  <a:ext cx="319320" cy="565920"/>
                  <a:chOff x="6756120" y="2149200"/>
                  <a:chExt cx="319320" cy="565920"/>
                </a:xfrm>
              </p:grpSpPr>
              <p:sp>
                <p:nvSpPr>
                  <p:cNvPr id="4228" name=""/>
                  <p:cNvSpPr/>
                  <p:nvPr/>
                </p:nvSpPr>
                <p:spPr>
                  <a:xfrm>
                    <a:off x="6813360" y="2149200"/>
                    <a:ext cx="2059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6807600" y="2196360"/>
                    <a:ext cx="216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6802560" y="2241360"/>
                    <a:ext cx="2264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6797160" y="2288160"/>
                    <a:ext cx="236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6792120" y="2335320"/>
                    <a:ext cx="247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6787080" y="2382840"/>
                    <a:ext cx="2574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6781680" y="2429640"/>
                    <a:ext cx="2678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6776640" y="2476440"/>
                    <a:ext cx="2782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6771600" y="2524320"/>
                    <a:ext cx="288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6766200" y="2574000"/>
                    <a:ext cx="2988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6761160" y="2621160"/>
                    <a:ext cx="308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4" name=""/>
                  <p:cNvSpPr/>
                  <p:nvPr/>
                </p:nvSpPr>
                <p:spPr>
                  <a:xfrm>
                    <a:off x="6756120" y="2667960"/>
                    <a:ext cx="319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39" name=""/>
                <p:cNvSpPr/>
                <p:nvPr/>
              </p:nvSpPr>
              <p:spPr>
                <a:xfrm rot="16200000">
                  <a:off x="6799320" y="1788480"/>
                  <a:ext cx="233640" cy="2152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0" name=""/>
                <p:cNvGrpSpPr/>
                <p:nvPr/>
              </p:nvGrpSpPr>
              <p:grpSpPr>
                <a:xfrm>
                  <a:off x="6883560" y="2061000"/>
                  <a:ext cx="64800" cy="88200"/>
                  <a:chOff x="6883560" y="2061000"/>
                  <a:chExt cx="64800" cy="88200"/>
                </a:xfrm>
              </p:grpSpPr>
              <p:grpSp>
                <p:nvGrpSpPr>
                  <p:cNvPr id="4241" name=""/>
                  <p:cNvGrpSpPr/>
                  <p:nvPr/>
                </p:nvGrpSpPr>
                <p:grpSpPr>
                  <a:xfrm>
                    <a:off x="6883560" y="2061000"/>
                    <a:ext cx="64800" cy="88200"/>
                    <a:chOff x="6883560" y="2061000"/>
                    <a:chExt cx="64800" cy="88200"/>
                  </a:xfrm>
                </p:grpSpPr>
                <p:sp>
                  <p:nvSpPr>
                    <p:cNvPr id="4242" name=""/>
                    <p:cNvSpPr/>
                    <p:nvPr/>
                  </p:nvSpPr>
                  <p:spPr>
                    <a:xfrm>
                      <a:off x="68835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3" name=""/>
                    <p:cNvSpPr/>
                    <p:nvPr/>
                  </p:nvSpPr>
                  <p:spPr>
                    <a:xfrm>
                      <a:off x="6948360" y="20610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4" name=""/>
                    <p:cNvSpPr/>
                    <p:nvPr/>
                  </p:nvSpPr>
                  <p:spPr>
                    <a:xfrm>
                      <a:off x="6883560" y="2061000"/>
                      <a:ext cx="6480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45" name=""/>
                  <p:cNvSpPr/>
                  <p:nvPr/>
                </p:nvSpPr>
                <p:spPr>
                  <a:xfrm>
                    <a:off x="6888960" y="2066040"/>
                    <a:ext cx="54720" cy="83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6" name=""/>
                <p:cNvSpPr/>
                <p:nvPr/>
              </p:nvSpPr>
              <p:spPr>
                <a:xfrm>
                  <a:off x="7122960" y="24246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7" name=""/>
              <p:cNvGrpSpPr/>
              <p:nvPr/>
            </p:nvGrpSpPr>
            <p:grpSpPr>
              <a:xfrm>
                <a:off x="5638680" y="1143000"/>
                <a:ext cx="2514600" cy="636840"/>
                <a:chOff x="5638680" y="1143000"/>
                <a:chExt cx="2514600" cy="636840"/>
              </a:xfrm>
            </p:grpSpPr>
            <p:sp>
              <p:nvSpPr>
                <p:cNvPr id="4248" name=""/>
                <p:cNvSpPr/>
                <p:nvPr/>
              </p:nvSpPr>
              <p:spPr>
                <a:xfrm>
                  <a:off x="5638680" y="1143000"/>
                  <a:ext cx="2514600" cy="636840"/>
                </a:xfrm>
                <a:prstGeom prst="cloudCallout">
                  <a:avLst>
                    <a:gd name="adj1" fmla="val -189"/>
                    <a:gd name="adj2" fmla="val 43541"/>
                  </a:avLst>
                </a:prstGeom>
                <a:solidFill>
                  <a:srgbClr val="7d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Overview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6858000" y="1588680"/>
                  <a:ext cx="76320" cy="6336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0" name=""/>
            <p:cNvGrpSpPr/>
            <p:nvPr/>
          </p:nvGrpSpPr>
          <p:grpSpPr>
            <a:xfrm>
              <a:off x="6264360" y="4156200"/>
              <a:ext cx="2723760" cy="1747800"/>
              <a:chOff x="6264360" y="4156200"/>
              <a:chExt cx="2723760" cy="1747800"/>
            </a:xfrm>
          </p:grpSpPr>
          <p:grpSp>
            <p:nvGrpSpPr>
              <p:cNvPr id="4251" name=""/>
              <p:cNvGrpSpPr/>
              <p:nvPr/>
            </p:nvGrpSpPr>
            <p:grpSpPr>
              <a:xfrm>
                <a:off x="7086600" y="5094000"/>
                <a:ext cx="1143000" cy="810000"/>
                <a:chOff x="7086600" y="5094000"/>
                <a:chExt cx="1143000" cy="810000"/>
              </a:xfrm>
            </p:grpSpPr>
            <p:sp>
              <p:nvSpPr>
                <p:cNvPr id="4252" name=""/>
                <p:cNvSpPr/>
                <p:nvPr/>
              </p:nvSpPr>
              <p:spPr>
                <a:xfrm>
                  <a:off x="7315200" y="577080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7429680" y="565272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7659000" y="5652720"/>
                  <a:ext cx="22860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>
                  <a:off x="7086600" y="577080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7544160" y="577080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>
                  <a:off x="7772400" y="5770800"/>
                  <a:ext cx="22860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8001360" y="577080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7486560" y="5295600"/>
                  <a:ext cx="34488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7773120" y="5534280"/>
                  <a:ext cx="22860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>
                  <a:off x="7315200" y="5534280"/>
                  <a:ext cx="22860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>
                  <a:off x="7544880" y="553428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7201440" y="565272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>
                  <a:off x="7658280" y="541548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7429680" y="541548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6" name=""/>
                <p:cNvGrpSpPr/>
                <p:nvPr/>
              </p:nvGrpSpPr>
              <p:grpSpPr>
                <a:xfrm>
                  <a:off x="7480440" y="5413680"/>
                  <a:ext cx="353880" cy="490320"/>
                  <a:chOff x="7480440" y="5413680"/>
                  <a:chExt cx="353880" cy="490320"/>
                </a:xfrm>
              </p:grpSpPr>
              <p:sp>
                <p:nvSpPr>
                  <p:cNvPr id="4267" name=""/>
                  <p:cNvSpPr/>
                  <p:nvPr/>
                </p:nvSpPr>
                <p:spPr>
                  <a:xfrm>
                    <a:off x="7543800" y="5413680"/>
                    <a:ext cx="22824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8" name=""/>
                  <p:cNvSpPr/>
                  <p:nvPr/>
                </p:nvSpPr>
                <p:spPr>
                  <a:xfrm>
                    <a:off x="7537320" y="5454360"/>
                    <a:ext cx="23976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9" name=""/>
                  <p:cNvSpPr/>
                  <p:nvPr/>
                </p:nvSpPr>
                <p:spPr>
                  <a:xfrm>
                    <a:off x="7531560" y="5493600"/>
                    <a:ext cx="25092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0" name=""/>
                  <p:cNvSpPr/>
                  <p:nvPr/>
                </p:nvSpPr>
                <p:spPr>
                  <a:xfrm>
                    <a:off x="7526160" y="5533920"/>
                    <a:ext cx="26244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1" name=""/>
                  <p:cNvSpPr/>
                  <p:nvPr/>
                </p:nvSpPr>
                <p:spPr>
                  <a:xfrm>
                    <a:off x="7520400" y="5574600"/>
                    <a:ext cx="27396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2" name=""/>
                  <p:cNvSpPr/>
                  <p:nvPr/>
                </p:nvSpPr>
                <p:spPr>
                  <a:xfrm>
                    <a:off x="7514640" y="5616000"/>
                    <a:ext cx="28548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3" name=""/>
                  <p:cNvSpPr/>
                  <p:nvPr/>
                </p:nvSpPr>
                <p:spPr>
                  <a:xfrm>
                    <a:off x="7508880" y="5656680"/>
                    <a:ext cx="29700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4" name=""/>
                  <p:cNvSpPr/>
                  <p:nvPr/>
                </p:nvSpPr>
                <p:spPr>
                  <a:xfrm>
                    <a:off x="7503120" y="5697360"/>
                    <a:ext cx="30816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5" name=""/>
                  <p:cNvSpPr/>
                  <p:nvPr/>
                </p:nvSpPr>
                <p:spPr>
                  <a:xfrm>
                    <a:off x="7497360" y="5738400"/>
                    <a:ext cx="31968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6" name=""/>
                  <p:cNvSpPr/>
                  <p:nvPr/>
                </p:nvSpPr>
                <p:spPr>
                  <a:xfrm>
                    <a:off x="7491960" y="5781600"/>
                    <a:ext cx="33120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"/>
                  <p:cNvSpPr/>
                  <p:nvPr/>
                </p:nvSpPr>
                <p:spPr>
                  <a:xfrm>
                    <a:off x="7486200" y="5822280"/>
                    <a:ext cx="34236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8" name=""/>
                  <p:cNvSpPr/>
                  <p:nvPr/>
                </p:nvSpPr>
                <p:spPr>
                  <a:xfrm>
                    <a:off x="7480440" y="5862960"/>
                    <a:ext cx="353880" cy="410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9" name=""/>
                <p:cNvSpPr/>
                <p:nvPr/>
              </p:nvSpPr>
              <p:spPr>
                <a:xfrm rot="16200000">
                  <a:off x="7556760" y="5075280"/>
                  <a:ext cx="20196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0" name=""/>
                <p:cNvGrpSpPr/>
                <p:nvPr/>
              </p:nvGrpSpPr>
              <p:grpSpPr>
                <a:xfrm>
                  <a:off x="7621200" y="5337000"/>
                  <a:ext cx="72360" cy="76680"/>
                  <a:chOff x="7621200" y="5337000"/>
                  <a:chExt cx="72360" cy="76680"/>
                </a:xfrm>
              </p:grpSpPr>
              <p:grpSp>
                <p:nvGrpSpPr>
                  <p:cNvPr id="4281" name=""/>
                  <p:cNvGrpSpPr/>
                  <p:nvPr/>
                </p:nvGrpSpPr>
                <p:grpSpPr>
                  <a:xfrm>
                    <a:off x="7621200" y="5337000"/>
                    <a:ext cx="72360" cy="76680"/>
                    <a:chOff x="7621200" y="5337000"/>
                    <a:chExt cx="72360" cy="76680"/>
                  </a:xfrm>
                </p:grpSpPr>
                <p:sp>
                  <p:nvSpPr>
                    <p:cNvPr id="4282" name=""/>
                    <p:cNvSpPr/>
                    <p:nvPr/>
                  </p:nvSpPr>
                  <p:spPr>
                    <a:xfrm>
                      <a:off x="7621200" y="5337000"/>
                      <a:ext cx="0" cy="7668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3" name=""/>
                    <p:cNvSpPr/>
                    <p:nvPr/>
                  </p:nvSpPr>
                  <p:spPr>
                    <a:xfrm>
                      <a:off x="7693200" y="5337000"/>
                      <a:ext cx="0" cy="7668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4" name=""/>
                    <p:cNvSpPr/>
                    <p:nvPr/>
                  </p:nvSpPr>
                  <p:spPr>
                    <a:xfrm>
                      <a:off x="7621200" y="533700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85" name=""/>
                  <p:cNvSpPr/>
                  <p:nvPr/>
                </p:nvSpPr>
                <p:spPr>
                  <a:xfrm>
                    <a:off x="7627320" y="5341320"/>
                    <a:ext cx="61200" cy="723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6" name=""/>
                <p:cNvSpPr/>
                <p:nvPr/>
              </p:nvSpPr>
              <p:spPr>
                <a:xfrm>
                  <a:off x="7886880" y="5652720"/>
                  <a:ext cx="228240" cy="11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7" name=""/>
              <p:cNvGrpSpPr/>
              <p:nvPr/>
            </p:nvGrpSpPr>
            <p:grpSpPr>
              <a:xfrm>
                <a:off x="6264360" y="4156200"/>
                <a:ext cx="2723760" cy="811080"/>
                <a:chOff x="6264360" y="4156200"/>
                <a:chExt cx="2723760" cy="811080"/>
              </a:xfrm>
            </p:grpSpPr>
            <p:sp>
              <p:nvSpPr>
                <p:cNvPr id="4288" name=""/>
                <p:cNvSpPr/>
                <p:nvPr/>
              </p:nvSpPr>
              <p:spPr>
                <a:xfrm>
                  <a:off x="6264360" y="4156200"/>
                  <a:ext cx="2723760" cy="811080"/>
                </a:xfrm>
                <a:prstGeom prst="cloudCallout">
                  <a:avLst>
                    <a:gd name="adj1" fmla="val 277"/>
                    <a:gd name="adj2" fmla="val 54925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Vcc-Reference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9" name=""/>
                <p:cNvGrpSpPr/>
                <p:nvPr/>
              </p:nvGrpSpPr>
              <p:grpSpPr>
                <a:xfrm>
                  <a:off x="7353720" y="4745880"/>
                  <a:ext cx="453600" cy="73440"/>
                  <a:chOff x="7353720" y="4745880"/>
                  <a:chExt cx="453600" cy="73440"/>
                </a:xfrm>
              </p:grpSpPr>
              <p:sp>
                <p:nvSpPr>
                  <p:cNvPr id="4290" name=""/>
                  <p:cNvSpPr/>
                  <p:nvPr/>
                </p:nvSpPr>
                <p:spPr>
                  <a:xfrm>
                    <a:off x="7353720" y="4745880"/>
                    <a:ext cx="90360" cy="7344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1" name=""/>
                  <p:cNvSpPr/>
                  <p:nvPr/>
                </p:nvSpPr>
                <p:spPr>
                  <a:xfrm>
                    <a:off x="7535160" y="4745880"/>
                    <a:ext cx="90720" cy="7344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7716600" y="4745880"/>
                    <a:ext cx="90720" cy="7344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CA238-51DE-4C71-8BD9-F550AF678A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160200" y="149688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- Take care of conditions for min ma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- Include each used parameter if possi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- Use the correct modeltype with th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corresponding parame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- Use the ibis quality checklis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(coming soon 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22CA9-56EE-4927-AB82-B1D7B98578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mprovements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96" name="g_tikal_01-len" descr=""/>
          <p:cNvPicPr/>
          <p:nvPr/>
        </p:nvPicPr>
        <p:blipFill>
          <a:blip r:embed="rId1"/>
          <a:stretch/>
        </p:blipFill>
        <p:spPr>
          <a:xfrm>
            <a:off x="4689360" y="1308240"/>
            <a:ext cx="3810240" cy="4754520"/>
          </a:xfrm>
          <a:prstGeom prst="rect">
            <a:avLst/>
          </a:prstGeom>
          <a:ln w="0">
            <a:noFill/>
          </a:ln>
        </p:spPr>
      </p:pic>
      <p:pic>
        <p:nvPicPr>
          <p:cNvPr id="4297" name="maya" descr=""/>
          <p:cNvPicPr/>
          <p:nvPr/>
        </p:nvPicPr>
        <p:blipFill>
          <a:blip r:embed="rId2"/>
          <a:stretch/>
        </p:blipFill>
        <p:spPr>
          <a:xfrm>
            <a:off x="731880" y="1301760"/>
            <a:ext cx="3736800" cy="4778280"/>
          </a:xfrm>
          <a:prstGeom prst="rect">
            <a:avLst/>
          </a:prstGeom>
          <a:ln w="0">
            <a:noFill/>
          </a:ln>
        </p:spPr>
      </p:pic>
      <p:sp>
        <p:nvSpPr>
          <p:cNvPr id="4298" name=""/>
          <p:cNvSpPr/>
          <p:nvPr/>
        </p:nvSpPr>
        <p:spPr>
          <a:xfrm>
            <a:off x="6190200" y="6016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2315160" y="60166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1885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6C9A3-6B14-4D48-8152-A4C15934BB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Blocks of an basic IBIS-Model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341520" y="2119320"/>
            <a:ext cx="5801400" cy="3520080"/>
            <a:chOff x="3341520" y="2119320"/>
            <a:chExt cx="5801400" cy="3520080"/>
          </a:xfrm>
        </p:grpSpPr>
        <p:grpSp>
          <p:nvGrpSpPr>
            <p:cNvPr id="496" name=""/>
            <p:cNvGrpSpPr/>
            <p:nvPr/>
          </p:nvGrpSpPr>
          <p:grpSpPr>
            <a:xfrm>
              <a:off x="7353360" y="3084480"/>
              <a:ext cx="988560" cy="1647000"/>
              <a:chOff x="7353360" y="3084480"/>
              <a:chExt cx="988560" cy="1647000"/>
            </a:xfrm>
          </p:grpSpPr>
          <p:sp>
            <p:nvSpPr>
              <p:cNvPr id="497" name=""/>
              <p:cNvSpPr/>
              <p:nvPr/>
            </p:nvSpPr>
            <p:spPr>
              <a:xfrm>
                <a:off x="7353360" y="3084480"/>
                <a:ext cx="988560" cy="7383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3360" y="3993120"/>
                <a:ext cx="988560" cy="7383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353360" y="2289240"/>
              <a:ext cx="988560" cy="3264840"/>
              <a:chOff x="7353360" y="2289240"/>
              <a:chExt cx="988560" cy="3264840"/>
            </a:xfrm>
          </p:grpSpPr>
          <p:sp>
            <p:nvSpPr>
              <p:cNvPr id="500" name=""/>
              <p:cNvSpPr/>
              <p:nvPr/>
            </p:nvSpPr>
            <p:spPr>
              <a:xfrm>
                <a:off x="7353360" y="2289240"/>
                <a:ext cx="988560" cy="738000"/>
              </a:xfrm>
              <a:prstGeom prst="rect">
                <a:avLst/>
              </a:prstGeom>
              <a:solidFill>
                <a:srgbClr val="ff33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53360" y="4816080"/>
                <a:ext cx="988560" cy="738000"/>
              </a:xfrm>
              <a:prstGeom prst="rect">
                <a:avLst/>
              </a:prstGeom>
              <a:solidFill>
                <a:srgbClr val="ff33cc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ing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-fix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370480" y="2857680"/>
              <a:ext cx="1842480" cy="2043720"/>
              <a:chOff x="5370480" y="2857680"/>
              <a:chExt cx="1842480" cy="2043720"/>
            </a:xfrm>
          </p:grpSpPr>
          <p:sp>
            <p:nvSpPr>
              <p:cNvPr id="503" name=""/>
              <p:cNvSpPr/>
              <p:nvPr/>
            </p:nvSpPr>
            <p:spPr>
              <a:xfrm>
                <a:off x="6294960" y="2857680"/>
                <a:ext cx="918000" cy="73764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ise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94960" y="4163400"/>
                <a:ext cx="918000" cy="73800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Ramp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fall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70480" y="2857680"/>
                <a:ext cx="891720" cy="73764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ullu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70480" y="4163400"/>
                <a:ext cx="891720" cy="738000"/>
              </a:xfrm>
              <a:prstGeom prst="rect">
                <a:avLst/>
              </a:prstGeom>
              <a:solidFill>
                <a:srgbClr val="ff9966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ulldown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341520" y="2857680"/>
              <a:ext cx="1990080" cy="2043720"/>
              <a:chOff x="3341520" y="2857680"/>
              <a:chExt cx="1990080" cy="2043720"/>
            </a:xfrm>
          </p:grpSpPr>
          <p:sp>
            <p:nvSpPr>
              <p:cNvPr id="508" name=""/>
              <p:cNvSpPr/>
              <p:nvPr/>
            </p:nvSpPr>
            <p:spPr>
              <a:xfrm>
                <a:off x="4656600" y="2857680"/>
                <a:ext cx="675000" cy="737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Power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l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56600" y="4163400"/>
                <a:ext cx="675000" cy="7380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Gnd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la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341520" y="3481920"/>
                <a:ext cx="1238760" cy="965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Threshold 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Over-under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3366"/>
                    </a:solidFill>
                    <a:latin typeface="Times New Roman"/>
                  </a:rPr>
                  <a:t>C_com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608360" y="3595680"/>
              <a:ext cx="2195640" cy="568440"/>
              <a:chOff x="4608360" y="3595680"/>
              <a:chExt cx="2195640" cy="568440"/>
            </a:xfrm>
          </p:grpSpPr>
          <p:sp>
            <p:nvSpPr>
              <p:cNvPr id="512" name=""/>
              <p:cNvSpPr/>
              <p:nvPr/>
            </p:nvSpPr>
            <p:spPr>
              <a:xfrm>
                <a:off x="4608360" y="3879720"/>
                <a:ext cx="21715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2960" y="3595680"/>
                <a:ext cx="720" cy="5684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55760" y="3851280"/>
                <a:ext cx="48240" cy="5652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18400" y="3851280"/>
                <a:ext cx="47160" cy="5652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38480" y="3851280"/>
                <a:ext cx="47160" cy="56520"/>
              </a:xfrm>
              <a:prstGeom prst="ellipse">
                <a:avLst/>
              </a:prstGeom>
              <a:solidFill>
                <a:srgbClr val="0033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42520" y="3595680"/>
                <a:ext cx="720" cy="5684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79880" y="3595680"/>
                <a:ext cx="720" cy="5684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5041800" y="2119320"/>
              <a:ext cx="4101120" cy="3520080"/>
              <a:chOff x="5041800" y="2119320"/>
              <a:chExt cx="4101120" cy="352008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8396640" y="3709080"/>
                <a:ext cx="746280" cy="340560"/>
                <a:chOff x="8396640" y="3709080"/>
                <a:chExt cx="746280" cy="3405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420400" y="3879360"/>
                  <a:ext cx="1443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396640" y="3850920"/>
                  <a:ext cx="47880" cy="5652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564760" y="3709080"/>
                  <a:ext cx="385560" cy="3405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998560" y="3794040"/>
                  <a:ext cx="144360" cy="170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5041800" y="2119320"/>
                <a:ext cx="724680" cy="738000"/>
                <a:chOff x="5041800" y="2119320"/>
                <a:chExt cx="724680" cy="738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5379480" y="2687040"/>
                  <a:ext cx="0" cy="568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041800" y="2743920"/>
                  <a:ext cx="0" cy="1134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765760" y="2743920"/>
                  <a:ext cx="720" cy="1134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041800" y="2743920"/>
                  <a:ext cx="723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186520" y="2346120"/>
                  <a:ext cx="385920" cy="3405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307120" y="2119320"/>
                  <a:ext cx="144720" cy="17028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379480" y="2289600"/>
                  <a:ext cx="0" cy="565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041800" y="4902120"/>
                <a:ext cx="725040" cy="737280"/>
                <a:chOff x="5041800" y="4902120"/>
                <a:chExt cx="725040" cy="7372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766840" y="4902120"/>
                  <a:ext cx="0" cy="1134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041800" y="4902120"/>
                  <a:ext cx="720" cy="1134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041800" y="5015520"/>
                  <a:ext cx="7250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186520" y="5072040"/>
                  <a:ext cx="386640" cy="3402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3366"/>
                      </a:solidFill>
                      <a:latin typeface="Times New Roman"/>
                    </a:rPr>
                    <a:t>pkg</a:t>
                  </a:r>
                  <a:endParaRPr b="0" lang="en-US" sz="1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307480" y="5469480"/>
                  <a:ext cx="144720" cy="16992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379840" y="5015520"/>
                  <a:ext cx="0" cy="565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379840" y="5412600"/>
                  <a:ext cx="0" cy="565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1" name=""/>
            <p:cNvGrpSpPr/>
            <p:nvPr/>
          </p:nvGrpSpPr>
          <p:grpSpPr>
            <a:xfrm>
              <a:off x="7213680" y="2602080"/>
              <a:ext cx="1785600" cy="2555640"/>
              <a:chOff x="7213680" y="2602080"/>
              <a:chExt cx="1785600" cy="255564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7213680" y="2602080"/>
                <a:ext cx="1229760" cy="2555640"/>
                <a:chOff x="7213680" y="2602080"/>
                <a:chExt cx="1229760" cy="255564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309800" y="2602080"/>
                  <a:ext cx="0" cy="9651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420040" y="2602080"/>
                  <a:ext cx="0" cy="25556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309800" y="4135320"/>
                  <a:ext cx="0" cy="9651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213680" y="299916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213680" y="470304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309800" y="260208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309800" y="356724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309800" y="413532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309800" y="510084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323560" y="424872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285680" y="4674960"/>
                  <a:ext cx="48240" cy="5652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285680" y="2971080"/>
                  <a:ext cx="48240" cy="5652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396280" y="3425400"/>
                  <a:ext cx="47160" cy="5688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323560" y="260208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23560" y="515772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396280" y="4220280"/>
                  <a:ext cx="47160" cy="56880"/>
                </a:xfrm>
                <a:prstGeom prst="ellipse">
                  <a:avLst/>
                </a:prstGeom>
                <a:solidFill>
                  <a:srgbClr val="003366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323560" y="3453840"/>
                  <a:ext cx="9612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951400" y="3879720"/>
                <a:ext cx="47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149400" y="1957320"/>
            <a:ext cx="2824560" cy="3683160"/>
            <a:chOff x="149400" y="1957320"/>
            <a:chExt cx="2824560" cy="3683160"/>
          </a:xfrm>
        </p:grpSpPr>
        <p:grpSp>
          <p:nvGrpSpPr>
            <p:cNvPr id="562" name=""/>
            <p:cNvGrpSpPr/>
            <p:nvPr/>
          </p:nvGrpSpPr>
          <p:grpSpPr>
            <a:xfrm>
              <a:off x="1520640" y="2717640"/>
              <a:ext cx="582840" cy="1109880"/>
              <a:chOff x="1520640" y="2717640"/>
              <a:chExt cx="582840" cy="1109880"/>
            </a:xfrm>
          </p:grpSpPr>
          <p:sp>
            <p:nvSpPr>
              <p:cNvPr id="563" name=""/>
              <p:cNvSpPr/>
              <p:nvPr/>
            </p:nvSpPr>
            <p:spPr>
              <a:xfrm>
                <a:off x="2054160" y="2717640"/>
                <a:ext cx="0" cy="10670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1520640" y="271764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005200" y="3740040"/>
                <a:ext cx="98280" cy="87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149400" y="1957320"/>
              <a:ext cx="1938960" cy="1625760"/>
              <a:chOff x="149400" y="1957320"/>
              <a:chExt cx="1938960" cy="162576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682560" y="2093760"/>
                <a:ext cx="292320" cy="653760"/>
                <a:chOff x="682560" y="2093760"/>
                <a:chExt cx="292320" cy="6537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877320" y="2180880"/>
                  <a:ext cx="0" cy="13068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77320" y="2355120"/>
                  <a:ext cx="0" cy="13068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77320" y="2529720"/>
                  <a:ext cx="0" cy="13068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876960" y="2616840"/>
                  <a:ext cx="975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876960" y="2224440"/>
                  <a:ext cx="975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974880" y="2093760"/>
                  <a:ext cx="0" cy="1306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974880" y="2616840"/>
                  <a:ext cx="0" cy="1306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79760" y="2268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682560" y="2573280"/>
                  <a:ext cx="972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876960" y="2442600"/>
                  <a:ext cx="975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82560" y="2747880"/>
                <a:ext cx="292320" cy="653760"/>
                <a:chOff x="682560" y="2747880"/>
                <a:chExt cx="292320" cy="6537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877320" y="2835000"/>
                  <a:ext cx="0" cy="13068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77320" y="3009240"/>
                  <a:ext cx="0" cy="13068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77320" y="3183840"/>
                  <a:ext cx="0" cy="13068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876960" y="3270960"/>
                  <a:ext cx="975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876960" y="2878560"/>
                  <a:ext cx="975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974880" y="2747880"/>
                  <a:ext cx="0" cy="1306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974880" y="3270960"/>
                  <a:ext cx="0" cy="1306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79760" y="292212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682560" y="3227400"/>
                  <a:ext cx="972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876960" y="3096720"/>
                  <a:ext cx="975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1023840" y="2747880"/>
                <a:ext cx="48600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170000" y="2225520"/>
                <a:ext cx="0" cy="34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70000" y="2573280"/>
                <a:ext cx="1936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70000" y="2922480"/>
                <a:ext cx="0" cy="3477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70000" y="2922480"/>
                <a:ext cx="1936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04280" y="215100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 high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05000" y="302400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 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25560" y="2705040"/>
                <a:ext cx="98280" cy="85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911160" y="1957320"/>
                <a:ext cx="146160" cy="1317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2560" y="2571840"/>
                <a:ext cx="0" cy="6649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49400" y="2776320"/>
                <a:ext cx="48564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6600" y="2725560"/>
                <a:ext cx="98280" cy="86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897120" y="3403440"/>
                <a:ext cx="179280" cy="179640"/>
                <a:chOff x="897120" y="3403440"/>
                <a:chExt cx="179280" cy="1796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41760" y="3538080"/>
                  <a:ext cx="896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986760" y="3583080"/>
                  <a:ext cx="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97120" y="3493080"/>
                  <a:ext cx="179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986760" y="3403440"/>
                  <a:ext cx="0" cy="8964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453960" y="2336760"/>
              <a:ext cx="2520000" cy="3303720"/>
              <a:chOff x="453960" y="2336760"/>
              <a:chExt cx="2520000" cy="330372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2352960" y="2336760"/>
                <a:ext cx="621000" cy="2684880"/>
                <a:chOff x="2352960" y="2336760"/>
                <a:chExt cx="621000" cy="268488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2549520" y="3405240"/>
                  <a:ext cx="228600" cy="358200"/>
                  <a:chOff x="2549520" y="3405240"/>
                  <a:chExt cx="228600" cy="3582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>
                    <a:off x="2549520" y="3507480"/>
                    <a:ext cx="228600" cy="153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549520" y="35074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663640" y="3661200"/>
                    <a:ext cx="0" cy="1022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663640" y="3405240"/>
                    <a:ext cx="0" cy="1022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2590920" y="2944800"/>
                  <a:ext cx="145800" cy="13176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2549520" y="3763800"/>
                  <a:ext cx="228600" cy="357120"/>
                  <a:chOff x="2549520" y="3763800"/>
                  <a:chExt cx="228600" cy="3571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2549520" y="3865680"/>
                    <a:ext cx="228600" cy="15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549520" y="3865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663640" y="4019040"/>
                    <a:ext cx="0" cy="1018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663640" y="3763800"/>
                    <a:ext cx="0" cy="1018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9" name=""/>
                <p:cNvSpPr/>
                <p:nvPr/>
              </p:nvSpPr>
              <p:spPr>
                <a:xfrm>
                  <a:off x="2664000" y="4121280"/>
                  <a:ext cx="0" cy="25560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664000" y="3098880"/>
                  <a:ext cx="0" cy="3063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614680" y="3740040"/>
                  <a:ext cx="98280" cy="87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H="1">
                  <a:off x="2367720" y="2336760"/>
                  <a:ext cx="59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2352600" y="4622760"/>
                  <a:ext cx="621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2573280" y="4317840"/>
                  <a:ext cx="179280" cy="179640"/>
                  <a:chOff x="2573280" y="4317840"/>
                  <a:chExt cx="179280" cy="17964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2617920" y="4452480"/>
                    <a:ext cx="896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2662920" y="44974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2573280" y="440748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2662920" y="4317840"/>
                    <a:ext cx="0" cy="896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453960" y="4013280"/>
                <a:ext cx="1360080" cy="1627200"/>
                <a:chOff x="453960" y="4013280"/>
                <a:chExt cx="1360080" cy="1627200"/>
              </a:xfrm>
            </p:grpSpPr>
            <p:grpSp>
              <p:nvGrpSpPr>
                <p:cNvPr id="630" name=""/>
                <p:cNvGrpSpPr/>
                <p:nvPr/>
              </p:nvGrpSpPr>
              <p:grpSpPr>
                <a:xfrm>
                  <a:off x="988920" y="4149720"/>
                  <a:ext cx="292320" cy="653760"/>
                  <a:chOff x="988920" y="4149720"/>
                  <a:chExt cx="292320" cy="65376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1086480" y="4236840"/>
                    <a:ext cx="0" cy="13068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1086480" y="4411080"/>
                    <a:ext cx="0" cy="13068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1086480" y="4585680"/>
                    <a:ext cx="0" cy="13068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989280" y="4672800"/>
                    <a:ext cx="975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989280" y="4280400"/>
                    <a:ext cx="975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988920" y="4149720"/>
                    <a:ext cx="0" cy="1306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988920" y="4672800"/>
                    <a:ext cx="0" cy="1306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184040" y="4323960"/>
                    <a:ext cx="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1184040" y="462924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989280" y="4498560"/>
                    <a:ext cx="975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988920" y="4803840"/>
                  <a:ext cx="292320" cy="653760"/>
                  <a:chOff x="988920" y="4803840"/>
                  <a:chExt cx="292320" cy="6537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>
                    <a:off x="1086480" y="4890960"/>
                    <a:ext cx="0" cy="13068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86480" y="5065200"/>
                    <a:ext cx="0" cy="13068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086480" y="5239800"/>
                    <a:ext cx="0" cy="13068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989280" y="5326920"/>
                    <a:ext cx="975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989280" y="4934520"/>
                    <a:ext cx="975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988920" y="4803840"/>
                    <a:ext cx="0" cy="1306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988920" y="5326920"/>
                    <a:ext cx="0" cy="13068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1184040" y="4978080"/>
                    <a:ext cx="0" cy="30492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1184040" y="5283360"/>
                    <a:ext cx="972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989280" y="5152680"/>
                    <a:ext cx="975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"/>
                <p:cNvSpPr/>
                <p:nvPr/>
              </p:nvSpPr>
              <p:spPr>
                <a:xfrm flipH="1">
                  <a:off x="453960" y="4803840"/>
                  <a:ext cx="4860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939240" y="4761000"/>
                  <a:ext cx="98280" cy="8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906480" y="4013280"/>
                  <a:ext cx="146160" cy="13176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81240" y="4627440"/>
                  <a:ext cx="0" cy="6652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1328400" y="4832280"/>
                  <a:ext cx="48564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258200" y="4781520"/>
                  <a:ext cx="98280" cy="85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8" name=""/>
                <p:cNvGrpSpPr/>
                <p:nvPr/>
              </p:nvGrpSpPr>
              <p:grpSpPr>
                <a:xfrm>
                  <a:off x="897120" y="5460840"/>
                  <a:ext cx="179280" cy="179640"/>
                  <a:chOff x="897120" y="5460840"/>
                  <a:chExt cx="179280" cy="17964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941760" y="5595480"/>
                    <a:ext cx="896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986760" y="56404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897120" y="5550480"/>
                    <a:ext cx="1792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986760" y="5460840"/>
                    <a:ext cx="0" cy="8964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3" name=""/>
              <p:cNvGrpSpPr/>
              <p:nvPr/>
            </p:nvGrpSpPr>
            <p:grpSpPr>
              <a:xfrm>
                <a:off x="1825200" y="3784680"/>
                <a:ext cx="1143360" cy="1066680"/>
                <a:chOff x="1825200" y="3784680"/>
                <a:chExt cx="1143360" cy="1066680"/>
              </a:xfrm>
            </p:grpSpPr>
            <p:sp>
              <p:nvSpPr>
                <p:cNvPr id="664" name=""/>
                <p:cNvSpPr/>
                <p:nvPr/>
              </p:nvSpPr>
              <p:spPr>
                <a:xfrm flipH="1">
                  <a:off x="2054160" y="37846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1825200" y="48513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054160" y="3784680"/>
                  <a:ext cx="0" cy="10666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D5E92-4EB2-4254-9974-405C406B42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Basic V-I and V-t Curves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49040" y="1231920"/>
            <a:ext cx="2503080" cy="5275800"/>
            <a:chOff x="149040" y="1231920"/>
            <a:chExt cx="2503080" cy="5275800"/>
          </a:xfrm>
        </p:grpSpPr>
        <p:grpSp>
          <p:nvGrpSpPr>
            <p:cNvPr id="669" name=""/>
            <p:cNvGrpSpPr/>
            <p:nvPr/>
          </p:nvGrpSpPr>
          <p:grpSpPr>
            <a:xfrm>
              <a:off x="149040" y="1231920"/>
              <a:ext cx="2348280" cy="2133360"/>
              <a:chOff x="149040" y="1231920"/>
              <a:chExt cx="2348280" cy="2133360"/>
            </a:xfrm>
          </p:grpSpPr>
          <p:sp>
            <p:nvSpPr>
              <p:cNvPr id="670" name=""/>
              <p:cNvSpPr/>
              <p:nvPr/>
            </p:nvSpPr>
            <p:spPr>
              <a:xfrm>
                <a:off x="893880" y="1231920"/>
                <a:ext cx="0" cy="213336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25720" y="2527200"/>
                <a:ext cx="22096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32280" y="26035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31720" y="13842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29560" y="2663640"/>
                <a:ext cx="130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Gnd clam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29200" y="1917720"/>
                <a:ext cx="151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ower clam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149040" y="2527200"/>
                <a:ext cx="1676520" cy="762120"/>
                <a:chOff x="149040" y="2527200"/>
                <a:chExt cx="1676520" cy="762120"/>
              </a:xfrm>
            </p:grpSpPr>
            <p:sp>
              <p:nvSpPr>
                <p:cNvPr id="677" name=""/>
                <p:cNvSpPr/>
                <p:nvPr/>
              </p:nvSpPr>
              <p:spPr>
                <a:xfrm flipH="1">
                  <a:off x="530280" y="2527200"/>
                  <a:ext cx="1295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377640" y="2527200"/>
                  <a:ext cx="152280" cy="763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149040" y="2603520"/>
                  <a:ext cx="228600" cy="6858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225360" y="1764720"/>
                <a:ext cx="1676520" cy="762120"/>
                <a:chOff x="225360" y="1764720"/>
                <a:chExt cx="1676520" cy="762120"/>
              </a:xfrm>
            </p:grpSpPr>
            <p:sp>
              <p:nvSpPr>
                <p:cNvPr id="681" name=""/>
                <p:cNvSpPr/>
                <p:nvPr/>
              </p:nvSpPr>
              <p:spPr>
                <a:xfrm flipH="1">
                  <a:off x="606600" y="2526840"/>
                  <a:ext cx="1295280" cy="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 flipV="1">
                  <a:off x="453960" y="2450520"/>
                  <a:ext cx="152280" cy="763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 flipV="1">
                  <a:off x="225360" y="1764720"/>
                  <a:ext cx="228600" cy="6858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4" name=""/>
            <p:cNvGrpSpPr/>
            <p:nvPr/>
          </p:nvGrpSpPr>
          <p:grpSpPr>
            <a:xfrm>
              <a:off x="302040" y="3517920"/>
              <a:ext cx="2350080" cy="2989800"/>
              <a:chOff x="302040" y="3517920"/>
              <a:chExt cx="2350080" cy="2989800"/>
            </a:xfrm>
          </p:grpSpPr>
          <p:sp>
            <p:nvSpPr>
              <p:cNvPr id="685" name=""/>
              <p:cNvSpPr/>
              <p:nvPr/>
            </p:nvSpPr>
            <p:spPr>
              <a:xfrm>
                <a:off x="893880" y="3822480"/>
                <a:ext cx="0" cy="21337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25480" y="5086080"/>
                <a:ext cx="160776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960920" y="458460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ou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2040" y="40510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Iout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874800" y="3981240"/>
                <a:ext cx="1459800" cy="1168200"/>
                <a:chOff x="874800" y="3981240"/>
                <a:chExt cx="1459800" cy="1168200"/>
              </a:xfrm>
            </p:grpSpPr>
            <p:sp>
              <p:nvSpPr>
                <p:cNvPr id="690" name=""/>
                <p:cNvSpPr/>
                <p:nvPr/>
              </p:nvSpPr>
              <p:spPr>
                <a:xfrm flipV="1">
                  <a:off x="874800" y="4695480"/>
                  <a:ext cx="242640" cy="4539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1117440" y="4370400"/>
                  <a:ext cx="244080" cy="325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1361880" y="4111200"/>
                  <a:ext cx="388440" cy="2588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1750680" y="3981240"/>
                  <a:ext cx="583920" cy="13032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875160" y="5086080"/>
                <a:ext cx="1412280" cy="777960"/>
                <a:chOff x="875160" y="5086080"/>
                <a:chExt cx="1412280" cy="7779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875160" y="5086080"/>
                  <a:ext cx="48960" cy="1936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924840" y="5279760"/>
                  <a:ext cx="194760" cy="32544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119960" y="5605200"/>
                  <a:ext cx="340920" cy="1954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460880" y="5800680"/>
                  <a:ext cx="534960" cy="633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995840" y="5864040"/>
                  <a:ext cx="2916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893160" y="5803920"/>
                <a:ext cx="833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High/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ullu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92440" y="3517920"/>
                <a:ext cx="114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Low/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pulldow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2944440" y="2589120"/>
            <a:ext cx="5897880" cy="3613680"/>
            <a:chOff x="2944440" y="2589120"/>
            <a:chExt cx="5897880" cy="3613680"/>
          </a:xfrm>
        </p:grpSpPr>
        <p:grpSp>
          <p:nvGrpSpPr>
            <p:cNvPr id="703" name=""/>
            <p:cNvGrpSpPr/>
            <p:nvPr/>
          </p:nvGrpSpPr>
          <p:grpSpPr>
            <a:xfrm>
              <a:off x="6919560" y="2589120"/>
              <a:ext cx="1922760" cy="3613680"/>
              <a:chOff x="6919560" y="2589120"/>
              <a:chExt cx="1922760" cy="36136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919560" y="4307040"/>
                <a:ext cx="1922760" cy="1895760"/>
                <a:chOff x="6919560" y="4307040"/>
                <a:chExt cx="1922760" cy="18957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421400" y="5146200"/>
                  <a:ext cx="763920" cy="719640"/>
                  <a:chOff x="7421400" y="5146200"/>
                  <a:chExt cx="763920" cy="71964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8011080" y="5865840"/>
                    <a:ext cx="15948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7421400" y="5146200"/>
                    <a:ext cx="763920" cy="718560"/>
                    <a:chOff x="7421400" y="5146200"/>
                    <a:chExt cx="763920" cy="71856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 flipV="1">
                      <a:off x="7803000" y="5145840"/>
                      <a:ext cx="38232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flipV="1" rot="10800000">
                      <a:off x="7421400" y="5146200"/>
                      <a:ext cx="38088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0" name=""/>
                  <p:cNvSpPr/>
                  <p:nvPr/>
                </p:nvSpPr>
                <p:spPr>
                  <a:xfrm>
                    <a:off x="7451640" y="5146560"/>
                    <a:ext cx="15948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6919560" y="4307040"/>
                  <a:ext cx="1922760" cy="1895760"/>
                  <a:chOff x="6919560" y="4307040"/>
                  <a:chExt cx="1922760" cy="18957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7450200" y="4678200"/>
                    <a:ext cx="0" cy="12639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402680" y="5894280"/>
                    <a:ext cx="1439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402680" y="514656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310520" y="4307040"/>
                    <a:ext cx="1839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976440" y="503568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919560" y="580392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8" name=""/>
              <p:cNvGrpSpPr/>
              <p:nvPr/>
            </p:nvGrpSpPr>
            <p:grpSpPr>
              <a:xfrm>
                <a:off x="6919560" y="2589120"/>
                <a:ext cx="1913400" cy="1541520"/>
                <a:chOff x="6919560" y="2589120"/>
                <a:chExt cx="1913400" cy="154152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6919560" y="2589120"/>
                  <a:ext cx="1913400" cy="1541520"/>
                  <a:chOff x="6919560" y="2589120"/>
                  <a:chExt cx="1913400" cy="154152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7440840" y="2868480"/>
                    <a:ext cx="0" cy="12621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393320" y="4083120"/>
                    <a:ext cx="1439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393320" y="380376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7347240" y="30542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301160" y="2589120"/>
                    <a:ext cx="1843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919920" y="294156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919560" y="369108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7436880" y="3045960"/>
                  <a:ext cx="763920" cy="719640"/>
                  <a:chOff x="7436880" y="3045960"/>
                  <a:chExt cx="763920" cy="71964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7452000" y="3765600"/>
                    <a:ext cx="15948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8011440" y="3046320"/>
                    <a:ext cx="15948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7436880" y="3045960"/>
                    <a:ext cx="763920" cy="718560"/>
                    <a:chOff x="7436880" y="3045960"/>
                    <a:chExt cx="763920" cy="7185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flipV="1">
                      <a:off x="7436880" y="3045600"/>
                      <a:ext cx="38232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flipV="1" rot="10800000">
                      <a:off x="7819920" y="3045960"/>
                      <a:ext cx="38088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33" name=""/>
            <p:cNvGrpSpPr/>
            <p:nvPr/>
          </p:nvGrpSpPr>
          <p:grpSpPr>
            <a:xfrm>
              <a:off x="4862160" y="2589120"/>
              <a:ext cx="1987920" cy="3591360"/>
              <a:chOff x="4862160" y="2589120"/>
              <a:chExt cx="1987920" cy="3591360"/>
            </a:xfrm>
          </p:grpSpPr>
          <p:grpSp>
            <p:nvGrpSpPr>
              <p:cNvPr id="734" name=""/>
              <p:cNvGrpSpPr/>
              <p:nvPr/>
            </p:nvGrpSpPr>
            <p:grpSpPr>
              <a:xfrm>
                <a:off x="4862160" y="2589120"/>
                <a:ext cx="1948680" cy="1541520"/>
                <a:chOff x="4862160" y="2589120"/>
                <a:chExt cx="1948680" cy="154152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5349960" y="3045960"/>
                  <a:ext cx="1145880" cy="719640"/>
                  <a:chOff x="5349960" y="3045960"/>
                  <a:chExt cx="1145880" cy="71964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6234120" y="3765600"/>
                    <a:ext cx="23940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349960" y="3045960"/>
                    <a:ext cx="1145880" cy="718560"/>
                    <a:chOff x="5349960" y="3045960"/>
                    <a:chExt cx="1145880" cy="71856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flipH="1" flipV="1">
                      <a:off x="5922000" y="3045600"/>
                      <a:ext cx="57384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flipH="1" flipV="1" rot="10800000">
                      <a:off x="5349960" y="3045960"/>
                      <a:ext cx="57168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40" name=""/>
                  <p:cNvSpPr/>
                  <p:nvPr/>
                </p:nvSpPr>
                <p:spPr>
                  <a:xfrm>
                    <a:off x="5394600" y="3046320"/>
                    <a:ext cx="23940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862160" y="2589120"/>
                  <a:ext cx="1948680" cy="1541520"/>
                  <a:chOff x="4862160" y="2589120"/>
                  <a:chExt cx="1948680" cy="154152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5383080" y="2868480"/>
                    <a:ext cx="0" cy="126216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35560" y="4083120"/>
                    <a:ext cx="144000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335560" y="380376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289480" y="30542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243400" y="2589120"/>
                    <a:ext cx="1567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R-fix to 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862520" y="2941560"/>
                    <a:ext cx="59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cc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862160" y="369108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2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9" name=""/>
              <p:cNvGrpSpPr/>
              <p:nvPr/>
            </p:nvGrpSpPr>
            <p:grpSpPr>
              <a:xfrm>
                <a:off x="4862160" y="4295880"/>
                <a:ext cx="1987920" cy="1884600"/>
                <a:chOff x="4862160" y="4295880"/>
                <a:chExt cx="1987920" cy="188460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4862160" y="4295880"/>
                  <a:ext cx="1987920" cy="1884600"/>
                  <a:chOff x="4862160" y="4295880"/>
                  <a:chExt cx="1987920" cy="188460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5392800" y="4667400"/>
                    <a:ext cx="0" cy="126360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345280" y="5883120"/>
                    <a:ext cx="143964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345280" y="513540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252040" y="4295880"/>
                    <a:ext cx="1598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R-fix to 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919040" y="5024520"/>
                    <a:ext cx="4932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V1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862160" y="5781600"/>
                    <a:ext cx="7340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2000" spc="-1" strike="noStrike">
                        <a:solidFill>
                          <a:srgbClr val="003366"/>
                        </a:solidFill>
                        <a:latin typeface="Times New Roman"/>
                      </a:rPr>
                      <a:t>GND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5371560" y="5146200"/>
                  <a:ext cx="1145880" cy="719640"/>
                  <a:chOff x="5371560" y="5146200"/>
                  <a:chExt cx="1145880" cy="71964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5394240" y="5865840"/>
                    <a:ext cx="23940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233760" y="5146560"/>
                    <a:ext cx="239400" cy="0"/>
                  </a:xfrm>
                  <a:prstGeom prst="line">
                    <a:avLst/>
                  </a:prstGeom>
                  <a:ln w="381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5371560" y="5146200"/>
                    <a:ext cx="1145880" cy="718560"/>
                    <a:chOff x="5371560" y="5146200"/>
                    <a:chExt cx="1145880" cy="71856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 flipV="1">
                      <a:off x="5371560" y="5145840"/>
                      <a:ext cx="57384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864" y="41"/>
                          </a:moveTo>
                          <a:arcTo wR="10800" hR="10800" stAng="-5698349" swAng="569834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864" y="41"/>
                          </a:moveTo>
                          <a:arcTo wR="10800" hR="10800" stAng="-5698349" swAng="5698349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V="1" rot="10800000">
                      <a:off x="5945760" y="5146200"/>
                      <a:ext cx="571680" cy="71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400000"/>
                        </a:path>
                      </a:pathLst>
                    </a:custGeom>
                    <a:noFill/>
                    <a:ln w="381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63" name=""/>
            <p:cNvGrpSpPr/>
            <p:nvPr/>
          </p:nvGrpSpPr>
          <p:grpSpPr>
            <a:xfrm>
              <a:off x="2944440" y="2589120"/>
              <a:ext cx="1935360" cy="3591360"/>
              <a:chOff x="2944440" y="2589120"/>
              <a:chExt cx="1935360" cy="35913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2944440" y="4295880"/>
                <a:ext cx="1935360" cy="1884600"/>
                <a:chOff x="2944440" y="4295880"/>
                <a:chExt cx="1935360" cy="188460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2944440" y="4295880"/>
                  <a:ext cx="1935360" cy="1884600"/>
                  <a:chOff x="2944440" y="4295880"/>
                  <a:chExt cx="1935360" cy="188460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2944440" y="4295880"/>
                    <a:ext cx="1935360" cy="1884600"/>
                    <a:chOff x="2944440" y="4295880"/>
                    <a:chExt cx="1935360" cy="188460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3487680" y="4667400"/>
                      <a:ext cx="0" cy="126360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3440160" y="5883120"/>
                      <a:ext cx="143964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3440160" y="5135400"/>
                      <a:ext cx="1396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3348000" y="4295880"/>
                      <a:ext cx="18432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3013920" y="502452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2944440" y="5781600"/>
                      <a:ext cx="73404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466800" y="5146200"/>
                    <a:ext cx="1145880" cy="719640"/>
                    <a:chOff x="3466800" y="5146200"/>
                    <a:chExt cx="1145880" cy="7196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3489480" y="5865840"/>
                      <a:ext cx="2394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4328640" y="5146560"/>
                      <a:ext cx="2394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6" name=""/>
                    <p:cNvGrpSpPr/>
                    <p:nvPr/>
                  </p:nvGrpSpPr>
                  <p:grpSpPr>
                    <a:xfrm>
                      <a:off x="3466800" y="5146200"/>
                      <a:ext cx="1145880" cy="718560"/>
                      <a:chOff x="3466800" y="5146200"/>
                      <a:chExt cx="1145880" cy="718560"/>
                    </a:xfrm>
                  </p:grpSpPr>
                  <p:sp>
                    <p:nvSpPr>
                      <p:cNvPr id="777" name=""/>
                      <p:cNvSpPr/>
                      <p:nvPr/>
                    </p:nvSpPr>
                    <p:spPr>
                      <a:xfrm flipV="1">
                        <a:off x="3466800" y="5145840"/>
                        <a:ext cx="57384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 flipV="1" rot="10800000">
                        <a:off x="4041000" y="5146200"/>
                        <a:ext cx="57168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79" name=""/>
                <p:cNvSpPr/>
                <p:nvPr/>
              </p:nvSpPr>
              <p:spPr>
                <a:xfrm flipV="1">
                  <a:off x="4022640" y="5256360"/>
                  <a:ext cx="76320" cy="4572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2957040" y="2589120"/>
                <a:ext cx="1913400" cy="1541520"/>
                <a:chOff x="2957040" y="2589120"/>
                <a:chExt cx="1913400" cy="1541520"/>
              </a:xfrm>
            </p:grpSpPr>
            <p:grpSp>
              <p:nvGrpSpPr>
                <p:cNvPr id="781" name=""/>
                <p:cNvGrpSpPr/>
                <p:nvPr/>
              </p:nvGrpSpPr>
              <p:grpSpPr>
                <a:xfrm>
                  <a:off x="2957040" y="2589120"/>
                  <a:ext cx="1913400" cy="1541520"/>
                  <a:chOff x="2957040" y="2589120"/>
                  <a:chExt cx="1913400" cy="1541520"/>
                </a:xfrm>
              </p:grpSpPr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3445200" y="3045960"/>
                    <a:ext cx="1145880" cy="719640"/>
                    <a:chOff x="3445200" y="3045960"/>
                    <a:chExt cx="1145880" cy="71964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>
                      <a:off x="4329000" y="3765600"/>
                      <a:ext cx="2394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>
                      <a:off x="3489480" y="3046320"/>
                      <a:ext cx="2394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85" name=""/>
                    <p:cNvGrpSpPr/>
                    <p:nvPr/>
                  </p:nvGrpSpPr>
                  <p:grpSpPr>
                    <a:xfrm>
                      <a:off x="3445200" y="3045960"/>
                      <a:ext cx="1145880" cy="718560"/>
                      <a:chOff x="3445200" y="3045960"/>
                      <a:chExt cx="1145880" cy="718560"/>
                    </a:xfrm>
                  </p:grpSpPr>
                  <p:sp>
                    <p:nvSpPr>
                      <p:cNvPr id="786" name=""/>
                      <p:cNvSpPr/>
                      <p:nvPr/>
                    </p:nvSpPr>
                    <p:spPr>
                      <a:xfrm flipH="1" flipV="1">
                        <a:off x="4017240" y="3045600"/>
                        <a:ext cx="57384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864" y="41"/>
                            </a:moveTo>
                            <a:arcTo wR="10800" hR="10800" stAng="-5698349" swAng="5698349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864" y="41"/>
                            </a:moveTo>
                            <a:arcTo wR="10800" hR="10800" stAng="-5698349" swAng="5698349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flipH="1" flipV="1" rot="10800000">
                        <a:off x="3445200" y="3045960"/>
                        <a:ext cx="571680" cy="71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0800" y="0"/>
                            </a:moveTo>
                            <a:arcTo wR="10800" hR="10800" stAng="-5400000" swAng="54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0800" y="0"/>
                            </a:moveTo>
                            <a:arcTo wR="10800" hR="10800" stAng="-5400000" swAng="5400000"/>
                          </a:path>
                        </a:pathLst>
                      </a:custGeom>
                      <a:noFill/>
                      <a:ln w="1260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2957040" y="2589120"/>
                    <a:ext cx="1913400" cy="1541520"/>
                    <a:chOff x="2957040" y="2589120"/>
                    <a:chExt cx="1913400" cy="154152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3477960" y="2868480"/>
                      <a:ext cx="0" cy="126216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head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3430440" y="4083120"/>
                      <a:ext cx="144000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3430440" y="3803760"/>
                      <a:ext cx="1396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3384360" y="3054240"/>
                      <a:ext cx="139680" cy="0"/>
                    </a:xfrm>
                    <a:prstGeom prst="line">
                      <a:avLst/>
                    </a:prstGeom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3338280" y="2589120"/>
                      <a:ext cx="18432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2957400" y="2941560"/>
                      <a:ext cx="590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c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2957040" y="369108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96" name=""/>
                <p:cNvSpPr/>
                <p:nvPr/>
              </p:nvSpPr>
              <p:spPr>
                <a:xfrm flipH="1" flipV="1">
                  <a:off x="3946320" y="3198960"/>
                  <a:ext cx="76320" cy="45720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7C9CD-FA8F-4AE1-8947-2891BBF96D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99" idx="0"/>
            <a:endCxn id="800" idx="2"/>
          </p:cNvCxnSpPr>
          <p:nvPr/>
        </p:nvCxnSpPr>
        <p:spPr>
          <a:xfrm flipH="1" flipV="1" rot="5400000">
            <a:off x="6365520" y="3580920"/>
            <a:ext cx="799200" cy="2206080"/>
          </a:xfrm>
          <a:prstGeom prst="curvedConnector5">
            <a:avLst>
              <a:gd name="adj1" fmla="val 52456"/>
              <a:gd name="adj2" fmla="val 49991"/>
              <a:gd name="adj3" fmla="val 52456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01" name=""/>
          <p:cNvCxnSpPr>
            <a:stCxn id="802" idx="2"/>
          </p:cNvCxnSpPr>
          <p:nvPr/>
        </p:nvCxnSpPr>
        <p:spPr>
          <a:xfrm rot="5400000">
            <a:off x="3268800" y="5404320"/>
            <a:ext cx="2071080" cy="532800"/>
          </a:xfrm>
          <a:prstGeom prst="curvedConnector5">
            <a:avLst>
              <a:gd name="adj1" fmla="val 50000"/>
              <a:gd name="adj2" fmla="val 49966"/>
              <a:gd name="adj3" fmla="val 50000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03" name=""/>
          <p:cNvCxnSpPr>
            <a:stCxn id="802" idx="2"/>
            <a:endCxn id="804" idx="3"/>
          </p:cNvCxnSpPr>
          <p:nvPr/>
        </p:nvCxnSpPr>
        <p:spPr>
          <a:xfrm flipV="1" rot="16200000">
            <a:off x="2747520" y="2812320"/>
            <a:ext cx="1294560" cy="2351880"/>
          </a:xfrm>
          <a:prstGeom prst="curvedConnector5">
            <a:avLst>
              <a:gd name="adj1" fmla="val -17663"/>
              <a:gd name="adj2" fmla="val 31016"/>
              <a:gd name="adj3" fmla="val -17663"/>
            </a:avLst>
          </a:prstGeom>
          <a:ln cap="rnd" w="2844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05" name=""/>
          <p:cNvCxnSpPr>
            <a:endCxn id="800" idx="2"/>
          </p:cNvCxnSpPr>
          <p:nvPr/>
        </p:nvCxnSpPr>
        <p:spPr>
          <a:xfrm flipH="1" rot="10800000">
            <a:off x="7503840" y="4284000"/>
            <a:ext cx="364320" cy="1612080"/>
          </a:xfrm>
          <a:prstGeom prst="curvedConnector5">
            <a:avLst>
              <a:gd name="adj1" fmla="val -62809"/>
              <a:gd name="adj2" fmla="val 25307"/>
              <a:gd name="adj3" fmla="val -62809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43200" y="1981080"/>
            <a:ext cx="3657600" cy="2653920"/>
            <a:chOff x="2743200" y="1981080"/>
            <a:chExt cx="3657600" cy="2653920"/>
          </a:xfrm>
        </p:grpSpPr>
        <p:sp>
          <p:nvSpPr>
            <p:cNvPr id="807" name=""/>
            <p:cNvSpPr/>
            <p:nvPr/>
          </p:nvSpPr>
          <p:spPr>
            <a:xfrm>
              <a:off x="3124080" y="1981080"/>
              <a:ext cx="3048120" cy="1295640"/>
            </a:xfrm>
            <a:prstGeom prst="horizontalScroll">
              <a:avLst>
                <a:gd name="adj" fmla="val 12500"/>
              </a:avLst>
            </a:prstGeom>
            <a:solidFill>
              <a:srgbClr val="d9fff5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2743200" y="3123720"/>
              <a:ext cx="3657600" cy="1511280"/>
              <a:chOff x="2743200" y="3123720"/>
              <a:chExt cx="3657600" cy="1511280"/>
            </a:xfrm>
          </p:grpSpPr>
          <p:sp>
            <p:nvSpPr>
              <p:cNvPr id="809" name=""/>
              <p:cNvSpPr/>
              <p:nvPr/>
            </p:nvSpPr>
            <p:spPr>
              <a:xfrm>
                <a:off x="347508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4192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57524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74320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206960" y="4386240"/>
                <a:ext cx="731880" cy="222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937040" y="4386240"/>
                <a:ext cx="7318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670720" y="438624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22640" y="3500280"/>
                <a:ext cx="1104840" cy="22068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940280" y="3944880"/>
                <a:ext cx="73044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475080" y="3944880"/>
                <a:ext cx="731880" cy="2224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210200" y="3944880"/>
                <a:ext cx="730080" cy="2224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11480" y="4167360"/>
                <a:ext cx="73044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573440" y="3724200"/>
                <a:ext cx="730440" cy="22068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841920" y="3722760"/>
                <a:ext cx="730080" cy="2221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4003560" y="3720960"/>
                <a:ext cx="1133640" cy="914040"/>
                <a:chOff x="4003560" y="3720960"/>
                <a:chExt cx="1133640" cy="91404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4206960" y="3720960"/>
                  <a:ext cx="7308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186080" y="3796920"/>
                  <a:ext cx="7678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4168080" y="3870000"/>
                  <a:ext cx="8042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4150080" y="3945600"/>
                  <a:ext cx="8406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4131720" y="4021200"/>
                  <a:ext cx="8773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4113720" y="4097880"/>
                  <a:ext cx="9136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094640" y="4173840"/>
                  <a:ext cx="9507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076640" y="4249800"/>
                  <a:ext cx="98712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4058640" y="4326840"/>
                  <a:ext cx="102348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040280" y="4407120"/>
                  <a:ext cx="106020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022280" y="4483080"/>
                  <a:ext cx="109656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003560" y="4558680"/>
                  <a:ext cx="1133640" cy="763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 rot="16200000">
                <a:off x="4383000" y="2928240"/>
                <a:ext cx="376200" cy="76680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36" name=""/>
              <p:cNvGrpSpPr/>
              <p:nvPr/>
            </p:nvGrpSpPr>
            <p:grpSpPr>
              <a:xfrm>
                <a:off x="4454640" y="3576600"/>
                <a:ext cx="231840" cy="144360"/>
                <a:chOff x="4454640" y="3576600"/>
                <a:chExt cx="231840" cy="144360"/>
              </a:xfrm>
            </p:grpSpPr>
            <p:grpSp>
              <p:nvGrpSpPr>
                <p:cNvPr id="837" name=""/>
                <p:cNvGrpSpPr/>
                <p:nvPr/>
              </p:nvGrpSpPr>
              <p:grpSpPr>
                <a:xfrm>
                  <a:off x="4454640" y="3576600"/>
                  <a:ext cx="231840" cy="144360"/>
                  <a:chOff x="4454640" y="3576600"/>
                  <a:chExt cx="231840" cy="14436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445464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4685400" y="3576600"/>
                    <a:ext cx="0" cy="14436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4454640" y="3576600"/>
                    <a:ext cx="231840" cy="0"/>
                  </a:xfrm>
                  <a:prstGeom prst="line">
                    <a:avLst/>
                  </a:prstGeom>
                  <a:ln w="57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4474800" y="3585240"/>
                  <a:ext cx="195840" cy="135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5303880" y="4167360"/>
                <a:ext cx="730080" cy="2203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3276720" y="2209680"/>
            <a:ext cx="284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66"/>
                </a:solidFill>
                <a:latin typeface="Monotype Corsiva"/>
              </a:rPr>
              <a:t>IBIS Basics tutori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45" idx="1"/>
            <a:endCxn id="804" idx="3"/>
          </p:cNvCxnSpPr>
          <p:nvPr/>
        </p:nvCxnSpPr>
        <p:spPr>
          <a:xfrm flipV="1" rot="10800000">
            <a:off x="2218680" y="2704680"/>
            <a:ext cx="4561200" cy="63720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46" name=""/>
          <p:cNvCxnSpPr>
            <a:stCxn id="804" idx="3"/>
            <a:endCxn id="847" idx="0"/>
          </p:cNvCxnSpPr>
          <p:nvPr/>
        </p:nvCxnSpPr>
        <p:spPr>
          <a:xfrm>
            <a:off x="2219040" y="3341520"/>
            <a:ext cx="129240" cy="1434240"/>
          </a:xfrm>
          <a:prstGeom prst="curvedConnector2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48" name=""/>
          <p:cNvCxnSpPr>
            <a:stCxn id="847" idx="1"/>
            <a:endCxn id="849" idx="2"/>
          </p:cNvCxnSpPr>
          <p:nvPr/>
        </p:nvCxnSpPr>
        <p:spPr>
          <a:xfrm flipH="1" flipV="1" rot="10800000">
            <a:off x="1097640" y="5170320"/>
            <a:ext cx="1286280" cy="1192680"/>
          </a:xfrm>
          <a:prstGeom prst="curvedConnector5">
            <a:avLst>
              <a:gd name="adj1" fmla="val -18393"/>
              <a:gd name="adj2" fmla="val 59601"/>
              <a:gd name="adj3" fmla="val -18393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50" name=""/>
          <p:cNvCxnSpPr>
            <a:endCxn id="851" idx="3"/>
          </p:cNvCxnSpPr>
          <p:nvPr/>
        </p:nvCxnSpPr>
        <p:spPr>
          <a:xfrm>
            <a:off x="2254320" y="6451200"/>
            <a:ext cx="3659760" cy="20880"/>
          </a:xfrm>
          <a:prstGeom prst="curvedConnector5">
            <a:avLst>
              <a:gd name="adj1" fmla="val 45548"/>
              <a:gd name="adj2" fmla="val 363157"/>
              <a:gd name="adj3" fmla="val 45548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52" name=""/>
          <p:cNvCxnSpPr>
            <a:stCxn id="851" idx="2"/>
          </p:cNvCxnSpPr>
          <p:nvPr/>
        </p:nvCxnSpPr>
        <p:spPr>
          <a:xfrm flipH="1" flipV="1" rot="5400000">
            <a:off x="6301440" y="5286600"/>
            <a:ext cx="594360" cy="1812240"/>
          </a:xfrm>
          <a:prstGeom prst="curvedConnector5">
            <a:avLst>
              <a:gd name="adj1" fmla="val -38484"/>
              <a:gd name="adj2" fmla="val 28034"/>
              <a:gd name="adj3" fmla="val -38484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53" name=""/>
          <p:cNvCxnSpPr>
            <a:stCxn id="800" idx="2"/>
            <a:endCxn id="854" idx="0"/>
          </p:cNvCxnSpPr>
          <p:nvPr/>
        </p:nvCxnSpPr>
        <p:spPr>
          <a:xfrm flipV="1" rot="16200000">
            <a:off x="6619680" y="3036240"/>
            <a:ext cx="1289880" cy="1207080"/>
          </a:xfrm>
          <a:prstGeom prst="curvedConnector5">
            <a:avLst>
              <a:gd name="adj1" fmla="val -17727"/>
              <a:gd name="adj2" fmla="val 59815"/>
              <a:gd name="adj3" fmla="val -17727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cxnSp>
        <p:nvCxnSpPr>
          <p:cNvPr id="855" name=""/>
          <p:cNvCxnSpPr>
            <a:stCxn id="856" idx="3"/>
            <a:endCxn id="851" idx="2"/>
          </p:cNvCxnSpPr>
          <p:nvPr/>
        </p:nvCxnSpPr>
        <p:spPr>
          <a:xfrm>
            <a:off x="1380600" y="5000760"/>
            <a:ext cx="4312440" cy="1489680"/>
          </a:xfrm>
          <a:prstGeom prst="curvedConnector5">
            <a:avLst>
              <a:gd name="adj1" fmla="val 47420"/>
              <a:gd name="adj2" fmla="val 57674"/>
              <a:gd name="adj3" fmla="val 47420"/>
            </a:avLst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cxnSp>
      <p:grpSp>
        <p:nvGrpSpPr>
          <p:cNvPr id="857" name=""/>
          <p:cNvGrpSpPr/>
          <p:nvPr/>
        </p:nvGrpSpPr>
        <p:grpSpPr>
          <a:xfrm>
            <a:off x="252360" y="1155600"/>
            <a:ext cx="8778960" cy="5333400"/>
            <a:chOff x="252360" y="1155600"/>
            <a:chExt cx="8778960" cy="5333400"/>
          </a:xfrm>
        </p:grpSpPr>
        <p:grpSp>
          <p:nvGrpSpPr>
            <p:cNvPr id="858" name=""/>
            <p:cNvGrpSpPr/>
            <p:nvPr/>
          </p:nvGrpSpPr>
          <p:grpSpPr>
            <a:xfrm>
              <a:off x="1090440" y="4724280"/>
              <a:ext cx="2514240" cy="1638000"/>
              <a:chOff x="1090440" y="4724280"/>
              <a:chExt cx="2514240" cy="1638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1243080" y="5680800"/>
                <a:ext cx="2286000" cy="681480"/>
                <a:chOff x="1243080" y="5680800"/>
                <a:chExt cx="2286000" cy="68148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700640" y="62503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29600" y="61509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387520" y="615096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243080" y="62503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158200" y="62503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614320" y="625032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072600" y="625032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042640" y="5850000"/>
                  <a:ext cx="69012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615760" y="60512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700640" y="6051240"/>
                  <a:ext cx="45684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159280" y="605124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472760" y="61509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86440" y="59511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929600" y="595080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4" name=""/>
                <p:cNvGrpSpPr/>
                <p:nvPr/>
              </p:nvGrpSpPr>
              <p:grpSpPr>
                <a:xfrm>
                  <a:off x="2031120" y="5949720"/>
                  <a:ext cx="708120" cy="412560"/>
                  <a:chOff x="2031120" y="5949720"/>
                  <a:chExt cx="708120" cy="4125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2158200" y="5949720"/>
                    <a:ext cx="456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145240" y="5983920"/>
                    <a:ext cx="479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133720" y="6017040"/>
                    <a:ext cx="5022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122560" y="6050880"/>
                    <a:ext cx="524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111040" y="6085080"/>
                    <a:ext cx="548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099880" y="6119640"/>
                    <a:ext cx="570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088000" y="6154200"/>
                    <a:ext cx="5940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076840" y="6188400"/>
                    <a:ext cx="6166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065320" y="6222960"/>
                    <a:ext cx="639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054160" y="6259320"/>
                    <a:ext cx="662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042640" y="6293520"/>
                    <a:ext cx="6850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031120" y="6327720"/>
                    <a:ext cx="708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6" name=""/>
                <p:cNvSpPr/>
                <p:nvPr/>
              </p:nvSpPr>
              <p:spPr>
                <a:xfrm rot="16200000">
                  <a:off x="2300040" y="5526360"/>
                  <a:ext cx="169920" cy="478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2312640" y="5884920"/>
                  <a:ext cx="145080" cy="64440"/>
                  <a:chOff x="2312640" y="5884920"/>
                  <a:chExt cx="145080" cy="64440"/>
                </a:xfrm>
              </p:grpSpPr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2312640" y="5884920"/>
                    <a:ext cx="145080" cy="64440"/>
                    <a:chOff x="2312640" y="5884920"/>
                    <a:chExt cx="145080" cy="6444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2312640" y="58849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2457000" y="588492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2312640" y="5884920"/>
                      <a:ext cx="145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2" name=""/>
                  <p:cNvSpPr/>
                  <p:nvPr/>
                </p:nvSpPr>
                <p:spPr>
                  <a:xfrm>
                    <a:off x="2325240" y="5888520"/>
                    <a:ext cx="12240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3" name=""/>
                <p:cNvSpPr/>
                <p:nvPr/>
              </p:nvSpPr>
              <p:spPr>
                <a:xfrm>
                  <a:off x="2843640" y="6150960"/>
                  <a:ext cx="456480" cy="997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1090440" y="4724280"/>
                <a:ext cx="2514240" cy="892800"/>
                <a:chOff x="1090440" y="4724280"/>
                <a:chExt cx="2514240" cy="89280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090440" y="4724280"/>
                  <a:ext cx="2514240" cy="892800"/>
                </a:xfrm>
                <a:prstGeom prst="cloudCallout">
                  <a:avLst>
                    <a:gd name="adj1" fmla="val 2430"/>
                    <a:gd name="adj2" fmla="val 4903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IBIS-Technologie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012040" y="5548320"/>
                  <a:ext cx="586800" cy="68760"/>
                </a:xfrm>
                <a:prstGeom prst="flowChartProcess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6" name=""/>
            <p:cNvGrpSpPr/>
            <p:nvPr/>
          </p:nvGrpSpPr>
          <p:grpSpPr>
            <a:xfrm>
              <a:off x="4519440" y="5043600"/>
              <a:ext cx="2286000" cy="1445400"/>
              <a:chOff x="4519440" y="5043600"/>
              <a:chExt cx="2286000" cy="144540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4976640" y="5808240"/>
                <a:ext cx="1430280" cy="680760"/>
                <a:chOff x="4976640" y="5808240"/>
                <a:chExt cx="1430280" cy="68076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5262840" y="637740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06120" y="627804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692680" y="6278040"/>
                  <a:ext cx="28584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976640" y="637740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549040" y="637740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834520" y="6377400"/>
                  <a:ext cx="28584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21440" y="637740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477040" y="5977440"/>
                  <a:ext cx="43164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835600" y="6178320"/>
                  <a:ext cx="28584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262840" y="6178320"/>
                  <a:ext cx="28584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549760" y="617832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120280" y="627804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691960" y="607824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406120" y="607824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2" name=""/>
                <p:cNvGrpSpPr/>
                <p:nvPr/>
              </p:nvGrpSpPr>
              <p:grpSpPr>
                <a:xfrm>
                  <a:off x="5469840" y="6076800"/>
                  <a:ext cx="442800" cy="412200"/>
                  <a:chOff x="5469840" y="6076800"/>
                  <a:chExt cx="442800" cy="41220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>
                    <a:off x="5549400" y="6076800"/>
                    <a:ext cx="2854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5541120" y="6111000"/>
                    <a:ext cx="2998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5533920" y="6143760"/>
                    <a:ext cx="31428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527080" y="6177960"/>
                    <a:ext cx="3283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5519880" y="6212160"/>
                    <a:ext cx="3427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512680" y="6246720"/>
                    <a:ext cx="3571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505480" y="6280920"/>
                    <a:ext cx="37152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498280" y="6315120"/>
                    <a:ext cx="3855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491080" y="6350040"/>
                    <a:ext cx="3999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484240" y="6386040"/>
                    <a:ext cx="41436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477040" y="6420240"/>
                    <a:ext cx="4284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469840" y="6454440"/>
                    <a:ext cx="442800" cy="34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4" name=""/>
                <p:cNvSpPr/>
                <p:nvPr/>
              </p:nvSpPr>
              <p:spPr>
                <a:xfrm rot="16200000">
                  <a:off x="5606280" y="5743440"/>
                  <a:ext cx="169920" cy="299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5" name=""/>
                <p:cNvGrpSpPr/>
                <p:nvPr/>
              </p:nvGrpSpPr>
              <p:grpSpPr>
                <a:xfrm>
                  <a:off x="5645880" y="6012360"/>
                  <a:ext cx="90720" cy="64440"/>
                  <a:chOff x="5645880" y="6012360"/>
                  <a:chExt cx="90720" cy="64440"/>
                </a:xfrm>
              </p:grpSpPr>
              <p:grpSp>
                <p:nvGrpSpPr>
                  <p:cNvPr id="926" name=""/>
                  <p:cNvGrpSpPr/>
                  <p:nvPr/>
                </p:nvGrpSpPr>
                <p:grpSpPr>
                  <a:xfrm>
                    <a:off x="5645880" y="6012360"/>
                    <a:ext cx="90720" cy="64440"/>
                    <a:chOff x="5645880" y="6012360"/>
                    <a:chExt cx="90720" cy="64440"/>
                  </a:xfrm>
                </p:grpSpPr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5645880" y="601236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5736240" y="6012360"/>
                      <a:ext cx="0" cy="6444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645880" y="6012360"/>
                      <a:ext cx="9072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0" name=""/>
                  <p:cNvSpPr/>
                  <p:nvPr/>
                </p:nvSpPr>
                <p:spPr>
                  <a:xfrm>
                    <a:off x="5653800" y="6015960"/>
                    <a:ext cx="76680" cy="6084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1" name=""/>
                <p:cNvSpPr/>
                <p:nvPr/>
              </p:nvSpPr>
              <p:spPr>
                <a:xfrm>
                  <a:off x="5978160" y="6278040"/>
                  <a:ext cx="285480" cy="99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4519440" y="5043600"/>
                <a:ext cx="2286000" cy="700920"/>
                <a:chOff x="4519440" y="5043600"/>
                <a:chExt cx="2286000" cy="7009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4519440" y="5043600"/>
                  <a:ext cx="2286000" cy="700920"/>
                </a:xfrm>
                <a:prstGeom prst="cloudCallout">
                  <a:avLst>
                    <a:gd name="adj1" fmla="val 972"/>
                    <a:gd name="adj2" fmla="val 5340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Parameter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3" name=""/>
                <p:cNvGrpSpPr/>
                <p:nvPr/>
              </p:nvGrpSpPr>
              <p:grpSpPr>
                <a:xfrm>
                  <a:off x="5357880" y="5553360"/>
                  <a:ext cx="533160" cy="63720"/>
                  <a:chOff x="5357880" y="5553360"/>
                  <a:chExt cx="533160" cy="6372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>
                    <a:off x="5357880" y="555336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510160" y="555336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662440" y="5553360"/>
                    <a:ext cx="7632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815080" y="5553360"/>
                    <a:ext cx="759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38" name=""/>
            <p:cNvGrpSpPr/>
            <p:nvPr/>
          </p:nvGrpSpPr>
          <p:grpSpPr>
            <a:xfrm>
              <a:off x="6653160" y="2557440"/>
              <a:ext cx="2378160" cy="1727280"/>
              <a:chOff x="6653160" y="2557440"/>
              <a:chExt cx="2378160" cy="172728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6939000" y="3512880"/>
                <a:ext cx="1859040" cy="771840"/>
                <a:chOff x="6939000" y="3512880"/>
                <a:chExt cx="1859040" cy="7718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7310880" y="415764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7360" y="404532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869960" y="4045320"/>
                  <a:ext cx="37152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939000" y="415764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683120" y="415764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8054280" y="4157640"/>
                  <a:ext cx="37152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426880" y="415764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589160" y="3704760"/>
                  <a:ext cx="56124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055360" y="3932280"/>
                  <a:ext cx="37152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310880" y="3932280"/>
                  <a:ext cx="37152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684200" y="393228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125840" y="404532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868880" y="381888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97360" y="381888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4" name=""/>
                <p:cNvGrpSpPr/>
                <p:nvPr/>
              </p:nvGrpSpPr>
              <p:grpSpPr>
                <a:xfrm>
                  <a:off x="7579800" y="3817440"/>
                  <a:ext cx="575640" cy="467280"/>
                  <a:chOff x="7579800" y="3817440"/>
                  <a:chExt cx="575640" cy="46728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>
                    <a:off x="7683120" y="3817440"/>
                    <a:ext cx="37116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7672680" y="3856320"/>
                    <a:ext cx="38988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7663320" y="3893400"/>
                    <a:ext cx="40824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7653960" y="3932280"/>
                    <a:ext cx="42696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7644960" y="3970800"/>
                    <a:ext cx="44568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7635600" y="4010040"/>
                    <a:ext cx="46404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7626240" y="4048920"/>
                    <a:ext cx="48276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7616880" y="4087800"/>
                    <a:ext cx="50112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7607520" y="4127040"/>
                    <a:ext cx="51984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7598520" y="4168080"/>
                    <a:ext cx="53856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7589160" y="4206960"/>
                    <a:ext cx="55692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7579800" y="4245840"/>
                    <a:ext cx="575640" cy="3888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6" name=""/>
                <p:cNvSpPr/>
                <p:nvPr/>
              </p:nvSpPr>
              <p:spPr>
                <a:xfrm rot="16200000">
                  <a:off x="7771680" y="3414240"/>
                  <a:ext cx="192240" cy="38916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7" name=""/>
                <p:cNvGrpSpPr/>
                <p:nvPr/>
              </p:nvGrpSpPr>
              <p:grpSpPr>
                <a:xfrm>
                  <a:off x="7808760" y="3744360"/>
                  <a:ext cx="118080" cy="73080"/>
                  <a:chOff x="7808760" y="3744360"/>
                  <a:chExt cx="118080" cy="73080"/>
                </a:xfrm>
              </p:grpSpPr>
              <p:grpSp>
                <p:nvGrpSpPr>
                  <p:cNvPr id="968" name=""/>
                  <p:cNvGrpSpPr/>
                  <p:nvPr/>
                </p:nvGrpSpPr>
                <p:grpSpPr>
                  <a:xfrm>
                    <a:off x="7808760" y="3744360"/>
                    <a:ext cx="118080" cy="73080"/>
                    <a:chOff x="7808760" y="3744360"/>
                    <a:chExt cx="118080" cy="73080"/>
                  </a:xfrm>
                </p:grpSpPr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7808760" y="3744360"/>
                      <a:ext cx="0" cy="7308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7926480" y="3744360"/>
                      <a:ext cx="0" cy="7308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7808760" y="3744360"/>
                      <a:ext cx="11808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72" name=""/>
                  <p:cNvSpPr/>
                  <p:nvPr/>
                </p:nvSpPr>
                <p:spPr>
                  <a:xfrm>
                    <a:off x="7818840" y="3748680"/>
                    <a:ext cx="99720" cy="68760"/>
                  </a:xfrm>
                  <a:prstGeom prst="rect">
                    <a:avLst/>
                  </a:prstGeom>
                  <a:solidFill>
                    <a:srgbClr val="ccff99"/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3" name=""/>
                <p:cNvSpPr/>
                <p:nvPr/>
              </p:nvSpPr>
              <p:spPr>
                <a:xfrm>
                  <a:off x="8240760" y="4045320"/>
                  <a:ext cx="371160" cy="112680"/>
                </a:xfrm>
                <a:prstGeom prst="rect">
                  <a:avLst/>
                </a:prstGeom>
                <a:solidFill>
                  <a:srgbClr val="ccff99"/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6653160" y="2557440"/>
                <a:ext cx="2378160" cy="875880"/>
                <a:chOff x="6653160" y="2557440"/>
                <a:chExt cx="2378160" cy="87588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6653160" y="2557440"/>
                  <a:ext cx="2378160" cy="875880"/>
                </a:xfrm>
                <a:prstGeom prst="cloudCallout">
                  <a:avLst>
                    <a:gd name="adj1" fmla="val 578"/>
                    <a:gd name="adj2" fmla="val 4659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2800" spc="-1" strike="noStrike">
                      <a:solidFill>
                        <a:srgbClr val="003366"/>
                      </a:solidFill>
                      <a:latin typeface="Monotype Corsiva"/>
                    </a:rPr>
                    <a:t>Example</a:t>
                  </a:r>
                  <a:endParaRPr b="0" lang="en-US" sz="2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5" name=""/>
                <p:cNvGrpSpPr/>
                <p:nvPr/>
              </p:nvGrpSpPr>
              <p:grpSpPr>
                <a:xfrm>
                  <a:off x="7776000" y="3194640"/>
                  <a:ext cx="197640" cy="79200"/>
                  <a:chOff x="7776000" y="3194640"/>
                  <a:chExt cx="197640" cy="7920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7776000" y="3194640"/>
                    <a:ext cx="65520" cy="7920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907760" y="3194640"/>
                    <a:ext cx="65880" cy="7920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78" name=""/>
            <p:cNvGrpSpPr/>
            <p:nvPr/>
          </p:nvGrpSpPr>
          <p:grpSpPr>
            <a:xfrm>
              <a:off x="938160" y="1601640"/>
              <a:ext cx="2286000" cy="1765080"/>
              <a:chOff x="938160" y="1601640"/>
              <a:chExt cx="2286000" cy="176508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1471680" y="2366280"/>
                <a:ext cx="1142640" cy="1000440"/>
                <a:chOff x="1471680" y="2366280"/>
                <a:chExt cx="1142640" cy="100044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1700640" y="32014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815120" y="30556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044080" y="3055680"/>
                  <a:ext cx="22788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471680" y="32014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929600" y="320148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157480" y="32014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386440" y="320148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871280" y="2615040"/>
                  <a:ext cx="344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157480" y="290952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1700640" y="29095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1929600" y="2909520"/>
                  <a:ext cx="22752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585800" y="3055680"/>
                  <a:ext cx="22896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043000" y="2763360"/>
                  <a:ext cx="22896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815120" y="2763360"/>
                  <a:ext cx="227880" cy="145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1865160" y="2761200"/>
                  <a:ext cx="354240" cy="605520"/>
                  <a:chOff x="1865160" y="2761200"/>
                  <a:chExt cx="354240" cy="6055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1928520" y="2761200"/>
                    <a:ext cx="2286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1922040" y="2811600"/>
                    <a:ext cx="2401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1916640" y="2859840"/>
                    <a:ext cx="2512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1910880" y="2909880"/>
                    <a:ext cx="26280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1905120" y="2959920"/>
                    <a:ext cx="2743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1899360" y="3010680"/>
                    <a:ext cx="28548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1893600" y="3061080"/>
                    <a:ext cx="2973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887840" y="3111480"/>
                    <a:ext cx="3085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1882080" y="3162240"/>
                    <a:ext cx="3200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1876680" y="3215520"/>
                    <a:ext cx="33156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1870920" y="3265920"/>
                    <a:ext cx="34272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865160" y="3315960"/>
                    <a:ext cx="354240" cy="507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6" name=""/>
                <p:cNvSpPr/>
                <p:nvPr/>
              </p:nvSpPr>
              <p:spPr>
                <a:xfrm rot="16200000">
                  <a:off x="1918080" y="2371680"/>
                  <a:ext cx="249480" cy="2386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7" name=""/>
                <p:cNvGrpSpPr/>
                <p:nvPr/>
              </p:nvGrpSpPr>
              <p:grpSpPr>
                <a:xfrm>
                  <a:off x="2006640" y="2666880"/>
                  <a:ext cx="71640" cy="93960"/>
                  <a:chOff x="2006640" y="2666880"/>
                  <a:chExt cx="71640" cy="93960"/>
                </a:xfrm>
              </p:grpSpPr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2006640" y="2666880"/>
                    <a:ext cx="71640" cy="93960"/>
                    <a:chOff x="2006640" y="2666880"/>
                    <a:chExt cx="71640" cy="9396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2006640" y="26668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2077920" y="2666880"/>
                      <a:ext cx="0" cy="939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2006640" y="2666880"/>
                      <a:ext cx="7164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12" name=""/>
                  <p:cNvSpPr/>
                  <p:nvPr/>
                </p:nvSpPr>
                <p:spPr>
                  <a:xfrm>
                    <a:off x="2012760" y="2672280"/>
                    <a:ext cx="60480" cy="885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760" bIns="417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3" name=""/>
                <p:cNvSpPr/>
                <p:nvPr/>
              </p:nvSpPr>
              <p:spPr>
                <a:xfrm>
                  <a:off x="2272320" y="3055680"/>
                  <a:ext cx="227520" cy="1468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938160" y="1601640"/>
                <a:ext cx="2286000" cy="828720"/>
                <a:chOff x="938160" y="1601640"/>
                <a:chExt cx="2286000" cy="828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938160" y="1601640"/>
                  <a:ext cx="2286000" cy="828720"/>
                </a:xfrm>
                <a:prstGeom prst="cloudCallout">
                  <a:avLst>
                    <a:gd name="adj1" fmla="val -972"/>
                    <a:gd name="adj2" fmla="val 53527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Conclusion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6" name=""/>
                <p:cNvGrpSpPr/>
                <p:nvPr/>
              </p:nvGrpSpPr>
              <p:grpSpPr>
                <a:xfrm>
                  <a:off x="1776240" y="2111760"/>
                  <a:ext cx="533520" cy="190800"/>
                  <a:chOff x="1776240" y="2111760"/>
                  <a:chExt cx="533520" cy="1908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1776240" y="2239200"/>
                    <a:ext cx="53352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1928880" y="2111760"/>
                    <a:ext cx="228600" cy="63720"/>
                    <a:chOff x="1928880" y="2111760"/>
                    <a:chExt cx="228600" cy="6372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1928880" y="2111760"/>
                      <a:ext cx="7596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2081160" y="2111760"/>
                      <a:ext cx="76320" cy="63720"/>
                    </a:xfrm>
                    <a:prstGeom prst="flowChartConnector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21" name=""/>
            <p:cNvGrpSpPr/>
            <p:nvPr/>
          </p:nvGrpSpPr>
          <p:grpSpPr>
            <a:xfrm>
              <a:off x="252360" y="3259080"/>
              <a:ext cx="1905120" cy="1765080"/>
              <a:chOff x="252360" y="3259080"/>
              <a:chExt cx="1905120" cy="176508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633240" y="4087800"/>
                <a:ext cx="1143000" cy="936360"/>
                <a:chOff x="633240" y="4087800"/>
                <a:chExt cx="1143000" cy="9363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861840" y="48700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976320" y="473364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205640" y="473364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33240" y="48700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090800" y="48700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319040" y="48700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548000" y="48700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033200" y="4320360"/>
                  <a:ext cx="34488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319760" y="45964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861840" y="4596480"/>
                  <a:ext cx="22860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091520" y="459648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48080" y="473364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204920" y="445932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976320" y="445896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7" name=""/>
                <p:cNvGrpSpPr/>
                <p:nvPr/>
              </p:nvGrpSpPr>
              <p:grpSpPr>
                <a:xfrm>
                  <a:off x="1027080" y="4457160"/>
                  <a:ext cx="353880" cy="567000"/>
                  <a:chOff x="1027080" y="4457160"/>
                  <a:chExt cx="353880" cy="56700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1090440" y="4457160"/>
                    <a:ext cx="2282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1083960" y="4504320"/>
                    <a:ext cx="2397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078200" y="4549680"/>
                    <a:ext cx="25092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072800" y="4596480"/>
                    <a:ext cx="26244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1067040" y="4643280"/>
                    <a:ext cx="2739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1061280" y="4690800"/>
                    <a:ext cx="2854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1055520" y="4737960"/>
                    <a:ext cx="2970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1049760" y="4785120"/>
                    <a:ext cx="3081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1044000" y="4833000"/>
                    <a:ext cx="3196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1038600" y="4882680"/>
                    <a:ext cx="33120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1032840" y="4929840"/>
                    <a:ext cx="34236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027080" y="4976640"/>
                    <a:ext cx="353880" cy="47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9" name=""/>
                <p:cNvSpPr/>
                <p:nvPr/>
              </p:nvSpPr>
              <p:spPr>
                <a:xfrm rot="16200000">
                  <a:off x="1087560" y="4084560"/>
                  <a:ext cx="233280" cy="2394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0" name=""/>
                <p:cNvGrpSpPr/>
                <p:nvPr/>
              </p:nvGrpSpPr>
              <p:grpSpPr>
                <a:xfrm>
                  <a:off x="1167840" y="4368600"/>
                  <a:ext cx="72360" cy="88560"/>
                  <a:chOff x="1167840" y="4368600"/>
                  <a:chExt cx="72360" cy="88560"/>
                </a:xfrm>
              </p:grpSpPr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1167840" y="4368600"/>
                    <a:ext cx="72360" cy="88560"/>
                    <a:chOff x="1167840" y="4368600"/>
                    <a:chExt cx="72360" cy="8856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167840" y="436860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1239840" y="4368600"/>
                      <a:ext cx="0" cy="8856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1167840" y="4368600"/>
                      <a:ext cx="7236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1173960" y="4373640"/>
                    <a:ext cx="61200" cy="8352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6" name=""/>
                <p:cNvSpPr/>
                <p:nvPr/>
              </p:nvSpPr>
              <p:spPr>
                <a:xfrm>
                  <a:off x="1433520" y="4733640"/>
                  <a:ext cx="228240" cy="13680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252360" y="3259080"/>
                <a:ext cx="1905120" cy="765000"/>
                <a:chOff x="252360" y="3259080"/>
                <a:chExt cx="1905120" cy="76500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252360" y="3259080"/>
                  <a:ext cx="1905120" cy="765000"/>
                </a:xfrm>
                <a:prstGeom prst="cloudCallout">
                  <a:avLst>
                    <a:gd name="adj1" fmla="val 2083"/>
                    <a:gd name="adj2" fmla="val 64412"/>
                  </a:avLst>
                </a:prstGeom>
                <a:solidFill>
                  <a:srgbClr val="66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Literatur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1014480" y="3705120"/>
                  <a:ext cx="444240" cy="190800"/>
                  <a:chOff x="1014480" y="3705120"/>
                  <a:chExt cx="444240" cy="19080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1014480" y="3832560"/>
                    <a:ext cx="444240" cy="63360"/>
                  </a:xfrm>
                  <a:prstGeom prst="flowChartProcess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1204560" y="3705120"/>
                    <a:ext cx="63360" cy="63720"/>
                  </a:xfrm>
                  <a:prstGeom prst="flowChartConnector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62" name=""/>
            <p:cNvGrpSpPr/>
            <p:nvPr/>
          </p:nvGrpSpPr>
          <p:grpSpPr>
            <a:xfrm>
              <a:off x="5662440" y="1155600"/>
              <a:ext cx="2514600" cy="1572120"/>
              <a:chOff x="5662440" y="1155600"/>
              <a:chExt cx="2514600" cy="157212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6424560" y="1792080"/>
                <a:ext cx="1031400" cy="935640"/>
                <a:chOff x="6424560" y="1792080"/>
                <a:chExt cx="1031400" cy="93564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6630480" y="25740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734160" y="24372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941520" y="24372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424560" y="25740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837840" y="25740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042680" y="25740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250040" y="25740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785640" y="2025000"/>
                  <a:ext cx="31104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044120" y="2300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630480" y="2300400"/>
                  <a:ext cx="20736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837840" y="230040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527880" y="24372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940080" y="2163960"/>
                  <a:ext cx="20628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734160" y="2163960"/>
                  <a:ext cx="205920" cy="1364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6779880" y="2161800"/>
                  <a:ext cx="319320" cy="565920"/>
                  <a:chOff x="6779880" y="2161800"/>
                  <a:chExt cx="319320" cy="56592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6837120" y="2161800"/>
                    <a:ext cx="2059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831360" y="2208960"/>
                    <a:ext cx="216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826320" y="2253960"/>
                    <a:ext cx="2264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820920" y="2300760"/>
                    <a:ext cx="236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6815880" y="2347920"/>
                    <a:ext cx="247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6810840" y="2395440"/>
                    <a:ext cx="2574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6805440" y="2442240"/>
                    <a:ext cx="26784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800400" y="2489040"/>
                    <a:ext cx="2782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6795360" y="2536920"/>
                    <a:ext cx="28836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89960" y="2586600"/>
                    <a:ext cx="29880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6784920" y="2633760"/>
                    <a:ext cx="30888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79880" y="2680560"/>
                    <a:ext cx="319320" cy="47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" bIns="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0" name=""/>
                <p:cNvSpPr/>
                <p:nvPr/>
              </p:nvSpPr>
              <p:spPr>
                <a:xfrm rot="16200000">
                  <a:off x="6823080" y="1801080"/>
                  <a:ext cx="233640" cy="21528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6907320" y="2073600"/>
                  <a:ext cx="64800" cy="88200"/>
                  <a:chOff x="6907320" y="2073600"/>
                  <a:chExt cx="64800" cy="88200"/>
                </a:xfrm>
              </p:grpSpPr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6907320" y="2073600"/>
                    <a:ext cx="64800" cy="88200"/>
                    <a:chOff x="6907320" y="2073600"/>
                    <a:chExt cx="64800" cy="8820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6907320" y="20736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6972120" y="2073600"/>
                      <a:ext cx="0" cy="8820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6907320" y="2073600"/>
                      <a:ext cx="64800" cy="0"/>
                    </a:xfrm>
                    <a:prstGeom prst="line">
                      <a:avLst/>
                    </a:prstGeom>
                    <a:ln w="0">
                      <a:solidFill>
                        <a:srgbClr val="003366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6912720" y="2078640"/>
                    <a:ext cx="54720" cy="83160"/>
                  </a:xfrm>
                  <a:prstGeom prst="rect">
                    <a:avLst/>
                  </a:prstGeom>
                  <a:solidFill>
                    <a:srgbClr val="ccff99">
                      <a:alpha val="50000"/>
                    </a:srgbClr>
                  </a:solidFill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7" name=""/>
                <p:cNvSpPr/>
                <p:nvPr/>
              </p:nvSpPr>
              <p:spPr>
                <a:xfrm>
                  <a:off x="7146720" y="2437200"/>
                  <a:ext cx="205920" cy="13752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5662440" y="1155600"/>
                <a:ext cx="2514600" cy="636840"/>
                <a:chOff x="5662440" y="1155600"/>
                <a:chExt cx="2514600" cy="6368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662440" y="1155600"/>
                  <a:ext cx="2514600" cy="636840"/>
                </a:xfrm>
                <a:prstGeom prst="cloudCallout">
                  <a:avLst>
                    <a:gd name="adj1" fmla="val -189"/>
                    <a:gd name="adj2" fmla="val 43541"/>
                  </a:avLst>
                </a:prstGeom>
                <a:solidFill>
                  <a:srgbClr val="7d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2400" spc="-1" strike="noStrike">
                      <a:solidFill>
                        <a:srgbClr val="003366"/>
                      </a:solidFill>
                      <a:latin typeface="Monotype Corsiva"/>
                    </a:rPr>
                    <a:t>Overview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881760" y="1601280"/>
                  <a:ext cx="76320" cy="6336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1" name=""/>
          <p:cNvGrpSpPr/>
          <p:nvPr/>
        </p:nvGrpSpPr>
        <p:grpSpPr>
          <a:xfrm>
            <a:off x="6419880" y="4346640"/>
            <a:ext cx="2723760" cy="1747800"/>
            <a:chOff x="6419880" y="4346640"/>
            <a:chExt cx="2723760" cy="1747800"/>
          </a:xfrm>
        </p:grpSpPr>
        <p:grpSp>
          <p:nvGrpSpPr>
            <p:cNvPr id="1102" name=""/>
            <p:cNvGrpSpPr/>
            <p:nvPr/>
          </p:nvGrpSpPr>
          <p:grpSpPr>
            <a:xfrm>
              <a:off x="7242120" y="5284440"/>
              <a:ext cx="1143000" cy="810000"/>
              <a:chOff x="7242120" y="5284440"/>
              <a:chExt cx="1143000" cy="810000"/>
            </a:xfrm>
          </p:grpSpPr>
          <p:sp>
            <p:nvSpPr>
              <p:cNvPr id="1103" name=""/>
              <p:cNvSpPr/>
              <p:nvPr/>
            </p:nvSpPr>
            <p:spPr>
              <a:xfrm>
                <a:off x="7470720" y="596124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5200" y="584316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14520" y="584316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42120" y="596124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99680" y="596124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27920" y="596124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156880" y="596124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42080" y="5486040"/>
                <a:ext cx="34488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28640" y="572472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470720" y="5724720"/>
                <a:ext cx="22860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700400" y="57247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356960" y="584316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813800" y="56059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5200" y="560592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17" name=""/>
              <p:cNvGrpSpPr/>
              <p:nvPr/>
            </p:nvGrpSpPr>
            <p:grpSpPr>
              <a:xfrm>
                <a:off x="7635960" y="5604120"/>
                <a:ext cx="353880" cy="490320"/>
                <a:chOff x="7635960" y="5604120"/>
                <a:chExt cx="353880" cy="4903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699320" y="5604120"/>
                  <a:ext cx="2282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692840" y="5644800"/>
                  <a:ext cx="2397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687080" y="5684040"/>
                  <a:ext cx="25092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681680" y="5724360"/>
                  <a:ext cx="26244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675920" y="5765040"/>
                  <a:ext cx="2739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670160" y="5806440"/>
                  <a:ext cx="2854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664400" y="5847120"/>
                  <a:ext cx="2970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658640" y="5887800"/>
                  <a:ext cx="3081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652880" y="5928840"/>
                  <a:ext cx="3196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647480" y="5972040"/>
                  <a:ext cx="33120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641720" y="6012720"/>
                  <a:ext cx="34236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635960" y="6053400"/>
                  <a:ext cx="353880" cy="4104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"/>
              <p:cNvSpPr/>
              <p:nvPr/>
            </p:nvSpPr>
            <p:spPr>
              <a:xfrm rot="16200000">
                <a:off x="7712280" y="5265720"/>
                <a:ext cx="201960" cy="23940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7776720" y="5527440"/>
                <a:ext cx="72360" cy="76680"/>
                <a:chOff x="7776720" y="5527440"/>
                <a:chExt cx="72360" cy="76680"/>
              </a:xfrm>
            </p:grpSpPr>
            <p:grpSp>
              <p:nvGrpSpPr>
                <p:cNvPr id="1132" name=""/>
                <p:cNvGrpSpPr/>
                <p:nvPr/>
              </p:nvGrpSpPr>
              <p:grpSpPr>
                <a:xfrm>
                  <a:off x="7776720" y="5527440"/>
                  <a:ext cx="72360" cy="76680"/>
                  <a:chOff x="7776720" y="5527440"/>
                  <a:chExt cx="72360" cy="7668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7776720" y="552744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848720" y="5527440"/>
                    <a:ext cx="0" cy="7668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776720" y="5527440"/>
                    <a:ext cx="72360" cy="0"/>
                  </a:xfrm>
                  <a:prstGeom prst="line">
                    <a:avLst/>
                  </a:prstGeom>
                  <a:ln w="0">
                    <a:solidFill>
                      <a:srgbClr val="0033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6" name=""/>
                <p:cNvSpPr/>
                <p:nvPr/>
              </p:nvSpPr>
              <p:spPr>
                <a:xfrm>
                  <a:off x="7782840" y="5531760"/>
                  <a:ext cx="61200" cy="72360"/>
                </a:xfrm>
                <a:prstGeom prst="rect">
                  <a:avLst/>
                </a:prstGeom>
                <a:solidFill>
                  <a:srgbClr val="ccff99">
                    <a:alpha val="50000"/>
                  </a:srgbClr>
                </a:solidFill>
                <a:ln w="0">
                  <a:solidFill>
                    <a:srgbClr val="0033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8042400" y="5843160"/>
                <a:ext cx="228240" cy="118440"/>
              </a:xfrm>
              <a:prstGeom prst="rect">
                <a:avLst/>
              </a:prstGeom>
              <a:solidFill>
                <a:srgbClr val="ccff99">
                  <a:alpha val="50000"/>
                </a:srgbClr>
              </a:solidFill>
              <a:ln w="0">
                <a:solidFill>
                  <a:srgbClr val="0033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6419880" y="4346640"/>
              <a:ext cx="2723760" cy="811080"/>
              <a:chOff x="6419880" y="4346640"/>
              <a:chExt cx="2723760" cy="811080"/>
            </a:xfrm>
          </p:grpSpPr>
          <p:sp>
            <p:nvSpPr>
              <p:cNvPr id="1139" name=""/>
              <p:cNvSpPr/>
              <p:nvPr/>
            </p:nvSpPr>
            <p:spPr>
              <a:xfrm>
                <a:off x="6419880" y="4346640"/>
                <a:ext cx="2723760" cy="811080"/>
              </a:xfrm>
              <a:prstGeom prst="cloudCallout">
                <a:avLst>
                  <a:gd name="adj1" fmla="val 277"/>
                  <a:gd name="adj2" fmla="val 54925"/>
                </a:avLst>
              </a:prstGeom>
              <a:solidFill>
                <a:srgbClr val="66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Monotype Corsiva"/>
                  </a:rPr>
                  <a:t>Vcc-Reference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40" name=""/>
              <p:cNvGrpSpPr/>
              <p:nvPr/>
            </p:nvGrpSpPr>
            <p:grpSpPr>
              <a:xfrm>
                <a:off x="7509240" y="4936320"/>
                <a:ext cx="453600" cy="73440"/>
                <a:chOff x="7509240" y="4936320"/>
                <a:chExt cx="453600" cy="7344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7509240" y="4936320"/>
                  <a:ext cx="9036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690680" y="493632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872120" y="4936320"/>
                  <a:ext cx="90720" cy="73440"/>
                </a:xfrm>
                <a:prstGeom prst="flowChartConnector">
                  <a:avLst/>
                </a:prstGeom>
                <a:solidFill>
                  <a:srgbClr val="ff66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138EF-320D-4267-8FD8-8D9A1F8A19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Pinning and Packag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0" y="1141560"/>
            <a:ext cx="359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IBIS Ver]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3.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File Name]    ALVCxxxx.ib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File Rev]       01.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Notes]      HSPICE -&gt; IBI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Source]    DOGEN version V1.3-0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Date]           31.01.20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Comment Char]   |_cha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Component]</a:t>
            </a: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ALVCxxxx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362400" y="2247840"/>
            <a:ext cx="5710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ackage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 variable         typ            min            max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_pkg            0.100Ohm       0.050Ohm       0.500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_pkg            3.380nH        2.050nH        6.010nH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_pkg            0.309pF        0.140pF        0.610pF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Manufacturer]   vendor xyz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in] signal_name model_name         R_pin   L_pin   C_pin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     PRE_L      ALVC_REC-1_IN    0.443   6.43nH  1.56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    SEL0        ALVC_REC-1_IN     0.411   6.11nH  1.43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     1A1          ALVC_IO-1_BI         0.367   5.34nH  1.11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     GND         GND                     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111   2.45nH  2.33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    ..          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3V3        POWER                    0.145   3.49nH  1.67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NC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        NC                             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151   3.19nH  2.67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buClr>
                <a:srgbClr val="003366"/>
              </a:buClr>
              <a:buFont typeface="Times New Roman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NC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</a:rPr>
              <a:t>        No-model                  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.155   3.99nH  0.67p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E3D25-F2F1-4851-AACD-5EE86CBBFA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Parameter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1539720"/>
            <a:ext cx="4403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Model]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ALVC_3P3V_IO-XXX-1_B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odel_type   I/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h              =     2.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l              =     0.8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ref              =    50.pF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ref              =   500.Ohm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ref              =     0.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meas             =     1.50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 variable        typ         min         max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_comp         5.pF      4.5pF       5.</a:t>
            </a:r>
            <a:r>
              <a:rPr b="0" lang="de-DE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F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Model Spec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h                1.9V      1.8V       2.0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l                 0.9V      0.8V       1.5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meas             1.5V      1.4V       1.6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282920" y="2276640"/>
            <a:ext cx="46324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_overshoot_high            3.3V       3.1V   3.4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_overshoot_low            -0.5V     -0.5V   -0.5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_overshoot_high            4.1V     3.9V     4.2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_overshoot_low            -0.9V    -0.9V    -0.9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_overshoot_time            5.ns      5.ns        5.ns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Voltage Range]             3.3V       3.1V       3.4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ulldown Reference]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0.V       0.V       0.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ullup Reference]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3.3V        3.1V     3.4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GND Clamp Reference]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0.V      0.V        0.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OWER Clamp Reference]</a:t>
            </a: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3.3V   3.1V   3.4V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[Temperature Range]              55.        0.      110.</a:t>
            </a:r>
            <a:r>
              <a:rPr b="0" lang="en-GB" sz="1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CF800-BE8E-49BC-B7E2-65D012F7A9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839600" y="29376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V-I Curves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51000" y="1420920"/>
            <a:ext cx="421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GND Clamp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Voltage     I(typ)      I(min)      I(max)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.64V -2237.0mA -1789.6mA -2684.4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.22V   -818.8mA  -655.0mA    -982.5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30V     0.0mA           0.0mA       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46V     0.0mA           0.0mA       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OWER Clamp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Voltage         I(typ)         I(min)      I(max)     -1.64V   3925.0mA   3140.0mA  471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.24V  1797.0mA    1437.6mA  2156.4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    ...     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0.40V        0.0mA        0.0mA     0.0mA      3.30V         0.0mA        0.0mA      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46V         0.0mA        0.0mA      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737240" y="1333440"/>
            <a:ext cx="412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ullup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Voltage         I(typ)         I(min)         I(max)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0.30V     0.0mA       0.0mA       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0.20V     0.0mA       0.0mA       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94V   -115.3mA   -92.2mA    -138.3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46V   -131.2mA -104.9mA    -157.4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50V   -131.2mA -104.9mA    -157.4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[Pulldown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|Voltage      I(typ)      I(min)         I(max)     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0.400V     -0.0mA      -0.0mA      -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0.300V     -0.0mA      -0.0mA      -0.0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             ...            ...            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50V       82.6mA      66.0mA     99.1mA      3.46V       87.6mA      70.1mA    105.1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50V       87.6mA      70.1mA     105.1m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74DF8-FD57-4781-A3C9-69BCAD070F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35:43Z</dcterms:created>
  <dc:creator>Eckhard Lenski</dc:creator>
  <dc:description/>
  <dc:language>en-US</dc:language>
  <cp:lastModifiedBy>Lenski Eckhard</cp:lastModifiedBy>
  <cp:lastPrinted>2002-06-07T13:17:10Z</cp:lastPrinted>
  <dcterms:modified xsi:type="dcterms:W3CDTF">2003-03-06T20:50:31Z</dcterms:modified>
  <cp:revision>188</cp:revision>
  <dc:subject>Grundlagen von IBIS-Modellen</dc:subject>
  <dc:title>ibis basics tutorial</dc:title>
</cp:coreProperties>
</file>