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93660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66760" y="691920"/>
            <a:ext cx="461664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Click to move the slide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7721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936600" y="87721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D2C5982-146B-4400-B641-1048C81DE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9880" cy="34639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548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to all those people on the IBIS quality Committee for the help producing quality docum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a Overview/Index of the documentation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9880" cy="34639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548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BIS Quality is achievable but requires hard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important to Have Quality checks on ALL of your ibis mode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 the IQ checklist to verify our IBIS mode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tilize Automatic SPICE2IBIS Generation and Validat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936600" y="87721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6A9DEE4-191A-4AE6-9876-4C115F285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87721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93660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93360" y="4386240"/>
            <a:ext cx="5559480" cy="415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ry to popular belief, IBIS models can be extremely accurate over 1GHz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waveform overlay of Hspice and IBIS simulations of an LVDS interface running at 1.25GH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lation is excellent, time-shifts are intentional, but getting this level of correlation was not easy and not always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ny cases though this is the exception and not the r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ould have not confidence in this model had I not run both IBIS and SP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BIS work well at some varying frequencies, but a methodology is needed that supports both SPICE and IB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nings from the IBIS parser should be expla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f the Models should be checked and double 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and Thorough documentation is a mu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936600" y="87721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56E40C6-DC0E-47DA-AB1E-7428E81B2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87721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93660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93360" y="4386240"/>
            <a:ext cx="5559480" cy="415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BIS extensions – Rigorous waveform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E to our Papers Wed 2pm HP 4-3 and Wed 3 Pm HP 1-1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936600" y="87721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6DC7C32-1AFD-443F-94F8-63E6CAD76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360" y="87721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93660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93360" y="4386240"/>
            <a:ext cx="5559480" cy="415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ry to popular belief, IBIS models can be extremely accurate over 1GHz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waveform overlay of Hspice and IBIS simulations of an LVDS interface running at 1.25GH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lation is excellent, time-shifts are intentional, but getting this level of correlation was not easy and not always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ny cases though this is the exception and not the r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ould have not confidence in this model had I not run both IBIS and SP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BIS work well at some varying frequencies, but a methodology is needed that supports both SPICE and IB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9880" cy="34639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548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we here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9880" cy="34639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548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s not changed since out inception . For those of you who didn’t attend PCB east we are summarizing our goals and char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9880" cy="34639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548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re active than other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9880" cy="34639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548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important web sites and information about the IBIS quality co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9880" cy="34639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548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ypical day at the IBIS quality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9880" cy="34639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548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accomplished a lot in a short period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9880" cy="34639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54800" cy="4156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a sample of the documentation – thanks to Kim Helli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DE6F-5831-4695-98E2-0D988F703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4300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E508-9CA8-4964-9308-943C6955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430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2568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5E33-E973-450C-85B9-099C580B0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4300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7100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864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1427-9AEA-4451-B478-9CF1DBA9C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806D-B44F-41E6-9E26-1A7320394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2153-B7A4-4FEE-A968-28F9F2C3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3369-18B9-49E2-8213-4687ECB7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5B8F-CD45-478A-9AFA-C7F6618E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9E45-E8C3-46BC-8561-FB292EEE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430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9F50-7D67-4A02-92B2-CE1042F6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430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526A-E186-4084-A3C1-E2D59404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10F1-C2C1-4164-AE4C-1D028AB4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2568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15CE-92C6-49AC-A052-0C68703B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4300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923C-2DAB-4C2D-ACB8-1D5C03EC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4300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3042-F9C9-4881-B305-2620DB74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2568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8C19-67D0-4074-95AB-FEE70B016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4300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7100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9864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B162-3E9E-4223-8924-CE9171550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B76A-7251-4B09-9150-9572BD4A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5635-9917-4B4B-9C48-AA24FB77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9F3F-9117-4EEE-92B6-71553E32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430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9DC5-A849-4C2B-AFCF-6BB78EFD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430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E2B3-DB97-461F-AA0E-6F5FABB5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2568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F772-80B9-487B-ACF7-6A95FF35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B78A-37B0-4457-9E00-577964ED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366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F4DB-F6F0-42A0-845D-01ED727828E8}" type="slidenum"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9259" t="27781" r="9259" b="25926"/>
          <a:stretch/>
        </p:blipFill>
        <p:spPr>
          <a:xfrm>
            <a:off x="7391520" y="6172200"/>
            <a:ext cx="1447560" cy="4111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rcRect l="33333" t="740" r="0" b="32595"/>
          <a:stretch/>
        </p:blipFill>
        <p:spPr>
          <a:xfrm>
            <a:off x="0" y="0"/>
            <a:ext cx="9144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F06C-B8D0-43BC-A2DF-C29C1E529D52}" type="slidenum"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33333" t="740" r="0" b="32595"/>
          <a:stretch/>
        </p:blipFill>
        <p:spPr>
          <a:xfrm>
            <a:off x="0" y="0"/>
            <a:ext cx="914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336699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36699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36699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isoft.com/ibis-quality/minutes" TargetMode="External"/><Relationship Id="rId2" Type="http://schemas.openxmlformats.org/officeDocument/2006/relationships/hyperlink" Target="http://www.sisoft.com/ibis-quality/minutes" TargetMode="External"/><Relationship Id="rId3" Type="http://schemas.openxmlformats.org/officeDocument/2006/relationships/hyperlink" Target="http://www.sisoft.com/ibis-quality/minutes" TargetMode="External"/><Relationship Id="rId4" Type="http://schemas.openxmlformats.org/officeDocument/2006/relationships/hyperlink" Target="http://www.sisoft.com/ibis-quality" TargetMode="External"/><Relationship Id="rId5" Type="http://schemas.openxmlformats.org/officeDocument/2006/relationships/hyperlink" Target="http://www.sisoft.com/ibis-quality" TargetMode="External"/><Relationship Id="rId6" Type="http://schemas.openxmlformats.org/officeDocument/2006/relationships/hyperlink" Target="http://www.sisoft.com/ibis-quality" TargetMode="External"/><Relationship Id="rId7" Type="http://schemas.openxmlformats.org/officeDocument/2006/relationships/hyperlink" Target="http://www.sisoft.com/ibis-quality" TargetMode="External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4419360"/>
            <a:ext cx="762012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8000"/>
              </a:lnSpc>
              <a:spcBef>
                <a:spcPts val="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Century Gothic"/>
              </a:rPr>
              <a:t>IBIS QUALITY COMMITTEE UPDATE/</a:t>
            </a:r>
            <a:endParaRPr b="0" lang="en-US" sz="2800" spc="-1" strike="noStrike">
              <a:solidFill>
                <a:srgbClr val="336699"/>
              </a:solidFill>
              <a:latin typeface="Century Gothic"/>
            </a:endParaRPr>
          </a:p>
          <a:p>
            <a:pPr algn="ctr">
              <a:lnSpc>
                <a:spcPct val="98000"/>
              </a:lnSpc>
              <a:spcBef>
                <a:spcPts val="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Century Gothic"/>
              </a:rPr>
              <a:t>PRACTICAL USE OF IQ CHECKLIST </a:t>
            </a:r>
            <a:endParaRPr b="0" lang="en-US" sz="2800" spc="-1" strike="noStrike">
              <a:solidFill>
                <a:srgbClr val="336699"/>
              </a:solidFill>
              <a:latin typeface="Century Gothic"/>
            </a:endParaRPr>
          </a:p>
          <a:p>
            <a:pPr algn="ctr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Barry Katz/Robert Haller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  <a:p>
            <a:pPr algn="ctr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Signal Integrity Software, Inc.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  <a:p>
            <a:pPr algn="ctr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6 Clock Tower Place – Suite 250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  <a:p>
            <a:pPr algn="ctr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Maynard MA. 01754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  <a:p>
            <a:pPr algn="ctr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336699"/>
                </a:solidFill>
                <a:latin typeface="Century Gothic"/>
              </a:rPr>
              <a:t>978-461-0449 X 19</a:t>
            </a:r>
            <a:endParaRPr b="0" lang="en-US" sz="1200" spc="-1" strike="noStrike">
              <a:solidFill>
                <a:srgbClr val="336699"/>
              </a:solidFill>
              <a:latin typeface="Century Gothic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6944" t="20834" r="6944" b="19446"/>
          <a:stretch/>
        </p:blipFill>
        <p:spPr>
          <a:xfrm>
            <a:off x="2971800" y="609480"/>
            <a:ext cx="3809880" cy="1081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352680" y="2057400"/>
            <a:ext cx="304812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38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IQ Documentation Index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1.0</a:t>
            </a: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 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IQ Header Section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 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Kim Helliwel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1" marL="800280" indent="0">
              <a:lnSpc>
                <a:spcPct val="9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Summarizes quality for File, 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marL="380880" indent="0">
              <a:lnSpc>
                <a:spcPct val="9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2.0 General File Characteristics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 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Todd Westerhoff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1" marL="800280" indent="0">
              <a:lnSpc>
                <a:spcPct val="9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Passes and Document version of IBISCHK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1" marL="800280" indent="0">
              <a:lnSpc>
                <a:spcPct val="9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Goal zero errors and zero warnings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marL="380880" indent="0">
              <a:lnSpc>
                <a:spcPct val="9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3.0 Component Section 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Barry Katz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marL="380880" indent="0">
              <a:lnSpc>
                <a:spcPct val="9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4.0 Model Section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2" marL="1219320" indent="0">
              <a:lnSpc>
                <a:spcPct val="9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4.1 General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Lynne Green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2" marL="1219320" indent="0">
              <a:lnSpc>
                <a:spcPct val="9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4.2 Pullup/Pulldown/Clamp IV curves    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Robert Haller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2" marL="1219320" indent="0">
              <a:lnSpc>
                <a:spcPct val="9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4.3 VT Curves -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Barry Katz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2" marL="1219320" indent="0">
              <a:lnSpc>
                <a:spcPct val="9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4.4 Ramp Data, Waveform processing 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Mike LaBonte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marL="380880" indent="0">
              <a:lnSpc>
                <a:spcPct val="9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5.0 Possible Errors that should be checked - 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Eckard Lenski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marL="380880" indent="0">
              <a:lnSpc>
                <a:spcPct val="9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6.0 Correlation                        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Greg Edlund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1" marL="800280" indent="0">
              <a:lnSpc>
                <a:spcPct val="9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 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6.1 SPICE correlation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1" marL="800280" indent="0">
              <a:lnSpc>
                <a:spcPct val="9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 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6.2 Lab Correlation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marL="380880" indent="0">
              <a:lnSpc>
                <a:spcPct val="98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7.0 Model Limitations -                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	</a:t>
            </a:r>
            <a:r>
              <a:rPr b="0" lang="en-GB" sz="1600" spc="-1" strike="noStrike">
                <a:solidFill>
                  <a:srgbClr val="336699"/>
                </a:solidFill>
                <a:latin typeface="Century Gothic"/>
              </a:rPr>
              <a:t>Barry Katz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38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IQ Summary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676520" y="15699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Accurate IBIS models are achievable 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IBIS Quality subcommittee is driving the industry for improved IBIS model quality !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Accomplished a lo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Checklist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Level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IBISchk3 bug submissions/proposal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1</a:t>
            </a:r>
            <a:r>
              <a:rPr b="0" lang="en-GB" sz="2000" spc="-1" strike="noStrike" baseline="30000">
                <a:solidFill>
                  <a:srgbClr val="336699"/>
                </a:solidFill>
                <a:latin typeface="Century Gothic"/>
              </a:rPr>
              <a:t>st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Pass documentation and  index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To Do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Complete documentation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Industry acceptance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SISOFT Practical Use of </a:t>
            </a: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IQ Checklist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ISOFT practices what it preache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Automatic IBIS model Generation 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Compare SPICE to IBI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Obtain and insert Model and Model Spec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Document IBISCHK issue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Document source data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Generate Accurate Pin lis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Independent Double check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Complete Model Documentation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609480"/>
            <a:ext cx="7772400" cy="557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419200" y="782640"/>
            <a:ext cx="6343200" cy="2524320"/>
            <a:chOff x="2419200" y="782640"/>
            <a:chExt cx="6343200" cy="2524320"/>
          </a:xfrm>
        </p:grpSpPr>
        <p:grpSp>
          <p:nvGrpSpPr>
            <p:cNvPr id="121" name=""/>
            <p:cNvGrpSpPr/>
            <p:nvPr/>
          </p:nvGrpSpPr>
          <p:grpSpPr>
            <a:xfrm>
              <a:off x="2419200" y="782640"/>
              <a:ext cx="4578840" cy="636840"/>
              <a:chOff x="2419200" y="782640"/>
              <a:chExt cx="4578840" cy="636840"/>
            </a:xfrm>
          </p:grpSpPr>
          <p:sp>
            <p:nvSpPr>
              <p:cNvPr id="122" name=""/>
              <p:cNvSpPr/>
              <p:nvPr/>
            </p:nvSpPr>
            <p:spPr>
              <a:xfrm>
                <a:off x="2419200" y="782640"/>
                <a:ext cx="1832400" cy="636840"/>
              </a:xfrm>
              <a:prstGeom prst="flowChartManualInpu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360" rIns="18360" tIns="18360" bIns="18360" anchor="ctr">
                <a:noAutofit/>
              </a:bodyPr>
              <a:p>
                <a:pPr marL="115920" indent="-11592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Working, Well Documented HSpice Model, Includin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15920" indent="-11592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rocess Corner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5558040" y="840240"/>
                <a:ext cx="1440000" cy="521280"/>
              </a:xfrm>
              <a:prstGeom prst="flowChartManualInpu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360" rIns="18360" tIns="18360" bIns="18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DF Datashee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936680" y="971640"/>
                <a:ext cx="261360" cy="257400"/>
              </a:xfrm>
              <a:prstGeom prst="flowChartSummingJuncti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25" name=""/>
              <p:cNvCxnSpPr>
                <a:stCxn id="122" idx="3"/>
                <a:endCxn id="124" idx="2"/>
              </p:cNvCxnSpPr>
              <p:nvPr/>
            </p:nvCxnSpPr>
            <p:spPr>
              <a:xfrm flipV="1">
                <a:off x="4251240" y="1099800"/>
                <a:ext cx="685440" cy="2160"/>
              </a:xfrm>
              <a:prstGeom prst="curvedConnector5">
                <a:avLst>
                  <a:gd name="adj1" fmla="val 49921"/>
                  <a:gd name="adj2" fmla="val 40000"/>
                  <a:gd name="adj3" fmla="val 49921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26" name=""/>
              <p:cNvCxnSpPr>
                <a:stCxn id="123" idx="3"/>
                <a:endCxn id="124" idx="6"/>
              </p:cNvCxnSpPr>
              <p:nvPr/>
            </p:nvCxnSpPr>
            <p:spPr>
              <a:xfrm rot="10800000">
                <a:off x="5197680" y="1099440"/>
                <a:ext cx="361440" cy="108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27" name=""/>
            <p:cNvGrpSpPr/>
            <p:nvPr/>
          </p:nvGrpSpPr>
          <p:grpSpPr>
            <a:xfrm>
              <a:off x="6278400" y="1441440"/>
              <a:ext cx="2484000" cy="1865520"/>
              <a:chOff x="6278400" y="1441440"/>
              <a:chExt cx="2484000" cy="1865520"/>
            </a:xfrm>
          </p:grpSpPr>
          <p:sp>
            <p:nvSpPr>
              <p:cNvPr id="128" name=""/>
              <p:cNvSpPr/>
              <p:nvPr/>
            </p:nvSpPr>
            <p:spPr>
              <a:xfrm>
                <a:off x="6455880" y="1739520"/>
                <a:ext cx="2044800" cy="28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360" rIns="18360" tIns="18360" bIns="18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Package and pin parasitic inform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23920" indent="-10656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Pin-by-pin if possibl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55880" y="2059920"/>
                <a:ext cx="2044800" cy="40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360" rIns="18360" tIns="18360" bIns="18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Individual I/O buffer specification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27160" indent="-1126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C/DC specification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27160" indent="-1126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tandard load inform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55880" y="2482200"/>
                <a:ext cx="204480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360" rIns="18360" tIns="18360" bIns="18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Physical and logical I/O mapping (spreadsheet desirable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23920" indent="-10656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Physical pin number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23920" indent="-10656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Logical pin nam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455880" y="3026520"/>
                <a:ext cx="2306520" cy="28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360" rIns="18360" tIns="18360" bIns="18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Corner conditions (typ., min., max.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227160" indent="-11268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Voltage and temperature parameter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32" name=""/>
              <p:cNvCxnSpPr>
                <a:stCxn id="128" idx="1"/>
                <a:endCxn id="123" idx="2"/>
              </p:cNvCxnSpPr>
              <p:nvPr/>
            </p:nvCxnSpPr>
            <p:spPr>
              <a:xfrm rot="10800000">
                <a:off x="6278400" y="1441440"/>
                <a:ext cx="178920" cy="4442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3" name=""/>
              <p:cNvCxnSpPr>
                <a:stCxn id="129" idx="1"/>
                <a:endCxn id="123" idx="2"/>
              </p:cNvCxnSpPr>
              <p:nvPr/>
            </p:nvCxnSpPr>
            <p:spPr>
              <a:xfrm rot="10800000">
                <a:off x="6278400" y="1441440"/>
                <a:ext cx="178920" cy="8305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4" name=""/>
              <p:cNvCxnSpPr>
                <a:stCxn id="130" idx="1"/>
                <a:endCxn id="123" idx="2"/>
              </p:cNvCxnSpPr>
              <p:nvPr/>
            </p:nvCxnSpPr>
            <p:spPr>
              <a:xfrm rot="10800000">
                <a:off x="6278400" y="1441440"/>
                <a:ext cx="178920" cy="13129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5" name=""/>
              <p:cNvCxnSpPr>
                <a:stCxn id="131" idx="1"/>
                <a:endCxn id="123" idx="2"/>
              </p:cNvCxnSpPr>
              <p:nvPr/>
            </p:nvCxnSpPr>
            <p:spPr>
              <a:xfrm rot="10800000">
                <a:off x="6278400" y="1441440"/>
                <a:ext cx="178920" cy="17312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136" name=""/>
          <p:cNvGrpSpPr/>
          <p:nvPr/>
        </p:nvGrpSpPr>
        <p:grpSpPr>
          <a:xfrm>
            <a:off x="4038480" y="1294920"/>
            <a:ext cx="2028960" cy="1122480"/>
            <a:chOff x="4038480" y="1294920"/>
            <a:chExt cx="2028960" cy="1122480"/>
          </a:xfrm>
        </p:grpSpPr>
        <p:cxnSp>
          <p:nvCxnSpPr>
            <p:cNvPr id="137" name=""/>
            <p:cNvCxnSpPr>
              <a:stCxn id="124" idx="4"/>
              <a:endCxn id="138" idx="0"/>
            </p:cNvCxnSpPr>
            <p:nvPr/>
          </p:nvCxnSpPr>
          <p:spPr>
            <a:xfrm flipV="1" rot="10800000">
              <a:off x="5052240" y="1294920"/>
              <a:ext cx="1080" cy="2552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8" name=""/>
            <p:cNvSpPr/>
            <p:nvPr/>
          </p:nvSpPr>
          <p:spPr>
            <a:xfrm>
              <a:off x="4038480" y="1549800"/>
              <a:ext cx="2028960" cy="86760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t">
              <a:noAutofit/>
            </a:bodyPr>
            <a:p>
              <a:pPr marL="112680" indent="-1126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reate HSpice wrapp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2680" indent="-1126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reate and Populate IBIS Template with Datasheet Paramet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2680" indent="-112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371600" y="2895480"/>
            <a:ext cx="1568160" cy="1481040"/>
            <a:chOff x="1371600" y="2895480"/>
            <a:chExt cx="1568160" cy="1481040"/>
          </a:xfrm>
        </p:grpSpPr>
        <p:sp>
          <p:nvSpPr>
            <p:cNvPr id="140" name=""/>
            <p:cNvSpPr/>
            <p:nvPr/>
          </p:nvSpPr>
          <p:spPr>
            <a:xfrm>
              <a:off x="1371600" y="3475080"/>
              <a:ext cx="784080" cy="25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BIS Mod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1" name=""/>
            <p:cNvCxnSpPr>
              <a:stCxn id="142" idx="1"/>
              <a:endCxn id="140" idx="0"/>
            </p:cNvCxnSpPr>
            <p:nvPr/>
          </p:nvCxnSpPr>
          <p:spPr>
            <a:xfrm flipV="1" rot="10800000">
              <a:off x="1762920" y="2895120"/>
              <a:ext cx="458280" cy="58032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3" name=""/>
            <p:cNvSpPr/>
            <p:nvPr/>
          </p:nvSpPr>
          <p:spPr>
            <a:xfrm>
              <a:off x="2155680" y="3861360"/>
              <a:ext cx="784080" cy="51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Spi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imul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f IBIS Mod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4" name=""/>
            <p:cNvCxnSpPr>
              <a:stCxn id="140" idx="2"/>
              <a:endCxn id="143" idx="1"/>
            </p:cNvCxnSpPr>
            <p:nvPr/>
          </p:nvCxnSpPr>
          <p:spPr>
            <a:xfrm flipH="1" rot="16200000">
              <a:off x="1765440" y="3729600"/>
              <a:ext cx="387000" cy="39276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45" name=""/>
          <p:cNvSpPr/>
          <p:nvPr/>
        </p:nvSpPr>
        <p:spPr>
          <a:xfrm>
            <a:off x="2077920" y="0"/>
            <a:ext cx="65617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Utilize an Automatic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89360" y="2257560"/>
            <a:ext cx="5659200" cy="3507840"/>
            <a:chOff x="1089360" y="2257560"/>
            <a:chExt cx="5659200" cy="3507840"/>
          </a:xfrm>
        </p:grpSpPr>
        <p:cxnSp>
          <p:nvCxnSpPr>
            <p:cNvPr id="147" name=""/>
            <p:cNvCxnSpPr>
              <a:endCxn id="148" idx="0"/>
            </p:cNvCxnSpPr>
            <p:nvPr/>
          </p:nvCxnSpPr>
          <p:spPr>
            <a:xfrm rot="5400000">
              <a:off x="2981160" y="5153400"/>
              <a:ext cx="193680" cy="1800"/>
            </a:xfrm>
            <a:prstGeom prst="curvedConnector5">
              <a:avLst>
                <a:gd name="adj1" fmla="val 49906"/>
                <a:gd name="adj2" fmla="val 50000"/>
                <a:gd name="adj3" fmla="val 49906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" name=""/>
            <p:cNvSpPr/>
            <p:nvPr/>
          </p:nvSpPr>
          <p:spPr>
            <a:xfrm>
              <a:off x="2587320" y="5250960"/>
              <a:ext cx="981000" cy="51444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Validat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48" idx="3"/>
              <a:endCxn id="150" idx="3"/>
            </p:cNvCxnSpPr>
            <p:nvPr/>
          </p:nvCxnSpPr>
          <p:spPr>
            <a:xfrm flipV="1">
              <a:off x="3568320" y="4381560"/>
              <a:ext cx="2984760" cy="1126800"/>
            </a:xfrm>
            <a:prstGeom prst="curvedConnector5">
              <a:avLst>
                <a:gd name="adj1" fmla="val 106562"/>
                <a:gd name="adj2" fmla="val 49984"/>
                <a:gd name="adj3" fmla="val 106562"/>
              </a:avLst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545280" y="5282640"/>
              <a:ext cx="206640" cy="1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" name=""/>
            <p:cNvCxnSpPr>
              <a:stCxn id="148" idx="1"/>
              <a:endCxn id="142" idx="0"/>
            </p:cNvCxnSpPr>
            <p:nvPr/>
          </p:nvCxnSpPr>
          <p:spPr>
            <a:xfrm flipH="1" rot="10800000">
              <a:off x="2586240" y="2450520"/>
              <a:ext cx="499320" cy="3057480"/>
            </a:xfrm>
            <a:prstGeom prst="curvedConnector5">
              <a:avLst>
                <a:gd name="adj1" fmla="val -300000"/>
                <a:gd name="adj2" fmla="val 53155"/>
                <a:gd name="adj3" fmla="val -3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3" name=""/>
            <p:cNvSpPr/>
            <p:nvPr/>
          </p:nvSpPr>
          <p:spPr>
            <a:xfrm>
              <a:off x="2432880" y="5282640"/>
              <a:ext cx="206640" cy="1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4" name=""/>
          <p:cNvCxnSpPr/>
          <p:nvPr/>
        </p:nvCxnSpPr>
        <p:spPr>
          <a:xfrm rot="5400000">
            <a:off x="2340000" y="4988520"/>
            <a:ext cx="194400" cy="75240"/>
          </a:xfrm>
          <a:prstGeom prst="curvedConnector5">
            <a:avLst>
              <a:gd name="adj1" fmla="val 49907"/>
              <a:gd name="adj2" fmla="val 50000"/>
              <a:gd name="adj3" fmla="val 499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2076840" y="4776840"/>
            <a:ext cx="1186560" cy="189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Arial"/>
              </a:rPr>
              <a:t>Lab Data (optiona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429000" y="2514600"/>
            <a:ext cx="3203280" cy="2476440"/>
            <a:chOff x="3429000" y="2514600"/>
            <a:chExt cx="3203280" cy="2476440"/>
          </a:xfrm>
        </p:grpSpPr>
        <p:sp>
          <p:nvSpPr>
            <p:cNvPr id="150" name=""/>
            <p:cNvSpPr/>
            <p:nvPr/>
          </p:nvSpPr>
          <p:spPr>
            <a:xfrm>
              <a:off x="5782680" y="4025880"/>
              <a:ext cx="849600" cy="514800"/>
            </a:xfrm>
            <a:prstGeom prst="flowChartPredefined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Audito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Sp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ener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7" name=""/>
            <p:cNvCxnSpPr>
              <a:stCxn id="150" idx="2"/>
              <a:endCxn id="158" idx="4"/>
            </p:cNvCxnSpPr>
            <p:nvPr/>
          </p:nvCxnSpPr>
          <p:spPr>
            <a:xfrm rot="5400000">
              <a:off x="5815800" y="4310280"/>
              <a:ext cx="161280" cy="62172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8" idx="1"/>
              <a:endCxn id="160" idx="2"/>
            </p:cNvCxnSpPr>
            <p:nvPr/>
          </p:nvCxnSpPr>
          <p:spPr>
            <a:xfrm flipV="1">
              <a:off x="5128560" y="4154400"/>
              <a:ext cx="1080" cy="25776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38" idx="2"/>
              <a:endCxn id="150" idx="0"/>
            </p:cNvCxnSpPr>
            <p:nvPr/>
          </p:nvCxnSpPr>
          <p:spPr>
            <a:xfrm flipH="1" rot="16200000">
              <a:off x="4765680" y="2583360"/>
              <a:ext cx="1512000" cy="1373760"/>
            </a:xfrm>
            <a:prstGeom prst="curvedConnector5">
              <a:avLst>
                <a:gd name="adj1" fmla="val 49988"/>
                <a:gd name="adj2" fmla="val 49986"/>
                <a:gd name="adj3" fmla="val 49988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8" name=""/>
            <p:cNvSpPr/>
            <p:nvPr/>
          </p:nvSpPr>
          <p:spPr>
            <a:xfrm>
              <a:off x="4671000" y="4412160"/>
              <a:ext cx="915480" cy="57888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Spice Deck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or Each Mod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2" name=""/>
            <p:cNvCxnSpPr>
              <a:stCxn id="160" idx="1"/>
              <a:endCxn id="163" idx="4"/>
            </p:cNvCxnSpPr>
            <p:nvPr/>
          </p:nvCxnSpPr>
          <p:spPr>
            <a:xfrm rot="10800000">
              <a:off x="4343400" y="3993480"/>
              <a:ext cx="32724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3429000" y="3704400"/>
              <a:ext cx="915120" cy="57888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HSpice Result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or Each Mod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71000" y="3832920"/>
              <a:ext cx="915480" cy="321480"/>
            </a:xfrm>
            <a:prstGeom prst="flowChartPredefined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Sp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mu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971800" y="5714640"/>
            <a:ext cx="1793520" cy="482760"/>
            <a:chOff x="2971800" y="5714640"/>
            <a:chExt cx="1793520" cy="482760"/>
          </a:xfrm>
        </p:grpSpPr>
        <p:sp>
          <p:nvSpPr>
            <p:cNvPr id="165" name=""/>
            <p:cNvSpPr/>
            <p:nvPr/>
          </p:nvSpPr>
          <p:spPr>
            <a:xfrm>
              <a:off x="2971800" y="5747040"/>
              <a:ext cx="261360" cy="1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6" name=""/>
            <p:cNvCxnSpPr>
              <a:stCxn id="148" idx="2"/>
              <a:endCxn id="167" idx="1"/>
            </p:cNvCxnSpPr>
            <p:nvPr/>
          </p:nvCxnSpPr>
          <p:spPr>
            <a:xfrm flipH="1" rot="16200000">
              <a:off x="3328200" y="5610600"/>
              <a:ext cx="258120" cy="46620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7" name=""/>
            <p:cNvSpPr/>
            <p:nvPr/>
          </p:nvSpPr>
          <p:spPr>
            <a:xfrm>
              <a:off x="3691080" y="5747040"/>
              <a:ext cx="1074240" cy="45036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BIS/HSpice Mod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rrelation Re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905120" y="4343400"/>
            <a:ext cx="2419200" cy="736200"/>
            <a:chOff x="1905120" y="4343400"/>
            <a:chExt cx="2419200" cy="736200"/>
          </a:xfrm>
        </p:grpSpPr>
        <p:sp>
          <p:nvSpPr>
            <p:cNvPr id="169" name=""/>
            <p:cNvSpPr/>
            <p:nvPr/>
          </p:nvSpPr>
          <p:spPr>
            <a:xfrm>
              <a:off x="1905120" y="4758120"/>
              <a:ext cx="2419200" cy="321480"/>
            </a:xfrm>
            <a:custGeom>
              <a:avLst/>
              <a:gdLst/>
              <a:ahLst/>
              <a:rect l="l" t="t" r="r" b="b"/>
              <a:pathLst>
                <a:path w="1933" h="240">
                  <a:moveTo>
                    <a:pt x="356" y="2"/>
                  </a:moveTo>
                  <a:lnTo>
                    <a:pt x="0" y="2"/>
                  </a:lnTo>
                  <a:lnTo>
                    <a:pt x="53" y="240"/>
                  </a:lnTo>
                  <a:lnTo>
                    <a:pt x="1878" y="240"/>
                  </a:lnTo>
                  <a:lnTo>
                    <a:pt x="1933" y="0"/>
                  </a:lnTo>
                  <a:lnTo>
                    <a:pt x="1564" y="2"/>
                  </a:lnTo>
                  <a:lnTo>
                    <a:pt x="356" y="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43" idx="2"/>
              <a:endCxn id="169" idx="0"/>
            </p:cNvCxnSpPr>
            <p:nvPr/>
          </p:nvCxnSpPr>
          <p:spPr>
            <a:xfrm rot="5400000">
              <a:off x="2212200" y="4480560"/>
              <a:ext cx="418320" cy="143640"/>
            </a:xfrm>
            <a:prstGeom prst="curvedConnector5">
              <a:avLst>
                <a:gd name="adj1" fmla="val 49612"/>
                <a:gd name="adj2" fmla="val 45477"/>
                <a:gd name="adj3" fmla="val 4961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1" name=""/>
            <p:cNvSpPr/>
            <p:nvPr/>
          </p:nvSpPr>
          <p:spPr>
            <a:xfrm>
              <a:off x="2032920" y="4858920"/>
              <a:ext cx="203220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pare IBIS/HSpice Simulation Resul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2" name=""/>
            <p:cNvCxnSpPr>
              <a:stCxn id="163" idx="3"/>
              <a:endCxn id="169" idx="1"/>
            </p:cNvCxnSpPr>
            <p:nvPr/>
          </p:nvCxnSpPr>
          <p:spPr>
            <a:xfrm flipH="1" rot="16200000">
              <a:off x="3654720" y="4552920"/>
              <a:ext cx="353880" cy="61920"/>
            </a:xfrm>
            <a:prstGeom prst="curvedConnector5">
              <a:avLst>
                <a:gd name="adj1" fmla="val 49592"/>
                <a:gd name="adj2" fmla="val 59649"/>
                <a:gd name="adj3" fmla="val 495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3" name=""/>
          <p:cNvGrpSpPr/>
          <p:nvPr/>
        </p:nvGrpSpPr>
        <p:grpSpPr>
          <a:xfrm>
            <a:off x="2209680" y="2362320"/>
            <a:ext cx="2582280" cy="1640520"/>
            <a:chOff x="2209680" y="2362320"/>
            <a:chExt cx="2582280" cy="1640520"/>
          </a:xfrm>
        </p:grpSpPr>
        <p:sp>
          <p:nvSpPr>
            <p:cNvPr id="142" name=""/>
            <p:cNvSpPr/>
            <p:nvPr/>
          </p:nvSpPr>
          <p:spPr>
            <a:xfrm>
              <a:off x="2209680" y="2362320"/>
              <a:ext cx="1830600" cy="772200"/>
            </a:xfrm>
            <a:prstGeom prst="flowChartPredefined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18360" bIns="18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iAuditor template mer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nd extraction of IBI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odel IV &amp; VT Curves,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amp Data, I/O Clamp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urves, and Capacitan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4" name=""/>
            <p:cNvCxnSpPr>
              <a:stCxn id="163" idx="2"/>
              <a:endCxn id="142" idx="2"/>
            </p:cNvCxnSpPr>
            <p:nvPr/>
          </p:nvCxnSpPr>
          <p:spPr>
            <a:xfrm rot="10800000">
              <a:off x="3124080" y="3133800"/>
              <a:ext cx="262080" cy="86940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38" idx="2"/>
              <a:endCxn id="142" idx="3"/>
            </p:cNvCxnSpPr>
            <p:nvPr/>
          </p:nvCxnSpPr>
          <p:spPr>
            <a:xfrm rot="5400000">
              <a:off x="4303080" y="2259000"/>
              <a:ext cx="225720" cy="75276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Compare SPICE to IBIS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pic>
        <p:nvPicPr>
          <p:cNvPr id="177" name="sstlclk_drv_generic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921280" cy="51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Example IBISCHK3  Issues</a:t>
            </a: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Documented in .IBS File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All I/O Models: When running through ibischk3, this file will contain 9 warnings about pullup and pulldown curves being non-monotonic. This is due to a bug in the ibischk parser. The IBIS Parser only looks at the pullup and pulldown, not at the combined curves, pullup and clamps or pulldown and clamp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entury Gothic"/>
              </a:rPr>
              <a:t>Running Latest verision of ibischk3 will yield 12 warnings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9 pullup and pulldown Non-monotonic warnings   (OK Parser Bug)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1 C_comp min value is not the smallest value listed(OK by design)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1 C_Comp max value is not the largest value listed(OK by design) 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1 Vmeas should not be specified for Model typ input(OK Parser Bug)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Source data of IBIS Model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entury Gothic"/>
              </a:rPr>
              <a:t>Pinlist data is from Spreadsheet dated 01/01/03 from XXX 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entury Gothic"/>
              </a:rPr>
              <a:t>SPICE MODELS dated 01/01/2003 from YYY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entury Gothic"/>
              </a:rPr>
              <a:t>PDF specifications dated 11/28/2001  from YYY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entury Gothic"/>
              </a:rPr>
              <a:t>Package Parameter are from SI report 11/15/02 from YYY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828800" y="3252960"/>
          <a:ext cx="5486400" cy="101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252960"/>
                    <a:ext cx="5486400" cy="10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Double Checks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Cross check of consistency between library elements, such as: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IBIS model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Timing model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Net list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IBISCHK3 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IBIS Simulations Run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Independent check of IV,VT Pin list Model Spec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We call it – Validation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Automated checking with SiAuditor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Manual check by  experienced engineer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sisoft_3" descr=""/>
          <p:cNvPicPr/>
          <p:nvPr/>
        </p:nvPicPr>
        <p:blipFill>
          <a:blip r:embed="rId1"/>
          <a:stretch/>
        </p:blipFill>
        <p:spPr>
          <a:xfrm>
            <a:off x="2278080" y="1143000"/>
            <a:ext cx="5037120" cy="5553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Document Results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1828800" y="762120"/>
            <a:ext cx="6607800" cy="5358240"/>
            <a:chOff x="1828800" y="762120"/>
            <a:chExt cx="6607800" cy="5358240"/>
          </a:xfrm>
        </p:grpSpPr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1863000" y="762120"/>
              <a:ext cx="6535080" cy="314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2"/>
            <a:srcRect l="23637" t="15240" r="4946" b="45287"/>
            <a:stretch/>
          </p:blipFill>
          <p:spPr>
            <a:xfrm>
              <a:off x="1828800" y="3969360"/>
              <a:ext cx="6607800" cy="215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"/>
          <p:cNvSpPr/>
          <p:nvPr/>
        </p:nvSpPr>
        <p:spPr>
          <a:xfrm>
            <a:off x="2019960" y="0"/>
            <a:ext cx="64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Come Visit Our Booth #106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IBIS Models Can Be Awesome !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pic>
        <p:nvPicPr>
          <p:cNvPr id="97" name="lvds_accuracy_125GHz" descr=""/>
          <p:cNvPicPr/>
          <p:nvPr/>
        </p:nvPicPr>
        <p:blipFill>
          <a:blip r:embed="rId1"/>
          <a:stretch/>
        </p:blipFill>
        <p:spPr>
          <a:xfrm>
            <a:off x="0" y="1066680"/>
            <a:ext cx="8991720" cy="578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23940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But Generally IBIS Model Quality is  Poor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384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lnSpc>
                <a:spcPct val="98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97160" y="1446120"/>
            <a:ext cx="6838920" cy="460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24068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IBIS Quality Subcommittee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1218960"/>
            <a:ext cx="77724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Formed 3/02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Charter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Develop a complete checklist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Establish levels of quality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This checklist should serve to be incorporated directly into procurement specs.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Suggest enhancements to IBISCHK 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Goal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Rating system that is easy to understand and adopt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Communicate to vendors/users.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Cover overall file, component, and model section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Check for completeness, correctness, accuracy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Leverage of prior work 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00200" y="239400"/>
            <a:ext cx="723888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IBIS Quality Subcommittee Active participants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>
              <a:lnSpc>
                <a:spcPct val="98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37680" indent="-337680">
              <a:lnSpc>
                <a:spcPct val="90000"/>
              </a:lnSpc>
              <a:spcBef>
                <a:spcPts val="488"/>
              </a:spcBef>
              <a:buClr>
                <a:srgbClr val="336699"/>
              </a:buClr>
              <a:buSzPct val="83000"/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Committee is represented by semiconductor vendors, EDA vendors, and IBIS end-users. 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3368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3368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SiSoft - Barry Katz (Chairman), Robert Haller, Eric Brock, Kevin Fisher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3368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Siemens – Eckhard Lenski, Katja Koller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3368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IBM – Greg Edlund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3368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Cadence – Lynne Green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3368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Apple – John  Figueroa, Kim Helliwell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3368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Mentor – Bob Ross, Hazem Hegazy, Sherif Hammad,  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3368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Cisco – Mike LaBonte, Todd Westerhoff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3368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EMC – Brian Arsenault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3368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Hitachi ULSI Systems – Shoji Kazuyoshi, Nonoyama Sadahiro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3368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Leventhal Design &amp; Communications – Roy Leventhal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3368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Intel – Benjamin Silva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3368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Teraspeed - Tom Dagostino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3368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AMCC  - Peter LaFlamme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  <a:p>
            <a:pPr lvl="1" marL="73368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6699"/>
                </a:solidFill>
                <a:latin typeface="Century Gothic"/>
              </a:rPr>
              <a:t>Fairchild – Adam Tambone</a:t>
            </a:r>
            <a:endParaRPr b="0" lang="en-US" sz="1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24068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IBIS Quality Subcommittee 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1218960"/>
            <a:ext cx="77724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Meets every 2 weeks (Tuesdays 9:00 EDT)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Mailing lis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Ibis-quality@freelists.org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http://www.freelists.org/archives/ibis-quality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Important Web Site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336699"/>
                </a:solidFill>
                <a:uFillTx/>
                <a:latin typeface="Century Gothic"/>
              </a:rPr>
              <a:t>http://www.sisoft.com/ibis-quality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http://www.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sisoft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Century Gothic"/>
                <a:hlinkClick r:id="rId3"/>
              </a:rPr>
              <a:t>.com/ibis-quality/minute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Century Gothic"/>
                <a:hlinkClick r:id="rId4"/>
              </a:rPr>
              <a:t>http://www.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Century Gothic"/>
                <a:hlinkClick r:id="rId5"/>
              </a:rPr>
              <a:t>sisoft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Century Gothic"/>
                <a:hlinkClick r:id="rId6"/>
              </a:rPr>
              <a:t>.com/ibis-quality</a:t>
            </a:r>
            <a:r>
              <a:rPr b="0" lang="en-GB" sz="2000" spc="-1" strike="noStrike" u="sng">
                <a:solidFill>
                  <a:srgbClr val="336699"/>
                </a:solidFill>
                <a:uFillTx/>
                <a:latin typeface="Century Gothic"/>
              </a:rPr>
              <a:t>/doc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Century Gothic"/>
                <a:hlinkClick r:id="rId7"/>
              </a:rPr>
              <a:t>http://www.v</a:t>
            </a:r>
            <a:r>
              <a:rPr b="0" lang="en-GB" sz="2000" spc="-1" strike="noStrike" u="sng">
                <a:solidFill>
                  <a:srgbClr val="336699"/>
                </a:solidFill>
                <a:uFillTx/>
                <a:latin typeface="Century Gothic"/>
              </a:rPr>
              <a:t>hdl.org/pub/ibis/bugs/ibischk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Reviewing and updating documentation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24068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IBIS Quality Example Agenda 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218960"/>
            <a:ext cx="77724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Roll cal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Review of previous meeting minute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Announcement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EIA Call for patent disclosure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Upcoming conference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Action item (AR) review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Open for new item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Detailed documentation review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IQ_Quality_Summary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IQ_General_Header.txt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Plans and schedule for next meeting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38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Status Update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Compiled and published IBIS Quality checklis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http://www.sisoft.com/ibis-quality/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Defined quality level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Level 0 – Passes IBISCHK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Level 1 – Complete and correct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Level 2a, 2b – Correlation: Simulation, Measurement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Century Gothic"/>
              </a:rPr>
              <a:t>Leverage off of IBIS Accuracy Handbook (spec)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Level 3 – All of the above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Submitted multiple IBISCHK enhancement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Submitted IBIS Golden Parser open source proposa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Created, indexed first pass of documentation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Presently working through documentation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38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Century Gothic"/>
              </a:rPr>
              <a:t>IQ_Quality_Summary Example Documentation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8000"/>
              </a:lnSpc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Century Gothic"/>
              </a:rPr>
              <a:t>The IBIS Quality Summary comments must begin with the string '|IQ' (that is, the comment character followed by "IQ" for IBIS Quality).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…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IBISCHK must yield 0 Error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IBISCHK warnings must be explained if they cannot be  elimininated.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Vil/Vih must be defined on receiver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Standard Load/Vmeas must be specified on driver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Overshoots must be defined for drivers and receiver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1240" indent="-284040">
              <a:lnSpc>
                <a:spcPct val="98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  </a:t>
            </a:r>
            <a:r>
              <a:rPr b="0" lang="en-GB" sz="2000" spc="-1" strike="noStrike">
                <a:solidFill>
                  <a:srgbClr val="336699"/>
                </a:solidFill>
                <a:latin typeface="Century Gothic"/>
              </a:rPr>
              <a:t>Checks for correctness and completenes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2" marL="1143000" indent="-228600">
              <a:lnSpc>
                <a:spcPct val="98000"/>
              </a:lnSpc>
              <a:spcBef>
                <a:spcPts val="451"/>
              </a:spcBef>
              <a:buClr>
                <a:srgbClr val="336699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Century Gothic"/>
              </a:rPr>
              <a:t>     </a:t>
            </a:r>
            <a:r>
              <a:rPr b="0" lang="en-GB" sz="1800" spc="-1" strike="noStrike">
                <a:solidFill>
                  <a:srgbClr val="336699"/>
                </a:solidFill>
                <a:latin typeface="Century Gothic"/>
              </a:rPr>
              <a:t>All pins defined and validated for correct 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2" marL="1143000" indent="-228600">
              <a:lnSpc>
                <a:spcPct val="98000"/>
              </a:lnSpc>
              <a:spcBef>
                <a:spcPts val="451"/>
              </a:spcBef>
              <a:buClr>
                <a:srgbClr val="336699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Century Gothic"/>
              </a:rPr>
              <a:t>…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13:46:44Z</dcterms:created>
  <dc:creator>Barry Katz</dc:creator>
  <dc:description/>
  <dc:language>en-US</dc:language>
  <cp:lastModifiedBy>Bob Ross</cp:lastModifiedBy>
  <cp:lastPrinted>2003-01-21T22:10:27Z</cp:lastPrinted>
  <dcterms:modified xsi:type="dcterms:W3CDTF">2003-01-21T22:10:44Z</dcterms:modified>
  <cp:revision>19</cp:revision>
  <dc:subject/>
  <dc:title>IBIS QUALITY COMMITTEE REPORT Barry Katz Signal Integrity Software, Inc. 6 Clock Tower Place – Suite 250 Maynard MA. 01754 978-461-0449 X 19</dc:title>
</cp:coreProperties>
</file>