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B42-1874-4FA7-9ECE-D2E42D76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F12-B9EB-4C9E-A803-5DC2ABDB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F585-E12E-497E-9BFD-DBC073FE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606-A765-4BE7-91C1-4D1F9BCB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25AD-0D5D-4535-8F6C-CB008DF7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319D-7576-49B9-A47B-20CBCD6E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65B6-405F-4A6E-B80F-999ED76F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602D-08C0-4337-9C03-F71E2998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F5D7-DE4F-41DF-994F-1724C84B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C61C-AF1F-4CAE-BDB4-FE92ABC9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C2BD-2932-4810-9D27-B1B8ECE0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9D01-A682-460A-9C0F-67F71CE1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F1C1-1D6F-4E59-A266-91FFA8A0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BB6E-383B-43E5-AF7E-7C8FBF46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7157-9CC2-42A6-8DF2-4C72BA56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2F96-58BE-42AB-90AB-ED21DE16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3E94-98C7-418F-A303-00E9A99D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D8D3-8D30-45A1-9CC8-2481A27E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CB98-3708-4A6F-A551-AB526F4F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4B3D-8BCF-4F18-9481-0680A4DF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4197-7CA0-41FC-AC2C-39D418FE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147-5B2F-448D-9247-05266FFE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9A53-84FB-4315-A6A6-6C1BFDCE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7E58-968F-45FE-9856-0CDA6540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IBIS Summit Date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E240-B64A-4F97-9204-4A212AE6152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ECF3-BFBC-4BC6-9160-103412477E8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BAB5-4EF6-4CA5-8EA9-C9DCE18C490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da.org/pub/ibis/ver4.0_wip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BIS Activity Repor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tephen Peters,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tel Corp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verview of Current Activi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BIS version 4.0 is ready for revie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raft copy is on IBIS website,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eda.org/pub/ibis/ver4.0_wip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BIS Connector spec has expanded to include general purpose interconne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xpect revision 1.0 of the .icm specification to be available for review by June of this year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ew proposal from Mentor Graphics to extend IBIS modeling capabil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s proposal supercedes IBIS-X and the macro language work that was being done by the futures committe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uch work on extending IBIS into the EMC/EMI worl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oth Innoveda and INSA are pursuing proposal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del Quality Group has form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arry Katz of SiSoft is cha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FF2A-F61A-4D63-99F3-72CA8FB431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BIS Version 4.0 – 10 more bi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IRD62.6 - Receiver Threshold spec extens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[Receiver Thresholds] -Vinh/l_ac/dc and differential thresholds offsets from Vth, Tslew, sensitivi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[External Reference] - External voltage refere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IRD64.4 - [Alternate Package Models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IRD65.2 - C_comp split to any four voltage referen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IRD66, BIRD71 [Model Spec] addi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1 Timing test load subparameter extensions, PCI, PCI-X support (separate rising, falling load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IRD67 - 1000 V-T li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DAF3-64E8-4903-A6B7-DD0F03BBDD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BIS 4.0 Bird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RD68.1 - Clarify V-T table rising and falling edges align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RD70.5 - Golden Wavefor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[Test Data], [Test Load], and other keywords and subparameters to define golden waveforms (near, far, single-ended, differential, typ/min/max) and general test load circui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RD72.3 - PMOS/NMOS series switch mode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xtends definition of series MOSFET to PMOS, NMOS and combinations - no syntax chang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RD73.4 - Fall Back submod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dds the Fall_back submodel for AVC technolog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larification and corrections to Bus_hold submod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DF63-8F42-40EB-B095-B6E4031F29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BIS 4.0 Ratification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view copy uploaded under “Ver 4.0 Work In Progress” link of IBIS home p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mittee review/vote on Version 4.0 to stabilize syntax and resolve any interaction issu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rt ibischk4 parser project - another review and possible clarification BI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mittee review/vote Version 4.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ckage and submit for EIA letter ballo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 months review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spond formally to commen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successful, ratify as ANSI/EIA-656-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3FB-630F-4292-AF0A-A7F5F8E9BC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BIS Connector &amp; Futures Grou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nector spec has undergone extensive revie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eywords simplified, syntax made to conform to IBIS “standards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icm now supports frequency dependent matrixes, loss and S-parameter matrixes (Touchstone® forma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wo keywords are being added to support general purpose interconnect (package model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pect to see revision 1.0 in June of this ye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tures Committee has archived work on IBIS-X and IBIS-ML (macro languag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centrating now on reviewing &amp; vetting Mentor’s “multi-lingual modeling proposal”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8ADF-F923-4C84-91B6-8558ED00BA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Initia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MI/EMC work continu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CEM specification is now available, see today’s presenta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uy Deburg (Innoveda) is working on a proposal for EMI parameters to be added to IBIS.  See Jan. ’02 summit presentation for detail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l Quality Group Form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ral presentations (SiQual and others) at the Jan. ’02 summit highlighted model quality issu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fficial working group under Barry Katz formed to address issu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Provide methods to generate accurate models</a:t>
            </a:r>
            <a:endParaRPr b="0" i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Create metrics to quantify model quality</a:t>
            </a:r>
            <a:endParaRPr b="0" i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One possible result is an agreed standard</a:t>
            </a:r>
            <a:endParaRPr b="0" i="1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D3E4-DAF6-4407-85F4-9FCF01C764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5T23:57:15Z</dcterms:created>
  <dc:creator>sjpeters</dc:creator>
  <dc:description/>
  <dc:language>en-US</dc:language>
  <cp:lastModifiedBy>sjpeters</cp:lastModifiedBy>
  <dcterms:modified xsi:type="dcterms:W3CDTF">2002-03-05T20:53:50Z</dcterms:modified>
  <cp:revision>59</cp:revision>
  <dc:subject/>
  <dc:title>IBIS Futures Group  Update on IBIS-X</dc:title>
</cp:coreProperties>
</file>