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11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22.wmf" ContentType="image/x-wmf"/>
  <Override PartName="/ppt/media/image19.png" ContentType="image/png"/>
  <Override PartName="/ppt/media/image1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wmf" ContentType="image/x-wmf"/>
  <Override PartName="/ppt/media/image3.wmf" ContentType="image/x-wmf"/>
  <Override PartName="/ppt/media/image4.jpeg" ContentType="image/jpeg"/>
  <Override PartName="/ppt/media/image2.png" ContentType="image/png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2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" y="6434280"/>
            <a:ext cx="37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 Summit meeting /PARIS, March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log1" descr=""/>
          <p:cNvPicPr/>
          <p:nvPr/>
        </p:nvPicPr>
        <p:blipFill>
          <a:blip r:embed="rId2"/>
          <a:stretch/>
        </p:blipFill>
        <p:spPr>
          <a:xfrm>
            <a:off x="6854760" y="144360"/>
            <a:ext cx="20606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477120" y="62485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791320" y="6450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RIN Jean Claude / HUET Cla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1800" y="9036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EC 62014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333440" y="198360"/>
            <a:ext cx="2057400" cy="48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204440" y="64692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3AE-DDE4-4EB4-AF1D-D01C91454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14480" y="61920"/>
          <a:ext cx="990360" cy="79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480" y="61920"/>
                    <a:ext cx="9903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ou%20de%20Bassan%201%20ICEM%20" descr=""/>
          <p:cNvPicPr/>
          <p:nvPr/>
        </p:nvPicPr>
        <p:blipFill>
          <a:blip r:embed="rId1"/>
          <a:stretch/>
        </p:blipFill>
        <p:spPr>
          <a:xfrm>
            <a:off x="260280" y="911160"/>
            <a:ext cx="8680680" cy="54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89160" y="2728800"/>
            <a:ext cx="53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ntegrated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ircuits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lectromagnetic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19280" y="530064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C 62014 – 3 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4120" y="1038240"/>
          <a:ext cx="44308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038240"/>
                    <a:ext cx="44308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84120" y="3200400"/>
          <a:ext cx="6435720" cy="32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3200400"/>
                    <a:ext cx="643572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419800" y="170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1840" y="170964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lines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08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4080" y="40417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s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76280" y="2143080"/>
            <a:ext cx="83548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CEM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IMPLEMEN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N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BIS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11066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URRENT GENERATOR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ib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71800" cy="396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52680" y="1981080"/>
            <a:ext cx="4953240" cy="39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b genera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Cb capaci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_pkg          2.045e-13     8.363e-14     3.75e-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Vdd Vss Pi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b curr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riab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b (mA)     1     10     50   100  80   60   40   2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  (nS)         .5      1    1.5   2   2.5     3   3.5   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Frequenc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(MHz)             13          6            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071720"/>
            <a:ext cx="84708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CEM in IBIS-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IBIS mark-up language (IBIS-X) makes ICEM implementation very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2534760"/>
            <a:ext cx="8557920" cy="3561840"/>
            <a:chOff x="304920" y="2534760"/>
            <a:chExt cx="8557920" cy="3561840"/>
          </a:xfrm>
        </p:grpSpPr>
        <p:pic>
          <p:nvPicPr>
            <p:cNvPr id="84" name="ibisML" descr=""/>
            <p:cNvPicPr/>
            <p:nvPr/>
          </p:nvPicPr>
          <p:blipFill>
            <a:blip r:embed="rId1"/>
            <a:stretch/>
          </p:blipFill>
          <p:spPr>
            <a:xfrm>
              <a:off x="304920" y="2535120"/>
              <a:ext cx="4443120" cy="1731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5" name=""/>
            <p:cNvSpPr/>
            <p:nvPr/>
          </p:nvSpPr>
          <p:spPr>
            <a:xfrm>
              <a:off x="5052960" y="2534760"/>
              <a:ext cx="3809880" cy="3561840"/>
            </a:xfrm>
            <a:prstGeom prst="rect">
              <a:avLst/>
            </a:prstGeom>
            <a:solidFill>
              <a:srgbClr val="faf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define model] IC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| on chip ca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capacitor c_dec (vcc vss) C=5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| Serial supply resist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resistor r_vdd (vcc vcc_int) R=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resistor r_vss (vss vss_int) R=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| curr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Ib (vcc_int vss_int) I=It(TI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It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time I(ty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0.0 0.3e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0.1e-9 0.3e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0.2e-9 0.5e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0.3e-9 0.8e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end It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end define model] IC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26000" y="4360320"/>
              <a:ext cx="3015360" cy="1554120"/>
            </a:xfrm>
            <a:prstGeom prst="rect">
              <a:avLst/>
            </a:prstGeom>
            <a:solidFill>
              <a:srgbClr val="faf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Call of the user-defined model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begin header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ibis-ml version] 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filename] mpc755.i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data] Nov 27,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model] IC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end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4480" y="5430960"/>
              <a:ext cx="1295280" cy="304560"/>
            </a:xfrm>
            <a:prstGeom prst="ellipse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52880" y="4897440"/>
              <a:ext cx="1000080" cy="304920"/>
            </a:xfrm>
            <a:prstGeom prst="rightArrow">
              <a:avLst>
                <a:gd name="adj1" fmla="val 50000"/>
                <a:gd name="adj2" fmla="val 81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2692440"/>
            <a:ext cx="835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CEM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VALID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0960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ODEL VER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1764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Times New Roman"/>
              </a:rPr>
              <a:t>IERSE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11360" y="2762280"/>
            <a:ext cx="7771680" cy="2833200"/>
            <a:chOff x="711360" y="2762280"/>
            <a:chExt cx="7771680" cy="2833200"/>
          </a:xfrm>
        </p:grpSpPr>
        <p:grpSp>
          <p:nvGrpSpPr>
            <p:cNvPr id="93" name=""/>
            <p:cNvGrpSpPr/>
            <p:nvPr/>
          </p:nvGrpSpPr>
          <p:grpSpPr>
            <a:xfrm>
              <a:off x="711360" y="2762280"/>
              <a:ext cx="7771680" cy="2833200"/>
              <a:chOff x="711360" y="2762280"/>
              <a:chExt cx="7771680" cy="2833200"/>
            </a:xfrm>
          </p:grpSpPr>
          <p:sp>
            <p:nvSpPr>
              <p:cNvPr id="94" name=""/>
              <p:cNvSpPr/>
              <p:nvPr/>
            </p:nvSpPr>
            <p:spPr>
              <a:xfrm>
                <a:off x="1987200" y="3574440"/>
                <a:ext cx="5136840" cy="18478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3247200" y="4025880"/>
              <a:ext cx="2462400" cy="1104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47200" y="4025880"/>
                        <a:ext cx="2462400" cy="110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7" name=""/>
              <p:cNvGraphicFramePr/>
              <p:nvPr/>
            </p:nvGraphicFramePr>
            <p:xfrm>
              <a:off x="5680800" y="3000960"/>
              <a:ext cx="2142360" cy="797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80800" y="3000960"/>
                        <a:ext cx="2142360" cy="79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" name=""/>
              <p:cNvGraphicFramePr/>
              <p:nvPr/>
            </p:nvGraphicFramePr>
            <p:xfrm>
              <a:off x="736560" y="4614840"/>
              <a:ext cx="1964520" cy="670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36560" y="4614840"/>
                        <a:ext cx="1964520" cy="67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1" name=""/>
              <p:cNvGraphicFramePr/>
              <p:nvPr/>
            </p:nvGraphicFramePr>
            <p:xfrm>
              <a:off x="3790080" y="2762280"/>
              <a:ext cx="1446840" cy="9046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790080" y="2762280"/>
                        <a:ext cx="1446840" cy="90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3" name=""/>
              <p:cNvSpPr/>
              <p:nvPr/>
            </p:nvSpPr>
            <p:spPr>
              <a:xfrm>
                <a:off x="5815800" y="4630320"/>
                <a:ext cx="2667240" cy="66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42000" y="4681080"/>
                <a:ext cx="2501640" cy="7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6153840" y="5320440"/>
                <a:ext cx="1430640" cy="27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TOULO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1360" y="5199120"/>
                <a:ext cx="2021760" cy="27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VEDEO Automo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7" name=""/>
            <p:cNvGraphicFramePr/>
            <p:nvPr/>
          </p:nvGraphicFramePr>
          <p:xfrm>
            <a:off x="1286280" y="2923200"/>
            <a:ext cx="1121760" cy="1102320"/>
          </p:xfrm>
          <a:graphic>
            <a:graphicData uri="http://schemas.openxmlformats.org/presentationml/2006/ole">
              <p:oleObj progId="Word.Document.12" r:id="rId10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286280" y="2923200"/>
                      <a:ext cx="1121760" cy="11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4256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93760" y="2031840"/>
            <a:ext cx="69976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9820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1673280"/>
            <a:ext cx="8305560" cy="4279320"/>
            <a:chOff x="304920" y="1673280"/>
            <a:chExt cx="8305560" cy="4279320"/>
          </a:xfrm>
        </p:grpSpPr>
        <p:sp>
          <p:nvSpPr>
            <p:cNvPr id="113" name=""/>
            <p:cNvSpPr/>
            <p:nvPr/>
          </p:nvSpPr>
          <p:spPr>
            <a:xfrm>
              <a:off x="610200" y="1673280"/>
              <a:ext cx="693324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Validation for the core &amp; I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3720" y="2709720"/>
              <a:ext cx="2066760" cy="29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spcBef>
                  <a:spcPts val="601"/>
                </a:spcBef>
                <a:buClr>
                  <a:srgbClr val="0033cc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Model fits correctly up to 800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2200" indent="-322200">
                <a:spcBef>
                  <a:spcPts val="601"/>
                </a:spcBef>
                <a:buClr>
                  <a:srgbClr val="0033cc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2200" indent="-322200">
                <a:spcBef>
                  <a:spcPts val="601"/>
                </a:spcBef>
                <a:buClr>
                  <a:srgbClr val="0033cc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At high frequencies, IO effects domin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TemEmission" descr=""/>
            <p:cNvPicPr/>
            <p:nvPr/>
          </p:nvPicPr>
          <p:blipFill>
            <a:blip r:embed="rId1"/>
            <a:stretch/>
          </p:blipFill>
          <p:spPr>
            <a:xfrm>
              <a:off x="304920" y="2124000"/>
              <a:ext cx="6238800" cy="38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0335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RECT IC RADIATION</a:t>
            </a:r>
            <a:br>
              <a:rPr sz="2800"/>
            </a:br>
            <a:br>
              <a:rPr sz="2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RRELATION BASED ON TEM CELL MEASU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6880" y="2162160"/>
          <a:ext cx="3699000" cy="39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880" y="2162160"/>
                    <a:ext cx="369900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0560" y="2162160"/>
          <a:ext cx="4573440" cy="37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0560" y="2162160"/>
                    <a:ext cx="45734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523880" y="601020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M CE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08840" y="595008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76280" y="2692440"/>
            <a:ext cx="835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CEM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’S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OK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95320" y="1674720"/>
            <a:ext cx="7864560" cy="42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E EMC  task force and program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model technical basis, technical 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implementation in IBIS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cook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95868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10340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OK BOOK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6000" y="1968120"/>
            <a:ext cx="87120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TE TEAM WORKING ON COOK BOO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COMPLETED 1st JULY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5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DIV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JECT IN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MEDEA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”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RIBUTOR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: EADS CRC, INSA, 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ICE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 TO SIMULATE COMPLEX PCB LAY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LIDATE  THE COOK BOOK (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TRACTION BASED ON COOK BOOK PROCESS)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913200" y="3370320"/>
          <a:ext cx="5002200" cy="28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3200" y="3370320"/>
                    <a:ext cx="50022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19040" y="2530440"/>
          <a:ext cx="4076640" cy="369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2530440"/>
                    <a:ext cx="4076640" cy="36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METERS EXTRACTION BASED ON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987480"/>
            <a:ext cx="7772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OK BOOK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6280" y="2692440"/>
            <a:ext cx="835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12960" y="976320"/>
            <a:ext cx="57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1631880"/>
            <a:ext cx="8089920" cy="32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C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gives a  capability to simulate EMC due to internal activity and of I/Os nois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C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el is easy to add as a modification or add in the files of usual standards like 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C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el parameters can be  obtained by measurement (cook book)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data are not available from ICs manufacture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C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 easily implemented in commercial simul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iseau%201%20ICEM%202" descr=""/>
          <p:cNvPicPr/>
          <p:nvPr/>
        </p:nvPicPr>
        <p:blipFill>
          <a:blip r:embed="rId1"/>
          <a:stretch/>
        </p:blipFill>
        <p:spPr>
          <a:xfrm>
            <a:off x="3505320" y="4900680"/>
            <a:ext cx="2514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79320" y="2922480"/>
            <a:ext cx="769140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UTE  EMC  TASK 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ND  PROGRAM 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1960" y="1744560"/>
            <a:ext cx="8623440" cy="45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RIN Jean Claude       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ET Cla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AIRBUS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ANT Jean Lu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AT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OT Christia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IEMENS VEDEO Automo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URICE Oliv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A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RAUD Rich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ADS C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INTOT  Pier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T MICRO ELECTR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BEYRAN Amau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ADS C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ARD Etienne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DANI Moham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S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33600" y="94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T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19520" y="1066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7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3440" y="1523880"/>
            <a:ext cx="839772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4  : WORKING GROUP  UTE/CEF 93GT5 E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06 / 1997 : IEC 93 / 67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8 : DATE 98 / INTERNATIONAL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00 : DATE 2000 / IEC INTERNATIONAL  EXPERTS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3 / 2001 : IEC 62014 - 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V proposal sent to I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tandard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3 / 2001 : DATE 2001 MUNICH IBIS SUMMIT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DV93-146" descr=""/>
          <p:cNvPicPr/>
          <p:nvPr/>
        </p:nvPicPr>
        <p:blipFill>
          <a:blip r:embed="rId1"/>
          <a:stretch/>
        </p:blipFill>
        <p:spPr>
          <a:xfrm>
            <a:off x="4572000" y="3311640"/>
            <a:ext cx="4259160" cy="2612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59" name="Oiseau%201%20ICEM%202" descr=""/>
          <p:cNvPicPr/>
          <p:nvPr/>
        </p:nvPicPr>
        <p:blipFill>
          <a:blip r:embed="rId2"/>
          <a:stretch/>
        </p:blipFill>
        <p:spPr>
          <a:xfrm>
            <a:off x="1219320" y="4532400"/>
            <a:ext cx="2514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7080" y="1246320"/>
            <a:ext cx="79552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C 62014-3 DOCUMENT COMPLETION AND IEC APPRO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TA CLARA PRESENTATION (End of JANUARY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K BOOK UNDE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2002 PARIS IBIS SUMMIT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9880" y="5326560"/>
            <a:ext cx="791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ICEM and cookbook documents available on the UTE we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www.ute-f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63480" y="1461960"/>
            <a:ext cx="76201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CEM 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ntegrated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rcuits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lectromagnetic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ECHNICAL BA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ECHNICAL REM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ECTROMAGNETIC AND HF NOIS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807732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wer supply lines emi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activity in different modules (Internal/periph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frequency current through packag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/O connections noise emis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due to output fast signals and package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upling through package to the other I/O 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upling through package to other pow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C Direct emis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Bonding and metal die conne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1200" y="1727280"/>
            <a:ext cx="6096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echanisms for parasitic emi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overed by ICE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960" y="2838600"/>
            <a:ext cx="5811840" cy="33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6535800" y="2108160"/>
          <a:ext cx="2044800" cy="155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35800" y="2108160"/>
                    <a:ext cx="2044800" cy="1550880"/>
                  </a:xfrm>
                  <a:prstGeom prst="rect">
                    <a:avLst/>
                  </a:prstGeom>
                  <a:ln w="1260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337440" y="1118160"/>
            <a:ext cx="224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Origin of parasitic emission in C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gat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8:05:46Z</dcterms:created>
  <dc:creator>AT2CHMA3</dc:creator>
  <dc:description/>
  <dc:language>en-US</dc:language>
  <cp:lastModifiedBy>TIF</cp:lastModifiedBy>
  <cp:lastPrinted>2002-03-04T18:08:29Z</cp:lastPrinted>
  <dcterms:modified xsi:type="dcterms:W3CDTF">2002-03-05T14:41:20Z</dcterms:modified>
  <cp:revision>189</cp:revision>
  <dc:subject/>
  <dc:title>No Slide Title</dc:title>
</cp:coreProperties>
</file>