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DA56-03BB-4407-9A6A-C2E2D1F9A38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obvious errors in IBIS files are for instance are invalid pin count, not referenced but included buffers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an overview is given on component(s) as well as buffer mode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he number of downloads shows the interest in and need of such an utilit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because ibisinf is based on the IBIS Golden Parser, the tool does all the things (syntax, semantics checks) which ibischk3 do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ives rough but fast overview 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nent data in an IBIS file; -c option to extract this inf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ives rough but fast overview 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odel data in an IBIS file; -m option get model data;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) the latest Golden Parser is now integrated which has improved semantics check and some errors remove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) most important is now the ability to extract tables from ibis files in a sreadsheet compliant format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this has been realized on customer request to be able to process VT/VI curves further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the table values are delimited by tabs by default; -t option to do so (additional in this context, –d allows to specify the delimiter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m –t extracts all tables of all available models from the IBIS file; to just extract tables of a particular mode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all ibisinf –m &lt;buffername&gt; -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in the spreadsheet tool it should be possible to select the table of interest, and to visualize its data graphicall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readsheet application should allow graphical data manipulation (just move points with mouse); the raw table valu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re changed accordingl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save the file in spreadsheet app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en IBIS model and tables file in ASCII editor; cut out corrected table section and replace faulty one in IBIS fi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n ibisinf again on the IBIS file to ensure model correc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6836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77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133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77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133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29A-EAA0-47CC-BEA1-46329DB2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A504-4DF6-436F-91AE-5D035B6A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C51-B3CF-4709-BBB1-7C865957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40A9-9A83-4650-B5C7-2A67C621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ECB-BE94-45C8-9782-99882A30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302400"/>
            <a:ext cx="795168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5E1-871D-4AEA-96F0-CD8A4CEF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0B5-D3E1-4BBB-907F-199DA1B5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6836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889-BB3E-40E3-8A25-DA027608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5B41-5C3A-4A65-817F-95D5E6EC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60F-58B4-4B11-BE61-74D37B73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6836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F3B-F250-4438-82D2-F50F9D01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377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133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377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133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58D6-209E-49AA-80AF-9EC45861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62120" y="302400"/>
            <a:ext cx="795168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6836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33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3399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91320" y="259092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8DD7-2D70-49A5-BBEE-D9F3302B63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cc33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cc33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3399"/>
              </a:buClr>
              <a:buSzPct val="4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cc339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3399"/>
              </a:buClr>
              <a:buSzPct val="3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cc33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cc33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cc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48320" y="3352680"/>
            <a:ext cx="1066680" cy="1905120"/>
          </a:xfrm>
          <a:custGeom>
            <a:avLst/>
            <a:gdLst/>
            <a:ahLst/>
            <a:rect l="l" t="t" r="r" b="b"/>
            <a:pathLst>
              <a:path w="672" h="1200">
                <a:moveTo>
                  <a:pt x="672" y="0"/>
                </a:moveTo>
                <a:lnTo>
                  <a:pt x="480" y="0"/>
                </a:lnTo>
                <a:lnTo>
                  <a:pt x="336" y="624"/>
                </a:lnTo>
                <a:lnTo>
                  <a:pt x="0" y="1200"/>
                </a:lnTo>
                <a:lnTo>
                  <a:pt x="288" y="1200"/>
                </a:lnTo>
                <a:lnTo>
                  <a:pt x="480" y="672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86400" y="1600200"/>
            <a:ext cx="3276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99"/>
                </a:solidFill>
                <a:latin typeface="Arial"/>
              </a:rPr>
              <a:t>Update on Zuken’s ibisinf Utility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409720" y="3657240"/>
            <a:ext cx="3124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xander L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   Michael Sch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4952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4543560"/>
            <a:ext cx="4876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© 2002 Zuken GmbH, EMC Technology Center, Vattmanstr. 3, D-33100 Paderborn, German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Email:  alexander.loehr@zuken.d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michael.schaeder@zuken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41560"/>
            <a:ext cx="7951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Short Outline of ibisinf History</a:t>
            </a:r>
            <a:endParaRPr b="0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bisinf was born to simplify detection of common obvious errors and to get a fast overview on IBIS file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presented on the European IBIS Summit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arch 2001 in Munich, Germany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NT, Win2k, Solaris, HP-UX and Linux from http://www.zuken.com/ibis/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400 downloads since March 200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41560"/>
            <a:ext cx="7951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Use ibisinf to 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xamine 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odels</a:t>
            </a:r>
            <a:endParaRPr b="0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syntax and semantics equal to ibischk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s component information lik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, #pins, #models, assigned models, package data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ffer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characteristics lik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, type, polarity, voltage range, reference conditions, static characteristics, rising and falling wavefor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based on latest IBIS Golden Parser V3.2.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s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l waveforms in spreadsheet form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4495680"/>
            <a:ext cx="904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EW</a:t>
            </a:r>
            <a:endParaRPr b="0" lang="en-US" sz="2800" spc="1" strike="noStrike">
              <a:ln w="9360">
                <a:solidFill>
                  <a:srgbClr val="ffcc99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41560"/>
            <a:ext cx="7951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How to 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Visualize or Correct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Curves</a:t>
            </a:r>
            <a:endParaRPr b="0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820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cc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bisinf on IBIS model file to get overview on contents, and perhaps on proble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cc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waveform from IBIS file by calling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bisinf example.ibs –m –t &gt; ex_tbls.t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cc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 table-file into spreadsheet appl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cc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the waveform with caution in a reasonable w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cc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modified table back into a f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cc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given waveform in IBIS file with modified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eferred ASCII edi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cc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bisinf again to verify model chan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8T17:13:09Z</dcterms:created>
  <dc:creator>Mark Knight</dc:creator>
  <dc:description/>
  <dc:language>en-US</dc:language>
  <cp:lastModifiedBy>mic</cp:lastModifiedBy>
  <dcterms:modified xsi:type="dcterms:W3CDTF">2002-03-01T16:41:55Z</dcterms:modified>
  <cp:revision>16</cp:revision>
  <dc:subject/>
  <dc:title>Arial 28, align with arrow</dc:title>
</cp:coreProperties>
</file>