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71892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1616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1"/>
          </p:nvPr>
        </p:nvSpPr>
        <p:spPr>
          <a:xfrm>
            <a:off x="4073400" y="-36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219320" y="714240"/>
            <a:ext cx="4749840" cy="356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956880" y="4513320"/>
            <a:ext cx="5273640" cy="4271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2"/>
          </p:nvPr>
        </p:nvSpPr>
        <p:spPr>
          <a:xfrm>
            <a:off x="0" y="9024480"/>
            <a:ext cx="311616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3"/>
          </p:nvPr>
        </p:nvSpPr>
        <p:spPr>
          <a:xfrm>
            <a:off x="4073400" y="9024480"/>
            <a:ext cx="311472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F4A064E-233A-4563-B051-0D1D0A5C1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19320" y="714240"/>
            <a:ext cx="4749840" cy="35625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56880" y="4513320"/>
            <a:ext cx="5273640" cy="42717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899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828440" y="3904920"/>
            <a:ext cx="6899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64000" y="167616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828440" y="390492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64000" y="390492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2221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161240" y="1676160"/>
            <a:ext cx="2221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93680" y="1676160"/>
            <a:ext cx="2221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828440" y="3904920"/>
            <a:ext cx="2221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161240" y="3904920"/>
            <a:ext cx="2221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493680" y="3904920"/>
            <a:ext cx="2221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828440" y="1676160"/>
            <a:ext cx="6899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899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366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64000" y="1676160"/>
            <a:ext cx="3366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828440" y="304920"/>
            <a:ext cx="689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64000" y="1676160"/>
            <a:ext cx="3366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828440" y="390492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828440" y="1676160"/>
            <a:ext cx="6899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366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364000" y="167616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64000" y="390492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64000" y="167616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828440" y="3904920"/>
            <a:ext cx="6899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899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828440" y="3904920"/>
            <a:ext cx="6899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64000" y="167616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828440" y="390492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364000" y="390492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2221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161240" y="1676160"/>
            <a:ext cx="2221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93680" y="1676160"/>
            <a:ext cx="2221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828440" y="3904920"/>
            <a:ext cx="2221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4161240" y="3904920"/>
            <a:ext cx="2221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493680" y="3904920"/>
            <a:ext cx="2221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899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366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64000" y="1676160"/>
            <a:ext cx="3366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828440" y="304920"/>
            <a:ext cx="6899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64000" y="1676160"/>
            <a:ext cx="3366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440" y="390492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366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64000" y="167616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64000" y="390492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64000" y="1676160"/>
            <a:ext cx="33667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828440" y="3904920"/>
            <a:ext cx="6899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828440" y="1676160"/>
            <a:ext cx="6899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62120" y="0"/>
            <a:ext cx="7481880" cy="1143000"/>
          </a:xfrm>
          <a:prstGeom prst="rect">
            <a:avLst/>
          </a:prstGeom>
          <a:solidFill>
            <a:srgbClr val="ff9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" name="Logo_grau_auf_gelb" descr=""/>
          <p:cNvPicPr/>
          <p:nvPr/>
        </p:nvPicPr>
        <p:blipFill>
          <a:blip r:embed="rId2"/>
          <a:stretch/>
        </p:blipFill>
        <p:spPr>
          <a:xfrm>
            <a:off x="7448400" y="277920"/>
            <a:ext cx="1301760" cy="2556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 rot="16200000">
            <a:off x="6743520" y="4076280"/>
            <a:ext cx="4496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Siemens Sans"/>
              </a:rPr>
              <a:t>Cpd_paris.ppt  08.03.2002   Page </a:t>
            </a:r>
            <a:fld id="{DDBD8FB4-A101-43F3-8EF8-C592D1D37948}" type="slidenum">
              <a:rPr b="0" lang="en-US" sz="1000" spc="-1" strike="noStrike">
                <a:solidFill>
                  <a:srgbClr val="5f5f5f"/>
                </a:solidFill>
                <a:latin typeface="Siemens Sans"/>
              </a:rPr>
              <a:t>&lt;number&gt;</a:t>
            </a:fld>
            <a:r>
              <a:rPr b="0" lang="en-US" sz="1000" spc="-1" strike="noStrike">
                <a:solidFill>
                  <a:srgbClr val="5f5f5f"/>
                </a:solidFill>
                <a:latin typeface="Siemens Sans"/>
              </a:rPr>
              <a:t>/11   Katja Koller ICN WN OP TDC TC3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62120" y="6477120"/>
            <a:ext cx="74818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828800" y="6541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3366"/>
                </a:solidFill>
                <a:latin typeface="Arial"/>
              </a:rPr>
              <a:t>Information and Communication Network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77120"/>
            <a:ext cx="166212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541920"/>
            <a:ext cx="342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Crossbar-current from CMOS-Ibis-Model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87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9,8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0968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5,4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754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,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137160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7,6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27600" y="-3049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0,9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457200" y="1039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6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-457200" y="332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0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457200" y="63738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8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0" y="0"/>
            <a:ext cx="1662120" cy="11430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87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9,82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5,46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5452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,08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-2998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7,64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27600" y="-3049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10,91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457200" y="1039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6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457200" y="332568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0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457200" y="637380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8,00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666800" cy="6864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855960"/>
            <a:ext cx="166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ffffff"/>
                </a:solidFill>
                <a:latin typeface="Arial"/>
              </a:rPr>
              <a:t>Information</a:t>
            </a:r>
            <a:br>
              <a:rPr sz="1200"/>
            </a:br>
            <a:r>
              <a:rPr b="0" sz="1200" spc="-1" strike="noStrike">
                <a:solidFill>
                  <a:srgbClr val="ffffff"/>
                </a:solidFill>
                <a:latin typeface="Arial"/>
              </a:rPr>
              <a:t>and Communication Network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572000"/>
            <a:ext cx="9144000" cy="1143000"/>
          </a:xfrm>
          <a:prstGeom prst="rect">
            <a:avLst/>
          </a:prstGeom>
          <a:solidFill>
            <a:srgbClr val="ff9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61760" y="457164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019920" y="3429000"/>
            <a:ext cx="2437920" cy="388800"/>
            <a:chOff x="6019920" y="3429000"/>
            <a:chExt cx="2437920" cy="388800"/>
          </a:xfrm>
        </p:grpSpPr>
        <p:sp>
          <p:nvSpPr>
            <p:cNvPr id="67" name=""/>
            <p:cNvSpPr/>
            <p:nvPr/>
          </p:nvSpPr>
          <p:spPr>
            <a:xfrm>
              <a:off x="8165520" y="3429000"/>
              <a:ext cx="29232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2"/>
                  </a:lnTo>
                  <a:lnTo>
                    <a:pt x="1894" y="622"/>
                  </a:lnTo>
                  <a:lnTo>
                    <a:pt x="1894" y="622"/>
                  </a:lnTo>
                  <a:lnTo>
                    <a:pt x="1639" y="536"/>
                  </a:lnTo>
                  <a:lnTo>
                    <a:pt x="1393" y="484"/>
                  </a:lnTo>
                  <a:lnTo>
                    <a:pt x="1171" y="467"/>
                  </a:lnTo>
                  <a:lnTo>
                    <a:pt x="1171" y="467"/>
                  </a:lnTo>
                  <a:lnTo>
                    <a:pt x="947" y="498"/>
                  </a:lnTo>
                  <a:lnTo>
                    <a:pt x="806" y="579"/>
                  </a:lnTo>
                  <a:lnTo>
                    <a:pt x="757" y="694"/>
                  </a:lnTo>
                  <a:lnTo>
                    <a:pt x="757" y="694"/>
                  </a:lnTo>
                  <a:lnTo>
                    <a:pt x="776" y="786"/>
                  </a:lnTo>
                  <a:lnTo>
                    <a:pt x="852" y="85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717" y="1277"/>
                  </a:lnTo>
                  <a:lnTo>
                    <a:pt x="1883" y="1409"/>
                  </a:lnTo>
                  <a:lnTo>
                    <a:pt x="2004" y="1562"/>
                  </a:lnTo>
                  <a:lnTo>
                    <a:pt x="2078" y="1739"/>
                  </a:lnTo>
                  <a:lnTo>
                    <a:pt x="2103" y="1944"/>
                  </a:lnTo>
                  <a:lnTo>
                    <a:pt x="2103" y="1944"/>
                  </a:lnTo>
                  <a:lnTo>
                    <a:pt x="2081" y="2120"/>
                  </a:lnTo>
                  <a:lnTo>
                    <a:pt x="2019" y="2278"/>
                  </a:lnTo>
                  <a:lnTo>
                    <a:pt x="1919" y="2419"/>
                  </a:lnTo>
                  <a:lnTo>
                    <a:pt x="1783" y="2540"/>
                  </a:lnTo>
                  <a:lnTo>
                    <a:pt x="1614" y="2639"/>
                  </a:lnTo>
                  <a:lnTo>
                    <a:pt x="1415" y="2712"/>
                  </a:lnTo>
                  <a:lnTo>
                    <a:pt x="1187" y="2758"/>
                  </a:lnTo>
                  <a:lnTo>
                    <a:pt x="935" y="2773"/>
                  </a:lnTo>
                  <a:lnTo>
                    <a:pt x="935" y="2773"/>
                  </a:lnTo>
                  <a:lnTo>
                    <a:pt x="732" y="2767"/>
                  </a:lnTo>
                  <a:lnTo>
                    <a:pt x="512" y="2749"/>
                  </a:lnTo>
                  <a:lnTo>
                    <a:pt x="284" y="2716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353" y="2210"/>
                  </a:lnTo>
                  <a:lnTo>
                    <a:pt x="632" y="2261"/>
                  </a:lnTo>
                  <a:lnTo>
                    <a:pt x="882" y="2278"/>
                  </a:lnTo>
                  <a:lnTo>
                    <a:pt x="882" y="2278"/>
                  </a:lnTo>
                  <a:lnTo>
                    <a:pt x="1124" y="2246"/>
                  </a:lnTo>
                  <a:lnTo>
                    <a:pt x="1273" y="2161"/>
                  </a:lnTo>
                  <a:lnTo>
                    <a:pt x="1324" y="2043"/>
                  </a:lnTo>
                  <a:lnTo>
                    <a:pt x="1324" y="2043"/>
                  </a:lnTo>
                  <a:lnTo>
                    <a:pt x="1304" y="1952"/>
                  </a:lnTo>
                  <a:lnTo>
                    <a:pt x="1246" y="1874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375" y="1460"/>
                  </a:lnTo>
                  <a:lnTo>
                    <a:pt x="207" y="1330"/>
                  </a:lnTo>
                  <a:lnTo>
                    <a:pt x="90" y="1178"/>
                  </a:lnTo>
                  <a:lnTo>
                    <a:pt x="22" y="1002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7"/>
                  </a:lnTo>
                  <a:lnTo>
                    <a:pt x="175" y="330"/>
                  </a:lnTo>
                  <a:lnTo>
                    <a:pt x="305" y="214"/>
                  </a:lnTo>
                  <a:lnTo>
                    <a:pt x="466" y="124"/>
                  </a:lnTo>
                  <a:lnTo>
                    <a:pt x="657" y="56"/>
                  </a:lnTo>
                  <a:lnTo>
                    <a:pt x="875" y="13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5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65520" y="3429000"/>
              <a:ext cx="29232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3"/>
                  </a:lnTo>
                  <a:lnTo>
                    <a:pt x="1894" y="623"/>
                  </a:lnTo>
                  <a:lnTo>
                    <a:pt x="1894" y="623"/>
                  </a:lnTo>
                  <a:lnTo>
                    <a:pt x="1640" y="536"/>
                  </a:lnTo>
                  <a:lnTo>
                    <a:pt x="1394" y="484"/>
                  </a:lnTo>
                  <a:lnTo>
                    <a:pt x="1172" y="467"/>
                  </a:lnTo>
                  <a:lnTo>
                    <a:pt x="1172" y="467"/>
                  </a:lnTo>
                  <a:lnTo>
                    <a:pt x="947" y="499"/>
                  </a:lnTo>
                  <a:lnTo>
                    <a:pt x="806" y="581"/>
                  </a:lnTo>
                  <a:lnTo>
                    <a:pt x="757" y="695"/>
                  </a:lnTo>
                  <a:lnTo>
                    <a:pt x="757" y="695"/>
                  </a:lnTo>
                  <a:lnTo>
                    <a:pt x="777" y="787"/>
                  </a:lnTo>
                  <a:lnTo>
                    <a:pt x="852" y="860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717" y="1278"/>
                  </a:lnTo>
                  <a:lnTo>
                    <a:pt x="1884" y="1410"/>
                  </a:lnTo>
                  <a:lnTo>
                    <a:pt x="2004" y="1562"/>
                  </a:lnTo>
                  <a:lnTo>
                    <a:pt x="2078" y="1740"/>
                  </a:lnTo>
                  <a:lnTo>
                    <a:pt x="2103" y="1945"/>
                  </a:lnTo>
                  <a:lnTo>
                    <a:pt x="2103" y="1945"/>
                  </a:lnTo>
                  <a:lnTo>
                    <a:pt x="2081" y="2121"/>
                  </a:lnTo>
                  <a:lnTo>
                    <a:pt x="2020" y="2279"/>
                  </a:lnTo>
                  <a:lnTo>
                    <a:pt x="1919" y="2420"/>
                  </a:lnTo>
                  <a:lnTo>
                    <a:pt x="1783" y="2541"/>
                  </a:lnTo>
                  <a:lnTo>
                    <a:pt x="1614" y="2640"/>
                  </a:lnTo>
                  <a:lnTo>
                    <a:pt x="1416" y="2713"/>
                  </a:lnTo>
                  <a:lnTo>
                    <a:pt x="1189" y="2758"/>
                  </a:lnTo>
                  <a:lnTo>
                    <a:pt x="936" y="2773"/>
                  </a:lnTo>
                  <a:lnTo>
                    <a:pt x="936" y="2773"/>
                  </a:lnTo>
                  <a:lnTo>
                    <a:pt x="732" y="2768"/>
                  </a:lnTo>
                  <a:lnTo>
                    <a:pt x="512" y="2750"/>
                  </a:lnTo>
                  <a:lnTo>
                    <a:pt x="285" y="271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354" y="2210"/>
                  </a:lnTo>
                  <a:lnTo>
                    <a:pt x="632" y="2262"/>
                  </a:lnTo>
                  <a:lnTo>
                    <a:pt x="882" y="2279"/>
                  </a:lnTo>
                  <a:lnTo>
                    <a:pt x="882" y="2279"/>
                  </a:lnTo>
                  <a:lnTo>
                    <a:pt x="1125" y="2246"/>
                  </a:lnTo>
                  <a:lnTo>
                    <a:pt x="1273" y="2161"/>
                  </a:lnTo>
                  <a:lnTo>
                    <a:pt x="1324" y="2044"/>
                  </a:lnTo>
                  <a:lnTo>
                    <a:pt x="1324" y="2044"/>
                  </a:lnTo>
                  <a:lnTo>
                    <a:pt x="1305" y="1952"/>
                  </a:lnTo>
                  <a:lnTo>
                    <a:pt x="1246" y="1874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375" y="1461"/>
                  </a:lnTo>
                  <a:lnTo>
                    <a:pt x="208" y="1330"/>
                  </a:lnTo>
                  <a:lnTo>
                    <a:pt x="91" y="1179"/>
                  </a:lnTo>
                  <a:lnTo>
                    <a:pt x="23" y="100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1" y="624"/>
                  </a:lnTo>
                  <a:lnTo>
                    <a:pt x="80" y="468"/>
                  </a:lnTo>
                  <a:lnTo>
                    <a:pt x="175" y="331"/>
                  </a:lnTo>
                  <a:lnTo>
                    <a:pt x="306" y="216"/>
                  </a:lnTo>
                  <a:lnTo>
                    <a:pt x="466" y="124"/>
                  </a:lnTo>
                  <a:lnTo>
                    <a:pt x="658" y="56"/>
                  </a:lnTo>
                  <a:lnTo>
                    <a:pt x="876" y="14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6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81400" y="3436560"/>
              <a:ext cx="326160" cy="373320"/>
            </a:xfrm>
            <a:custGeom>
              <a:avLst/>
              <a:gdLst/>
              <a:ahLst/>
              <a:rect l="l" t="t" r="r" b="b"/>
              <a:pathLst>
                <a:path w="2352" h="2666">
                  <a:moveTo>
                    <a:pt x="2352" y="0"/>
                  </a:moveTo>
                  <a:lnTo>
                    <a:pt x="2352" y="2666"/>
                  </a:lnTo>
                  <a:lnTo>
                    <a:pt x="1497" y="2666"/>
                  </a:lnTo>
                  <a:lnTo>
                    <a:pt x="539" y="958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09" y="1682"/>
                  </a:lnTo>
                  <a:lnTo>
                    <a:pt x="1809" y="0"/>
                  </a:lnTo>
                  <a:lnTo>
                    <a:pt x="2352" y="0"/>
                  </a:lnTo>
                  <a:lnTo>
                    <a:pt x="2352" y="0"/>
                  </a:lnTo>
                  <a:lnTo>
                    <a:pt x="235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781400" y="3436560"/>
              <a:ext cx="326160" cy="373320"/>
            </a:xfrm>
            <a:custGeom>
              <a:avLst/>
              <a:gdLst/>
              <a:ahLst/>
              <a:rect l="l" t="t" r="r" b="b"/>
              <a:pathLst>
                <a:path w="2354" h="2666">
                  <a:moveTo>
                    <a:pt x="2354" y="0"/>
                  </a:moveTo>
                  <a:lnTo>
                    <a:pt x="2354" y="2666"/>
                  </a:lnTo>
                  <a:lnTo>
                    <a:pt x="1498" y="2666"/>
                  </a:lnTo>
                  <a:lnTo>
                    <a:pt x="539" y="957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10" y="1682"/>
                  </a:lnTo>
                  <a:lnTo>
                    <a:pt x="1810" y="0"/>
                  </a:lnTo>
                  <a:lnTo>
                    <a:pt x="2354" y="0"/>
                  </a:lnTo>
                  <a:lnTo>
                    <a:pt x="2354" y="0"/>
                  </a:lnTo>
                  <a:lnTo>
                    <a:pt x="2354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41560" y="3436560"/>
              <a:ext cx="27792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4" y="0"/>
                  </a:moveTo>
                  <a:lnTo>
                    <a:pt x="1974" y="490"/>
                  </a:lnTo>
                  <a:lnTo>
                    <a:pt x="775" y="490"/>
                  </a:lnTo>
                  <a:lnTo>
                    <a:pt x="775" y="1082"/>
                  </a:lnTo>
                  <a:lnTo>
                    <a:pt x="1818" y="1082"/>
                  </a:lnTo>
                  <a:lnTo>
                    <a:pt x="1818" y="1523"/>
                  </a:lnTo>
                  <a:lnTo>
                    <a:pt x="775" y="1523"/>
                  </a:lnTo>
                  <a:lnTo>
                    <a:pt x="775" y="2146"/>
                  </a:lnTo>
                  <a:lnTo>
                    <a:pt x="2001" y="2146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4" y="0"/>
                  </a:lnTo>
                  <a:lnTo>
                    <a:pt x="1974" y="0"/>
                  </a:lnTo>
                  <a:lnTo>
                    <a:pt x="1974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441560" y="3436560"/>
              <a:ext cx="27864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3" y="0"/>
                  </a:moveTo>
                  <a:lnTo>
                    <a:pt x="1973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8" y="1081"/>
                  </a:lnTo>
                  <a:lnTo>
                    <a:pt x="1818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2001" y="2145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3" y="0"/>
                  </a:lnTo>
                  <a:lnTo>
                    <a:pt x="1973" y="0"/>
                  </a:lnTo>
                  <a:lnTo>
                    <a:pt x="1973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7960" y="3436560"/>
              <a:ext cx="456840" cy="37692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30"/>
                  </a:lnTo>
                  <a:lnTo>
                    <a:pt x="2361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97960" y="3436560"/>
              <a:ext cx="456840" cy="37764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29"/>
                  </a:lnTo>
                  <a:lnTo>
                    <a:pt x="2362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5595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5" y="0"/>
                  </a:moveTo>
                  <a:lnTo>
                    <a:pt x="1965" y="490"/>
                  </a:lnTo>
                  <a:lnTo>
                    <a:pt x="774" y="490"/>
                  </a:lnTo>
                  <a:lnTo>
                    <a:pt x="774" y="1082"/>
                  </a:lnTo>
                  <a:lnTo>
                    <a:pt x="1814" y="1082"/>
                  </a:lnTo>
                  <a:lnTo>
                    <a:pt x="1814" y="1523"/>
                  </a:lnTo>
                  <a:lnTo>
                    <a:pt x="774" y="1523"/>
                  </a:lnTo>
                  <a:lnTo>
                    <a:pt x="774" y="2146"/>
                  </a:lnTo>
                  <a:lnTo>
                    <a:pt x="1992" y="2146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5" y="0"/>
                  </a:lnTo>
                  <a:lnTo>
                    <a:pt x="1965" y="0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595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4" y="0"/>
                  </a:moveTo>
                  <a:lnTo>
                    <a:pt x="1964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3" y="1081"/>
                  </a:lnTo>
                  <a:lnTo>
                    <a:pt x="1813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1992" y="2145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4" y="0"/>
                  </a:lnTo>
                  <a:lnTo>
                    <a:pt x="1964" y="0"/>
                  </a:lnTo>
                  <a:lnTo>
                    <a:pt x="1964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156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2" h="2666">
                  <a:moveTo>
                    <a:pt x="802" y="0"/>
                  </a:moveTo>
                  <a:lnTo>
                    <a:pt x="80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2" y="0"/>
                  </a:lnTo>
                  <a:lnTo>
                    <a:pt x="802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6156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1" h="2666">
                  <a:moveTo>
                    <a:pt x="801" y="0"/>
                  </a:moveTo>
                  <a:lnTo>
                    <a:pt x="8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1" y="0"/>
                  </a:lnTo>
                  <a:lnTo>
                    <a:pt x="801" y="0"/>
                  </a:lnTo>
                  <a:lnTo>
                    <a:pt x="801" y="0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19920" y="3429000"/>
              <a:ext cx="29088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2"/>
                  </a:lnTo>
                  <a:lnTo>
                    <a:pt x="1885" y="622"/>
                  </a:lnTo>
                  <a:lnTo>
                    <a:pt x="1885" y="622"/>
                  </a:lnTo>
                  <a:lnTo>
                    <a:pt x="1631" y="536"/>
                  </a:lnTo>
                  <a:lnTo>
                    <a:pt x="1385" y="484"/>
                  </a:lnTo>
                  <a:lnTo>
                    <a:pt x="1164" y="467"/>
                  </a:lnTo>
                  <a:lnTo>
                    <a:pt x="1164" y="467"/>
                  </a:lnTo>
                  <a:lnTo>
                    <a:pt x="939" y="498"/>
                  </a:lnTo>
                  <a:lnTo>
                    <a:pt x="798" y="579"/>
                  </a:lnTo>
                  <a:lnTo>
                    <a:pt x="748" y="694"/>
                  </a:lnTo>
                  <a:lnTo>
                    <a:pt x="748" y="694"/>
                  </a:lnTo>
                  <a:lnTo>
                    <a:pt x="775" y="786"/>
                  </a:lnTo>
                  <a:lnTo>
                    <a:pt x="858" y="85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708" y="1277"/>
                  </a:lnTo>
                  <a:lnTo>
                    <a:pt x="1876" y="1408"/>
                  </a:lnTo>
                  <a:lnTo>
                    <a:pt x="1996" y="1557"/>
                  </a:lnTo>
                  <a:lnTo>
                    <a:pt x="2069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2"/>
                  </a:lnTo>
                  <a:lnTo>
                    <a:pt x="2029" y="2232"/>
                  </a:lnTo>
                  <a:lnTo>
                    <a:pt x="1948" y="2368"/>
                  </a:lnTo>
                  <a:lnTo>
                    <a:pt x="1839" y="2485"/>
                  </a:lnTo>
                  <a:lnTo>
                    <a:pt x="1704" y="2585"/>
                  </a:lnTo>
                  <a:lnTo>
                    <a:pt x="1542" y="2664"/>
                  </a:lnTo>
                  <a:lnTo>
                    <a:pt x="1358" y="2723"/>
                  </a:lnTo>
                  <a:lnTo>
                    <a:pt x="1152" y="2761"/>
                  </a:lnTo>
                  <a:lnTo>
                    <a:pt x="927" y="2773"/>
                  </a:lnTo>
                  <a:lnTo>
                    <a:pt x="927" y="2773"/>
                  </a:lnTo>
                  <a:lnTo>
                    <a:pt x="725" y="2767"/>
                  </a:lnTo>
                  <a:lnTo>
                    <a:pt x="508" y="2749"/>
                  </a:lnTo>
                  <a:lnTo>
                    <a:pt x="280" y="2716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349" y="2210"/>
                  </a:lnTo>
                  <a:lnTo>
                    <a:pt x="626" y="2261"/>
                  </a:lnTo>
                  <a:lnTo>
                    <a:pt x="874" y="2278"/>
                  </a:lnTo>
                  <a:lnTo>
                    <a:pt x="874" y="2278"/>
                  </a:lnTo>
                  <a:lnTo>
                    <a:pt x="1117" y="2245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40" y="1872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368" y="1458"/>
                  </a:lnTo>
                  <a:lnTo>
                    <a:pt x="203" y="1322"/>
                  </a:lnTo>
                  <a:lnTo>
                    <a:pt x="88" y="1166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9" y="467"/>
                  </a:lnTo>
                  <a:lnTo>
                    <a:pt x="173" y="330"/>
                  </a:lnTo>
                  <a:lnTo>
                    <a:pt x="301" y="214"/>
                  </a:lnTo>
                  <a:lnTo>
                    <a:pt x="461" y="124"/>
                  </a:lnTo>
                  <a:lnTo>
                    <a:pt x="651" y="56"/>
                  </a:lnTo>
                  <a:lnTo>
                    <a:pt x="868" y="13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5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19920" y="3429000"/>
              <a:ext cx="29088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3"/>
                  </a:lnTo>
                  <a:lnTo>
                    <a:pt x="1885" y="623"/>
                  </a:lnTo>
                  <a:lnTo>
                    <a:pt x="1885" y="623"/>
                  </a:lnTo>
                  <a:lnTo>
                    <a:pt x="1630" y="536"/>
                  </a:lnTo>
                  <a:lnTo>
                    <a:pt x="1385" y="484"/>
                  </a:lnTo>
                  <a:lnTo>
                    <a:pt x="1163" y="467"/>
                  </a:lnTo>
                  <a:lnTo>
                    <a:pt x="1163" y="467"/>
                  </a:lnTo>
                  <a:lnTo>
                    <a:pt x="939" y="499"/>
                  </a:lnTo>
                  <a:lnTo>
                    <a:pt x="798" y="581"/>
                  </a:lnTo>
                  <a:lnTo>
                    <a:pt x="748" y="695"/>
                  </a:lnTo>
                  <a:lnTo>
                    <a:pt x="748" y="695"/>
                  </a:lnTo>
                  <a:lnTo>
                    <a:pt x="775" y="787"/>
                  </a:lnTo>
                  <a:lnTo>
                    <a:pt x="858" y="860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708" y="1278"/>
                  </a:lnTo>
                  <a:lnTo>
                    <a:pt x="1875" y="1408"/>
                  </a:lnTo>
                  <a:lnTo>
                    <a:pt x="1996" y="1557"/>
                  </a:lnTo>
                  <a:lnTo>
                    <a:pt x="2070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3"/>
                  </a:lnTo>
                  <a:lnTo>
                    <a:pt x="2028" y="2233"/>
                  </a:lnTo>
                  <a:lnTo>
                    <a:pt x="1947" y="2368"/>
                  </a:lnTo>
                  <a:lnTo>
                    <a:pt x="1838" y="2486"/>
                  </a:lnTo>
                  <a:lnTo>
                    <a:pt x="1703" y="2585"/>
                  </a:lnTo>
                  <a:lnTo>
                    <a:pt x="1542" y="2666"/>
                  </a:lnTo>
                  <a:lnTo>
                    <a:pt x="1358" y="2724"/>
                  </a:lnTo>
                  <a:lnTo>
                    <a:pt x="1152" y="2761"/>
                  </a:lnTo>
                  <a:lnTo>
                    <a:pt x="926" y="2773"/>
                  </a:lnTo>
                  <a:lnTo>
                    <a:pt x="926" y="2773"/>
                  </a:lnTo>
                  <a:lnTo>
                    <a:pt x="725" y="2768"/>
                  </a:lnTo>
                  <a:lnTo>
                    <a:pt x="507" y="2750"/>
                  </a:lnTo>
                  <a:lnTo>
                    <a:pt x="279" y="271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348" y="2210"/>
                  </a:lnTo>
                  <a:lnTo>
                    <a:pt x="626" y="2262"/>
                  </a:lnTo>
                  <a:lnTo>
                    <a:pt x="874" y="2279"/>
                  </a:lnTo>
                  <a:lnTo>
                    <a:pt x="874" y="2279"/>
                  </a:lnTo>
                  <a:lnTo>
                    <a:pt x="1116" y="2246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39" y="1874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368" y="1458"/>
                  </a:lnTo>
                  <a:lnTo>
                    <a:pt x="202" y="1322"/>
                  </a:lnTo>
                  <a:lnTo>
                    <a:pt x="87" y="1167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8"/>
                  </a:lnTo>
                  <a:lnTo>
                    <a:pt x="172" y="331"/>
                  </a:lnTo>
                  <a:lnTo>
                    <a:pt x="300" y="216"/>
                  </a:lnTo>
                  <a:lnTo>
                    <a:pt x="460" y="124"/>
                  </a:lnTo>
                  <a:lnTo>
                    <a:pt x="651" y="56"/>
                  </a:lnTo>
                  <a:lnTo>
                    <a:pt x="867" y="14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6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75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lnSpc>
                <a:spcPct val="95000"/>
              </a:lnSpc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61760" y="4571640"/>
            <a:ext cx="74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3366"/>
                </a:solidFill>
                <a:latin typeface="Arial"/>
              </a:rPr>
              <a:t>Crossbar-current out of </a:t>
            </a:r>
            <a:br>
              <a:rPr sz="3000"/>
            </a:br>
            <a:r>
              <a:rPr b="1" lang="de-DE" sz="3000" spc="-1" strike="noStrike">
                <a:solidFill>
                  <a:srgbClr val="003366"/>
                </a:solidFill>
                <a:latin typeface="Arial"/>
              </a:rPr>
              <a:t>CMOS-Ibis-Models</a:t>
            </a:r>
            <a:endParaRPr b="1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018120" y="3429000"/>
            <a:ext cx="2438640" cy="388800"/>
            <a:chOff x="6018120" y="3429000"/>
            <a:chExt cx="2438640" cy="388800"/>
          </a:xfrm>
        </p:grpSpPr>
        <p:sp>
          <p:nvSpPr>
            <p:cNvPr id="127" name=""/>
            <p:cNvSpPr/>
            <p:nvPr/>
          </p:nvSpPr>
          <p:spPr>
            <a:xfrm>
              <a:off x="8164080" y="3429000"/>
              <a:ext cx="29268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2"/>
                  </a:lnTo>
                  <a:lnTo>
                    <a:pt x="1894" y="622"/>
                  </a:lnTo>
                  <a:lnTo>
                    <a:pt x="1894" y="622"/>
                  </a:lnTo>
                  <a:lnTo>
                    <a:pt x="1639" y="536"/>
                  </a:lnTo>
                  <a:lnTo>
                    <a:pt x="1393" y="484"/>
                  </a:lnTo>
                  <a:lnTo>
                    <a:pt x="1171" y="467"/>
                  </a:lnTo>
                  <a:lnTo>
                    <a:pt x="1171" y="467"/>
                  </a:lnTo>
                  <a:lnTo>
                    <a:pt x="947" y="498"/>
                  </a:lnTo>
                  <a:lnTo>
                    <a:pt x="806" y="579"/>
                  </a:lnTo>
                  <a:lnTo>
                    <a:pt x="757" y="694"/>
                  </a:lnTo>
                  <a:lnTo>
                    <a:pt x="757" y="694"/>
                  </a:lnTo>
                  <a:lnTo>
                    <a:pt x="776" y="786"/>
                  </a:lnTo>
                  <a:lnTo>
                    <a:pt x="852" y="85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012" y="929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506" y="1161"/>
                  </a:lnTo>
                  <a:lnTo>
                    <a:pt x="1717" y="1277"/>
                  </a:lnTo>
                  <a:lnTo>
                    <a:pt x="1883" y="1409"/>
                  </a:lnTo>
                  <a:lnTo>
                    <a:pt x="2004" y="1562"/>
                  </a:lnTo>
                  <a:lnTo>
                    <a:pt x="2078" y="1739"/>
                  </a:lnTo>
                  <a:lnTo>
                    <a:pt x="2103" y="1944"/>
                  </a:lnTo>
                  <a:lnTo>
                    <a:pt x="2103" y="1944"/>
                  </a:lnTo>
                  <a:lnTo>
                    <a:pt x="2081" y="2120"/>
                  </a:lnTo>
                  <a:lnTo>
                    <a:pt x="2019" y="2278"/>
                  </a:lnTo>
                  <a:lnTo>
                    <a:pt x="1919" y="2419"/>
                  </a:lnTo>
                  <a:lnTo>
                    <a:pt x="1783" y="2540"/>
                  </a:lnTo>
                  <a:lnTo>
                    <a:pt x="1614" y="2639"/>
                  </a:lnTo>
                  <a:lnTo>
                    <a:pt x="1415" y="2712"/>
                  </a:lnTo>
                  <a:lnTo>
                    <a:pt x="1187" y="2758"/>
                  </a:lnTo>
                  <a:lnTo>
                    <a:pt x="935" y="2773"/>
                  </a:lnTo>
                  <a:lnTo>
                    <a:pt x="935" y="2773"/>
                  </a:lnTo>
                  <a:lnTo>
                    <a:pt x="732" y="2767"/>
                  </a:lnTo>
                  <a:lnTo>
                    <a:pt x="512" y="2749"/>
                  </a:lnTo>
                  <a:lnTo>
                    <a:pt x="284" y="2716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667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53" y="2123"/>
                  </a:lnTo>
                  <a:lnTo>
                    <a:pt x="353" y="2210"/>
                  </a:lnTo>
                  <a:lnTo>
                    <a:pt x="632" y="2261"/>
                  </a:lnTo>
                  <a:lnTo>
                    <a:pt x="882" y="2278"/>
                  </a:lnTo>
                  <a:lnTo>
                    <a:pt x="882" y="2278"/>
                  </a:lnTo>
                  <a:lnTo>
                    <a:pt x="1124" y="2246"/>
                  </a:lnTo>
                  <a:lnTo>
                    <a:pt x="1273" y="2161"/>
                  </a:lnTo>
                  <a:lnTo>
                    <a:pt x="1324" y="2043"/>
                  </a:lnTo>
                  <a:lnTo>
                    <a:pt x="1324" y="2043"/>
                  </a:lnTo>
                  <a:lnTo>
                    <a:pt x="1304" y="1952"/>
                  </a:lnTo>
                  <a:lnTo>
                    <a:pt x="1246" y="1874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1145" y="1811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596" y="1576"/>
                  </a:lnTo>
                  <a:lnTo>
                    <a:pt x="375" y="1460"/>
                  </a:lnTo>
                  <a:lnTo>
                    <a:pt x="207" y="1330"/>
                  </a:lnTo>
                  <a:lnTo>
                    <a:pt x="90" y="1178"/>
                  </a:lnTo>
                  <a:lnTo>
                    <a:pt x="22" y="1002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7"/>
                  </a:lnTo>
                  <a:lnTo>
                    <a:pt x="175" y="330"/>
                  </a:lnTo>
                  <a:lnTo>
                    <a:pt x="305" y="214"/>
                  </a:lnTo>
                  <a:lnTo>
                    <a:pt x="466" y="124"/>
                  </a:lnTo>
                  <a:lnTo>
                    <a:pt x="657" y="56"/>
                  </a:lnTo>
                  <a:lnTo>
                    <a:pt x="875" y="13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5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64080" y="3429000"/>
              <a:ext cx="292680" cy="388800"/>
            </a:xfrm>
            <a:custGeom>
              <a:avLst/>
              <a:gdLst/>
              <a:ahLst/>
              <a:rect l="l" t="t" r="r" b="b"/>
              <a:pathLst>
                <a:path w="2103" h="2773">
                  <a:moveTo>
                    <a:pt x="1894" y="106"/>
                  </a:moveTo>
                  <a:lnTo>
                    <a:pt x="1894" y="623"/>
                  </a:lnTo>
                  <a:lnTo>
                    <a:pt x="1894" y="623"/>
                  </a:lnTo>
                  <a:lnTo>
                    <a:pt x="1894" y="623"/>
                  </a:lnTo>
                  <a:lnTo>
                    <a:pt x="1640" y="536"/>
                  </a:lnTo>
                  <a:lnTo>
                    <a:pt x="1394" y="484"/>
                  </a:lnTo>
                  <a:lnTo>
                    <a:pt x="1172" y="467"/>
                  </a:lnTo>
                  <a:lnTo>
                    <a:pt x="1172" y="467"/>
                  </a:lnTo>
                  <a:lnTo>
                    <a:pt x="947" y="499"/>
                  </a:lnTo>
                  <a:lnTo>
                    <a:pt x="806" y="581"/>
                  </a:lnTo>
                  <a:lnTo>
                    <a:pt x="757" y="695"/>
                  </a:lnTo>
                  <a:lnTo>
                    <a:pt x="757" y="695"/>
                  </a:lnTo>
                  <a:lnTo>
                    <a:pt x="777" y="787"/>
                  </a:lnTo>
                  <a:lnTo>
                    <a:pt x="852" y="860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012" y="931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507" y="1162"/>
                  </a:lnTo>
                  <a:lnTo>
                    <a:pt x="1717" y="1278"/>
                  </a:lnTo>
                  <a:lnTo>
                    <a:pt x="1884" y="1410"/>
                  </a:lnTo>
                  <a:lnTo>
                    <a:pt x="2004" y="1562"/>
                  </a:lnTo>
                  <a:lnTo>
                    <a:pt x="2078" y="1740"/>
                  </a:lnTo>
                  <a:lnTo>
                    <a:pt x="2103" y="1945"/>
                  </a:lnTo>
                  <a:lnTo>
                    <a:pt x="2103" y="1945"/>
                  </a:lnTo>
                  <a:lnTo>
                    <a:pt x="2081" y="2121"/>
                  </a:lnTo>
                  <a:lnTo>
                    <a:pt x="2020" y="2279"/>
                  </a:lnTo>
                  <a:lnTo>
                    <a:pt x="1919" y="2420"/>
                  </a:lnTo>
                  <a:lnTo>
                    <a:pt x="1783" y="2541"/>
                  </a:lnTo>
                  <a:lnTo>
                    <a:pt x="1614" y="2640"/>
                  </a:lnTo>
                  <a:lnTo>
                    <a:pt x="1416" y="2713"/>
                  </a:lnTo>
                  <a:lnTo>
                    <a:pt x="1189" y="2758"/>
                  </a:lnTo>
                  <a:lnTo>
                    <a:pt x="936" y="2773"/>
                  </a:lnTo>
                  <a:lnTo>
                    <a:pt x="936" y="2773"/>
                  </a:lnTo>
                  <a:lnTo>
                    <a:pt x="732" y="2768"/>
                  </a:lnTo>
                  <a:lnTo>
                    <a:pt x="512" y="2750"/>
                  </a:lnTo>
                  <a:lnTo>
                    <a:pt x="285" y="271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667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54" y="2123"/>
                  </a:lnTo>
                  <a:lnTo>
                    <a:pt x="354" y="2210"/>
                  </a:lnTo>
                  <a:lnTo>
                    <a:pt x="632" y="2262"/>
                  </a:lnTo>
                  <a:lnTo>
                    <a:pt x="882" y="2279"/>
                  </a:lnTo>
                  <a:lnTo>
                    <a:pt x="882" y="2279"/>
                  </a:lnTo>
                  <a:lnTo>
                    <a:pt x="1125" y="2246"/>
                  </a:lnTo>
                  <a:lnTo>
                    <a:pt x="1273" y="2161"/>
                  </a:lnTo>
                  <a:lnTo>
                    <a:pt x="1324" y="2044"/>
                  </a:lnTo>
                  <a:lnTo>
                    <a:pt x="1324" y="2044"/>
                  </a:lnTo>
                  <a:lnTo>
                    <a:pt x="1305" y="1952"/>
                  </a:lnTo>
                  <a:lnTo>
                    <a:pt x="1246" y="1874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1146" y="1811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597" y="1576"/>
                  </a:lnTo>
                  <a:lnTo>
                    <a:pt x="375" y="1461"/>
                  </a:lnTo>
                  <a:lnTo>
                    <a:pt x="208" y="1330"/>
                  </a:lnTo>
                  <a:lnTo>
                    <a:pt x="91" y="1179"/>
                  </a:lnTo>
                  <a:lnTo>
                    <a:pt x="23" y="100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1" y="624"/>
                  </a:lnTo>
                  <a:lnTo>
                    <a:pt x="80" y="468"/>
                  </a:lnTo>
                  <a:lnTo>
                    <a:pt x="175" y="331"/>
                  </a:lnTo>
                  <a:lnTo>
                    <a:pt x="306" y="216"/>
                  </a:lnTo>
                  <a:lnTo>
                    <a:pt x="466" y="124"/>
                  </a:lnTo>
                  <a:lnTo>
                    <a:pt x="658" y="56"/>
                  </a:lnTo>
                  <a:lnTo>
                    <a:pt x="876" y="14"/>
                  </a:lnTo>
                  <a:lnTo>
                    <a:pt x="1118" y="0"/>
                  </a:lnTo>
                  <a:lnTo>
                    <a:pt x="1118" y="0"/>
                  </a:lnTo>
                  <a:lnTo>
                    <a:pt x="1365" y="16"/>
                  </a:lnTo>
                  <a:lnTo>
                    <a:pt x="1631" y="55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  <a:lnTo>
                    <a:pt x="1894" y="10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9960" y="3436560"/>
              <a:ext cx="326520" cy="373320"/>
            </a:xfrm>
            <a:custGeom>
              <a:avLst/>
              <a:gdLst/>
              <a:ahLst/>
              <a:rect l="l" t="t" r="r" b="b"/>
              <a:pathLst>
                <a:path w="2352" h="2666">
                  <a:moveTo>
                    <a:pt x="2352" y="0"/>
                  </a:moveTo>
                  <a:lnTo>
                    <a:pt x="2352" y="2666"/>
                  </a:lnTo>
                  <a:lnTo>
                    <a:pt x="1497" y="2666"/>
                  </a:lnTo>
                  <a:lnTo>
                    <a:pt x="539" y="958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09" y="1682"/>
                  </a:lnTo>
                  <a:lnTo>
                    <a:pt x="1809" y="0"/>
                  </a:lnTo>
                  <a:lnTo>
                    <a:pt x="2352" y="0"/>
                  </a:lnTo>
                  <a:lnTo>
                    <a:pt x="2352" y="0"/>
                  </a:lnTo>
                  <a:lnTo>
                    <a:pt x="235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79960" y="3436560"/>
              <a:ext cx="326520" cy="373320"/>
            </a:xfrm>
            <a:custGeom>
              <a:avLst/>
              <a:gdLst/>
              <a:ahLst/>
              <a:rect l="l" t="t" r="r" b="b"/>
              <a:pathLst>
                <a:path w="2354" h="2666">
                  <a:moveTo>
                    <a:pt x="2354" y="0"/>
                  </a:moveTo>
                  <a:lnTo>
                    <a:pt x="2354" y="2666"/>
                  </a:lnTo>
                  <a:lnTo>
                    <a:pt x="1498" y="2666"/>
                  </a:lnTo>
                  <a:lnTo>
                    <a:pt x="539" y="957"/>
                  </a:lnTo>
                  <a:lnTo>
                    <a:pt x="539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83" y="0"/>
                  </a:lnTo>
                  <a:lnTo>
                    <a:pt x="1810" y="1682"/>
                  </a:lnTo>
                  <a:lnTo>
                    <a:pt x="1810" y="0"/>
                  </a:lnTo>
                  <a:lnTo>
                    <a:pt x="2354" y="0"/>
                  </a:lnTo>
                  <a:lnTo>
                    <a:pt x="2354" y="0"/>
                  </a:lnTo>
                  <a:lnTo>
                    <a:pt x="2354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39760" y="3436560"/>
              <a:ext cx="27792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4" y="0"/>
                  </a:moveTo>
                  <a:lnTo>
                    <a:pt x="1974" y="490"/>
                  </a:lnTo>
                  <a:lnTo>
                    <a:pt x="775" y="490"/>
                  </a:lnTo>
                  <a:lnTo>
                    <a:pt x="775" y="1082"/>
                  </a:lnTo>
                  <a:lnTo>
                    <a:pt x="1818" y="1082"/>
                  </a:lnTo>
                  <a:lnTo>
                    <a:pt x="1818" y="1523"/>
                  </a:lnTo>
                  <a:lnTo>
                    <a:pt x="775" y="1523"/>
                  </a:lnTo>
                  <a:lnTo>
                    <a:pt x="775" y="2146"/>
                  </a:lnTo>
                  <a:lnTo>
                    <a:pt x="2001" y="2146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4" y="0"/>
                  </a:lnTo>
                  <a:lnTo>
                    <a:pt x="1974" y="0"/>
                  </a:lnTo>
                  <a:lnTo>
                    <a:pt x="1974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39760" y="3436560"/>
              <a:ext cx="278640" cy="373320"/>
            </a:xfrm>
            <a:custGeom>
              <a:avLst/>
              <a:gdLst/>
              <a:ahLst/>
              <a:rect l="l" t="t" r="r" b="b"/>
              <a:pathLst>
                <a:path w="2001" h="2666">
                  <a:moveTo>
                    <a:pt x="1973" y="0"/>
                  </a:moveTo>
                  <a:lnTo>
                    <a:pt x="1973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8" y="1081"/>
                  </a:lnTo>
                  <a:lnTo>
                    <a:pt x="1818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2001" y="2145"/>
                  </a:lnTo>
                  <a:lnTo>
                    <a:pt x="20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73" y="0"/>
                  </a:lnTo>
                  <a:lnTo>
                    <a:pt x="1973" y="0"/>
                  </a:lnTo>
                  <a:lnTo>
                    <a:pt x="1973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96520" y="3436560"/>
              <a:ext cx="457200" cy="37692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30"/>
                  </a:lnTo>
                  <a:lnTo>
                    <a:pt x="2361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96520" y="3436560"/>
              <a:ext cx="457200" cy="377640"/>
            </a:xfrm>
            <a:custGeom>
              <a:avLst/>
              <a:gdLst/>
              <a:ahLst/>
              <a:rect l="l" t="t" r="r" b="b"/>
              <a:pathLst>
                <a:path w="3293" h="2693">
                  <a:moveTo>
                    <a:pt x="3293" y="0"/>
                  </a:moveTo>
                  <a:lnTo>
                    <a:pt x="3293" y="2666"/>
                  </a:lnTo>
                  <a:lnTo>
                    <a:pt x="2540" y="2666"/>
                  </a:lnTo>
                  <a:lnTo>
                    <a:pt x="2540" y="903"/>
                  </a:lnTo>
                  <a:lnTo>
                    <a:pt x="1765" y="2693"/>
                  </a:lnTo>
                  <a:lnTo>
                    <a:pt x="1297" y="2693"/>
                  </a:lnTo>
                  <a:lnTo>
                    <a:pt x="543" y="903"/>
                  </a:lnTo>
                  <a:lnTo>
                    <a:pt x="543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658" y="1629"/>
                  </a:lnTo>
                  <a:lnTo>
                    <a:pt x="2362" y="0"/>
                  </a:lnTo>
                  <a:lnTo>
                    <a:pt x="3293" y="0"/>
                  </a:lnTo>
                  <a:lnTo>
                    <a:pt x="3293" y="0"/>
                  </a:lnTo>
                  <a:lnTo>
                    <a:pt x="3293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77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5" y="0"/>
                  </a:moveTo>
                  <a:lnTo>
                    <a:pt x="1965" y="490"/>
                  </a:lnTo>
                  <a:lnTo>
                    <a:pt x="774" y="490"/>
                  </a:lnTo>
                  <a:lnTo>
                    <a:pt x="774" y="1082"/>
                  </a:lnTo>
                  <a:lnTo>
                    <a:pt x="1814" y="1082"/>
                  </a:lnTo>
                  <a:lnTo>
                    <a:pt x="1814" y="1523"/>
                  </a:lnTo>
                  <a:lnTo>
                    <a:pt x="774" y="1523"/>
                  </a:lnTo>
                  <a:lnTo>
                    <a:pt x="774" y="2146"/>
                  </a:lnTo>
                  <a:lnTo>
                    <a:pt x="1992" y="2146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5" y="0"/>
                  </a:lnTo>
                  <a:lnTo>
                    <a:pt x="1965" y="0"/>
                  </a:lnTo>
                  <a:lnTo>
                    <a:pt x="1965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57760" y="3436560"/>
              <a:ext cx="277200" cy="373320"/>
            </a:xfrm>
            <a:custGeom>
              <a:avLst/>
              <a:gdLst/>
              <a:ahLst/>
              <a:rect l="l" t="t" r="r" b="b"/>
              <a:pathLst>
                <a:path w="1992" h="2666">
                  <a:moveTo>
                    <a:pt x="1964" y="0"/>
                  </a:moveTo>
                  <a:lnTo>
                    <a:pt x="1964" y="489"/>
                  </a:lnTo>
                  <a:lnTo>
                    <a:pt x="775" y="489"/>
                  </a:lnTo>
                  <a:lnTo>
                    <a:pt x="775" y="1081"/>
                  </a:lnTo>
                  <a:lnTo>
                    <a:pt x="1813" y="1081"/>
                  </a:lnTo>
                  <a:lnTo>
                    <a:pt x="1813" y="1522"/>
                  </a:lnTo>
                  <a:lnTo>
                    <a:pt x="775" y="1522"/>
                  </a:lnTo>
                  <a:lnTo>
                    <a:pt x="775" y="2145"/>
                  </a:lnTo>
                  <a:lnTo>
                    <a:pt x="1992" y="2145"/>
                  </a:lnTo>
                  <a:lnTo>
                    <a:pt x="199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1964" y="0"/>
                  </a:lnTo>
                  <a:lnTo>
                    <a:pt x="1964" y="0"/>
                  </a:lnTo>
                  <a:lnTo>
                    <a:pt x="1964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6012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2" h="2666">
                  <a:moveTo>
                    <a:pt x="802" y="0"/>
                  </a:moveTo>
                  <a:lnTo>
                    <a:pt x="802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2" y="0"/>
                  </a:lnTo>
                  <a:lnTo>
                    <a:pt x="802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60120" y="3436560"/>
              <a:ext cx="110880" cy="373320"/>
            </a:xfrm>
            <a:custGeom>
              <a:avLst/>
              <a:gdLst/>
              <a:ahLst/>
              <a:rect l="l" t="t" r="r" b="b"/>
              <a:pathLst>
                <a:path w="801" h="2666">
                  <a:moveTo>
                    <a:pt x="801" y="0"/>
                  </a:moveTo>
                  <a:lnTo>
                    <a:pt x="801" y="2666"/>
                  </a:lnTo>
                  <a:lnTo>
                    <a:pt x="0" y="2666"/>
                  </a:lnTo>
                  <a:lnTo>
                    <a:pt x="0" y="0"/>
                  </a:lnTo>
                  <a:lnTo>
                    <a:pt x="801" y="0"/>
                  </a:lnTo>
                  <a:lnTo>
                    <a:pt x="801" y="0"/>
                  </a:lnTo>
                  <a:lnTo>
                    <a:pt x="801" y="0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18120" y="3429000"/>
              <a:ext cx="29124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2"/>
                  </a:lnTo>
                  <a:lnTo>
                    <a:pt x="1885" y="622"/>
                  </a:lnTo>
                  <a:lnTo>
                    <a:pt x="1885" y="622"/>
                  </a:lnTo>
                  <a:lnTo>
                    <a:pt x="1631" y="536"/>
                  </a:lnTo>
                  <a:lnTo>
                    <a:pt x="1385" y="484"/>
                  </a:lnTo>
                  <a:lnTo>
                    <a:pt x="1164" y="467"/>
                  </a:lnTo>
                  <a:lnTo>
                    <a:pt x="1164" y="467"/>
                  </a:lnTo>
                  <a:lnTo>
                    <a:pt x="939" y="498"/>
                  </a:lnTo>
                  <a:lnTo>
                    <a:pt x="798" y="579"/>
                  </a:lnTo>
                  <a:lnTo>
                    <a:pt x="748" y="694"/>
                  </a:lnTo>
                  <a:lnTo>
                    <a:pt x="748" y="694"/>
                  </a:lnTo>
                  <a:lnTo>
                    <a:pt x="775" y="786"/>
                  </a:lnTo>
                  <a:lnTo>
                    <a:pt x="858" y="85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002" y="929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497" y="1161"/>
                  </a:lnTo>
                  <a:lnTo>
                    <a:pt x="1708" y="1277"/>
                  </a:lnTo>
                  <a:lnTo>
                    <a:pt x="1876" y="1408"/>
                  </a:lnTo>
                  <a:lnTo>
                    <a:pt x="1996" y="1557"/>
                  </a:lnTo>
                  <a:lnTo>
                    <a:pt x="2069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2"/>
                  </a:lnTo>
                  <a:lnTo>
                    <a:pt x="2029" y="2232"/>
                  </a:lnTo>
                  <a:lnTo>
                    <a:pt x="1948" y="2368"/>
                  </a:lnTo>
                  <a:lnTo>
                    <a:pt x="1839" y="2485"/>
                  </a:lnTo>
                  <a:lnTo>
                    <a:pt x="1704" y="2585"/>
                  </a:lnTo>
                  <a:lnTo>
                    <a:pt x="1542" y="2664"/>
                  </a:lnTo>
                  <a:lnTo>
                    <a:pt x="1358" y="2723"/>
                  </a:lnTo>
                  <a:lnTo>
                    <a:pt x="1152" y="2761"/>
                  </a:lnTo>
                  <a:lnTo>
                    <a:pt x="927" y="2773"/>
                  </a:lnTo>
                  <a:lnTo>
                    <a:pt x="927" y="2773"/>
                  </a:lnTo>
                  <a:lnTo>
                    <a:pt x="725" y="2767"/>
                  </a:lnTo>
                  <a:lnTo>
                    <a:pt x="508" y="2749"/>
                  </a:lnTo>
                  <a:lnTo>
                    <a:pt x="280" y="2716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667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45" y="2123"/>
                  </a:lnTo>
                  <a:lnTo>
                    <a:pt x="349" y="2210"/>
                  </a:lnTo>
                  <a:lnTo>
                    <a:pt x="626" y="2261"/>
                  </a:lnTo>
                  <a:lnTo>
                    <a:pt x="874" y="2278"/>
                  </a:lnTo>
                  <a:lnTo>
                    <a:pt x="874" y="2278"/>
                  </a:lnTo>
                  <a:lnTo>
                    <a:pt x="1117" y="2245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40" y="1872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589" y="1576"/>
                  </a:lnTo>
                  <a:lnTo>
                    <a:pt x="368" y="1458"/>
                  </a:lnTo>
                  <a:lnTo>
                    <a:pt x="203" y="1322"/>
                  </a:lnTo>
                  <a:lnTo>
                    <a:pt x="88" y="1166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9" y="467"/>
                  </a:lnTo>
                  <a:lnTo>
                    <a:pt x="173" y="330"/>
                  </a:lnTo>
                  <a:lnTo>
                    <a:pt x="301" y="214"/>
                  </a:lnTo>
                  <a:lnTo>
                    <a:pt x="461" y="124"/>
                  </a:lnTo>
                  <a:lnTo>
                    <a:pt x="651" y="56"/>
                  </a:lnTo>
                  <a:lnTo>
                    <a:pt x="868" y="13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5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18120" y="3429000"/>
              <a:ext cx="291240" cy="388800"/>
            </a:xfrm>
            <a:custGeom>
              <a:avLst/>
              <a:gdLst/>
              <a:ahLst/>
              <a:rect l="l" t="t" r="r" b="b"/>
              <a:pathLst>
                <a:path w="2094" h="2773">
                  <a:moveTo>
                    <a:pt x="1885" y="106"/>
                  </a:moveTo>
                  <a:lnTo>
                    <a:pt x="1885" y="623"/>
                  </a:lnTo>
                  <a:lnTo>
                    <a:pt x="1885" y="623"/>
                  </a:lnTo>
                  <a:lnTo>
                    <a:pt x="1885" y="623"/>
                  </a:lnTo>
                  <a:lnTo>
                    <a:pt x="1630" y="536"/>
                  </a:lnTo>
                  <a:lnTo>
                    <a:pt x="1385" y="484"/>
                  </a:lnTo>
                  <a:lnTo>
                    <a:pt x="1163" y="467"/>
                  </a:lnTo>
                  <a:lnTo>
                    <a:pt x="1163" y="467"/>
                  </a:lnTo>
                  <a:lnTo>
                    <a:pt x="939" y="499"/>
                  </a:lnTo>
                  <a:lnTo>
                    <a:pt x="798" y="581"/>
                  </a:lnTo>
                  <a:lnTo>
                    <a:pt x="748" y="695"/>
                  </a:lnTo>
                  <a:lnTo>
                    <a:pt x="748" y="695"/>
                  </a:lnTo>
                  <a:lnTo>
                    <a:pt x="775" y="787"/>
                  </a:lnTo>
                  <a:lnTo>
                    <a:pt x="858" y="860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002" y="931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496" y="1162"/>
                  </a:lnTo>
                  <a:lnTo>
                    <a:pt x="1708" y="1278"/>
                  </a:lnTo>
                  <a:lnTo>
                    <a:pt x="1875" y="1408"/>
                  </a:lnTo>
                  <a:lnTo>
                    <a:pt x="1996" y="1557"/>
                  </a:lnTo>
                  <a:lnTo>
                    <a:pt x="2070" y="1726"/>
                  </a:lnTo>
                  <a:lnTo>
                    <a:pt x="2094" y="1918"/>
                  </a:lnTo>
                  <a:lnTo>
                    <a:pt x="2094" y="1918"/>
                  </a:lnTo>
                  <a:lnTo>
                    <a:pt x="2077" y="2083"/>
                  </a:lnTo>
                  <a:lnTo>
                    <a:pt x="2028" y="2233"/>
                  </a:lnTo>
                  <a:lnTo>
                    <a:pt x="1947" y="2368"/>
                  </a:lnTo>
                  <a:lnTo>
                    <a:pt x="1838" y="2486"/>
                  </a:lnTo>
                  <a:lnTo>
                    <a:pt x="1703" y="2585"/>
                  </a:lnTo>
                  <a:lnTo>
                    <a:pt x="1542" y="2666"/>
                  </a:lnTo>
                  <a:lnTo>
                    <a:pt x="1358" y="2724"/>
                  </a:lnTo>
                  <a:lnTo>
                    <a:pt x="1152" y="2761"/>
                  </a:lnTo>
                  <a:lnTo>
                    <a:pt x="926" y="2773"/>
                  </a:lnTo>
                  <a:lnTo>
                    <a:pt x="926" y="2773"/>
                  </a:lnTo>
                  <a:lnTo>
                    <a:pt x="725" y="2768"/>
                  </a:lnTo>
                  <a:lnTo>
                    <a:pt x="507" y="2750"/>
                  </a:lnTo>
                  <a:lnTo>
                    <a:pt x="279" y="271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667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44" y="2123"/>
                  </a:lnTo>
                  <a:lnTo>
                    <a:pt x="348" y="2210"/>
                  </a:lnTo>
                  <a:lnTo>
                    <a:pt x="626" y="2262"/>
                  </a:lnTo>
                  <a:lnTo>
                    <a:pt x="874" y="2279"/>
                  </a:lnTo>
                  <a:lnTo>
                    <a:pt x="874" y="2279"/>
                  </a:lnTo>
                  <a:lnTo>
                    <a:pt x="1116" y="2246"/>
                  </a:lnTo>
                  <a:lnTo>
                    <a:pt x="1265" y="2154"/>
                  </a:lnTo>
                  <a:lnTo>
                    <a:pt x="1314" y="2017"/>
                  </a:lnTo>
                  <a:lnTo>
                    <a:pt x="1314" y="2017"/>
                  </a:lnTo>
                  <a:lnTo>
                    <a:pt x="1297" y="1943"/>
                  </a:lnTo>
                  <a:lnTo>
                    <a:pt x="1239" y="1874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1136" y="1811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588" y="1576"/>
                  </a:lnTo>
                  <a:lnTo>
                    <a:pt x="368" y="1458"/>
                  </a:lnTo>
                  <a:lnTo>
                    <a:pt x="202" y="1322"/>
                  </a:lnTo>
                  <a:lnTo>
                    <a:pt x="87" y="1167"/>
                  </a:lnTo>
                  <a:lnTo>
                    <a:pt x="22" y="993"/>
                  </a:lnTo>
                  <a:lnTo>
                    <a:pt x="0" y="801"/>
                  </a:lnTo>
                  <a:lnTo>
                    <a:pt x="0" y="801"/>
                  </a:lnTo>
                  <a:lnTo>
                    <a:pt x="20" y="624"/>
                  </a:lnTo>
                  <a:lnTo>
                    <a:pt x="78" y="468"/>
                  </a:lnTo>
                  <a:lnTo>
                    <a:pt x="172" y="331"/>
                  </a:lnTo>
                  <a:lnTo>
                    <a:pt x="300" y="216"/>
                  </a:lnTo>
                  <a:lnTo>
                    <a:pt x="460" y="124"/>
                  </a:lnTo>
                  <a:lnTo>
                    <a:pt x="651" y="56"/>
                  </a:lnTo>
                  <a:lnTo>
                    <a:pt x="867" y="14"/>
                  </a:lnTo>
                  <a:lnTo>
                    <a:pt x="1109" y="0"/>
                  </a:lnTo>
                  <a:lnTo>
                    <a:pt x="1109" y="0"/>
                  </a:lnTo>
                  <a:lnTo>
                    <a:pt x="1362" y="16"/>
                  </a:lnTo>
                  <a:lnTo>
                    <a:pt x="1632" y="55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  <a:lnTo>
                    <a:pt x="1885" y="10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pic>
        <p:nvPicPr>
          <p:cNvPr id="141" name="Reichstag2" descr=""/>
          <p:cNvPicPr/>
          <p:nvPr/>
        </p:nvPicPr>
        <p:blipFill>
          <a:blip r:embed="rId1"/>
          <a:srcRect l="18885" t="0" r="0" b="33242"/>
          <a:stretch/>
        </p:blipFill>
        <p:spPr>
          <a:xfrm>
            <a:off x="1662120" y="0"/>
            <a:ext cx="7480440" cy="4572000"/>
          </a:xfrm>
          <a:prstGeom prst="rect">
            <a:avLst/>
          </a:prstGeom>
          <a:ln w="0">
            <a:noFill/>
          </a:ln>
        </p:spPr>
      </p:pic>
      <p:pic>
        <p:nvPicPr>
          <p:cNvPr id="142" name="Reichstag2" descr=""/>
          <p:cNvPicPr/>
          <p:nvPr/>
        </p:nvPicPr>
        <p:blipFill>
          <a:blip r:embed="rId2"/>
          <a:srcRect l="18869" t="83384" r="0" b="0"/>
          <a:stretch/>
        </p:blipFill>
        <p:spPr>
          <a:xfrm>
            <a:off x="1660680" y="5710320"/>
            <a:ext cx="7483320" cy="1143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661760" y="5791320"/>
            <a:ext cx="7480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Katja Koller / Gerald Bannert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828440" y="1523520"/>
            <a:ext cx="6899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For 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CMOS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it is possible to generate 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I(t) out of IB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more confidential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nd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better available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values of Cpd, than from datashee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Pre-stages / core not neglig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Accuracy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of Cpd dependent 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driver streng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c_com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lew r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689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ctual 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ICN-practice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For CMOS: as shown he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For Non-CMOS technologies: Default paramet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Further investigations on accur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Requirement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for further IBIS-keywor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I(t) - table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o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Cpd_rise /Cpd_fall 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nd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I_peak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(as in too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Overview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6508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Motivatio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Definition of Cpd as a measure of I(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New method for Crossbar current I(t) – generation from IB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Comparison with Hsp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ummary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29880" y="1676520"/>
            <a:ext cx="63248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EMC - Standardization Requirement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EMC - tools for sim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Output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: E(x,f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901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Input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90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Current vs. Tim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51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Crossbar curren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451"/>
              </a:spcBef>
              <a:buClr>
                <a:srgbClr val="0033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Current loop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901"/>
              </a:spcBef>
              <a:buClr>
                <a:srgbClr val="003366"/>
              </a:buClr>
              <a:buSzPct val="8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Layout + Device In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219320" y="3505320"/>
          <a:ext cx="2692440" cy="24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505320"/>
                    <a:ext cx="2692440" cy="2496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933800" y="1282680"/>
          <a:ext cx="3527640" cy="473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3800" y="1282680"/>
                    <a:ext cx="3527640" cy="4737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Definition of Cpd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39920" y="44784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15800" y="5143680"/>
            <a:ext cx="30492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44760" y="5810400"/>
            <a:ext cx="2286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82720" y="4392720"/>
            <a:ext cx="1800" cy="4744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82720" y="4392720"/>
            <a:ext cx="425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de-DE" sz="1400" spc="-1" strike="noStrike" baseline="-25000">
                <a:solidFill>
                  <a:srgbClr val="ff3300"/>
                </a:solidFill>
                <a:latin typeface="Times New Roman"/>
              </a:rPr>
              <a:t>dsp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998360" y="3886200"/>
            <a:ext cx="1675080" cy="1257480"/>
            <a:chOff x="1998360" y="3886200"/>
            <a:chExt cx="1675080" cy="1257480"/>
          </a:xfrm>
        </p:grpSpPr>
        <p:grpSp>
          <p:nvGrpSpPr>
            <p:cNvPr id="159" name=""/>
            <p:cNvGrpSpPr/>
            <p:nvPr/>
          </p:nvGrpSpPr>
          <p:grpSpPr>
            <a:xfrm>
              <a:off x="2530440" y="4583160"/>
              <a:ext cx="1143000" cy="433440"/>
              <a:chOff x="2530440" y="4583160"/>
              <a:chExt cx="1143000" cy="433440"/>
            </a:xfrm>
          </p:grpSpPr>
          <p:sp>
            <p:nvSpPr>
              <p:cNvPr id="160" name=""/>
              <p:cNvSpPr/>
              <p:nvPr/>
            </p:nvSpPr>
            <p:spPr>
              <a:xfrm>
                <a:off x="3209400" y="4583160"/>
                <a:ext cx="4536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3366"/>
                    </a:solidFill>
                    <a:latin typeface="Times New Roman"/>
                  </a:rPr>
                  <a:t>U</a:t>
                </a:r>
                <a:r>
                  <a:rPr b="1" lang="de-DE" sz="1400" spc="-1" strike="noStrike" baseline="-25000">
                    <a:solidFill>
                      <a:srgbClr val="003366"/>
                    </a:solidFill>
                    <a:latin typeface="Times New Roman"/>
                  </a:rPr>
                  <a:t>out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30440" y="5016600"/>
                <a:ext cx="114300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2530440" y="4181400"/>
              <a:ext cx="0" cy="2970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225160" y="4478400"/>
              <a:ext cx="3049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25520" y="4478400"/>
              <a:ext cx="0" cy="36972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25520" y="4848120"/>
              <a:ext cx="3049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30440" y="4848120"/>
              <a:ext cx="0" cy="2955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54120" y="4033800"/>
              <a:ext cx="152640" cy="147600"/>
            </a:xfrm>
            <a:prstGeom prst="ellipse">
              <a:avLst/>
            </a:prstGeom>
            <a:noFill/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98360" y="388620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66"/>
                  </a:solidFill>
                  <a:latin typeface="Times New Roman"/>
                </a:rPr>
                <a:t>vcc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149560" y="5143680"/>
            <a:ext cx="0" cy="3711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49560" y="4478400"/>
            <a:ext cx="0" cy="3697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996920" y="5292720"/>
            <a:ext cx="1526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996920" y="4626000"/>
            <a:ext cx="1526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996920" y="4626000"/>
            <a:ext cx="0" cy="66672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1387080" y="4995720"/>
            <a:ext cx="6094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1400" y="4562640"/>
            <a:ext cx="39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de-DE" sz="1400" spc="-1" strike="noStrike" baseline="-25000">
                <a:solidFill>
                  <a:srgbClr val="003366"/>
                </a:solidFill>
                <a:latin typeface="Times New Roman"/>
              </a:rPr>
              <a:t>i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4572000"/>
            <a:ext cx="81000" cy="90360"/>
          </a:xfrm>
          <a:custGeom>
            <a:avLst/>
            <a:gdLst/>
            <a:ahLst/>
            <a:rect l="l" t="t" r="r" b="b"/>
            <a:pathLst>
              <a:path w="51" h="57">
                <a:moveTo>
                  <a:pt x="1" y="39"/>
                </a:moveTo>
                <a:cubicBezTo>
                  <a:pt x="0" y="26"/>
                  <a:pt x="1" y="16"/>
                  <a:pt x="4" y="10"/>
                </a:cubicBezTo>
                <a:lnTo>
                  <a:pt x="17" y="0"/>
                </a:lnTo>
                <a:lnTo>
                  <a:pt x="34" y="4"/>
                </a:lnTo>
                <a:lnTo>
                  <a:pt x="48" y="13"/>
                </a:lnTo>
                <a:lnTo>
                  <a:pt x="51" y="31"/>
                </a:lnTo>
                <a:lnTo>
                  <a:pt x="43" y="51"/>
                </a:lnTo>
                <a:lnTo>
                  <a:pt x="23" y="57"/>
                </a:lnTo>
                <a:lnTo>
                  <a:pt x="3" y="45"/>
                </a:lnTo>
                <a:lnTo>
                  <a:pt x="1" y="3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422360" y="5209920"/>
            <a:ext cx="355680" cy="238320"/>
            <a:chOff x="1422360" y="5209920"/>
            <a:chExt cx="355680" cy="238320"/>
          </a:xfrm>
        </p:grpSpPr>
        <p:sp>
          <p:nvSpPr>
            <p:cNvPr id="178" name=""/>
            <p:cNvSpPr/>
            <p:nvPr/>
          </p:nvSpPr>
          <p:spPr>
            <a:xfrm flipV="1">
              <a:off x="1523880" y="5209920"/>
              <a:ext cx="152640" cy="237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676520" y="5210280"/>
              <a:ext cx="101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422360" y="5448240"/>
              <a:ext cx="1015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225520" y="5143680"/>
            <a:ext cx="1800" cy="3711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25520" y="5514840"/>
            <a:ext cx="287640" cy="1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30440" y="5514840"/>
            <a:ext cx="1800" cy="2955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51080" y="5143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82720" y="5143680"/>
            <a:ext cx="1800" cy="4744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82720" y="5181480"/>
            <a:ext cx="517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de-DE" sz="1400" spc="-1" strike="noStrike" baseline="-25000">
                <a:solidFill>
                  <a:srgbClr val="ff3300"/>
                </a:solidFill>
                <a:latin typeface="Times New Roman"/>
              </a:rPr>
              <a:t>ds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200040" y="5209920"/>
            <a:ext cx="334440" cy="238320"/>
            <a:chOff x="3200040" y="5209920"/>
            <a:chExt cx="334440" cy="238320"/>
          </a:xfrm>
        </p:grpSpPr>
        <p:sp>
          <p:nvSpPr>
            <p:cNvPr id="188" name=""/>
            <p:cNvSpPr/>
            <p:nvPr/>
          </p:nvSpPr>
          <p:spPr>
            <a:xfrm flipH="1">
              <a:off x="3439080" y="5448240"/>
              <a:ext cx="9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200040" y="5210280"/>
              <a:ext cx="95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295440" y="5209920"/>
              <a:ext cx="143640" cy="2379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 flipH="1">
            <a:off x="2502000" y="5810400"/>
            <a:ext cx="56880" cy="9972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561760" y="5810400"/>
            <a:ext cx="57240" cy="9972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428560" y="5810400"/>
            <a:ext cx="68040" cy="9972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933800" y="1398600"/>
            <a:ext cx="3508200" cy="4497840"/>
            <a:chOff x="4933800" y="1398600"/>
            <a:chExt cx="3508200" cy="4497840"/>
          </a:xfrm>
        </p:grpSpPr>
        <p:sp>
          <p:nvSpPr>
            <p:cNvPr id="195" name=""/>
            <p:cNvSpPr/>
            <p:nvPr/>
          </p:nvSpPr>
          <p:spPr>
            <a:xfrm>
              <a:off x="5010120" y="1550880"/>
              <a:ext cx="585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66"/>
                  </a:solidFill>
                  <a:latin typeface="Times New Roman"/>
                </a:rPr>
                <a:t>U</a:t>
              </a:r>
              <a:r>
                <a:rPr b="1" lang="de-DE" sz="1400" spc="-1" strike="noStrike" baseline="-25000">
                  <a:solidFill>
                    <a:srgbClr val="003366"/>
                  </a:solidFill>
                  <a:latin typeface="Times New Roman"/>
                </a:rPr>
                <a:t>in</a:t>
              </a:r>
              <a:r>
                <a:rPr b="1" lang="de-DE" sz="1400" spc="-1" strike="noStrike">
                  <a:solidFill>
                    <a:srgbClr val="003366"/>
                  </a:solidFill>
                  <a:latin typeface="Times New Roman"/>
                </a:rPr>
                <a:t>/V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33800" y="2998440"/>
              <a:ext cx="649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66"/>
                  </a:solidFill>
                  <a:latin typeface="Times New Roman"/>
                </a:rPr>
                <a:t>U</a:t>
              </a:r>
              <a:r>
                <a:rPr b="1" lang="de-DE" sz="1400" spc="-1" strike="noStrike" baseline="-25000">
                  <a:solidFill>
                    <a:srgbClr val="003366"/>
                  </a:solidFill>
                  <a:latin typeface="Times New Roman"/>
                </a:rPr>
                <a:t>out</a:t>
              </a:r>
              <a:r>
                <a:rPr b="1" lang="de-DE" sz="1400" spc="-1" strike="noStrike">
                  <a:solidFill>
                    <a:srgbClr val="003366"/>
                  </a:solidFill>
                  <a:latin typeface="Times New Roman"/>
                </a:rPr>
                <a:t>/V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33800" y="4294080"/>
              <a:ext cx="750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r>
                <a:rPr b="1" lang="de-DE" sz="1400" spc="-1" strike="noStrike" baseline="-25000">
                  <a:solidFill>
                    <a:srgbClr val="003366"/>
                  </a:solidFill>
                  <a:latin typeface="Times New Roman"/>
                </a:rPr>
                <a:t>dsn</a:t>
              </a:r>
              <a:r>
                <a:rPr b="1" lang="de-DE" sz="1400" spc="-1" strike="noStrike">
                  <a:solidFill>
                    <a:srgbClr val="003366"/>
                  </a:solidFill>
                  <a:latin typeface="Times New Roman"/>
                </a:rPr>
                <a:t>/mA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16720" y="5589360"/>
              <a:ext cx="224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66"/>
                  </a:solidFill>
                  <a:latin typeface="Times New Roman"/>
                </a:rPr>
                <a:t>Cpd = Cpd_rise + Cpd_fall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29640" y="4141440"/>
              <a:ext cx="45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66"/>
                  </a:solidFill>
                  <a:latin typeface="Times New Roman"/>
                </a:rPr>
                <a:t>t/n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05960" y="2617560"/>
              <a:ext cx="45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66"/>
                  </a:solidFill>
                  <a:latin typeface="Times New Roman"/>
                </a:rPr>
                <a:t>t/n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82280" y="5437080"/>
              <a:ext cx="45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66"/>
                  </a:solidFill>
                  <a:latin typeface="Times New Roman"/>
                </a:rPr>
                <a:t>t/ns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40200" y="5449680"/>
              <a:ext cx="26258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5740200" y="4293720"/>
              <a:ext cx="0" cy="11552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40200" y="4001760"/>
              <a:ext cx="26258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40200" y="2617560"/>
              <a:ext cx="262584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5740200" y="2782440"/>
              <a:ext cx="0" cy="12186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740200" y="1398600"/>
              <a:ext cx="0" cy="12189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40200" y="1703160"/>
              <a:ext cx="489240" cy="914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29440" y="2617560"/>
              <a:ext cx="6858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6915240" y="1702800"/>
              <a:ext cx="457200" cy="9140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72440" y="1703160"/>
              <a:ext cx="60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72240" y="3124080"/>
              <a:ext cx="752400" cy="890280"/>
            </a:xfrm>
            <a:custGeom>
              <a:avLst/>
              <a:gdLst/>
              <a:ahLst/>
              <a:rect l="l" t="t" r="r" b="b"/>
              <a:pathLst>
                <a:path w="474" h="561">
                  <a:moveTo>
                    <a:pt x="0" y="545"/>
                  </a:moveTo>
                  <a:cubicBezTo>
                    <a:pt x="59" y="545"/>
                    <a:pt x="118" y="545"/>
                    <a:pt x="149" y="545"/>
                  </a:cubicBezTo>
                  <a:cubicBezTo>
                    <a:pt x="180" y="545"/>
                    <a:pt x="168" y="561"/>
                    <a:pt x="187" y="545"/>
                  </a:cubicBezTo>
                  <a:cubicBezTo>
                    <a:pt x="205" y="529"/>
                    <a:pt x="243" y="489"/>
                    <a:pt x="261" y="449"/>
                  </a:cubicBezTo>
                  <a:cubicBezTo>
                    <a:pt x="280" y="409"/>
                    <a:pt x="288" y="362"/>
                    <a:pt x="299" y="305"/>
                  </a:cubicBezTo>
                  <a:cubicBezTo>
                    <a:pt x="310" y="248"/>
                    <a:pt x="310" y="155"/>
                    <a:pt x="324" y="107"/>
                  </a:cubicBezTo>
                  <a:cubicBezTo>
                    <a:pt x="338" y="59"/>
                    <a:pt x="356" y="34"/>
                    <a:pt x="381" y="17"/>
                  </a:cubicBezTo>
                  <a:cubicBezTo>
                    <a:pt x="406" y="0"/>
                    <a:pt x="455" y="5"/>
                    <a:pt x="474" y="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95960" y="3117600"/>
              <a:ext cx="733680" cy="871200"/>
            </a:xfrm>
            <a:custGeom>
              <a:avLst/>
              <a:gdLst/>
              <a:ahLst/>
              <a:rect l="l" t="t" r="r" b="b"/>
              <a:pathLst>
                <a:path w="462" h="549">
                  <a:moveTo>
                    <a:pt x="0" y="0"/>
                  </a:moveTo>
                  <a:cubicBezTo>
                    <a:pt x="24" y="8"/>
                    <a:pt x="110" y="0"/>
                    <a:pt x="147" y="51"/>
                  </a:cubicBezTo>
                  <a:cubicBezTo>
                    <a:pt x="184" y="102"/>
                    <a:pt x="202" y="234"/>
                    <a:pt x="222" y="309"/>
                  </a:cubicBezTo>
                  <a:cubicBezTo>
                    <a:pt x="242" y="384"/>
                    <a:pt x="230" y="461"/>
                    <a:pt x="270" y="501"/>
                  </a:cubicBezTo>
                  <a:cubicBezTo>
                    <a:pt x="310" y="541"/>
                    <a:pt x="438" y="541"/>
                    <a:pt x="462" y="54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29320" y="3124080"/>
              <a:ext cx="566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76800" y="5437080"/>
              <a:ext cx="60984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219800" y="4446360"/>
              <a:ext cx="762120" cy="1010880"/>
            </a:xfrm>
            <a:custGeom>
              <a:avLst/>
              <a:gdLst/>
              <a:ahLst/>
              <a:rect l="l" t="t" r="r" b="b"/>
              <a:pathLst>
                <a:path w="480" h="637">
                  <a:moveTo>
                    <a:pt x="0" y="630"/>
                  </a:moveTo>
                  <a:cubicBezTo>
                    <a:pt x="15" y="613"/>
                    <a:pt x="65" y="602"/>
                    <a:pt x="87" y="531"/>
                  </a:cubicBezTo>
                  <a:cubicBezTo>
                    <a:pt x="109" y="460"/>
                    <a:pt x="124" y="287"/>
                    <a:pt x="135" y="201"/>
                  </a:cubicBezTo>
                  <a:cubicBezTo>
                    <a:pt x="146" y="115"/>
                    <a:pt x="147" y="0"/>
                    <a:pt x="156" y="15"/>
                  </a:cubicBezTo>
                  <a:cubicBezTo>
                    <a:pt x="165" y="30"/>
                    <a:pt x="178" y="208"/>
                    <a:pt x="192" y="294"/>
                  </a:cubicBezTo>
                  <a:cubicBezTo>
                    <a:pt x="206" y="380"/>
                    <a:pt x="223" y="480"/>
                    <a:pt x="240" y="534"/>
                  </a:cubicBezTo>
                  <a:cubicBezTo>
                    <a:pt x="257" y="588"/>
                    <a:pt x="254" y="605"/>
                    <a:pt x="294" y="621"/>
                  </a:cubicBezTo>
                  <a:cubicBezTo>
                    <a:pt x="334" y="637"/>
                    <a:pt x="441" y="628"/>
                    <a:pt x="480" y="630"/>
                  </a:cubicBez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72240" y="4674960"/>
              <a:ext cx="1447560" cy="771120"/>
            </a:xfrm>
            <a:custGeom>
              <a:avLst/>
              <a:gdLst/>
              <a:ahLst/>
              <a:rect l="l" t="t" r="r" b="b"/>
              <a:pathLst>
                <a:path w="912" h="486">
                  <a:moveTo>
                    <a:pt x="0" y="481"/>
                  </a:moveTo>
                  <a:cubicBezTo>
                    <a:pt x="23" y="481"/>
                    <a:pt x="104" y="486"/>
                    <a:pt x="138" y="481"/>
                  </a:cubicBezTo>
                  <a:cubicBezTo>
                    <a:pt x="172" y="476"/>
                    <a:pt x="187" y="470"/>
                    <a:pt x="204" y="454"/>
                  </a:cubicBezTo>
                  <a:cubicBezTo>
                    <a:pt x="221" y="438"/>
                    <a:pt x="225" y="426"/>
                    <a:pt x="240" y="385"/>
                  </a:cubicBezTo>
                  <a:cubicBezTo>
                    <a:pt x="255" y="344"/>
                    <a:pt x="281" y="269"/>
                    <a:pt x="297" y="205"/>
                  </a:cubicBezTo>
                  <a:cubicBezTo>
                    <a:pt x="313" y="141"/>
                    <a:pt x="321" y="0"/>
                    <a:pt x="336" y="1"/>
                  </a:cubicBezTo>
                  <a:cubicBezTo>
                    <a:pt x="351" y="2"/>
                    <a:pt x="369" y="151"/>
                    <a:pt x="387" y="211"/>
                  </a:cubicBezTo>
                  <a:cubicBezTo>
                    <a:pt x="405" y="271"/>
                    <a:pt x="419" y="323"/>
                    <a:pt x="444" y="364"/>
                  </a:cubicBezTo>
                  <a:cubicBezTo>
                    <a:pt x="469" y="405"/>
                    <a:pt x="496" y="435"/>
                    <a:pt x="534" y="454"/>
                  </a:cubicBezTo>
                  <a:cubicBezTo>
                    <a:pt x="572" y="473"/>
                    <a:pt x="609" y="477"/>
                    <a:pt x="672" y="481"/>
                  </a:cubicBezTo>
                  <a:cubicBezTo>
                    <a:pt x="735" y="485"/>
                    <a:pt x="820" y="481"/>
                    <a:pt x="912" y="481"/>
                  </a:cubicBez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7372440" y="5284440"/>
              <a:ext cx="7596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6318360" y="5284440"/>
              <a:ext cx="63360" cy="3045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31440" y="231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66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864560" y="36842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66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31440" y="51321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3366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223640" y="347976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3366"/>
                </a:solidFill>
                <a:latin typeface="Times New Roman"/>
              </a:rPr>
              <a:t>single inverte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1398600"/>
            <a:ext cx="381024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A virtual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capacitance Cpd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is a measure of the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current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that flows through an open output </a:t>
            </a: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from vcc to gnd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during one period 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Cpd in datashee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Crossbar I(t)       </a:t>
            </a:r>
            <a:br>
              <a:rPr sz="2200"/>
            </a:b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Geometrical Determination Method                    (1)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096920" y="2279520"/>
            <a:ext cx="3656160" cy="2767320"/>
            <a:chOff x="1096920" y="2279520"/>
            <a:chExt cx="3656160" cy="2767320"/>
          </a:xfrm>
        </p:grpSpPr>
        <p:graphicFrame>
          <p:nvGraphicFramePr>
            <p:cNvPr id="227" name=""/>
            <p:cNvGraphicFramePr/>
            <p:nvPr/>
          </p:nvGraphicFramePr>
          <p:xfrm>
            <a:off x="1096920" y="2279520"/>
            <a:ext cx="3656160" cy="2767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96920" y="2279520"/>
                      <a:ext cx="3656160" cy="2767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grpSp>
          <p:nvGrpSpPr>
            <p:cNvPr id="229" name=""/>
            <p:cNvGrpSpPr/>
            <p:nvPr/>
          </p:nvGrpSpPr>
          <p:grpSpPr>
            <a:xfrm>
              <a:off x="1246320" y="2513160"/>
              <a:ext cx="3232080" cy="2233080"/>
              <a:chOff x="1246320" y="2513160"/>
              <a:chExt cx="3232080" cy="2233080"/>
            </a:xfrm>
          </p:grpSpPr>
          <p:sp>
            <p:nvSpPr>
              <p:cNvPr id="230" name=""/>
              <p:cNvSpPr/>
              <p:nvPr/>
            </p:nvSpPr>
            <p:spPr>
              <a:xfrm>
                <a:off x="3829320" y="3755880"/>
                <a:ext cx="649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3366"/>
                    </a:solidFill>
                    <a:latin typeface="Times New Roman"/>
                  </a:rPr>
                  <a:t>U</a:t>
                </a:r>
                <a:r>
                  <a:rPr b="1" lang="de-DE" sz="1400" spc="-1" strike="noStrike" baseline="-25000">
                    <a:solidFill>
                      <a:srgbClr val="003366"/>
                    </a:solidFill>
                    <a:latin typeface="Times New Roman"/>
                  </a:rPr>
                  <a:t>out</a:t>
                </a:r>
                <a:r>
                  <a:rPr b="1" lang="de-DE" sz="1400" spc="-1" strike="noStrike">
                    <a:solidFill>
                      <a:srgbClr val="003366"/>
                    </a:solidFill>
                    <a:latin typeface="Times New Roman"/>
                  </a:rPr>
                  <a:t>/V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335760" y="4403520"/>
                <a:ext cx="1066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ff3300"/>
                    </a:solidFill>
                    <a:latin typeface="Times New Roman"/>
                  </a:rPr>
                  <a:t>high/pullup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158560" y="2513160"/>
                <a:ext cx="121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ff3300"/>
                    </a:solidFill>
                    <a:latin typeface="Times New Roman"/>
                  </a:rPr>
                  <a:t>low/pulldown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46320" y="2709720"/>
                <a:ext cx="7383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3366"/>
                    </a:solidFill>
                    <a:latin typeface="Times New Roman"/>
                  </a:rPr>
                  <a:t>I</a:t>
                </a:r>
                <a:r>
                  <a:rPr b="1" lang="de-DE" sz="1400" spc="-1" strike="noStrike" baseline="-25000">
                    <a:solidFill>
                      <a:srgbClr val="003366"/>
                    </a:solidFill>
                    <a:latin typeface="Times New Roman"/>
                  </a:rPr>
                  <a:t>out</a:t>
                </a:r>
                <a:r>
                  <a:rPr b="1" lang="de-DE" sz="1400" spc="-1" strike="noStrike">
                    <a:solidFill>
                      <a:srgbClr val="003366"/>
                    </a:solidFill>
                    <a:latin typeface="Times New Roman"/>
                  </a:rPr>
                  <a:t>/mA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00520" y="2765160"/>
                <a:ext cx="1981080" cy="914040"/>
              </a:xfrm>
              <a:custGeom>
                <a:avLst/>
                <a:gdLst/>
                <a:ahLst/>
                <a:rect l="l" t="t" r="r" b="b"/>
                <a:pathLst>
                  <a:path w="1248" h="576">
                    <a:moveTo>
                      <a:pt x="0" y="576"/>
                    </a:moveTo>
                    <a:cubicBezTo>
                      <a:pt x="64" y="408"/>
                      <a:pt x="128" y="240"/>
                      <a:pt x="336" y="144"/>
                    </a:cubicBezTo>
                    <a:cubicBezTo>
                      <a:pt x="544" y="48"/>
                      <a:pt x="896" y="24"/>
                      <a:pt x="1248" y="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0846800">
                <a:off x="1998360" y="3676320"/>
                <a:ext cx="1905120" cy="915840"/>
              </a:xfrm>
              <a:custGeom>
                <a:avLst/>
                <a:gdLst/>
                <a:ahLst/>
                <a:rect l="l" t="t" r="r" b="b"/>
                <a:pathLst>
                  <a:path w="1248" h="576">
                    <a:moveTo>
                      <a:pt x="0" y="576"/>
                    </a:moveTo>
                    <a:cubicBezTo>
                      <a:pt x="64" y="408"/>
                      <a:pt x="128" y="240"/>
                      <a:pt x="336" y="144"/>
                    </a:cubicBezTo>
                    <a:cubicBezTo>
                      <a:pt x="544" y="48"/>
                      <a:pt x="896" y="24"/>
                      <a:pt x="1248" y="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2000520" y="2536560"/>
                <a:ext cx="0" cy="220968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00520" y="3679560"/>
                <a:ext cx="2438280" cy="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8" name=""/>
          <p:cNvGrpSpPr/>
          <p:nvPr/>
        </p:nvGrpSpPr>
        <p:grpSpPr>
          <a:xfrm>
            <a:off x="5099040" y="2286000"/>
            <a:ext cx="3628800" cy="2768760"/>
            <a:chOff x="5099040" y="2286000"/>
            <a:chExt cx="3628800" cy="2768760"/>
          </a:xfrm>
        </p:grpSpPr>
        <p:graphicFrame>
          <p:nvGraphicFramePr>
            <p:cNvPr id="239" name=""/>
            <p:cNvGraphicFramePr/>
            <p:nvPr/>
          </p:nvGraphicFramePr>
          <p:xfrm>
            <a:off x="5099040" y="2286000"/>
            <a:ext cx="3628800" cy="2768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99040" y="2286000"/>
                      <a:ext cx="3628800" cy="27687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07932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grpSp>
          <p:nvGrpSpPr>
            <p:cNvPr id="241" name=""/>
            <p:cNvGrpSpPr/>
            <p:nvPr/>
          </p:nvGrpSpPr>
          <p:grpSpPr>
            <a:xfrm>
              <a:off x="5130000" y="2475000"/>
              <a:ext cx="3506040" cy="2574000"/>
              <a:chOff x="5130000" y="2475000"/>
              <a:chExt cx="3506040" cy="2574000"/>
            </a:xfrm>
          </p:grpSpPr>
          <p:sp>
            <p:nvSpPr>
              <p:cNvPr id="242" name=""/>
              <p:cNvSpPr/>
              <p:nvPr/>
            </p:nvSpPr>
            <p:spPr>
              <a:xfrm>
                <a:off x="6919560" y="2475000"/>
                <a:ext cx="1297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3366"/>
                    </a:solidFill>
                    <a:latin typeface="Times New Roman"/>
                  </a:rPr>
                  <a:t>50 ohms to vcc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41040" y="3502080"/>
                <a:ext cx="133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3366"/>
                    </a:solidFill>
                    <a:latin typeface="Times New Roman"/>
                  </a:rPr>
                  <a:t>50 ohms to gnd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043480" y="4741920"/>
                <a:ext cx="45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3366"/>
                    </a:solidFill>
                    <a:latin typeface="Times New Roman"/>
                  </a:rPr>
                  <a:t>t/ns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30000" y="2765520"/>
                <a:ext cx="6818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3366"/>
                    </a:solidFill>
                    <a:latin typeface="Times New Roman"/>
                  </a:rPr>
                  <a:t>U</a:t>
                </a:r>
                <a:r>
                  <a:rPr b="1" lang="de-DE" sz="1400" spc="-1" strike="noStrike" baseline="-25000">
                    <a:solidFill>
                      <a:srgbClr val="003366"/>
                    </a:solidFill>
                    <a:latin typeface="Times New Roman"/>
                  </a:rPr>
                  <a:t>out</a:t>
                </a:r>
                <a:r>
                  <a:rPr b="1" lang="de-DE" sz="1400" spc="-1" strike="noStrike">
                    <a:solidFill>
                      <a:srgbClr val="003366"/>
                    </a:solidFill>
                    <a:latin typeface="Times New Roman"/>
                  </a:rPr>
                  <a:t>/V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V="1">
                <a:off x="5879880" y="2484360"/>
                <a:ext cx="1440" cy="226836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879880" y="4753080"/>
                <a:ext cx="2756160" cy="1800"/>
              </a:xfrm>
              <a:prstGeom prst="line">
                <a:avLst/>
              </a:prstGeom>
              <a:ln w="381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73040" y="2802240"/>
                <a:ext cx="2487960" cy="898560"/>
              </a:xfrm>
              <a:custGeom>
                <a:avLst/>
                <a:gdLst/>
                <a:ahLst/>
                <a:rect l="l" t="t" r="r" b="b"/>
                <a:pathLst>
                  <a:path w="1516" h="532">
                    <a:moveTo>
                      <a:pt x="0" y="519"/>
                    </a:moveTo>
                    <a:cubicBezTo>
                      <a:pt x="24" y="517"/>
                      <a:pt x="107" y="525"/>
                      <a:pt x="148" y="507"/>
                    </a:cubicBezTo>
                    <a:cubicBezTo>
                      <a:pt x="189" y="489"/>
                      <a:pt x="223" y="457"/>
                      <a:pt x="244" y="411"/>
                    </a:cubicBezTo>
                    <a:cubicBezTo>
                      <a:pt x="265" y="365"/>
                      <a:pt x="260" y="287"/>
                      <a:pt x="272" y="231"/>
                    </a:cubicBezTo>
                    <a:cubicBezTo>
                      <a:pt x="284" y="175"/>
                      <a:pt x="293" y="111"/>
                      <a:pt x="316" y="75"/>
                    </a:cubicBezTo>
                    <a:cubicBezTo>
                      <a:pt x="339" y="39"/>
                      <a:pt x="369" y="26"/>
                      <a:pt x="412" y="15"/>
                    </a:cubicBezTo>
                    <a:cubicBezTo>
                      <a:pt x="455" y="4"/>
                      <a:pt x="513" y="8"/>
                      <a:pt x="576" y="7"/>
                    </a:cubicBezTo>
                    <a:cubicBezTo>
                      <a:pt x="639" y="6"/>
                      <a:pt x="705" y="4"/>
                      <a:pt x="788" y="7"/>
                    </a:cubicBezTo>
                    <a:cubicBezTo>
                      <a:pt x="871" y="10"/>
                      <a:pt x="1007" y="0"/>
                      <a:pt x="1072" y="23"/>
                    </a:cubicBezTo>
                    <a:cubicBezTo>
                      <a:pt x="1137" y="46"/>
                      <a:pt x="1153" y="106"/>
                      <a:pt x="1180" y="147"/>
                    </a:cubicBezTo>
                    <a:cubicBezTo>
                      <a:pt x="1207" y="188"/>
                      <a:pt x="1217" y="220"/>
                      <a:pt x="1236" y="267"/>
                    </a:cubicBezTo>
                    <a:cubicBezTo>
                      <a:pt x="1255" y="314"/>
                      <a:pt x="1269" y="386"/>
                      <a:pt x="1292" y="427"/>
                    </a:cubicBezTo>
                    <a:cubicBezTo>
                      <a:pt x="1315" y="468"/>
                      <a:pt x="1339" y="498"/>
                      <a:pt x="1376" y="515"/>
                    </a:cubicBezTo>
                    <a:cubicBezTo>
                      <a:pt x="1413" y="532"/>
                      <a:pt x="1487" y="528"/>
                      <a:pt x="1516" y="531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86720" y="3849840"/>
                <a:ext cx="2448360" cy="890640"/>
              </a:xfrm>
              <a:custGeom>
                <a:avLst/>
                <a:gdLst/>
                <a:ahLst/>
                <a:rect l="l" t="t" r="r" b="b"/>
                <a:pathLst>
                  <a:path w="1492" h="528">
                    <a:moveTo>
                      <a:pt x="0" y="524"/>
                    </a:moveTo>
                    <a:cubicBezTo>
                      <a:pt x="21" y="522"/>
                      <a:pt x="91" y="528"/>
                      <a:pt x="128" y="512"/>
                    </a:cubicBezTo>
                    <a:cubicBezTo>
                      <a:pt x="165" y="496"/>
                      <a:pt x="194" y="464"/>
                      <a:pt x="220" y="428"/>
                    </a:cubicBezTo>
                    <a:cubicBezTo>
                      <a:pt x="246" y="392"/>
                      <a:pt x="265" y="342"/>
                      <a:pt x="284" y="296"/>
                    </a:cubicBezTo>
                    <a:cubicBezTo>
                      <a:pt x="303" y="250"/>
                      <a:pt x="311" y="197"/>
                      <a:pt x="332" y="152"/>
                    </a:cubicBezTo>
                    <a:cubicBezTo>
                      <a:pt x="353" y="107"/>
                      <a:pt x="364" y="48"/>
                      <a:pt x="412" y="24"/>
                    </a:cubicBezTo>
                    <a:cubicBezTo>
                      <a:pt x="460" y="0"/>
                      <a:pt x="537" y="11"/>
                      <a:pt x="620" y="8"/>
                    </a:cubicBezTo>
                    <a:cubicBezTo>
                      <a:pt x="703" y="5"/>
                      <a:pt x="835" y="3"/>
                      <a:pt x="908" y="8"/>
                    </a:cubicBezTo>
                    <a:cubicBezTo>
                      <a:pt x="981" y="13"/>
                      <a:pt x="1021" y="3"/>
                      <a:pt x="1060" y="36"/>
                    </a:cubicBezTo>
                    <a:cubicBezTo>
                      <a:pt x="1099" y="69"/>
                      <a:pt x="1123" y="148"/>
                      <a:pt x="1144" y="208"/>
                    </a:cubicBezTo>
                    <a:cubicBezTo>
                      <a:pt x="1165" y="268"/>
                      <a:pt x="1168" y="348"/>
                      <a:pt x="1184" y="396"/>
                    </a:cubicBezTo>
                    <a:cubicBezTo>
                      <a:pt x="1200" y="444"/>
                      <a:pt x="1206" y="475"/>
                      <a:pt x="1240" y="496"/>
                    </a:cubicBezTo>
                    <a:cubicBezTo>
                      <a:pt x="1274" y="517"/>
                      <a:pt x="1346" y="520"/>
                      <a:pt x="1388" y="524"/>
                    </a:cubicBezTo>
                    <a:cubicBezTo>
                      <a:pt x="1430" y="528"/>
                      <a:pt x="1470" y="521"/>
                      <a:pt x="1492" y="520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" name=""/>
          <p:cNvSpPr/>
          <p:nvPr/>
        </p:nvSpPr>
        <p:spPr>
          <a:xfrm>
            <a:off x="1094040" y="1447920"/>
            <a:ext cx="36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Requirement from IBIS - File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85760" y="527220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Static curves I(u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34880" y="527220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3366"/>
                </a:solidFill>
                <a:latin typeface="Arial"/>
              </a:rPr>
              <a:t>Dynamic curves u(t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Crossbar I(t)       </a:t>
            </a:r>
            <a:br>
              <a:rPr sz="2200"/>
            </a:b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Geometrical Determination Method                    (2)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828440" y="1981080"/>
            <a:ext cx="6507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Static curves I(u) give the behaviour of each single transis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Dynamic curves U(t) with load 50 ohms to gnd and vcc gives a good 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approximation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of the 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switching of each single transist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At a time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t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you can equal the currents through each transistor 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1" lang="de-DE" sz="2400" spc="-1" strike="noStrike" baseline="-25000">
                <a:solidFill>
                  <a:srgbClr val="003366"/>
                </a:solidFill>
                <a:latin typeface="Arial"/>
              </a:rPr>
              <a:t>dsn</a:t>
            </a:r>
            <a:r>
              <a:rPr b="1" lang="de-DE" sz="2400" spc="-1" strike="noStrike">
                <a:solidFill>
                  <a:srgbClr val="003366"/>
                </a:solidFill>
                <a:latin typeface="Arial"/>
              </a:rPr>
              <a:t> = I</a:t>
            </a:r>
            <a:r>
              <a:rPr b="1" lang="de-DE" sz="2400" spc="-1" strike="noStrike" baseline="-25000">
                <a:solidFill>
                  <a:srgbClr val="003366"/>
                </a:solidFill>
                <a:latin typeface="Arial"/>
              </a:rPr>
              <a:t>dsp</a:t>
            </a:r>
            <a:r>
              <a:rPr b="0" lang="de-DE" sz="2400" spc="-1" strike="noStrike">
                <a:solidFill>
                  <a:srgbClr val="003366"/>
                </a:solidFill>
                <a:latin typeface="Arial"/>
              </a:rPr>
              <a:t> and you will get the crossbar curr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99120" y="137160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Procedure in word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Crossbar I(t)       </a:t>
            </a:r>
            <a:br>
              <a:rPr sz="2200"/>
            </a:b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Geometrical Determination Method                    (3)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1523880" y="1752480"/>
          <a:ext cx="7010640" cy="434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52480"/>
                    <a:ext cx="7010640" cy="434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3336840" y="34401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19360" y="2362320"/>
            <a:ext cx="1800" cy="1498320"/>
          </a:xfrm>
          <a:custGeom>
            <a:avLst/>
            <a:gdLst/>
            <a:ahLst/>
            <a:rect l="l" t="t" r="r" b="b"/>
            <a:pathLst>
              <a:path w="1" h="944">
                <a:moveTo>
                  <a:pt x="0" y="0"/>
                </a:moveTo>
                <a:lnTo>
                  <a:pt x="0" y="944"/>
                </a:lnTo>
              </a:path>
            </a:pathLst>
          </a:custGeom>
          <a:noFill/>
          <a:ln w="9360">
            <a:solidFill>
              <a:srgbClr val="00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75680" y="42782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2341440"/>
            <a:ext cx="1955520" cy="1470240"/>
          </a:xfrm>
          <a:custGeom>
            <a:avLst/>
            <a:gdLst/>
            <a:ahLst/>
            <a:rect l="l" t="t" r="r" b="b"/>
            <a:pathLst>
              <a:path w="1232" h="926">
                <a:moveTo>
                  <a:pt x="0" y="917"/>
                </a:moveTo>
                <a:cubicBezTo>
                  <a:pt x="84" y="921"/>
                  <a:pt x="169" y="926"/>
                  <a:pt x="240" y="816"/>
                </a:cubicBezTo>
                <a:cubicBezTo>
                  <a:pt x="311" y="706"/>
                  <a:pt x="367" y="386"/>
                  <a:pt x="428" y="257"/>
                </a:cubicBezTo>
                <a:cubicBezTo>
                  <a:pt x="489" y="128"/>
                  <a:pt x="470" y="82"/>
                  <a:pt x="604" y="41"/>
                </a:cubicBezTo>
                <a:cubicBezTo>
                  <a:pt x="738" y="0"/>
                  <a:pt x="1101" y="19"/>
                  <a:pt x="1232" y="13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2362320"/>
            <a:ext cx="1676520" cy="144756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cubicBezTo>
                  <a:pt x="72" y="908"/>
                  <a:pt x="146" y="904"/>
                  <a:pt x="198" y="861"/>
                </a:cubicBezTo>
                <a:cubicBezTo>
                  <a:pt x="250" y="818"/>
                  <a:pt x="272" y="742"/>
                  <a:pt x="312" y="656"/>
                </a:cubicBezTo>
                <a:cubicBezTo>
                  <a:pt x="352" y="570"/>
                  <a:pt x="401" y="423"/>
                  <a:pt x="440" y="344"/>
                </a:cubicBezTo>
                <a:cubicBezTo>
                  <a:pt x="479" y="265"/>
                  <a:pt x="496" y="228"/>
                  <a:pt x="548" y="180"/>
                </a:cubicBezTo>
                <a:cubicBezTo>
                  <a:pt x="600" y="132"/>
                  <a:pt x="667" y="86"/>
                  <a:pt x="752" y="56"/>
                </a:cubicBezTo>
                <a:cubicBezTo>
                  <a:pt x="837" y="26"/>
                  <a:pt x="993" y="12"/>
                  <a:pt x="1056" y="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960720" y="266688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ff"/>
                </a:solidFill>
                <a:latin typeface="Times New Roman"/>
              </a:rPr>
              <a:t>50 ohms to gnd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2120" y="198108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3300"/>
                </a:solidFill>
                <a:latin typeface="Times New Roman"/>
              </a:rPr>
              <a:t>50 ohms to vcc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380988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cc00"/>
                </a:solidFill>
                <a:latin typeface="Times New Roman"/>
              </a:rPr>
              <a:t>t = t_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27432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438280" y="2133720"/>
            <a:ext cx="0" cy="16761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88280" y="365616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09720" y="228600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8120" y="1828800"/>
            <a:ext cx="7304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de-DE" sz="1400" spc="-1" strike="noStrike" baseline="-25000">
                <a:solidFill>
                  <a:srgbClr val="003366"/>
                </a:solidFill>
                <a:latin typeface="Times New Roman"/>
              </a:rPr>
              <a:t>out</a:t>
            </a:r>
            <a:r>
              <a:rPr b="1" lang="de-DE" sz="1400" spc="-1" strike="noStrike">
                <a:solidFill>
                  <a:srgbClr val="003366"/>
                </a:solidFill>
                <a:latin typeface="Times New Roman"/>
              </a:rPr>
              <a:t>/U</a:t>
            </a:r>
            <a:r>
              <a:rPr b="1" lang="de-DE" sz="1400" spc="-1" strike="noStrike" baseline="-25000">
                <a:solidFill>
                  <a:srgbClr val="003366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32480" y="3821040"/>
            <a:ext cx="45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Times New Roman"/>
              </a:rPr>
              <a:t>t/n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438280" y="2362320"/>
            <a:ext cx="2362320" cy="0"/>
          </a:xfrm>
          <a:prstGeom prst="line">
            <a:avLst/>
          </a:prstGeom>
          <a:ln cap="rnd" w="936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2437920" y="3656160"/>
            <a:ext cx="1081080" cy="144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438280" y="2666880"/>
            <a:ext cx="1082880" cy="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4756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0080" y="350352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cc00"/>
                </a:solidFill>
                <a:latin typeface="Times New Roman"/>
              </a:rPr>
              <a:t>1‘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434340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cc00"/>
                </a:solidFill>
                <a:latin typeface="Times New Roman"/>
              </a:rPr>
              <a:t>1‘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96760" y="4572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cc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4120" y="1905120"/>
            <a:ext cx="250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Times New Roman"/>
              </a:rPr>
              <a:t>normalized output voltage U</a:t>
            </a:r>
            <a:r>
              <a:rPr b="1" lang="de-DE" sz="1400" spc="-1" strike="noStrike" baseline="-25000">
                <a:solidFill>
                  <a:srgbClr val="003366"/>
                </a:solidFill>
                <a:latin typeface="Times New Roman"/>
              </a:rPr>
              <a:t>out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54120" y="5627520"/>
            <a:ext cx="274320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08480" y="4114800"/>
            <a:ext cx="721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de-DE" sz="1400" spc="-1" strike="noStrike" baseline="-25000">
                <a:solidFill>
                  <a:srgbClr val="003366"/>
                </a:solidFill>
                <a:latin typeface="Times New Roman"/>
              </a:rPr>
              <a:t>out</a:t>
            </a:r>
            <a:r>
              <a:rPr b="1" lang="de-DE" sz="1400" spc="-1" strike="noStrike">
                <a:solidFill>
                  <a:srgbClr val="003366"/>
                </a:solidFill>
                <a:latin typeface="Times New Roman"/>
              </a:rPr>
              <a:t>/m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725720" y="571500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Times New Roman"/>
              </a:rPr>
              <a:t>U</a:t>
            </a:r>
            <a:r>
              <a:rPr b="1" lang="de-DE" sz="1200" spc="-1" strike="noStrike">
                <a:solidFill>
                  <a:srgbClr val="003366"/>
                </a:solidFill>
                <a:latin typeface="Times New Roman"/>
              </a:rPr>
              <a:t>out</a:t>
            </a:r>
            <a:r>
              <a:rPr b="1" lang="de-DE" sz="1400" spc="-1" strike="noStrike">
                <a:solidFill>
                  <a:srgbClr val="003366"/>
                </a:solidFill>
                <a:latin typeface="Times New Roman"/>
              </a:rPr>
              <a:t>/V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8280" y="4419720"/>
            <a:ext cx="2057400" cy="1218960"/>
          </a:xfrm>
          <a:custGeom>
            <a:avLst/>
            <a:gdLst/>
            <a:ahLst/>
            <a:rect l="l" t="t" r="r" b="b"/>
            <a:pathLst>
              <a:path w="1296" h="768">
                <a:moveTo>
                  <a:pt x="0" y="768"/>
                </a:moveTo>
                <a:cubicBezTo>
                  <a:pt x="64" y="604"/>
                  <a:pt x="128" y="440"/>
                  <a:pt x="240" y="336"/>
                </a:cubicBezTo>
                <a:cubicBezTo>
                  <a:pt x="352" y="232"/>
                  <a:pt x="496" y="200"/>
                  <a:pt x="672" y="144"/>
                </a:cubicBezTo>
                <a:cubicBezTo>
                  <a:pt x="848" y="88"/>
                  <a:pt x="1072" y="44"/>
                  <a:pt x="1296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438280" y="4800600"/>
            <a:ext cx="2057400" cy="838080"/>
          </a:xfrm>
          <a:custGeom>
            <a:avLst/>
            <a:gdLst/>
            <a:ahLst/>
            <a:rect l="l" t="t" r="r" b="b"/>
            <a:pathLst>
              <a:path w="1296" h="768">
                <a:moveTo>
                  <a:pt x="0" y="768"/>
                </a:moveTo>
                <a:cubicBezTo>
                  <a:pt x="64" y="604"/>
                  <a:pt x="128" y="440"/>
                  <a:pt x="240" y="336"/>
                </a:cubicBezTo>
                <a:cubicBezTo>
                  <a:pt x="352" y="232"/>
                  <a:pt x="496" y="200"/>
                  <a:pt x="672" y="144"/>
                </a:cubicBezTo>
                <a:cubicBezTo>
                  <a:pt x="848" y="88"/>
                  <a:pt x="1072" y="44"/>
                  <a:pt x="1296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38280" y="5181480"/>
            <a:ext cx="2057400" cy="457200"/>
          </a:xfrm>
          <a:custGeom>
            <a:avLst/>
            <a:gdLst/>
            <a:ahLst/>
            <a:rect l="l" t="t" r="r" b="b"/>
            <a:pathLst>
              <a:path w="1296" h="768">
                <a:moveTo>
                  <a:pt x="0" y="768"/>
                </a:moveTo>
                <a:cubicBezTo>
                  <a:pt x="64" y="604"/>
                  <a:pt x="128" y="440"/>
                  <a:pt x="240" y="336"/>
                </a:cubicBezTo>
                <a:cubicBezTo>
                  <a:pt x="352" y="232"/>
                  <a:pt x="496" y="200"/>
                  <a:pt x="672" y="144"/>
                </a:cubicBezTo>
                <a:cubicBezTo>
                  <a:pt x="848" y="88"/>
                  <a:pt x="1072" y="44"/>
                  <a:pt x="1296" y="0"/>
                </a:cubicBezTo>
              </a:path>
            </a:pathLst>
          </a:custGeom>
          <a:noFill/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38280" y="4343400"/>
            <a:ext cx="2057400" cy="1219320"/>
          </a:xfrm>
          <a:custGeom>
            <a:avLst/>
            <a:gdLst/>
            <a:ahLst/>
            <a:rect l="l" t="t" r="r" b="b"/>
            <a:pathLst>
              <a:path w="1296" h="768">
                <a:moveTo>
                  <a:pt x="1296" y="768"/>
                </a:moveTo>
                <a:cubicBezTo>
                  <a:pt x="1284" y="644"/>
                  <a:pt x="1272" y="520"/>
                  <a:pt x="1200" y="432"/>
                </a:cubicBezTo>
                <a:cubicBezTo>
                  <a:pt x="1128" y="344"/>
                  <a:pt x="1064" y="312"/>
                  <a:pt x="864" y="240"/>
                </a:cubicBezTo>
                <a:cubicBezTo>
                  <a:pt x="664" y="168"/>
                  <a:pt x="332" y="84"/>
                  <a:pt x="0" y="0"/>
                </a:cubicBezTo>
              </a:path>
            </a:pathLst>
          </a:custGeom>
          <a:noFill/>
          <a:ln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4495680"/>
            <a:ext cx="2057400" cy="1143000"/>
          </a:xfrm>
          <a:custGeom>
            <a:avLst/>
            <a:gdLst/>
            <a:ahLst/>
            <a:rect l="l" t="t" r="r" b="b"/>
            <a:pathLst>
              <a:path w="1296" h="768">
                <a:moveTo>
                  <a:pt x="1296" y="768"/>
                </a:moveTo>
                <a:cubicBezTo>
                  <a:pt x="1284" y="644"/>
                  <a:pt x="1272" y="520"/>
                  <a:pt x="1200" y="432"/>
                </a:cubicBezTo>
                <a:cubicBezTo>
                  <a:pt x="1128" y="344"/>
                  <a:pt x="1064" y="312"/>
                  <a:pt x="864" y="240"/>
                </a:cubicBezTo>
                <a:cubicBezTo>
                  <a:pt x="664" y="168"/>
                  <a:pt x="332" y="84"/>
                  <a:pt x="0" y="0"/>
                </a:cubicBezTo>
              </a:path>
            </a:pathLst>
          </a:custGeom>
          <a:noFill/>
          <a:ln w="284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38280" y="5257800"/>
            <a:ext cx="2057400" cy="380880"/>
          </a:xfrm>
          <a:custGeom>
            <a:avLst/>
            <a:gdLst/>
            <a:ahLst/>
            <a:rect l="l" t="t" r="r" b="b"/>
            <a:pathLst>
              <a:path w="1296" h="768">
                <a:moveTo>
                  <a:pt x="1296" y="768"/>
                </a:moveTo>
                <a:cubicBezTo>
                  <a:pt x="1284" y="644"/>
                  <a:pt x="1272" y="520"/>
                  <a:pt x="1200" y="432"/>
                </a:cubicBezTo>
                <a:cubicBezTo>
                  <a:pt x="1128" y="344"/>
                  <a:pt x="1064" y="312"/>
                  <a:pt x="864" y="240"/>
                </a:cubicBezTo>
                <a:cubicBezTo>
                  <a:pt x="664" y="168"/>
                  <a:pt x="332" y="84"/>
                  <a:pt x="0" y="0"/>
                </a:cubicBezTo>
              </a:path>
            </a:pathLst>
          </a:custGeom>
          <a:noFill/>
          <a:ln w="1908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19160" y="411480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6ff"/>
                </a:solidFill>
                <a:latin typeface="Times New Roman"/>
              </a:rPr>
              <a:t>-high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920" y="411480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3300"/>
                </a:solidFill>
                <a:latin typeface="Times New Roman"/>
              </a:rPr>
              <a:t>low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59440" y="5627520"/>
            <a:ext cx="236232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4267080"/>
            <a:ext cx="7506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de-DE" sz="1400" spc="-1" strike="noStrike" baseline="-25000">
                <a:solidFill>
                  <a:srgbClr val="003366"/>
                </a:solidFill>
                <a:latin typeface="Times New Roman"/>
              </a:rPr>
              <a:t>dsn</a:t>
            </a:r>
            <a:r>
              <a:rPr b="1" lang="de-DE" sz="1400" spc="-1" strike="noStrike">
                <a:solidFill>
                  <a:srgbClr val="003366"/>
                </a:solidFill>
                <a:latin typeface="Times New Roman"/>
              </a:rPr>
              <a:t>/m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788600" y="5627520"/>
            <a:ext cx="45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3366"/>
                </a:solidFill>
                <a:latin typeface="Times New Roman"/>
              </a:rPr>
              <a:t>t/ns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05720" y="5715000"/>
            <a:ext cx="6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cc00"/>
                </a:solidFill>
                <a:latin typeface="Times New Roman"/>
              </a:rPr>
              <a:t>t = t_n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7102440" y="4865760"/>
            <a:ext cx="0" cy="761760"/>
          </a:xfrm>
          <a:prstGeom prst="line">
            <a:avLst/>
          </a:prstGeom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02040" y="4865760"/>
            <a:ext cx="320040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35560" y="5170320"/>
            <a:ext cx="2803320" cy="111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857640" y="4865760"/>
            <a:ext cx="244440" cy="392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568560" y="5257800"/>
            <a:ext cx="289080" cy="369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02440" y="4865760"/>
            <a:ext cx="380880" cy="761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31040" y="463716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cc00"/>
                </a:solidFill>
                <a:latin typeface="Times New Roman"/>
              </a:rPr>
              <a:t>I_peak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438280" y="4114440"/>
            <a:ext cx="0" cy="15238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943600" y="4114440"/>
            <a:ext cx="0" cy="15238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90920" y="5257800"/>
            <a:ext cx="426708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79720" y="4842000"/>
            <a:ext cx="82800" cy="87120"/>
          </a:xfrm>
          <a:custGeom>
            <a:avLst/>
            <a:gdLst/>
            <a:ahLst/>
            <a:rect l="l" t="t" r="r" b="b"/>
            <a:pathLst>
              <a:path w="52" h="55">
                <a:moveTo>
                  <a:pt x="1" y="30"/>
                </a:moveTo>
                <a:cubicBezTo>
                  <a:pt x="0" y="8"/>
                  <a:pt x="3" y="15"/>
                  <a:pt x="6" y="9"/>
                </a:cubicBezTo>
                <a:lnTo>
                  <a:pt x="18" y="1"/>
                </a:lnTo>
                <a:lnTo>
                  <a:pt x="33" y="0"/>
                </a:lnTo>
                <a:lnTo>
                  <a:pt x="48" y="13"/>
                </a:lnTo>
                <a:lnTo>
                  <a:pt x="52" y="30"/>
                </a:lnTo>
                <a:lnTo>
                  <a:pt x="42" y="49"/>
                </a:lnTo>
                <a:lnTo>
                  <a:pt x="22" y="55"/>
                </a:lnTo>
                <a:lnTo>
                  <a:pt x="3" y="45"/>
                </a:lnTo>
                <a:lnTo>
                  <a:pt x="1" y="30"/>
                </a:lnTo>
                <a:close/>
              </a:path>
            </a:pathLst>
          </a:custGeom>
          <a:solidFill>
            <a:srgbClr val="00cc00"/>
          </a:solidFill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440" y="129528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66"/>
                </a:solidFill>
                <a:latin typeface="Arial"/>
              </a:rPr>
              <a:t>Procedure in grafics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200mA_rise" descr=""/>
          <p:cNvPicPr/>
          <p:nvPr/>
        </p:nvPicPr>
        <p:blipFill>
          <a:blip r:embed="rId1"/>
          <a:stretch/>
        </p:blipFill>
        <p:spPr>
          <a:xfrm>
            <a:off x="434880" y="2297160"/>
            <a:ext cx="3984840" cy="2873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Comparison HSpice / Geometrical Method          (1)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22160" y="1447560"/>
            <a:ext cx="6529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Inverter I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Arial"/>
              </a:rPr>
              <a:t>out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(Vcc=3.3V) = 200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39000" y="55627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ris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555240" y="556272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fal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4724280" y="2297160"/>
            <a:ext cx="3970080" cy="2897280"/>
            <a:chOff x="4724280" y="2297160"/>
            <a:chExt cx="3970080" cy="2897280"/>
          </a:xfrm>
        </p:grpSpPr>
        <p:pic>
          <p:nvPicPr>
            <p:cNvPr id="314" name="200mA_fall" descr=""/>
            <p:cNvPicPr/>
            <p:nvPr/>
          </p:nvPicPr>
          <p:blipFill>
            <a:blip r:embed="rId2"/>
            <a:stretch/>
          </p:blipFill>
          <p:spPr>
            <a:xfrm>
              <a:off x="4743360" y="2297160"/>
              <a:ext cx="3951000" cy="2873160"/>
            </a:xfrm>
            <a:prstGeom prst="rect">
              <a:avLst/>
            </a:prstGeom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grpSp>
          <p:nvGrpSpPr>
            <p:cNvPr id="315" name=""/>
            <p:cNvGrpSpPr/>
            <p:nvPr/>
          </p:nvGrpSpPr>
          <p:grpSpPr>
            <a:xfrm>
              <a:off x="7387560" y="2597040"/>
              <a:ext cx="1151640" cy="612000"/>
              <a:chOff x="7387560" y="2597040"/>
              <a:chExt cx="1151640" cy="612000"/>
            </a:xfrm>
          </p:grpSpPr>
          <p:sp>
            <p:nvSpPr>
              <p:cNvPr id="316" name=""/>
              <p:cNvSpPr/>
              <p:nvPr/>
            </p:nvSpPr>
            <p:spPr>
              <a:xfrm>
                <a:off x="7388280" y="2597040"/>
                <a:ext cx="726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ff3300"/>
                    </a:solidFill>
                    <a:latin typeface="Times New Roman"/>
                  </a:rPr>
                  <a:t>HSpice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387560" y="2901960"/>
                <a:ext cx="115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66ff"/>
                    </a:solidFill>
                    <a:latin typeface="Times New Roman"/>
                  </a:rPr>
                  <a:t>Geo. method</a:t>
                </a:r>
                <a:endParaRPr b="0" lang="en-US" sz="1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4899600" y="4946400"/>
              <a:ext cx="40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66"/>
                  </a:solidFill>
                  <a:latin typeface="Times New Roman"/>
                </a:rPr>
                <a:t>24.8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15440" y="4937040"/>
              <a:ext cx="40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66"/>
                  </a:solidFill>
                  <a:latin typeface="Times New Roman"/>
                </a:rPr>
                <a:t>25.2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823440" y="4937040"/>
              <a:ext cx="40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66"/>
                  </a:solidFill>
                  <a:latin typeface="Times New Roman"/>
                </a:rPr>
                <a:t>25.6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37920" y="4937040"/>
              <a:ext cx="40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66"/>
                  </a:solidFill>
                  <a:latin typeface="Times New Roman"/>
                </a:rPr>
                <a:t>26.0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244720" y="491796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3366"/>
                  </a:solidFill>
                  <a:latin typeface="Times New Roman"/>
                </a:rPr>
                <a:t>t/n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24280" y="2322360"/>
              <a:ext cx="52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3366"/>
                  </a:solidFill>
                  <a:latin typeface="Times New Roman"/>
                </a:rPr>
                <a:t>I/mA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97360" y="4405320"/>
              <a:ext cx="24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66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743360" y="3597120"/>
              <a:ext cx="31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66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33640" y="2832120"/>
              <a:ext cx="31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66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12000" y="4937040"/>
            <a:ext cx="3806280" cy="276480"/>
            <a:chOff x="612000" y="4937040"/>
            <a:chExt cx="3806280" cy="276480"/>
          </a:xfrm>
        </p:grpSpPr>
        <p:sp>
          <p:nvSpPr>
            <p:cNvPr id="328" name=""/>
            <p:cNvSpPr/>
            <p:nvPr/>
          </p:nvSpPr>
          <p:spPr>
            <a:xfrm>
              <a:off x="612000" y="4937040"/>
              <a:ext cx="34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66"/>
                  </a:solidFill>
                  <a:latin typeface="Times New Roman"/>
                </a:rPr>
                <a:t>2.8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32960" y="4967280"/>
              <a:ext cx="34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66"/>
                  </a:solidFill>
                  <a:latin typeface="Times New Roman"/>
                </a:rPr>
                <a:t>3.2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604240" y="4967280"/>
              <a:ext cx="34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66"/>
                  </a:solidFill>
                  <a:latin typeface="Times New Roman"/>
                </a:rPr>
                <a:t>3.6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71200" y="4967280"/>
              <a:ext cx="34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66"/>
                  </a:solidFill>
                  <a:latin typeface="Times New Roman"/>
                </a:rPr>
                <a:t>4.0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99960" y="4937040"/>
              <a:ext cx="41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3366"/>
                  </a:solidFill>
                  <a:latin typeface="Times New Roman"/>
                </a:rPr>
                <a:t>t/ns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004920" y="2662200"/>
            <a:ext cx="1151640" cy="612000"/>
            <a:chOff x="3004920" y="2662200"/>
            <a:chExt cx="1151640" cy="612000"/>
          </a:xfrm>
        </p:grpSpPr>
        <p:sp>
          <p:nvSpPr>
            <p:cNvPr id="334" name=""/>
            <p:cNvSpPr/>
            <p:nvPr/>
          </p:nvSpPr>
          <p:spPr>
            <a:xfrm>
              <a:off x="3005640" y="2662200"/>
              <a:ext cx="72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3300"/>
                  </a:solidFill>
                  <a:latin typeface="Times New Roman"/>
                </a:rPr>
                <a:t>HSpic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004920" y="2967120"/>
              <a:ext cx="115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66ff"/>
                  </a:solidFill>
                  <a:latin typeface="Times New Roman"/>
                </a:rPr>
                <a:t>Geo. metho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42800" y="2376360"/>
            <a:ext cx="522000" cy="2329200"/>
            <a:chOff x="442800" y="2376360"/>
            <a:chExt cx="522000" cy="2329200"/>
          </a:xfrm>
        </p:grpSpPr>
        <p:sp>
          <p:nvSpPr>
            <p:cNvPr id="337" name=""/>
            <p:cNvSpPr/>
            <p:nvPr/>
          </p:nvSpPr>
          <p:spPr>
            <a:xfrm>
              <a:off x="442800" y="23763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3366"/>
                  </a:solidFill>
                  <a:latin typeface="Times New Roman"/>
                </a:rPr>
                <a:t>I/mA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5520" y="4459320"/>
              <a:ext cx="24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66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1880" y="3651120"/>
              <a:ext cx="31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66"/>
                  </a:solidFill>
                  <a:latin typeface="Times New Roman"/>
                </a:rPr>
                <a:t>10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2160" y="2886120"/>
              <a:ext cx="311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66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89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3366"/>
                </a:solidFill>
                <a:latin typeface="Arial"/>
              </a:rPr>
              <a:t>Comparison HSpice / Geometrical Method          (2)</a:t>
            </a:r>
            <a:endParaRPr b="1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830240" y="1409400"/>
            <a:ext cx="73137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51"/>
              </a:spcBef>
              <a:buClr>
                <a:srgbClr val="a5002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Driver with prestage I</a:t>
            </a:r>
            <a:r>
              <a:rPr b="0" lang="de-DE" sz="2000" spc="-1" strike="noStrike" baseline="-25000">
                <a:solidFill>
                  <a:srgbClr val="003366"/>
                </a:solidFill>
                <a:latin typeface="Arial"/>
              </a:rPr>
              <a:t>out</a:t>
            </a: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 (Vcc=3.3V) = 60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439000" y="556272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ris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55240" y="5562720"/>
            <a:ext cx="5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3366"/>
                </a:solidFill>
                <a:latin typeface="Arial"/>
              </a:rPr>
              <a:t>fal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55760" y="2327400"/>
            <a:ext cx="3965400" cy="2897280"/>
            <a:chOff x="455760" y="2327400"/>
            <a:chExt cx="3965400" cy="2897280"/>
          </a:xfrm>
        </p:grpSpPr>
        <p:pic>
          <p:nvPicPr>
            <p:cNvPr id="346" name="lvc16244a_tex_rise" descr=""/>
            <p:cNvPicPr/>
            <p:nvPr/>
          </p:nvPicPr>
          <p:blipFill>
            <a:blip r:embed="rId1"/>
            <a:stretch/>
          </p:blipFill>
          <p:spPr>
            <a:xfrm>
              <a:off x="455760" y="2327400"/>
              <a:ext cx="3965400" cy="2854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7" name=""/>
            <p:cNvGrpSpPr/>
            <p:nvPr/>
          </p:nvGrpSpPr>
          <p:grpSpPr>
            <a:xfrm>
              <a:off x="669240" y="4948200"/>
              <a:ext cx="3695040" cy="276480"/>
              <a:chOff x="669240" y="4948200"/>
              <a:chExt cx="3695040" cy="276480"/>
            </a:xfrm>
          </p:grpSpPr>
          <p:sp>
            <p:nvSpPr>
              <p:cNvPr id="348" name=""/>
              <p:cNvSpPr/>
              <p:nvPr/>
            </p:nvSpPr>
            <p:spPr>
              <a:xfrm>
                <a:off x="669240" y="4972320"/>
                <a:ext cx="34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3366"/>
                    </a:solidFill>
                    <a:latin typeface="Times New Roman"/>
                  </a:rPr>
                  <a:t>3.0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583640" y="4972320"/>
                <a:ext cx="34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3366"/>
                    </a:solidFill>
                    <a:latin typeface="Times New Roman"/>
                  </a:rPr>
                  <a:t>4.0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421720" y="4972320"/>
                <a:ext cx="34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3366"/>
                    </a:solidFill>
                    <a:latin typeface="Times New Roman"/>
                  </a:rPr>
                  <a:t>5.0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320280" y="4972320"/>
                <a:ext cx="34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3366"/>
                    </a:solidFill>
                    <a:latin typeface="Times New Roman"/>
                  </a:rPr>
                  <a:t>6.0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945960" y="494820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3366"/>
                    </a:solidFill>
                    <a:latin typeface="Times New Roman"/>
                  </a:rPr>
                  <a:t>t/ns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545760" y="45975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66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0200" y="398772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66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0200" y="337824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66"/>
                  </a:solidFill>
                  <a:latin typeface="Times New Roman"/>
                </a:rPr>
                <a:t>40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3720" y="2768760"/>
              <a:ext cx="30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3366"/>
                  </a:solidFill>
                  <a:latin typeface="Times New Roman"/>
                </a:rPr>
                <a:t>60</a:t>
              </a:r>
              <a:endParaRPr b="0" lang="en-US" sz="1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7200" y="232740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3366"/>
                  </a:solidFill>
                  <a:latin typeface="Times New Roman"/>
                </a:rPr>
                <a:t>I/mA</a:t>
              </a:r>
              <a:endParaRPr b="0" lang="en-US" sz="1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86280" y="2602080"/>
              <a:ext cx="72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3300"/>
                  </a:solidFill>
                  <a:latin typeface="Times New Roman"/>
                </a:rPr>
                <a:t>HSpic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85920" y="2906640"/>
              <a:ext cx="115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66ff"/>
                  </a:solidFill>
                  <a:latin typeface="Times New Roman"/>
                </a:rPr>
                <a:t>Geo. metho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690800" y="2292480"/>
            <a:ext cx="4035960" cy="2921040"/>
            <a:chOff x="4690800" y="2292480"/>
            <a:chExt cx="4035960" cy="2921040"/>
          </a:xfrm>
        </p:grpSpPr>
        <p:pic>
          <p:nvPicPr>
            <p:cNvPr id="361" name="lvc16244a_tex_fall" descr=""/>
            <p:cNvPicPr/>
            <p:nvPr/>
          </p:nvPicPr>
          <p:blipFill>
            <a:blip r:embed="rId2"/>
            <a:stretch/>
          </p:blipFill>
          <p:spPr>
            <a:xfrm>
              <a:off x="4746600" y="2327400"/>
              <a:ext cx="3965760" cy="2854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2" name=""/>
            <p:cNvGrpSpPr/>
            <p:nvPr/>
          </p:nvGrpSpPr>
          <p:grpSpPr>
            <a:xfrm>
              <a:off x="4893480" y="4937040"/>
              <a:ext cx="3833280" cy="276480"/>
              <a:chOff x="4893480" y="4937040"/>
              <a:chExt cx="3833280" cy="276480"/>
            </a:xfrm>
          </p:grpSpPr>
          <p:sp>
            <p:nvSpPr>
              <p:cNvPr id="363" name=""/>
              <p:cNvSpPr/>
              <p:nvPr/>
            </p:nvSpPr>
            <p:spPr>
              <a:xfrm>
                <a:off x="4893480" y="4961160"/>
                <a:ext cx="40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3366"/>
                    </a:solidFill>
                    <a:latin typeface="Times New Roman"/>
                  </a:rPr>
                  <a:t>24.5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99880" y="4961160"/>
                <a:ext cx="40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3366"/>
                    </a:solidFill>
                    <a:latin typeface="Times New Roman"/>
                  </a:rPr>
                  <a:t>25.5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614280" y="4967280"/>
                <a:ext cx="40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3366"/>
                    </a:solidFill>
                    <a:latin typeface="Times New Roman"/>
                  </a:rPr>
                  <a:t>26.5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452360" y="4967280"/>
                <a:ext cx="40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3366"/>
                    </a:solidFill>
                    <a:latin typeface="Times New Roman"/>
                  </a:rPr>
                  <a:t>27.5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8308440" y="4937040"/>
                <a:ext cx="4183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3366"/>
                    </a:solidFill>
                    <a:latin typeface="Times New Roman"/>
                  </a:rPr>
                  <a:t>t/ns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4690800" y="2292480"/>
              <a:ext cx="519120" cy="2516400"/>
              <a:chOff x="4690800" y="2292480"/>
              <a:chExt cx="519120" cy="2516400"/>
            </a:xfrm>
          </p:grpSpPr>
          <p:sp>
            <p:nvSpPr>
              <p:cNvPr id="369" name=""/>
              <p:cNvSpPr/>
              <p:nvPr/>
            </p:nvSpPr>
            <p:spPr>
              <a:xfrm>
                <a:off x="4779720" y="456264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3366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54160" y="3952800"/>
                <a:ext cx="308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3366"/>
                    </a:solidFill>
                    <a:latin typeface="Times New Roman"/>
                  </a:rPr>
                  <a:t>20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754160" y="3343320"/>
                <a:ext cx="308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3366"/>
                    </a:solidFill>
                    <a:latin typeface="Times New Roman"/>
                  </a:rPr>
                  <a:t>40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747680" y="2733840"/>
                <a:ext cx="308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000" spc="-1" strike="noStrike">
                    <a:solidFill>
                      <a:srgbClr val="003366"/>
                    </a:solidFill>
                    <a:latin typeface="Times New Roman"/>
                  </a:rPr>
                  <a:t>60</a:t>
                </a:r>
                <a:endParaRPr b="0" lang="en-US" sz="10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690800" y="2292480"/>
                <a:ext cx="51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3366"/>
                    </a:solidFill>
                    <a:latin typeface="Times New Roman"/>
                  </a:rPr>
                  <a:t>I/mA</a:t>
                </a:r>
                <a:endParaRPr b="0" lang="en-US" sz="1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310520" y="2567160"/>
              <a:ext cx="72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3300"/>
                  </a:solidFill>
                  <a:latin typeface="Times New Roman"/>
                </a:rPr>
                <a:t>HSpice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10160" y="2871720"/>
              <a:ext cx="115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66ff"/>
                  </a:solidFill>
                  <a:latin typeface="Times New Roman"/>
                </a:rPr>
                <a:t>Geo. method</a:t>
              </a:r>
              <a:endParaRPr b="0" lang="en-US" sz="1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br</cp:lastModifiedBy>
  <cp:lastPrinted>2002-03-04T16:35:18Z</cp:lastPrinted>
  <dcterms:modified xsi:type="dcterms:W3CDTF">2002-03-04T17:08:41Z</dcterms:modified>
  <cp:revision>4</cp:revision>
  <dc:subject/>
  <dc:title>Crossbar-current out of  CMOS-Ibis-Models</dc:title>
</cp:coreProperties>
</file>