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93660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93660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6842DB-D9A5-4450-9151-53053EB83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I can’t see what I am typing when I enter the presente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&amp;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This is an issue with PowerPoint. Here is the current work around, not the most elegant solution but it work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the area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Type a w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Highlight the w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ba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Finish typ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wh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CD6F-2DC5-41B3-A263-768178C6A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96AF-792B-4C2A-B654-9464355EE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6930-B495-4FAA-A6A0-5504A7216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3541-772C-4B43-AD1B-963081D84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DD35-2A49-4950-A730-991ED54D0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A2CA-C70B-4586-91DB-EEBE1FD13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E89F-4085-4CD8-A99E-3C6BA3586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149C-2308-4962-B9D8-E832D7ECC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525D-5476-4615-A818-09641ED48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D037-2B55-4709-A05E-4AA9EE759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4ED99-1B2B-4DF9-A56B-EBFBB5BA0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AA98-A4DC-4E60-A96A-78164F6CE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-white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28800" y="65530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0144-7D3F-424C-B71F-170192CA80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91320" y="65530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1999-2002, Mentor Graphic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%20Page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Multi-lingual Model Support within IBIS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Update</a:t>
            </a:r>
            <a:br>
              <a:rPr sz="4700"/>
            </a:br>
            <a:br>
              <a:rPr sz="3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Tom Dagostino, Bob Ross</a:t>
            </a: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March 8, 2002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IBIS Summit, Paris France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xisting IBIS or [External Model]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7760" y="1295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Model] under [Model] &lt;model_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Model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&lt;selection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r &lt;typ,min,max files and model name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s &lt;analog and digital port list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_to_A &lt;digital signals to Spice ramp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_to_D &lt;Spice thresholds to digital signal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or external reference suppl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connection or interconnection synta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143000"/>
          <a:ext cx="67816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6781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5A2E-7FF9-4023-8FF9-888164A6CD64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ontrolled Model &amp; [External Circuit]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19720" y="12952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Circuit] &lt;circuit_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&lt;selection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r &lt;typ, min, max files, name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s &lt;port list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Model] and [External Circuit] connected using internal and die nodes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ode Declarations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ternal node list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ircuit Call] &lt;model or circuit 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_map &lt;port to node mapping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9480" y="1295280"/>
          <a:ext cx="685800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6858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62BE-7C22-4EF0-9689-A8C8D4052595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dvantag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s i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BIS completely or at least for pins, package, specification and information conte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ructural mode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keley Spice support, BSIM4, et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RLC, diodes, interconnects, et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havioral models for extended featur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P protected models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HDL-AMS, etc. for behavioral 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standardized encryption possible for all text-based fi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F813-4055-4851-8ABF-CBE57CFDB993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ssu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ulti-lingual complication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ready being d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pport too many languages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Committee should limit set to open, public, accepted formats (Berkeley Spice, VHDL-AMS, etc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odel support to enable industry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ap/free tools: Berkeley Spice, “student” Sp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vhdl-ams.com/ : SEAMS, spice2ams, JAVA VHDL-AMS front end, Analyzer, samples, etc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31AA-8D42-42AB-A358-071D57B7273A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What’s Next?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lingual extensions - major additions above and more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RD7X to describe details are now being proces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057400" y="1143000"/>
          <a:ext cx="497052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143000"/>
                    <a:ext cx="49705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400800" y="1447920"/>
            <a:ext cx="685800" cy="335268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2590920"/>
            <a:ext cx="380880" cy="11430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1371600"/>
            <a:ext cx="914400" cy="9144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362320"/>
            <a:ext cx="914400" cy="9144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3352680"/>
            <a:ext cx="914400" cy="9144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19320"/>
            <a:ext cx="2590920" cy="335268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7B67-EAF8-4184-B39E-047A2EC342A6}" type="slidenum">
              <a:t>14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Benefits of Multi-lingual Suppor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odel advances beyond IBI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differential buffers, current buff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SI driver/terminator advan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detailed over-clocked buffer detai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O effects and gate modu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based 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e interconnect advanc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interconnect and complex package 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nal voltage rail, power integrity inter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nal buffer strength contro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oser digital and analog analysis (AMS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DC3A-82A0-433E-8502-EAEF3DC3A3C6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omplex Application within IBI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CF18-D9BC-410D-B4F3-B01DC5AE6BC8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e (left) &amp; Component (total)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23C9-435C-4365-B598-EBA682B1C5AD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odels, Die Circuit, Package Model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3B50-A67A-409A-83C3-94D78382ADC9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ff., Single-ended, Controlled Buffer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9237-8FA7-4486-8F41-BBA22B9D6DAB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oupled Pins &amp; Rails, Split Packag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6ABC-4B05-465D-A03F-AD18B5C7CE09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Why/How Multi-Lingual Modeling?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everages existing IBIS, Spice, VHDL-AMS, Verilog-AM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use IBIS where appropri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on uses IBIS for Pinout, Pkg., Info. &amp; Spe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es external code fi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ulti-lingual EDA tools from many compani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tor, Cadence, Avanti,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aster response to industry - IBIS &amp; few keyword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External Model]: Buffer level external mode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External Circuit]: Die circuit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ode Declarations], [Circuit Call]: Interconn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5335-A6FE-4673-82A4-98CD3BB9C3AB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gital (logic) and Analog Ports and Reference Models for I/O Buffer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343400" y="2057400"/>
          <a:ext cx="655308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6553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0" y="2057400"/>
          <a:ext cx="6400800" cy="274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6400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 Update, Tom Dagostiono and 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1B90-23F9-4824-8133-7793DCD49166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Jorge T Juliano, Jr.</dc:creator>
  <dc:description/>
  <dc:language>en-US</dc:language>
  <cp:lastModifiedBy>bobr</cp:lastModifiedBy>
  <cp:lastPrinted>2002-01-03T01:13:29Z</cp:lastPrinted>
  <dcterms:modified xsi:type="dcterms:W3CDTF">2002-02-28T16:59:14Z</dcterms:modified>
  <cp:revision>183</cp:revision>
  <dc:subject/>
  <dc:title>No Slide Title</dc:title>
</cp:coreProperties>
</file>