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104-8A2D-4165-8F04-5F32B5AC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29E-CDFE-435F-9C2E-BB94BC5A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799-4B5B-48EC-BBC6-E8474406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A31-9379-499E-ACB6-EB6F48AB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453-3CB5-4251-80F9-5274FC6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5EB-0ED6-43D6-9024-35C96578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50E-B79F-4B3F-9508-00F570D2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8F0-C1A8-48F2-83E1-16DC64F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676-8DA8-43F4-A8D2-13B3408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FDF-47A4-42AC-A417-1A38051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EBE-A618-4676-9BAF-DBDE22AC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FF4-EB3F-4AB9-9F4B-1474E2A1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8A6-141D-49C7-8968-46EF7E5AB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Program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ich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6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Overview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BIS Model Development and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Bus Technology Problems 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/EMC Model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Spe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IBIS-X Progress &amp;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s and Ad Hoc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1-01-24T18:51:43Z</cp:lastPrinted>
  <dcterms:modified xsi:type="dcterms:W3CDTF">2001-03-05T22:59:13Z</dcterms:modified>
  <cp:revision>152</cp:revision>
  <dc:subject/>
  <dc:title>IBIS ACCURACY</dc:title>
</cp:coreProperties>
</file>