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040" y="4643280"/>
            <a:ext cx="5024520" cy="384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81520" y="0"/>
            <a:ext cx="29764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9282240"/>
            <a:ext cx="2976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282240"/>
            <a:ext cx="2971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643280"/>
            <a:ext cx="502452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228600"/>
            <a:ext cx="88394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28600">
              <a:spcBef>
                <a:spcPts val="700"/>
              </a:spcBef>
              <a:buClr>
                <a:srgbClr val="114ffb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428840" indent="-228600">
              <a:spcBef>
                <a:spcPts val="700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771560" indent="-228600">
              <a:spcBef>
                <a:spcPts val="700"/>
              </a:spcBef>
              <a:buClr>
                <a:srgbClr val="114ffb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262080" y="228600"/>
            <a:ext cx="8627760" cy="0"/>
          </a:xfrm>
          <a:prstGeom prst="line">
            <a:avLst/>
          </a:prstGeom>
          <a:ln w="12600">
            <a:solidFill>
              <a:srgbClr val="9507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30880" y="6269040"/>
            <a:ext cx="16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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N M TE1, Pichlma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:089/722-23994 - 3/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lide: </a:t>
            </a:r>
            <a:fld id="{E7832939-F957-477B-8739-81DCBACDE4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6720" y="6248520"/>
            <a:ext cx="8379000" cy="0"/>
          </a:xfrm>
          <a:prstGeom prst="line">
            <a:avLst/>
          </a:prstGeom>
          <a:ln w="12600">
            <a:solidFill>
              <a:srgbClr val="9507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uC_PPT" descr=""/>
          <p:cNvPicPr/>
          <p:nvPr/>
        </p:nvPicPr>
        <p:blipFill>
          <a:blip r:embed="rId2"/>
          <a:stretch/>
        </p:blipFill>
        <p:spPr>
          <a:xfrm>
            <a:off x="509760" y="6326280"/>
            <a:ext cx="163656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066680"/>
            <a:ext cx="8153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O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A SIEMENS internal model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Book Antiqua"/>
              </a:rPr>
              <a:t>Extensions 1999 -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8098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Hans Pichlma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CN M 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Technolog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March, 16th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OGEN - an internal model to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91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unctionality overview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verting: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28600">
              <a:spcBef>
                <a:spcPts val="451"/>
              </a:spcBef>
              <a:buClr>
                <a:srgbClr val="114ffb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QUA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&gt; IBI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odel, topology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28600">
              <a:spcBef>
                <a:spcPts val="451"/>
              </a:spcBef>
              <a:buClr>
                <a:srgbClr val="114ffb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BI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&gt; QUA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odel, .ebd, connector, package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28600">
              <a:spcBef>
                <a:spcPts val="451"/>
              </a:spcBef>
              <a:buClr>
                <a:srgbClr val="114ffb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PICE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&gt; IBIS.eb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BIS scaling: typ to min/max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heck: QUAD models , IBIS models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Works standalone or inside our BIOLIB structur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upport of BIOLIB structure with many features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3049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Book Antiqua"/>
              </a:rPr>
              <a:t>ELAN = DOGEN Functionality for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429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649680"/>
            <a:ext cx="990360" cy="29988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9760" y="3059280"/>
            <a:ext cx="981000" cy="733320"/>
          </a:xfrm>
          <a:prstGeom prst="rect">
            <a:avLst/>
          </a:prstGeom>
          <a:solidFill>
            <a:srgbClr val="fcfe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648320" y="3046320"/>
            <a:ext cx="144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8680" y="3048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895480"/>
            <a:ext cx="976320" cy="30024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0440" y="3270240"/>
            <a:ext cx="558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BIO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IBIS 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1219320"/>
            <a:ext cx="1062000" cy="121896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1523880"/>
            <a:ext cx="83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AD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IET Ex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2819520"/>
            <a:ext cx="1062000" cy="121896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96080" y="3124080"/>
            <a:ext cx="838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IC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4495680"/>
            <a:ext cx="1062000" cy="121932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4800600"/>
            <a:ext cx="9144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SPECC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819520"/>
            <a:ext cx="6858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9480" y="2895480"/>
            <a:ext cx="704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E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416160" cy="533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32560" y="3422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429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162920" y="1828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523880"/>
            <a:ext cx="1752480" cy="3657600"/>
          </a:xfrm>
          <a:prstGeom prst="flowChartMagneticDisk">
            <a:avLst/>
          </a:prstGeom>
          <a:solidFill>
            <a:srgbClr val="fcfeb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905120"/>
            <a:ext cx="990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BIO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IBIS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819520"/>
            <a:ext cx="6858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9960" y="2895480"/>
            <a:ext cx="704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E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415800" cy="533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590920"/>
            <a:ext cx="137160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S 55 Roman"/>
              </a:rPr>
              <a:t>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ack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Cells -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PASS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.dat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BIS Templ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.ebd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assive for .e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4648320"/>
            <a:ext cx="2362320" cy="1218960"/>
          </a:xfrm>
          <a:prstGeom prst="flowChartMultidocument">
            <a:avLst/>
          </a:prstGeom>
          <a:solidFill>
            <a:srgbClr val="f298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029200"/>
            <a:ext cx="19810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UniversS 55 Roman"/>
              </a:rPr>
              <a:t>Layout-Data with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- used Part Numb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- values of passive Compon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733560" y="41148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019920" y="4114800"/>
            <a:ext cx="5331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OGEN - Extensions 1999 - 2001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dels for passive Components in BIOLIB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.ebd Modules inside BIOLIB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vidence of model usage in project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mplex Packages inside BIOLIB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delviewer for IV- and VT-curve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nversion of Altera and Xilinx FPGA Files to IBIS Pinning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BIS split and IBIS expand to make BIOLIB Elements from standard IBIS Model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of IBIS 3.2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601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pport of new QUAD Syntax: DIFFPIN, SERIESPIN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29000" y="4724280"/>
            <a:ext cx="5486400" cy="1371600"/>
          </a:xfrm>
          <a:prstGeom prst="rect">
            <a:avLst/>
          </a:prstGeom>
          <a:solidFill>
            <a:srgbClr val="e9ec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133720"/>
            <a:ext cx="5486400" cy="1371600"/>
          </a:xfrm>
          <a:prstGeom prst="rect">
            <a:avLst/>
          </a:prstGeom>
          <a:solidFill>
            <a:srgbClr val="e9ec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049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assive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2286000"/>
            <a:ext cx="5333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Model]      FORMEL_SER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el_type   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 Series]       IFNOT_DAT_LSER_PRINT_DAT_R       FORMEL_RMIN   FORMEL_R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l Series]      IF_DAT_LSER_PRINT_DAT_R          FORMEL_RMIN   FORMEL_RMAX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L Series]       IF_DAT_LSER_PRINT_DAT_LSER       NA            NA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 Series]       IF_DAT_CPAR_PRINT_DAT_CPAR       NA            N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495288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Model]      v39243-z6080-j_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el_type   Se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 Series]                 50.000fF               NA                 NA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L Series]                  2.000nH               NA                 NA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l Series]                 8.200Ohm           8.118Ohm           8.282Oh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95480"/>
            <a:ext cx="335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el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39243-z6???-j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p_typ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t_typ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8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late     passiv/template/resistor/sgl.ib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el_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l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ser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.0nH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ar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05p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_model_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 rot="5400000">
            <a:off x="6896160" y="3848040"/>
            <a:ext cx="838080" cy="457200"/>
          </a:xfrm>
          <a:prstGeom prst="rightArrow">
            <a:avLst>
              <a:gd name="adj1" fmla="val 50000"/>
              <a:gd name="adj2" fmla="val 91662"/>
            </a:avLst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514600"/>
            <a:ext cx="609480" cy="942840"/>
          </a:xfrm>
          <a:custGeom>
            <a:avLst/>
            <a:gdLst>
              <a:gd name="textAreaLeft" fmla="*/ 0 w 609480"/>
              <a:gd name="textAreaRight" fmla="*/ 609840 w 6094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75248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 DAT File for 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omponent Li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.g. 08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8288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2952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 Template for each type of passive Compon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.g. Resistor, Capacitor, Inductor, Connector, Fuse, Switch, Delayline, Di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1219320"/>
            <a:ext cx="31244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962520"/>
            <a:ext cx="31244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11480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1 IBIS Model for each Part Number in the Layou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</a:rPr>
              <a:t>Module in BIOLIB</a:t>
            </a: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657600"/>
            <a:ext cx="6013440" cy="2438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ING ICX MODULE     --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ibis board in file: result/ICX/A5E00031387_V2.ebd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ibis model in file: result/ICX/512MB-DIMM_PASSIV.mod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ibis model in file: result/ICX/v50004-f281-t210_K4S560432A-TC80_v2.ibs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ING QUAD MODULE    --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quad topology in file: result/QUAD/A5E00031387_V2.top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quad location in file: result/QUAD/A5E00031387_V2.loc_TYP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quad location in file: result/QUAD/A5E00031387_V2.loc_DELMIN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quad location in file: result/QUAD/A5E00031387_V2.loc_DELMAX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quad location in file: result/QUAD/A5E00031387_V2.loc_XTALK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quad parameter in file: result/QUAD/A5E00031387_V2.xns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quad model in file: result/QUAD/A5E00031387_V2.mod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quad model in file: result/QUAD/512MB-DIMM_PASSIV.mod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SULT      quad model in file: result/QUAD/v50004-f281-t210_K4S560432A-TC80_v2.pin</a:t>
            </a: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835280"/>
            <a:ext cx="3733920" cy="1441440"/>
          </a:xfrm>
          <a:prstGeom prst="rect">
            <a:avLst/>
          </a:prstGeom>
          <a:solidFill>
            <a:srgbClr val="e9ec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190512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MODULE_SECTION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50004-f153-t810     v1         A5E00021674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50004-f396-t800     v1         A5E0003138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50004-f396-t800     v2         A5E00031387_V2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50004-f542-t800     v1         A5E00069622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50004-f397-t800     v1         M374S0823CTS-G8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END</a:t>
            </a:r>
            <a:endParaRPr b="1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0666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ogen  -f  mb1   -o  result  -p   v50004-f542-t800   -v  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990720"/>
            <a:ext cx="5181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73760" y="1378080"/>
            <a:ext cx="2736720" cy="1593720"/>
          </a:xfrm>
          <a:prstGeom prst="rect">
            <a:avLst/>
          </a:prstGeom>
          <a:solidFill>
            <a:srgbClr val="e9ec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44792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[Begin Board Description]     A5E0006962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[Number Of Pins]  1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[Pin List]   signal_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10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/D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........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[Reference Designator Map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40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512MB-DIMM_PASSIV_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D1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v50004-f563-t200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v1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D10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v50004-f563-t200  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v1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09320" y="1523880"/>
            <a:ext cx="12956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3200" y="1523880"/>
            <a:ext cx="2209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599840"/>
            <a:ext cx="17528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049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Book Antiqua"/>
              </a:rPr>
              <a:t>Evidence of Model usage i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429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3649680"/>
            <a:ext cx="990360" cy="29988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9760" y="3059280"/>
            <a:ext cx="981000" cy="733320"/>
          </a:xfrm>
          <a:prstGeom prst="rect">
            <a:avLst/>
          </a:prstGeom>
          <a:solidFill>
            <a:srgbClr val="fcfe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046320"/>
            <a:ext cx="1440" cy="7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048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895480"/>
            <a:ext cx="976320" cy="30024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0440" y="3270240"/>
            <a:ext cx="558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BIO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IBIS 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19320"/>
            <a:ext cx="1062000" cy="121896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1523880"/>
            <a:ext cx="8380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AD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IET Ex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2819520"/>
            <a:ext cx="1062000" cy="121896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3124080"/>
            <a:ext cx="838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IC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4495680"/>
            <a:ext cx="1062000" cy="1219320"/>
          </a:xfrm>
          <a:prstGeom prst="flowChartMultidocumen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4800600"/>
            <a:ext cx="9144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Pro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Tool-Li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SPECCT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de-DE" sz="900" spc="-1" strike="noStrike">
                <a:solidFill>
                  <a:srgbClr val="000000"/>
                </a:solidFill>
                <a:latin typeface="UniversS 55 Roman"/>
              </a:rPr>
              <a:t>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819520"/>
            <a:ext cx="6858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9480" y="2895480"/>
            <a:ext cx="704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E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41616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2560" y="3422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3429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62920" y="1828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523880"/>
            <a:ext cx="1752480" cy="3657600"/>
          </a:xfrm>
          <a:prstGeom prst="flowChartMagneticDisk">
            <a:avLst/>
          </a:prstGeom>
          <a:solidFill>
            <a:srgbClr val="fcfeb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905120"/>
            <a:ext cx="990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BIO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IBIS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2819520"/>
            <a:ext cx="68580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9960" y="2895480"/>
            <a:ext cx="704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UniversS 55 Roman"/>
              </a:rPr>
              <a:t>E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415800" cy="533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590920"/>
            <a:ext cx="137160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S 55 Roman"/>
              </a:rPr>
              <a:t>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i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ack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Cells -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PASS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.dat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BIS Templ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.ebd 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UniversS 55 Roman"/>
              </a:rPr>
              <a:t>-- Passive for .e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648320"/>
            <a:ext cx="2362320" cy="1218960"/>
          </a:xfrm>
          <a:prstGeom prst="flowChartMultidocument">
            <a:avLst/>
          </a:prstGeom>
          <a:solidFill>
            <a:srgbClr val="f298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4952880"/>
            <a:ext cx="198144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UniversS 55 Roman"/>
              </a:rPr>
              <a:t>Lists of used Components, Models, Packages by email to library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4038480"/>
            <a:ext cx="14479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14ffb"/>
                </a:solidFill>
                <a:latin typeface="Book Antiqua"/>
              </a:rPr>
              <a:t>Future plans</a:t>
            </a:r>
            <a:endParaRPr b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4ff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Extension of Data for EMI Analysis and Powerbus Decoupling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5:20:44Z</dcterms:created>
  <dc:creator>pichlmaier</dc:creator>
  <dc:description/>
  <dc:language>en-US</dc:language>
  <cp:lastModifiedBy>Hans Pichlmaier</cp:lastModifiedBy>
  <cp:lastPrinted>1999-02-19T09:02:54Z</cp:lastPrinted>
  <dcterms:modified xsi:type="dcterms:W3CDTF">2001-03-07T14:53:38Z</dcterms:modified>
  <cp:revision>95</cp:revision>
  <dc:subject>ibis</dc:subject>
  <dc:title>ibis</dc:title>
</cp:coreProperties>
</file>