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D777-86AB-4FE6-BF5A-7E2358B56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E631-3214-4665-AB01-7AB2AC5B7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2010F-A946-4375-A07F-2DC8BEBF9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9188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3620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9188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3620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1CF8D-3741-4204-88CB-336372CA15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E5D6-DF8F-4FB2-9BB7-AD73E4B4E3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2C19-4084-4C80-A740-8FEAF1255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C367-46CB-4EE5-B30E-E367A5150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D2262-CEC7-4EF8-80E9-94F01AE7F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080" y="-360"/>
            <a:ext cx="708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68BD-DCF5-42E8-80E9-0F6E2184C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27B3B-749F-48F8-86D8-3625D6367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D85F-B3D9-47EB-BBD0-26624BAC3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7461-55EE-4321-AD13-0953F1B49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371600" y="0"/>
            <a:ext cx="152280" cy="838080"/>
          </a:xfrm>
          <a:prstGeom prst="rect">
            <a:avLst/>
          </a:pr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1428840" cy="8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2971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8B01-FBE5-4A9F-9710-8F734DC4FAA7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00200" y="457200"/>
            <a:ext cx="7164360" cy="612720"/>
            <a:chOff x="1600200" y="457200"/>
            <a:chExt cx="7164360" cy="612720"/>
          </a:xfrm>
        </p:grpSpPr>
        <p:sp>
          <p:nvSpPr>
            <p:cNvPr id="6" name=""/>
            <p:cNvSpPr/>
            <p:nvPr/>
          </p:nvSpPr>
          <p:spPr>
            <a:xfrm>
              <a:off x="8597880" y="457200"/>
              <a:ext cx="16668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600200" y="1042920"/>
              <a:ext cx="708192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664480" y="603360"/>
              <a:ext cx="3024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dpg_text_treatment" descr=""/>
          <p:cNvPicPr/>
          <p:nvPr/>
        </p:nvPicPr>
        <p:blipFill>
          <a:blip r:embed="rId3"/>
          <a:stretch/>
        </p:blipFill>
        <p:spPr>
          <a:xfrm>
            <a:off x="6400800" y="6324480"/>
            <a:ext cx="2590920" cy="37800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1429920" y="651024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-March-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16002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BIS-X and th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BIS Macro Langu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5120" y="34286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hor: Stephen P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&amp;T group, IBIS Vice-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ed by: Arpad Murany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l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62485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A8A56-C85F-4BE8-988B-F8EAB74690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tended Blocks Beyond Sp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44792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now for Supporting drivers &amp; receiver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v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 complex device for backward compatibil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ha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enerates a digital pulse, reshaped from it’s inp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ut = in, but delay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age Controlled 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(likely) extensions for 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al voltage source (“B” el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al current source (“B” el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or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tor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al integ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al differenti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2EB7-9B8D-44A0-9B4D-6F363B9027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Extended (.dot)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440" y="1371600"/>
            <a:ext cx="6553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Creation/Functionality Rel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gg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ime value expression) – generates a trigger event when condition is m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loc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declares node name to be 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inher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inherit properties of another model or base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/Visibility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ex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list of local symbols that can be made visible to the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alar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ime value expression) – notifies user when some event happens, used for error checking and the l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asse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static logic expression) – check for a condition to be true, again for error che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2ED4-3C92-437E-B809-5F67BC2D2C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Extended (.dot)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33720" y="13716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static logic express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elseif (static logic express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end 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array (name) – sets up an array of objects tied to a keyword.  Used to implement driver schedule and submodel functi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C58D-E6F2-4283-B09A-B2DDBFB29B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 Based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equations (Berkley B-element) not supported directly in initial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ing for quick implementation/adoption using existing technolo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tion support planned for future release based on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no reason one can’t turn equations into tables whi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p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hing in IBIS-ML prevents the support of equation based modeling (i.e. support for Berkley B-element) in future re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4C446-8331-4E30-8D53-E6A405B311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IS 3.2 has been implemented in IBIS-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ing group meets bi-weekly to work on writing formal specification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 IBIS-X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s Language Reference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work remains on die interconnect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ing with IBIS connector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additional volunt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3DF3E-6579-4FFD-8210-2B81586706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IBIS up against 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lagging new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support for return path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support for coupled package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upport on horizon for receiv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upport for frequency domai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IS-X Goal: provide the path to a ‘next generation’ I/O buffer description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C29E-4ECF-4FCD-9849-A12E8DD529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IS-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48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good stu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ized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 SI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e support for board level (behavioral) sim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 format, structure to fix 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ability, flexibility (add nodal connectivity, get away from fixed assumptions and keywor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accurate modeling of SSO, power delivery and package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behavioral rece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generalized equations, S-paramete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1C09-FFDF-405F-8904-A295475E5F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BIS-X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295280"/>
            <a:ext cx="7239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al descriptions are a neces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e interconnect (pin - pad - buffer) de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delivery and pin-pin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ons for black bo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 language for creating new model prot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exible, extendable, allows existing IBIS models to be re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a wide variety of de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ttom Line: user will have the ability to create his/her own custom buffer (model_type), and specify a package model in a standard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C061-F5A1-431C-A7B5-AADBC850F3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Model Type Cr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480" y="12952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creates a new model type using the [Define Model] 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describes new type using macro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connect L/R/C elements and sources, data/values are parameter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ing flow statements/operator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statements for trigger even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then instantiates model in .ibs file ([Model] statement) and supplies data for that instance, just a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63336-20BC-470E-A2DB-9813335EAE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(define the mode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16240" y="1219320"/>
          <a:ext cx="38862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6240" y="1219320"/>
                    <a:ext cx="38862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143080" y="3922560"/>
            <a:ext cx="6032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Define Model] simple_driver (gnd, pin, contr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local 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source (T1 gnd) V=Rise[T-TR] || Fall[T-T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source (pin T1) R=Rsrc[T-TR] || Rsrc[T-T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trigger TR (Logic(control) =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trigger TF (Logic(control) =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End Define 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592A-CF19-4CC2-BB18-575DCEEBCD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(supply the dat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2925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Model] driver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el_type simple_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Ris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Fal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Rsr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.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0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365E-703F-4753-9193-7589E37D0D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0962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CE Compati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or (R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v = f(I,t);  r=constant or f(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acitor (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q = f(v,t); c=constant or f(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ctor (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flux = f(I,t); L= constant or f(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VS (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Vout = f(Vin,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S (G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Iout = f(Vin,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urce (I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fixed I or I= f(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source (V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fixed V or V= f(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ode (D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asic diode, subset of Spice paramet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ckt (X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sed for submodel, driver schedu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ed (some, but not all SPICE sup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tage controlled Resistance (VCR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R = f(v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tage controlled Admittance (VCG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Y = f(v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tage controlled Cap (VCCA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C = f(v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coupled transmission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pled transmission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F41A-994D-4B3D-A65E-B889FED25B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Elements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 for elements should be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ype&gt; &lt;instance name&gt; (&lt;nodes&gt;) &lt;value&g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stor  R12  (2  4)  R=10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can take on several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 value (10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ar symbolic value (C_com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t-in symbolic value (V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the value of an internal variable, such as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D table symbolic (I=Pullup[V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D table symbolic (I=Pullup[V,T] or I=Series_mosfet[Vc,Vo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ions can be made of combinations of abo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ors are: +, -, *, || with usual binding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 is evaluated as in Perl, allows for optional data sets /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:  Vx (Vcc gnd)  V=(Pullup Reference) || (Voltage 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AA98-8687-42B2-9D1C-444BE5AA6A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2:08:00Z</dcterms:created>
  <dc:creator>sjpeters</dc:creator>
  <dc:description/>
  <dc:language>en-US</dc:language>
  <cp:lastModifiedBy>Arpad Muranyi</cp:lastModifiedBy>
  <dcterms:modified xsi:type="dcterms:W3CDTF">2001-03-09T00:50:07Z</dcterms:modified>
  <cp:revision>39</cp:revision>
  <dc:subject/>
  <dc:title>PowerPoint Presentation</dc:title>
</cp:coreProperties>
</file>