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42113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720" y="643428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Summit meeting / Munich, 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1" descr=""/>
          <p:cNvPicPr/>
          <p:nvPr/>
        </p:nvPicPr>
        <p:blipFill>
          <a:blip r:embed="rId2"/>
          <a:stretch/>
        </p:blipFill>
        <p:spPr>
          <a:xfrm>
            <a:off x="6854760" y="144360"/>
            <a:ext cx="20606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477120" y="62485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914400"/>
            <a:ext cx="8736120" cy="541008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91320" y="6450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RIN Jean Claude / HUET Cla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971800" y="90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DEL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EC 62014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333440" y="198360"/>
            <a:ext cx="205740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185760" y="144360"/>
          <a:ext cx="914400" cy="594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760" y="144360"/>
                    <a:ext cx="914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4204440" y="64692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31CD-6874-4FDA-922F-9350ED281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90920" y="16002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tegrated Circuits model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880920" y="2590920"/>
            <a:ext cx="76917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Times New Roman"/>
              </a:rPr>
              <a:t>IC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tegrated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ircuits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lectromagnetic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AL :  IEC 62014 -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9080" y="1063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C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1600200"/>
            <a:ext cx="8534160" cy="4345920"/>
            <a:chOff x="304920" y="1600200"/>
            <a:chExt cx="8534160" cy="4345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693432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04920" y="5486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sms for parasitic emission covered by ICEM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54360" y="4308480"/>
            <a:ext cx="7444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98440" y="137160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8112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wer lines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2286000"/>
          <a:ext cx="79232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7923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002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066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s contribution, 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?? ??"/>
              </a:rPr>
              <a:t>single supply structur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55680" y="2209680"/>
          <a:ext cx="86122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2209680"/>
                    <a:ext cx="8612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384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000160"/>
          <a:ext cx="822780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00160"/>
                    <a:ext cx="822780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171440" y="1114560"/>
            <a:ext cx="68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s contribution, 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?? ??"/>
              </a:rPr>
              <a:t>multiple supply structur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6280" y="2143080"/>
            <a:ext cx="83548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BIS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1793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CKAG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define package mode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anufactur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cond ord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escrip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umber of pi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in number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11320" y="1395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CKAGE L, R, C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519280"/>
            <a:ext cx="784872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in number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l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ondin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ackage pin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039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xample of Package description from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677960"/>
            <a:ext cx="67816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Packag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 Variable     Typ           Min          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_pkg          0.1034        0.048         0.2592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_pkg          2.263e-09     1.098e-09     4.827e-09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Pin]   signal_name             R_pin         L_pin         C_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PIN_1        NC          0.07963       1.849e-09     1.187e-1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  PIN_2        NC          0.08791       2.116e-09     1.73e-1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      PIN_3        NC          0.1445        3.071e-09     2.239e-1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      PIN_4        NC          0.08285       1.841e-09     1.315e-1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4600" y="1039680"/>
            <a:ext cx="78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xample of Package description from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87400"/>
            <a:ext cx="80805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DUCTOR LAYER NAME   TYPE     HEIGHT(MM)     THICKNESS(MM)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    11                 LF       0.46000        0.0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    10                 BW       0.47000        0.025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M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ctrical Data By Pin (at DC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n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R (ohms)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L (nH)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C (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ole     BW                  Whole    BW                     Whole    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             0.080      0.072                1.849     1.643                    0.119     0.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              0.088      0.065                2.116     1.489                    0.173     0.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              0.144      0.063                3.071     1.432                    0.224     0.1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              0.083      0.061                1.841     1.390                    0.132     0.1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               0.060     0.060                 1.372     1.372                    0.105     0.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1066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URRENT GENERATOR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b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71800" cy="3962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1981080"/>
            <a:ext cx="495324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genera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Cb capaci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Vdd Vss P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curr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b (mA)     1     10     50   100  80   60   40   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  (nS)         .5      1    1.5   2   2.5     3   3.5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Frequenc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MHz)             13          6            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7920" y="1022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5320" y="1878120"/>
            <a:ext cx="71564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Cs AND EMC SIMULATION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E EMC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ower lines con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/Os  con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PLEMENTATIO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ATA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67000" y="1081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 COUPLING POWER SUPLIES Zsu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zsub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181320" cy="3686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1981080"/>
            <a:ext cx="457200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Zsub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Csub capaci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vss1 vss2 pin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z impedanc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riable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(mA)       .01    1       2        5     10     50   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v  (nS)       .1       .2      .3       .4    .5      .6      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Frequenc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MHz)             13          6            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 IC ELECTROMAGNE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79sagem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152960" cy="370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288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mission Mainly due to pack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048120"/>
            <a:ext cx="358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( Resonanc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277812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1646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424240"/>
            <a:ext cx="7848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 Gives a  capability to simulate EMC due to internal activity and of I/Os nois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model easy to add as modification od add on files to standards like IBI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model parameter can be  obtained  if data are not available from ICs manufactur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065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280" y="1644480"/>
            <a:ext cx="84438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MS Mincho"/>
              </a:rPr>
              <a:t>ACTIONS PLAN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COOK BOOK to be writen to explain how to ob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ICEM Model parameters. (First draft is on go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Evaluation through IBI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Integration in  standard models database ( For ex IBIS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PCB simulation  tools integration to provide EM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simulation cap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Softwares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" y="2590920"/>
            <a:ext cx="7691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000"/>
                </a:solidFill>
                <a:latin typeface="Arial"/>
                <a:ea typeface="Arial"/>
              </a:rPr>
              <a:t>ICs AND EM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000"/>
                </a:solidFill>
                <a:latin typeface="Arial"/>
                <a:ea typeface="Arial"/>
              </a:rPr>
              <a:t>SIMULATION N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82880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040" bIns="4104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2080" y="1447920"/>
            <a:ext cx="88819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INTEGRATED CIRCUITS MANUFACTUR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w ICs design have to take into account EMC/E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include EMC in development phenomena need to be sim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PRINTED CARD BOAR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COMPLY  EMC DIRECTIVES AND STANDARD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 and improve EMC performances requires to be able to simulate phenom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SIMULATION TOOL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or behavioural model (like IBIS ) available on the market  for PCB simulation  do not take into account EMC phenomena, mainly signal integ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90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Arial"/>
              </a:rPr>
              <a:t>ICs AND EMC SIMULATION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9320" y="2922480"/>
            <a:ext cx="76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TE  EMC  TASK 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541520"/>
            <a:ext cx="838188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IN Jean Claude      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ET Cla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EADS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ANT Jean Lu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AT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OT Christia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IEMENS AUTOMO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URICE Oliv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A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AUD Rich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C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NTOT  Pier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 MICRO ELECT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BEYRAN Amau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M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ARD Etienne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DANI Moham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INEAU M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ER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33600" y="94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T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19520" y="1066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 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3440" y="1523880"/>
            <a:ext cx="8397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994  : WORKING GROUP  UTE/CEF 93GT5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06 / 1997 : IEC 93 / 67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998 : DATE 98 / INTERNATIONAL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2000 : DATE 2000 / IEC INTERNATIONAL  EXPERT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 / 2001 : IEC 62014 - 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V proposal sent to 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tandard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 / 2001 : DATE 2001 MUNICH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424480" y="3233880"/>
          <a:ext cx="340668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4480" y="3233880"/>
                    <a:ext cx="340668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3480" y="2158920"/>
            <a:ext cx="762012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CEM 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ntegrated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rcuits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ectromagnetic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ECTROMAGNETIC AND HF NOIS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80773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wer supply lines e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activity in different modules (Internal/periph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frequency current through packag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/O connections noise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due to output fast signals and package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the other I/O 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other pow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C Direct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Bonding and metal die conne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8:05:46Z</dcterms:created>
  <dc:creator>AT2CHMA3</dc:creator>
  <dc:description/>
  <dc:language>en-US</dc:language>
  <cp:lastModifiedBy>bobr</cp:lastModifiedBy>
  <cp:lastPrinted>2001-03-13T15:23:52Z</cp:lastPrinted>
  <dcterms:modified xsi:type="dcterms:W3CDTF">2001-03-16T22:15:15Z</dcterms:modified>
  <cp:revision>150</cp:revision>
  <dc:subject/>
  <dc:title>No Slide Title</dc:title>
</cp:coreProperties>
</file>