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20.wmf" ContentType="image/x-wmf"/>
  <Override PartName="/ppt/media/image4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907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87820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768240" y="764640"/>
            <a:ext cx="5305680" cy="367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33480" y="4667040"/>
            <a:ext cx="49737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2"/>
          </p:nvPr>
        </p:nvSpPr>
        <p:spPr>
          <a:xfrm>
            <a:off x="0" y="9410760"/>
            <a:ext cx="295416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3"/>
          </p:nvPr>
        </p:nvSpPr>
        <p:spPr>
          <a:xfrm>
            <a:off x="3885840" y="9410760"/>
            <a:ext cx="2878200" cy="45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A59CCE-6AAC-4975-9C04-A21087755A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768240" y="765000"/>
            <a:ext cx="5305680" cy="3673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3480" y="4667040"/>
            <a:ext cx="497376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great variety of different CAN busses have arised, which all have the following characteristic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895356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36120" y="3921480"/>
            <a:ext cx="895356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361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243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63360" y="173196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690960" y="173196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36120" y="392148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663360" y="392148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690960" y="392148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36120" y="1731960"/>
            <a:ext cx="8953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8953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36480" y="577800"/>
            <a:ext cx="8917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61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36120" y="1731960"/>
            <a:ext cx="8953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243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36120" y="3921480"/>
            <a:ext cx="895356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895356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36120" y="3921480"/>
            <a:ext cx="895356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361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2243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63360" y="173196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90960" y="173196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36120" y="392148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63360" y="392148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90960" y="3921480"/>
            <a:ext cx="28828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8953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36480" y="577800"/>
            <a:ext cx="89172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576"/>
              </a:spcBef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61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4320" y="392148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24320" y="1731960"/>
            <a:ext cx="4369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6120" y="3921480"/>
            <a:ext cx="8953560" cy="1999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indent="0">
              <a:lnSpc>
                <a:spcPct val="9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1576440"/>
            <a:ext cx="9404280" cy="4487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balken%204neu" descr=""/>
          <p:cNvPicPr/>
          <p:nvPr/>
        </p:nvPicPr>
        <p:blipFill>
          <a:blip r:embed="rId2"/>
          <a:stretch/>
        </p:blipFill>
        <p:spPr>
          <a:xfrm>
            <a:off x="0" y="557280"/>
            <a:ext cx="9904320" cy="9586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5920" y="6302520"/>
            <a:ext cx="731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68160" y="326880"/>
            <a:ext cx="986040" cy="138240"/>
            <a:chOff x="668160" y="326880"/>
            <a:chExt cx="986040" cy="138240"/>
          </a:xfrm>
        </p:grpSpPr>
        <p:sp>
          <p:nvSpPr>
            <p:cNvPr id="4" name=""/>
            <p:cNvSpPr/>
            <p:nvPr/>
          </p:nvSpPr>
          <p:spPr>
            <a:xfrm>
              <a:off x="882360" y="329760"/>
              <a:ext cx="114480" cy="13248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0" y="0"/>
                  </a:moveTo>
                  <a:lnTo>
                    <a:pt x="71" y="0"/>
                  </a:lnTo>
                  <a:lnTo>
                    <a:pt x="71" y="16"/>
                  </a:lnTo>
                  <a:lnTo>
                    <a:pt x="29" y="16"/>
                  </a:lnTo>
                  <a:lnTo>
                    <a:pt x="29" y="35"/>
                  </a:lnTo>
                  <a:lnTo>
                    <a:pt x="67" y="35"/>
                  </a:lnTo>
                  <a:lnTo>
                    <a:pt x="67" y="49"/>
                  </a:lnTo>
                  <a:lnTo>
                    <a:pt x="29" y="49"/>
                  </a:lnTo>
                  <a:lnTo>
                    <a:pt x="29" y="71"/>
                  </a:lnTo>
                  <a:lnTo>
                    <a:pt x="71" y="71"/>
                  </a:lnTo>
                  <a:lnTo>
                    <a:pt x="71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04600" y="329760"/>
              <a:ext cx="46080" cy="1324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0"/>
                  </a:moveTo>
                  <a:lnTo>
                    <a:pt x="28" y="0"/>
                  </a:lnTo>
                  <a:lnTo>
                    <a:pt x="28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22400" y="329760"/>
              <a:ext cx="183960" cy="13248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lnTo>
                    <a:pt x="35" y="0"/>
                  </a:lnTo>
                  <a:lnTo>
                    <a:pt x="59" y="53"/>
                  </a:lnTo>
                  <a:lnTo>
                    <a:pt x="82" y="0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88" y="88"/>
                  </a:lnTo>
                  <a:lnTo>
                    <a:pt x="88" y="31"/>
                  </a:lnTo>
                  <a:lnTo>
                    <a:pt x="63" y="88"/>
                  </a:lnTo>
                  <a:lnTo>
                    <a:pt x="46" y="88"/>
                  </a:lnTo>
                  <a:lnTo>
                    <a:pt x="19" y="33"/>
                  </a:lnTo>
                  <a:lnTo>
                    <a:pt x="19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38040" y="329760"/>
              <a:ext cx="112680" cy="13248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0"/>
                  </a:moveTo>
                  <a:lnTo>
                    <a:pt x="70" y="0"/>
                  </a:lnTo>
                  <a:lnTo>
                    <a:pt x="70" y="16"/>
                  </a:lnTo>
                  <a:lnTo>
                    <a:pt x="28" y="16"/>
                  </a:lnTo>
                  <a:lnTo>
                    <a:pt x="28" y="35"/>
                  </a:lnTo>
                  <a:lnTo>
                    <a:pt x="65" y="35"/>
                  </a:lnTo>
                  <a:lnTo>
                    <a:pt x="65" y="49"/>
                  </a:lnTo>
                  <a:lnTo>
                    <a:pt x="28" y="49"/>
                  </a:lnTo>
                  <a:lnTo>
                    <a:pt x="28" y="71"/>
                  </a:lnTo>
                  <a:lnTo>
                    <a:pt x="70" y="71"/>
                  </a:lnTo>
                  <a:lnTo>
                    <a:pt x="70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538280" y="326880"/>
              <a:ext cx="115920" cy="13824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0" y="88"/>
                  </a:moveTo>
                  <a:lnTo>
                    <a:pt x="4" y="88"/>
                  </a:lnTo>
                  <a:lnTo>
                    <a:pt x="7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5" y="88"/>
                  </a:lnTo>
                  <a:lnTo>
                    <a:pt x="57" y="86"/>
                  </a:lnTo>
                  <a:lnTo>
                    <a:pt x="61" y="86"/>
                  </a:lnTo>
                  <a:lnTo>
                    <a:pt x="61" y="84"/>
                  </a:lnTo>
                  <a:lnTo>
                    <a:pt x="63" y="84"/>
                  </a:lnTo>
                  <a:lnTo>
                    <a:pt x="67" y="80"/>
                  </a:lnTo>
                  <a:lnTo>
                    <a:pt x="67" y="78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2" y="69"/>
                  </a:lnTo>
                  <a:lnTo>
                    <a:pt x="72" y="61"/>
                  </a:lnTo>
                  <a:lnTo>
                    <a:pt x="70" y="59"/>
                  </a:lnTo>
                  <a:lnTo>
                    <a:pt x="70" y="55"/>
                  </a:lnTo>
                  <a:lnTo>
                    <a:pt x="67" y="53"/>
                  </a:lnTo>
                  <a:lnTo>
                    <a:pt x="67" y="51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1"/>
                  </a:lnTo>
                  <a:lnTo>
                    <a:pt x="55" y="41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49" y="37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0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51" y="14"/>
                  </a:lnTo>
                  <a:lnTo>
                    <a:pt x="53" y="16"/>
                  </a:lnTo>
                  <a:lnTo>
                    <a:pt x="59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7" y="51"/>
                  </a:lnTo>
                  <a:lnTo>
                    <a:pt x="19" y="51"/>
                  </a:lnTo>
                  <a:lnTo>
                    <a:pt x="21" y="53"/>
                  </a:lnTo>
                  <a:lnTo>
                    <a:pt x="23" y="53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4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68160" y="326880"/>
              <a:ext cx="119160" cy="13824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88"/>
                  </a:moveTo>
                  <a:lnTo>
                    <a:pt x="4" y="88"/>
                  </a:lnTo>
                  <a:lnTo>
                    <a:pt x="6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1" y="86"/>
                  </a:lnTo>
                  <a:lnTo>
                    <a:pt x="72" y="76"/>
                  </a:lnTo>
                  <a:lnTo>
                    <a:pt x="72" y="69"/>
                  </a:lnTo>
                  <a:lnTo>
                    <a:pt x="74" y="69"/>
                  </a:lnTo>
                  <a:lnTo>
                    <a:pt x="74" y="61"/>
                  </a:lnTo>
                  <a:lnTo>
                    <a:pt x="72" y="59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53" y="14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9" y="45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9" y="51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7"/>
                  </a:lnTo>
                  <a:lnTo>
                    <a:pt x="34" y="57"/>
                  </a:lnTo>
                  <a:lnTo>
                    <a:pt x="36" y="59"/>
                  </a:lnTo>
                  <a:lnTo>
                    <a:pt x="38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4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6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7720" y="329760"/>
              <a:ext cx="131760" cy="13248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63" y="0"/>
                  </a:moveTo>
                  <a:lnTo>
                    <a:pt x="82" y="0"/>
                  </a:lnTo>
                  <a:lnTo>
                    <a:pt x="82" y="88"/>
                  </a:lnTo>
                  <a:lnTo>
                    <a:pt x="53" y="88"/>
                  </a:lnTo>
                  <a:lnTo>
                    <a:pt x="17" y="33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30" y="0"/>
                  </a:lnTo>
                  <a:lnTo>
                    <a:pt x="63" y="55"/>
                  </a:lnTo>
                  <a:lnTo>
                    <a:pt x="63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36120" y="1731960"/>
            <a:ext cx="8953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320760">
              <a:lnSpc>
                <a:spcPct val="9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01800" indent="-235080">
              <a:lnSpc>
                <a:spcPct val="9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152360" indent="-249120">
              <a:lnSpc>
                <a:spcPct val="90000"/>
              </a:lnSpc>
              <a:spcBef>
                <a:spcPts val="1576"/>
              </a:spcBef>
              <a:buClr>
                <a:srgbClr val="2d5b8d"/>
              </a:buClr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1581120" indent="-249120">
              <a:lnSpc>
                <a:spcPct val="90000"/>
              </a:lnSpc>
              <a:spcBef>
                <a:spcPts val="1576"/>
              </a:spcBef>
              <a:buClr>
                <a:srgbClr val="2d5b8d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1581120" indent="-2491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1581120" indent="-24912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–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-169920" y="6180120"/>
            <a:ext cx="4292280" cy="242280"/>
            <a:chOff x="-169920" y="6180120"/>
            <a:chExt cx="4292280" cy="242280"/>
          </a:xfrm>
        </p:grpSpPr>
        <p:sp>
          <p:nvSpPr>
            <p:cNvPr id="14" name=""/>
            <p:cNvSpPr/>
            <p:nvPr/>
          </p:nvSpPr>
          <p:spPr>
            <a:xfrm>
              <a:off x="-108360" y="6182280"/>
              <a:ext cx="4230720" cy="2401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1760" rIns="79200" tIns="31320" bIns="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IT PS 8 MCH                   CAN Bus Model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-169920" y="6180120"/>
              <a:ext cx="162360" cy="231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1400" rIns="79200" tIns="3096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" name=""/>
          <p:cNvSpPr/>
          <p:nvPr/>
        </p:nvSpPr>
        <p:spPr>
          <a:xfrm rot="16200000">
            <a:off x="8008560" y="4231440"/>
            <a:ext cx="32828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urer  CAN_BUS_16.03.01B.ppt.   </a:t>
            </a:r>
            <a:fld id="{075D6B10-1E60-4D96-B660-D277059FCC1E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8672400" y="1595520"/>
            <a:ext cx="1225800" cy="0"/>
          </a:xfrm>
          <a:prstGeom prst="line">
            <a:avLst/>
          </a:prstGeom>
          <a:ln w="9360">
            <a:solidFill>
              <a:srgbClr val="446b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866000" y="1549440"/>
            <a:ext cx="2032200" cy="0"/>
          </a:xfrm>
          <a:prstGeom prst="line">
            <a:avLst/>
          </a:prstGeom>
          <a:ln w="38160">
            <a:solidFill>
              <a:srgbClr val="829c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359120" y="6146640"/>
            <a:ext cx="2299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dustrial Solutions and Services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9507600" y="631044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668160" y="326880"/>
            <a:ext cx="986040" cy="138240"/>
            <a:chOff x="668160" y="326880"/>
            <a:chExt cx="986040" cy="138240"/>
          </a:xfrm>
        </p:grpSpPr>
        <p:sp>
          <p:nvSpPr>
            <p:cNvPr id="58" name=""/>
            <p:cNvSpPr/>
            <p:nvPr/>
          </p:nvSpPr>
          <p:spPr>
            <a:xfrm>
              <a:off x="882360" y="329760"/>
              <a:ext cx="114480" cy="132480"/>
            </a:xfrm>
            <a:custGeom>
              <a:avLst/>
              <a:gdLst/>
              <a:ahLst/>
              <a:rect l="l" t="t" r="r" b="b"/>
              <a:pathLst>
                <a:path w="72" h="89">
                  <a:moveTo>
                    <a:pt x="0" y="0"/>
                  </a:moveTo>
                  <a:lnTo>
                    <a:pt x="71" y="0"/>
                  </a:lnTo>
                  <a:lnTo>
                    <a:pt x="71" y="16"/>
                  </a:lnTo>
                  <a:lnTo>
                    <a:pt x="29" y="16"/>
                  </a:lnTo>
                  <a:lnTo>
                    <a:pt x="29" y="35"/>
                  </a:lnTo>
                  <a:lnTo>
                    <a:pt x="67" y="35"/>
                  </a:lnTo>
                  <a:lnTo>
                    <a:pt x="67" y="49"/>
                  </a:lnTo>
                  <a:lnTo>
                    <a:pt x="29" y="49"/>
                  </a:lnTo>
                  <a:lnTo>
                    <a:pt x="29" y="71"/>
                  </a:lnTo>
                  <a:lnTo>
                    <a:pt x="71" y="71"/>
                  </a:lnTo>
                  <a:lnTo>
                    <a:pt x="71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04600" y="329760"/>
              <a:ext cx="46080" cy="1324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0"/>
                  </a:moveTo>
                  <a:lnTo>
                    <a:pt x="28" y="0"/>
                  </a:lnTo>
                  <a:lnTo>
                    <a:pt x="28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2400" y="329760"/>
              <a:ext cx="183960" cy="132480"/>
            </a:xfrm>
            <a:custGeom>
              <a:avLst/>
              <a:gdLst/>
              <a:ahLst/>
              <a:rect l="l" t="t" r="r" b="b"/>
              <a:pathLst>
                <a:path w="116" h="89">
                  <a:moveTo>
                    <a:pt x="0" y="0"/>
                  </a:moveTo>
                  <a:lnTo>
                    <a:pt x="35" y="0"/>
                  </a:lnTo>
                  <a:lnTo>
                    <a:pt x="59" y="53"/>
                  </a:lnTo>
                  <a:lnTo>
                    <a:pt x="82" y="0"/>
                  </a:lnTo>
                  <a:lnTo>
                    <a:pt x="115" y="0"/>
                  </a:lnTo>
                  <a:lnTo>
                    <a:pt x="115" y="88"/>
                  </a:lnTo>
                  <a:lnTo>
                    <a:pt x="88" y="88"/>
                  </a:lnTo>
                  <a:lnTo>
                    <a:pt x="88" y="31"/>
                  </a:lnTo>
                  <a:lnTo>
                    <a:pt x="63" y="88"/>
                  </a:lnTo>
                  <a:lnTo>
                    <a:pt x="46" y="88"/>
                  </a:lnTo>
                  <a:lnTo>
                    <a:pt x="19" y="33"/>
                  </a:lnTo>
                  <a:lnTo>
                    <a:pt x="19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8040" y="329760"/>
              <a:ext cx="112680" cy="132480"/>
            </a:xfrm>
            <a:custGeom>
              <a:avLst/>
              <a:gdLst/>
              <a:ahLst/>
              <a:rect l="l" t="t" r="r" b="b"/>
              <a:pathLst>
                <a:path w="71" h="89">
                  <a:moveTo>
                    <a:pt x="0" y="0"/>
                  </a:moveTo>
                  <a:lnTo>
                    <a:pt x="70" y="0"/>
                  </a:lnTo>
                  <a:lnTo>
                    <a:pt x="70" y="16"/>
                  </a:lnTo>
                  <a:lnTo>
                    <a:pt x="28" y="16"/>
                  </a:lnTo>
                  <a:lnTo>
                    <a:pt x="28" y="35"/>
                  </a:lnTo>
                  <a:lnTo>
                    <a:pt x="65" y="35"/>
                  </a:lnTo>
                  <a:lnTo>
                    <a:pt x="65" y="49"/>
                  </a:lnTo>
                  <a:lnTo>
                    <a:pt x="28" y="49"/>
                  </a:lnTo>
                  <a:lnTo>
                    <a:pt x="28" y="71"/>
                  </a:lnTo>
                  <a:lnTo>
                    <a:pt x="70" y="71"/>
                  </a:lnTo>
                  <a:lnTo>
                    <a:pt x="70" y="88"/>
                  </a:lnTo>
                  <a:lnTo>
                    <a:pt x="0" y="88"/>
                  </a:lnTo>
                  <a:lnTo>
                    <a:pt x="0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38280" y="326880"/>
              <a:ext cx="115920" cy="138240"/>
            </a:xfrm>
            <a:custGeom>
              <a:avLst/>
              <a:gdLst/>
              <a:ahLst/>
              <a:rect l="l" t="t" r="r" b="b"/>
              <a:pathLst>
                <a:path w="73" h="93">
                  <a:moveTo>
                    <a:pt x="0" y="88"/>
                  </a:moveTo>
                  <a:lnTo>
                    <a:pt x="4" y="88"/>
                  </a:lnTo>
                  <a:lnTo>
                    <a:pt x="7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5" y="88"/>
                  </a:lnTo>
                  <a:lnTo>
                    <a:pt x="57" y="86"/>
                  </a:lnTo>
                  <a:lnTo>
                    <a:pt x="61" y="86"/>
                  </a:lnTo>
                  <a:lnTo>
                    <a:pt x="61" y="84"/>
                  </a:lnTo>
                  <a:lnTo>
                    <a:pt x="63" y="84"/>
                  </a:lnTo>
                  <a:lnTo>
                    <a:pt x="67" y="80"/>
                  </a:lnTo>
                  <a:lnTo>
                    <a:pt x="67" y="78"/>
                  </a:lnTo>
                  <a:lnTo>
                    <a:pt x="70" y="76"/>
                  </a:lnTo>
                  <a:lnTo>
                    <a:pt x="70" y="71"/>
                  </a:lnTo>
                  <a:lnTo>
                    <a:pt x="72" y="69"/>
                  </a:lnTo>
                  <a:lnTo>
                    <a:pt x="72" y="61"/>
                  </a:lnTo>
                  <a:lnTo>
                    <a:pt x="70" y="59"/>
                  </a:lnTo>
                  <a:lnTo>
                    <a:pt x="70" y="55"/>
                  </a:lnTo>
                  <a:lnTo>
                    <a:pt x="67" y="53"/>
                  </a:lnTo>
                  <a:lnTo>
                    <a:pt x="67" y="51"/>
                  </a:lnTo>
                  <a:lnTo>
                    <a:pt x="59" y="43"/>
                  </a:lnTo>
                  <a:lnTo>
                    <a:pt x="57" y="43"/>
                  </a:lnTo>
                  <a:lnTo>
                    <a:pt x="57" y="41"/>
                  </a:lnTo>
                  <a:lnTo>
                    <a:pt x="55" y="41"/>
                  </a:lnTo>
                  <a:lnTo>
                    <a:pt x="53" y="39"/>
                  </a:lnTo>
                  <a:lnTo>
                    <a:pt x="51" y="39"/>
                  </a:lnTo>
                  <a:lnTo>
                    <a:pt x="49" y="37"/>
                  </a:lnTo>
                  <a:lnTo>
                    <a:pt x="44" y="37"/>
                  </a:lnTo>
                  <a:lnTo>
                    <a:pt x="44" y="35"/>
                  </a:lnTo>
                  <a:lnTo>
                    <a:pt x="40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28" y="20"/>
                  </a:lnTo>
                  <a:lnTo>
                    <a:pt x="28" y="18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51" y="14"/>
                  </a:lnTo>
                  <a:lnTo>
                    <a:pt x="53" y="16"/>
                  </a:lnTo>
                  <a:lnTo>
                    <a:pt x="59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9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8"/>
                  </a:lnTo>
                  <a:lnTo>
                    <a:pt x="7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2" y="41"/>
                  </a:lnTo>
                  <a:lnTo>
                    <a:pt x="4" y="41"/>
                  </a:lnTo>
                  <a:lnTo>
                    <a:pt x="7" y="43"/>
                  </a:lnTo>
                  <a:lnTo>
                    <a:pt x="7" y="45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7" y="51"/>
                  </a:lnTo>
                  <a:lnTo>
                    <a:pt x="19" y="51"/>
                  </a:lnTo>
                  <a:lnTo>
                    <a:pt x="21" y="53"/>
                  </a:lnTo>
                  <a:lnTo>
                    <a:pt x="23" y="53"/>
                  </a:lnTo>
                  <a:lnTo>
                    <a:pt x="23" y="55"/>
                  </a:lnTo>
                  <a:lnTo>
                    <a:pt x="25" y="55"/>
                  </a:lnTo>
                  <a:lnTo>
                    <a:pt x="28" y="57"/>
                  </a:lnTo>
                  <a:lnTo>
                    <a:pt x="32" y="57"/>
                  </a:lnTo>
                  <a:lnTo>
                    <a:pt x="34" y="59"/>
                  </a:lnTo>
                  <a:lnTo>
                    <a:pt x="36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4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8160" y="326880"/>
              <a:ext cx="119160" cy="13824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0" y="88"/>
                  </a:moveTo>
                  <a:lnTo>
                    <a:pt x="4" y="88"/>
                  </a:lnTo>
                  <a:lnTo>
                    <a:pt x="6" y="90"/>
                  </a:lnTo>
                  <a:lnTo>
                    <a:pt x="17" y="90"/>
                  </a:lnTo>
                  <a:lnTo>
                    <a:pt x="19" y="92"/>
                  </a:lnTo>
                  <a:lnTo>
                    <a:pt x="42" y="92"/>
                  </a:lnTo>
                  <a:lnTo>
                    <a:pt x="44" y="90"/>
                  </a:lnTo>
                  <a:lnTo>
                    <a:pt x="51" y="90"/>
                  </a:lnTo>
                  <a:lnTo>
                    <a:pt x="53" y="88"/>
                  </a:lnTo>
                  <a:lnTo>
                    <a:pt x="57" y="88"/>
                  </a:lnTo>
                  <a:lnTo>
                    <a:pt x="59" y="86"/>
                  </a:lnTo>
                  <a:lnTo>
                    <a:pt x="61" y="86"/>
                  </a:lnTo>
                  <a:lnTo>
                    <a:pt x="72" y="76"/>
                  </a:lnTo>
                  <a:lnTo>
                    <a:pt x="72" y="69"/>
                  </a:lnTo>
                  <a:lnTo>
                    <a:pt x="74" y="69"/>
                  </a:lnTo>
                  <a:lnTo>
                    <a:pt x="74" y="61"/>
                  </a:lnTo>
                  <a:lnTo>
                    <a:pt x="72" y="59"/>
                  </a:lnTo>
                  <a:lnTo>
                    <a:pt x="72" y="55"/>
                  </a:lnTo>
                  <a:lnTo>
                    <a:pt x="69" y="53"/>
                  </a:lnTo>
                  <a:lnTo>
                    <a:pt x="69" y="51"/>
                  </a:lnTo>
                  <a:lnTo>
                    <a:pt x="61" y="43"/>
                  </a:lnTo>
                  <a:lnTo>
                    <a:pt x="59" y="43"/>
                  </a:lnTo>
                  <a:lnTo>
                    <a:pt x="59" y="41"/>
                  </a:lnTo>
                  <a:lnTo>
                    <a:pt x="57" y="41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1" y="37"/>
                  </a:lnTo>
                  <a:lnTo>
                    <a:pt x="46" y="37"/>
                  </a:lnTo>
                  <a:lnTo>
                    <a:pt x="44" y="35"/>
                  </a:lnTo>
                  <a:lnTo>
                    <a:pt x="42" y="35"/>
                  </a:lnTo>
                  <a:lnTo>
                    <a:pt x="40" y="33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0" y="29"/>
                  </a:lnTo>
                  <a:lnTo>
                    <a:pt x="30" y="27"/>
                  </a:lnTo>
                  <a:lnTo>
                    <a:pt x="27" y="27"/>
                  </a:lnTo>
                  <a:lnTo>
                    <a:pt x="27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53" y="14"/>
                  </a:lnTo>
                  <a:lnTo>
                    <a:pt x="55" y="16"/>
                  </a:lnTo>
                  <a:lnTo>
                    <a:pt x="61" y="16"/>
                  </a:lnTo>
                  <a:lnTo>
                    <a:pt x="63" y="18"/>
                  </a:lnTo>
                  <a:lnTo>
                    <a:pt x="65" y="18"/>
                  </a:lnTo>
                  <a:lnTo>
                    <a:pt x="65" y="2"/>
                  </a:lnTo>
                  <a:lnTo>
                    <a:pt x="51" y="2"/>
                  </a:lnTo>
                  <a:lnTo>
                    <a:pt x="48" y="0"/>
                  </a:lnTo>
                  <a:lnTo>
                    <a:pt x="30" y="0"/>
                  </a:lnTo>
                  <a:lnTo>
                    <a:pt x="27" y="2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9" y="8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6" y="43"/>
                  </a:lnTo>
                  <a:lnTo>
                    <a:pt x="6" y="45"/>
                  </a:lnTo>
                  <a:lnTo>
                    <a:pt x="9" y="45"/>
                  </a:lnTo>
                  <a:lnTo>
                    <a:pt x="11" y="47"/>
                  </a:lnTo>
                  <a:lnTo>
                    <a:pt x="13" y="47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19" y="51"/>
                  </a:lnTo>
                  <a:lnTo>
                    <a:pt x="21" y="51"/>
                  </a:lnTo>
                  <a:lnTo>
                    <a:pt x="23" y="53"/>
                  </a:lnTo>
                  <a:lnTo>
                    <a:pt x="25" y="53"/>
                  </a:lnTo>
                  <a:lnTo>
                    <a:pt x="25" y="55"/>
                  </a:lnTo>
                  <a:lnTo>
                    <a:pt x="27" y="55"/>
                  </a:lnTo>
                  <a:lnTo>
                    <a:pt x="30" y="57"/>
                  </a:lnTo>
                  <a:lnTo>
                    <a:pt x="34" y="57"/>
                  </a:lnTo>
                  <a:lnTo>
                    <a:pt x="36" y="59"/>
                  </a:lnTo>
                  <a:lnTo>
                    <a:pt x="38" y="59"/>
                  </a:lnTo>
                  <a:lnTo>
                    <a:pt x="38" y="61"/>
                  </a:lnTo>
                  <a:lnTo>
                    <a:pt x="42" y="61"/>
                  </a:lnTo>
                  <a:lnTo>
                    <a:pt x="46" y="65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4" y="73"/>
                  </a:lnTo>
                  <a:lnTo>
                    <a:pt x="40" y="73"/>
                  </a:lnTo>
                  <a:lnTo>
                    <a:pt x="38" y="76"/>
                  </a:lnTo>
                  <a:lnTo>
                    <a:pt x="15" y="76"/>
                  </a:lnTo>
                  <a:lnTo>
                    <a:pt x="13" y="73"/>
                  </a:lnTo>
                  <a:lnTo>
                    <a:pt x="6" y="73"/>
                  </a:lnTo>
                  <a:lnTo>
                    <a:pt x="2" y="71"/>
                  </a:lnTo>
                  <a:lnTo>
                    <a:pt x="0" y="71"/>
                  </a:lnTo>
                  <a:lnTo>
                    <a:pt x="0" y="88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7720" y="329760"/>
              <a:ext cx="131760" cy="13248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63" y="0"/>
                  </a:moveTo>
                  <a:lnTo>
                    <a:pt x="82" y="0"/>
                  </a:lnTo>
                  <a:lnTo>
                    <a:pt x="82" y="88"/>
                  </a:lnTo>
                  <a:lnTo>
                    <a:pt x="53" y="88"/>
                  </a:lnTo>
                  <a:lnTo>
                    <a:pt x="17" y="33"/>
                  </a:lnTo>
                  <a:lnTo>
                    <a:pt x="17" y="88"/>
                  </a:lnTo>
                  <a:lnTo>
                    <a:pt x="0" y="88"/>
                  </a:lnTo>
                  <a:lnTo>
                    <a:pt x="0" y="0"/>
                  </a:lnTo>
                  <a:lnTo>
                    <a:pt x="30" y="0"/>
                  </a:lnTo>
                  <a:lnTo>
                    <a:pt x="63" y="55"/>
                  </a:lnTo>
                  <a:lnTo>
                    <a:pt x="63" y="0"/>
                  </a:lnTo>
                </a:path>
              </a:pathLst>
            </a:custGeom>
            <a:solidFill>
              <a:srgbClr val="029d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 rot="16200000">
            <a:off x="8016480" y="4239360"/>
            <a:ext cx="328284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03440"/>
                <a:tab algn="l" pos="1406520"/>
                <a:tab algn="l" pos="2109960"/>
                <a:tab algn="l" pos="2813040"/>
                <a:tab algn="l" pos="3516480"/>
                <a:tab algn="l" pos="4219560"/>
                <a:tab algn="l" pos="4923000"/>
                <a:tab algn="l" pos="5626080"/>
                <a:tab algn="l" pos="6329520"/>
                <a:tab algn="l" pos="7032600"/>
                <a:tab algn="l" pos="7736040"/>
                <a:tab algn="l" pos="8439120"/>
                <a:tab algn="l" pos="9142560"/>
                <a:tab algn="l" pos="9845640"/>
                <a:tab algn="l" pos="1054908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ate/Datum   Filename.ppt.   </a:t>
            </a:r>
            <a:fld id="{CCAE0CF6-8AE5-4FA9-83B2-1A38694BCA9D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557280"/>
            <a:ext cx="9906120" cy="5630760"/>
            <a:chOff x="0" y="557280"/>
            <a:chExt cx="9906120" cy="5630760"/>
          </a:xfrm>
        </p:grpSpPr>
        <p:graphicFrame>
          <p:nvGraphicFramePr>
            <p:cNvPr id="67" name=""/>
            <p:cNvGraphicFramePr/>
            <p:nvPr/>
          </p:nvGraphicFramePr>
          <p:xfrm>
            <a:off x="0" y="557280"/>
            <a:ext cx="9906120" cy="10058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557280"/>
                      <a:ext cx="9906120" cy="100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"/>
            <p:cNvSpPr/>
            <p:nvPr/>
          </p:nvSpPr>
          <p:spPr>
            <a:xfrm>
              <a:off x="8672040" y="1594800"/>
              <a:ext cx="1226520" cy="0"/>
            </a:xfrm>
            <a:prstGeom prst="line">
              <a:avLst/>
            </a:prstGeom>
            <a:ln w="9360">
              <a:solidFill>
                <a:srgbClr val="446b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865640" y="1548360"/>
              <a:ext cx="2032560" cy="0"/>
            </a:xfrm>
            <a:prstGeom prst="line">
              <a:avLst/>
            </a:prstGeom>
            <a:ln w="38160">
              <a:solidFill>
                <a:srgbClr val="829cb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4">
              <a:lum bright="20000"/>
            </a:blip>
            <a:stretch/>
          </p:blipFill>
          <p:spPr>
            <a:xfrm>
              <a:off x="0" y="557280"/>
              <a:ext cx="9906120" cy="5630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72" name=""/>
            <p:cNvGraphicFramePr/>
            <p:nvPr/>
          </p:nvGraphicFramePr>
          <p:xfrm>
            <a:off x="6580440" y="576720"/>
            <a:ext cx="3183840" cy="1010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580440" y="576720"/>
                      <a:ext cx="3183840" cy="101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4" name=""/>
          <p:cNvSpPr/>
          <p:nvPr/>
        </p:nvSpPr>
        <p:spPr>
          <a:xfrm>
            <a:off x="115920" y="6302520"/>
            <a:ext cx="731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-169920" y="6180120"/>
            <a:ext cx="3927600" cy="242280"/>
            <a:chOff x="-169920" y="6180120"/>
            <a:chExt cx="3927600" cy="242280"/>
          </a:xfrm>
        </p:grpSpPr>
        <p:sp>
          <p:nvSpPr>
            <p:cNvPr id="76" name=""/>
            <p:cNvSpPr/>
            <p:nvPr/>
          </p:nvSpPr>
          <p:spPr>
            <a:xfrm>
              <a:off x="-107280" y="6182280"/>
              <a:ext cx="3864960" cy="2401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1760" rIns="79200" tIns="31320" bIns="0" anchor="ctr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793800"/>
                  <a:tab algn="l" pos="1587600"/>
                  <a:tab algn="l" pos="2381400"/>
                  <a:tab algn="l" pos="3174840"/>
                  <a:tab algn="l" pos="3968640"/>
                  <a:tab algn="l" pos="4762440"/>
                  <a:tab algn="l" pos="5556240"/>
                  <a:tab algn="l" pos="6350040"/>
                  <a:tab algn="l" pos="7143840"/>
                  <a:tab algn="l" pos="7937640"/>
                  <a:tab algn="l" pos="8731080"/>
                  <a:tab algn="l" pos="9524880"/>
                  <a:tab algn="l" pos="1031868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</a:rPr>
                <a:t>IT PS 8 MCH           CAN Bus Model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169920" y="6180120"/>
              <a:ext cx="162360" cy="231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1400" rIns="79200" tIns="3096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359120" y="6146640"/>
            <a:ext cx="22996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dustrial Solutions and Services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Your Success is our Go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507600" y="631044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2520" y="527040"/>
            <a:ext cx="4413600" cy="95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adc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4160" tIns="37080" bIns="37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3600" spc="-1" strike="noStrike">
                <a:solidFill>
                  <a:srgbClr val="1f3d5f"/>
                </a:solidFill>
                <a:latin typeface="Arial Narrow"/>
              </a:rPr>
              <a:t>I&amp;S IT 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3040"/>
                <a:tab algn="l" pos="1486080"/>
                <a:tab algn="l" pos="2228760"/>
                <a:tab algn="l" pos="2971800"/>
                <a:tab algn="l" pos="3714840"/>
                <a:tab algn="l" pos="4457880"/>
                <a:tab algn="l" pos="5200560"/>
                <a:tab algn="l" pos="5943600"/>
                <a:tab algn="l" pos="6686640"/>
                <a:tab algn="l" pos="7429680"/>
                <a:tab algn="l" pos="8172360"/>
                <a:tab algn="l" pos="8915400"/>
                <a:tab algn="l" pos="9658440"/>
                <a:tab algn="l" pos="10401480"/>
              </a:tabLst>
            </a:pPr>
            <a:r>
              <a:rPr b="1" lang="en-US" sz="2200" spc="-1" strike="noStrike">
                <a:solidFill>
                  <a:srgbClr val="1f3d5f"/>
                </a:solidFill>
                <a:latin typeface="Arial Narrow"/>
              </a:rPr>
              <a:t>Information Technology Plant Solu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5160" y="1805040"/>
            <a:ext cx="665136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5100" spc="-1" strike="noStrike">
                <a:solidFill>
                  <a:srgbClr val="1f3d5f"/>
                </a:solidFill>
                <a:latin typeface="Arial"/>
              </a:rPr>
              <a:t>CAN Bus Modeling</a:t>
            </a:r>
            <a:r>
              <a:rPr b="1" lang="en-GB" sz="3000" spc="-1" strike="noStrike">
                <a:solidFill>
                  <a:srgbClr val="1f3d5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800" spc="-1" strike="noStrike">
                <a:solidFill>
                  <a:srgbClr val="1f3d5f"/>
                </a:solidFill>
                <a:latin typeface="Arial"/>
              </a:rPr>
              <a:t>Manfred Maur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800" spc="-1" strike="noStrike">
                <a:solidFill>
                  <a:srgbClr val="1f3d5f"/>
                </a:solidFill>
                <a:latin typeface="Arial"/>
              </a:rPr>
              <a:t>Bernhard Ung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800" spc="-1" strike="noStrike">
                <a:solidFill>
                  <a:srgbClr val="1f3d5f"/>
                </a:solidFill>
                <a:latin typeface="Arial"/>
              </a:rPr>
              <a:t>Friedrich Haslinger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2800" spc="-1" strike="noStrike">
                <a:solidFill>
                  <a:srgbClr val="1f3d5f"/>
                </a:solidFill>
                <a:latin typeface="Arial"/>
              </a:rPr>
              <a:t>16.03.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600" spc="-1" strike="noStrike">
                <a:solidFill>
                  <a:srgbClr val="1f3d5f"/>
                </a:solidFill>
                <a:latin typeface="Arial"/>
              </a:rPr>
              <a:t>* BMW Group Munich, Germ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0240" y="4710240"/>
            <a:ext cx="31356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3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400" spc="-1" strike="noStrike">
                <a:solidFill>
                  <a:srgbClr val="003366"/>
                </a:solidFill>
                <a:latin typeface="Arial Narrow"/>
              </a:rPr>
              <a:t>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3400" spc="-1" strike="noStrike">
                <a:solidFill>
                  <a:srgbClr val="003366"/>
                </a:solidFill>
                <a:latin typeface="Arial Narrow"/>
              </a:rPr>
              <a:t>Multivend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3400" spc="-1" strike="noStrike">
                <a:solidFill>
                  <a:srgbClr val="003366"/>
                </a:solidFill>
                <a:latin typeface="Arial Narrow"/>
              </a:rPr>
              <a:t>	</a:t>
            </a:r>
            <a:r>
              <a:rPr b="1" lang="en-GB" sz="3400" spc="-1" strike="noStrike">
                <a:solidFill>
                  <a:srgbClr val="003366"/>
                </a:solidFill>
                <a:latin typeface="Arial Narrow"/>
              </a:rPr>
              <a:t>   </a:t>
            </a:r>
            <a:r>
              <a:rPr b="1" lang="en-GB" sz="3400" spc="-1" strike="noStrike">
                <a:solidFill>
                  <a:srgbClr val="003366"/>
                </a:solidFill>
                <a:latin typeface="Arial Narrow"/>
              </a:rPr>
              <a:t>Simu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96720" indent="-52200" algn="ctr">
              <a:lnSpc>
                <a:spcPct val="90000"/>
              </a:lnSpc>
              <a:spcBef>
                <a:spcPts val="1349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3800" indent="-127080" algn="ctr">
              <a:lnSpc>
                <a:spcPct val="90000"/>
              </a:lnSpc>
              <a:spcBef>
                <a:spcPts val="1199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03240" algn="ctr">
              <a:lnSpc>
                <a:spcPct val="90000"/>
              </a:lnSpc>
              <a:spcBef>
                <a:spcPts val="524"/>
              </a:spcBef>
              <a:buClr>
                <a:srgbClr val="2d5b8d"/>
              </a:buClr>
              <a:buFont typeface="Arial"/>
              <a:buChar char="•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154160" indent="177840" algn="ctr">
              <a:lnSpc>
                <a:spcPct val="90000"/>
              </a:lnSpc>
              <a:buClr>
                <a:srgbClr val="2d5b8d"/>
              </a:buClr>
              <a:buFont typeface="Arial"/>
              <a:buChar char="–"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154160" indent="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154160" indent="177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Flowchart of the behavior model generation for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TLE 6250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704960" y="1805040"/>
          <a:ext cx="6424560" cy="41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4960" y="1805040"/>
                    <a:ext cx="6424560" cy="4154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_LOW  -  Pulldown and Pullup output characteristics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58800" y="1865160"/>
          <a:ext cx="5052960" cy="31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865160"/>
                    <a:ext cx="5052960" cy="31878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124160" y="2598840"/>
          <a:ext cx="5124600" cy="332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2598840"/>
                    <a:ext cx="5124600" cy="33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8216280" y="2172600"/>
            <a:ext cx="98280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5896d4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500" spc="-1" strike="noStrike">
                <a:solidFill>
                  <a:srgbClr val="e62c4f"/>
                </a:solidFill>
                <a:latin typeface="Arial"/>
              </a:rPr>
              <a:t>TxD = 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7400" y="5276880"/>
            <a:ext cx="98280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5896d4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500" spc="-1" strike="noStrike">
                <a:solidFill>
                  <a:srgbClr val="e62c4f"/>
                </a:solidFill>
                <a:latin typeface="Arial"/>
              </a:rPr>
              <a:t>TxD = 0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_HIGH  -  Pullup and Pulldown output characteristic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15880" y="1731960"/>
          <a:ext cx="5124600" cy="33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1731960"/>
                    <a:ext cx="5124600" cy="33307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51480" y="2814480"/>
          <a:ext cx="4695840" cy="314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51480" y="2814480"/>
                    <a:ext cx="4695840" cy="31402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65920" y="5204520"/>
            <a:ext cx="98280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5896d4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500" spc="-1" strike="noStrike">
                <a:solidFill>
                  <a:srgbClr val="e62c4f"/>
                </a:solidFill>
                <a:latin typeface="Arial"/>
              </a:rPr>
              <a:t>TxD = 0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16280" y="2316960"/>
            <a:ext cx="98280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5896d4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500" spc="-1" strike="noStrike">
                <a:solidFill>
                  <a:srgbClr val="e62c4f"/>
                </a:solidFill>
                <a:latin typeface="Arial"/>
              </a:rPr>
              <a:t>TxD = 5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easuring the Waveform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31840" y="2238480"/>
          <a:ext cx="7288200" cy="27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2238480"/>
                    <a:ext cx="728820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_HIGH  -  Rising and falling waveform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920960" y="1731960"/>
          <a:ext cx="6065640" cy="41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0960" y="1731960"/>
                    <a:ext cx="6065640" cy="41371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_LOW  - Rising and falling waveform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779480" y="1731960"/>
          <a:ext cx="6207120" cy="41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1731960"/>
                    <a:ext cx="6207120" cy="4129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witching from 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recessive 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==&gt; 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ctive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sta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994040" y="1805040"/>
          <a:ext cx="5991120" cy="41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4040" y="1805040"/>
                    <a:ext cx="5991120" cy="41241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Behavior model generation (Switching characteristics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12880" y="1876320"/>
          <a:ext cx="36097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876320"/>
                    <a:ext cx="36097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129280" y="1876320"/>
          <a:ext cx="3610080" cy="361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29280" y="1876320"/>
                    <a:ext cx="361008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7908840" y="2967120"/>
            <a:ext cx="68256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31f822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V_fix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94240" y="4049640"/>
            <a:ext cx="68256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31f822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V_fix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19920" y="4119480"/>
            <a:ext cx="69336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31f822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R_fix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08560" y="2824200"/>
            <a:ext cx="69336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31f822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R_fix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Schematics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of the CAN Transceiver behavior 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065320" y="1731960"/>
          <a:ext cx="5776920" cy="40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5320" y="1731960"/>
                    <a:ext cx="5776920" cy="40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_HIGH: Verification of the behavior model vs. Measuremen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8" name="can_h" descr=""/>
          <p:cNvPicPr/>
          <p:nvPr/>
        </p:nvPicPr>
        <p:blipFill>
          <a:blip r:embed="rId1"/>
          <a:stretch/>
        </p:blipFill>
        <p:spPr>
          <a:xfrm>
            <a:off x="1344600" y="1876320"/>
            <a:ext cx="7004160" cy="397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9" name=""/>
          <p:cNvSpPr/>
          <p:nvPr/>
        </p:nvSpPr>
        <p:spPr>
          <a:xfrm>
            <a:off x="6150600" y="3327480"/>
            <a:ext cx="1919880" cy="661680"/>
          </a:xfrm>
          <a:prstGeom prst="rect">
            <a:avLst/>
          </a:prstGeom>
          <a:solidFill>
            <a:srgbClr val="b9d3ed"/>
          </a:solidFill>
          <a:ln w="9360">
            <a:solidFill>
              <a:srgbClr val="31f822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31f822"/>
                </a:solidFill>
                <a:latin typeface="Arial"/>
              </a:rPr>
              <a:t>GREEN</a:t>
            </a: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 - measu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RED - simula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Overview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809720"/>
            <a:ext cx="82026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at is a CAN Bu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rocedure to create a IBIS based model for CAN devic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320760">
              <a:lnSpc>
                <a:spcPct val="120000"/>
              </a:lnSpc>
              <a:spcBef>
                <a:spcPts val="1199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320760">
              <a:lnSpc>
                <a:spcPct val="120000"/>
              </a:lnSpc>
              <a:spcBef>
                <a:spcPts val="1199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ta transforming to IBI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eneration of a behavior model from the IBIS forma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Behavior model vs. measur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_LOW: Verification of the behavior model vs. Measurement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1" name="can_l" descr=""/>
          <p:cNvPicPr/>
          <p:nvPr/>
        </p:nvPicPr>
        <p:blipFill>
          <a:blip r:embed="rId1"/>
          <a:stretch/>
        </p:blipFill>
        <p:spPr>
          <a:xfrm>
            <a:off x="1273320" y="1805040"/>
            <a:ext cx="7288200" cy="41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6504480" y="3255120"/>
            <a:ext cx="1919880" cy="661680"/>
          </a:xfrm>
          <a:prstGeom prst="rect">
            <a:avLst/>
          </a:prstGeom>
          <a:solidFill>
            <a:srgbClr val="b9d3ed"/>
          </a:solidFill>
          <a:ln w="9360">
            <a:solidFill>
              <a:srgbClr val="31f822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31f822"/>
                </a:solidFill>
                <a:latin typeface="Arial"/>
              </a:rPr>
              <a:t>GREEN</a:t>
            </a: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 - measu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RED - simula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 Application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               Two control units connected through a cable of 2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741320"/>
          <a:ext cx="7424640" cy="41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41320"/>
                    <a:ext cx="7424640" cy="41259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707520" y="2747880"/>
            <a:ext cx="160920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5896d4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500" spc="-1" strike="noStrike">
                <a:solidFill>
                  <a:srgbClr val="e62c4f"/>
                </a:solidFill>
                <a:latin typeface="Arial"/>
              </a:rPr>
              <a:t>Zdiff = 120 Oh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Simulation vs. Measurement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MP: Signal at the receiv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8" name="can_strip_empfaenger" descr=""/>
          <p:cNvPicPr/>
          <p:nvPr/>
        </p:nvPicPr>
        <p:blipFill>
          <a:blip r:embed="rId1"/>
          <a:stretch/>
        </p:blipFill>
        <p:spPr>
          <a:xfrm>
            <a:off x="1344600" y="1731960"/>
            <a:ext cx="7004160" cy="419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9" name=""/>
          <p:cNvSpPr/>
          <p:nvPr/>
        </p:nvSpPr>
        <p:spPr>
          <a:xfrm>
            <a:off x="5938560" y="3183120"/>
            <a:ext cx="1919880" cy="1009080"/>
          </a:xfrm>
          <a:prstGeom prst="rect">
            <a:avLst/>
          </a:prstGeom>
          <a:solidFill>
            <a:srgbClr val="b9d3ed"/>
          </a:solidFill>
          <a:ln w="9360">
            <a:solidFill>
              <a:srgbClr val="31f822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31f822"/>
                </a:solidFill>
                <a:latin typeface="Arial"/>
              </a:rPr>
              <a:t>GREEN</a:t>
            </a: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 - measur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003366"/>
                </a:solidFill>
                <a:latin typeface="Arial"/>
              </a:rPr>
              <a:t>BLUE</a:t>
            </a: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 - simula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de-DE" sz="1500" spc="-1" strike="noStrike">
                <a:solidFill>
                  <a:srgbClr val="e62c4f"/>
                </a:solidFill>
                <a:latin typeface="Arial"/>
              </a:rPr>
              <a:t>RED - simula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onclusion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507520" cy="323208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/>
          </a:bodyPr>
          <a:p>
            <a:pPr marL="343080" indent="-343080">
              <a:lnSpc>
                <a:spcPct val="23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CAN driver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can be described by IBIS based behavior mode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he unsymmetrical voltage swing requires a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generation algorith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142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Good match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of the behavior models with measuremen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42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507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work was done with the support of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T (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schungsvereinigung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tomobil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chnik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investigations are part of the project “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Verhaltensmodellierung von Steuergeräten für die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MV-Simulation im Automotive Bereic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ngl.: behavior modeling of control units for EMC-simulations in the automotive sector)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aim of the project is to develop a procedure to generate models for automotive control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N (Controller Area Network)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6120" y="1731960"/>
            <a:ext cx="8953560" cy="4191120"/>
          </a:xfrm>
          <a:prstGeom prst="rect">
            <a:avLst/>
          </a:prstGeom>
          <a:noFill/>
          <a:ln w="0">
            <a:noFill/>
          </a:ln>
        </p:spPr>
        <p:txBody>
          <a:bodyPr lIns="0" rIns="76320" tIns="76320" bIns="7632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AN = a serial 2-wire differential bus concept introduced by BOSCH, 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o interconnect </a:t>
            </a: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microcontroller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actuator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GB" sz="2100" spc="-1" strike="noStrike">
                <a:solidFill>
                  <a:srgbClr val="000000"/>
                </a:solidFill>
                <a:latin typeface="Arial"/>
              </a:rPr>
              <a:t>sensors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it rate up to 1 Mbit/s  at 40 m bus lengt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-8 Bytes / mess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igh reliability / data security   /  possibilities of realtime respon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At least 30 bus participa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576"/>
              </a:spcBef>
              <a:buClr>
                <a:srgbClr val="2d5b8d"/>
              </a:buClr>
              <a:buFont typeface="Wingdings" charset="2"/>
              <a:buChar char="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Wide field of applica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58440" indent="-317520">
              <a:lnSpc>
                <a:spcPct val="80000"/>
              </a:lnSpc>
              <a:spcBef>
                <a:spcPts val="1349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otive industry / all means of transpo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440" indent="-317520">
              <a:lnSpc>
                <a:spcPct val="80000"/>
              </a:lnSpc>
              <a:spcBef>
                <a:spcPts val="1349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omation in computer integrated 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440" indent="-317520">
              <a:lnSpc>
                <a:spcPct val="80000"/>
              </a:lnSpc>
              <a:spcBef>
                <a:spcPts val="1349"/>
              </a:spcBef>
              <a:buClr>
                <a:srgbClr val="2d5b8d"/>
              </a:buClr>
              <a:buFont typeface="Wingdings" charset="2"/>
              <a:buChar char="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cal equipment and systems  etc.  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576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N - Physical Layer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5" name="CAN1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803920" cy="3838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6" name=""/>
          <p:cNvSpPr/>
          <p:nvPr/>
        </p:nvSpPr>
        <p:spPr>
          <a:xfrm>
            <a:off x="4116600" y="4119480"/>
            <a:ext cx="1609200" cy="314280"/>
          </a:xfrm>
          <a:prstGeom prst="rect">
            <a:avLst/>
          </a:prstGeom>
          <a:solidFill>
            <a:srgbClr val="b9d3ed"/>
          </a:solidFill>
          <a:ln w="9360">
            <a:solidFill>
              <a:srgbClr val="5896d4"/>
            </a:solidFill>
            <a:miter/>
          </a:ln>
          <a:effectLst>
            <a:outerShdw dist="17819" dir="2700000" blurRad="0" rotWithShape="0">
              <a:srgbClr val="5896d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GB" sz="1500" spc="-1" strike="noStrike">
                <a:solidFill>
                  <a:srgbClr val="e62c4f"/>
                </a:solidFill>
                <a:latin typeface="Arial"/>
              </a:rPr>
              <a:t>Zdiff = 120 Oh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N - Nominal bus levels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8" name="CAN2" descr=""/>
          <p:cNvPicPr/>
          <p:nvPr/>
        </p:nvPicPr>
        <p:blipFill>
          <a:blip r:embed="rId1"/>
          <a:stretch/>
        </p:blipFill>
        <p:spPr>
          <a:xfrm>
            <a:off x="1981080" y="1905120"/>
            <a:ext cx="5803920" cy="3879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Where do we find a CAN bus?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can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601992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Narrow"/>
              </a:rPr>
              <a:t>CAN - as Sensor / Actuator Bus 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2" name="CAN3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238880" cy="4017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6480" y="577800"/>
            <a:ext cx="8917200" cy="914400"/>
          </a:xfrm>
          <a:prstGeom prst="rect">
            <a:avLst/>
          </a:prstGeom>
          <a:noFill/>
          <a:ln w="0">
            <a:noFill/>
          </a:ln>
        </p:spPr>
        <p:txBody>
          <a:bodyPr lIns="0" anchor="b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CAN Transceiver TLE 6250 (Infineon) /  Schematic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82720" y="1731960"/>
          <a:ext cx="584532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2720" y="1731960"/>
                    <a:ext cx="5845320" cy="4113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11:38:53Z</dcterms:created>
  <dc:creator>I&amp;S IT PS CM</dc:creator>
  <dc:description>Edition / Stand: 01/01</dc:description>
  <cp:keywords>Presentation Lecture Report Master Folien Präsentation Vortrag</cp:keywords>
  <dc:language>en-US</dc:language>
  <cp:lastModifiedBy>bobr</cp:lastModifiedBy>
  <cp:lastPrinted>2001-03-08T12:17:46Z</cp:lastPrinted>
  <dcterms:modified xsi:type="dcterms:W3CDTF">2001-03-19T10:21:04Z</dcterms:modified>
  <cp:revision>77</cp:revision>
  <dc:subject>Powerpoint Presentation Example / Vorlage Powerpoint Präsentation</dc:subject>
  <dc:title>Kein Folientitel</dc:title>
</cp:coreProperties>
</file>