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548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54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4806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94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332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54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94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85332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548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3920" y="865080"/>
            <a:ext cx="73882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4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548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806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548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548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54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4806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194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332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54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194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5332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3920" y="865080"/>
            <a:ext cx="738828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54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806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54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806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548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696960"/>
            <a:ext cx="9604440" cy="5452920"/>
            <a:chOff x="152280" y="696960"/>
            <a:chExt cx="9604440" cy="5452920"/>
          </a:xfrm>
        </p:grpSpPr>
        <p:sp>
          <p:nvSpPr>
            <p:cNvPr id="1" name=""/>
            <p:cNvSpPr/>
            <p:nvPr/>
          </p:nvSpPr>
          <p:spPr>
            <a:xfrm>
              <a:off x="152280" y="696960"/>
              <a:ext cx="960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149880"/>
              <a:ext cx="960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1600200"/>
              <a:ext cx="960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3920" y="865080"/>
            <a:ext cx="7388280" cy="596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8548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303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66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7716960" y="4062240"/>
            <a:ext cx="42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s with and Tips for IBIS-models / 16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March 2001 /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© Siemens AG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siemens5" descr=""/>
          <p:cNvPicPr/>
          <p:nvPr/>
        </p:nvPicPr>
        <p:blipFill>
          <a:blip r:embed="rId2"/>
          <a:stretch/>
        </p:blipFill>
        <p:spPr>
          <a:xfrm>
            <a:off x="1293840" y="434880"/>
            <a:ext cx="922320" cy="149400"/>
          </a:xfrm>
          <a:prstGeom prst="rect">
            <a:avLst/>
          </a:prstGeom>
          <a:ln w="0">
            <a:noFill/>
          </a:ln>
        </p:spPr>
      </p:pic>
      <p:pic>
        <p:nvPicPr>
          <p:cNvPr id="8" name="IandC_words_300" descr=""/>
          <p:cNvPicPr/>
          <p:nvPr/>
        </p:nvPicPr>
        <p:blipFill>
          <a:blip r:embed="rId3"/>
          <a:stretch/>
        </p:blipFill>
        <p:spPr>
          <a:xfrm>
            <a:off x="7324560" y="6207120"/>
            <a:ext cx="1343160" cy="4064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209600" y="6153120"/>
            <a:ext cx="3048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nd Communication Network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ic.siemens.com/networ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347040" y="6238800"/>
            <a:ext cx="457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 algn="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EFD9AB9C-9101-46D5-94B2-28C72032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685800"/>
            <a:ext cx="9604440" cy="5486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685800"/>
            <a:ext cx="96012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52280" y="1600200"/>
            <a:ext cx="9604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572000" y="6172200"/>
            <a:ext cx="2666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uropean IBIS summit meeting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andC_words_300" descr=""/>
          <p:cNvPicPr/>
          <p:nvPr/>
        </p:nvPicPr>
        <p:blipFill>
          <a:blip r:embed="rId2"/>
          <a:stretch/>
        </p:blipFill>
        <p:spPr>
          <a:xfrm>
            <a:off x="7324560" y="6207120"/>
            <a:ext cx="1343160" cy="4064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52280" y="696960"/>
            <a:ext cx="9604080" cy="5452920"/>
            <a:chOff x="152280" y="696960"/>
            <a:chExt cx="9604080" cy="5452920"/>
          </a:xfrm>
        </p:grpSpPr>
        <p:sp>
          <p:nvSpPr>
            <p:cNvPr id="53" name=""/>
            <p:cNvSpPr/>
            <p:nvPr/>
          </p:nvSpPr>
          <p:spPr>
            <a:xfrm>
              <a:off x="152280" y="696960"/>
              <a:ext cx="960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6149880"/>
              <a:ext cx="960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590920"/>
            <a:ext cx="7565760" cy="511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siemens5" descr=""/>
          <p:cNvPicPr/>
          <p:nvPr/>
        </p:nvPicPr>
        <p:blipFill>
          <a:blip r:embed="rId3"/>
          <a:stretch/>
        </p:blipFill>
        <p:spPr>
          <a:xfrm>
            <a:off x="1293840" y="434880"/>
            <a:ext cx="922320" cy="149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7716960" y="4062240"/>
            <a:ext cx="42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s with and Tips for IBIS-models  / 16. March 2001 /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© Siemens AG 2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09600" y="6153120"/>
            <a:ext cx="3048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nd Communication Network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ic.siemens.com/networ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47040" y="6238800"/>
            <a:ext cx="457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 algn="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E351F738-54BA-4D9F-B710-AA78E8EC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685800"/>
            <a:ext cx="9604440" cy="5486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6172200"/>
            <a:ext cx="26668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uropean IBIS summit meeting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94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—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590920"/>
            <a:ext cx="8839080" cy="566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ffff00"/>
                </a:solidFill>
                <a:uFillTx/>
                <a:latin typeface="Times New Roman"/>
              </a:rPr>
              <a:t>Experiences with and Tips for IBIS-model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8960" y="4406400"/>
            <a:ext cx="6933960" cy="6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Times New Roman"/>
              </a:rPr>
              <a:t>Eckhard Len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Times New Roman"/>
              </a:rPr>
              <a:t>Siemens AG, Mun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01680" y="5923080"/>
            <a:ext cx="1333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© Siemens AG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5029200" y="32767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29200" y="2438280"/>
            <a:ext cx="457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V-fixture  # wavefor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1" name=""/>
          <p:cNvSpPr/>
          <p:nvPr/>
        </p:nvSpPr>
        <p:spPr>
          <a:xfrm>
            <a:off x="1063800" y="5638680"/>
            <a:ext cx="5411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mpare  v-fixture and wav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203040" y="5616720"/>
            <a:ext cx="708120" cy="642600"/>
            <a:chOff x="203040" y="5616720"/>
            <a:chExt cx="708120" cy="642600"/>
          </a:xfrm>
        </p:grpSpPr>
        <p:grpSp>
          <p:nvGrpSpPr>
            <p:cNvPr id="623" name=""/>
            <p:cNvGrpSpPr/>
            <p:nvPr/>
          </p:nvGrpSpPr>
          <p:grpSpPr>
            <a:xfrm>
              <a:off x="203040" y="5616720"/>
              <a:ext cx="708120" cy="550440"/>
              <a:chOff x="203040" y="5616720"/>
              <a:chExt cx="708120" cy="550440"/>
            </a:xfrm>
          </p:grpSpPr>
          <p:sp>
            <p:nvSpPr>
              <p:cNvPr id="624" name=""/>
              <p:cNvSpPr/>
              <p:nvPr/>
            </p:nvSpPr>
            <p:spPr>
              <a:xfrm>
                <a:off x="203040" y="5616720"/>
                <a:ext cx="7081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3600" y="568800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374040" y="56167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166760" y="2427120"/>
            <a:ext cx="3855960" cy="21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166760" y="4314960"/>
            <a:ext cx="385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66760" y="3990960"/>
            <a:ext cx="385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166760" y="3679920"/>
            <a:ext cx="385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66760" y="3370320"/>
            <a:ext cx="385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66760" y="3060720"/>
            <a:ext cx="385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66760" y="2736720"/>
            <a:ext cx="385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66760" y="2427120"/>
            <a:ext cx="1800" cy="21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112760" y="4624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112760" y="43149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12760" y="39909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12760" y="36799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112760" y="33703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12760" y="30607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12760" y="273672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112760" y="242712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66760" y="4624560"/>
            <a:ext cx="3855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166760" y="4624200"/>
            <a:ext cx="180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32120" y="4624200"/>
            <a:ext cx="144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11520" y="4624200"/>
            <a:ext cx="144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478320" y="4624200"/>
            <a:ext cx="144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257720" y="4624200"/>
            <a:ext cx="144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5022720" y="4624200"/>
            <a:ext cx="180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166760" y="3282480"/>
            <a:ext cx="3467160" cy="1341720"/>
            <a:chOff x="1166760" y="3282480"/>
            <a:chExt cx="3467160" cy="1341720"/>
          </a:xfrm>
        </p:grpSpPr>
        <p:sp>
          <p:nvSpPr>
            <p:cNvPr id="651" name=""/>
            <p:cNvSpPr/>
            <p:nvPr/>
          </p:nvSpPr>
          <p:spPr>
            <a:xfrm flipV="1">
              <a:off x="1166760" y="4530240"/>
              <a:ext cx="388800" cy="9396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555560" y="4368600"/>
              <a:ext cx="376200" cy="16164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931760" y="4179600"/>
              <a:ext cx="390600" cy="18900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322360" y="3963960"/>
              <a:ext cx="389160" cy="21600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711520" y="3747960"/>
              <a:ext cx="390240" cy="21600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101760" y="3531960"/>
              <a:ext cx="376200" cy="21564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477960" y="3396960"/>
              <a:ext cx="389160" cy="13500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867120" y="3343320"/>
              <a:ext cx="390600" cy="5400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257720" y="3282480"/>
              <a:ext cx="376200" cy="39960"/>
            </a:xfrm>
            <a:prstGeom prst="line">
              <a:avLst/>
            </a:prstGeom>
            <a:ln cap="rnd" w="572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1166760" y="2547720"/>
            <a:ext cx="3467160" cy="1320480"/>
            <a:chOff x="1166760" y="2547720"/>
            <a:chExt cx="3467160" cy="1320480"/>
          </a:xfrm>
        </p:grpSpPr>
        <p:sp>
          <p:nvSpPr>
            <p:cNvPr id="661" name=""/>
            <p:cNvSpPr/>
            <p:nvPr/>
          </p:nvSpPr>
          <p:spPr>
            <a:xfrm flipV="1">
              <a:off x="1166760" y="3774600"/>
              <a:ext cx="388800" cy="936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555560" y="3612960"/>
              <a:ext cx="376200" cy="161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1931760" y="3438360"/>
              <a:ext cx="390600" cy="174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322360" y="3207600"/>
              <a:ext cx="389160" cy="2300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2711520" y="2991600"/>
              <a:ext cx="390240" cy="215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101760" y="2776320"/>
              <a:ext cx="376200" cy="215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77960" y="2641320"/>
              <a:ext cx="389160" cy="134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867120" y="2586960"/>
              <a:ext cx="390600" cy="53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257720" y="2547720"/>
              <a:ext cx="376200" cy="39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763360" y="1752480"/>
            <a:ext cx="212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isin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37800" y="4516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937800" y="38829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37800" y="32623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37800" y="26290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2680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9216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7156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3656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93400" y="4800600"/>
            <a:ext cx="143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/ 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110880" y="332820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/ 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26040" y="3360600"/>
            <a:ext cx="376200" cy="1800"/>
          </a:xfrm>
          <a:prstGeom prst="line">
            <a:avLst/>
          </a:prstGeom>
          <a:ln cap="rnd" w="3960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538960" y="3252960"/>
            <a:ext cx="117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-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86440" y="2523960"/>
            <a:ext cx="376200" cy="1800"/>
          </a:xfrm>
          <a:prstGeom prst="line">
            <a:avLst/>
          </a:prstGeom>
          <a:ln w="39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499720" y="2416320"/>
            <a:ext cx="89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u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774200" y="3505320"/>
            <a:ext cx="8740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6774480" y="1905120"/>
            <a:ext cx="2789640" cy="1406520"/>
            <a:chOff x="6774480" y="1905120"/>
            <a:chExt cx="2789640" cy="1406520"/>
          </a:xfrm>
        </p:grpSpPr>
        <p:sp>
          <p:nvSpPr>
            <p:cNvPr id="687" name=""/>
            <p:cNvSpPr/>
            <p:nvPr/>
          </p:nvSpPr>
          <p:spPr>
            <a:xfrm>
              <a:off x="6781680" y="1905120"/>
              <a:ext cx="2774880" cy="140652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74480" y="1981440"/>
              <a:ext cx="2789640" cy="3988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-fixture from wave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83000" y="2495880"/>
              <a:ext cx="2026440" cy="70380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-Fixture =  3.3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R-Fixture = 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6858000" y="4114800"/>
            <a:ext cx="2590560" cy="1447920"/>
            <a:chOff x="6858000" y="4114800"/>
            <a:chExt cx="2590560" cy="1447920"/>
          </a:xfrm>
        </p:grpSpPr>
        <p:sp>
          <p:nvSpPr>
            <p:cNvPr id="691" name=""/>
            <p:cNvSpPr/>
            <p:nvPr/>
          </p:nvSpPr>
          <p:spPr>
            <a:xfrm>
              <a:off x="6858000" y="4114800"/>
              <a:ext cx="2590560" cy="1447920"/>
            </a:xfrm>
            <a:prstGeom prst="rect">
              <a:avLst/>
            </a:prstGeom>
            <a:solidFill>
              <a:srgbClr val="a1f7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73560" y="4286520"/>
              <a:ext cx="2247120" cy="398880"/>
            </a:xfrm>
            <a:prstGeom prst="rect">
              <a:avLst/>
            </a:prstGeom>
            <a:solidFill>
              <a:srgbClr val="a1f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-fixture in ibis-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6600" y="4838760"/>
              <a:ext cx="1770120" cy="703800"/>
            </a:xfrm>
            <a:prstGeom prst="rect">
              <a:avLst/>
            </a:prstGeom>
            <a:solidFill>
              <a:srgbClr val="a1f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-Fixture = 0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R-Fixture = 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5562720" y="1657440"/>
            <a:ext cx="3124080" cy="1104840"/>
            <a:chOff x="5562720" y="1657440"/>
            <a:chExt cx="3124080" cy="1104840"/>
          </a:xfrm>
        </p:grpSpPr>
        <p:sp>
          <p:nvSpPr>
            <p:cNvPr id="695" name=""/>
            <p:cNvSpPr/>
            <p:nvPr/>
          </p:nvSpPr>
          <p:spPr>
            <a:xfrm>
              <a:off x="5562720" y="165744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86600" y="2648160"/>
              <a:ext cx="22824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23400" y="1886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6553080" y="3048120"/>
            <a:ext cx="3124440" cy="1121760"/>
            <a:chOff x="6553080" y="3048120"/>
            <a:chExt cx="3124440" cy="1121760"/>
          </a:xfrm>
        </p:grpSpPr>
        <p:sp>
          <p:nvSpPr>
            <p:cNvPr id="699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8001000" y="4056120"/>
              <a:ext cx="533160" cy="113760"/>
              <a:chOff x="8001000" y="4056120"/>
              <a:chExt cx="533160" cy="113760"/>
            </a:xfrm>
          </p:grpSpPr>
          <p:sp>
            <p:nvSpPr>
              <p:cNvPr id="701" name=""/>
              <p:cNvSpPr/>
              <p:nvPr/>
            </p:nvSpPr>
            <p:spPr>
              <a:xfrm>
                <a:off x="800100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0556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705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707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712" name=""/>
            <p:cNvSpPr/>
            <p:nvPr/>
          </p:nvSpPr>
          <p:spPr>
            <a:xfrm>
              <a:off x="3390840" y="49528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4381560" y="6016680"/>
              <a:ext cx="1143000" cy="114120"/>
              <a:chOff x="4381560" y="6016680"/>
              <a:chExt cx="1143000" cy="114120"/>
            </a:xfrm>
          </p:grpSpPr>
          <p:sp>
            <p:nvSpPr>
              <p:cNvPr id="714" name=""/>
              <p:cNvSpPr/>
              <p:nvPr/>
            </p:nvSpPr>
            <p:spPr>
              <a:xfrm>
                <a:off x="52959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815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68648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99104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294800" y="5178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720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28600" y="3048120"/>
            <a:ext cx="3124080" cy="1274400"/>
            <a:chOff x="228600" y="3048120"/>
            <a:chExt cx="3124080" cy="1274400"/>
          </a:xfrm>
        </p:grpSpPr>
        <p:sp>
          <p:nvSpPr>
            <p:cNvPr id="723" name=""/>
            <p:cNvSpPr/>
            <p:nvPr/>
          </p:nvSpPr>
          <p:spPr>
            <a:xfrm>
              <a:off x="228600" y="3048120"/>
              <a:ext cx="312408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6520" y="32752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218960" y="4037400"/>
              <a:ext cx="1142640" cy="285120"/>
              <a:chOff x="1218960" y="4037400"/>
              <a:chExt cx="1142640" cy="285120"/>
            </a:xfrm>
          </p:grpSpPr>
          <p:sp>
            <p:nvSpPr>
              <p:cNvPr id="726" name=""/>
              <p:cNvSpPr/>
              <p:nvPr/>
            </p:nvSpPr>
            <p:spPr>
              <a:xfrm>
                <a:off x="1713960" y="4208400"/>
                <a:ext cx="22824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218960" y="4037400"/>
                <a:ext cx="1142640" cy="113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729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737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Driver schedule  -1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1" name=""/>
          <p:cNvSpPr/>
          <p:nvPr/>
        </p:nvSpPr>
        <p:spPr>
          <a:xfrm>
            <a:off x="381600" y="1604880"/>
            <a:ext cx="4809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966240" y="16048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51240" y="1604880"/>
            <a:ext cx="703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ol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301560" y="16048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517640" y="16048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81640" y="1604880"/>
            <a:ext cx="689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ol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216120" y="16048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449480" y="16048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311680" y="1604880"/>
            <a:ext cx="764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ool 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237240" y="16048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0160" y="1873080"/>
            <a:ext cx="20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360" y="196848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360080" y="19684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448720" y="1968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315600" y="19684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517640" y="19684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78760" y="1968480"/>
            <a:ext cx="101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449480" y="19684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11680" y="196848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0880" y="2241720"/>
            <a:ext cx="63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42640" y="22417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51240" y="2241720"/>
            <a:ext cx="4824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034800" y="22417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517640" y="236520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0" y="2314440"/>
            <a:ext cx="430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89600" y="23144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86600" y="232740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192880" y="23144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312040" y="23144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1600" y="2516040"/>
            <a:ext cx="924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499760" y="25160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451240" y="2516040"/>
            <a:ext cx="44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85480" y="25160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17640" y="263988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382360" y="258768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122880" y="25876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6600" y="260028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192880" y="25876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312040" y="25876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0520" y="2790720"/>
            <a:ext cx="10645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64640" y="27907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51240" y="2790720"/>
            <a:ext cx="563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Shu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131640" y="27907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82960" y="2862360"/>
            <a:ext cx="526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503600" y="2862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81280" y="2790720"/>
            <a:ext cx="10645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65400" y="27907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087680" y="2874960"/>
            <a:ext cx="876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1+2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483400" y="2862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289800" y="2862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3065400"/>
            <a:ext cx="12657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907640" y="30654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451240" y="3065400"/>
            <a:ext cx="683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Shunt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277800" y="30654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82960" y="3137040"/>
            <a:ext cx="526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503600" y="3137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381640" y="3065400"/>
            <a:ext cx="12657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908400" y="30654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087680" y="3149640"/>
            <a:ext cx="876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4+5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483400" y="3137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289800" y="3137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81240" y="334008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80880" y="3340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51600" y="334008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51240" y="3340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518000" y="3340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382000" y="334008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81640" y="3340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086600" y="3352680"/>
            <a:ext cx="247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375320" y="3352680"/>
            <a:ext cx="38484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92880" y="3340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312040" y="3340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160" y="3517920"/>
            <a:ext cx="20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1240" y="3616200"/>
            <a:ext cx="1564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Driverschedu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75920" y="36194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50520" y="36194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17640" y="36194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82000" y="3616200"/>
            <a:ext cx="1564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Driverschedu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76680" y="36194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449480" y="374328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312040" y="3691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3887640"/>
            <a:ext cx="81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 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360080" y="38876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450520" y="38876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517640" y="38876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81640" y="3887640"/>
            <a:ext cx="9302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 1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508080" y="388764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449480" y="401148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312040" y="39592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80880" y="4162320"/>
            <a:ext cx="81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360080" y="41623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450520" y="41623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517640" y="41623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381640" y="4162320"/>
            <a:ext cx="81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 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362280" y="41623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449480" y="42861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312040" y="42339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0520" y="44323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50520" y="44370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517640" y="44370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81640" y="4437000"/>
            <a:ext cx="81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el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62280" y="44370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449480" y="455940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8312040" y="45086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0160" y="4707000"/>
            <a:ext cx="205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0880" y="48769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50880" y="48798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17640" y="49323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381640" y="4805280"/>
            <a:ext cx="9716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odel 1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55960" y="48085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449480" y="49323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312040" y="48798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0880" y="5148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450880" y="5148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17640" y="52005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81640" y="5076720"/>
            <a:ext cx="630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143040" y="507672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449480" y="52005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312040" y="5148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5423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450880" y="5423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17640" y="547380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382360" y="5351400"/>
            <a:ext cx="924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00160" y="5351400"/>
            <a:ext cx="61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49480" y="547380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312040" y="5423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80880" y="5626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450880" y="5626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517640" y="567684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82000" y="5626080"/>
            <a:ext cx="727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40240" y="5626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086600" y="563868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192880" y="5626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312040" y="56260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0880" y="5808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450880" y="5808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17640" y="58593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82720" y="5808600"/>
            <a:ext cx="8647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808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086600" y="582120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192880" y="5808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312040" y="5808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59911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450880" y="59911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518000" y="59911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382000" y="599112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281640" y="59911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449840" y="59911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311680" y="6024600"/>
            <a:ext cx="295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306280" y="1981080"/>
            <a:ext cx="348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8306280" y="4800600"/>
            <a:ext cx="348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306280" y="3581280"/>
            <a:ext cx="348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Driver schedule  -2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4" name=""/>
          <p:cNvSpPr/>
          <p:nvPr/>
        </p:nvSpPr>
        <p:spPr>
          <a:xfrm>
            <a:off x="1294920" y="5715000"/>
            <a:ext cx="3849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Be carefull when you ge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36440" y="5665680"/>
            <a:ext cx="708120" cy="642600"/>
            <a:chOff x="136440" y="5665680"/>
            <a:chExt cx="708120" cy="642600"/>
          </a:xfrm>
        </p:grpSpPr>
        <p:grpSp>
          <p:nvGrpSpPr>
            <p:cNvPr id="896" name=""/>
            <p:cNvGrpSpPr/>
            <p:nvPr/>
          </p:nvGrpSpPr>
          <p:grpSpPr>
            <a:xfrm>
              <a:off x="136440" y="5665680"/>
              <a:ext cx="708120" cy="550800"/>
              <a:chOff x="136440" y="5665680"/>
              <a:chExt cx="708120" cy="550800"/>
            </a:xfrm>
          </p:grpSpPr>
          <p:sp>
            <p:nvSpPr>
              <p:cNvPr id="897" name=""/>
              <p:cNvSpPr/>
              <p:nvPr/>
            </p:nvSpPr>
            <p:spPr>
              <a:xfrm>
                <a:off x="136440" y="566568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07000" y="573732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307440" y="56656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380160" y="1604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70920" y="160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65640" y="1604880"/>
            <a:ext cx="74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l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325320" y="160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50760" y="160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421960" y="1604880"/>
            <a:ext cx="72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l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262200" y="160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506720" y="160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375400" y="1604880"/>
            <a:ext cx="80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l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308520" y="1604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0520" y="1898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78360" y="219240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401120" y="219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464560" y="219240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lav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357000" y="219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50760" y="232560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407560" y="220968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079680" y="2192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506720" y="232560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377200" y="22683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78720" y="248436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147320" y="2484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465640" y="2484360"/>
            <a:ext cx="51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055320" y="2484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50760" y="261612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20520" y="248436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189120" y="2484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506720" y="261612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377200" y="25606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" y="27781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509120" y="2778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66000" y="2778120"/>
            <a:ext cx="4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6000" y="2778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550760" y="290988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420160" y="27781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549480" y="27781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506720" y="290988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377200" y="28544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" y="3071880"/>
            <a:ext cx="11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675800" y="30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464920" y="3071880"/>
            <a:ext cx="59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h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153960" y="30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911760" y="3147840"/>
            <a:ext cx="526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537080" y="31478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423400" y="3147840"/>
            <a:ext cx="727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88120" y="31478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162920" y="312408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256600" y="31478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377200" y="31478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77640" y="3365640"/>
            <a:ext cx="133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20240" y="3365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464200" y="336564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hun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301560" y="33656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911760" y="3441600"/>
            <a:ext cx="526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37080" y="3441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423760" y="3441600"/>
            <a:ext cx="8647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449760" y="3441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62920" y="342900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256600" y="3441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377200" y="34416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81240" y="365904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87360" y="3659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467440" y="365904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375000" y="3659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51120" y="3659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23400" y="365904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329160" y="3659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507080" y="3659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8377200" y="36590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520" y="37209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466360" y="37209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551120" y="379728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22320" y="385272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506720" y="385272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8376840" y="385272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78360" y="397836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01120" y="3978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464560" y="397836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lav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357000" y="3978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51120" y="40543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407560" y="396252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079680" y="3978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506720" y="411156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377200" y="405432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78720" y="427032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147320" y="4270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465640" y="4270320"/>
            <a:ext cx="51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055320" y="4270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51120" y="43466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420520" y="427032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89120" y="427032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506720" y="440208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377200" y="434664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78000" y="456408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09120" y="4564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466000" y="4564080"/>
            <a:ext cx="4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06000" y="4564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51120" y="46404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20160" y="456408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ull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49480" y="45640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06720" y="4695840"/>
            <a:ext cx="2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377200" y="46404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4857840"/>
            <a:ext cx="11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675800" y="4857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464920" y="4857840"/>
            <a:ext cx="59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h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153960" y="4857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911760" y="4933800"/>
            <a:ext cx="526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537080" y="49338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23400" y="4933800"/>
            <a:ext cx="7275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nd cl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88120" y="49338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162920" y="495288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8256600" y="49338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8377200" y="49338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7640" y="5151600"/>
            <a:ext cx="133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920240" y="515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464200" y="515160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hun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301560" y="51516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911760" y="5227560"/>
            <a:ext cx="5266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iode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37080" y="52275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423760" y="5227560"/>
            <a:ext cx="8647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Power cl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49760" y="52275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162920" y="5181480"/>
            <a:ext cx="63180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Not  u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256600" y="52275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377200" y="522756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1240" y="544500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287360" y="54450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67440" y="544500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375000" y="54450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51120" y="54450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423400" y="5445000"/>
            <a:ext cx="768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Wavefor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29160" y="54450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507080" y="5445000"/>
            <a:ext cx="417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8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376840" y="5481720"/>
            <a:ext cx="327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306280" y="2286000"/>
            <a:ext cx="348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306280" y="4038480"/>
            <a:ext cx="348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Vdiff parame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6" name=""/>
          <p:cNvSpPr/>
          <p:nvPr/>
        </p:nvSpPr>
        <p:spPr>
          <a:xfrm>
            <a:off x="863640" y="5638680"/>
            <a:ext cx="6097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 receivers need vdiff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5567400"/>
            <a:ext cx="706320" cy="642600"/>
            <a:chOff x="0" y="5567400"/>
            <a:chExt cx="706320" cy="642600"/>
          </a:xfrm>
        </p:grpSpPr>
        <p:grpSp>
          <p:nvGrpSpPr>
            <p:cNvPr id="1038" name=""/>
            <p:cNvGrpSpPr/>
            <p:nvPr/>
          </p:nvGrpSpPr>
          <p:grpSpPr>
            <a:xfrm>
              <a:off x="0" y="5567400"/>
              <a:ext cx="706320" cy="550440"/>
              <a:chOff x="0" y="5567400"/>
              <a:chExt cx="706320" cy="550440"/>
            </a:xfrm>
          </p:grpSpPr>
          <p:sp>
            <p:nvSpPr>
              <p:cNvPr id="1039" name=""/>
              <p:cNvSpPr/>
              <p:nvPr/>
            </p:nvSpPr>
            <p:spPr>
              <a:xfrm>
                <a:off x="0" y="5567400"/>
                <a:ext cx="7063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0560" y="5638680"/>
                <a:ext cx="58284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169560" y="55674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1461960" y="2367000"/>
            <a:ext cx="1800" cy="252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415880" y="48942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15880" y="4659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415880" y="4438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15880" y="4203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15880" y="39686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15880" y="3747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415880" y="3513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415880" y="3292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415880" y="30574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415880" y="2822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15880" y="2602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415880" y="23670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1461960" y="4198680"/>
            <a:ext cx="41119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461960" y="420372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2373480" y="420372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284640" y="420372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5800" y="420372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5106960" y="420372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461960" y="3057480"/>
            <a:ext cx="46080" cy="180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508040" y="3002040"/>
            <a:ext cx="4608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1554120" y="2657160"/>
            <a:ext cx="185760" cy="34452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739880" y="2602080"/>
            <a:ext cx="9216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832040" y="2602080"/>
            <a:ext cx="92160" cy="1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924200" y="2602080"/>
            <a:ext cx="449280" cy="1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373480" y="2602080"/>
            <a:ext cx="9180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465280" y="2657520"/>
            <a:ext cx="184320" cy="34452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49600" y="3002040"/>
            <a:ext cx="4608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695680" y="3057480"/>
            <a:ext cx="47520" cy="180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743200" y="3057480"/>
            <a:ext cx="541440" cy="180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284640" y="3057480"/>
            <a:ext cx="46080" cy="180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330720" y="3002040"/>
            <a:ext cx="4572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3376440" y="2657160"/>
            <a:ext cx="184320" cy="34452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3560760" y="2602080"/>
            <a:ext cx="9216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2602080"/>
            <a:ext cx="92160" cy="1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745080" y="2602080"/>
            <a:ext cx="450720" cy="1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195800" y="2602080"/>
            <a:ext cx="9216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287960" y="2657520"/>
            <a:ext cx="183960" cy="34452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471920" y="3002040"/>
            <a:ext cx="46080" cy="55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18000" y="3057480"/>
            <a:ext cx="46080" cy="180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64080" y="3057480"/>
            <a:ext cx="92160" cy="180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461960" y="2602080"/>
            <a:ext cx="4608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508040" y="2602080"/>
            <a:ext cx="4608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554120" y="2657520"/>
            <a:ext cx="185760" cy="3445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739880" y="3002040"/>
            <a:ext cx="9216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32040" y="3057480"/>
            <a:ext cx="92160" cy="180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924200" y="3057480"/>
            <a:ext cx="449280" cy="180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373480" y="3002040"/>
            <a:ext cx="9180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465280" y="2657160"/>
            <a:ext cx="184320" cy="3445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649600" y="2602080"/>
            <a:ext cx="4608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695680" y="2602080"/>
            <a:ext cx="4752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743200" y="2602080"/>
            <a:ext cx="54144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84640" y="2602080"/>
            <a:ext cx="4608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330720" y="2602080"/>
            <a:ext cx="4572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376440" y="2657520"/>
            <a:ext cx="184320" cy="3445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560760" y="3002040"/>
            <a:ext cx="9216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652920" y="3057480"/>
            <a:ext cx="92160" cy="180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745080" y="3057480"/>
            <a:ext cx="450720" cy="180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195800" y="3002040"/>
            <a:ext cx="9216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287960" y="2657160"/>
            <a:ext cx="183960" cy="3445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4471920" y="2602080"/>
            <a:ext cx="46080" cy="55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518000" y="2602080"/>
            <a:ext cx="4608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564080" y="2602080"/>
            <a:ext cx="9216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61960" y="4659480"/>
            <a:ext cx="46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1508040" y="4547880"/>
            <a:ext cx="46080" cy="11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554120" y="3857760"/>
            <a:ext cx="185760" cy="690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1739880" y="3747600"/>
            <a:ext cx="9216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832040" y="3747960"/>
            <a:ext cx="921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924200" y="3747960"/>
            <a:ext cx="449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373480" y="3747960"/>
            <a:ext cx="9180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465280" y="3857760"/>
            <a:ext cx="184320" cy="690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49600" y="4548240"/>
            <a:ext cx="46080" cy="11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695680" y="4659480"/>
            <a:ext cx="47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43200" y="4659480"/>
            <a:ext cx="5414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4659480"/>
            <a:ext cx="46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30720" y="4547880"/>
            <a:ext cx="45720" cy="11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376440" y="3857760"/>
            <a:ext cx="184320" cy="690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560760" y="3747600"/>
            <a:ext cx="9216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652920" y="3747960"/>
            <a:ext cx="921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45080" y="3747960"/>
            <a:ext cx="450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195800" y="3747960"/>
            <a:ext cx="9216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287960" y="3857760"/>
            <a:ext cx="183960" cy="690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471920" y="4548240"/>
            <a:ext cx="46080" cy="111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18000" y="4659480"/>
            <a:ext cx="460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64080" y="4659480"/>
            <a:ext cx="921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216240" y="1676520"/>
            <a:ext cx="81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091520" y="4548240"/>
            <a:ext cx="40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66120" y="4092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138320" y="363708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138320" y="31813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138320" y="27129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138320" y="2255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337480" y="4356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48640" y="4356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160160" y="4356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32560" y="5087880"/>
            <a:ext cx="125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/ n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rot="16200000">
            <a:off x="514080" y="3355920"/>
            <a:ext cx="95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/ V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964040" y="2557440"/>
            <a:ext cx="324000" cy="144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31240" y="2367000"/>
            <a:ext cx="61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_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964040" y="2847960"/>
            <a:ext cx="324000" cy="144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331600" y="2657520"/>
            <a:ext cx="62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_n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964040" y="3181320"/>
            <a:ext cx="3240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17920" y="3025800"/>
            <a:ext cx="62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_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459080" y="4046400"/>
            <a:ext cx="3429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459080" y="4351320"/>
            <a:ext cx="36576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459080" y="4808520"/>
            <a:ext cx="4343400" cy="0"/>
          </a:xfrm>
          <a:prstGeom prst="line">
            <a:avLst/>
          </a:prstGeom>
          <a:ln w="3816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59080" y="3589200"/>
            <a:ext cx="4343400" cy="0"/>
          </a:xfrm>
          <a:prstGeom prst="line">
            <a:avLst/>
          </a:prstGeom>
          <a:ln w="3816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49840" y="3589200"/>
            <a:ext cx="0" cy="6098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49840" y="4199040"/>
            <a:ext cx="0" cy="609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735440" y="35892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040360" y="435132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040360" y="374184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4735440" y="419904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174080" y="33336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174080" y="272412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174080" y="4135320"/>
            <a:ext cx="0" cy="6098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555680" y="3025800"/>
            <a:ext cx="55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554600" y="425916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diff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Value for Vmea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1" name=""/>
          <p:cNvSpPr/>
          <p:nvPr/>
        </p:nvSpPr>
        <p:spPr>
          <a:xfrm>
            <a:off x="990720" y="5638680"/>
            <a:ext cx="5462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o one realist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7080" y="5567400"/>
            <a:ext cx="706320" cy="642600"/>
            <a:chOff x="127080" y="5567400"/>
            <a:chExt cx="706320" cy="642600"/>
          </a:xfrm>
        </p:grpSpPr>
        <p:grpSp>
          <p:nvGrpSpPr>
            <p:cNvPr id="1163" name=""/>
            <p:cNvGrpSpPr/>
            <p:nvPr/>
          </p:nvGrpSpPr>
          <p:grpSpPr>
            <a:xfrm>
              <a:off x="127080" y="5567400"/>
              <a:ext cx="706320" cy="550440"/>
              <a:chOff x="127080" y="5567400"/>
              <a:chExt cx="706320" cy="550440"/>
            </a:xfrm>
          </p:grpSpPr>
          <p:sp>
            <p:nvSpPr>
              <p:cNvPr id="1164" name=""/>
              <p:cNvSpPr/>
              <p:nvPr/>
            </p:nvSpPr>
            <p:spPr>
              <a:xfrm>
                <a:off x="127080" y="5567400"/>
                <a:ext cx="7063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97640" y="5638680"/>
                <a:ext cx="58284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296640" y="55674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774880" y="2890800"/>
            <a:ext cx="6098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3384720" y="2072880"/>
            <a:ext cx="380880" cy="8175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765600" y="2073240"/>
            <a:ext cx="6094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5822640" y="2890800"/>
            <a:ext cx="6094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442120" y="2072880"/>
            <a:ext cx="380880" cy="8175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832280" y="2073240"/>
            <a:ext cx="6098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308400" y="234648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65800" y="267336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053760" y="25401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V  Vmeas 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" y="221292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 LH  2.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94200" y="498636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 =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726080" y="515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124440" y="464832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Vmeas LH  +  Vmeas LH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083040" y="5097600"/>
            <a:ext cx="45669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870280" y="4362480"/>
            <a:ext cx="6094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3479760" y="3544560"/>
            <a:ext cx="380880" cy="8175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860640" y="3544920"/>
            <a:ext cx="6098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5918040" y="4362480"/>
            <a:ext cx="6098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 flipV="1">
            <a:off x="5537160" y="3544560"/>
            <a:ext cx="380880" cy="8175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4927320" y="3544920"/>
            <a:ext cx="6094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327480" y="398160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384880" y="398160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148440" y="38354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V  Vm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008000" y="38354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  1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57280" y="1828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ta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06520" y="3178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No IBIS standard loa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4" name=""/>
          <p:cNvSpPr/>
          <p:nvPr/>
        </p:nvSpPr>
        <p:spPr>
          <a:xfrm>
            <a:off x="987480" y="5562720"/>
            <a:ext cx="3792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o one realist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127080" y="5527800"/>
            <a:ext cx="704880" cy="642600"/>
            <a:chOff x="127080" y="5527800"/>
            <a:chExt cx="704880" cy="642600"/>
          </a:xfrm>
        </p:grpSpPr>
        <p:grpSp>
          <p:nvGrpSpPr>
            <p:cNvPr id="1196" name=""/>
            <p:cNvGrpSpPr/>
            <p:nvPr/>
          </p:nvGrpSpPr>
          <p:grpSpPr>
            <a:xfrm>
              <a:off x="127080" y="5527800"/>
              <a:ext cx="704880" cy="550440"/>
              <a:chOff x="127080" y="5527800"/>
              <a:chExt cx="704880" cy="550440"/>
            </a:xfrm>
          </p:grpSpPr>
          <p:sp>
            <p:nvSpPr>
              <p:cNvPr id="1197" name=""/>
              <p:cNvSpPr/>
              <p:nvPr/>
            </p:nvSpPr>
            <p:spPr>
              <a:xfrm>
                <a:off x="127080" y="5527800"/>
                <a:ext cx="70488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97280" y="5599080"/>
                <a:ext cx="58176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297360" y="55278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2059200" y="1828800"/>
            <a:ext cx="2210400" cy="2209320"/>
            <a:chOff x="2059200" y="1828800"/>
            <a:chExt cx="2210400" cy="2209320"/>
          </a:xfrm>
        </p:grpSpPr>
        <p:grpSp>
          <p:nvGrpSpPr>
            <p:cNvPr id="1201" name=""/>
            <p:cNvGrpSpPr/>
            <p:nvPr/>
          </p:nvGrpSpPr>
          <p:grpSpPr>
            <a:xfrm>
              <a:off x="3429000" y="2217600"/>
              <a:ext cx="194760" cy="767160"/>
              <a:chOff x="3429000" y="2217600"/>
              <a:chExt cx="194760" cy="767160"/>
            </a:xfrm>
          </p:grpSpPr>
          <p:sp>
            <p:nvSpPr>
              <p:cNvPr id="1202" name=""/>
              <p:cNvSpPr/>
              <p:nvPr/>
            </p:nvSpPr>
            <p:spPr>
              <a:xfrm rot="16200000">
                <a:off x="3238560" y="2503800"/>
                <a:ext cx="575280" cy="194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3526200" y="2217600"/>
                <a:ext cx="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3526200" y="2889000"/>
                <a:ext cx="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3429000" y="2997720"/>
              <a:ext cx="194760" cy="768600"/>
              <a:chOff x="3429000" y="2997720"/>
              <a:chExt cx="194760" cy="768600"/>
            </a:xfrm>
          </p:grpSpPr>
          <p:sp>
            <p:nvSpPr>
              <p:cNvPr id="1206" name=""/>
              <p:cNvSpPr/>
              <p:nvPr/>
            </p:nvSpPr>
            <p:spPr>
              <a:xfrm rot="16200000">
                <a:off x="3237840" y="3284640"/>
                <a:ext cx="576720" cy="194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3526200" y="2997720"/>
                <a:ext cx="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3526200" y="3670560"/>
                <a:ext cx="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3344760" y="1900080"/>
              <a:ext cx="360000" cy="317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2694600" y="3281040"/>
              <a:ext cx="308880" cy="272880"/>
              <a:chOff x="2694600" y="3281040"/>
              <a:chExt cx="308880" cy="272880"/>
            </a:xfrm>
          </p:grpSpPr>
          <p:sp>
            <p:nvSpPr>
              <p:cNvPr id="1211" name=""/>
              <p:cNvSpPr/>
              <p:nvPr/>
            </p:nvSpPr>
            <p:spPr>
              <a:xfrm>
                <a:off x="2694600" y="3371760"/>
                <a:ext cx="30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94600" y="3462840"/>
                <a:ext cx="30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849040" y="3281040"/>
                <a:ext cx="0" cy="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849040" y="3462840"/>
                <a:ext cx="0" cy="9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2643480" y="3766680"/>
              <a:ext cx="412920" cy="271440"/>
              <a:chOff x="2643480" y="3766680"/>
              <a:chExt cx="412920" cy="271440"/>
            </a:xfrm>
          </p:grpSpPr>
          <p:sp>
            <p:nvSpPr>
              <p:cNvPr id="1216" name=""/>
              <p:cNvSpPr/>
              <p:nvPr/>
            </p:nvSpPr>
            <p:spPr>
              <a:xfrm>
                <a:off x="2643480" y="3857040"/>
                <a:ext cx="41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94600" y="3947400"/>
                <a:ext cx="30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798280" y="4038120"/>
                <a:ext cx="10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849760" y="3766680"/>
                <a:ext cx="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V="1">
              <a:off x="2438640" y="2994480"/>
              <a:ext cx="108612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319200" y="3766680"/>
              <a:ext cx="412920" cy="271440"/>
              <a:chOff x="3319200" y="3766680"/>
              <a:chExt cx="412920" cy="271440"/>
            </a:xfrm>
          </p:grpSpPr>
          <p:sp>
            <p:nvSpPr>
              <p:cNvPr id="1222" name=""/>
              <p:cNvSpPr/>
              <p:nvPr/>
            </p:nvSpPr>
            <p:spPr>
              <a:xfrm>
                <a:off x="3319200" y="3857040"/>
                <a:ext cx="41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370320" y="3947400"/>
                <a:ext cx="30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474000" y="4038120"/>
                <a:ext cx="10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525480" y="3766680"/>
                <a:ext cx="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2849040" y="2997360"/>
              <a:ext cx="0" cy="28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49040" y="35539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76440" y="182880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59200" y="32468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33920" y="31532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06560" y="23900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6401520" y="2057040"/>
            <a:ext cx="2596680" cy="1600200"/>
            <a:chOff x="6401520" y="2057040"/>
            <a:chExt cx="2596680" cy="1600200"/>
          </a:xfrm>
        </p:grpSpPr>
        <p:grpSp>
          <p:nvGrpSpPr>
            <p:cNvPr id="1233" name=""/>
            <p:cNvGrpSpPr/>
            <p:nvPr/>
          </p:nvGrpSpPr>
          <p:grpSpPr>
            <a:xfrm>
              <a:off x="7771320" y="2060640"/>
              <a:ext cx="193320" cy="905040"/>
              <a:chOff x="7771320" y="2060640"/>
              <a:chExt cx="193320" cy="905040"/>
            </a:xfrm>
          </p:grpSpPr>
          <p:sp>
            <p:nvSpPr>
              <p:cNvPr id="1234" name=""/>
              <p:cNvSpPr/>
              <p:nvPr/>
            </p:nvSpPr>
            <p:spPr>
              <a:xfrm rot="16200000">
                <a:off x="7528320" y="2416320"/>
                <a:ext cx="678960" cy="19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7867800" y="2060640"/>
                <a:ext cx="0" cy="11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7867800" y="2852640"/>
                <a:ext cx="0" cy="11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7686000" y="2962440"/>
              <a:ext cx="360000" cy="37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7037280" y="2395080"/>
              <a:ext cx="308880" cy="319680"/>
              <a:chOff x="7037280" y="2395080"/>
              <a:chExt cx="308880" cy="319680"/>
            </a:xfrm>
          </p:grpSpPr>
          <p:sp>
            <p:nvSpPr>
              <p:cNvPr id="1239" name=""/>
              <p:cNvSpPr/>
              <p:nvPr/>
            </p:nvSpPr>
            <p:spPr>
              <a:xfrm>
                <a:off x="7037280" y="2501640"/>
                <a:ext cx="30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037280" y="2608200"/>
                <a:ext cx="30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191720" y="2395080"/>
                <a:ext cx="0" cy="10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191720" y="2608200"/>
                <a:ext cx="0" cy="10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6986160" y="3336840"/>
              <a:ext cx="412560" cy="320400"/>
              <a:chOff x="6986160" y="3336840"/>
              <a:chExt cx="412560" cy="320400"/>
            </a:xfrm>
          </p:grpSpPr>
          <p:sp>
            <p:nvSpPr>
              <p:cNvPr id="1244" name=""/>
              <p:cNvSpPr/>
              <p:nvPr/>
            </p:nvSpPr>
            <p:spPr>
              <a:xfrm>
                <a:off x="6986160" y="3443400"/>
                <a:ext cx="41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037280" y="3550320"/>
                <a:ext cx="30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140600" y="3657240"/>
                <a:ext cx="10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192080" y="3336840"/>
                <a:ext cx="0" cy="10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 flipV="1">
              <a:off x="6781680" y="2057040"/>
              <a:ext cx="10850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7686000" y="3336840"/>
              <a:ext cx="412560" cy="320400"/>
              <a:chOff x="7686000" y="3336840"/>
              <a:chExt cx="412560" cy="320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7686000" y="3443400"/>
                <a:ext cx="41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737120" y="3550320"/>
                <a:ext cx="30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840440" y="3657240"/>
                <a:ext cx="10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891920" y="3336840"/>
                <a:ext cx="0" cy="10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>
              <a:off x="7192440" y="2060640"/>
              <a:ext cx="0" cy="33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192440" y="2715480"/>
              <a:ext cx="0" cy="62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258040" y="29437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r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401520" y="23518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r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073720" y="22363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r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5258880" y="536256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783480" y="54864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 +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783480" y="50292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5502240"/>
            <a:ext cx="144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02400" y="53863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258520" y="43480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936120" y="44956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 +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60160" y="3962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 * R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762600" y="4459320"/>
            <a:ext cx="1739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80880" y="16765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ta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"/>
          <p:cNvGrpSpPr/>
          <p:nvPr/>
        </p:nvGrpSpPr>
        <p:grpSpPr>
          <a:xfrm>
            <a:off x="5562720" y="1657440"/>
            <a:ext cx="3124080" cy="1104840"/>
            <a:chOff x="5562720" y="1657440"/>
            <a:chExt cx="3124080" cy="1104840"/>
          </a:xfrm>
        </p:grpSpPr>
        <p:sp>
          <p:nvSpPr>
            <p:cNvPr id="1271" name=""/>
            <p:cNvSpPr/>
            <p:nvPr/>
          </p:nvSpPr>
          <p:spPr>
            <a:xfrm>
              <a:off x="5562720" y="165744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86600" y="2648160"/>
              <a:ext cx="22824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23400" y="1886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6553080" y="3048120"/>
            <a:ext cx="3124440" cy="1121760"/>
            <a:chOff x="6553080" y="3048120"/>
            <a:chExt cx="3124440" cy="1121760"/>
          </a:xfrm>
        </p:grpSpPr>
        <p:sp>
          <p:nvSpPr>
            <p:cNvPr id="1275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8001000" y="4056120"/>
              <a:ext cx="533160" cy="113760"/>
              <a:chOff x="8001000" y="4056120"/>
              <a:chExt cx="533160" cy="113760"/>
            </a:xfrm>
          </p:grpSpPr>
          <p:sp>
            <p:nvSpPr>
              <p:cNvPr id="1277" name=""/>
              <p:cNvSpPr/>
              <p:nvPr/>
            </p:nvSpPr>
            <p:spPr>
              <a:xfrm>
                <a:off x="800100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30556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1281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1283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1288" name=""/>
            <p:cNvSpPr/>
            <p:nvPr/>
          </p:nvSpPr>
          <p:spPr>
            <a:xfrm>
              <a:off x="3390840" y="4952880"/>
              <a:ext cx="3124440" cy="91152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"/>
            <p:cNvGrpSpPr/>
            <p:nvPr/>
          </p:nvGrpSpPr>
          <p:grpSpPr>
            <a:xfrm>
              <a:off x="4381560" y="6016680"/>
              <a:ext cx="1143000" cy="114120"/>
              <a:chOff x="4381560" y="6016680"/>
              <a:chExt cx="1143000" cy="114120"/>
            </a:xfrm>
          </p:grpSpPr>
          <p:sp>
            <p:nvSpPr>
              <p:cNvPr id="1290" name=""/>
              <p:cNvSpPr/>
              <p:nvPr/>
            </p:nvSpPr>
            <p:spPr>
              <a:xfrm>
                <a:off x="52959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3815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68648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99104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4294800" y="5178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1296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228600" y="3048120"/>
            <a:ext cx="3124080" cy="1274400"/>
            <a:chOff x="228600" y="3048120"/>
            <a:chExt cx="3124080" cy="1274400"/>
          </a:xfrm>
        </p:grpSpPr>
        <p:sp>
          <p:nvSpPr>
            <p:cNvPr id="1299" name=""/>
            <p:cNvSpPr/>
            <p:nvPr/>
          </p:nvSpPr>
          <p:spPr>
            <a:xfrm>
              <a:off x="228600" y="3048120"/>
              <a:ext cx="312408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6520" y="32752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1218960" y="4037400"/>
              <a:ext cx="1142640" cy="285120"/>
              <a:chOff x="1218960" y="4037400"/>
              <a:chExt cx="1142640" cy="285120"/>
            </a:xfrm>
          </p:grpSpPr>
          <p:sp>
            <p:nvSpPr>
              <p:cNvPr id="1302" name=""/>
              <p:cNvSpPr/>
              <p:nvPr/>
            </p:nvSpPr>
            <p:spPr>
              <a:xfrm>
                <a:off x="1713960" y="4208400"/>
                <a:ext cx="22824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218960" y="4037400"/>
                <a:ext cx="1142640" cy="113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1305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1308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2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1313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937260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sections Vs.  lumped  -1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600" y="2438280"/>
            <a:ext cx="5641920" cy="1981440"/>
            <a:chOff x="228600" y="2438280"/>
            <a:chExt cx="5641920" cy="1981440"/>
          </a:xfrm>
        </p:grpSpPr>
        <p:sp>
          <p:nvSpPr>
            <p:cNvPr id="1318" name=""/>
            <p:cNvSpPr/>
            <p:nvPr/>
          </p:nvSpPr>
          <p:spPr>
            <a:xfrm>
              <a:off x="228600" y="2438280"/>
              <a:ext cx="5641920" cy="19814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5240" y="25210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157760" y="25210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4640" y="25210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90480" y="2521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869840" y="2521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09760" y="2521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44720" y="2521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1822320" y="3137040"/>
              <a:ext cx="709920" cy="293400"/>
              <a:chOff x="1822320" y="3137040"/>
              <a:chExt cx="709920" cy="293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191088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04408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17728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31048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1822320" y="3262680"/>
                <a:ext cx="709920" cy="0"/>
                <a:chOff x="1822320" y="3262680"/>
                <a:chExt cx="709920" cy="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1822320" y="3262680"/>
                  <a:ext cx="88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443680" y="3262680"/>
                  <a:ext cx="88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4" name=""/>
            <p:cNvGrpSpPr/>
            <p:nvPr/>
          </p:nvGrpSpPr>
          <p:grpSpPr>
            <a:xfrm>
              <a:off x="409680" y="3179880"/>
              <a:ext cx="707400" cy="164880"/>
              <a:chOff x="409680" y="3179880"/>
              <a:chExt cx="707400" cy="164880"/>
            </a:xfrm>
          </p:grpSpPr>
          <p:sp>
            <p:nvSpPr>
              <p:cNvPr id="1335" name=""/>
              <p:cNvSpPr/>
              <p:nvPr/>
            </p:nvSpPr>
            <p:spPr>
              <a:xfrm>
                <a:off x="497880" y="3179880"/>
                <a:ext cx="531000" cy="164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028880" y="3262320"/>
                <a:ext cx="8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09680" y="3262320"/>
                <a:ext cx="8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985680" y="3705120"/>
              <a:ext cx="262080" cy="252360"/>
              <a:chOff x="985680" y="3705120"/>
              <a:chExt cx="262080" cy="252360"/>
            </a:xfrm>
          </p:grpSpPr>
          <p:sp>
            <p:nvSpPr>
              <p:cNvPr id="1339" name=""/>
              <p:cNvSpPr/>
              <p:nvPr/>
            </p:nvSpPr>
            <p:spPr>
              <a:xfrm>
                <a:off x="985680" y="3789000"/>
                <a:ext cx="26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985680" y="3873240"/>
                <a:ext cx="26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720" y="3705120"/>
                <a:ext cx="0" cy="8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16720" y="3873240"/>
                <a:ext cx="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2532240" y="3198960"/>
              <a:ext cx="659880" cy="168120"/>
              <a:chOff x="2532240" y="3198960"/>
              <a:chExt cx="659880" cy="1681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2777760" y="3040920"/>
                <a:ext cx="168120" cy="48420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32240" y="3282840"/>
                <a:ext cx="8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104280" y="3282840"/>
                <a:ext cx="8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3147840" y="3137040"/>
              <a:ext cx="709920" cy="293400"/>
              <a:chOff x="3147840" y="3137040"/>
              <a:chExt cx="709920" cy="293400"/>
            </a:xfrm>
          </p:grpSpPr>
          <p:sp>
            <p:nvSpPr>
              <p:cNvPr id="1348" name=""/>
              <p:cNvSpPr/>
              <p:nvPr/>
            </p:nvSpPr>
            <p:spPr>
              <a:xfrm>
                <a:off x="323640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36960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50280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636000" y="3137040"/>
                <a:ext cx="13284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"/>
              <p:cNvGrpSpPr/>
              <p:nvPr/>
            </p:nvGrpSpPr>
            <p:grpSpPr>
              <a:xfrm>
                <a:off x="3147840" y="3262680"/>
                <a:ext cx="709920" cy="0"/>
                <a:chOff x="3147840" y="3262680"/>
                <a:chExt cx="709920" cy="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3147840" y="3262680"/>
                  <a:ext cx="88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769200" y="3262680"/>
                  <a:ext cx="88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5" name=""/>
            <p:cNvGrpSpPr/>
            <p:nvPr/>
          </p:nvGrpSpPr>
          <p:grpSpPr>
            <a:xfrm>
              <a:off x="1117440" y="3179880"/>
              <a:ext cx="704520" cy="164880"/>
              <a:chOff x="1117440" y="3179880"/>
              <a:chExt cx="704520" cy="164880"/>
            </a:xfrm>
          </p:grpSpPr>
          <p:sp>
            <p:nvSpPr>
              <p:cNvPr id="1356" name=""/>
              <p:cNvSpPr/>
              <p:nvPr/>
            </p:nvSpPr>
            <p:spPr>
              <a:xfrm>
                <a:off x="1205280" y="3179880"/>
                <a:ext cx="528840" cy="164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734120" y="3262320"/>
                <a:ext cx="8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117440" y="3262320"/>
                <a:ext cx="8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3014640" y="3705120"/>
              <a:ext cx="264960" cy="252360"/>
              <a:chOff x="3014640" y="3705120"/>
              <a:chExt cx="264960" cy="252360"/>
            </a:xfrm>
          </p:grpSpPr>
          <p:sp>
            <p:nvSpPr>
              <p:cNvPr id="1360" name=""/>
              <p:cNvSpPr/>
              <p:nvPr/>
            </p:nvSpPr>
            <p:spPr>
              <a:xfrm>
                <a:off x="3014640" y="3789000"/>
                <a:ext cx="26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014640" y="3873240"/>
                <a:ext cx="26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147120" y="3705120"/>
                <a:ext cx="0" cy="8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147120" y="3873240"/>
                <a:ext cx="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5270400" y="3284640"/>
              <a:ext cx="8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17440" y="32846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4562640" y="3137040"/>
              <a:ext cx="707400" cy="293400"/>
              <a:chOff x="4562640" y="3137040"/>
              <a:chExt cx="707400" cy="293400"/>
            </a:xfrm>
          </p:grpSpPr>
          <p:sp>
            <p:nvSpPr>
              <p:cNvPr id="1367" name=""/>
              <p:cNvSpPr/>
              <p:nvPr/>
            </p:nvSpPr>
            <p:spPr>
              <a:xfrm>
                <a:off x="4651200" y="3137040"/>
                <a:ext cx="13248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783680" y="3137040"/>
                <a:ext cx="13248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16520" y="3137040"/>
                <a:ext cx="13248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049360" y="3137040"/>
                <a:ext cx="132480" cy="29340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"/>
              <p:cNvGrpSpPr/>
              <p:nvPr/>
            </p:nvGrpSpPr>
            <p:grpSpPr>
              <a:xfrm>
                <a:off x="4562640" y="3262680"/>
                <a:ext cx="707400" cy="0"/>
                <a:chOff x="4562640" y="3262680"/>
                <a:chExt cx="707400" cy="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4562640" y="3262680"/>
                  <a:ext cx="88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181840" y="3262680"/>
                  <a:ext cx="88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4" name=""/>
            <p:cNvGrpSpPr/>
            <p:nvPr/>
          </p:nvGrpSpPr>
          <p:grpSpPr>
            <a:xfrm>
              <a:off x="3857760" y="3200400"/>
              <a:ext cx="704520" cy="166680"/>
              <a:chOff x="3857760" y="3200400"/>
              <a:chExt cx="704520" cy="166680"/>
            </a:xfrm>
          </p:grpSpPr>
          <p:sp>
            <p:nvSpPr>
              <p:cNvPr id="1375" name=""/>
              <p:cNvSpPr/>
              <p:nvPr/>
            </p:nvSpPr>
            <p:spPr>
              <a:xfrm>
                <a:off x="3945600" y="3200400"/>
                <a:ext cx="528840" cy="166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474440" y="3283560"/>
                <a:ext cx="8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857760" y="3283560"/>
                <a:ext cx="8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3722760" y="3705120"/>
              <a:ext cx="266760" cy="252360"/>
              <a:chOff x="3722760" y="3705120"/>
              <a:chExt cx="266760" cy="252360"/>
            </a:xfrm>
          </p:grpSpPr>
          <p:sp>
            <p:nvSpPr>
              <p:cNvPr id="1379" name=""/>
              <p:cNvSpPr/>
              <p:nvPr/>
            </p:nvSpPr>
            <p:spPr>
              <a:xfrm>
                <a:off x="3722760" y="378900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722760" y="387324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855960" y="3705120"/>
                <a:ext cx="0" cy="8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855960" y="3873240"/>
                <a:ext cx="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32320" y="3705120"/>
              <a:ext cx="263520" cy="252360"/>
              <a:chOff x="4432320" y="3705120"/>
              <a:chExt cx="263520" cy="252360"/>
            </a:xfrm>
          </p:grpSpPr>
          <p:sp>
            <p:nvSpPr>
              <p:cNvPr id="1384" name=""/>
              <p:cNvSpPr/>
              <p:nvPr/>
            </p:nvSpPr>
            <p:spPr>
              <a:xfrm>
                <a:off x="4432320" y="3789000"/>
                <a:ext cx="26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32320" y="3873240"/>
                <a:ext cx="26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564080" y="3705120"/>
                <a:ext cx="0" cy="8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564080" y="3873240"/>
                <a:ext cx="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5137200" y="3705120"/>
              <a:ext cx="264960" cy="252360"/>
              <a:chOff x="5137200" y="3705120"/>
              <a:chExt cx="264960" cy="252360"/>
            </a:xfrm>
          </p:grpSpPr>
          <p:sp>
            <p:nvSpPr>
              <p:cNvPr id="1389" name=""/>
              <p:cNvSpPr/>
              <p:nvPr/>
            </p:nvSpPr>
            <p:spPr>
              <a:xfrm>
                <a:off x="5137200" y="3789000"/>
                <a:ext cx="26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137200" y="3873240"/>
                <a:ext cx="26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69680" y="3705120"/>
                <a:ext cx="0" cy="8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269680" y="3873240"/>
                <a:ext cx="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3147840" y="32846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57760" y="32846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62640" y="32846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70400" y="32846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117440" y="39164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47840" y="39164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57760" y="39164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562640" y="39164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270400" y="3916440"/>
              <a:ext cx="0" cy="42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939960" y="433692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70360" y="4336920"/>
              <a:ext cx="35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79920" y="433692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387680" y="433692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92560" y="4336920"/>
              <a:ext cx="35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30400" y="36766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281680" y="36766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824640" y="36766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538880" y="36766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05680" y="36766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6934320" y="2438280"/>
            <a:ext cx="2255400" cy="1981080"/>
            <a:chOff x="6934320" y="2438280"/>
            <a:chExt cx="2255400" cy="1981080"/>
          </a:xfrm>
        </p:grpSpPr>
        <p:sp>
          <p:nvSpPr>
            <p:cNvPr id="1413" name=""/>
            <p:cNvSpPr/>
            <p:nvPr/>
          </p:nvSpPr>
          <p:spPr>
            <a:xfrm>
              <a:off x="6934320" y="2438280"/>
              <a:ext cx="2255400" cy="19810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4" name=""/>
            <p:cNvGrpSpPr/>
            <p:nvPr/>
          </p:nvGrpSpPr>
          <p:grpSpPr>
            <a:xfrm>
              <a:off x="7998120" y="3151800"/>
              <a:ext cx="669960" cy="295920"/>
              <a:chOff x="7998120" y="3151800"/>
              <a:chExt cx="669960" cy="295920"/>
            </a:xfrm>
          </p:grpSpPr>
          <p:sp>
            <p:nvSpPr>
              <p:cNvPr id="1415" name=""/>
              <p:cNvSpPr/>
              <p:nvPr/>
            </p:nvSpPr>
            <p:spPr>
              <a:xfrm>
                <a:off x="8082000" y="3151800"/>
                <a:ext cx="125640" cy="29592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207640" y="3151800"/>
                <a:ext cx="125640" cy="29592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333280" y="3151800"/>
                <a:ext cx="125640" cy="29592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458920" y="3151800"/>
                <a:ext cx="125640" cy="29592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7998120" y="3278520"/>
                <a:ext cx="669960" cy="0"/>
                <a:chOff x="7998120" y="3278520"/>
                <a:chExt cx="669960" cy="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7998120" y="3278520"/>
                  <a:ext cx="8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584560" y="3278520"/>
                  <a:ext cx="8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2" name=""/>
            <p:cNvGrpSpPr/>
            <p:nvPr/>
          </p:nvGrpSpPr>
          <p:grpSpPr>
            <a:xfrm>
              <a:off x="7324920" y="3151800"/>
              <a:ext cx="672480" cy="166680"/>
              <a:chOff x="7324920" y="3151800"/>
              <a:chExt cx="672480" cy="166680"/>
            </a:xfrm>
          </p:grpSpPr>
          <p:sp>
            <p:nvSpPr>
              <p:cNvPr id="1423" name=""/>
              <p:cNvSpPr/>
              <p:nvPr/>
            </p:nvSpPr>
            <p:spPr>
              <a:xfrm>
                <a:off x="7408800" y="3151800"/>
                <a:ext cx="504720" cy="166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3520" y="3234960"/>
                <a:ext cx="8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324920" y="3234960"/>
                <a:ext cx="8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7872120" y="3679920"/>
              <a:ext cx="251640" cy="252360"/>
              <a:chOff x="7872120" y="3679920"/>
              <a:chExt cx="251640" cy="252360"/>
            </a:xfrm>
          </p:grpSpPr>
          <p:sp>
            <p:nvSpPr>
              <p:cNvPr id="1427" name=""/>
              <p:cNvSpPr/>
              <p:nvPr/>
            </p:nvSpPr>
            <p:spPr>
              <a:xfrm>
                <a:off x="7872120" y="3763800"/>
                <a:ext cx="25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872120" y="3848040"/>
                <a:ext cx="25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7760" y="3679920"/>
                <a:ext cx="0" cy="8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97760" y="3848040"/>
                <a:ext cx="0" cy="8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1" name=""/>
            <p:cNvSpPr/>
            <p:nvPr/>
          </p:nvSpPr>
          <p:spPr>
            <a:xfrm>
              <a:off x="7998120" y="3258360"/>
              <a:ext cx="0" cy="42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98120" y="3891240"/>
              <a:ext cx="0" cy="42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28920" y="4313160"/>
              <a:ext cx="33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067600" y="3676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Cpk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35760" y="25207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pk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958520" y="252072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pk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3350880" y="4800600"/>
            <a:ext cx="4618440" cy="1051560"/>
            <a:chOff x="3350880" y="4800600"/>
            <a:chExt cx="4618440" cy="1051560"/>
          </a:xfrm>
        </p:grpSpPr>
        <p:grpSp>
          <p:nvGrpSpPr>
            <p:cNvPr id="1438" name=""/>
            <p:cNvGrpSpPr/>
            <p:nvPr/>
          </p:nvGrpSpPr>
          <p:grpSpPr>
            <a:xfrm>
              <a:off x="3912480" y="4800600"/>
              <a:ext cx="3519000" cy="571680"/>
              <a:chOff x="3912480" y="4800600"/>
              <a:chExt cx="3519000" cy="571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75440" y="5086440"/>
                <a:ext cx="259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 rot="5400000">
                <a:off x="6914160" y="4854960"/>
                <a:ext cx="571680" cy="46296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466880" y="4914720"/>
                <a:ext cx="834480" cy="343080"/>
              </a:xfrm>
              <a:prstGeom prst="flowChartAlternateProcess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511960" y="4914720"/>
                <a:ext cx="1296360" cy="343080"/>
              </a:xfrm>
              <a:prstGeom prst="flowChartMagneticDrum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 rot="5400000">
                <a:off x="3858120" y="4854960"/>
                <a:ext cx="571680" cy="46296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3350880" y="5392440"/>
              <a:ext cx="461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Driver    Package   Line   Recei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4312440" y="5257800"/>
              <a:ext cx="159840" cy="17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792480" y="5257800"/>
              <a:ext cx="159840" cy="17136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5431320" y="5200920"/>
              <a:ext cx="160200" cy="22824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78720" y="1808280"/>
            <a:ext cx="44654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ckage with Number of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789160" y="1828800"/>
            <a:ext cx="3931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ackage with lump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2584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sections Vs.  lumped  -2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1" name=""/>
          <p:cNvSpPr/>
          <p:nvPr/>
        </p:nvSpPr>
        <p:spPr>
          <a:xfrm>
            <a:off x="1374480" y="5562720"/>
            <a:ext cx="7157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ask for package-models with number of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6934320" y="1828800"/>
            <a:ext cx="2680920" cy="838080"/>
            <a:chOff x="6934320" y="1828800"/>
            <a:chExt cx="2680920" cy="838080"/>
          </a:xfrm>
        </p:grpSpPr>
        <p:grpSp>
          <p:nvGrpSpPr>
            <p:cNvPr id="1453" name=""/>
            <p:cNvGrpSpPr/>
            <p:nvPr/>
          </p:nvGrpSpPr>
          <p:grpSpPr>
            <a:xfrm>
              <a:off x="6934320" y="1828800"/>
              <a:ext cx="2680920" cy="706320"/>
              <a:chOff x="6934320" y="1828800"/>
              <a:chExt cx="2680920" cy="706320"/>
            </a:xfrm>
          </p:grpSpPr>
          <p:sp>
            <p:nvSpPr>
              <p:cNvPr id="1454" name=""/>
              <p:cNvSpPr/>
              <p:nvPr/>
            </p:nvSpPr>
            <p:spPr>
              <a:xfrm>
                <a:off x="7287120" y="2181960"/>
                <a:ext cx="19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 rot="5400000">
                <a:off x="9085680" y="2005560"/>
                <a:ext cx="706320" cy="35280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356960" y="1969920"/>
                <a:ext cx="635760" cy="423720"/>
              </a:xfrm>
              <a:prstGeom prst="flowChartAlternateProcess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152920" y="1969920"/>
                <a:ext cx="987480" cy="423720"/>
              </a:xfrm>
              <a:prstGeom prst="flowChartMagneticDrum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rot="5400000">
                <a:off x="6757560" y="2005560"/>
                <a:ext cx="706320" cy="352800"/>
              </a:xfrm>
              <a:prstGeom prst="triangle">
                <a:avLst>
                  <a:gd name="adj" fmla="val 50000"/>
                </a:avLst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 flipH="1">
              <a:off x="7238880" y="2455920"/>
              <a:ext cx="122400" cy="21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9067680" y="2455920"/>
              <a:ext cx="122400" cy="210960"/>
            </a:xfrm>
            <a:prstGeom prst="flowChartDecisi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076600" y="2362320"/>
              <a:ext cx="122040" cy="282600"/>
            </a:xfrm>
            <a:prstGeom prst="star5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609480" y="1901880"/>
            <a:ext cx="6553800" cy="2963880"/>
            <a:chOff x="609480" y="1901880"/>
            <a:chExt cx="6553800" cy="2963880"/>
          </a:xfrm>
        </p:grpSpPr>
        <p:grpSp>
          <p:nvGrpSpPr>
            <p:cNvPr id="1463" name=""/>
            <p:cNvGrpSpPr/>
            <p:nvPr/>
          </p:nvGrpSpPr>
          <p:grpSpPr>
            <a:xfrm>
              <a:off x="1332360" y="4587840"/>
              <a:ext cx="4999680" cy="277920"/>
              <a:chOff x="1332360" y="4587840"/>
              <a:chExt cx="4999680" cy="277920"/>
            </a:xfrm>
          </p:grpSpPr>
          <p:sp>
            <p:nvSpPr>
              <p:cNvPr id="1464" name=""/>
              <p:cNvSpPr/>
              <p:nvPr/>
            </p:nvSpPr>
            <p:spPr>
              <a:xfrm>
                <a:off x="1332360" y="45889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755440" y="45889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174200" y="459108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061960" y="4587840"/>
                <a:ext cx="1270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ime  / ns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609480" y="1901880"/>
              <a:ext cx="572400" cy="2625840"/>
              <a:chOff x="609480" y="1901880"/>
              <a:chExt cx="572400" cy="2625840"/>
            </a:xfrm>
          </p:grpSpPr>
          <p:sp>
            <p:nvSpPr>
              <p:cNvPr id="1469" name=""/>
              <p:cNvSpPr/>
              <p:nvPr/>
            </p:nvSpPr>
            <p:spPr>
              <a:xfrm>
                <a:off x="780480" y="4253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80480" y="3083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80480" y="190188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 rot="5400000">
                <a:off x="348480" y="2565360"/>
                <a:ext cx="796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 / V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468440" y="1959120"/>
              <a:ext cx="3536640" cy="2474280"/>
              <a:chOff x="1468440" y="1959120"/>
              <a:chExt cx="3536640" cy="2474280"/>
            </a:xfrm>
          </p:grpSpPr>
          <p:sp>
            <p:nvSpPr>
              <p:cNvPr id="1474" name=""/>
              <p:cNvSpPr/>
              <p:nvPr/>
            </p:nvSpPr>
            <p:spPr>
              <a:xfrm>
                <a:off x="1527480" y="2032560"/>
                <a:ext cx="3426480" cy="234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27480" y="3797280"/>
                <a:ext cx="34264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527480" y="3212280"/>
                <a:ext cx="34264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527480" y="261792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7480" y="2032560"/>
                <a:ext cx="3426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215440" y="2032560"/>
                <a:ext cx="1800" cy="234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1960" y="2032560"/>
                <a:ext cx="2880" cy="234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578400" y="2032560"/>
                <a:ext cx="2880" cy="234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267800" y="2032560"/>
                <a:ext cx="1440" cy="234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953960" y="2032560"/>
                <a:ext cx="1800" cy="234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527480" y="2032560"/>
                <a:ext cx="3426480" cy="2349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527480" y="2032560"/>
                <a:ext cx="1800" cy="234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468440" y="4382280"/>
                <a:ext cx="59040" cy="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468440" y="3797280"/>
                <a:ext cx="590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468440" y="3212280"/>
                <a:ext cx="59040" cy="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68440" y="2617920"/>
                <a:ext cx="590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68440" y="2032560"/>
                <a:ext cx="5904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27480" y="4382280"/>
                <a:ext cx="342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1527480" y="4382280"/>
                <a:ext cx="1800" cy="4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1872360" y="4382280"/>
                <a:ext cx="14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2215440" y="4382280"/>
                <a:ext cx="180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2558520" y="4382280"/>
                <a:ext cx="180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2901960" y="4382280"/>
                <a:ext cx="2880" cy="4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3248280" y="4382280"/>
                <a:ext cx="14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578400" y="4382280"/>
                <a:ext cx="288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3922920" y="4382280"/>
                <a:ext cx="180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4267800" y="4382280"/>
                <a:ext cx="1440" cy="40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4610880" y="4382280"/>
                <a:ext cx="180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4953960" y="4382280"/>
                <a:ext cx="180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1527480" y="4331160"/>
                <a:ext cx="1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2901960" y="4331160"/>
                <a:ext cx="288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4267800" y="4331160"/>
                <a:ext cx="144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527480" y="4382280"/>
                <a:ext cx="70920" cy="2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598400" y="4382280"/>
                <a:ext cx="70920" cy="2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1669680" y="4351320"/>
                <a:ext cx="59040" cy="30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1728720" y="4228920"/>
                <a:ext cx="72360" cy="122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1801080" y="4011840"/>
                <a:ext cx="70920" cy="216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1872360" y="3766320"/>
                <a:ext cx="70920" cy="24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1943280" y="3540240"/>
                <a:ext cx="59040" cy="226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2002680" y="3354840"/>
                <a:ext cx="70920" cy="18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2073600" y="3232800"/>
                <a:ext cx="70920" cy="122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2144520" y="3171960"/>
                <a:ext cx="70560" cy="60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2215440" y="3129840"/>
                <a:ext cx="70920" cy="41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2286360" y="3110040"/>
                <a:ext cx="5940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2346120" y="3100680"/>
                <a:ext cx="7056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2416680" y="3089880"/>
                <a:ext cx="7092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487600" y="3089880"/>
                <a:ext cx="705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558520" y="3089880"/>
                <a:ext cx="5940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17920" y="310068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2689200" y="3089880"/>
                <a:ext cx="7056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759760" y="308988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2830680" y="3079080"/>
                <a:ext cx="7092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2901960" y="3069360"/>
                <a:ext cx="6084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962800" y="3069360"/>
                <a:ext cx="705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3033720" y="3058560"/>
                <a:ext cx="7236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106080" y="3049200"/>
                <a:ext cx="7092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17736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248280" y="3049200"/>
                <a:ext cx="576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305880" y="3038400"/>
                <a:ext cx="7236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378600" y="3038400"/>
                <a:ext cx="70920" cy="2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49520" y="3038400"/>
                <a:ext cx="70560" cy="2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520440" y="3038400"/>
                <a:ext cx="5796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78400" y="3049200"/>
                <a:ext cx="72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650760" y="3049200"/>
                <a:ext cx="705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72168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9260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863880" y="3049200"/>
                <a:ext cx="5904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92292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99384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65120" y="3049200"/>
                <a:ext cx="72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137480" y="3049200"/>
                <a:ext cx="5904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19688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267800" y="3049200"/>
                <a:ext cx="709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339080" y="3049200"/>
                <a:ext cx="705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09640" y="3049200"/>
                <a:ext cx="7092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80560" y="3058560"/>
                <a:ext cx="5940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540320" y="3069360"/>
                <a:ext cx="705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610880" y="3069360"/>
                <a:ext cx="70920" cy="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4682160" y="3058560"/>
                <a:ext cx="70560" cy="20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4752720" y="3007080"/>
                <a:ext cx="59400" cy="50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4812120" y="2926080"/>
                <a:ext cx="70920" cy="81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883400" y="2831760"/>
                <a:ext cx="70560" cy="93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4953960" y="2813400"/>
                <a:ext cx="1152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52748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59840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69680" y="4382280"/>
                <a:ext cx="5904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728720" y="4382280"/>
                <a:ext cx="7236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80108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87236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943280" y="4382280"/>
                <a:ext cx="5904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0268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360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144520" y="4382280"/>
                <a:ext cx="7056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15440" y="438228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286360" y="4382280"/>
                <a:ext cx="5940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V="1">
                <a:off x="2346120" y="4372920"/>
                <a:ext cx="70560" cy="9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2416680" y="4321440"/>
                <a:ext cx="70920" cy="51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2487600" y="4196160"/>
                <a:ext cx="70560" cy="12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2558520" y="4002480"/>
                <a:ext cx="59400" cy="193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2617920" y="3776760"/>
                <a:ext cx="70920" cy="22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2689200" y="3540240"/>
                <a:ext cx="70560" cy="236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2759760" y="3365640"/>
                <a:ext cx="70920" cy="173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2830680" y="3252960"/>
                <a:ext cx="70920" cy="113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>
                <a:off x="2901960" y="3181320"/>
                <a:ext cx="60840" cy="71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V="1">
                <a:off x="2962800" y="3151440"/>
                <a:ext cx="70560" cy="2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3033720" y="3140640"/>
                <a:ext cx="72360" cy="10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3106080" y="3129840"/>
                <a:ext cx="70920" cy="10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3177360" y="3120120"/>
                <a:ext cx="70920" cy="9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3248280" y="3109680"/>
                <a:ext cx="57600" cy="10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305880" y="3110040"/>
                <a:ext cx="7236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378600" y="311004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449520" y="3110040"/>
                <a:ext cx="70560" cy="10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520440" y="3120480"/>
                <a:ext cx="57960" cy="1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578400" y="3120480"/>
                <a:ext cx="72360" cy="1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650760" y="3120480"/>
                <a:ext cx="70560" cy="20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1680" y="3140640"/>
                <a:ext cx="70920" cy="20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92600" y="3161160"/>
                <a:ext cx="70920" cy="20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63880" y="3181320"/>
                <a:ext cx="5904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3922920" y="3129840"/>
                <a:ext cx="70920" cy="50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993840" y="3028680"/>
                <a:ext cx="70920" cy="10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4065120" y="2872440"/>
                <a:ext cx="72360" cy="155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4137480" y="2698200"/>
                <a:ext cx="59040" cy="173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4196880" y="2514960"/>
                <a:ext cx="70920" cy="183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4267800" y="2361240"/>
                <a:ext cx="70920" cy="153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4339080" y="2238840"/>
                <a:ext cx="70560" cy="122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V="1">
                <a:off x="4409640" y="2144520"/>
                <a:ext cx="70920" cy="93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4480560" y="2093400"/>
                <a:ext cx="59400" cy="51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4540320" y="2073240"/>
                <a:ext cx="70560" cy="20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610880" y="2073240"/>
                <a:ext cx="70920" cy="1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682160" y="2073240"/>
                <a:ext cx="70560" cy="1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752720" y="2073240"/>
                <a:ext cx="59400" cy="9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12120" y="2082960"/>
                <a:ext cx="70920" cy="2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51560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58688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657800" y="4372920"/>
                <a:ext cx="705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17200" y="4372920"/>
                <a:ext cx="723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8956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86084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931760" y="4372920"/>
                <a:ext cx="705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99080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06208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133000" y="4372920"/>
                <a:ext cx="705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20392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27484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334240" y="4372920"/>
                <a:ext cx="705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40516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47608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547360" y="4372920"/>
                <a:ext cx="705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60640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67732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748600" y="4372920"/>
                <a:ext cx="705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819160" y="4372920"/>
                <a:ext cx="7092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890440" y="4372920"/>
                <a:ext cx="7236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939760" y="4362120"/>
                <a:ext cx="82440" cy="4032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010680" y="4341960"/>
                <a:ext cx="8208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2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081600" y="4311000"/>
                <a:ext cx="82440" cy="615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18" y="0"/>
                    </a:lnTo>
                    <a:lnTo>
                      <a:pt x="42" y="6"/>
                    </a:lnTo>
                    <a:lnTo>
                      <a:pt x="24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164040" y="423936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234960" y="409392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271320" y="391068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4360" y="386892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720" y="368532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65280" y="358272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401640" y="339732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436200" y="326376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472560" y="3079080"/>
                <a:ext cx="47880" cy="723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507120" y="2956320"/>
                <a:ext cx="47880" cy="723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543480" y="277020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566880" y="268920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14760" y="2504880"/>
                <a:ext cx="5904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37440" y="247356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708360" y="2351160"/>
                <a:ext cx="36000" cy="10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08360" y="2319840"/>
                <a:ext cx="59400" cy="723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79640" y="2185200"/>
                <a:ext cx="72360" cy="734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0" y="37"/>
                    </a:moveTo>
                    <a:lnTo>
                      <a:pt x="18" y="0"/>
                    </a:lnTo>
                    <a:lnTo>
                      <a:pt x="36" y="6"/>
                    </a:lnTo>
                    <a:lnTo>
                      <a:pt x="18" y="4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38680" y="211392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18" y="0"/>
                    </a:lnTo>
                    <a:lnTo>
                      <a:pt x="42" y="6"/>
                    </a:lnTo>
                    <a:lnTo>
                      <a:pt x="24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898080" y="2073240"/>
                <a:ext cx="8244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2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969360" y="2062800"/>
                <a:ext cx="82080" cy="414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051440" y="2062800"/>
                <a:ext cx="74160" cy="3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125960" y="2062800"/>
                <a:ext cx="70560" cy="3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172040" y="2062800"/>
                <a:ext cx="83880" cy="414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18"/>
                    </a:moveTo>
                    <a:lnTo>
                      <a:pt x="36" y="24"/>
                    </a:lnTo>
                    <a:lnTo>
                      <a:pt x="42" y="6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256280" y="2073240"/>
                <a:ext cx="70920" cy="30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327200" y="2073240"/>
                <a:ext cx="70560" cy="30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398120" y="2073240"/>
                <a:ext cx="70920" cy="30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469040" y="2073240"/>
                <a:ext cx="70920" cy="30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528440" y="2073240"/>
                <a:ext cx="70560" cy="30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599360" y="2073240"/>
                <a:ext cx="70920" cy="30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658760" y="2062800"/>
                <a:ext cx="82080" cy="414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741200" y="2062800"/>
                <a:ext cx="70920" cy="3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800600" y="2062800"/>
                <a:ext cx="70920" cy="3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871520" y="2062800"/>
                <a:ext cx="70560" cy="3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527480" y="4382280"/>
                <a:ext cx="709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1598400" y="4372920"/>
                <a:ext cx="7092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1669680" y="4341960"/>
                <a:ext cx="59040" cy="3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1728720" y="4196160"/>
                <a:ext cx="72360" cy="145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1801080" y="3919680"/>
                <a:ext cx="70920" cy="276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1872360" y="3571920"/>
                <a:ext cx="70920" cy="347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1943280" y="3243240"/>
                <a:ext cx="59040" cy="328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2002680" y="3028680"/>
                <a:ext cx="7092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2073600" y="2935800"/>
                <a:ext cx="70920" cy="9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2144520" y="2926440"/>
                <a:ext cx="7056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215440" y="2926440"/>
                <a:ext cx="7092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286360" y="2935800"/>
                <a:ext cx="59400" cy="3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346120" y="2967120"/>
                <a:ext cx="70560" cy="20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416680" y="2987280"/>
                <a:ext cx="70920" cy="20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487600" y="3007440"/>
                <a:ext cx="70560" cy="1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58520" y="3018240"/>
                <a:ext cx="594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617920" y="3029040"/>
                <a:ext cx="7092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689200" y="3029040"/>
                <a:ext cx="7056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759760" y="3029040"/>
                <a:ext cx="7092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30680" y="3029040"/>
                <a:ext cx="7092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1960" y="3038400"/>
                <a:ext cx="6084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62800" y="3038400"/>
                <a:ext cx="7056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033720" y="3038400"/>
                <a:ext cx="7236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06080" y="3038400"/>
                <a:ext cx="709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77360" y="3038400"/>
                <a:ext cx="709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248280" y="3038400"/>
                <a:ext cx="5760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305880" y="3049200"/>
                <a:ext cx="7236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3378600" y="3049200"/>
                <a:ext cx="7092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3449520" y="3018240"/>
                <a:ext cx="70560" cy="3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3520440" y="2966760"/>
                <a:ext cx="57960" cy="50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3578400" y="2895480"/>
                <a:ext cx="7236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3650760" y="2811600"/>
                <a:ext cx="70560" cy="8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3721680" y="2719080"/>
                <a:ext cx="70920" cy="92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3792600" y="2647800"/>
                <a:ext cx="7092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3863880" y="2576160"/>
                <a:ext cx="59040" cy="7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3922920" y="2515320"/>
                <a:ext cx="70920" cy="60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3993840" y="2473200"/>
                <a:ext cx="7092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4065120" y="2444040"/>
                <a:ext cx="72360" cy="29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4137480" y="2422440"/>
                <a:ext cx="59040" cy="2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4196880" y="2401920"/>
                <a:ext cx="70920" cy="20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4267800" y="2392560"/>
                <a:ext cx="7092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339080" y="2392560"/>
                <a:ext cx="7056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4409640" y="2381760"/>
                <a:ext cx="7092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480560" y="2381760"/>
                <a:ext cx="5940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540320" y="2381760"/>
                <a:ext cx="7056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610880" y="2381760"/>
                <a:ext cx="70920" cy="1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682160" y="2381760"/>
                <a:ext cx="7056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752720" y="2392560"/>
                <a:ext cx="59400" cy="9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812120" y="2401920"/>
                <a:ext cx="70920" cy="10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527480" y="4382280"/>
                <a:ext cx="7092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598400" y="4382280"/>
                <a:ext cx="7092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669680" y="4382280"/>
                <a:ext cx="5904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728720" y="4362120"/>
                <a:ext cx="72360" cy="2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1801080" y="4290840"/>
                <a:ext cx="70920" cy="7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1872360" y="4145040"/>
                <a:ext cx="70920" cy="14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1943280" y="3930480"/>
                <a:ext cx="59040" cy="214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2002680" y="3694680"/>
                <a:ext cx="70920" cy="23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2073600" y="3477960"/>
                <a:ext cx="70920" cy="21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2144520" y="3304080"/>
                <a:ext cx="70560" cy="17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2215440" y="3191760"/>
                <a:ext cx="70920" cy="111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2286360" y="3120480"/>
                <a:ext cx="59400" cy="7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2346120" y="3078720"/>
                <a:ext cx="70560" cy="41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2416680" y="3049200"/>
                <a:ext cx="70920" cy="29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2487600" y="3038400"/>
                <a:ext cx="70560" cy="1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2558520" y="3029040"/>
                <a:ext cx="59400" cy="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617920" y="3029040"/>
                <a:ext cx="7092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689200" y="3029040"/>
                <a:ext cx="7056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759760" y="3029040"/>
                <a:ext cx="7092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30680" y="3029040"/>
                <a:ext cx="7092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901960" y="3029040"/>
                <a:ext cx="6084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962800" y="3029040"/>
                <a:ext cx="70560" cy="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033720" y="3038400"/>
                <a:ext cx="72360" cy="2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106080" y="3058560"/>
                <a:ext cx="70920" cy="2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177360" y="3079080"/>
                <a:ext cx="70920" cy="21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3248280" y="3069360"/>
                <a:ext cx="57600" cy="30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3305880" y="2967120"/>
                <a:ext cx="72360" cy="102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3378600" y="2811960"/>
                <a:ext cx="70920" cy="15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3449520" y="2617920"/>
                <a:ext cx="70560" cy="19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3520440" y="2443680"/>
                <a:ext cx="57960" cy="17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3578400" y="2319840"/>
                <a:ext cx="72360" cy="123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3650760" y="2228400"/>
                <a:ext cx="70560" cy="9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3721680" y="2184840"/>
                <a:ext cx="70920" cy="42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3792600" y="2165040"/>
                <a:ext cx="70920" cy="2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863880" y="2165040"/>
                <a:ext cx="59040" cy="2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922920" y="2185200"/>
                <a:ext cx="70920" cy="42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993840" y="2228400"/>
                <a:ext cx="70920" cy="41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065120" y="2269800"/>
                <a:ext cx="72360" cy="4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137480" y="2310480"/>
                <a:ext cx="59040" cy="30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196880" y="2341440"/>
                <a:ext cx="70920" cy="1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267800" y="2361600"/>
                <a:ext cx="70920" cy="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339080" y="2371320"/>
                <a:ext cx="7056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409640" y="2371320"/>
                <a:ext cx="7092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480560" y="2371320"/>
                <a:ext cx="59400" cy="10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540320" y="2381760"/>
                <a:ext cx="70560" cy="20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610880" y="2401920"/>
                <a:ext cx="70920" cy="30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682160" y="2433240"/>
                <a:ext cx="70560" cy="4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752720" y="2473560"/>
                <a:ext cx="59400" cy="1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4812120" y="2473560"/>
                <a:ext cx="70920" cy="1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1560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58688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657800" y="4372920"/>
                <a:ext cx="7056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717200" y="4372920"/>
                <a:ext cx="7236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78956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86084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931760" y="4372920"/>
                <a:ext cx="7056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99080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06208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33000" y="4372920"/>
                <a:ext cx="7056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20392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274840" y="4372920"/>
                <a:ext cx="70920" cy="29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322720" y="4362120"/>
                <a:ext cx="82080" cy="4032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393640" y="4341960"/>
                <a:ext cx="8244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2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476080" y="4290840"/>
                <a:ext cx="70920" cy="7128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6"/>
                    </a:moveTo>
                    <a:lnTo>
                      <a:pt x="18" y="0"/>
                    </a:lnTo>
                    <a:lnTo>
                      <a:pt x="36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547360" y="4208760"/>
                <a:ext cx="5904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606400" y="4073760"/>
                <a:ext cx="36000" cy="20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606400" y="404280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654280" y="385956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677320" y="381780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713680" y="3634200"/>
                <a:ext cx="576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748600" y="3540240"/>
                <a:ext cx="47160" cy="7344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0" y="37"/>
                    </a:moveTo>
                    <a:lnTo>
                      <a:pt x="6" y="0"/>
                    </a:lnTo>
                    <a:lnTo>
                      <a:pt x="24" y="7"/>
                    </a:lnTo>
                    <a:lnTo>
                      <a:pt x="18" y="43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784960" y="3355200"/>
                <a:ext cx="4572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819160" y="3243600"/>
                <a:ext cx="47880" cy="712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36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55520" y="305856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90440" y="2967120"/>
                <a:ext cx="49320" cy="7128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0" y="36"/>
                    </a:moveTo>
                    <a:lnTo>
                      <a:pt x="6" y="0"/>
                    </a:lnTo>
                    <a:lnTo>
                      <a:pt x="25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26440" y="2781000"/>
                <a:ext cx="49320" cy="7128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0" y="36"/>
                    </a:moveTo>
                    <a:lnTo>
                      <a:pt x="7" y="0"/>
                    </a:lnTo>
                    <a:lnTo>
                      <a:pt x="25" y="6"/>
                    </a:lnTo>
                    <a:lnTo>
                      <a:pt x="19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51280" y="2719080"/>
                <a:ext cx="59400" cy="723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10680" y="2545200"/>
                <a:ext cx="47880" cy="6156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022200" y="2525040"/>
                <a:ext cx="5904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81600" y="2381760"/>
                <a:ext cx="47880" cy="3096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2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18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93120" y="2361600"/>
                <a:ext cx="59400" cy="712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36"/>
                    </a:moveTo>
                    <a:lnTo>
                      <a:pt x="12" y="0"/>
                    </a:lnTo>
                    <a:lnTo>
                      <a:pt x="30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164040" y="2238840"/>
                <a:ext cx="70560" cy="7128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6"/>
                    </a:moveTo>
                    <a:lnTo>
                      <a:pt x="18" y="0"/>
                    </a:lnTo>
                    <a:lnTo>
                      <a:pt x="36" y="6"/>
                    </a:lnTo>
                    <a:lnTo>
                      <a:pt x="18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223800" y="216504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1"/>
                    </a:moveTo>
                    <a:lnTo>
                      <a:pt x="18" y="0"/>
                    </a:lnTo>
                    <a:lnTo>
                      <a:pt x="42" y="6"/>
                    </a:lnTo>
                    <a:lnTo>
                      <a:pt x="24" y="3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282840" y="2113920"/>
                <a:ext cx="8244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2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53760" y="2093400"/>
                <a:ext cx="82080" cy="4032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436200" y="2093400"/>
                <a:ext cx="70920" cy="30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495600" y="2082960"/>
                <a:ext cx="82440" cy="414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566880" y="2082960"/>
                <a:ext cx="70560" cy="30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26280" y="2082960"/>
                <a:ext cx="82080" cy="414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18"/>
                    </a:moveTo>
                    <a:lnTo>
                      <a:pt x="36" y="24"/>
                    </a:lnTo>
                    <a:lnTo>
                      <a:pt x="42" y="6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708360" y="2093400"/>
                <a:ext cx="70920" cy="30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779640" y="2093400"/>
                <a:ext cx="72360" cy="30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852360" y="2093400"/>
                <a:ext cx="70560" cy="30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898080" y="2082960"/>
                <a:ext cx="82440" cy="414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6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969360" y="206280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2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039920" y="2032560"/>
                <a:ext cx="86040" cy="5004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0" y="12"/>
                    </a:moveTo>
                    <a:lnTo>
                      <a:pt x="37" y="0"/>
                    </a:lnTo>
                    <a:lnTo>
                      <a:pt x="43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114440" y="2011320"/>
                <a:ext cx="8208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2"/>
                    </a:moveTo>
                    <a:lnTo>
                      <a:pt x="36" y="0"/>
                    </a:lnTo>
                    <a:lnTo>
                      <a:pt x="42" y="18"/>
                    </a:lnTo>
                    <a:lnTo>
                      <a:pt x="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185000" y="2011320"/>
                <a:ext cx="70920" cy="30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256280" y="2011320"/>
                <a:ext cx="70920" cy="30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13880" y="201132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8"/>
                    </a:moveTo>
                    <a:lnTo>
                      <a:pt x="36" y="30"/>
                    </a:lnTo>
                    <a:lnTo>
                      <a:pt x="42" y="12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86600" y="2032560"/>
                <a:ext cx="82440" cy="5004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8"/>
                    </a:moveTo>
                    <a:lnTo>
                      <a:pt x="36" y="30"/>
                    </a:lnTo>
                    <a:lnTo>
                      <a:pt x="42" y="12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444560" y="205308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8"/>
                    </a:moveTo>
                    <a:lnTo>
                      <a:pt x="36" y="30"/>
                    </a:lnTo>
                    <a:lnTo>
                      <a:pt x="42" y="12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503600" y="2082960"/>
                <a:ext cx="83880" cy="507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8"/>
                    </a:moveTo>
                    <a:lnTo>
                      <a:pt x="36" y="30"/>
                    </a:lnTo>
                    <a:lnTo>
                      <a:pt x="42" y="12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574520" y="212472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8"/>
                    </a:moveTo>
                    <a:lnTo>
                      <a:pt x="36" y="30"/>
                    </a:lnTo>
                    <a:lnTo>
                      <a:pt x="42" y="12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645800" y="2155680"/>
                <a:ext cx="70560" cy="7236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0" y="24"/>
                    </a:moveTo>
                    <a:lnTo>
                      <a:pt x="30" y="43"/>
                    </a:lnTo>
                    <a:lnTo>
                      <a:pt x="36" y="18"/>
                    </a:lnTo>
                    <a:lnTo>
                      <a:pt x="6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730040" y="2196000"/>
                <a:ext cx="82080" cy="6264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0"/>
                    </a:moveTo>
                    <a:lnTo>
                      <a:pt x="18" y="31"/>
                    </a:lnTo>
                    <a:lnTo>
                      <a:pt x="42" y="37"/>
                    </a:lnTo>
                    <a:lnTo>
                      <a:pt x="2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775760" y="2259000"/>
                <a:ext cx="70920" cy="7128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24"/>
                    </a:moveTo>
                    <a:lnTo>
                      <a:pt x="30" y="42"/>
                    </a:lnTo>
                    <a:lnTo>
                      <a:pt x="36" y="18"/>
                    </a:lnTo>
                    <a:lnTo>
                      <a:pt x="6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847040" y="231984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18"/>
                    </a:moveTo>
                    <a:lnTo>
                      <a:pt x="36" y="30"/>
                    </a:lnTo>
                    <a:lnTo>
                      <a:pt x="42" y="12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2069640" y="2859840"/>
                <a:ext cx="93960" cy="16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2069640" y="3187080"/>
                <a:ext cx="93960" cy="1634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3678120" y="2777400"/>
                <a:ext cx="95400" cy="16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911480" y="2777400"/>
                <a:ext cx="93600" cy="1645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2637720" y="3678120"/>
                <a:ext cx="189360" cy="163080"/>
              </a:xfrm>
              <a:prstGeom prst="star5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3206880" y="3923640"/>
                <a:ext cx="187920" cy="163080"/>
              </a:xfrm>
              <a:prstGeom prst="flowChartDecis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1973880" y="3678120"/>
                <a:ext cx="189720" cy="163080"/>
              </a:xfrm>
              <a:prstGeom prst="star5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2543760" y="3923640"/>
                <a:ext cx="189360" cy="163080"/>
              </a:xfrm>
              <a:prstGeom prst="flowChartDecision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4058280" y="2777400"/>
                <a:ext cx="189360" cy="164520"/>
              </a:xfrm>
              <a:prstGeom prst="star5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3678840" y="2204280"/>
                <a:ext cx="189360" cy="164520"/>
              </a:xfrm>
              <a:prstGeom prst="flowChartDecis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3301200" y="2777400"/>
                <a:ext cx="189360" cy="164520"/>
              </a:xfrm>
              <a:prstGeom prst="star5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3111480" y="2204280"/>
                <a:ext cx="189360" cy="164520"/>
              </a:xfrm>
              <a:prstGeom prst="flowChartDecision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4341960" y="2122200"/>
                <a:ext cx="189360" cy="164520"/>
              </a:xfrm>
              <a:prstGeom prst="star5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4626000" y="1959120"/>
                <a:ext cx="189360" cy="163080"/>
              </a:xfrm>
              <a:prstGeom prst="flowChartDecis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4626000" y="2122200"/>
                <a:ext cx="189360" cy="164520"/>
              </a:xfrm>
              <a:prstGeom prst="flowChartDecision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868560" y="2122200"/>
                <a:ext cx="189360" cy="164520"/>
              </a:xfrm>
              <a:prstGeom prst="star5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5322960" y="2057400"/>
              <a:ext cx="1840320" cy="2287080"/>
              <a:chOff x="5322960" y="2057400"/>
              <a:chExt cx="1840320" cy="2287080"/>
            </a:xfrm>
          </p:grpSpPr>
          <p:grpSp>
            <p:nvGrpSpPr>
              <p:cNvPr id="1836" name=""/>
              <p:cNvGrpSpPr/>
              <p:nvPr/>
            </p:nvGrpSpPr>
            <p:grpSpPr>
              <a:xfrm>
                <a:off x="5322960" y="2057400"/>
                <a:ext cx="1840320" cy="2287080"/>
                <a:chOff x="5322960" y="2057400"/>
                <a:chExt cx="1840320" cy="228708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5332320" y="2232000"/>
                  <a:ext cx="474840" cy="14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867280" y="2057400"/>
                  <a:ext cx="779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Drv 1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332320" y="2603520"/>
                  <a:ext cx="47484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866560" y="2438280"/>
                  <a:ext cx="822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ack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322960" y="2975040"/>
                  <a:ext cx="71280" cy="31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5638680" y="2971800"/>
                  <a:ext cx="71640" cy="316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791320" y="2971800"/>
                  <a:ext cx="69840" cy="30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866560" y="2819520"/>
                  <a:ext cx="779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Rec 1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5332320" y="3376440"/>
                  <a:ext cx="474840" cy="1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866200" y="3200400"/>
                  <a:ext cx="1178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Drv lum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334120" y="3749760"/>
                  <a:ext cx="4744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865480" y="3581280"/>
                  <a:ext cx="1297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ack lum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322960" y="4133880"/>
                  <a:ext cx="71280" cy="30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535720" y="4133880"/>
                  <a:ext cx="71280" cy="302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791320" y="4114800"/>
                  <a:ext cx="69840" cy="31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865480" y="3978360"/>
                  <a:ext cx="1178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Rec lum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3" name=""/>
              <p:cNvSpPr/>
              <p:nvPr/>
            </p:nvSpPr>
            <p:spPr>
              <a:xfrm flipH="1">
                <a:off x="5509440" y="3284640"/>
                <a:ext cx="95400" cy="163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5509440" y="2130480"/>
                <a:ext cx="95400" cy="16344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5474520" y="3692520"/>
                <a:ext cx="189000" cy="165240"/>
              </a:xfrm>
              <a:prstGeom prst="star5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5460840" y="2523960"/>
                <a:ext cx="192240" cy="163800"/>
              </a:xfrm>
              <a:prstGeom prst="star5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5461920" y="2878200"/>
                <a:ext cx="191880" cy="163440"/>
              </a:xfrm>
              <a:prstGeom prst="flowChartDecision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5461920" y="4046400"/>
                <a:ext cx="191880" cy="162000"/>
              </a:xfrm>
              <a:prstGeom prst="flowChartDecision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9" name=""/>
          <p:cNvGrpSpPr/>
          <p:nvPr/>
        </p:nvGrpSpPr>
        <p:grpSpPr>
          <a:xfrm>
            <a:off x="330120" y="5537160"/>
            <a:ext cx="708120" cy="642600"/>
            <a:chOff x="330120" y="5537160"/>
            <a:chExt cx="708120" cy="642600"/>
          </a:xfrm>
        </p:grpSpPr>
        <p:grpSp>
          <p:nvGrpSpPr>
            <p:cNvPr id="1860" name=""/>
            <p:cNvGrpSpPr/>
            <p:nvPr/>
          </p:nvGrpSpPr>
          <p:grpSpPr>
            <a:xfrm>
              <a:off x="330120" y="5537160"/>
              <a:ext cx="708120" cy="550800"/>
              <a:chOff x="330120" y="5537160"/>
              <a:chExt cx="708120" cy="550800"/>
            </a:xfrm>
          </p:grpSpPr>
          <p:sp>
            <p:nvSpPr>
              <p:cNvPr id="1861" name=""/>
              <p:cNvSpPr/>
              <p:nvPr/>
            </p:nvSpPr>
            <p:spPr>
              <a:xfrm>
                <a:off x="330120" y="553716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00680" y="560880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3" name=""/>
            <p:cNvSpPr/>
            <p:nvPr/>
          </p:nvSpPr>
          <p:spPr>
            <a:xfrm>
              <a:off x="501120" y="5537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562720" y="1657440"/>
            <a:ext cx="3124080" cy="91116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2647800"/>
            <a:ext cx="22860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3760" y="18860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553080" y="3048120"/>
            <a:ext cx="3124440" cy="1121760"/>
            <a:chOff x="6553080" y="3048120"/>
            <a:chExt cx="3124440" cy="1121760"/>
          </a:xfrm>
        </p:grpSpPr>
        <p:sp>
          <p:nvSpPr>
            <p:cNvPr id="106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8001000" y="4056120"/>
              <a:ext cx="533160" cy="113760"/>
              <a:chOff x="8001000" y="4056120"/>
              <a:chExt cx="533160" cy="113760"/>
            </a:xfrm>
          </p:grpSpPr>
          <p:sp>
            <p:nvSpPr>
              <p:cNvPr id="108" name=""/>
              <p:cNvSpPr/>
              <p:nvPr/>
            </p:nvSpPr>
            <p:spPr>
              <a:xfrm>
                <a:off x="800100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0556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112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114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119" name=""/>
            <p:cNvSpPr/>
            <p:nvPr/>
          </p:nvSpPr>
          <p:spPr>
            <a:xfrm>
              <a:off x="3390840" y="49528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381560" y="6016680"/>
              <a:ext cx="1143000" cy="114120"/>
              <a:chOff x="4381560" y="6016680"/>
              <a:chExt cx="1143000" cy="114120"/>
            </a:xfrm>
          </p:grpSpPr>
          <p:sp>
            <p:nvSpPr>
              <p:cNvPr id="121" name=""/>
              <p:cNvSpPr/>
              <p:nvPr/>
            </p:nvSpPr>
            <p:spPr>
              <a:xfrm>
                <a:off x="52959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815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8648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9104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294800" y="5178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127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8600" y="3048120"/>
            <a:ext cx="3124080" cy="1274400"/>
            <a:chOff x="228600" y="3048120"/>
            <a:chExt cx="3124080" cy="1274400"/>
          </a:xfrm>
        </p:grpSpPr>
        <p:sp>
          <p:nvSpPr>
            <p:cNvPr id="130" name=""/>
            <p:cNvSpPr/>
            <p:nvPr/>
          </p:nvSpPr>
          <p:spPr>
            <a:xfrm>
              <a:off x="228600" y="3048120"/>
              <a:ext cx="312408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520" y="32752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18960" y="4037400"/>
              <a:ext cx="1142640" cy="285120"/>
              <a:chOff x="1218960" y="4037400"/>
              <a:chExt cx="1142640" cy="285120"/>
            </a:xfrm>
          </p:grpSpPr>
          <p:sp>
            <p:nvSpPr>
              <p:cNvPr id="133" name=""/>
              <p:cNvSpPr/>
              <p:nvPr/>
            </p:nvSpPr>
            <p:spPr>
              <a:xfrm>
                <a:off x="1713960" y="4208400"/>
                <a:ext cx="22824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18960" y="4037400"/>
                <a:ext cx="1142640" cy="113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136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144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ckage parasitics  and ‘Die‘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5" name=""/>
          <p:cNvSpPr/>
          <p:nvPr/>
        </p:nvSpPr>
        <p:spPr>
          <a:xfrm>
            <a:off x="837000" y="5638680"/>
            <a:ext cx="7052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Think about  package-values and corresponding ‘Die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152280" y="5607000"/>
            <a:ext cx="708120" cy="642600"/>
            <a:chOff x="152280" y="5607000"/>
            <a:chExt cx="708120" cy="642600"/>
          </a:xfrm>
        </p:grpSpPr>
        <p:grpSp>
          <p:nvGrpSpPr>
            <p:cNvPr id="1867" name=""/>
            <p:cNvGrpSpPr/>
            <p:nvPr/>
          </p:nvGrpSpPr>
          <p:grpSpPr>
            <a:xfrm>
              <a:off x="152280" y="5607000"/>
              <a:ext cx="708120" cy="550800"/>
              <a:chOff x="152280" y="5607000"/>
              <a:chExt cx="708120" cy="550800"/>
            </a:xfrm>
          </p:grpSpPr>
          <p:sp>
            <p:nvSpPr>
              <p:cNvPr id="1868" name=""/>
              <p:cNvSpPr/>
              <p:nvPr/>
            </p:nvSpPr>
            <p:spPr>
              <a:xfrm>
                <a:off x="152280" y="560700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22840" y="567864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>
              <a:off x="323280" y="560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151920" y="160020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me ‘Die ‘ but different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28240" y="2133720"/>
            <a:ext cx="4212720" cy="2895120"/>
            <a:chOff x="228240" y="2133720"/>
            <a:chExt cx="4212720" cy="2895120"/>
          </a:xfrm>
        </p:grpSpPr>
        <p:grpSp>
          <p:nvGrpSpPr>
            <p:cNvPr id="1873" name=""/>
            <p:cNvGrpSpPr/>
            <p:nvPr/>
          </p:nvGrpSpPr>
          <p:grpSpPr>
            <a:xfrm>
              <a:off x="228240" y="2579040"/>
              <a:ext cx="3954960" cy="2449800"/>
              <a:chOff x="228240" y="2579040"/>
              <a:chExt cx="3954960" cy="2449800"/>
            </a:xfrm>
          </p:grpSpPr>
          <p:sp>
            <p:nvSpPr>
              <p:cNvPr id="1874" name=""/>
              <p:cNvSpPr/>
              <p:nvPr/>
            </p:nvSpPr>
            <p:spPr>
              <a:xfrm>
                <a:off x="2062440" y="2767680"/>
                <a:ext cx="744840" cy="207216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234160" y="3458880"/>
                <a:ext cx="429840" cy="752760"/>
              </a:xfrm>
              <a:prstGeom prst="rect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552840" y="3144960"/>
                <a:ext cx="630360" cy="13176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667320" y="3458880"/>
                <a:ext cx="429840" cy="752760"/>
              </a:xfrm>
              <a:prstGeom prst="rect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28600" y="2579040"/>
                <a:ext cx="1031400" cy="24498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4800" y="3458880"/>
                <a:ext cx="429840" cy="752760"/>
              </a:xfrm>
              <a:prstGeom prst="rect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228240" y="3898080"/>
                <a:ext cx="285840" cy="1004400"/>
                <a:chOff x="228240" y="3898080"/>
                <a:chExt cx="285840" cy="1004400"/>
              </a:xfrm>
            </p:grpSpPr>
            <p:sp>
              <p:nvSpPr>
                <p:cNvPr id="1881" name=""/>
                <p:cNvSpPr/>
                <p:nvPr/>
              </p:nvSpPr>
              <p:spPr>
                <a:xfrm flipH="1">
                  <a:off x="371160" y="3898080"/>
                  <a:ext cx="14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71520" y="3898080"/>
                  <a:ext cx="0" cy="1004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H="1">
                  <a:off x="228240" y="4902480"/>
                  <a:ext cx="14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2062440" y="4023000"/>
                <a:ext cx="171360" cy="690840"/>
                <a:chOff x="2062440" y="4023000"/>
                <a:chExt cx="171360" cy="690840"/>
              </a:xfrm>
            </p:grpSpPr>
            <p:sp>
              <p:nvSpPr>
                <p:cNvPr id="1885" name=""/>
                <p:cNvSpPr/>
                <p:nvPr/>
              </p:nvSpPr>
              <p:spPr>
                <a:xfrm flipH="1">
                  <a:off x="2148120" y="4023000"/>
                  <a:ext cx="85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2148120" y="4023000"/>
                  <a:ext cx="0" cy="690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>
                  <a:off x="2062440" y="4713840"/>
                  <a:ext cx="85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8" name=""/>
              <p:cNvGrpSpPr/>
              <p:nvPr/>
            </p:nvGrpSpPr>
            <p:grpSpPr>
              <a:xfrm>
                <a:off x="3552480" y="3961440"/>
                <a:ext cx="114480" cy="438840"/>
                <a:chOff x="3552480" y="3961440"/>
                <a:chExt cx="114480" cy="438840"/>
              </a:xfrm>
            </p:grpSpPr>
            <p:sp>
              <p:nvSpPr>
                <p:cNvPr id="1889" name=""/>
                <p:cNvSpPr/>
                <p:nvPr/>
              </p:nvSpPr>
              <p:spPr>
                <a:xfrm flipH="1">
                  <a:off x="3609720" y="3961440"/>
                  <a:ext cx="57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3610080" y="3961440"/>
                  <a:ext cx="0" cy="438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>
                  <a:off x="3552480" y="4400280"/>
                  <a:ext cx="57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2" name=""/>
            <p:cNvSpPr/>
            <p:nvPr/>
          </p:nvSpPr>
          <p:spPr>
            <a:xfrm>
              <a:off x="459000" y="21337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6680" y="21337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498120" y="21337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S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5027040" y="160020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fferent ‘Die ‘ and different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5028480" y="2133720"/>
            <a:ext cx="4531680" cy="2584440"/>
            <a:chOff x="5028480" y="2133720"/>
            <a:chExt cx="4531680" cy="2584440"/>
          </a:xfrm>
        </p:grpSpPr>
        <p:grpSp>
          <p:nvGrpSpPr>
            <p:cNvPr id="1897" name=""/>
            <p:cNvGrpSpPr/>
            <p:nvPr/>
          </p:nvGrpSpPr>
          <p:grpSpPr>
            <a:xfrm>
              <a:off x="5257440" y="2590920"/>
              <a:ext cx="4191480" cy="2127240"/>
              <a:chOff x="5257440" y="2590920"/>
              <a:chExt cx="4191480" cy="212724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5257440" y="2590920"/>
                <a:ext cx="1976760" cy="2127240"/>
                <a:chOff x="5257440" y="2590920"/>
                <a:chExt cx="1976760" cy="212724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5257800" y="2590920"/>
                  <a:ext cx="1976400" cy="212724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437440" y="2847960"/>
                  <a:ext cx="1616760" cy="1612800"/>
                </a:xfrm>
                <a:prstGeom prst="rect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1" name=""/>
                <p:cNvGrpSpPr/>
                <p:nvPr/>
              </p:nvGrpSpPr>
              <p:grpSpPr>
                <a:xfrm>
                  <a:off x="5257440" y="4267080"/>
                  <a:ext cx="179280" cy="322560"/>
                  <a:chOff x="5257440" y="4267080"/>
                  <a:chExt cx="179280" cy="322560"/>
                </a:xfrm>
              </p:grpSpPr>
              <p:sp>
                <p:nvSpPr>
                  <p:cNvPr id="1902" name=""/>
                  <p:cNvSpPr/>
                  <p:nvPr/>
                </p:nvSpPr>
                <p:spPr>
                  <a:xfrm flipH="1">
                    <a:off x="5347080" y="4267080"/>
                    <a:ext cx="896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5347440" y="4267080"/>
                    <a:ext cx="0" cy="322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flipH="1">
                    <a:off x="5257440" y="4589640"/>
                    <a:ext cx="896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5" name=""/>
              <p:cNvGrpSpPr/>
              <p:nvPr/>
            </p:nvGrpSpPr>
            <p:grpSpPr>
              <a:xfrm>
                <a:off x="7832880" y="2819520"/>
                <a:ext cx="1616040" cy="1746360"/>
                <a:chOff x="7832880" y="2819520"/>
                <a:chExt cx="1616040" cy="174636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7832880" y="2819520"/>
                  <a:ext cx="1616040" cy="174636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8224920" y="3189240"/>
                  <a:ext cx="831600" cy="952560"/>
                </a:xfrm>
                <a:prstGeom prst="rect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8" name=""/>
                <p:cNvGrpSpPr/>
                <p:nvPr/>
              </p:nvGrpSpPr>
              <p:grpSpPr>
                <a:xfrm>
                  <a:off x="7832880" y="4037040"/>
                  <a:ext cx="391680" cy="424080"/>
                  <a:chOff x="7832880" y="4037040"/>
                  <a:chExt cx="391680" cy="424080"/>
                </a:xfrm>
              </p:grpSpPr>
              <p:sp>
                <p:nvSpPr>
                  <p:cNvPr id="1909" name=""/>
                  <p:cNvSpPr/>
                  <p:nvPr/>
                </p:nvSpPr>
                <p:spPr>
                  <a:xfrm flipH="1">
                    <a:off x="8028720" y="4037040"/>
                    <a:ext cx="1958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8028720" y="4037040"/>
                    <a:ext cx="0" cy="424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 flipH="1">
                    <a:off x="7832880" y="4461120"/>
                    <a:ext cx="1958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12" name=""/>
            <p:cNvSpPr/>
            <p:nvPr/>
          </p:nvSpPr>
          <p:spPr>
            <a:xfrm>
              <a:off x="5028480" y="2133720"/>
              <a:ext cx="18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FP204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1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483680" y="213372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FP204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0.5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3581640" y="48769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-pin, L-pin, C-pin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267800" y="2666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838080" y="2819520"/>
            <a:ext cx="3276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2514240" y="29718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4038480" y="31240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10552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105520" y="2819520"/>
            <a:ext cx="3276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3123720" y="4876920"/>
            <a:ext cx="392400" cy="423720"/>
            <a:chOff x="3123720" y="4876920"/>
            <a:chExt cx="392400" cy="423720"/>
          </a:xfrm>
        </p:grpSpPr>
        <p:sp>
          <p:nvSpPr>
            <p:cNvPr id="1922" name=""/>
            <p:cNvSpPr/>
            <p:nvPr/>
          </p:nvSpPr>
          <p:spPr>
            <a:xfrm flipH="1">
              <a:off x="3319920" y="4876920"/>
              <a:ext cx="19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20280" y="4876920"/>
              <a:ext cx="0" cy="42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3123720" y="5300640"/>
              <a:ext cx="19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5" name=""/>
          <p:cNvGrpSpPr/>
          <p:nvPr/>
        </p:nvGrpSpPr>
        <p:grpSpPr>
          <a:xfrm>
            <a:off x="5562720" y="1657440"/>
            <a:ext cx="3124080" cy="1104840"/>
            <a:chOff x="5562720" y="1657440"/>
            <a:chExt cx="3124080" cy="1104840"/>
          </a:xfrm>
        </p:grpSpPr>
        <p:sp>
          <p:nvSpPr>
            <p:cNvPr id="1926" name=""/>
            <p:cNvSpPr/>
            <p:nvPr/>
          </p:nvSpPr>
          <p:spPr>
            <a:xfrm>
              <a:off x="5562720" y="165744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86600" y="2648160"/>
              <a:ext cx="22824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323400" y="1886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6553080" y="3048120"/>
            <a:ext cx="3124440" cy="1121760"/>
            <a:chOff x="6553080" y="3048120"/>
            <a:chExt cx="3124440" cy="1121760"/>
          </a:xfrm>
        </p:grpSpPr>
        <p:sp>
          <p:nvSpPr>
            <p:cNvPr id="1930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8001000" y="4056120"/>
              <a:ext cx="533160" cy="113760"/>
              <a:chOff x="8001000" y="4056120"/>
              <a:chExt cx="533160" cy="113760"/>
            </a:xfrm>
          </p:grpSpPr>
          <p:sp>
            <p:nvSpPr>
              <p:cNvPr id="1932" name=""/>
              <p:cNvSpPr/>
              <p:nvPr/>
            </p:nvSpPr>
            <p:spPr>
              <a:xfrm>
                <a:off x="800100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30556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1936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1938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1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1943" name=""/>
            <p:cNvSpPr/>
            <p:nvPr/>
          </p:nvSpPr>
          <p:spPr>
            <a:xfrm>
              <a:off x="3390840" y="495288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381560" y="6016320"/>
              <a:ext cx="1143000" cy="114480"/>
              <a:chOff x="4381560" y="6016320"/>
              <a:chExt cx="1143000" cy="114480"/>
            </a:xfrm>
          </p:grpSpPr>
          <p:sp>
            <p:nvSpPr>
              <p:cNvPr id="1945" name=""/>
              <p:cNvSpPr/>
              <p:nvPr/>
            </p:nvSpPr>
            <p:spPr>
              <a:xfrm>
                <a:off x="529596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38156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8648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99104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9" name=""/>
            <p:cNvSpPr/>
            <p:nvPr/>
          </p:nvSpPr>
          <p:spPr>
            <a:xfrm>
              <a:off x="4294800" y="5178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1951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3" name=""/>
          <p:cNvGrpSpPr/>
          <p:nvPr/>
        </p:nvGrpSpPr>
        <p:grpSpPr>
          <a:xfrm>
            <a:off x="228600" y="3048120"/>
            <a:ext cx="3124080" cy="1274400"/>
            <a:chOff x="228600" y="3048120"/>
            <a:chExt cx="3124080" cy="1274400"/>
          </a:xfrm>
        </p:grpSpPr>
        <p:sp>
          <p:nvSpPr>
            <p:cNvPr id="1954" name=""/>
            <p:cNvSpPr/>
            <p:nvPr/>
          </p:nvSpPr>
          <p:spPr>
            <a:xfrm>
              <a:off x="228600" y="3048120"/>
              <a:ext cx="312408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86520" y="32752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1218960" y="4037400"/>
              <a:ext cx="1142640" cy="285120"/>
              <a:chOff x="1218960" y="4037400"/>
              <a:chExt cx="1142640" cy="285120"/>
            </a:xfrm>
          </p:grpSpPr>
          <p:sp>
            <p:nvSpPr>
              <p:cNvPr id="1957" name=""/>
              <p:cNvSpPr/>
              <p:nvPr/>
            </p:nvSpPr>
            <p:spPr>
              <a:xfrm>
                <a:off x="1713960" y="4208400"/>
                <a:ext cx="22824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218960" y="4037400"/>
                <a:ext cx="1142640" cy="113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9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1960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2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1963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6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7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1968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863640" y="4724280"/>
            <a:ext cx="6679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nput models ( In_pos and In_neg ). each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Diodes in gnd-clamp. Resistor in power-c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0" y="4702320"/>
            <a:ext cx="708120" cy="642600"/>
            <a:chOff x="0" y="4702320"/>
            <a:chExt cx="708120" cy="642600"/>
          </a:xfrm>
        </p:grpSpPr>
        <p:grpSp>
          <p:nvGrpSpPr>
            <p:cNvPr id="1973" name=""/>
            <p:cNvGrpSpPr/>
            <p:nvPr/>
          </p:nvGrpSpPr>
          <p:grpSpPr>
            <a:xfrm>
              <a:off x="0" y="4702320"/>
              <a:ext cx="708120" cy="550440"/>
              <a:chOff x="0" y="4702320"/>
              <a:chExt cx="708120" cy="550440"/>
            </a:xfrm>
          </p:grpSpPr>
          <p:sp>
            <p:nvSpPr>
              <p:cNvPr id="1974" name=""/>
              <p:cNvSpPr/>
              <p:nvPr/>
            </p:nvSpPr>
            <p:spPr>
              <a:xfrm>
                <a:off x="0" y="4702320"/>
                <a:ext cx="7081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0560" y="477360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6" name=""/>
            <p:cNvSpPr/>
            <p:nvPr/>
          </p:nvSpPr>
          <p:spPr>
            <a:xfrm>
              <a:off x="171000" y="47023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7" name=""/>
          <p:cNvSpPr/>
          <p:nvPr/>
        </p:nvSpPr>
        <p:spPr>
          <a:xfrm>
            <a:off x="837360" y="5688000"/>
            <a:ext cx="4941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:  Each Vcenter needs new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228600" y="5535720"/>
            <a:ext cx="642600" cy="707760"/>
            <a:chOff x="228600" y="5535720"/>
            <a:chExt cx="642600" cy="707760"/>
          </a:xfrm>
        </p:grpSpPr>
        <p:grpSp>
          <p:nvGrpSpPr>
            <p:cNvPr id="1979" name=""/>
            <p:cNvGrpSpPr/>
            <p:nvPr/>
          </p:nvGrpSpPr>
          <p:grpSpPr>
            <a:xfrm>
              <a:off x="228600" y="5535720"/>
              <a:ext cx="550800" cy="707760"/>
              <a:chOff x="228600" y="5535720"/>
              <a:chExt cx="550800" cy="707760"/>
            </a:xfrm>
          </p:grpSpPr>
          <p:sp>
            <p:nvSpPr>
              <p:cNvPr id="1980" name=""/>
              <p:cNvSpPr/>
              <p:nvPr/>
            </p:nvSpPr>
            <p:spPr>
              <a:xfrm rot="16200000">
                <a:off x="150120" y="5614200"/>
                <a:ext cx="70776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6200000">
                <a:off x="213480" y="567504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2" name=""/>
            <p:cNvSpPr/>
            <p:nvPr/>
          </p:nvSpPr>
          <p:spPr>
            <a:xfrm rot="16200000">
              <a:off x="320040" y="552204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put with three terminal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152640" y="1981080"/>
            <a:ext cx="4476240" cy="2593440"/>
            <a:chOff x="152640" y="1981080"/>
            <a:chExt cx="4476240" cy="2593440"/>
          </a:xfrm>
        </p:grpSpPr>
        <p:sp>
          <p:nvSpPr>
            <p:cNvPr id="1985" name=""/>
            <p:cNvSpPr/>
            <p:nvPr/>
          </p:nvSpPr>
          <p:spPr>
            <a:xfrm>
              <a:off x="534960" y="19810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_p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600200" y="43434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rot="5400000">
              <a:off x="3152160" y="3018960"/>
              <a:ext cx="2438280" cy="514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600200" y="220968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600200" y="32767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486080" y="33526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590920" y="2438280"/>
              <a:ext cx="304560" cy="609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590920" y="3505320"/>
              <a:ext cx="304560" cy="60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74320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676520" y="32767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43200" y="3048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74320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05040" y="4305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705040" y="217188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05040" y="3238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1447920" y="3733920"/>
              <a:ext cx="457200" cy="380880"/>
              <a:chOff x="1447920" y="3733920"/>
              <a:chExt cx="457200" cy="380880"/>
            </a:xfrm>
          </p:grpSpPr>
          <p:sp>
            <p:nvSpPr>
              <p:cNvPr id="2002" name=""/>
              <p:cNvSpPr/>
              <p:nvPr/>
            </p:nvSpPr>
            <p:spPr>
              <a:xfrm>
                <a:off x="1676520" y="37339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447920" y="3962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524240" y="40388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600200" y="41148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6" name=""/>
            <p:cNvSpPr/>
            <p:nvPr/>
          </p:nvSpPr>
          <p:spPr>
            <a:xfrm>
              <a:off x="1638360" y="3238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33160" y="274320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_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34600" y="41148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_ne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52640" y="34290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Vcen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393920" y="3429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972520" y="251460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972520" y="358128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104080" y="1752480"/>
            <a:ext cx="4565880" cy="2515320"/>
            <a:chOff x="5104080" y="1752480"/>
            <a:chExt cx="4565880" cy="2515320"/>
          </a:xfrm>
        </p:grpSpPr>
        <p:sp>
          <p:nvSpPr>
            <p:cNvPr id="2014" name=""/>
            <p:cNvSpPr/>
            <p:nvPr/>
          </p:nvSpPr>
          <p:spPr>
            <a:xfrm>
              <a:off x="5153040" y="2382840"/>
              <a:ext cx="3552840" cy="174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867280" y="2382840"/>
              <a:ext cx="1800" cy="174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829480" y="4132440"/>
              <a:ext cx="37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829480" y="326232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829480" y="2382840"/>
              <a:ext cx="37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53040" y="3262320"/>
              <a:ext cx="3552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5153040" y="3262320"/>
              <a:ext cx="1440" cy="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5867280" y="326232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6572160" y="326232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7286760" y="3262320"/>
              <a:ext cx="1440" cy="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7991640" y="3262320"/>
              <a:ext cx="1440" cy="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8705880" y="3262320"/>
              <a:ext cx="1440" cy="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177880" y="1752480"/>
              <a:ext cx="449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put with 50Ohm to Vcenter (1.2V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21880" y="3962520"/>
              <a:ext cx="47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398920" y="228600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104080" y="336708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543000" y="3367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57240" y="3367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962120" y="3367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550640" y="3657600"/>
              <a:ext cx="886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rot="16200000">
              <a:off x="4866480" y="2582640"/>
              <a:ext cx="88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/mA </a:t>
              </a: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5" name=""/>
            <p:cNvGrpSpPr/>
            <p:nvPr/>
          </p:nvGrpSpPr>
          <p:grpSpPr>
            <a:xfrm>
              <a:off x="5286240" y="2382840"/>
              <a:ext cx="3210120" cy="1749600"/>
              <a:chOff x="5286240" y="2382840"/>
              <a:chExt cx="3210120" cy="1749600"/>
            </a:xfrm>
          </p:grpSpPr>
          <p:sp>
            <p:nvSpPr>
              <p:cNvPr id="2036" name=""/>
              <p:cNvSpPr/>
              <p:nvPr/>
            </p:nvSpPr>
            <p:spPr>
              <a:xfrm flipV="1">
                <a:off x="5286240" y="3606840"/>
                <a:ext cx="9720" cy="5256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5295960" y="3435480"/>
                <a:ext cx="714240" cy="1713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6010200" y="3261960"/>
                <a:ext cx="704880" cy="1731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6715080" y="3080880"/>
                <a:ext cx="714600" cy="181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429680" y="2908440"/>
                <a:ext cx="704520" cy="1728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8134200" y="2382840"/>
                <a:ext cx="39960" cy="5256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8229600" y="2971800"/>
                <a:ext cx="266760" cy="14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3" name=""/>
            <p:cNvSpPr/>
            <p:nvPr/>
          </p:nvSpPr>
          <p:spPr>
            <a:xfrm>
              <a:off x="8533440" y="281952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6543720" y="3257640"/>
              <a:ext cx="1440" cy="3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6172200" y="3886200"/>
            <a:ext cx="297180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29664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GTL with different Vref,Cref,Rref,Vmeas   -1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7" name=""/>
          <p:cNvSpPr/>
          <p:nvPr/>
        </p:nvSpPr>
        <p:spPr>
          <a:xfrm>
            <a:off x="228600" y="1600200"/>
            <a:ext cx="380988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                 Vrefmax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f                 Crefmax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                 Rrefmax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             Vmeasma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up          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down 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 clamp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lamp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181480" y="1600200"/>
            <a:ext cx="411480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              Vrefmi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f               Crefmi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m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           Vmeasm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up         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down    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 clamp  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6072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lamp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590920" y="3886200"/>
            <a:ext cx="640080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f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f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f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f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ef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easma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u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dow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 clam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0000"/>
                <a:tab algn="l" pos="3089160"/>
                <a:tab algn="l" pos="3863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lam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952880" y="160020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28600" y="3886200"/>
            <a:ext cx="937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429280" y="1676520"/>
            <a:ext cx="25297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ed MAX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7308720" y="1676520"/>
            <a:ext cx="24307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ed MIN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20680" y="4114800"/>
            <a:ext cx="2363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IBIS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29664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GTL with different Vref,Cref,Rref,Vmeas   -2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6" name=""/>
          <p:cNvSpPr/>
          <p:nvPr/>
        </p:nvSpPr>
        <p:spPr>
          <a:xfrm>
            <a:off x="152280" y="1676520"/>
            <a:ext cx="31244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ref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f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ref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me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meast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M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ullup       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down  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 clamp 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lamp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yp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200400" y="1676520"/>
            <a:ext cx="335268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mi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ref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fm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refm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me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measm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M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ullu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dow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 clam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lamp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324480" y="1676520"/>
            <a:ext cx="3353040" cy="27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ref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f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re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refma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me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meas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M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ullu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dow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 clamp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600200"/>
                <a:tab algn="l" pos="2286000"/>
                <a:tab algn="l" pos="378144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lamp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    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ax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372320" y="5562720"/>
            <a:ext cx="644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3 models with equal typ-min-max-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330120" y="5537160"/>
            <a:ext cx="708120" cy="642600"/>
            <a:chOff x="330120" y="5537160"/>
            <a:chExt cx="708120" cy="642600"/>
          </a:xfrm>
        </p:grpSpPr>
        <p:grpSp>
          <p:nvGrpSpPr>
            <p:cNvPr id="2061" name=""/>
            <p:cNvGrpSpPr/>
            <p:nvPr/>
          </p:nvGrpSpPr>
          <p:grpSpPr>
            <a:xfrm>
              <a:off x="330120" y="5537160"/>
              <a:ext cx="708120" cy="550800"/>
              <a:chOff x="330120" y="5537160"/>
              <a:chExt cx="708120" cy="550800"/>
            </a:xfrm>
          </p:grpSpPr>
          <p:sp>
            <p:nvSpPr>
              <p:cNvPr id="2062" name=""/>
              <p:cNvSpPr/>
              <p:nvPr/>
            </p:nvSpPr>
            <p:spPr>
              <a:xfrm>
                <a:off x="330120" y="553716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00680" y="560880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4" name=""/>
            <p:cNvSpPr/>
            <p:nvPr/>
          </p:nvSpPr>
          <p:spPr>
            <a:xfrm>
              <a:off x="501120" y="5537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5" name=""/>
          <p:cNvSpPr/>
          <p:nvPr/>
        </p:nvSpPr>
        <p:spPr>
          <a:xfrm>
            <a:off x="632448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12408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"/>
          <p:cNvSpPr/>
          <p:nvPr/>
        </p:nvSpPr>
        <p:spPr>
          <a:xfrm>
            <a:off x="3200400" y="39625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200400" y="3581280"/>
            <a:ext cx="304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200400" y="320040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00400" y="281952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200400" y="2438280"/>
            <a:ext cx="3049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LVDS-models with ramp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3" name=""/>
          <p:cNvSpPr/>
          <p:nvPr/>
        </p:nvSpPr>
        <p:spPr>
          <a:xfrm>
            <a:off x="762120" y="1981080"/>
            <a:ext cx="22874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731880" y="4084560"/>
            <a:ext cx="228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731880" y="3843360"/>
            <a:ext cx="2287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731880" y="3618000"/>
            <a:ext cx="228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31880" y="3392640"/>
            <a:ext cx="228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31880" y="2925720"/>
            <a:ext cx="228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731880" y="2697120"/>
            <a:ext cx="228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731880" y="2471760"/>
            <a:ext cx="228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31880" y="2233440"/>
            <a:ext cx="228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31880" y="4309920"/>
            <a:ext cx="2287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731880" y="2004840"/>
            <a:ext cx="228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1062000" y="2004840"/>
            <a:ext cx="180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714680" y="2004840"/>
            <a:ext cx="144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2367000" y="2004840"/>
            <a:ext cx="144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019320" y="2004840"/>
            <a:ext cx="180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384200" y="2004840"/>
            <a:ext cx="180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036880" y="2004840"/>
            <a:ext cx="144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689200" y="2004840"/>
            <a:ext cx="1440" cy="230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731880" y="2004840"/>
            <a:ext cx="2287440" cy="2305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731880" y="2004840"/>
            <a:ext cx="1440" cy="23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98400" y="4309920"/>
            <a:ext cx="33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98400" y="3164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98400" y="2004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731880" y="3164040"/>
            <a:ext cx="2287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731880" y="316368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1384200" y="316368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2036880" y="316368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V="1">
            <a:off x="2689200" y="316368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731880" y="2195640"/>
            <a:ext cx="330120" cy="968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1062000" y="2169720"/>
            <a:ext cx="32220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384200" y="2170080"/>
            <a:ext cx="1317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515960" y="2170080"/>
            <a:ext cx="1987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1714680" y="2157120"/>
            <a:ext cx="322200" cy="1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2036880" y="2157480"/>
            <a:ext cx="2649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2301840" y="2157480"/>
            <a:ext cx="651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2367000" y="2157480"/>
            <a:ext cx="3222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2689200" y="2157480"/>
            <a:ext cx="1983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351080" y="2004840"/>
            <a:ext cx="33120" cy="2286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384200" y="2233440"/>
            <a:ext cx="131760" cy="93060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515960" y="3164040"/>
            <a:ext cx="165240" cy="114588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731880" y="4146120"/>
            <a:ext cx="330120" cy="1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1062000" y="4134960"/>
            <a:ext cx="322200" cy="11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384200" y="4135320"/>
            <a:ext cx="1317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1515960" y="4122360"/>
            <a:ext cx="198720" cy="1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1714680" y="4109760"/>
            <a:ext cx="322200" cy="12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036880" y="4110120"/>
            <a:ext cx="2649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301840" y="4110120"/>
            <a:ext cx="651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2367000" y="3505320"/>
            <a:ext cx="322200" cy="60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2689200" y="3164040"/>
            <a:ext cx="198360" cy="34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190520" y="2004840"/>
            <a:ext cx="193680" cy="6922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384200" y="2697120"/>
            <a:ext cx="131760" cy="46692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515960" y="3164040"/>
            <a:ext cx="198720" cy="67932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714680" y="3843360"/>
            <a:ext cx="129960" cy="46656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455760" y="4038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89680" y="30639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32440" y="19051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9" name=""/>
          <p:cNvGrpSpPr/>
          <p:nvPr/>
        </p:nvGrpSpPr>
        <p:grpSpPr>
          <a:xfrm>
            <a:off x="1275120" y="3182760"/>
            <a:ext cx="1435320" cy="305280"/>
            <a:chOff x="1275120" y="3182760"/>
            <a:chExt cx="1435320" cy="305280"/>
          </a:xfrm>
        </p:grpSpPr>
        <p:sp>
          <p:nvSpPr>
            <p:cNvPr id="2130" name=""/>
            <p:cNvSpPr/>
            <p:nvPr/>
          </p:nvSpPr>
          <p:spPr>
            <a:xfrm>
              <a:off x="1275120" y="31827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7800" y="31827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581560" y="31827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1687320" y="4486320"/>
            <a:ext cx="115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/ Vol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rot="16200000">
            <a:off x="-111240" y="2677320"/>
            <a:ext cx="985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/ m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3225960" y="2479680"/>
            <a:ext cx="231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504240" y="2362320"/>
            <a:ext cx="38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3225960" y="2881440"/>
            <a:ext cx="231480" cy="14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518640" y="2681280"/>
            <a:ext cx="142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Ohm-1p2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225960" y="3282840"/>
            <a:ext cx="231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503160" y="3124080"/>
            <a:ext cx="45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225960" y="3684600"/>
            <a:ext cx="231480" cy="1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493080" y="3454560"/>
            <a:ext cx="155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Ohm-1p2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"/>
          <p:cNvGrpSpPr/>
          <p:nvPr/>
        </p:nvGrpSpPr>
        <p:grpSpPr>
          <a:xfrm>
            <a:off x="2665440" y="1676520"/>
            <a:ext cx="329760" cy="2304720"/>
            <a:chOff x="2665440" y="1676520"/>
            <a:chExt cx="329760" cy="2304720"/>
          </a:xfrm>
        </p:grpSpPr>
        <p:sp>
          <p:nvSpPr>
            <p:cNvPr id="2144" name=""/>
            <p:cNvSpPr/>
            <p:nvPr/>
          </p:nvSpPr>
          <p:spPr>
            <a:xfrm>
              <a:off x="2665440" y="1676520"/>
              <a:ext cx="32760" cy="227880"/>
            </a:xfrm>
            <a:prstGeom prst="line">
              <a:avLst/>
            </a:prstGeom>
            <a:ln cap="rnd" w="5724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698200" y="1904400"/>
              <a:ext cx="132120" cy="930240"/>
            </a:xfrm>
            <a:prstGeom prst="line">
              <a:avLst/>
            </a:prstGeom>
            <a:ln cap="rnd" w="5724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30320" y="2835000"/>
              <a:ext cx="164880" cy="1146240"/>
            </a:xfrm>
            <a:prstGeom prst="line">
              <a:avLst/>
            </a:prstGeom>
            <a:ln cap="rnd" w="5724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615960" y="2279520"/>
            <a:ext cx="329760" cy="2304720"/>
            <a:chOff x="615960" y="2279520"/>
            <a:chExt cx="329760" cy="2304720"/>
          </a:xfrm>
        </p:grpSpPr>
        <p:sp>
          <p:nvSpPr>
            <p:cNvPr id="2148" name=""/>
            <p:cNvSpPr/>
            <p:nvPr/>
          </p:nvSpPr>
          <p:spPr>
            <a:xfrm>
              <a:off x="615960" y="2279520"/>
              <a:ext cx="32760" cy="227880"/>
            </a:xfrm>
            <a:prstGeom prst="line">
              <a:avLst/>
            </a:prstGeom>
            <a:ln cap="rnd" w="5724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48720" y="2507400"/>
              <a:ext cx="132120" cy="930240"/>
            </a:xfrm>
            <a:prstGeom prst="line">
              <a:avLst/>
            </a:prstGeom>
            <a:ln cap="rnd" w="5724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80840" y="3438000"/>
              <a:ext cx="164880" cy="1146240"/>
            </a:xfrm>
            <a:prstGeom prst="line">
              <a:avLst/>
            </a:prstGeom>
            <a:ln cap="rnd" w="5724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3276720" y="4038480"/>
            <a:ext cx="231480" cy="3240"/>
          </a:xfrm>
          <a:prstGeom prst="line">
            <a:avLst/>
          </a:prstGeom>
          <a:ln cap="rnd" w="2844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454560" y="3886200"/>
            <a:ext cx="2041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Ohm GND/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252040" y="174132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mp defaults to gnd / vc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325480" y="2335320"/>
            <a:ext cx="35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mple rising falling wave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005600" y="2895480"/>
            <a:ext cx="222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ising Wavefo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-Fixture = 1.2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-Fixture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0n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.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8n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.4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alling Wavefo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-Fixture = 1.2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-Fixture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0n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.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8n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.0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990360" y="5562720"/>
            <a:ext cx="483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Always create a waveform for LV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152280" y="5486400"/>
            <a:ext cx="708120" cy="642600"/>
            <a:chOff x="152280" y="5486400"/>
            <a:chExt cx="708120" cy="642600"/>
          </a:xfrm>
        </p:grpSpPr>
        <p:grpSp>
          <p:nvGrpSpPr>
            <p:cNvPr id="2158" name=""/>
            <p:cNvGrpSpPr/>
            <p:nvPr/>
          </p:nvGrpSpPr>
          <p:grpSpPr>
            <a:xfrm>
              <a:off x="152280" y="5486400"/>
              <a:ext cx="708120" cy="550800"/>
              <a:chOff x="152280" y="5486400"/>
              <a:chExt cx="708120" cy="550800"/>
            </a:xfrm>
          </p:grpSpPr>
          <p:sp>
            <p:nvSpPr>
              <p:cNvPr id="2159" name=""/>
              <p:cNvSpPr/>
              <p:nvPr/>
            </p:nvSpPr>
            <p:spPr>
              <a:xfrm>
                <a:off x="152280" y="548640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22840" y="555804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>
              <a:off x="323280" y="54864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"/>
          <p:cNvGrpSpPr/>
          <p:nvPr/>
        </p:nvGrpSpPr>
        <p:grpSpPr>
          <a:xfrm>
            <a:off x="5562720" y="1657440"/>
            <a:ext cx="3124080" cy="1104840"/>
            <a:chOff x="5562720" y="1657440"/>
            <a:chExt cx="3124080" cy="1104840"/>
          </a:xfrm>
        </p:grpSpPr>
        <p:sp>
          <p:nvSpPr>
            <p:cNvPr id="2163" name=""/>
            <p:cNvSpPr/>
            <p:nvPr/>
          </p:nvSpPr>
          <p:spPr>
            <a:xfrm>
              <a:off x="5562720" y="165744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086600" y="2648160"/>
              <a:ext cx="22824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323400" y="1886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6553080" y="3048120"/>
            <a:ext cx="3124440" cy="1121760"/>
            <a:chOff x="6553080" y="3048120"/>
            <a:chExt cx="3124440" cy="1121760"/>
          </a:xfrm>
        </p:grpSpPr>
        <p:sp>
          <p:nvSpPr>
            <p:cNvPr id="2167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8" name=""/>
            <p:cNvGrpSpPr/>
            <p:nvPr/>
          </p:nvGrpSpPr>
          <p:grpSpPr>
            <a:xfrm>
              <a:off x="8001000" y="4056120"/>
              <a:ext cx="533160" cy="113760"/>
              <a:chOff x="8001000" y="4056120"/>
              <a:chExt cx="533160" cy="113760"/>
            </a:xfrm>
          </p:grpSpPr>
          <p:sp>
            <p:nvSpPr>
              <p:cNvPr id="2169" name=""/>
              <p:cNvSpPr/>
              <p:nvPr/>
            </p:nvSpPr>
            <p:spPr>
              <a:xfrm>
                <a:off x="800100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30556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1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2173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2175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8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9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2180" name=""/>
            <p:cNvSpPr/>
            <p:nvPr/>
          </p:nvSpPr>
          <p:spPr>
            <a:xfrm>
              <a:off x="3390840" y="495288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1" name=""/>
            <p:cNvGrpSpPr/>
            <p:nvPr/>
          </p:nvGrpSpPr>
          <p:grpSpPr>
            <a:xfrm>
              <a:off x="4381560" y="6016320"/>
              <a:ext cx="1143000" cy="114480"/>
              <a:chOff x="4381560" y="6016320"/>
              <a:chExt cx="1143000" cy="114480"/>
            </a:xfrm>
          </p:grpSpPr>
          <p:sp>
            <p:nvSpPr>
              <p:cNvPr id="2182" name=""/>
              <p:cNvSpPr/>
              <p:nvPr/>
            </p:nvSpPr>
            <p:spPr>
              <a:xfrm>
                <a:off x="529596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38156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68648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9104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4294800" y="5178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2188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228600" y="3048120"/>
            <a:ext cx="3124080" cy="1274760"/>
            <a:chOff x="228600" y="3048120"/>
            <a:chExt cx="3124080" cy="1274760"/>
          </a:xfrm>
        </p:grpSpPr>
        <p:sp>
          <p:nvSpPr>
            <p:cNvPr id="2191" name=""/>
            <p:cNvSpPr/>
            <p:nvPr/>
          </p:nvSpPr>
          <p:spPr>
            <a:xfrm>
              <a:off x="228600" y="3048120"/>
              <a:ext cx="3124080" cy="9111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86880" y="327492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3" name=""/>
            <p:cNvGrpSpPr/>
            <p:nvPr/>
          </p:nvGrpSpPr>
          <p:grpSpPr>
            <a:xfrm>
              <a:off x="1219320" y="4037040"/>
              <a:ext cx="1143000" cy="285840"/>
              <a:chOff x="1219320" y="4037040"/>
              <a:chExt cx="1143000" cy="285840"/>
            </a:xfrm>
          </p:grpSpPr>
          <p:sp>
            <p:nvSpPr>
              <p:cNvPr id="2194" name=""/>
              <p:cNvSpPr/>
              <p:nvPr/>
            </p:nvSpPr>
            <p:spPr>
              <a:xfrm>
                <a:off x="1714680" y="4208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219320" y="4037040"/>
                <a:ext cx="1143000" cy="114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6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2197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2200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2201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3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4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2205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models to look fo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9" name=""/>
          <p:cNvSpPr/>
          <p:nvPr/>
        </p:nvSpPr>
        <p:spPr>
          <a:xfrm>
            <a:off x="989640" y="5638680"/>
            <a:ext cx="3248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databook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152280" y="5562720"/>
            <a:ext cx="708120" cy="642600"/>
            <a:chOff x="152280" y="5562720"/>
            <a:chExt cx="708120" cy="642600"/>
          </a:xfrm>
        </p:grpSpPr>
        <p:grpSp>
          <p:nvGrpSpPr>
            <p:cNvPr id="2211" name=""/>
            <p:cNvGrpSpPr/>
            <p:nvPr/>
          </p:nvGrpSpPr>
          <p:grpSpPr>
            <a:xfrm>
              <a:off x="152280" y="5562720"/>
              <a:ext cx="708120" cy="550440"/>
              <a:chOff x="152280" y="5562720"/>
              <a:chExt cx="708120" cy="550440"/>
            </a:xfrm>
          </p:grpSpPr>
          <p:sp>
            <p:nvSpPr>
              <p:cNvPr id="2212" name=""/>
              <p:cNvSpPr/>
              <p:nvPr/>
            </p:nvSpPr>
            <p:spPr>
              <a:xfrm>
                <a:off x="152280" y="5562720"/>
                <a:ext cx="7081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22840" y="563400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4" name=""/>
            <p:cNvSpPr/>
            <p:nvPr/>
          </p:nvSpPr>
          <p:spPr>
            <a:xfrm>
              <a:off x="323280" y="55627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5" name=""/>
          <p:cNvSpPr/>
          <p:nvPr/>
        </p:nvSpPr>
        <p:spPr>
          <a:xfrm>
            <a:off x="381960" y="15238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ook at dc-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07520" y="44514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ook elsewhere in the data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729720" y="45766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84480" y="17794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H     2.4V    IoH   -4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384480" y="21985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H     2.4V    IoH   -4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H     2.4V    IoH   -8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485680" y="17794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Output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486040" y="223992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Output-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05360" y="475776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sheet page 348  foot-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 Ready-Busy is an Open-dra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419720" y="2362320"/>
            <a:ext cx="1041120" cy="191880"/>
          </a:xfrm>
          <a:custGeom>
            <a:avLst/>
            <a:gdLst>
              <a:gd name="textAreaLeft" fmla="*/ 162720 w 1041120"/>
              <a:gd name="textAreaRight" fmla="*/ 911160 w 1041120"/>
              <a:gd name="textAreaTop" fmla="*/ 47880 h 191880"/>
              <a:gd name="textAreaBottom" fmla="*/ 144000 h 191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382320" y="305928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n   -10uA      +10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485680" y="30592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Input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5484960" y="3365640"/>
            <a:ext cx="23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Input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In-model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485320" y="3981600"/>
            <a:ext cx="27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Input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In-model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In-model pull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382320" y="33656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n   -150uA    +10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82320" y="398160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in   -150uA    +150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952880" y="4114800"/>
            <a:ext cx="507960" cy="190440"/>
          </a:xfrm>
          <a:custGeom>
            <a:avLst/>
            <a:gdLst>
              <a:gd name="textAreaLeft" fmla="*/ 79200 w 507960"/>
              <a:gd name="textAreaRight" fmla="*/ 444600 w 50796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952880" y="3486240"/>
            <a:ext cx="507960" cy="190440"/>
          </a:xfrm>
          <a:custGeom>
            <a:avLst/>
            <a:gdLst>
              <a:gd name="textAreaLeft" fmla="*/ 79200 w 507960"/>
              <a:gd name="textAreaRight" fmla="*/ 444600 w 50796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419720" y="3200400"/>
            <a:ext cx="1041120" cy="192240"/>
          </a:xfrm>
          <a:custGeom>
            <a:avLst/>
            <a:gdLst>
              <a:gd name="textAreaLeft" fmla="*/ 162720 w 1041120"/>
              <a:gd name="textAreaRight" fmla="*/ 911160 w 1041120"/>
              <a:gd name="textAreaTop" fmla="*/ 47880 h 192240"/>
              <a:gd name="textAreaBottom" fmla="*/ 144360 h 192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952880" y="3809880"/>
            <a:ext cx="507960" cy="190800"/>
          </a:xfrm>
          <a:custGeom>
            <a:avLst/>
            <a:gdLst>
              <a:gd name="textAreaLeft" fmla="*/ 79200 w 507960"/>
              <a:gd name="textAreaRight" fmla="*/ 444600 w 507960"/>
              <a:gd name="textAreaTop" fmla="*/ 47520 h 190800"/>
              <a:gd name="textAreaBottom" fmla="*/ 143280 h 19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952880" y="4876920"/>
            <a:ext cx="507960" cy="190440"/>
          </a:xfrm>
          <a:custGeom>
            <a:avLst/>
            <a:gdLst>
              <a:gd name="textAreaLeft" fmla="*/ 79200 w 507960"/>
              <a:gd name="textAreaRight" fmla="*/ 444600 w 50796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4952880" y="4495680"/>
            <a:ext cx="507960" cy="190800"/>
          </a:xfrm>
          <a:custGeom>
            <a:avLst/>
            <a:gdLst>
              <a:gd name="textAreaLeft" fmla="*/ 79200 w 507960"/>
              <a:gd name="textAreaRight" fmla="*/ 444600 w 507960"/>
              <a:gd name="textAreaTop" fmla="*/ 47520 h 190800"/>
              <a:gd name="textAreaBottom" fmla="*/ 143280 h 19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4421160" y="3505320"/>
            <a:ext cx="531000" cy="456840"/>
            <a:chOff x="4421160" y="3505320"/>
            <a:chExt cx="531000" cy="456840"/>
          </a:xfrm>
        </p:grpSpPr>
        <p:sp>
          <p:nvSpPr>
            <p:cNvPr id="2237" name=""/>
            <p:cNvSpPr/>
            <p:nvPr/>
          </p:nvSpPr>
          <p:spPr>
            <a:xfrm>
              <a:off x="4421160" y="3505320"/>
              <a:ext cx="457200" cy="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rot="16200000">
              <a:off x="4686120" y="3696480"/>
              <a:ext cx="45684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4419720" y="4191120"/>
            <a:ext cx="532080" cy="837720"/>
            <a:chOff x="4419720" y="4191120"/>
            <a:chExt cx="532080" cy="837720"/>
          </a:xfrm>
        </p:grpSpPr>
        <p:sp>
          <p:nvSpPr>
            <p:cNvPr id="2240" name=""/>
            <p:cNvSpPr/>
            <p:nvPr/>
          </p:nvSpPr>
          <p:spPr>
            <a:xfrm>
              <a:off x="4419720" y="4191120"/>
              <a:ext cx="456840" cy="9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 rot="16200000">
              <a:off x="4494600" y="4572000"/>
              <a:ext cx="83772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4432320" y="1905120"/>
            <a:ext cx="1041480" cy="191880"/>
          </a:xfrm>
          <a:custGeom>
            <a:avLst/>
            <a:gdLst>
              <a:gd name="textAreaLeft" fmla="*/ 162720 w 1041480"/>
              <a:gd name="textAreaRight" fmla="*/ 911520 w 1041480"/>
              <a:gd name="textAreaTop" fmla="*/ 47880 h 191880"/>
              <a:gd name="textAreaBottom" fmla="*/ 144000 h 191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7010280" y="266688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7010280" y="304812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7010280" y="350532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52280" y="510552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52280" y="472428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2133720" y="510552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133720" y="472428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133720" y="388620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152280" y="3886200"/>
            <a:ext cx="1600200" cy="457200"/>
          </a:xfrm>
          <a:prstGeom prst="ellipse">
            <a:avLst/>
          </a:prstGeom>
          <a:solidFill>
            <a:srgbClr val="99cc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52280" y="3429000"/>
            <a:ext cx="1600200" cy="457200"/>
          </a:xfrm>
          <a:prstGeom prst="ellipse">
            <a:avLst/>
          </a:prstGeom>
          <a:solidFill>
            <a:srgbClr val="99cc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209680" y="3429000"/>
            <a:ext cx="1600200" cy="457200"/>
          </a:xfrm>
          <a:prstGeom prst="ellipse">
            <a:avLst/>
          </a:prstGeom>
          <a:solidFill>
            <a:srgbClr val="99cc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2209680" y="2209680"/>
            <a:ext cx="1600200" cy="457200"/>
          </a:xfrm>
          <a:prstGeom prst="ellipse">
            <a:avLst/>
          </a:prstGeom>
          <a:solidFill>
            <a:srgbClr val="99cc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ss or more models than databook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6" name=""/>
          <p:cNvSpPr/>
          <p:nvPr/>
        </p:nvSpPr>
        <p:spPr>
          <a:xfrm>
            <a:off x="152280" y="2209680"/>
            <a:ext cx="1600200" cy="457200"/>
          </a:xfrm>
          <a:prstGeom prst="ellipse">
            <a:avLst/>
          </a:prstGeom>
          <a:solidFill>
            <a:srgbClr val="99cccc"/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304920" y="1676520"/>
            <a:ext cx="3959280" cy="3888000"/>
            <a:chOff x="304920" y="1676520"/>
            <a:chExt cx="3959280" cy="3888000"/>
          </a:xfrm>
        </p:grpSpPr>
        <p:grpSp>
          <p:nvGrpSpPr>
            <p:cNvPr id="2258" name=""/>
            <p:cNvGrpSpPr/>
            <p:nvPr/>
          </p:nvGrpSpPr>
          <p:grpSpPr>
            <a:xfrm>
              <a:off x="304920" y="2168640"/>
              <a:ext cx="3959280" cy="3395880"/>
              <a:chOff x="304920" y="2168640"/>
              <a:chExt cx="3959280" cy="339588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2522520" y="2260440"/>
                <a:ext cx="1661760" cy="3304080"/>
                <a:chOff x="2522520" y="2260440"/>
                <a:chExt cx="1661760" cy="330408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2522520" y="3090960"/>
                  <a:ext cx="110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-2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522520" y="3504960"/>
                  <a:ext cx="134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-1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522520" y="3920040"/>
                  <a:ext cx="110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522520" y="4335840"/>
                  <a:ext cx="16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-1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522520" y="4749120"/>
                  <a:ext cx="110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1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522520" y="5165640"/>
                  <a:ext cx="110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1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522520" y="2675160"/>
                  <a:ext cx="110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-1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2522520" y="2260440"/>
                  <a:ext cx="110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-1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8" name=""/>
              <p:cNvGrpSpPr/>
              <p:nvPr/>
            </p:nvGrpSpPr>
            <p:grpSpPr>
              <a:xfrm>
                <a:off x="304920" y="2168640"/>
                <a:ext cx="2217600" cy="3394440"/>
                <a:chOff x="304920" y="2168640"/>
                <a:chExt cx="2217600" cy="3394440"/>
              </a:xfrm>
            </p:grpSpPr>
            <p:grpSp>
              <p:nvGrpSpPr>
                <p:cNvPr id="2269" name=""/>
                <p:cNvGrpSpPr/>
                <p:nvPr/>
              </p:nvGrpSpPr>
              <p:grpSpPr>
                <a:xfrm>
                  <a:off x="304920" y="2260440"/>
                  <a:ext cx="1504800" cy="3225960"/>
                  <a:chOff x="304920" y="2260440"/>
                  <a:chExt cx="1504800" cy="3225960"/>
                </a:xfrm>
              </p:grpSpPr>
              <p:sp>
                <p:nvSpPr>
                  <p:cNvPr id="2270" name=""/>
                  <p:cNvSpPr/>
                  <p:nvPr/>
                </p:nvSpPr>
                <p:spPr>
                  <a:xfrm>
                    <a:off x="304920" y="3505320"/>
                    <a:ext cx="1504800" cy="32220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304920" y="3090960"/>
                    <a:ext cx="1504800" cy="32220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304920" y="2674800"/>
                    <a:ext cx="1504800" cy="32256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304920" y="2260440"/>
                    <a:ext cx="1504800" cy="32256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304920" y="3919680"/>
                    <a:ext cx="1504800" cy="32220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304920" y="4334040"/>
                    <a:ext cx="1504800" cy="32220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304920" y="4749840"/>
                    <a:ext cx="1504800" cy="32220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304920" y="5164200"/>
                    <a:ext cx="1504800" cy="322200"/>
                  </a:xfrm>
                  <a:prstGeom prst="rect">
                    <a:avLst/>
                  </a:prstGeom>
                  <a:solidFill>
                    <a:srgbClr val="66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8" name=""/>
                <p:cNvGrpSpPr/>
                <p:nvPr/>
              </p:nvGrpSpPr>
              <p:grpSpPr>
                <a:xfrm>
                  <a:off x="304920" y="2260440"/>
                  <a:ext cx="2217600" cy="3302640"/>
                  <a:chOff x="304920" y="2260440"/>
                  <a:chExt cx="2217600" cy="330264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>
                    <a:off x="304920" y="3090960"/>
                    <a:ext cx="1477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put-2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304920" y="3505320"/>
                    <a:ext cx="1795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put  PU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304920" y="3919680"/>
                    <a:ext cx="1665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O-1 (2mA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304920" y="4335480"/>
                    <a:ext cx="22176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pen drain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304920" y="4749840"/>
                    <a:ext cx="1665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O-2 (4mA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304920" y="5164200"/>
                    <a:ext cx="1665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O-3 (6mA)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304920" y="2674800"/>
                    <a:ext cx="1477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put-1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304920" y="2260440"/>
                    <a:ext cx="14778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put-1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7" name=""/>
                <p:cNvSpPr/>
                <p:nvPr/>
              </p:nvSpPr>
              <p:spPr>
                <a:xfrm>
                  <a:off x="1809720" y="2168640"/>
                  <a:ext cx="0" cy="33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8" name=""/>
              <p:cNvSpPr/>
              <p:nvPr/>
            </p:nvSpPr>
            <p:spPr>
              <a:xfrm>
                <a:off x="1809720" y="5487840"/>
                <a:ext cx="213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809720" y="2168640"/>
                <a:ext cx="213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762360" y="2168640"/>
                <a:ext cx="501840" cy="3319200"/>
              </a:xfrm>
              <a:custGeom>
                <a:avLst/>
                <a:gdLst/>
                <a:ahLst/>
                <a:rect l="l" t="t" r="r" b="b"/>
                <a:pathLst>
                  <a:path w="464" h="3456">
                    <a:moveTo>
                      <a:pt x="112" y="3456"/>
                    </a:moveTo>
                    <a:cubicBezTo>
                      <a:pt x="288" y="3156"/>
                      <a:pt x="464" y="2856"/>
                      <a:pt x="448" y="2496"/>
                    </a:cubicBezTo>
                    <a:cubicBezTo>
                      <a:pt x="432" y="2136"/>
                      <a:pt x="32" y="1600"/>
                      <a:pt x="16" y="1296"/>
                    </a:cubicBezTo>
                    <a:cubicBezTo>
                      <a:pt x="0" y="992"/>
                      <a:pt x="336" y="888"/>
                      <a:pt x="352" y="672"/>
                    </a:cubicBezTo>
                    <a:cubicBezTo>
                      <a:pt x="368" y="456"/>
                      <a:pt x="152" y="112"/>
                      <a:pt x="1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1" name=""/>
            <p:cNvSpPr/>
            <p:nvPr/>
          </p:nvSpPr>
          <p:spPr>
            <a:xfrm>
              <a:off x="457200" y="1676520"/>
              <a:ext cx="11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514600" y="1676520"/>
              <a:ext cx="11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5005440" y="1676520"/>
            <a:ext cx="4138200" cy="2227680"/>
            <a:chOff x="5005440" y="1676520"/>
            <a:chExt cx="4138200" cy="2227680"/>
          </a:xfrm>
        </p:grpSpPr>
        <p:grpSp>
          <p:nvGrpSpPr>
            <p:cNvPr id="2294" name=""/>
            <p:cNvGrpSpPr/>
            <p:nvPr/>
          </p:nvGrpSpPr>
          <p:grpSpPr>
            <a:xfrm>
              <a:off x="5005440" y="2168640"/>
              <a:ext cx="4138200" cy="1735560"/>
              <a:chOff x="5005440" y="2168640"/>
              <a:chExt cx="4138200" cy="1735560"/>
            </a:xfrm>
          </p:grpSpPr>
          <p:grpSp>
            <p:nvGrpSpPr>
              <p:cNvPr id="2295" name=""/>
              <p:cNvGrpSpPr/>
              <p:nvPr/>
            </p:nvGrpSpPr>
            <p:grpSpPr>
              <a:xfrm>
                <a:off x="5005440" y="2168640"/>
                <a:ext cx="1803240" cy="1735560"/>
                <a:chOff x="5005440" y="2168640"/>
                <a:chExt cx="1803240" cy="1735560"/>
              </a:xfrm>
            </p:grpSpPr>
            <p:sp>
              <p:nvSpPr>
                <p:cNvPr id="2296" name=""/>
                <p:cNvSpPr/>
                <p:nvPr/>
              </p:nvSpPr>
              <p:spPr>
                <a:xfrm>
                  <a:off x="5005440" y="3505320"/>
                  <a:ext cx="1511280" cy="30456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005440" y="3090960"/>
                  <a:ext cx="1511280" cy="30456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005440" y="2674800"/>
                  <a:ext cx="1511280" cy="30636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005440" y="2260440"/>
                  <a:ext cx="1511280" cy="304920"/>
                </a:xfrm>
                <a:prstGeom prst="rect">
                  <a:avLst/>
                </a:prstGeom>
                <a:solidFill>
                  <a:srgbClr val="66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005440" y="3090960"/>
                  <a:ext cx="14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4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005440" y="3505320"/>
                  <a:ext cx="180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4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05440" y="2674800"/>
                  <a:ext cx="14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4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5440" y="2260440"/>
                  <a:ext cx="148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-1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516720" y="2168640"/>
                  <a:ext cx="0" cy="165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5" name=""/>
              <p:cNvSpPr/>
              <p:nvPr/>
            </p:nvSpPr>
            <p:spPr>
              <a:xfrm>
                <a:off x="6518160" y="3827520"/>
                <a:ext cx="21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518160" y="2168640"/>
                <a:ext cx="21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7" name=""/>
              <p:cNvGrpSpPr/>
              <p:nvPr/>
            </p:nvGrpSpPr>
            <p:grpSpPr>
              <a:xfrm>
                <a:off x="7234200" y="2168640"/>
                <a:ext cx="1909440" cy="1735560"/>
                <a:chOff x="7234200" y="2168640"/>
                <a:chExt cx="1909440" cy="173556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7234200" y="3091320"/>
                  <a:ext cx="151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5 (4mA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7234200" y="3505320"/>
                  <a:ext cx="190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6 (6mA)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7234200" y="2675520"/>
                  <a:ext cx="167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-4 (2mA)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7234200" y="2260440"/>
                  <a:ext cx="111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-1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8427600" y="2168640"/>
                  <a:ext cx="556920" cy="1659600"/>
                </a:xfrm>
                <a:custGeom>
                  <a:avLst/>
                  <a:gdLst/>
                  <a:ahLst/>
                  <a:rect l="l" t="t" r="r" b="b"/>
                  <a:pathLst>
                    <a:path w="464" h="3456">
                      <a:moveTo>
                        <a:pt x="112" y="3456"/>
                      </a:moveTo>
                      <a:cubicBezTo>
                        <a:pt x="288" y="3156"/>
                        <a:pt x="464" y="2856"/>
                        <a:pt x="448" y="2496"/>
                      </a:cubicBezTo>
                      <a:cubicBezTo>
                        <a:pt x="432" y="2136"/>
                        <a:pt x="32" y="1600"/>
                        <a:pt x="16" y="1296"/>
                      </a:cubicBezTo>
                      <a:cubicBezTo>
                        <a:pt x="0" y="992"/>
                        <a:pt x="336" y="888"/>
                        <a:pt x="352" y="672"/>
                      </a:cubicBezTo>
                      <a:cubicBezTo>
                        <a:pt x="368" y="456"/>
                        <a:pt x="152" y="112"/>
                        <a:pt x="112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3" name=""/>
            <p:cNvSpPr/>
            <p:nvPr/>
          </p:nvSpPr>
          <p:spPr>
            <a:xfrm>
              <a:off x="5029200" y="16765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086600" y="16765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BIS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941760" y="5638680"/>
            <a:ext cx="4012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vendor and/or try to 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6" name=""/>
          <p:cNvGrpSpPr/>
          <p:nvPr/>
        </p:nvGrpSpPr>
        <p:grpSpPr>
          <a:xfrm>
            <a:off x="181080" y="5562720"/>
            <a:ext cx="707760" cy="642600"/>
            <a:chOff x="181080" y="5562720"/>
            <a:chExt cx="707760" cy="642600"/>
          </a:xfrm>
        </p:grpSpPr>
        <p:grpSp>
          <p:nvGrpSpPr>
            <p:cNvPr id="2317" name=""/>
            <p:cNvGrpSpPr/>
            <p:nvPr/>
          </p:nvGrpSpPr>
          <p:grpSpPr>
            <a:xfrm>
              <a:off x="181080" y="5562720"/>
              <a:ext cx="707760" cy="550440"/>
              <a:chOff x="181080" y="5562720"/>
              <a:chExt cx="707760" cy="550440"/>
            </a:xfrm>
          </p:grpSpPr>
          <p:sp>
            <p:nvSpPr>
              <p:cNvPr id="2318" name=""/>
              <p:cNvSpPr/>
              <p:nvPr/>
            </p:nvSpPr>
            <p:spPr>
              <a:xfrm>
                <a:off x="181080" y="5562720"/>
                <a:ext cx="70776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51640" y="563400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>
              <a:off x="351360" y="55627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1" name=""/>
          <p:cNvSpPr/>
          <p:nvPr/>
        </p:nvSpPr>
        <p:spPr>
          <a:xfrm>
            <a:off x="6170400" y="4191120"/>
            <a:ext cx="2826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eliver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2" name=""/>
          <p:cNvGrpSpPr/>
          <p:nvPr/>
        </p:nvGrpSpPr>
        <p:grpSpPr>
          <a:xfrm>
            <a:off x="5410080" y="4114800"/>
            <a:ext cx="708120" cy="642600"/>
            <a:chOff x="5410080" y="4114800"/>
            <a:chExt cx="708120" cy="642600"/>
          </a:xfrm>
        </p:grpSpPr>
        <p:grpSp>
          <p:nvGrpSpPr>
            <p:cNvPr id="2323" name=""/>
            <p:cNvGrpSpPr/>
            <p:nvPr/>
          </p:nvGrpSpPr>
          <p:grpSpPr>
            <a:xfrm>
              <a:off x="5410080" y="4114800"/>
              <a:ext cx="708120" cy="550800"/>
              <a:chOff x="5410080" y="4114800"/>
              <a:chExt cx="708120" cy="550800"/>
            </a:xfrm>
          </p:grpSpPr>
          <p:sp>
            <p:nvSpPr>
              <p:cNvPr id="2324" name=""/>
              <p:cNvSpPr/>
              <p:nvPr/>
            </p:nvSpPr>
            <p:spPr>
              <a:xfrm>
                <a:off x="5410080" y="411480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480640" y="418644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6" name=""/>
            <p:cNvSpPr/>
            <p:nvPr/>
          </p:nvSpPr>
          <p:spPr>
            <a:xfrm>
              <a:off x="5581080" y="41148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put capacitan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8" name=""/>
          <p:cNvSpPr/>
          <p:nvPr/>
        </p:nvSpPr>
        <p:spPr>
          <a:xfrm>
            <a:off x="511200" y="2606760"/>
            <a:ext cx="480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131840" y="2606760"/>
            <a:ext cx="3859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5130720" y="2606760"/>
            <a:ext cx="3857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3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131840" y="2955960"/>
            <a:ext cx="1193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2465280" y="295596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797280" y="2955960"/>
            <a:ext cx="1193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5130720" y="295596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6462720" y="2955960"/>
            <a:ext cx="1193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796160" y="295596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11200" y="3305160"/>
            <a:ext cx="480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131840" y="3305160"/>
            <a:ext cx="1193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2465280" y="330516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3797280" y="3305160"/>
            <a:ext cx="1193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130720" y="330516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7796160" y="330516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228600" y="218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capacitance at differ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28600" y="533412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odels with the same V-I-characteristics. difference is C_co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80880" y="1600200"/>
            <a:ext cx="43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=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_comp + C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80880" y="18255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ack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28600" y="573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s 1.75pF worth a new mod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228600" y="3684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capacitance by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185840" y="4152960"/>
            <a:ext cx="727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2166840" y="4152960"/>
            <a:ext cx="2895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316480" y="4152960"/>
            <a:ext cx="2895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166840" y="4584600"/>
            <a:ext cx="2895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316480" y="4584600"/>
            <a:ext cx="289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185840" y="4919760"/>
            <a:ext cx="727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2166840" y="4919760"/>
            <a:ext cx="2895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5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5316480" y="4919760"/>
            <a:ext cx="2895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676520"/>
            <a:ext cx="4191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CN MTC 6     Model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3720" y="2209680"/>
            <a:ext cx="383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avioral models since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" y="5105520"/>
            <a:ext cx="64112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brary with about 1500 different models ( of IO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400" y="5638680"/>
            <a:ext cx="8357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s for new technologies        ( LVDS , CAN , PCML , PEC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5160" y="2743200"/>
            <a:ext cx="222336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-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H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Data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M- modul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8" name=""/>
          <p:cNvSpPr/>
          <p:nvPr/>
        </p:nvSpPr>
        <p:spPr>
          <a:xfrm>
            <a:off x="1298520" y="5715000"/>
            <a:ext cx="394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F is worth a ne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147600" y="5624640"/>
            <a:ext cx="708120" cy="642600"/>
            <a:chOff x="147600" y="5624640"/>
            <a:chExt cx="708120" cy="642600"/>
          </a:xfrm>
        </p:grpSpPr>
        <p:grpSp>
          <p:nvGrpSpPr>
            <p:cNvPr id="2360" name=""/>
            <p:cNvGrpSpPr/>
            <p:nvPr/>
          </p:nvGrpSpPr>
          <p:grpSpPr>
            <a:xfrm>
              <a:off x="147600" y="5624640"/>
              <a:ext cx="708120" cy="550440"/>
              <a:chOff x="147600" y="5624640"/>
              <a:chExt cx="708120" cy="550440"/>
            </a:xfrm>
          </p:grpSpPr>
          <p:sp>
            <p:nvSpPr>
              <p:cNvPr id="2361" name=""/>
              <p:cNvSpPr/>
              <p:nvPr/>
            </p:nvSpPr>
            <p:spPr>
              <a:xfrm>
                <a:off x="147600" y="5624640"/>
                <a:ext cx="7081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18160" y="569592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3" name=""/>
            <p:cNvSpPr/>
            <p:nvPr/>
          </p:nvSpPr>
          <p:spPr>
            <a:xfrm>
              <a:off x="318600" y="562464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4650480" y="3200400"/>
            <a:ext cx="4341240" cy="2410920"/>
            <a:chOff x="4650480" y="3200400"/>
            <a:chExt cx="4341240" cy="2410920"/>
          </a:xfrm>
        </p:grpSpPr>
        <p:grpSp>
          <p:nvGrpSpPr>
            <p:cNvPr id="2365" name=""/>
            <p:cNvGrpSpPr/>
            <p:nvPr/>
          </p:nvGrpSpPr>
          <p:grpSpPr>
            <a:xfrm>
              <a:off x="4824360" y="3472920"/>
              <a:ext cx="1470240" cy="1132560"/>
              <a:chOff x="4824360" y="3472920"/>
              <a:chExt cx="1470240" cy="1132560"/>
            </a:xfrm>
          </p:grpSpPr>
          <p:sp>
            <p:nvSpPr>
              <p:cNvPr id="2366" name=""/>
              <p:cNvSpPr/>
              <p:nvPr/>
            </p:nvSpPr>
            <p:spPr>
              <a:xfrm>
                <a:off x="4824360" y="4605480"/>
                <a:ext cx="56016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5384520" y="3472920"/>
                <a:ext cx="349920" cy="113220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734440" y="3473280"/>
                <a:ext cx="56016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5176800" y="3472920"/>
              <a:ext cx="1795320" cy="1132560"/>
              <a:chOff x="5176800" y="3472920"/>
              <a:chExt cx="1795320" cy="1132560"/>
            </a:xfrm>
          </p:grpSpPr>
          <p:sp>
            <p:nvSpPr>
              <p:cNvPr id="2370" name=""/>
              <p:cNvSpPr/>
              <p:nvPr/>
            </p:nvSpPr>
            <p:spPr>
              <a:xfrm>
                <a:off x="5176800" y="4605480"/>
                <a:ext cx="559800" cy="0"/>
              </a:xfrm>
              <a:prstGeom prst="line">
                <a:avLst/>
              </a:prstGeom>
              <a:ln w="572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V="1">
                <a:off x="5706000" y="3472920"/>
                <a:ext cx="705960" cy="1132200"/>
              </a:xfrm>
              <a:prstGeom prst="line">
                <a:avLst/>
              </a:prstGeom>
              <a:ln w="572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12320" y="3473280"/>
                <a:ext cx="559800" cy="0"/>
              </a:xfrm>
              <a:prstGeom prst="line">
                <a:avLst/>
              </a:prstGeom>
              <a:ln w="572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3" name=""/>
            <p:cNvGrpSpPr/>
            <p:nvPr/>
          </p:nvGrpSpPr>
          <p:grpSpPr>
            <a:xfrm>
              <a:off x="5176800" y="3472920"/>
              <a:ext cx="2028960" cy="1132560"/>
              <a:chOff x="5176800" y="3472920"/>
              <a:chExt cx="2028960" cy="1132560"/>
            </a:xfrm>
          </p:grpSpPr>
          <p:sp>
            <p:nvSpPr>
              <p:cNvPr id="2374" name=""/>
              <p:cNvSpPr/>
              <p:nvPr/>
            </p:nvSpPr>
            <p:spPr>
              <a:xfrm>
                <a:off x="5176800" y="4605480"/>
                <a:ext cx="55944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5736240" y="3472920"/>
                <a:ext cx="909360" cy="1132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45960" y="3473280"/>
                <a:ext cx="5598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5587920" y="401796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587920" y="3879720"/>
              <a:ext cx="0" cy="1312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059520" y="3879720"/>
              <a:ext cx="0" cy="1312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34120" y="3879720"/>
              <a:ext cx="0" cy="1312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5170320"/>
              <a:ext cx="231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V="1">
              <a:off x="5118120" y="3200400"/>
              <a:ext cx="0" cy="19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057800" y="515160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650480" y="3289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5" name=""/>
            <p:cNvGrpSpPr/>
            <p:nvPr/>
          </p:nvGrpSpPr>
          <p:grpSpPr>
            <a:xfrm>
              <a:off x="5334120" y="4495680"/>
              <a:ext cx="3581280" cy="459720"/>
              <a:chOff x="5334120" y="4495680"/>
              <a:chExt cx="3581280" cy="459720"/>
            </a:xfrm>
          </p:grpSpPr>
          <p:sp>
            <p:nvSpPr>
              <p:cNvPr id="2386" name=""/>
              <p:cNvSpPr/>
              <p:nvPr/>
            </p:nvSpPr>
            <p:spPr>
              <a:xfrm>
                <a:off x="6095880" y="4691160"/>
                <a:ext cx="293760" cy="0"/>
              </a:xfrm>
              <a:prstGeom prst="line">
                <a:avLst/>
              </a:prstGeom>
              <a:ln w="57240">
                <a:solidFill>
                  <a:srgbClr val="6666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334120" y="4691160"/>
                <a:ext cx="295200" cy="0"/>
              </a:xfrm>
              <a:prstGeom prst="line">
                <a:avLst/>
              </a:prstGeom>
              <a:ln w="57240">
                <a:solidFill>
                  <a:srgbClr val="66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705720" y="4495680"/>
                <a:ext cx="220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-pd-meas=4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5295960" y="4778280"/>
              <a:ext cx="3695760" cy="459720"/>
              <a:chOff x="5295960" y="4778280"/>
              <a:chExt cx="3695760" cy="459720"/>
            </a:xfrm>
          </p:grpSpPr>
          <p:sp>
            <p:nvSpPr>
              <p:cNvPr id="2390" name=""/>
              <p:cNvSpPr/>
              <p:nvPr/>
            </p:nvSpPr>
            <p:spPr>
              <a:xfrm>
                <a:off x="6235560" y="4967280"/>
                <a:ext cx="2937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95960" y="4967280"/>
                <a:ext cx="2937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692760" y="4778280"/>
                <a:ext cx="229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-pd-DB=6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5626080" y="4065480"/>
              <a:ext cx="2668320" cy="459720"/>
              <a:chOff x="5626080" y="4065480"/>
              <a:chExt cx="2668320" cy="459720"/>
            </a:xfrm>
          </p:grpSpPr>
          <p:sp>
            <p:nvSpPr>
              <p:cNvPr id="2394" name=""/>
              <p:cNvSpPr/>
              <p:nvPr/>
            </p:nvSpPr>
            <p:spPr>
              <a:xfrm>
                <a:off x="5626080" y="4261320"/>
                <a:ext cx="468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235560" y="4261320"/>
                <a:ext cx="46836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781680" y="4065480"/>
                <a:ext cx="151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</a:t>
                </a: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pd=2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7" name=""/>
          <p:cNvGrpSpPr/>
          <p:nvPr/>
        </p:nvGrpSpPr>
        <p:grpSpPr>
          <a:xfrm>
            <a:off x="609480" y="3117960"/>
            <a:ext cx="3125880" cy="2572200"/>
            <a:chOff x="609480" y="3117960"/>
            <a:chExt cx="3125880" cy="2572200"/>
          </a:xfrm>
        </p:grpSpPr>
        <p:grpSp>
          <p:nvGrpSpPr>
            <p:cNvPr id="2398" name=""/>
            <p:cNvGrpSpPr/>
            <p:nvPr/>
          </p:nvGrpSpPr>
          <p:grpSpPr>
            <a:xfrm>
              <a:off x="609480" y="3877200"/>
              <a:ext cx="3125880" cy="1278720"/>
              <a:chOff x="609480" y="3877200"/>
              <a:chExt cx="3125880" cy="1278720"/>
            </a:xfrm>
          </p:grpSpPr>
          <p:sp>
            <p:nvSpPr>
              <p:cNvPr id="2399" name=""/>
              <p:cNvSpPr/>
              <p:nvPr/>
            </p:nvSpPr>
            <p:spPr>
              <a:xfrm rot="16200000">
                <a:off x="2372760" y="4646160"/>
                <a:ext cx="166680" cy="8524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rot="16200000">
                <a:off x="1755360" y="2731320"/>
                <a:ext cx="834120" cy="312588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1" name=""/>
              <p:cNvGrpSpPr/>
              <p:nvPr/>
            </p:nvGrpSpPr>
            <p:grpSpPr>
              <a:xfrm>
                <a:off x="798480" y="3988440"/>
                <a:ext cx="2746800" cy="1001160"/>
                <a:chOff x="798480" y="3988440"/>
                <a:chExt cx="2746800" cy="1001160"/>
              </a:xfrm>
            </p:grpSpPr>
            <p:sp>
              <p:nvSpPr>
                <p:cNvPr id="2402" name=""/>
                <p:cNvSpPr/>
                <p:nvPr/>
              </p:nvSpPr>
              <p:spPr>
                <a:xfrm rot="16200000">
                  <a:off x="737640" y="4049280"/>
                  <a:ext cx="500400" cy="37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403" name=""/>
                <p:cNvCxnSpPr>
                  <a:stCxn id="2402" idx="2"/>
                </p:cNvCxnSpPr>
                <p:nvPr/>
              </p:nvCxnSpPr>
              <p:spPr>
                <a:xfrm>
                  <a:off x="1176840" y="4238640"/>
                  <a:ext cx="95400" cy="3621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404" name=""/>
                <p:cNvSpPr/>
                <p:nvPr/>
              </p:nvSpPr>
              <p:spPr>
                <a:xfrm rot="16200000">
                  <a:off x="1305720" y="4049280"/>
                  <a:ext cx="500400" cy="37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16200000">
                  <a:off x="1874160" y="4049280"/>
                  <a:ext cx="500400" cy="37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16200000">
                  <a:off x="2442240" y="4049280"/>
                  <a:ext cx="500400" cy="37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16200000">
                  <a:off x="3010680" y="4049280"/>
                  <a:ext cx="500400" cy="37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408" name=""/>
                <p:cNvCxnSpPr/>
                <p:nvPr/>
              </p:nvCxnSpPr>
              <p:spPr>
                <a:xfrm>
                  <a:off x="3450240" y="4238640"/>
                  <a:ext cx="95400" cy="3621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09" name=""/>
                <p:cNvCxnSpPr/>
                <p:nvPr/>
              </p:nvCxnSpPr>
              <p:spPr>
                <a:xfrm>
                  <a:off x="2881800" y="4238640"/>
                  <a:ext cx="95400" cy="3621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10" name=""/>
                <p:cNvCxnSpPr/>
                <p:nvPr/>
              </p:nvCxnSpPr>
              <p:spPr>
                <a:xfrm>
                  <a:off x="1745280" y="4238640"/>
                  <a:ext cx="95400" cy="3621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11" name=""/>
                <p:cNvCxnSpPr/>
                <p:nvPr/>
              </p:nvCxnSpPr>
              <p:spPr>
                <a:xfrm>
                  <a:off x="2313720" y="4238640"/>
                  <a:ext cx="95400" cy="3621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412" name=""/>
                <p:cNvSpPr/>
                <p:nvPr/>
              </p:nvSpPr>
              <p:spPr>
                <a:xfrm>
                  <a:off x="1272240" y="4600080"/>
                  <a:ext cx="2273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408760" y="4600440"/>
                  <a:ext cx="0" cy="38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4" name=""/>
              <p:cNvSpPr/>
              <p:nvPr/>
            </p:nvSpPr>
            <p:spPr>
              <a:xfrm rot="16200000">
                <a:off x="1812960" y="4552920"/>
                <a:ext cx="55080" cy="94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rot="16200000">
                <a:off x="2381040" y="4552920"/>
                <a:ext cx="55080" cy="94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rot="16200000">
                <a:off x="2949480" y="4552920"/>
                <a:ext cx="55080" cy="94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7" name=""/>
            <p:cNvSpPr/>
            <p:nvPr/>
          </p:nvSpPr>
          <p:spPr>
            <a:xfrm>
              <a:off x="1449720" y="523044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VT1624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070280" y="3117960"/>
              <a:ext cx="2229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DRAM-DI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not all parts show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52360" y="2117880"/>
            <a:ext cx="1649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076480" y="2117880"/>
            <a:ext cx="1649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* 3.25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900600" y="2117880"/>
            <a:ext cx="1647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.5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5722920" y="2117880"/>
            <a:ext cx="1649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pd-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7547040" y="2117880"/>
            <a:ext cx="1649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52360" y="2527200"/>
            <a:ext cx="1649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m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2076480" y="2527200"/>
            <a:ext cx="1649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* 1.5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900600" y="2527200"/>
            <a:ext cx="1647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5722920" y="2527200"/>
            <a:ext cx="1649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pd-m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7547040" y="2527200"/>
            <a:ext cx="16495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15228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devic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address-input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"/>
          <p:cNvSpPr/>
          <p:nvPr/>
        </p:nvSpPr>
        <p:spPr>
          <a:xfrm>
            <a:off x="7391520" y="2438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391520" y="2666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739152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Shrink influen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434" name=""/>
          <p:cNvGrpSpPr/>
          <p:nvPr/>
        </p:nvGrpSpPr>
        <p:grpSpPr>
          <a:xfrm>
            <a:off x="7467480" y="2438280"/>
            <a:ext cx="1353960" cy="757800"/>
            <a:chOff x="7467480" y="2438280"/>
            <a:chExt cx="1353960" cy="757800"/>
          </a:xfrm>
        </p:grpSpPr>
        <p:sp>
          <p:nvSpPr>
            <p:cNvPr id="2435" name=""/>
            <p:cNvSpPr/>
            <p:nvPr/>
          </p:nvSpPr>
          <p:spPr>
            <a:xfrm>
              <a:off x="7467480" y="2552760"/>
              <a:ext cx="355320" cy="10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869600" y="2438280"/>
              <a:ext cx="95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-Shr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467480" y="2781000"/>
              <a:ext cx="355320" cy="1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869960" y="2666880"/>
              <a:ext cx="9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C-Shr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467480" y="3009960"/>
              <a:ext cx="355320" cy="1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860600" y="2890800"/>
              <a:ext cx="95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-Shr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230040" y="1676520"/>
            <a:ext cx="6941520" cy="4078080"/>
            <a:chOff x="230040" y="1676520"/>
            <a:chExt cx="6941520" cy="4078080"/>
          </a:xfrm>
        </p:grpSpPr>
        <p:sp>
          <p:nvSpPr>
            <p:cNvPr id="2442" name=""/>
            <p:cNvSpPr/>
            <p:nvPr/>
          </p:nvSpPr>
          <p:spPr>
            <a:xfrm>
              <a:off x="5103720" y="3352680"/>
              <a:ext cx="191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High-V-I-cur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3" name=""/>
            <p:cNvGrpSpPr/>
            <p:nvPr/>
          </p:nvGrpSpPr>
          <p:grpSpPr>
            <a:xfrm>
              <a:off x="507600" y="2894040"/>
              <a:ext cx="521640" cy="1288800"/>
              <a:chOff x="507600" y="2894040"/>
              <a:chExt cx="521640" cy="1288800"/>
            </a:xfrm>
          </p:grpSpPr>
          <p:sp>
            <p:nvSpPr>
              <p:cNvPr id="2444" name=""/>
              <p:cNvSpPr/>
              <p:nvPr/>
            </p:nvSpPr>
            <p:spPr>
              <a:xfrm>
                <a:off x="507600" y="3908160"/>
                <a:ext cx="419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07600" y="3705120"/>
                <a:ext cx="419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07600" y="3503160"/>
                <a:ext cx="419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07600" y="3300120"/>
                <a:ext cx="419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07600" y="3097800"/>
                <a:ext cx="419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914040" y="28940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0" name=""/>
            <p:cNvSpPr/>
            <p:nvPr/>
          </p:nvSpPr>
          <p:spPr>
            <a:xfrm>
              <a:off x="5442120" y="2792520"/>
              <a:ext cx="79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 rot="16200000">
              <a:off x="-75600" y="2748600"/>
              <a:ext cx="88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 / mA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104440" y="2027160"/>
              <a:ext cx="186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ow-V-I-cur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3" name=""/>
            <p:cNvGrpSpPr/>
            <p:nvPr/>
          </p:nvGrpSpPr>
          <p:grpSpPr>
            <a:xfrm>
              <a:off x="609120" y="1676520"/>
              <a:ext cx="420120" cy="1187280"/>
              <a:chOff x="609120" y="1676520"/>
              <a:chExt cx="420120" cy="1187280"/>
            </a:xfrm>
          </p:grpSpPr>
          <p:sp>
            <p:nvSpPr>
              <p:cNvPr id="2454" name=""/>
              <p:cNvSpPr/>
              <p:nvPr/>
            </p:nvSpPr>
            <p:spPr>
              <a:xfrm>
                <a:off x="914040" y="25891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61400" y="228636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61400" y="1980720"/>
                <a:ext cx="22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09120" y="1676520"/>
                <a:ext cx="34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>
              <a:off x="5105880" y="4419720"/>
              <a:ext cx="2065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.g. Ri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50-Ohm to G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644080" y="5479920"/>
              <a:ext cx="115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 / n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32800" y="52992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32800" y="495612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32800" y="460836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32800" y="42624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rot="16200000">
              <a:off x="-30600" y="4685040"/>
              <a:ext cx="79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270080" y="3032280"/>
              <a:ext cx="3695760" cy="11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284120" y="4019400"/>
              <a:ext cx="369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284120" y="3821040"/>
              <a:ext cx="369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284120" y="3632040"/>
              <a:ext cx="3695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284120" y="3433680"/>
              <a:ext cx="369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284120" y="3046320"/>
              <a:ext cx="3240" cy="116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233360" y="4019400"/>
              <a:ext cx="50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233360" y="3821040"/>
              <a:ext cx="50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233360" y="3632040"/>
              <a:ext cx="5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233360" y="3433680"/>
              <a:ext cx="5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233360" y="3046320"/>
              <a:ext cx="5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284120" y="3046320"/>
              <a:ext cx="369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1284120" y="3045960"/>
              <a:ext cx="32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2211480" y="3045960"/>
              <a:ext cx="32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4052880" y="3045960"/>
              <a:ext cx="32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4002120" y="3052440"/>
              <a:ext cx="216000" cy="12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4218120" y="3046320"/>
              <a:ext cx="101520" cy="6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319640" y="3046320"/>
              <a:ext cx="126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4319640" y="3046320"/>
              <a:ext cx="12600" cy="64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4218120" y="3046320"/>
              <a:ext cx="101520" cy="64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319640" y="3046320"/>
              <a:ext cx="126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284120" y="3243240"/>
              <a:ext cx="369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233360" y="3243240"/>
              <a:ext cx="50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8" name=""/>
            <p:cNvGrpSpPr/>
            <p:nvPr/>
          </p:nvGrpSpPr>
          <p:grpSpPr>
            <a:xfrm>
              <a:off x="1284120" y="3065400"/>
              <a:ext cx="2717640" cy="202680"/>
              <a:chOff x="1284120" y="3065400"/>
              <a:chExt cx="2717640" cy="202680"/>
            </a:xfrm>
          </p:grpSpPr>
          <p:sp>
            <p:nvSpPr>
              <p:cNvPr id="2489" name=""/>
              <p:cNvSpPr/>
              <p:nvPr/>
            </p:nvSpPr>
            <p:spPr>
              <a:xfrm flipV="1">
                <a:off x="1284120" y="3141720"/>
                <a:ext cx="1574640" cy="1263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3671640" y="3065400"/>
                <a:ext cx="330120" cy="18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2858760" y="3083760"/>
                <a:ext cx="812520" cy="579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"/>
            <p:cNvGrpSpPr/>
            <p:nvPr/>
          </p:nvGrpSpPr>
          <p:grpSpPr>
            <a:xfrm>
              <a:off x="1284120" y="3052800"/>
              <a:ext cx="3035160" cy="965880"/>
              <a:chOff x="1284120" y="3052800"/>
              <a:chExt cx="3035160" cy="965880"/>
            </a:xfrm>
          </p:grpSpPr>
          <p:sp>
            <p:nvSpPr>
              <p:cNvPr id="2493" name=""/>
              <p:cNvSpPr/>
              <p:nvPr/>
            </p:nvSpPr>
            <p:spPr>
              <a:xfrm flipV="1">
                <a:off x="1284120" y="3472560"/>
                <a:ext cx="1575000" cy="546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2859120" y="3237480"/>
                <a:ext cx="812520" cy="23544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4002120" y="3071160"/>
                <a:ext cx="216000" cy="579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4218120" y="3052800"/>
                <a:ext cx="101160" cy="187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3671640" y="3129480"/>
                <a:ext cx="330120" cy="10764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8" name=""/>
            <p:cNvGrpSpPr/>
            <p:nvPr/>
          </p:nvGrpSpPr>
          <p:grpSpPr>
            <a:xfrm>
              <a:off x="1284120" y="3052440"/>
              <a:ext cx="2933640" cy="732240"/>
              <a:chOff x="1284120" y="3052440"/>
              <a:chExt cx="2933640" cy="732240"/>
            </a:xfrm>
          </p:grpSpPr>
          <p:sp>
            <p:nvSpPr>
              <p:cNvPr id="2499" name=""/>
              <p:cNvSpPr/>
              <p:nvPr/>
            </p:nvSpPr>
            <p:spPr>
              <a:xfrm flipV="1">
                <a:off x="1284120" y="3339000"/>
                <a:ext cx="1574640" cy="445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2858760" y="3142080"/>
                <a:ext cx="812520" cy="196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4001760" y="3052440"/>
                <a:ext cx="216000" cy="313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3671640" y="3083760"/>
                <a:ext cx="330120" cy="57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3" name=""/>
            <p:cNvGrpSpPr/>
            <p:nvPr/>
          </p:nvGrpSpPr>
          <p:grpSpPr>
            <a:xfrm>
              <a:off x="1065960" y="2778120"/>
              <a:ext cx="4097160" cy="274680"/>
              <a:chOff x="1065960" y="2778120"/>
              <a:chExt cx="4097160" cy="274680"/>
            </a:xfrm>
          </p:grpSpPr>
          <p:sp>
            <p:nvSpPr>
              <p:cNvPr id="2504" name=""/>
              <p:cNvSpPr/>
              <p:nvPr/>
            </p:nvSpPr>
            <p:spPr>
              <a:xfrm>
                <a:off x="1065960" y="27781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992960" y="27781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919960" y="27781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834360" y="27781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761720" y="277812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9" name=""/>
            <p:cNvSpPr/>
            <p:nvPr/>
          </p:nvSpPr>
          <p:spPr>
            <a:xfrm>
              <a:off x="1306440" y="1676520"/>
              <a:ext cx="367200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306440" y="2567160"/>
              <a:ext cx="367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306440" y="2414520"/>
              <a:ext cx="3672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306440" y="2268360"/>
              <a:ext cx="3672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306440" y="2122560"/>
              <a:ext cx="3672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306440" y="1974960"/>
              <a:ext cx="367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306440" y="1822320"/>
              <a:ext cx="3672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306440" y="1676520"/>
              <a:ext cx="367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306440" y="1676520"/>
              <a:ext cx="1800" cy="10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252440" y="2714760"/>
              <a:ext cx="5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252440" y="2567160"/>
              <a:ext cx="54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252440" y="2414520"/>
              <a:ext cx="54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252440" y="2268360"/>
              <a:ext cx="54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252440" y="2122560"/>
              <a:ext cx="54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252440" y="1974960"/>
              <a:ext cx="54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252440" y="1822320"/>
              <a:ext cx="540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252440" y="1676520"/>
              <a:ext cx="54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306440" y="2714760"/>
              <a:ext cx="36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1306440" y="2649240"/>
              <a:ext cx="130320" cy="65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8" name=""/>
            <p:cNvGrpSpPr/>
            <p:nvPr/>
          </p:nvGrpSpPr>
          <p:grpSpPr>
            <a:xfrm>
              <a:off x="1436760" y="2134800"/>
              <a:ext cx="2904840" cy="514800"/>
              <a:chOff x="1436760" y="2134800"/>
              <a:chExt cx="2904840" cy="514800"/>
            </a:xfrm>
          </p:grpSpPr>
          <p:sp>
            <p:nvSpPr>
              <p:cNvPr id="2529" name=""/>
              <p:cNvSpPr/>
              <p:nvPr/>
            </p:nvSpPr>
            <p:spPr>
              <a:xfrm flipV="1">
                <a:off x="1436760" y="2561040"/>
                <a:ext cx="199080" cy="885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1635840" y="2452680"/>
                <a:ext cx="279360" cy="10764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V="1">
                <a:off x="1915200" y="2344320"/>
                <a:ext cx="331920" cy="108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2247480" y="2242800"/>
                <a:ext cx="383040" cy="1015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2630520" y="2172600"/>
                <a:ext cx="397800" cy="694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3028680" y="2134800"/>
                <a:ext cx="1312920" cy="378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1306440" y="1733040"/>
              <a:ext cx="3035160" cy="981720"/>
              <a:chOff x="1306440" y="1733040"/>
              <a:chExt cx="3035160" cy="981720"/>
            </a:xfrm>
          </p:grpSpPr>
          <p:sp>
            <p:nvSpPr>
              <p:cNvPr id="2536" name=""/>
              <p:cNvSpPr/>
              <p:nvPr/>
            </p:nvSpPr>
            <p:spPr>
              <a:xfrm flipV="1">
                <a:off x="1306440" y="2561400"/>
                <a:ext cx="130680" cy="1533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1437120" y="2356560"/>
                <a:ext cx="199080" cy="204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V="1">
                <a:off x="1636560" y="2121840"/>
                <a:ext cx="279000" cy="2347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1915920" y="1904760"/>
                <a:ext cx="331920" cy="2167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2247840" y="1783800"/>
                <a:ext cx="382680" cy="1206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2630880" y="1752480"/>
                <a:ext cx="397800" cy="3168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029040" y="1733040"/>
                <a:ext cx="1312560" cy="1908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3" name=""/>
            <p:cNvGrpSpPr/>
            <p:nvPr/>
          </p:nvGrpSpPr>
          <p:grpSpPr>
            <a:xfrm>
              <a:off x="1306440" y="1804680"/>
              <a:ext cx="3035160" cy="910080"/>
              <a:chOff x="1306440" y="1804680"/>
              <a:chExt cx="3035160" cy="910080"/>
            </a:xfrm>
          </p:grpSpPr>
          <p:sp>
            <p:nvSpPr>
              <p:cNvPr id="2544" name=""/>
              <p:cNvSpPr/>
              <p:nvPr/>
            </p:nvSpPr>
            <p:spPr>
              <a:xfrm flipV="1">
                <a:off x="1306440" y="2606040"/>
                <a:ext cx="130680" cy="108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V="1">
                <a:off x="1437120" y="2434320"/>
                <a:ext cx="199080" cy="171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1636560" y="2230560"/>
                <a:ext cx="279000" cy="203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1915920" y="2071800"/>
                <a:ext cx="331920" cy="158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2247840" y="1912320"/>
                <a:ext cx="382680" cy="1594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2630880" y="1824120"/>
                <a:ext cx="397800" cy="885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3029040" y="1804680"/>
                <a:ext cx="1312560" cy="19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1287360" y="4349880"/>
              <a:ext cx="3670560" cy="10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287360" y="5216400"/>
              <a:ext cx="367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287360" y="5045040"/>
              <a:ext cx="367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287360" y="4871880"/>
              <a:ext cx="367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287360" y="4694400"/>
              <a:ext cx="367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287360" y="4522680"/>
              <a:ext cx="367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287360" y="5388120"/>
              <a:ext cx="367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2023920" y="5388120"/>
              <a:ext cx="180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760840" y="5388120"/>
              <a:ext cx="144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3484440" y="5388120"/>
              <a:ext cx="180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4221000" y="5388120"/>
              <a:ext cx="180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4957920" y="5388120"/>
              <a:ext cx="144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1287360" y="5381640"/>
              <a:ext cx="520920" cy="6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1808280" y="5322600"/>
              <a:ext cx="164880" cy="58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5" name=""/>
            <p:cNvGrpSpPr/>
            <p:nvPr/>
          </p:nvGrpSpPr>
          <p:grpSpPr>
            <a:xfrm>
              <a:off x="1973160" y="4694400"/>
              <a:ext cx="2323800" cy="627840"/>
              <a:chOff x="1973160" y="4694400"/>
              <a:chExt cx="2323800" cy="627840"/>
            </a:xfrm>
          </p:grpSpPr>
          <p:sp>
            <p:nvSpPr>
              <p:cNvPr id="2566" name=""/>
              <p:cNvSpPr/>
              <p:nvPr/>
            </p:nvSpPr>
            <p:spPr>
              <a:xfrm flipV="1">
                <a:off x="1973160" y="5037480"/>
                <a:ext cx="266400" cy="2847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2239560" y="4821840"/>
                <a:ext cx="216000" cy="2160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2455560" y="4739400"/>
                <a:ext cx="266760" cy="820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2722320" y="4712760"/>
                <a:ext cx="354960" cy="262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077640" y="4694400"/>
                <a:ext cx="1219320" cy="18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1" name=""/>
            <p:cNvGrpSpPr/>
            <p:nvPr/>
          </p:nvGrpSpPr>
          <p:grpSpPr>
            <a:xfrm>
              <a:off x="1287360" y="4409640"/>
              <a:ext cx="3009240" cy="978480"/>
              <a:chOff x="1287360" y="4409640"/>
              <a:chExt cx="3009240" cy="978480"/>
            </a:xfrm>
          </p:grpSpPr>
          <p:sp>
            <p:nvSpPr>
              <p:cNvPr id="2572" name=""/>
              <p:cNvSpPr/>
              <p:nvPr/>
            </p:nvSpPr>
            <p:spPr>
              <a:xfrm flipV="1">
                <a:off x="1287360" y="5342760"/>
                <a:ext cx="520560" cy="453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807920" y="5158800"/>
                <a:ext cx="164880" cy="18324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1973160" y="4854240"/>
                <a:ext cx="266400" cy="3045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2239560" y="4643640"/>
                <a:ext cx="216000" cy="20988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2455560" y="4485600"/>
                <a:ext cx="266760" cy="15804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2722320" y="4440960"/>
                <a:ext cx="354960" cy="4428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077640" y="4409640"/>
                <a:ext cx="1218960" cy="313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"/>
            <p:cNvSpPr/>
            <p:nvPr/>
          </p:nvSpPr>
          <p:spPr>
            <a:xfrm flipV="1">
              <a:off x="1287360" y="5381640"/>
              <a:ext cx="520920" cy="6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808280" y="5335560"/>
              <a:ext cx="164880" cy="46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1973160" y="5140440"/>
              <a:ext cx="266760" cy="195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2239920" y="4835160"/>
              <a:ext cx="216000" cy="3049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2455920" y="4605120"/>
              <a:ext cx="266760" cy="2300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2722680" y="4535640"/>
              <a:ext cx="355320" cy="6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3078000" y="4509720"/>
              <a:ext cx="1219320" cy="255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6" name=""/>
            <p:cNvGrpSpPr/>
            <p:nvPr/>
          </p:nvGrpSpPr>
          <p:grpSpPr>
            <a:xfrm>
              <a:off x="1134360" y="5456160"/>
              <a:ext cx="4070880" cy="277560"/>
              <a:chOff x="1134360" y="5456160"/>
              <a:chExt cx="4070880" cy="277560"/>
            </a:xfrm>
          </p:grpSpPr>
          <p:sp>
            <p:nvSpPr>
              <p:cNvPr id="2587" name=""/>
              <p:cNvSpPr/>
              <p:nvPr/>
            </p:nvSpPr>
            <p:spPr>
              <a:xfrm>
                <a:off x="1134360" y="5459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870560" y="5459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.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607120" y="5459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331080" y="5459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4067640" y="545904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4803840" y="5456160"/>
                <a:ext cx="40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3" name=""/>
            <p:cNvSpPr/>
            <p:nvPr/>
          </p:nvSpPr>
          <p:spPr>
            <a:xfrm>
              <a:off x="1287360" y="4349880"/>
              <a:ext cx="1800" cy="10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36600" y="5388120"/>
              <a:ext cx="50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236600" y="5216400"/>
              <a:ext cx="5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236600" y="5045040"/>
              <a:ext cx="50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236600" y="4871880"/>
              <a:ext cx="50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236600" y="4694400"/>
              <a:ext cx="50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236600" y="4522680"/>
              <a:ext cx="5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236600" y="4349880"/>
              <a:ext cx="50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1287360" y="5388120"/>
              <a:ext cx="180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270080" y="2676600"/>
              <a:ext cx="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84480" y="2980440"/>
              <a:ext cx="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098880" y="2980440"/>
              <a:ext cx="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013280" y="2980440"/>
              <a:ext cx="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27680" y="2980440"/>
              <a:ext cx="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927680" y="2676600"/>
              <a:ext cx="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013280" y="2676600"/>
              <a:ext cx="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098880" y="2676600"/>
              <a:ext cx="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84480" y="2676600"/>
              <a:ext cx="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270080" y="2980440"/>
              <a:ext cx="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2" name=""/>
          <p:cNvGrpSpPr/>
          <p:nvPr/>
        </p:nvGrpSpPr>
        <p:grpSpPr>
          <a:xfrm>
            <a:off x="7231320" y="3581280"/>
            <a:ext cx="2434680" cy="1067400"/>
            <a:chOff x="7231320" y="3581280"/>
            <a:chExt cx="2434680" cy="1067400"/>
          </a:xfrm>
        </p:grpSpPr>
        <p:sp>
          <p:nvSpPr>
            <p:cNvPr id="2613" name=""/>
            <p:cNvSpPr/>
            <p:nvPr/>
          </p:nvSpPr>
          <p:spPr>
            <a:xfrm>
              <a:off x="7769160" y="358128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Datashe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231320" y="4343400"/>
              <a:ext cx="243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VoH  2.4V  IoH  -2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233480" y="3962520"/>
              <a:ext cx="241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VoL  0.4V   IoL   2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6" name=""/>
          <p:cNvSpPr/>
          <p:nvPr/>
        </p:nvSpPr>
        <p:spPr>
          <a:xfrm>
            <a:off x="1067040" y="5715000"/>
            <a:ext cx="55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new models when there is a sh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152280" y="5638680"/>
            <a:ext cx="708120" cy="642600"/>
            <a:chOff x="152280" y="5638680"/>
            <a:chExt cx="708120" cy="642600"/>
          </a:xfrm>
        </p:grpSpPr>
        <p:grpSp>
          <p:nvGrpSpPr>
            <p:cNvPr id="2618" name=""/>
            <p:cNvGrpSpPr/>
            <p:nvPr/>
          </p:nvGrpSpPr>
          <p:grpSpPr>
            <a:xfrm>
              <a:off x="152280" y="5638680"/>
              <a:ext cx="708120" cy="550800"/>
              <a:chOff x="152280" y="5638680"/>
              <a:chExt cx="708120" cy="550800"/>
            </a:xfrm>
          </p:grpSpPr>
          <p:sp>
            <p:nvSpPr>
              <p:cNvPr id="2619" name=""/>
              <p:cNvSpPr/>
              <p:nvPr/>
            </p:nvSpPr>
            <p:spPr>
              <a:xfrm>
                <a:off x="152280" y="563868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22840" y="571032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"/>
            <p:cNvSpPr/>
            <p:nvPr/>
          </p:nvSpPr>
          <p:spPr>
            <a:xfrm>
              <a:off x="323280" y="56386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2" name=""/>
          <p:cNvGrpSpPr/>
          <p:nvPr/>
        </p:nvGrpSpPr>
        <p:grpSpPr>
          <a:xfrm>
            <a:off x="5562720" y="1657440"/>
            <a:ext cx="3124080" cy="1104840"/>
            <a:chOff x="5562720" y="1657440"/>
            <a:chExt cx="3124080" cy="1104840"/>
          </a:xfrm>
        </p:grpSpPr>
        <p:sp>
          <p:nvSpPr>
            <p:cNvPr id="2623" name=""/>
            <p:cNvSpPr/>
            <p:nvPr/>
          </p:nvSpPr>
          <p:spPr>
            <a:xfrm>
              <a:off x="5562720" y="165744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086600" y="2648160"/>
              <a:ext cx="22824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323400" y="1886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6553080" y="3048120"/>
            <a:ext cx="3124440" cy="1121760"/>
            <a:chOff x="6553080" y="3048120"/>
            <a:chExt cx="3124440" cy="1121760"/>
          </a:xfrm>
        </p:grpSpPr>
        <p:sp>
          <p:nvSpPr>
            <p:cNvPr id="2627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8" name=""/>
            <p:cNvGrpSpPr/>
            <p:nvPr/>
          </p:nvGrpSpPr>
          <p:grpSpPr>
            <a:xfrm>
              <a:off x="8001000" y="4056120"/>
              <a:ext cx="533160" cy="113760"/>
              <a:chOff x="8001000" y="4056120"/>
              <a:chExt cx="533160" cy="113760"/>
            </a:xfrm>
          </p:grpSpPr>
          <p:sp>
            <p:nvSpPr>
              <p:cNvPr id="2629" name=""/>
              <p:cNvSpPr/>
              <p:nvPr/>
            </p:nvSpPr>
            <p:spPr>
              <a:xfrm>
                <a:off x="800100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8305560" y="4056120"/>
                <a:ext cx="22860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1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2633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4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2635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8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2640" name=""/>
            <p:cNvSpPr/>
            <p:nvPr/>
          </p:nvSpPr>
          <p:spPr>
            <a:xfrm>
              <a:off x="3390840" y="4952880"/>
              <a:ext cx="312444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1" name=""/>
            <p:cNvGrpSpPr/>
            <p:nvPr/>
          </p:nvGrpSpPr>
          <p:grpSpPr>
            <a:xfrm>
              <a:off x="4381560" y="6016320"/>
              <a:ext cx="1143000" cy="114480"/>
              <a:chOff x="4381560" y="6016320"/>
              <a:chExt cx="1143000" cy="114480"/>
            </a:xfrm>
          </p:grpSpPr>
          <p:sp>
            <p:nvSpPr>
              <p:cNvPr id="2642" name=""/>
              <p:cNvSpPr/>
              <p:nvPr/>
            </p:nvSpPr>
            <p:spPr>
              <a:xfrm>
                <a:off x="529596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38156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8648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991040" y="601632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6" name=""/>
            <p:cNvSpPr/>
            <p:nvPr/>
          </p:nvSpPr>
          <p:spPr>
            <a:xfrm>
              <a:off x="4294800" y="5178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2648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228600" y="3048120"/>
            <a:ext cx="3124080" cy="1274400"/>
            <a:chOff x="228600" y="3048120"/>
            <a:chExt cx="3124080" cy="1274400"/>
          </a:xfrm>
        </p:grpSpPr>
        <p:sp>
          <p:nvSpPr>
            <p:cNvPr id="2651" name=""/>
            <p:cNvSpPr/>
            <p:nvPr/>
          </p:nvSpPr>
          <p:spPr>
            <a:xfrm>
              <a:off x="228600" y="3048120"/>
              <a:ext cx="312408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86520" y="32752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3" name=""/>
            <p:cNvGrpSpPr/>
            <p:nvPr/>
          </p:nvGrpSpPr>
          <p:grpSpPr>
            <a:xfrm>
              <a:off x="1218960" y="4037400"/>
              <a:ext cx="1142640" cy="285120"/>
              <a:chOff x="1218960" y="4037400"/>
              <a:chExt cx="1142640" cy="285120"/>
            </a:xfrm>
          </p:grpSpPr>
          <p:sp>
            <p:nvSpPr>
              <p:cNvPr id="2654" name=""/>
              <p:cNvSpPr/>
              <p:nvPr/>
            </p:nvSpPr>
            <p:spPr>
              <a:xfrm>
                <a:off x="1713960" y="4208400"/>
                <a:ext cx="22824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218960" y="4037400"/>
                <a:ext cx="1142640" cy="113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6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2657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9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2660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2661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3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4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2665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s for device-famil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9" name=""/>
          <p:cNvSpPr/>
          <p:nvPr/>
        </p:nvSpPr>
        <p:spPr>
          <a:xfrm>
            <a:off x="382320" y="1555920"/>
            <a:ext cx="2273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.g.  SD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2740320" y="1828800"/>
            <a:ext cx="187452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X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X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X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7465680" y="1828800"/>
            <a:ext cx="192492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a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Ti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Tazu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Chitzen It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Co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 Pale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5639040" y="1555920"/>
            <a:ext cx="1159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.g.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532800" y="4648320"/>
            <a:ext cx="372600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ut all are 256M SD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om the B-shrink-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635440" y="4648320"/>
            <a:ext cx="279792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ut all are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P-family ‚Maya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1059840" y="5715000"/>
            <a:ext cx="757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omponent-keyword and make model-files for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152280" y="5638680"/>
            <a:ext cx="708120" cy="642600"/>
            <a:chOff x="152280" y="5638680"/>
            <a:chExt cx="708120" cy="642600"/>
          </a:xfrm>
        </p:grpSpPr>
        <p:grpSp>
          <p:nvGrpSpPr>
            <p:cNvPr id="2677" name=""/>
            <p:cNvGrpSpPr/>
            <p:nvPr/>
          </p:nvGrpSpPr>
          <p:grpSpPr>
            <a:xfrm>
              <a:off x="152280" y="5638680"/>
              <a:ext cx="708120" cy="550800"/>
              <a:chOff x="152280" y="5638680"/>
              <a:chExt cx="708120" cy="550800"/>
            </a:xfrm>
          </p:grpSpPr>
          <p:sp>
            <p:nvSpPr>
              <p:cNvPr id="2678" name=""/>
              <p:cNvSpPr/>
              <p:nvPr/>
            </p:nvSpPr>
            <p:spPr>
              <a:xfrm>
                <a:off x="152280" y="563868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22840" y="571032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0" name=""/>
            <p:cNvSpPr/>
            <p:nvPr/>
          </p:nvSpPr>
          <p:spPr>
            <a:xfrm>
              <a:off x="323280" y="563868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1" name=""/>
          <p:cNvSpPr/>
          <p:nvPr/>
        </p:nvSpPr>
        <p:spPr>
          <a:xfrm>
            <a:off x="5029200" y="1676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Other future need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3" name=""/>
          <p:cNvSpPr/>
          <p:nvPr/>
        </p:nvSpPr>
        <p:spPr>
          <a:xfrm>
            <a:off x="686880" y="2438280"/>
            <a:ext cx="622404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 quick responses to questions   ~ 1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 electrical model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990033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 EMI-model-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5" name=""/>
          <p:cNvSpPr/>
          <p:nvPr/>
        </p:nvSpPr>
        <p:spPr>
          <a:xfrm>
            <a:off x="685800" y="1752480"/>
            <a:ext cx="14385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IBIS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231120" y="2895480"/>
            <a:ext cx="79689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he users need</a:t>
            </a: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correct</a:t>
            </a: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BIS-3.2-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with the</a:t>
            </a: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optional</a:t>
            </a:r>
            <a:r>
              <a:rPr b="1" lang="de-DE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 2 rising and 2 falling wav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 over-undershoo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 package model files ( not only Rpkg,Lpkg,Cpk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We need them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515320" y="1981080"/>
            <a:ext cx="4035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ounds nice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8" name="maya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809880" cy="2629080"/>
          </a:xfrm>
          <a:prstGeom prst="rect">
            <a:avLst/>
          </a:prstGeom>
          <a:ln w="0">
            <a:noFill/>
          </a:ln>
        </p:spPr>
      </p:pic>
      <p:pic>
        <p:nvPicPr>
          <p:cNvPr id="2689" name="tikal2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36212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562720" y="1657440"/>
            <a:ext cx="3124080" cy="1104840"/>
            <a:chOff x="5562720" y="1657440"/>
            <a:chExt cx="3124080" cy="1104840"/>
          </a:xfrm>
        </p:grpSpPr>
        <p:sp>
          <p:nvSpPr>
            <p:cNvPr id="154" name=""/>
            <p:cNvSpPr/>
            <p:nvPr/>
          </p:nvSpPr>
          <p:spPr>
            <a:xfrm>
              <a:off x="5562720" y="165744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2648160"/>
              <a:ext cx="22824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3400" y="1886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553080" y="3048120"/>
            <a:ext cx="3124440" cy="1122120"/>
            <a:chOff x="6553080" y="3048120"/>
            <a:chExt cx="3124440" cy="1122120"/>
          </a:xfrm>
        </p:grpSpPr>
        <p:sp>
          <p:nvSpPr>
            <p:cNvPr id="158" name=""/>
            <p:cNvSpPr/>
            <p:nvPr/>
          </p:nvSpPr>
          <p:spPr>
            <a:xfrm>
              <a:off x="6553080" y="3048120"/>
              <a:ext cx="3124440" cy="9111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8001000" y="4056120"/>
              <a:ext cx="533160" cy="114120"/>
              <a:chOff x="8001000" y="4056120"/>
              <a:chExt cx="533160" cy="114120"/>
            </a:xfrm>
          </p:grpSpPr>
          <p:sp>
            <p:nvSpPr>
              <p:cNvPr id="160" name=""/>
              <p:cNvSpPr/>
              <p:nvPr/>
            </p:nvSpPr>
            <p:spPr>
              <a:xfrm>
                <a:off x="8001000" y="405612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05560" y="405612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239240" y="3092400"/>
              <a:ext cx="18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rors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4495680"/>
            <a:ext cx="3124440" cy="1105200"/>
            <a:chOff x="6324480" y="4495680"/>
            <a:chExt cx="3124440" cy="1105200"/>
          </a:xfrm>
        </p:grpSpPr>
        <p:sp>
          <p:nvSpPr>
            <p:cNvPr id="164" name=""/>
            <p:cNvSpPr/>
            <p:nvPr/>
          </p:nvSpPr>
          <p:spPr>
            <a:xfrm>
              <a:off x="6324480" y="44956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467480" y="5486400"/>
              <a:ext cx="838080" cy="114480"/>
              <a:chOff x="7467480" y="5486400"/>
              <a:chExt cx="838080" cy="11448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748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7204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076960" y="5486400"/>
                <a:ext cx="22860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934680" y="472428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BIS and to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90840" y="4952880"/>
            <a:ext cx="3124440" cy="1177920"/>
            <a:chOff x="3390840" y="4952880"/>
            <a:chExt cx="3124440" cy="1177920"/>
          </a:xfrm>
        </p:grpSpPr>
        <p:sp>
          <p:nvSpPr>
            <p:cNvPr id="171" name=""/>
            <p:cNvSpPr/>
            <p:nvPr/>
          </p:nvSpPr>
          <p:spPr>
            <a:xfrm>
              <a:off x="3390840" y="49528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381560" y="6016680"/>
              <a:ext cx="1143000" cy="114120"/>
              <a:chOff x="4381560" y="6016680"/>
              <a:chExt cx="1143000" cy="114120"/>
            </a:xfrm>
          </p:grpSpPr>
          <p:sp>
            <p:nvSpPr>
              <p:cNvPr id="173" name=""/>
              <p:cNvSpPr/>
              <p:nvPr/>
            </p:nvSpPr>
            <p:spPr>
              <a:xfrm>
                <a:off x="52959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8156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8648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91040" y="6016680"/>
                <a:ext cx="22860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294800" y="5178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ack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314880" y="2967120"/>
            <a:ext cx="3276360" cy="1836720"/>
            <a:chOff x="3314880" y="2967120"/>
            <a:chExt cx="3276360" cy="1836720"/>
          </a:xfrm>
        </p:grpSpPr>
        <p:sp>
          <p:nvSpPr>
            <p:cNvPr id="179" name=""/>
            <p:cNvSpPr/>
            <p:nvPr/>
          </p:nvSpPr>
          <p:spPr>
            <a:xfrm>
              <a:off x="3314880" y="2967120"/>
              <a:ext cx="32763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31240" y="3475080"/>
              <a:ext cx="29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xperiences wit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ps for IBIS-mode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28600" y="3048120"/>
            <a:ext cx="3124080" cy="1274400"/>
            <a:chOff x="228600" y="3048120"/>
            <a:chExt cx="3124080" cy="1274400"/>
          </a:xfrm>
        </p:grpSpPr>
        <p:sp>
          <p:nvSpPr>
            <p:cNvPr id="182" name=""/>
            <p:cNvSpPr/>
            <p:nvPr/>
          </p:nvSpPr>
          <p:spPr>
            <a:xfrm>
              <a:off x="228600" y="3048120"/>
              <a:ext cx="312408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6520" y="32752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B vs.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218960" y="4037400"/>
              <a:ext cx="1142640" cy="285120"/>
              <a:chOff x="1218960" y="4037400"/>
              <a:chExt cx="1142640" cy="285120"/>
            </a:xfrm>
          </p:grpSpPr>
          <p:sp>
            <p:nvSpPr>
              <p:cNvPr id="185" name=""/>
              <p:cNvSpPr/>
              <p:nvPr/>
            </p:nvSpPr>
            <p:spPr>
              <a:xfrm>
                <a:off x="1713960" y="4208400"/>
                <a:ext cx="22824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18960" y="4037400"/>
                <a:ext cx="1142640" cy="113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295280" y="1752480"/>
            <a:ext cx="3124440" cy="1278000"/>
            <a:chOff x="1295280" y="1752480"/>
            <a:chExt cx="3124440" cy="1278000"/>
          </a:xfrm>
        </p:grpSpPr>
        <p:sp>
          <p:nvSpPr>
            <p:cNvPr id="188" name=""/>
            <p:cNvSpPr/>
            <p:nvPr/>
          </p:nvSpPr>
          <p:spPr>
            <a:xfrm>
              <a:off x="1295280" y="1752480"/>
              <a:ext cx="3124440" cy="9115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56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uture and wis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286000" y="2743200"/>
              <a:ext cx="1143000" cy="287280"/>
              <a:chOff x="2286000" y="2743200"/>
              <a:chExt cx="1143000" cy="2872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628720" y="2916000"/>
                <a:ext cx="533160" cy="114480"/>
                <a:chOff x="2628720" y="2916000"/>
                <a:chExt cx="533160" cy="114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62872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933280" y="2916000"/>
                  <a:ext cx="228600" cy="1144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286000" y="2743200"/>
                <a:ext cx="1143000" cy="11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57200" y="4572000"/>
            <a:ext cx="3124080" cy="1104840"/>
            <a:chOff x="457200" y="4572000"/>
            <a:chExt cx="3124080" cy="1104840"/>
          </a:xfrm>
        </p:grpSpPr>
        <p:sp>
          <p:nvSpPr>
            <p:cNvPr id="196" name=""/>
            <p:cNvSpPr/>
            <p:nvPr/>
          </p:nvSpPr>
          <p:spPr>
            <a:xfrm>
              <a:off x="457200" y="4572000"/>
              <a:ext cx="3124080" cy="911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4603680"/>
              <a:ext cx="265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Mod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None-IBIS-Fea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7920" y="5562720"/>
              <a:ext cx="1143000" cy="11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09680" y="5105520"/>
            <a:ext cx="1905120" cy="5331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257800"/>
            <a:ext cx="1371600" cy="3808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83944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le between gnd-clamp and power-clamp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3280" y="8075160"/>
            <a:ext cx="95400" cy="839880"/>
          </a:xfrm>
          <a:prstGeom prst="line">
            <a:avLst/>
          </a:prstGeom>
          <a:ln w="7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070760" y="1677960"/>
            <a:ext cx="2457360" cy="1307880"/>
            <a:chOff x="7070760" y="1677960"/>
            <a:chExt cx="2457360" cy="1307880"/>
          </a:xfrm>
        </p:grpSpPr>
        <p:sp>
          <p:nvSpPr>
            <p:cNvPr id="204" name=""/>
            <p:cNvSpPr/>
            <p:nvPr/>
          </p:nvSpPr>
          <p:spPr>
            <a:xfrm>
              <a:off x="7113600" y="1762200"/>
              <a:ext cx="241452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70760" y="2982960"/>
              <a:ext cx="2414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70760" y="1725480"/>
              <a:ext cx="24145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70760" y="1725480"/>
              <a:ext cx="2414520" cy="1257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3000" y="1725480"/>
              <a:ext cx="1800" cy="125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1320" y="2982960"/>
              <a:ext cx="31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1320" y="2357280"/>
              <a:ext cx="31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1320" y="1725480"/>
              <a:ext cx="31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70760" y="2357280"/>
              <a:ext cx="24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070760" y="2357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818480" y="2357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553600" y="2357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9301320" y="23572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075440" y="2378160"/>
              <a:ext cx="179280" cy="604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254720" y="2357280"/>
              <a:ext cx="184320" cy="20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39040" y="2357280"/>
              <a:ext cx="183960" cy="1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3000" y="2357280"/>
              <a:ext cx="1114560" cy="1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37560" y="2357280"/>
              <a:ext cx="119160" cy="1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56720" y="2357280"/>
              <a:ext cx="76320" cy="1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933040" y="2350800"/>
              <a:ext cx="31680" cy="61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964720" y="2344680"/>
              <a:ext cx="75960" cy="64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9040680" y="2330280"/>
              <a:ext cx="76320" cy="144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9117000" y="2322360"/>
              <a:ext cx="31680" cy="7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9148680" y="2307960"/>
              <a:ext cx="76320" cy="14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9225000" y="2279520"/>
              <a:ext cx="108000" cy="28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9333000" y="1725120"/>
              <a:ext cx="117360" cy="554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83160" y="1847880"/>
              <a:ext cx="329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i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0360" y="2793960"/>
              <a:ext cx="329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72520" y="2308320"/>
              <a:ext cx="90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41120" y="1677960"/>
              <a:ext cx="270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41080" y="2421000"/>
              <a:ext cx="22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78360" y="2421000"/>
              <a:ext cx="22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23200" y="2421000"/>
              <a:ext cx="22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25680" y="2708280"/>
              <a:ext cx="617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6906600" y="1958040"/>
              <a:ext cx="599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/mA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97760" y="3049560"/>
            <a:ext cx="2390760" cy="1422360"/>
            <a:chOff x="7097760" y="3049560"/>
            <a:chExt cx="2390760" cy="1422360"/>
          </a:xfrm>
        </p:grpSpPr>
        <p:sp>
          <p:nvSpPr>
            <p:cNvPr id="240" name=""/>
            <p:cNvSpPr/>
            <p:nvPr/>
          </p:nvSpPr>
          <p:spPr>
            <a:xfrm>
              <a:off x="7097760" y="3100320"/>
              <a:ext cx="2390760" cy="13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97760" y="447048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7760" y="3100320"/>
              <a:ext cx="2390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7760" y="3100320"/>
              <a:ext cx="2390760" cy="13701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51800" y="3100320"/>
              <a:ext cx="1440" cy="137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18320" y="447048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18320" y="378936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18320" y="31003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7760" y="3789360"/>
              <a:ext cx="2390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097760" y="3789360"/>
              <a:ext cx="14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835760" y="378936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564400" y="378936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9304200" y="3789360"/>
              <a:ext cx="18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139160" y="3819600"/>
              <a:ext cx="142560" cy="6508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281720" y="3789360"/>
              <a:ext cx="184320" cy="302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6040" y="3789360"/>
              <a:ext cx="18576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51800" y="3789360"/>
              <a:ext cx="109692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48720" y="3789360"/>
              <a:ext cx="10944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858160" y="3789360"/>
              <a:ext cx="7632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34480" y="3789360"/>
              <a:ext cx="4284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977320" y="3789360"/>
              <a:ext cx="65160" cy="1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9042480" y="3773520"/>
              <a:ext cx="75960" cy="15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9118440" y="3767040"/>
              <a:ext cx="44640" cy="6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163080" y="3752640"/>
              <a:ext cx="65160" cy="140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9228240" y="3708360"/>
              <a:ext cx="108000" cy="446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9336240" y="3099960"/>
              <a:ext cx="110880" cy="6080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23840" y="3228840"/>
              <a:ext cx="28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ity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68040" y="4227480"/>
              <a:ext cx="329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98440" y="3738600"/>
              <a:ext cx="90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67400" y="3049560"/>
              <a:ext cx="270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58720" y="3855960"/>
              <a:ext cx="22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87360" y="3855960"/>
              <a:ext cx="22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27160" y="3855960"/>
              <a:ext cx="22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53400" y="4137120"/>
              <a:ext cx="617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 / V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6976440" y="3369240"/>
              <a:ext cx="599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/mA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124760" y="4626000"/>
            <a:ext cx="2390760" cy="13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24760" y="594828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24760" y="4626000"/>
            <a:ext cx="239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24760" y="4626000"/>
            <a:ext cx="2390760" cy="1322280"/>
          </a:xfrm>
          <a:prstGeom prst="rect">
            <a:avLst/>
          </a:prstGeom>
          <a:noFill/>
          <a:ln w="79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82040" y="4626000"/>
            <a:ext cx="1440" cy="132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50000" y="5948280"/>
            <a:ext cx="3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50000" y="5286240"/>
            <a:ext cx="3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50000" y="462600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24760" y="5286240"/>
            <a:ext cx="239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124760" y="5286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858080" y="528624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8593200" y="528624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9326520" y="5286240"/>
            <a:ext cx="32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196040" y="5329080"/>
            <a:ext cx="117720" cy="619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313760" y="5285880"/>
            <a:ext cx="177480" cy="4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91240" y="5286240"/>
            <a:ext cx="1908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82040" y="5286240"/>
            <a:ext cx="10983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80400" y="5286240"/>
            <a:ext cx="11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999640" y="5286240"/>
            <a:ext cx="792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78840" y="5286240"/>
            <a:ext cx="698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8680" y="5286240"/>
            <a:ext cx="396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188280" y="5278320"/>
            <a:ext cx="70200" cy="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9258480" y="5229360"/>
            <a:ext cx="109440" cy="48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367920" y="4626000"/>
            <a:ext cx="127080" cy="603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21680" y="4765680"/>
            <a:ext cx="35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66960" y="5756400"/>
            <a:ext cx="329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41640" y="5235480"/>
            <a:ext cx="90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21400" y="4575240"/>
            <a:ext cx="270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788960" y="5351400"/>
            <a:ext cx="224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23720" y="5351400"/>
            <a:ext cx="224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57400" y="5351400"/>
            <a:ext cx="224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751600" y="5576760"/>
            <a:ext cx="617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 / V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6973200" y="4899600"/>
            <a:ext cx="599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/mA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70880" y="5035680"/>
            <a:ext cx="690480" cy="50796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763120" y="449568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Times New Roman"/>
              </a:rPr>
              <a:t>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53280" y="4267080"/>
            <a:ext cx="789120" cy="892440"/>
          </a:xfrm>
          <a:prstGeom prst="lightningBol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676520"/>
            <a:ext cx="541008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ND-Clam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-Clam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-typ [mA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(vcc)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(gnd)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-typ [m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20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6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0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0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8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-Ref: 3.3V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-min [mA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(vcc)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(gnd)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-min [m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99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8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0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0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-Ref: 3.0V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-max [mA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(vcc)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(gnd) [V]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-max [m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50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3.3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9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2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6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0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0.5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1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6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4240"/>
                <a:tab algn="l" pos="1469880"/>
                <a:tab algn="l" pos="1620720"/>
                <a:tab algn="l" pos="1943280"/>
                <a:tab algn="l" pos="2971800"/>
                <a:tab algn="l" pos="392760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-Ref: 3.6V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13280" y="5638680"/>
            <a:ext cx="5874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Gndclamp should be measured up to Vc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5562720"/>
            <a:ext cx="708120" cy="642600"/>
            <a:chOff x="228600" y="5562720"/>
            <a:chExt cx="708120" cy="642600"/>
          </a:xfrm>
        </p:grpSpPr>
        <p:grpSp>
          <p:nvGrpSpPr>
            <p:cNvPr id="314" name=""/>
            <p:cNvGrpSpPr/>
            <p:nvPr/>
          </p:nvGrpSpPr>
          <p:grpSpPr>
            <a:xfrm>
              <a:off x="228600" y="5562720"/>
              <a:ext cx="708120" cy="550440"/>
              <a:chOff x="228600" y="5562720"/>
              <a:chExt cx="708120" cy="550440"/>
            </a:xfrm>
          </p:grpSpPr>
          <p:sp>
            <p:nvSpPr>
              <p:cNvPr id="315" name=""/>
              <p:cNvSpPr/>
              <p:nvPr/>
            </p:nvSpPr>
            <p:spPr>
              <a:xfrm>
                <a:off x="228600" y="5562720"/>
                <a:ext cx="7081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9160" y="563400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99600" y="55627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38828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Ramp &gt; 100% sw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320" y="5537160"/>
            <a:ext cx="707760" cy="642600"/>
            <a:chOff x="130320" y="5537160"/>
            <a:chExt cx="707760" cy="642600"/>
          </a:xfrm>
        </p:grpSpPr>
        <p:grpSp>
          <p:nvGrpSpPr>
            <p:cNvPr id="320" name=""/>
            <p:cNvGrpSpPr/>
            <p:nvPr/>
          </p:nvGrpSpPr>
          <p:grpSpPr>
            <a:xfrm>
              <a:off x="130320" y="5537160"/>
              <a:ext cx="707760" cy="550800"/>
              <a:chOff x="130320" y="5537160"/>
              <a:chExt cx="707760" cy="550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30320" y="5537160"/>
                <a:ext cx="70776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00880" y="560880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00600" y="55371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912600" y="5562720"/>
            <a:ext cx="5342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Are the values in the ramp reasonable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2480" y="2895480"/>
            <a:ext cx="490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.2V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20% - 80%  voltage s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% - 100% voltage swing would be 3.66V 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6880" y="1550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P3V CMOS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840" y="205740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2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120" y="2438280"/>
            <a:ext cx="7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2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2438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6520" y="22096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2040" y="3949560"/>
            <a:ext cx="8314560" cy="143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0% - 100%  voltage swing  can be only  3.3V !  ( For Rload  </a:t>
            </a:r>
            <a:r>
              <a:rPr b="1" i="1" lang="de-DE" sz="3600" spc="-1" strike="noStrike">
                <a:solidFill>
                  <a:srgbClr val="000000"/>
                </a:solidFill>
                <a:latin typeface="MS LineDraw"/>
                <a:ea typeface="MS LineDraw"/>
              </a:rPr>
              <a:t>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0% - 100% voltage swing  must be &lt;  3.3V !  ( For Rload   &lt;  </a:t>
            </a:r>
            <a:r>
              <a:rPr b="1" i="1" lang="de-DE" sz="3600" spc="-1" strike="noStrike">
                <a:solidFill>
                  <a:srgbClr val="000000"/>
                </a:solidFill>
                <a:latin typeface="MS LineDraw"/>
                <a:ea typeface="MS LineDraw"/>
              </a:rPr>
              <a:t></a:t>
            </a:r>
            <a:r>
              <a:rPr b="1" i="1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00604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Ramp  # waveform ( but same Rload 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"/>
          <p:cNvSpPr/>
          <p:nvPr/>
        </p:nvSpPr>
        <p:spPr>
          <a:xfrm>
            <a:off x="989280" y="5562720"/>
            <a:ext cx="4986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mpare  ramp and wav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6440" y="5540400"/>
            <a:ext cx="708120" cy="642600"/>
            <a:chOff x="136440" y="5540400"/>
            <a:chExt cx="708120" cy="642600"/>
          </a:xfrm>
        </p:grpSpPr>
        <p:grpSp>
          <p:nvGrpSpPr>
            <p:cNvPr id="335" name=""/>
            <p:cNvGrpSpPr/>
            <p:nvPr/>
          </p:nvGrpSpPr>
          <p:grpSpPr>
            <a:xfrm>
              <a:off x="136440" y="5540400"/>
              <a:ext cx="708120" cy="550440"/>
              <a:chOff x="136440" y="5540400"/>
              <a:chExt cx="708120" cy="550440"/>
            </a:xfrm>
          </p:grpSpPr>
          <p:sp>
            <p:nvSpPr>
              <p:cNvPr id="336" name=""/>
              <p:cNvSpPr/>
              <p:nvPr/>
            </p:nvSpPr>
            <p:spPr>
              <a:xfrm>
                <a:off x="136440" y="5540400"/>
                <a:ext cx="708120" cy="55044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7000" y="5611680"/>
                <a:ext cx="584280" cy="410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307440" y="55404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362240" y="2371680"/>
            <a:ext cx="396216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62240" y="2371680"/>
            <a:ext cx="1440" cy="22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09680" y="461628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09680" y="41608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09680" y="37209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09680" y="326700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09680" y="28274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09680" y="237168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4616280"/>
            <a:ext cx="3962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362240" y="461592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149560" y="461592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49480" y="461592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736800" y="461592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537080" y="461592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24400" y="461592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62240" y="4487400"/>
            <a:ext cx="393480" cy="1285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755720" y="4260960"/>
            <a:ext cx="393840" cy="2268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149560" y="4232160"/>
            <a:ext cx="25200" cy="288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174760" y="3992400"/>
            <a:ext cx="381240" cy="2397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556000" y="3806640"/>
            <a:ext cx="223560" cy="1854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779560" y="3679560"/>
            <a:ext cx="169920" cy="1270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49480" y="3494160"/>
            <a:ext cx="223920" cy="1857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173400" y="3365280"/>
            <a:ext cx="169920" cy="1285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343320" y="3111480"/>
            <a:ext cx="301680" cy="2541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645000" y="3038040"/>
            <a:ext cx="91800" cy="730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736800" y="2869920"/>
            <a:ext cx="393840" cy="1681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130640" y="2768760"/>
            <a:ext cx="406440" cy="1015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537080" y="2727000"/>
            <a:ext cx="393840" cy="414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22280" y="4573440"/>
            <a:ext cx="79560" cy="86040"/>
          </a:xfrm>
          <a:custGeom>
            <a:avLst/>
            <a:gdLst/>
            <a:ahLst/>
            <a:rect l="l" t="t" r="r" b="b"/>
            <a:pathLst>
              <a:path w="50" h="60">
                <a:moveTo>
                  <a:pt x="25" y="0"/>
                </a:moveTo>
                <a:lnTo>
                  <a:pt x="50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16120" y="4444920"/>
            <a:ext cx="79200" cy="85680"/>
          </a:xfrm>
          <a:custGeom>
            <a:avLst/>
            <a:gdLst/>
            <a:ahLst/>
            <a:rect l="l" t="t" r="r" b="b"/>
            <a:pathLst>
              <a:path w="50" h="60">
                <a:moveTo>
                  <a:pt x="25" y="0"/>
                </a:moveTo>
                <a:lnTo>
                  <a:pt x="50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09960" y="4218120"/>
            <a:ext cx="79200" cy="85680"/>
          </a:xfrm>
          <a:custGeom>
            <a:avLst/>
            <a:gdLst/>
            <a:ahLst/>
            <a:rect l="l" t="t" r="r" b="b"/>
            <a:pathLst>
              <a:path w="50" h="61">
                <a:moveTo>
                  <a:pt x="25" y="0"/>
                </a:moveTo>
                <a:lnTo>
                  <a:pt x="50" y="30"/>
                </a:lnTo>
                <a:lnTo>
                  <a:pt x="25" y="61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36600" y="4189320"/>
            <a:ext cx="78120" cy="85680"/>
          </a:xfrm>
          <a:custGeom>
            <a:avLst/>
            <a:gdLst/>
            <a:ahLst/>
            <a:rect l="l" t="t" r="r" b="b"/>
            <a:pathLst>
              <a:path w="49" h="61">
                <a:moveTo>
                  <a:pt x="24" y="0"/>
                </a:moveTo>
                <a:lnTo>
                  <a:pt x="49" y="30"/>
                </a:lnTo>
                <a:lnTo>
                  <a:pt x="24" y="61"/>
                </a:lnTo>
                <a:lnTo>
                  <a:pt x="0" y="30"/>
                </a:lnTo>
                <a:lnTo>
                  <a:pt x="24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16040" y="3948120"/>
            <a:ext cx="79560" cy="85680"/>
          </a:xfrm>
          <a:custGeom>
            <a:avLst/>
            <a:gdLst/>
            <a:ahLst/>
            <a:rect l="l" t="t" r="r" b="b"/>
            <a:pathLst>
              <a:path w="50" h="61">
                <a:moveTo>
                  <a:pt x="25" y="0"/>
                </a:moveTo>
                <a:lnTo>
                  <a:pt x="50" y="31"/>
                </a:lnTo>
                <a:lnTo>
                  <a:pt x="25" y="61"/>
                </a:lnTo>
                <a:lnTo>
                  <a:pt x="0" y="31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39960" y="3763800"/>
            <a:ext cx="77760" cy="86040"/>
          </a:xfrm>
          <a:custGeom>
            <a:avLst/>
            <a:gdLst/>
            <a:ahLst/>
            <a:rect l="l" t="t" r="r" b="b"/>
            <a:pathLst>
              <a:path w="49" h="60">
                <a:moveTo>
                  <a:pt x="25" y="0"/>
                </a:moveTo>
                <a:lnTo>
                  <a:pt x="49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09880" y="3635280"/>
            <a:ext cx="79560" cy="85680"/>
          </a:xfrm>
          <a:custGeom>
            <a:avLst/>
            <a:gdLst/>
            <a:ahLst/>
            <a:rect l="l" t="t" r="r" b="b"/>
            <a:pathLst>
              <a:path w="50" h="61">
                <a:moveTo>
                  <a:pt x="25" y="0"/>
                </a:moveTo>
                <a:lnTo>
                  <a:pt x="50" y="31"/>
                </a:lnTo>
                <a:lnTo>
                  <a:pt x="25" y="61"/>
                </a:lnTo>
                <a:lnTo>
                  <a:pt x="0" y="31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3800" y="3451320"/>
            <a:ext cx="77760" cy="85680"/>
          </a:xfrm>
          <a:custGeom>
            <a:avLst/>
            <a:gdLst/>
            <a:ahLst/>
            <a:rect l="l" t="t" r="r" b="b"/>
            <a:pathLst>
              <a:path w="49" h="60">
                <a:moveTo>
                  <a:pt x="25" y="0"/>
                </a:moveTo>
                <a:lnTo>
                  <a:pt x="49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03720" y="3322800"/>
            <a:ext cx="79200" cy="87120"/>
          </a:xfrm>
          <a:custGeom>
            <a:avLst/>
            <a:gdLst/>
            <a:ahLst/>
            <a:rect l="l" t="t" r="r" b="b"/>
            <a:pathLst>
              <a:path w="50" h="61">
                <a:moveTo>
                  <a:pt x="25" y="0"/>
                </a:moveTo>
                <a:lnTo>
                  <a:pt x="50" y="30"/>
                </a:lnTo>
                <a:lnTo>
                  <a:pt x="25" y="61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05040" y="3067200"/>
            <a:ext cx="79560" cy="85680"/>
          </a:xfrm>
          <a:custGeom>
            <a:avLst/>
            <a:gdLst/>
            <a:ahLst/>
            <a:rect l="l" t="t" r="r" b="b"/>
            <a:pathLst>
              <a:path w="50" h="61">
                <a:moveTo>
                  <a:pt x="25" y="0"/>
                </a:moveTo>
                <a:lnTo>
                  <a:pt x="50" y="31"/>
                </a:lnTo>
                <a:lnTo>
                  <a:pt x="25" y="61"/>
                </a:lnTo>
                <a:lnTo>
                  <a:pt x="0" y="31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97200" y="2997360"/>
            <a:ext cx="79560" cy="83880"/>
          </a:xfrm>
          <a:custGeom>
            <a:avLst/>
            <a:gdLst/>
            <a:ahLst/>
            <a:rect l="l" t="t" r="r" b="b"/>
            <a:pathLst>
              <a:path w="50" h="60">
                <a:moveTo>
                  <a:pt x="25" y="0"/>
                </a:moveTo>
                <a:lnTo>
                  <a:pt x="50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91040" y="2827440"/>
            <a:ext cx="79200" cy="83880"/>
          </a:xfrm>
          <a:custGeom>
            <a:avLst/>
            <a:gdLst/>
            <a:ahLst/>
            <a:rect l="l" t="t" r="r" b="b"/>
            <a:pathLst>
              <a:path w="50" h="60">
                <a:moveTo>
                  <a:pt x="25" y="0"/>
                </a:moveTo>
                <a:lnTo>
                  <a:pt x="50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97480" y="2727360"/>
            <a:ext cx="79200" cy="85680"/>
          </a:xfrm>
          <a:custGeom>
            <a:avLst/>
            <a:gdLst/>
            <a:ahLst/>
            <a:rect l="l" t="t" r="r" b="b"/>
            <a:pathLst>
              <a:path w="50" h="61">
                <a:moveTo>
                  <a:pt x="25" y="0"/>
                </a:moveTo>
                <a:lnTo>
                  <a:pt x="50" y="30"/>
                </a:lnTo>
                <a:lnTo>
                  <a:pt x="25" y="61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90960" y="2684520"/>
            <a:ext cx="79560" cy="84240"/>
          </a:xfrm>
          <a:custGeom>
            <a:avLst/>
            <a:gdLst/>
            <a:ahLst/>
            <a:rect l="l" t="t" r="r" b="b"/>
            <a:pathLst>
              <a:path w="50" h="60">
                <a:moveTo>
                  <a:pt x="25" y="0"/>
                </a:moveTo>
                <a:lnTo>
                  <a:pt x="50" y="30"/>
                </a:lnTo>
                <a:lnTo>
                  <a:pt x="25" y="60"/>
                </a:lnTo>
                <a:lnTo>
                  <a:pt x="0" y="30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16120" y="4119480"/>
            <a:ext cx="66600" cy="698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39960" y="2782800"/>
            <a:ext cx="65160" cy="730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4080" y="1676520"/>
            <a:ext cx="281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sing 50 Ohm to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39760" y="450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9760" y="3606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39760" y="27129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2228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0960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0952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97200" y="47721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22000" y="4800600"/>
            <a:ext cx="143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/ 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149040" y="351864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/ 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3076560"/>
            <a:ext cx="32767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423072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009960"/>
            <a:ext cx="0" cy="2095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4162320"/>
            <a:ext cx="0" cy="101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209680" y="3076560"/>
            <a:ext cx="1524240" cy="115416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752480" y="2805120"/>
            <a:ext cx="990720" cy="1357200"/>
          </a:xfrm>
          <a:prstGeom prst="line">
            <a:avLst/>
          </a:prstGeom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724280"/>
            <a:ext cx="2590920" cy="1447920"/>
          </a:xfrm>
          <a:prstGeom prst="rect">
            <a:avLst/>
          </a:prstGeom>
          <a:solidFill>
            <a:srgbClr val="a1f7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1676520"/>
            <a:ext cx="2890800" cy="243828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631200" y="5208480"/>
            <a:ext cx="1061640" cy="840600"/>
            <a:chOff x="6631200" y="5208480"/>
            <a:chExt cx="1061640" cy="840600"/>
          </a:xfrm>
        </p:grpSpPr>
        <p:sp>
          <p:nvSpPr>
            <p:cNvPr id="402" name=""/>
            <p:cNvSpPr/>
            <p:nvPr/>
          </p:nvSpPr>
          <p:spPr>
            <a:xfrm>
              <a:off x="6631560" y="52084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5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31200" y="558936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6 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05360" y="56386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323400" y="1703520"/>
            <a:ext cx="2893320" cy="2364120"/>
            <a:chOff x="6323400" y="1703520"/>
            <a:chExt cx="2893320" cy="2364120"/>
          </a:xfrm>
        </p:grpSpPr>
        <p:grpSp>
          <p:nvGrpSpPr>
            <p:cNvPr id="406" name=""/>
            <p:cNvGrpSpPr/>
            <p:nvPr/>
          </p:nvGrpSpPr>
          <p:grpSpPr>
            <a:xfrm>
              <a:off x="6402240" y="2236680"/>
              <a:ext cx="2094840" cy="840240"/>
              <a:chOff x="6402240" y="2236680"/>
              <a:chExt cx="2094840" cy="840240"/>
            </a:xfrm>
          </p:grpSpPr>
          <p:sp>
            <p:nvSpPr>
              <p:cNvPr id="407" name=""/>
              <p:cNvSpPr/>
              <p:nvPr/>
            </p:nvSpPr>
            <p:spPr>
              <a:xfrm>
                <a:off x="6403320" y="2236680"/>
                <a:ext cx="199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68V – 0.42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02240" y="2617200"/>
                <a:ext cx="209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.76ns – 2.05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76400" y="266652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478560" y="3227400"/>
              <a:ext cx="985320" cy="840240"/>
              <a:chOff x="6478560" y="3227400"/>
              <a:chExt cx="985320" cy="840240"/>
            </a:xfrm>
          </p:grpSpPr>
          <p:sp>
            <p:nvSpPr>
              <p:cNvPr id="411" name=""/>
              <p:cNvSpPr/>
              <p:nvPr/>
            </p:nvSpPr>
            <p:spPr>
              <a:xfrm>
                <a:off x="6478920" y="322740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26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78560" y="3607920"/>
                <a:ext cx="98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71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52720" y="365724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6323400" y="170352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Ramp from wave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626880" y="475128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mp in ibis-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67640" y="4232160"/>
            <a:ext cx="8740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906804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 u="sng">
                <a:solidFill>
                  <a:srgbClr val="000000"/>
                </a:solidFill>
                <a:uFillTx/>
                <a:latin typeface="Times New Roman"/>
              </a:rPr>
              <a:t>V-I-curve  and V-t-curve do not fit togeth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989280" y="5638680"/>
            <a:ext cx="5743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 between DC and transient  &lt; 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6040" y="5580000"/>
            <a:ext cx="708120" cy="642600"/>
            <a:chOff x="176040" y="5580000"/>
            <a:chExt cx="708120" cy="642600"/>
          </a:xfrm>
        </p:grpSpPr>
        <p:grpSp>
          <p:nvGrpSpPr>
            <p:cNvPr id="420" name=""/>
            <p:cNvGrpSpPr/>
            <p:nvPr/>
          </p:nvGrpSpPr>
          <p:grpSpPr>
            <a:xfrm>
              <a:off x="176040" y="5580000"/>
              <a:ext cx="708120" cy="550800"/>
              <a:chOff x="176040" y="5580000"/>
              <a:chExt cx="708120" cy="550800"/>
            </a:xfrm>
          </p:grpSpPr>
          <p:sp>
            <p:nvSpPr>
              <p:cNvPr id="421" name=""/>
              <p:cNvSpPr/>
              <p:nvPr/>
            </p:nvSpPr>
            <p:spPr>
              <a:xfrm>
                <a:off x="176040" y="558000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46600" y="565164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47040" y="5580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311800" y="4095720"/>
            <a:ext cx="0" cy="1284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34040" y="5332320"/>
            <a:ext cx="366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311800" y="4572000"/>
            <a:ext cx="3590640" cy="760320"/>
            <a:chOff x="5311800" y="4572000"/>
            <a:chExt cx="3590640" cy="760320"/>
          </a:xfrm>
        </p:grpSpPr>
        <p:sp>
          <p:nvSpPr>
            <p:cNvPr id="427" name=""/>
            <p:cNvSpPr/>
            <p:nvPr/>
          </p:nvSpPr>
          <p:spPr>
            <a:xfrm>
              <a:off x="5311800" y="5332320"/>
              <a:ext cx="624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936400" y="4572000"/>
              <a:ext cx="702360" cy="7603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38760" y="4572000"/>
              <a:ext cx="702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41480" y="4572000"/>
              <a:ext cx="702360" cy="7603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44200" y="5332320"/>
              <a:ext cx="8582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234040" y="4572000"/>
            <a:ext cx="2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4920" y="3670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ient    resistance to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16920" y="4408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422960" y="50958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17360" y="54291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30080" y="49658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V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06560" y="4049640"/>
            <a:ext cx="0" cy="144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9000" y="4840200"/>
            <a:ext cx="3083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3000" y="40640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I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910800" y="4807080"/>
            <a:ext cx="2802240" cy="617040"/>
            <a:chOff x="910800" y="4807080"/>
            <a:chExt cx="2802240" cy="617040"/>
          </a:xfrm>
        </p:grpSpPr>
        <p:sp>
          <p:nvSpPr>
            <p:cNvPr id="442" name=""/>
            <p:cNvSpPr/>
            <p:nvPr/>
          </p:nvSpPr>
          <p:spPr>
            <a:xfrm flipH="1">
              <a:off x="3246480" y="4807080"/>
              <a:ext cx="466560" cy="240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779200" y="5047560"/>
              <a:ext cx="466920" cy="171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031480" y="5218920"/>
              <a:ext cx="747720" cy="1371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910800" y="5356080"/>
              <a:ext cx="1120680" cy="680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57040" y="4600440"/>
            <a:ext cx="2614680" cy="789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14440" y="5218200"/>
            <a:ext cx="277920" cy="10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11160" y="4772160"/>
            <a:ext cx="279360" cy="10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1006200" y="5081760"/>
            <a:ext cx="140004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367020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C Oper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088000" y="44751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479592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8160" y="45180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92520" y="45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79280" y="31640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V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09800" y="2182680"/>
            <a:ext cx="0" cy="986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8200" y="3127320"/>
            <a:ext cx="332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906480" y="2428560"/>
            <a:ext cx="3025800" cy="739440"/>
            <a:chOff x="906480" y="2428560"/>
            <a:chExt cx="3025800" cy="739440"/>
          </a:xfrm>
        </p:grpSpPr>
        <p:sp>
          <p:nvSpPr>
            <p:cNvPr id="459" name=""/>
            <p:cNvSpPr/>
            <p:nvPr/>
          </p:nvSpPr>
          <p:spPr>
            <a:xfrm flipV="1">
              <a:off x="906480" y="2880360"/>
              <a:ext cx="504720" cy="287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411200" y="2675520"/>
              <a:ext cx="506520" cy="205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917720" y="2511720"/>
              <a:ext cx="803160" cy="163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720880" y="2428560"/>
              <a:ext cx="1211400" cy="831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808200" y="2263680"/>
            <a:ext cx="2822400" cy="944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14400" y="2593800"/>
            <a:ext cx="303480" cy="12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27400" y="3086280"/>
            <a:ext cx="301680" cy="122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3000" y="23162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I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15640" y="3249720"/>
            <a:ext cx="13114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8200" y="2263680"/>
            <a:ext cx="301320" cy="12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17524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C Oper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78680" y="32734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04840" y="304164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9560" y="3273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9880" y="310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72280" y="2084400"/>
            <a:ext cx="0" cy="1284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92720" y="3319560"/>
            <a:ext cx="367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372280" y="2274840"/>
            <a:ext cx="3590280" cy="760320"/>
            <a:chOff x="5372280" y="2274840"/>
            <a:chExt cx="3590280" cy="760320"/>
          </a:xfrm>
        </p:grpSpPr>
        <p:sp>
          <p:nvSpPr>
            <p:cNvPr id="477" name=""/>
            <p:cNvSpPr/>
            <p:nvPr/>
          </p:nvSpPr>
          <p:spPr>
            <a:xfrm>
              <a:off x="5372280" y="3035160"/>
              <a:ext cx="62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996880" y="2274840"/>
              <a:ext cx="702360" cy="76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99240" y="2274840"/>
              <a:ext cx="70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01600" y="2274840"/>
              <a:ext cx="702360" cy="76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04320" y="3035160"/>
              <a:ext cx="85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292720" y="303516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14960" y="227484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34680" y="175248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ient   resistance to 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7120" y="21081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97840" y="2870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17360" y="33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686800" cy="596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nd-clamp power-clamp  double-count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"/>
          <p:cNvSpPr/>
          <p:nvPr/>
        </p:nvSpPr>
        <p:spPr>
          <a:xfrm>
            <a:off x="986760" y="5638680"/>
            <a:ext cx="5650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in Zero-points for correct 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6040" y="5580000"/>
            <a:ext cx="708120" cy="642600"/>
            <a:chOff x="176040" y="5580000"/>
            <a:chExt cx="708120" cy="642600"/>
          </a:xfrm>
        </p:grpSpPr>
        <p:grpSp>
          <p:nvGrpSpPr>
            <p:cNvPr id="491" name=""/>
            <p:cNvGrpSpPr/>
            <p:nvPr/>
          </p:nvGrpSpPr>
          <p:grpSpPr>
            <a:xfrm>
              <a:off x="176040" y="5580000"/>
              <a:ext cx="708120" cy="550800"/>
              <a:chOff x="176040" y="5580000"/>
              <a:chExt cx="708120" cy="550800"/>
            </a:xfrm>
          </p:grpSpPr>
          <p:sp>
            <p:nvSpPr>
              <p:cNvPr id="492" name=""/>
              <p:cNvSpPr/>
              <p:nvPr/>
            </p:nvSpPr>
            <p:spPr>
              <a:xfrm>
                <a:off x="176040" y="5580000"/>
                <a:ext cx="708120" cy="5508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46600" y="5651640"/>
                <a:ext cx="5842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347040" y="5580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64200" y="2271600"/>
            <a:ext cx="1800" cy="295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6680" y="522936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16680" y="448776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916680" y="375444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16680" y="301320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916680" y="2271600"/>
            <a:ext cx="47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40400" y="3754440"/>
            <a:ext cx="2076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440400" y="375408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964200" y="375408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478640" y="375408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8002440" y="375408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8516880" y="375408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829560" y="5229000"/>
            <a:ext cx="1440" cy="3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831000" y="4487760"/>
            <a:ext cx="133200" cy="741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964200" y="4308480"/>
            <a:ext cx="200160" cy="179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164360" y="4122720"/>
            <a:ext cx="209520" cy="1857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373880" y="3933360"/>
            <a:ext cx="209520" cy="189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583400" y="3754440"/>
            <a:ext cx="228600" cy="179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812000" y="3754440"/>
            <a:ext cx="133560" cy="1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964200" y="3754440"/>
            <a:ext cx="2001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64360" y="3754440"/>
            <a:ext cx="209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73880" y="3754440"/>
            <a:ext cx="209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583400" y="3754440"/>
            <a:ext cx="2286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812000" y="3567240"/>
            <a:ext cx="133560" cy="18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945560" y="3414600"/>
            <a:ext cx="28440" cy="152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974000" y="2271240"/>
            <a:ext cx="2844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8002440" y="2236320"/>
            <a:ext cx="1800" cy="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83480" y="5195880"/>
            <a:ext cx="85680" cy="61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16680" y="4454640"/>
            <a:ext cx="85680" cy="61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16840" y="4273560"/>
            <a:ext cx="85680" cy="63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26360" y="4087800"/>
            <a:ext cx="85680" cy="61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35880" y="3898800"/>
            <a:ext cx="85680" cy="63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764480" y="3719520"/>
            <a:ext cx="85680" cy="61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897680" y="3719520"/>
            <a:ext cx="85680" cy="61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16680" y="3719520"/>
            <a:ext cx="9540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16840" y="3719520"/>
            <a:ext cx="9504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26360" y="3719520"/>
            <a:ext cx="9504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35880" y="3719520"/>
            <a:ext cx="9540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764480" y="3719520"/>
            <a:ext cx="9540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97680" y="3533760"/>
            <a:ext cx="95400" cy="68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926480" y="3381480"/>
            <a:ext cx="95040" cy="680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954920" y="2236680"/>
            <a:ext cx="9540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11760" y="442584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73400" y="3692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658920" y="29512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73400" y="220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43560" y="3886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86080" y="3886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400160" y="3886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924320" y="3886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7520" y="3886200"/>
            <a:ext cx="70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 / V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5857560" y="337500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/ m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49680" y="2535120"/>
            <a:ext cx="233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sed range for power-cl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26640" y="2743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rom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348960" y="4829040"/>
            <a:ext cx="213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sed range for gnd-cl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26640" y="502920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rom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52520" y="2303640"/>
            <a:ext cx="1440" cy="29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05000" y="5265720"/>
            <a:ext cx="4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05000" y="452448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05000" y="378468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05000" y="3044880"/>
            <a:ext cx="4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05000" y="2303640"/>
            <a:ext cx="47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09640" y="3784680"/>
            <a:ext cx="2171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809640" y="3784320"/>
            <a:ext cx="144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352520" y="3784320"/>
            <a:ext cx="144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95400" y="378432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438280" y="378432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81160" y="3784320"/>
            <a:ext cx="1800" cy="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217520" y="5265360"/>
            <a:ext cx="1800" cy="33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219320" y="4524120"/>
            <a:ext cx="133200" cy="7412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352520" y="4338720"/>
            <a:ext cx="219240" cy="1857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571760" y="4157280"/>
            <a:ext cx="218880" cy="181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790640" y="3971880"/>
            <a:ext cx="209520" cy="1857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000160" y="3784680"/>
            <a:ext cx="247680" cy="187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247840" y="3596760"/>
            <a:ext cx="133560" cy="18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381400" y="3452400"/>
            <a:ext cx="28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409840" y="2303640"/>
            <a:ext cx="28440" cy="1149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438280" y="2268360"/>
            <a:ext cx="1800" cy="3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71440" y="5230800"/>
            <a:ext cx="95400" cy="68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05000" y="4489560"/>
            <a:ext cx="9504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23880" y="4303800"/>
            <a:ext cx="95400" cy="680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43120" y="4122720"/>
            <a:ext cx="9504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952640" y="3936960"/>
            <a:ext cx="95400" cy="68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00320" y="3749760"/>
            <a:ext cx="9504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00320" y="3749760"/>
            <a:ext cx="9504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33520" y="3562200"/>
            <a:ext cx="95400" cy="6984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417840"/>
            <a:ext cx="95040" cy="68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90760" y="2268360"/>
            <a:ext cx="95400" cy="70200"/>
          </a:xfrm>
          <a:custGeom>
            <a:avLst/>
            <a:gdLst/>
            <a:ahLst/>
            <a:rect l="l" t="t" r="r" b="b"/>
            <a:pathLst>
              <a:path w="60" h="60">
                <a:moveTo>
                  <a:pt x="30" y="0"/>
                </a:moveTo>
                <a:lnTo>
                  <a:pt x="60" y="30"/>
                </a:lnTo>
                <a:lnTo>
                  <a:pt x="30" y="60"/>
                </a:lnTo>
                <a:lnTo>
                  <a:pt x="0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4560" y="52038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00080" y="446256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61360" y="3722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61360" y="22417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52400" y="38876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313640" y="38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56880" y="38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99760" y="38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98480" y="3886200"/>
            <a:ext cx="70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 / V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6200000">
            <a:off x="112320" y="340200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/ m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41880" y="2666880"/>
            <a:ext cx="167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ange  power-cl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438640" y="289548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upplied by 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22440" y="311940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640" y="2666880"/>
            <a:ext cx="142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ange gnd-cl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9840" y="289548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upplied by 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2720" y="31240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2247840" y="3490920"/>
            <a:ext cx="419040" cy="3031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009880" y="3760560"/>
            <a:ext cx="257040" cy="361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708360" y="3679920"/>
            <a:ext cx="2522520" cy="1137600"/>
            <a:chOff x="3708360" y="3679920"/>
            <a:chExt cx="2522520" cy="1137600"/>
          </a:xfrm>
        </p:grpSpPr>
        <p:sp>
          <p:nvSpPr>
            <p:cNvPr id="602" name=""/>
            <p:cNvSpPr/>
            <p:nvPr/>
          </p:nvSpPr>
          <p:spPr>
            <a:xfrm>
              <a:off x="3708360" y="3742200"/>
              <a:ext cx="285480" cy="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400" y="3707640"/>
              <a:ext cx="95400" cy="69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33440" y="3679920"/>
              <a:ext cx="96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gnd-cla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08360" y="4039560"/>
              <a:ext cx="2854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3400" y="4005000"/>
              <a:ext cx="95400" cy="69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34520" y="3978720"/>
              <a:ext cx="117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ower-cla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27440" y="4337280"/>
              <a:ext cx="285480" cy="720"/>
            </a:xfrm>
            <a:prstGeom prst="line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22480" y="4302720"/>
              <a:ext cx="95400" cy="687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54680" y="4275000"/>
              <a:ext cx="197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xtrapolated gnd-cla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27440" y="4635000"/>
              <a:ext cx="285480" cy="7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22480" y="4600080"/>
              <a:ext cx="95400" cy="69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55400" y="4573800"/>
              <a:ext cx="217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xtrapolated power-cla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609480" y="25909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25909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362640" y="4724280"/>
            <a:ext cx="2247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62640" y="2514600"/>
            <a:ext cx="21718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9:23:13Z</dcterms:created>
  <dc:creator>ICN M CI 4, Cornelissen</dc:creator>
  <dc:description/>
  <dc:language>en-US</dc:language>
  <cp:lastModifiedBy>OEN NT-Netz</cp:lastModifiedBy>
  <cp:lastPrinted>2001-03-13T12:36:58Z</cp:lastPrinted>
  <dcterms:modified xsi:type="dcterms:W3CDTF">2001-03-14T08:02:54Z</dcterms:modified>
  <cp:revision>64</cp:revision>
  <dc:subject/>
  <dc:title>Title of presentation</dc:title>
</cp:coreProperties>
</file>