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4040" y="7426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FE4-6EEE-4EAF-90A0-722F444B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I can’t see what I am typing when I enter the presente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&amp;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This is an issue with PowerPoint. Here is the current work around, not the most elegant solution but it work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the area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Type a w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Highlight the w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ba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Finish typ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wh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FEFC-F6F4-4DD1-8852-4C03E257E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E3FB-026F-4E46-8B0A-CAED243FE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5FA6-FEC9-4605-845E-B2D6636AA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5D31-7E67-44C1-B5F6-DA8E14A94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C97D-C2B1-4A5A-A248-B5D1B8628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3116-8E2F-483D-B220-01B0ACA06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1D18-64C5-4CD5-A86D-63D21224D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7A61-86FF-45A1-8DA2-9853E0C2D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66DB-FC11-41EE-B349-9283115BA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6DD4-7129-4C34-BACA-A3170C276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CE36-65D7-492B-AA52-A3CF57D25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DE3C-DA99-49C8-B8D8-AB5A6603B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3480"/>
            <a:ext cx="6858000" cy="614520"/>
          </a:xfrm>
          <a:prstGeom prst="rect">
            <a:avLst/>
          </a:prstGeom>
          <a:solidFill>
            <a:srgbClr val="b3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629400" y="6243480"/>
            <a:ext cx="2514600" cy="614520"/>
          </a:xfrm>
          <a:prstGeom prst="rect">
            <a:avLst/>
          </a:prstGeom>
          <a:solidFill>
            <a:srgbClr val="ffd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5A38-6624-4EB1-8360-571971632F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MGC-Logo_xs" descr=""/>
          <p:cNvPicPr/>
          <p:nvPr/>
        </p:nvPicPr>
        <p:blipFill>
          <a:blip r:embed="rId2"/>
          <a:stretch/>
        </p:blipFill>
        <p:spPr>
          <a:xfrm>
            <a:off x="7086600" y="6297480"/>
            <a:ext cx="16002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8520" y="151920"/>
            <a:ext cx="2666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" name="MGC%20Graphic" descr=""/>
          <p:cNvPicPr/>
          <p:nvPr/>
        </p:nvPicPr>
        <p:blipFill>
          <a:blip r:embed="rId2"/>
          <a:stretch/>
        </p:blipFill>
        <p:spPr>
          <a:xfrm>
            <a:off x="0" y="0"/>
            <a:ext cx="6068880" cy="573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727600"/>
            <a:ext cx="6070680" cy="1130400"/>
          </a:xfrm>
          <a:prstGeom prst="rect">
            <a:avLst/>
          </a:prstGeom>
          <a:solidFill>
            <a:srgbClr val="a2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54840" y="5727600"/>
            <a:ext cx="3089160" cy="1130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MGCblock201_96dpi" descr=""/>
          <p:cNvPicPr/>
          <p:nvPr/>
        </p:nvPicPr>
        <p:blipFill>
          <a:blip r:embed="rId3"/>
          <a:stretch/>
        </p:blipFill>
        <p:spPr>
          <a:xfrm>
            <a:off x="6302520" y="586728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172200"/>
            <a:ext cx="6858000" cy="685800"/>
          </a:xfrm>
          <a:prstGeom prst="rect">
            <a:avLst/>
          </a:prstGeom>
          <a:solidFill>
            <a:srgbClr val="b3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6172200"/>
            <a:ext cx="2514600" cy="685800"/>
          </a:xfrm>
          <a:prstGeom prst="rect">
            <a:avLst/>
          </a:prstGeom>
          <a:solidFill>
            <a:srgbClr val="ffd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17220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ww.mentor.c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MGC%20Graphic%20Closing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EE35-61B6-455A-82F4-FA9067E069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9496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e Pin 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9C5F-2ADE-4B77-B1B1-AA348734C2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295280" y="1398600"/>
            <a:ext cx="6705720" cy="47372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e Pin Simulation at 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 Shift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943240" y="38098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791320" y="45716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2764-5644-4424-A9FA-56B3BA42E8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-I Suppor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a Load Equal t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-I Fails 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Loa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15238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4558680" y="2224080"/>
            <a:ext cx="1533600" cy="11998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3276720"/>
            <a:ext cx="19980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28242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4267080"/>
            <a:ext cx="601560" cy="70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095880" y="2590920"/>
            <a:ext cx="152280" cy="456480"/>
            <a:chOff x="6095880" y="2590920"/>
            <a:chExt cx="152280" cy="456480"/>
          </a:xfrm>
        </p:grpSpPr>
        <p:sp>
          <p:nvSpPr>
            <p:cNvPr id="467" name=""/>
            <p:cNvSpPr/>
            <p:nvPr/>
          </p:nvSpPr>
          <p:spPr>
            <a:xfrm>
              <a:off x="6177600" y="25909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095880" y="26521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9120" y="273672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095880" y="282924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9120" y="29142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176160" y="30024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105520" y="228600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172200" y="2285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220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543800" y="4952880"/>
            <a:ext cx="347400" cy="378000"/>
            <a:chOff x="7543800" y="4952880"/>
            <a:chExt cx="347400" cy="378000"/>
          </a:xfrm>
        </p:grpSpPr>
        <p:sp>
          <p:nvSpPr>
            <p:cNvPr id="477" name=""/>
            <p:cNvSpPr/>
            <p:nvPr/>
          </p:nvSpPr>
          <p:spPr>
            <a:xfrm>
              <a:off x="7717320" y="495288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43800" y="517932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30200" y="525492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77720" y="533088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8514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696080" y="2590920"/>
            <a:ext cx="152280" cy="456480"/>
            <a:chOff x="7696080" y="2590920"/>
            <a:chExt cx="152280" cy="456480"/>
          </a:xfrm>
        </p:grpSpPr>
        <p:sp>
          <p:nvSpPr>
            <p:cNvPr id="483" name=""/>
            <p:cNvSpPr/>
            <p:nvPr/>
          </p:nvSpPr>
          <p:spPr>
            <a:xfrm>
              <a:off x="7777800" y="25909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7696080" y="26521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99320" y="273672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696080" y="282924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99320" y="29142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776360" y="30024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772400" y="2286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72400" y="30481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4120" y="33526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476760" y="3657600"/>
            <a:ext cx="152280" cy="456480"/>
            <a:chOff x="6476760" y="3657600"/>
            <a:chExt cx="152280" cy="456480"/>
          </a:xfrm>
        </p:grpSpPr>
        <p:sp>
          <p:nvSpPr>
            <p:cNvPr id="493" name=""/>
            <p:cNvSpPr/>
            <p:nvPr/>
          </p:nvSpPr>
          <p:spPr>
            <a:xfrm>
              <a:off x="6558840" y="365760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476760" y="371880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80360" y="3803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476760" y="38959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80360" y="398088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557400" y="406908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6553080" y="3352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4267080"/>
            <a:ext cx="601560" cy="70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53080" y="41148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400800" y="4952880"/>
            <a:ext cx="347400" cy="378000"/>
            <a:chOff x="6400800" y="4952880"/>
            <a:chExt cx="347400" cy="378000"/>
          </a:xfrm>
        </p:grpSpPr>
        <p:sp>
          <p:nvSpPr>
            <p:cNvPr id="503" name=""/>
            <p:cNvSpPr/>
            <p:nvPr/>
          </p:nvSpPr>
          <p:spPr>
            <a:xfrm>
              <a:off x="6574320" y="495288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00800" y="517932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87200" y="525492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34720" y="533088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068D-0EA7-4D13-9639-DBA109BCB8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A. Muranyi “ Introduction to IBIS Models and IBIS Model Making”, Sept. 11-13,2000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280" y="19810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Hi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=-I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672480" y="2681280"/>
            <a:ext cx="1533600" cy="11998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62320" y="4191120"/>
            <a:ext cx="601560" cy="707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209680" y="4114800"/>
            <a:ext cx="801720" cy="94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514240" y="3657600"/>
            <a:ext cx="299880" cy="35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514240" y="3657240"/>
            <a:ext cx="299880" cy="35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39920" y="2631960"/>
            <a:ext cx="19980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209680" y="3048120"/>
            <a:ext cx="152280" cy="456480"/>
            <a:chOff x="2209680" y="3048120"/>
            <a:chExt cx="152280" cy="456480"/>
          </a:xfrm>
        </p:grpSpPr>
        <p:sp>
          <p:nvSpPr>
            <p:cNvPr id="518" name=""/>
            <p:cNvSpPr/>
            <p:nvPr/>
          </p:nvSpPr>
          <p:spPr>
            <a:xfrm>
              <a:off x="229140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209680" y="31093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12920" y="319392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209680" y="328644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12920" y="33714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28996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 flipV="1">
            <a:off x="228600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8098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6688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514600" y="4876920"/>
            <a:ext cx="347400" cy="377640"/>
            <a:chOff x="2514600" y="4876920"/>
            <a:chExt cx="347400" cy="377640"/>
          </a:xfrm>
        </p:grpSpPr>
        <p:sp>
          <p:nvSpPr>
            <p:cNvPr id="529" name=""/>
            <p:cNvSpPr/>
            <p:nvPr/>
          </p:nvSpPr>
          <p:spPr>
            <a:xfrm>
              <a:off x="2688120" y="487692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14600" y="510336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01000" y="517896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48520" y="52545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965240" y="21178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19720" y="2805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95680" y="19810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=-I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5015880" y="2681280"/>
            <a:ext cx="1533600" cy="11998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83320" y="2631960"/>
            <a:ext cx="19980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86600" y="4648320"/>
            <a:ext cx="601560" cy="707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553080" y="3048120"/>
            <a:ext cx="152280" cy="456480"/>
            <a:chOff x="6553080" y="3048120"/>
            <a:chExt cx="152280" cy="456480"/>
          </a:xfrm>
        </p:grpSpPr>
        <p:sp>
          <p:nvSpPr>
            <p:cNvPr id="541" name=""/>
            <p:cNvSpPr/>
            <p:nvPr/>
          </p:nvSpPr>
          <p:spPr>
            <a:xfrm>
              <a:off x="663480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553080" y="31093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6320" y="319392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553080" y="328644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56320" y="33714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63336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867280" y="27432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62940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238880" y="5334120"/>
            <a:ext cx="347400" cy="377640"/>
            <a:chOff x="7238880" y="5334120"/>
            <a:chExt cx="347400" cy="377640"/>
          </a:xfrm>
        </p:grpSpPr>
        <p:sp>
          <p:nvSpPr>
            <p:cNvPr id="551" name=""/>
            <p:cNvSpPr/>
            <p:nvPr/>
          </p:nvSpPr>
          <p:spPr>
            <a:xfrm>
              <a:off x="7412400" y="533412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8880" y="556056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25280" y="563616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72800" y="57117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308640" y="21178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3657600"/>
            <a:ext cx="609480" cy="838080"/>
          </a:xfrm>
          <a:prstGeom prst="diamond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809880" y="2743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103720"/>
            <a:ext cx="3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45080" y="517860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5254560"/>
            <a:ext cx="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988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523880" y="27432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924680" y="3657600"/>
            <a:ext cx="609840" cy="838080"/>
          </a:xfrm>
          <a:prstGeom prst="diamond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8229600" y="2743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38880" y="4038480"/>
            <a:ext cx="228240" cy="456480"/>
            <a:chOff x="7238880" y="4038480"/>
            <a:chExt cx="228240" cy="456480"/>
          </a:xfrm>
        </p:grpSpPr>
        <p:sp>
          <p:nvSpPr>
            <p:cNvPr id="566" name=""/>
            <p:cNvSpPr/>
            <p:nvPr/>
          </p:nvSpPr>
          <p:spPr>
            <a:xfrm>
              <a:off x="7361280" y="4038480"/>
              <a:ext cx="1026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238880" y="4099680"/>
              <a:ext cx="22320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43920" y="4184280"/>
              <a:ext cx="22320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238880" y="4276800"/>
              <a:ext cx="22320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43920" y="4361760"/>
              <a:ext cx="22320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359120" y="4449960"/>
              <a:ext cx="1026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7391520" y="4495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391520" y="3809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562720" y="38098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77320" y="5560920"/>
            <a:ext cx="34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164440" y="563580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210520" y="5711760"/>
            <a:ext cx="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229600" y="4495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809880" y="3809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229600" y="3809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ABBB-C6D0-4C8F-AD97-6693EE02B8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49800" cy="4910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e Pin 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C Shift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943240" y="3733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791320" y="45716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8CD4-D16C-44FA-A297-18FDFE8BA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 flipV="1">
            <a:off x="4191120" y="1218240"/>
            <a:ext cx="4419360" cy="4724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1600200"/>
            <a:ext cx="426708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ll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V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up    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DN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results 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-II is Valid only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80120" y="1590840"/>
            <a:ext cx="423720" cy="64440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80120" y="2470320"/>
            <a:ext cx="423720" cy="64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80120" y="3819600"/>
            <a:ext cx="423720" cy="64620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80120" y="4700520"/>
            <a:ext cx="423720" cy="6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92880" y="2235240"/>
            <a:ext cx="0" cy="2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92880" y="4465800"/>
            <a:ext cx="0" cy="23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92880" y="4583160"/>
            <a:ext cx="15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198840" y="3233880"/>
            <a:ext cx="141120" cy="526680"/>
            <a:chOff x="6198840" y="3233880"/>
            <a:chExt cx="141120" cy="526680"/>
          </a:xfrm>
        </p:grpSpPr>
        <p:sp>
          <p:nvSpPr>
            <p:cNvPr id="598" name=""/>
            <p:cNvSpPr/>
            <p:nvPr/>
          </p:nvSpPr>
          <p:spPr>
            <a:xfrm>
              <a:off x="6274800" y="3233880"/>
              <a:ext cx="63360" cy="5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198840" y="3304440"/>
              <a:ext cx="137880" cy="8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02080" y="3402000"/>
              <a:ext cx="1378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198840" y="3508560"/>
              <a:ext cx="137880" cy="8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02080" y="3606480"/>
              <a:ext cx="1378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273360" y="3708720"/>
              <a:ext cx="63360" cy="5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269040" y="3760920"/>
            <a:ext cx="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269040" y="2352600"/>
            <a:ext cx="0" cy="88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138280" y="1355400"/>
            <a:ext cx="706680" cy="235080"/>
            <a:chOff x="5138280" y="1355400"/>
            <a:chExt cx="706680" cy="235080"/>
          </a:xfrm>
        </p:grpSpPr>
        <p:sp>
          <p:nvSpPr>
            <p:cNvPr id="607" name=""/>
            <p:cNvSpPr/>
            <p:nvPr/>
          </p:nvSpPr>
          <p:spPr>
            <a:xfrm flipV="1">
              <a:off x="5491800" y="1355400"/>
              <a:ext cx="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138280" y="1355760"/>
              <a:ext cx="70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138280" y="3584160"/>
            <a:ext cx="706680" cy="235080"/>
            <a:chOff x="5138280" y="3584160"/>
            <a:chExt cx="706680" cy="235080"/>
          </a:xfrm>
        </p:grpSpPr>
        <p:sp>
          <p:nvSpPr>
            <p:cNvPr id="610" name=""/>
            <p:cNvSpPr/>
            <p:nvPr/>
          </p:nvSpPr>
          <p:spPr>
            <a:xfrm flipV="1">
              <a:off x="5491800" y="3584160"/>
              <a:ext cx="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138280" y="3584520"/>
              <a:ext cx="70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280120" y="3116160"/>
            <a:ext cx="423720" cy="235080"/>
            <a:chOff x="5280120" y="3116160"/>
            <a:chExt cx="423720" cy="235080"/>
          </a:xfrm>
        </p:grpSpPr>
        <p:sp>
          <p:nvSpPr>
            <p:cNvPr id="613" name=""/>
            <p:cNvSpPr/>
            <p:nvPr/>
          </p:nvSpPr>
          <p:spPr>
            <a:xfrm>
              <a:off x="5491800" y="311616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80120" y="323352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50680" y="3292560"/>
              <a:ext cx="2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21240" y="3351240"/>
              <a:ext cx="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280120" y="5345280"/>
            <a:ext cx="423720" cy="234720"/>
            <a:chOff x="5280120" y="5345280"/>
            <a:chExt cx="423720" cy="234720"/>
          </a:xfrm>
        </p:grpSpPr>
        <p:sp>
          <p:nvSpPr>
            <p:cNvPr id="618" name=""/>
            <p:cNvSpPr/>
            <p:nvPr/>
          </p:nvSpPr>
          <p:spPr>
            <a:xfrm>
              <a:off x="5491800" y="534528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80120" y="546264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50680" y="5521320"/>
              <a:ext cx="2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21240" y="5580000"/>
              <a:ext cx="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6127920" y="2293920"/>
            <a:ext cx="28224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27920" y="4524480"/>
            <a:ext cx="28224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7047000" y="4524480"/>
            <a:ext cx="611640" cy="166320"/>
            <a:chOff x="7047000" y="4524480"/>
            <a:chExt cx="611640" cy="166320"/>
          </a:xfrm>
        </p:grpSpPr>
        <p:sp>
          <p:nvSpPr>
            <p:cNvPr id="625" name=""/>
            <p:cNvSpPr/>
            <p:nvPr/>
          </p:nvSpPr>
          <p:spPr>
            <a:xfrm flipV="1">
              <a:off x="7047000" y="4526640"/>
              <a:ext cx="608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28720" y="4528080"/>
              <a:ext cx="10044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242480" y="4524480"/>
              <a:ext cx="997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66680" y="4528080"/>
              <a:ext cx="10044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80440" y="4524480"/>
              <a:ext cx="997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7598520" y="4528080"/>
              <a:ext cx="6012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612200" y="458316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845320" y="1708200"/>
            <a:ext cx="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45320" y="4818240"/>
            <a:ext cx="0" cy="40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77120" y="251460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409800" y="4348080"/>
            <a:ext cx="63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00800" y="281952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21240" y="2293920"/>
            <a:ext cx="1414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21240" y="4524480"/>
            <a:ext cx="1414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238880" y="37339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315200" y="380988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238880" y="3809880"/>
            <a:ext cx="479520" cy="265320"/>
            <a:chOff x="7238880" y="3809880"/>
            <a:chExt cx="479520" cy="265320"/>
          </a:xfrm>
        </p:grpSpPr>
        <p:sp>
          <p:nvSpPr>
            <p:cNvPr id="642" name=""/>
            <p:cNvSpPr/>
            <p:nvPr/>
          </p:nvSpPr>
          <p:spPr>
            <a:xfrm>
              <a:off x="7478640" y="3809880"/>
              <a:ext cx="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38880" y="3942360"/>
              <a:ext cx="47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8800" y="4008960"/>
              <a:ext cx="23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98720" y="4075200"/>
              <a:ext cx="7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934320" y="2286360"/>
            <a:ext cx="666000" cy="171360"/>
            <a:chOff x="6934320" y="2286360"/>
            <a:chExt cx="666000" cy="171360"/>
          </a:xfrm>
        </p:grpSpPr>
        <p:sp>
          <p:nvSpPr>
            <p:cNvPr id="647" name=""/>
            <p:cNvSpPr/>
            <p:nvPr/>
          </p:nvSpPr>
          <p:spPr>
            <a:xfrm flipV="1">
              <a:off x="6934320" y="2288520"/>
              <a:ext cx="66240" cy="7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23240" y="2290320"/>
              <a:ext cx="10944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147080" y="2286360"/>
              <a:ext cx="10872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82080" y="2290320"/>
              <a:ext cx="10944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405920" y="2286360"/>
              <a:ext cx="10872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7534800" y="2290320"/>
              <a:ext cx="65520" cy="7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 flipH="1">
            <a:off x="5486400" y="2362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620120" y="23623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8229600" y="236232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619760" y="2362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46748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34290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077320" y="32004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90FE-93AF-404B-9FE8-3FB60BCC85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-Vcc To 2Vcc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90720" y="2286000"/>
            <a:ext cx="7010280" cy="3809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Hi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1388880" y="2982960"/>
            <a:ext cx="2708280" cy="21016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78520" y="4255920"/>
            <a:ext cx="701640" cy="657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58840" y="5064120"/>
            <a:ext cx="216000" cy="2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4125960"/>
            <a:ext cx="65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775040" y="4518000"/>
            <a:ext cx="453960" cy="523440"/>
            <a:chOff x="4775040" y="4518000"/>
            <a:chExt cx="453960" cy="523440"/>
          </a:xfrm>
        </p:grpSpPr>
        <p:sp>
          <p:nvSpPr>
            <p:cNvPr id="668" name=""/>
            <p:cNvSpPr/>
            <p:nvPr/>
          </p:nvSpPr>
          <p:spPr>
            <a:xfrm>
              <a:off x="5001840" y="4518000"/>
              <a:ext cx="0" cy="31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75040" y="4831920"/>
              <a:ext cx="45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88080" y="4936680"/>
              <a:ext cx="22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50000" y="5041440"/>
              <a:ext cx="10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878520" y="3206880"/>
            <a:ext cx="701640" cy="65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299360" y="4913280"/>
            <a:ext cx="0" cy="26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99360" y="3863880"/>
            <a:ext cx="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6932520" y="3028680"/>
            <a:ext cx="711360" cy="88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878520" y="4125600"/>
            <a:ext cx="701640" cy="91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75040" y="4518000"/>
            <a:ext cx="42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35360" y="4387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057280" y="3994200"/>
            <a:ext cx="224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057640" y="3993840"/>
            <a:ext cx="0" cy="39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85840" y="3429000"/>
            <a:ext cx="139680" cy="1050120"/>
            <a:chOff x="3885840" y="3429000"/>
            <a:chExt cx="139680" cy="1050120"/>
          </a:xfrm>
        </p:grpSpPr>
        <p:sp>
          <p:nvSpPr>
            <p:cNvPr id="682" name=""/>
            <p:cNvSpPr/>
            <p:nvPr/>
          </p:nvSpPr>
          <p:spPr>
            <a:xfrm>
              <a:off x="3961080" y="3429000"/>
              <a:ext cx="6264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3885840" y="356940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89080" y="376452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885840" y="397692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89080" y="417204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959640" y="4375440"/>
              <a:ext cx="6264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2297160" y="5191200"/>
            <a:ext cx="499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058840" y="2905200"/>
            <a:ext cx="522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88200" y="2905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86400" y="2743200"/>
            <a:ext cx="101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562360" y="5334120"/>
            <a:ext cx="101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748040" y="2666880"/>
            <a:ext cx="433440" cy="493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76760" y="2666880"/>
            <a:ext cx="504720" cy="493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572000" y="5029200"/>
            <a:ext cx="433440" cy="4935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30600" y="4952880"/>
            <a:ext cx="650880" cy="493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96252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62520" y="4419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9880" y="28195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09880" y="51055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4573-C4E1-412A-BE78-7375391977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33520" y="1981080"/>
            <a:ext cx="7848360" cy="4038840"/>
            <a:chOff x="533520" y="1981080"/>
            <a:chExt cx="7848360" cy="4038840"/>
          </a:xfrm>
        </p:grpSpPr>
        <p:sp>
          <p:nvSpPr>
            <p:cNvPr id="704" name=""/>
            <p:cNvSpPr/>
            <p:nvPr/>
          </p:nvSpPr>
          <p:spPr>
            <a:xfrm>
              <a:off x="533520" y="1981080"/>
              <a:ext cx="7848360" cy="403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T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ISE                                                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FALL                                                                  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1288800" y="2657160"/>
              <a:ext cx="2870280" cy="23529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60720" y="2678040"/>
              <a:ext cx="2038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97000" y="2538360"/>
              <a:ext cx="23976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8080" y="3962520"/>
              <a:ext cx="7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09880" y="5045040"/>
              <a:ext cx="203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4921200" y="4348080"/>
              <a:ext cx="507600" cy="553680"/>
              <a:chOff x="4921200" y="4348080"/>
              <a:chExt cx="507600" cy="553680"/>
            </a:xfrm>
          </p:grpSpPr>
          <p:sp>
            <p:nvSpPr>
              <p:cNvPr id="711" name=""/>
              <p:cNvSpPr/>
              <p:nvPr/>
            </p:nvSpPr>
            <p:spPr>
              <a:xfrm>
                <a:off x="5175000" y="4348080"/>
                <a:ext cx="0" cy="33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21200" y="468000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47560" y="4790880"/>
                <a:ext cx="25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116680" y="4901760"/>
                <a:ext cx="116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4025880" y="2678040"/>
              <a:ext cx="360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68560" y="5045040"/>
              <a:ext cx="376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34160" y="2678040"/>
              <a:ext cx="180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634160" y="4765680"/>
              <a:ext cx="180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24440" y="4348080"/>
              <a:ext cx="47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59200" y="4210200"/>
              <a:ext cx="78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122800" y="3790800"/>
              <a:ext cx="251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180040" y="3809520"/>
              <a:ext cx="1440" cy="4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7472160" y="2955960"/>
              <a:ext cx="249480" cy="560160"/>
              <a:chOff x="7472160" y="2955960"/>
              <a:chExt cx="249480" cy="560160"/>
            </a:xfrm>
          </p:grpSpPr>
          <p:sp>
            <p:nvSpPr>
              <p:cNvPr id="724" name=""/>
              <p:cNvSpPr/>
              <p:nvPr/>
            </p:nvSpPr>
            <p:spPr>
              <a:xfrm>
                <a:off x="7606440" y="295596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472160" y="3031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77920" y="31345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7472160" y="32486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77920" y="33523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7603920" y="346140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7472160" y="4210200"/>
              <a:ext cx="249480" cy="559800"/>
              <a:chOff x="7472160" y="4210200"/>
              <a:chExt cx="249480" cy="559800"/>
            </a:xfrm>
          </p:grpSpPr>
          <p:sp>
            <p:nvSpPr>
              <p:cNvPr id="731" name=""/>
              <p:cNvSpPr/>
              <p:nvPr/>
            </p:nvSpPr>
            <p:spPr>
              <a:xfrm>
                <a:off x="7606440" y="421020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472160" y="42854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477920" y="438876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472160" y="450288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477920" y="4606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603920" y="471528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7634160" y="3513240"/>
              <a:ext cx="1800" cy="6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4114440" y="3429000"/>
              <a:ext cx="139680" cy="1050120"/>
              <a:chOff x="4114440" y="3429000"/>
              <a:chExt cx="139680" cy="1050120"/>
            </a:xfrm>
          </p:grpSpPr>
          <p:sp>
            <p:nvSpPr>
              <p:cNvPr id="739" name=""/>
              <p:cNvSpPr/>
              <p:nvPr/>
            </p:nvSpPr>
            <p:spPr>
              <a:xfrm>
                <a:off x="4189680" y="3429000"/>
                <a:ext cx="62640" cy="10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114440" y="356940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117680" y="376452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4114440" y="397692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117680" y="417204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4188240" y="4375440"/>
                <a:ext cx="62640" cy="10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V="1">
              <a:off x="4191120" y="26665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91120" y="4495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38480" y="25909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38480" y="4952880"/>
              <a:ext cx="2286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E3EF-6058-46B4-B6D2-1E1EBFC137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124760" cy="503244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e Pin 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C Shif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I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410080" y="4038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181480" y="4648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292C-C0CB-4388-BD44-9AD67F0EE9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 flipV="1">
            <a:off x="4191120" y="1218240"/>
            <a:ext cx="4419360" cy="4724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62520" y="1600200"/>
            <a:ext cx="426708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ll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V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up    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DN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results 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-III is Valid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80120" y="1590840"/>
            <a:ext cx="423720" cy="64440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80120" y="2470320"/>
            <a:ext cx="423720" cy="64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80120" y="3819600"/>
            <a:ext cx="423720" cy="64620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80120" y="4700520"/>
            <a:ext cx="423720" cy="64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2880" y="2235240"/>
            <a:ext cx="0" cy="2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492880" y="4465800"/>
            <a:ext cx="0" cy="23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92880" y="4583160"/>
            <a:ext cx="15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198840" y="3233880"/>
            <a:ext cx="141120" cy="526680"/>
            <a:chOff x="6198840" y="3233880"/>
            <a:chExt cx="141120" cy="526680"/>
          </a:xfrm>
        </p:grpSpPr>
        <p:sp>
          <p:nvSpPr>
            <p:cNvPr id="766" name=""/>
            <p:cNvSpPr/>
            <p:nvPr/>
          </p:nvSpPr>
          <p:spPr>
            <a:xfrm>
              <a:off x="6274800" y="3233880"/>
              <a:ext cx="63360" cy="5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198840" y="3304440"/>
              <a:ext cx="137880" cy="8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2080" y="3402000"/>
              <a:ext cx="1378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198840" y="3508560"/>
              <a:ext cx="137880" cy="8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02080" y="3606480"/>
              <a:ext cx="1378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6273360" y="3708720"/>
              <a:ext cx="63360" cy="5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269040" y="3760920"/>
            <a:ext cx="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269040" y="2352600"/>
            <a:ext cx="0" cy="88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138280" y="1355400"/>
            <a:ext cx="706680" cy="235080"/>
            <a:chOff x="5138280" y="1355400"/>
            <a:chExt cx="706680" cy="235080"/>
          </a:xfrm>
        </p:grpSpPr>
        <p:sp>
          <p:nvSpPr>
            <p:cNvPr id="775" name=""/>
            <p:cNvSpPr/>
            <p:nvPr/>
          </p:nvSpPr>
          <p:spPr>
            <a:xfrm flipV="1">
              <a:off x="5491800" y="1355400"/>
              <a:ext cx="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138280" y="1355760"/>
              <a:ext cx="70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138280" y="3584160"/>
            <a:ext cx="706680" cy="235080"/>
            <a:chOff x="5138280" y="3584160"/>
            <a:chExt cx="706680" cy="235080"/>
          </a:xfrm>
        </p:grpSpPr>
        <p:sp>
          <p:nvSpPr>
            <p:cNvPr id="778" name=""/>
            <p:cNvSpPr/>
            <p:nvPr/>
          </p:nvSpPr>
          <p:spPr>
            <a:xfrm flipV="1">
              <a:off x="5491800" y="3584160"/>
              <a:ext cx="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138280" y="3584520"/>
              <a:ext cx="70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5280120" y="3116160"/>
            <a:ext cx="423720" cy="235080"/>
            <a:chOff x="5280120" y="3116160"/>
            <a:chExt cx="423720" cy="235080"/>
          </a:xfrm>
        </p:grpSpPr>
        <p:sp>
          <p:nvSpPr>
            <p:cNvPr id="781" name=""/>
            <p:cNvSpPr/>
            <p:nvPr/>
          </p:nvSpPr>
          <p:spPr>
            <a:xfrm>
              <a:off x="5491800" y="311616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80120" y="323352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50680" y="3292560"/>
              <a:ext cx="2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21240" y="3351240"/>
              <a:ext cx="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280120" y="5345280"/>
            <a:ext cx="423720" cy="234720"/>
            <a:chOff x="5280120" y="5345280"/>
            <a:chExt cx="423720" cy="234720"/>
          </a:xfrm>
        </p:grpSpPr>
        <p:sp>
          <p:nvSpPr>
            <p:cNvPr id="786" name=""/>
            <p:cNvSpPr/>
            <p:nvPr/>
          </p:nvSpPr>
          <p:spPr>
            <a:xfrm>
              <a:off x="5491800" y="534528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80120" y="546264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50680" y="5521320"/>
              <a:ext cx="2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21240" y="5580000"/>
              <a:ext cx="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6127920" y="2293920"/>
            <a:ext cx="28224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127920" y="4524480"/>
            <a:ext cx="28224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047000" y="4524480"/>
            <a:ext cx="611640" cy="166320"/>
            <a:chOff x="7047000" y="4524480"/>
            <a:chExt cx="611640" cy="166320"/>
          </a:xfrm>
        </p:grpSpPr>
        <p:sp>
          <p:nvSpPr>
            <p:cNvPr id="793" name=""/>
            <p:cNvSpPr/>
            <p:nvPr/>
          </p:nvSpPr>
          <p:spPr>
            <a:xfrm flipV="1">
              <a:off x="7047000" y="4526640"/>
              <a:ext cx="608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28720" y="4528080"/>
              <a:ext cx="10044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242480" y="4524480"/>
              <a:ext cx="997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66680" y="4528080"/>
              <a:ext cx="10044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480440" y="4524480"/>
              <a:ext cx="997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7598520" y="4528080"/>
              <a:ext cx="6012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7612200" y="458316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5320" y="1708200"/>
            <a:ext cx="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45320" y="4818240"/>
            <a:ext cx="0" cy="40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77120" y="2514600"/>
            <a:ext cx="635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409800" y="4348080"/>
            <a:ext cx="63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400800" y="281952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421240" y="2293920"/>
            <a:ext cx="1414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21240" y="4524480"/>
            <a:ext cx="1414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238880" y="37339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7315200" y="380988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7238880" y="3809880"/>
            <a:ext cx="479520" cy="265320"/>
            <a:chOff x="7238880" y="3809880"/>
            <a:chExt cx="479520" cy="265320"/>
          </a:xfrm>
        </p:grpSpPr>
        <p:sp>
          <p:nvSpPr>
            <p:cNvPr id="810" name=""/>
            <p:cNvSpPr/>
            <p:nvPr/>
          </p:nvSpPr>
          <p:spPr>
            <a:xfrm>
              <a:off x="7478640" y="3809880"/>
              <a:ext cx="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38880" y="3942360"/>
              <a:ext cx="47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18800" y="4008960"/>
              <a:ext cx="23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398720" y="4075200"/>
              <a:ext cx="7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934320" y="2286360"/>
            <a:ext cx="666000" cy="171360"/>
            <a:chOff x="6934320" y="2286360"/>
            <a:chExt cx="666000" cy="171360"/>
          </a:xfrm>
        </p:grpSpPr>
        <p:sp>
          <p:nvSpPr>
            <p:cNvPr id="815" name=""/>
            <p:cNvSpPr/>
            <p:nvPr/>
          </p:nvSpPr>
          <p:spPr>
            <a:xfrm flipV="1">
              <a:off x="6934320" y="2288520"/>
              <a:ext cx="66240" cy="7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23240" y="2290320"/>
              <a:ext cx="10944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147080" y="2286360"/>
              <a:ext cx="10872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82080" y="2290320"/>
              <a:ext cx="10944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405920" y="2286360"/>
              <a:ext cx="108720" cy="16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534800" y="2290320"/>
              <a:ext cx="65520" cy="7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5486400" y="2362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20120" y="23623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229600" y="236232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7619760" y="2362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46748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67480" y="34290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077320" y="320040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065E-12B6-4700-BC35-1708B0ACC1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48520" y="152280"/>
            <a:ext cx="2666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0033"/>
                </a:solidFill>
                <a:latin typeface="Times New Roman"/>
              </a:rPr>
              <a:t>LVDS Mode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71840" y="41907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zem Hegaz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hammed Koran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ID-SW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Genera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Pi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7BEB-DDC5-451E-9054-715C350199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-Vcc To 2Vcc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4400" y="2209680"/>
            <a:ext cx="723888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                   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ID-SW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5400000">
            <a:off x="1299960" y="2989080"/>
            <a:ext cx="2924280" cy="22161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22960" y="4336920"/>
            <a:ext cx="739800" cy="70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41560" y="5210280"/>
            <a:ext cx="226800" cy="250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14400" y="4197240"/>
            <a:ext cx="69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4905360" y="4621320"/>
            <a:ext cx="477360" cy="564840"/>
            <a:chOff x="4905360" y="4621320"/>
            <a:chExt cx="477360" cy="564840"/>
          </a:xfrm>
        </p:grpSpPr>
        <p:sp>
          <p:nvSpPr>
            <p:cNvPr id="838" name=""/>
            <p:cNvSpPr/>
            <p:nvPr/>
          </p:nvSpPr>
          <p:spPr>
            <a:xfrm>
              <a:off x="5144040" y="4621320"/>
              <a:ext cx="0" cy="33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05360" y="4960080"/>
              <a:ext cx="47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024160" y="5073120"/>
              <a:ext cx="23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89320" y="518616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122960" y="3203640"/>
            <a:ext cx="739800" cy="709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566120" y="5046480"/>
            <a:ext cx="0" cy="28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66120" y="3913200"/>
            <a:ext cx="0" cy="42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178760" y="3011400"/>
            <a:ext cx="750960" cy="96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122960" y="4197240"/>
            <a:ext cx="739800" cy="99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05360" y="46213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757760" y="4479840"/>
            <a:ext cx="73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5202360" y="4054320"/>
            <a:ext cx="2363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5202360" y="4054320"/>
            <a:ext cx="0" cy="4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92480" y="5346720"/>
            <a:ext cx="526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041200" y="2878200"/>
            <a:ext cx="551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554960" y="287820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5943240" y="5486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5181480" y="2666880"/>
            <a:ext cx="457200" cy="533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81480" y="2666880"/>
            <a:ext cx="533520" cy="533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5029200" y="5105520"/>
            <a:ext cx="457200" cy="533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952880" y="5105520"/>
            <a:ext cx="685800" cy="533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962160" y="3581280"/>
            <a:ext cx="139680" cy="1050480"/>
            <a:chOff x="3962160" y="3581280"/>
            <a:chExt cx="139680" cy="1050480"/>
          </a:xfrm>
        </p:grpSpPr>
        <p:sp>
          <p:nvSpPr>
            <p:cNvPr id="861" name=""/>
            <p:cNvSpPr/>
            <p:nvPr/>
          </p:nvSpPr>
          <p:spPr>
            <a:xfrm>
              <a:off x="4037400" y="3581280"/>
              <a:ext cx="6264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962160" y="372168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5400" y="391680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962160" y="412956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65400" y="432468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4035960" y="4528080"/>
              <a:ext cx="6264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 flipV="1">
            <a:off x="4038480" y="2895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8480" y="4648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86200" y="28195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86200" y="525780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521C-A039-4BB0-9FA4-39F92FF655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ID-SWING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33520" y="1905120"/>
            <a:ext cx="7848360" cy="4038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ID-SW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Avg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         DC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r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_fix=5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                                         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_fix=5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PAD             DC V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or V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5400000">
            <a:off x="1288800" y="2657160"/>
            <a:ext cx="2870280" cy="23529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60720" y="2678040"/>
            <a:ext cx="2038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97000" y="2538360"/>
            <a:ext cx="239760" cy="24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38080" y="3962520"/>
            <a:ext cx="733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9880" y="5045040"/>
            <a:ext cx="2039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921200" y="4348080"/>
            <a:ext cx="507600" cy="553680"/>
            <a:chOff x="4921200" y="4348080"/>
            <a:chExt cx="507600" cy="553680"/>
          </a:xfrm>
        </p:grpSpPr>
        <p:sp>
          <p:nvSpPr>
            <p:cNvPr id="880" name=""/>
            <p:cNvSpPr/>
            <p:nvPr/>
          </p:nvSpPr>
          <p:spPr>
            <a:xfrm>
              <a:off x="5175000" y="4348080"/>
              <a:ext cx="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921200" y="4680000"/>
              <a:ext cx="50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47560" y="479088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901760"/>
              <a:ext cx="11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4025880" y="2678040"/>
            <a:ext cx="3608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68560" y="5045040"/>
            <a:ext cx="3765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4160" y="2678040"/>
            <a:ext cx="1800" cy="2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7634160" y="4765680"/>
            <a:ext cx="180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24440" y="4348080"/>
            <a:ext cx="471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759200" y="4210200"/>
            <a:ext cx="785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122800" y="3790800"/>
            <a:ext cx="2511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180040" y="3809520"/>
            <a:ext cx="1440" cy="41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114440" y="3276720"/>
            <a:ext cx="158760" cy="1112760"/>
            <a:chOff x="4114440" y="3276720"/>
            <a:chExt cx="158760" cy="1112760"/>
          </a:xfrm>
        </p:grpSpPr>
        <p:sp>
          <p:nvSpPr>
            <p:cNvPr id="893" name=""/>
            <p:cNvSpPr/>
            <p:nvPr/>
          </p:nvSpPr>
          <p:spPr>
            <a:xfrm>
              <a:off x="4199760" y="3276720"/>
              <a:ext cx="7128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114440" y="3425760"/>
              <a:ext cx="1551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18040" y="3632400"/>
              <a:ext cx="155160" cy="1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114440" y="3857760"/>
              <a:ext cx="1551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18040" y="4064400"/>
              <a:ext cx="155160" cy="1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4198320" y="4279680"/>
              <a:ext cx="7128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472160" y="2955960"/>
            <a:ext cx="249480" cy="560160"/>
            <a:chOff x="7472160" y="2955960"/>
            <a:chExt cx="249480" cy="560160"/>
          </a:xfrm>
        </p:grpSpPr>
        <p:sp>
          <p:nvSpPr>
            <p:cNvPr id="900" name=""/>
            <p:cNvSpPr/>
            <p:nvPr/>
          </p:nvSpPr>
          <p:spPr>
            <a:xfrm>
              <a:off x="7606440" y="2955960"/>
              <a:ext cx="11268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7472160" y="303120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77920" y="313452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472160" y="324864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77920" y="335232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7603920" y="3461400"/>
              <a:ext cx="111960" cy="5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7472160" y="4210200"/>
            <a:ext cx="249480" cy="559800"/>
            <a:chOff x="7472160" y="4210200"/>
            <a:chExt cx="249480" cy="559800"/>
          </a:xfrm>
        </p:grpSpPr>
        <p:sp>
          <p:nvSpPr>
            <p:cNvPr id="907" name=""/>
            <p:cNvSpPr/>
            <p:nvPr/>
          </p:nvSpPr>
          <p:spPr>
            <a:xfrm>
              <a:off x="7606440" y="4210200"/>
              <a:ext cx="11268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7472160" y="428544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77920" y="438876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472160" y="450288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77920" y="460620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7603920" y="4715280"/>
              <a:ext cx="111960" cy="5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7634160" y="3513240"/>
            <a:ext cx="180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4191120" y="2666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91120" y="4343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038480" y="25909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38480" y="4952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F2CD-B442-4900-BF57-71BFB964C1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533520" y="1981080"/>
            <a:ext cx="7848360" cy="4038840"/>
            <a:chOff x="533520" y="1981080"/>
            <a:chExt cx="7848360" cy="4038840"/>
          </a:xfrm>
        </p:grpSpPr>
        <p:sp>
          <p:nvSpPr>
            <p:cNvPr id="921" name=""/>
            <p:cNvSpPr/>
            <p:nvPr/>
          </p:nvSpPr>
          <p:spPr>
            <a:xfrm>
              <a:off x="533520" y="1981080"/>
              <a:ext cx="7848360" cy="403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T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ISE                                                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FALL                                                                  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5400000">
              <a:off x="1288800" y="2657160"/>
              <a:ext cx="2870280" cy="23529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60720" y="2678040"/>
              <a:ext cx="2038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097000" y="2538360"/>
              <a:ext cx="23976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8080" y="3962520"/>
              <a:ext cx="7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09880" y="5045040"/>
              <a:ext cx="203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921200" y="4348080"/>
              <a:ext cx="507600" cy="553680"/>
              <a:chOff x="4921200" y="4348080"/>
              <a:chExt cx="507600" cy="553680"/>
            </a:xfrm>
          </p:grpSpPr>
          <p:sp>
            <p:nvSpPr>
              <p:cNvPr id="928" name=""/>
              <p:cNvSpPr/>
              <p:nvPr/>
            </p:nvSpPr>
            <p:spPr>
              <a:xfrm>
                <a:off x="5175000" y="4348080"/>
                <a:ext cx="0" cy="33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21200" y="468000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47560" y="4790880"/>
                <a:ext cx="25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116680" y="4901760"/>
                <a:ext cx="116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4025880" y="2678040"/>
              <a:ext cx="360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68560" y="5045040"/>
              <a:ext cx="376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34160" y="2678040"/>
              <a:ext cx="180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634160" y="4765680"/>
              <a:ext cx="180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24440" y="4348080"/>
              <a:ext cx="47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759200" y="4210200"/>
              <a:ext cx="78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5122800" y="3790800"/>
              <a:ext cx="251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5180040" y="3809520"/>
              <a:ext cx="1440" cy="4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7472160" y="2955960"/>
              <a:ext cx="249480" cy="560160"/>
              <a:chOff x="7472160" y="2955960"/>
              <a:chExt cx="249480" cy="560160"/>
            </a:xfrm>
          </p:grpSpPr>
          <p:sp>
            <p:nvSpPr>
              <p:cNvPr id="941" name=""/>
              <p:cNvSpPr/>
              <p:nvPr/>
            </p:nvSpPr>
            <p:spPr>
              <a:xfrm>
                <a:off x="7606440" y="295596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7472160" y="3031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477920" y="31345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7472160" y="32486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477920" y="33523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7603920" y="346140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7472160" y="4210200"/>
              <a:ext cx="249480" cy="559800"/>
              <a:chOff x="7472160" y="4210200"/>
              <a:chExt cx="249480" cy="559800"/>
            </a:xfrm>
          </p:grpSpPr>
          <p:sp>
            <p:nvSpPr>
              <p:cNvPr id="948" name=""/>
              <p:cNvSpPr/>
              <p:nvPr/>
            </p:nvSpPr>
            <p:spPr>
              <a:xfrm>
                <a:off x="7606440" y="421020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7472160" y="42854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77920" y="438876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7472160" y="450288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77920" y="4606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7603920" y="471528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7634160" y="3513240"/>
              <a:ext cx="1800" cy="6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4114440" y="3429000"/>
              <a:ext cx="139680" cy="1050120"/>
              <a:chOff x="4114440" y="3429000"/>
              <a:chExt cx="139680" cy="1050120"/>
            </a:xfrm>
          </p:grpSpPr>
          <p:sp>
            <p:nvSpPr>
              <p:cNvPr id="956" name=""/>
              <p:cNvSpPr/>
              <p:nvPr/>
            </p:nvSpPr>
            <p:spPr>
              <a:xfrm>
                <a:off x="4189680" y="3429000"/>
                <a:ext cx="62640" cy="10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4114440" y="356940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17680" y="376452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4114440" y="397692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117680" y="417204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4188240" y="4375440"/>
                <a:ext cx="62640" cy="10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 flipV="1">
              <a:off x="4191120" y="26665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191120" y="4495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8480" y="25909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38480" y="4952880"/>
              <a:ext cx="2286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7502-7A37-4735-90BB-70984979D8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49500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e Pin 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82D6-4917-48FA-BE61-2D47FF7587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479124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e Pin Simulation at 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C Shif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71500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867280" y="41148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50F1-7040-4F93-9771-A18E0BBC12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Pi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ial Pi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Lo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4314-5ADB-4C00-A587-5AF25CE8E7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77120" cy="457344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Idea ( Slot of the Curve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 Poin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ving Q Point Backward                                                                                                 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REF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ving Q Point Forwar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410080" y="358128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733920" y="26668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486040" y="2819520"/>
            <a:ext cx="1522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733920" y="3504960"/>
            <a:ext cx="24382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3733920" y="3885840"/>
            <a:ext cx="2743200" cy="2286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4419720" y="312372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791320" y="36576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F755-037E-4C4D-82C7-68E3EBA903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90720" y="2057400"/>
            <a:ext cx="7696080" cy="3962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[0-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Ohm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Hi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[0-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]Oh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rot="5400000">
            <a:off x="1506960" y="2719800"/>
            <a:ext cx="2814480" cy="23083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374920" y="273996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2603520"/>
            <a:ext cx="236520" cy="24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990720" y="397044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20840" y="506268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96040" y="4379760"/>
            <a:ext cx="0" cy="32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46560" y="4707000"/>
            <a:ext cx="49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70400" y="481500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8800" y="4924440"/>
            <a:ext cx="11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376880" y="2739960"/>
            <a:ext cx="353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222800" y="5062680"/>
            <a:ext cx="3693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916760" y="273996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7916760" y="4789080"/>
            <a:ext cx="0" cy="27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7543800" y="2742840"/>
            <a:ext cx="768240" cy="95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7543800" y="3962520"/>
            <a:ext cx="768240" cy="95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46560" y="4379760"/>
            <a:ext cx="46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992840" y="4243320"/>
            <a:ext cx="76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5454360" y="3833640"/>
            <a:ext cx="246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454720" y="3833640"/>
            <a:ext cx="0" cy="4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904160" y="2954160"/>
            <a:ext cx="11124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7773480" y="3025800"/>
            <a:ext cx="236520" cy="8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78880" y="3124080"/>
            <a:ext cx="237960" cy="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7773480" y="3232080"/>
            <a:ext cx="236520" cy="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778880" y="3330720"/>
            <a:ext cx="237960" cy="8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7902720" y="3433680"/>
            <a:ext cx="107640" cy="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04160" y="4275000"/>
            <a:ext cx="11124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7773480" y="4346640"/>
            <a:ext cx="236520" cy="8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778880" y="4444920"/>
            <a:ext cx="237960" cy="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7773840" y="4572000"/>
            <a:ext cx="26064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778880" y="4651200"/>
            <a:ext cx="237960" cy="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7902720" y="4754520"/>
            <a:ext cx="107640" cy="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904160" y="34815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48520" y="5181480"/>
            <a:ext cx="130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562720" y="4724280"/>
            <a:ext cx="522000" cy="66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638680" y="4724280"/>
            <a:ext cx="522360" cy="66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6477120" y="2819520"/>
            <a:ext cx="1172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715000" y="2362320"/>
            <a:ext cx="522360" cy="66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5791320" y="2362320"/>
            <a:ext cx="522000" cy="66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4266720" y="3276720"/>
            <a:ext cx="158760" cy="1112760"/>
            <a:chOff x="4266720" y="3276720"/>
            <a:chExt cx="158760" cy="1112760"/>
          </a:xfrm>
        </p:grpSpPr>
        <p:sp>
          <p:nvSpPr>
            <p:cNvPr id="1028" name=""/>
            <p:cNvSpPr/>
            <p:nvPr/>
          </p:nvSpPr>
          <p:spPr>
            <a:xfrm>
              <a:off x="4352040" y="3276720"/>
              <a:ext cx="7128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6720" y="3425760"/>
              <a:ext cx="1551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270320" y="3632400"/>
              <a:ext cx="155160" cy="1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266720" y="3857760"/>
              <a:ext cx="1551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70320" y="4064400"/>
              <a:ext cx="155160" cy="1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4350600" y="4279680"/>
              <a:ext cx="7128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 flipV="1">
            <a:off x="434340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43400" y="4419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91120" y="2666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191120" y="4952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3EDE-6949-4067-8604-274A83BD56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533520" y="1981080"/>
            <a:ext cx="7848360" cy="4038840"/>
            <a:chOff x="533520" y="1981080"/>
            <a:chExt cx="7848360" cy="4038840"/>
          </a:xfrm>
        </p:grpSpPr>
        <p:sp>
          <p:nvSpPr>
            <p:cNvPr id="1041" name=""/>
            <p:cNvSpPr/>
            <p:nvPr/>
          </p:nvSpPr>
          <p:spPr>
            <a:xfrm>
              <a:off x="533520" y="1981080"/>
              <a:ext cx="7848360" cy="403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T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ISE                                                 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FALL                                                                  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_fix=5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5400000">
              <a:off x="1288800" y="2657160"/>
              <a:ext cx="2870280" cy="23529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60720" y="2678040"/>
              <a:ext cx="2038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97000" y="2538360"/>
              <a:ext cx="23976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38080" y="3962520"/>
              <a:ext cx="7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009880" y="5045040"/>
              <a:ext cx="203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4921200" y="4348080"/>
              <a:ext cx="507600" cy="553680"/>
              <a:chOff x="4921200" y="4348080"/>
              <a:chExt cx="507600" cy="553680"/>
            </a:xfrm>
          </p:grpSpPr>
          <p:sp>
            <p:nvSpPr>
              <p:cNvPr id="1048" name=""/>
              <p:cNvSpPr/>
              <p:nvPr/>
            </p:nvSpPr>
            <p:spPr>
              <a:xfrm>
                <a:off x="5175000" y="4348080"/>
                <a:ext cx="0" cy="33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921200" y="4680000"/>
                <a:ext cx="50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047560" y="4790880"/>
                <a:ext cx="25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116680" y="4901760"/>
                <a:ext cx="116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2" name=""/>
            <p:cNvSpPr/>
            <p:nvPr/>
          </p:nvSpPr>
          <p:spPr>
            <a:xfrm>
              <a:off x="4025880" y="2678040"/>
              <a:ext cx="360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868560" y="5045040"/>
              <a:ext cx="376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34160" y="2678040"/>
              <a:ext cx="180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7634160" y="4765680"/>
              <a:ext cx="180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24440" y="4348080"/>
              <a:ext cx="47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759200" y="4210200"/>
              <a:ext cx="785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5122800" y="3790800"/>
              <a:ext cx="2511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180040" y="3809520"/>
              <a:ext cx="1440" cy="4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7472160" y="2955960"/>
              <a:ext cx="249480" cy="560160"/>
              <a:chOff x="7472160" y="2955960"/>
              <a:chExt cx="249480" cy="560160"/>
            </a:xfrm>
          </p:grpSpPr>
          <p:sp>
            <p:nvSpPr>
              <p:cNvPr id="1061" name=""/>
              <p:cNvSpPr/>
              <p:nvPr/>
            </p:nvSpPr>
            <p:spPr>
              <a:xfrm>
                <a:off x="7606440" y="295596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7472160" y="3031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77920" y="31345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7472160" y="32486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477920" y="335232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7603920" y="346140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7472160" y="4210200"/>
              <a:ext cx="249480" cy="559800"/>
              <a:chOff x="7472160" y="4210200"/>
              <a:chExt cx="249480" cy="559800"/>
            </a:xfrm>
          </p:grpSpPr>
          <p:sp>
            <p:nvSpPr>
              <p:cNvPr id="1068" name=""/>
              <p:cNvSpPr/>
              <p:nvPr/>
            </p:nvSpPr>
            <p:spPr>
              <a:xfrm>
                <a:off x="7606440" y="4210200"/>
                <a:ext cx="112680" cy="5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7472160" y="428544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477920" y="438876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7472160" y="450288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77920" y="4606200"/>
                <a:ext cx="243720" cy="9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7603920" y="4715280"/>
                <a:ext cx="111960" cy="5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7634160" y="3513240"/>
              <a:ext cx="1800" cy="6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114440" y="3429000"/>
              <a:ext cx="139680" cy="1050120"/>
              <a:chOff x="4114440" y="3429000"/>
              <a:chExt cx="139680" cy="10501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189680" y="3429000"/>
                <a:ext cx="62640" cy="10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4114440" y="356940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117680" y="376452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4114440" y="3976920"/>
                <a:ext cx="13644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117680" y="4172040"/>
                <a:ext cx="136440" cy="17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4188240" y="4375440"/>
                <a:ext cx="62640" cy="10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 flipV="1">
              <a:off x="4191120" y="26665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91120" y="4495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38480" y="25909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38480" y="4952880"/>
              <a:ext cx="2286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B1E2-586E-4338-B857-12C390D74F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0033"/>
                </a:solidFill>
                <a:latin typeface="Arial"/>
              </a:rPr>
              <a:t>Outlin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VDS DC Analy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VDS Modeling Revie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Proposa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ortance of C-com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B1F7-15FB-4300-A450-7072FA8CFB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143000" y="1158840"/>
            <a:ext cx="7162920" cy="506088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/>
          <p:nvPr/>
        </p:nvSpPr>
        <p:spPr>
          <a:xfrm>
            <a:off x="380880" y="9907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e Pin 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46B3-BABB-4411-8253-048A85230A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219320" y="1268280"/>
            <a:ext cx="7010280" cy="495468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e Pin Simulation at 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AC55-EE07-4ABC-8B2C-0725950106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 at Lossy Coupled TL Terminated with LVDS R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85800" y="1676520"/>
            <a:ext cx="7543800" cy="358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Differential Internal Terminated LVDS TX              Differential LVDS R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Z11=49Ohms    Z12=11Ohms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Z22=49Ohms    Z21=11Oh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5400000">
            <a:off x="1017720" y="3461400"/>
            <a:ext cx="2043360" cy="12668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933560" y="3230640"/>
            <a:ext cx="212760" cy="314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4094280"/>
            <a:ext cx="64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068640" y="3300480"/>
            <a:ext cx="266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68640" y="4809960"/>
            <a:ext cx="266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801440" y="48099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rot="5400000">
            <a:off x="6231600" y="3355200"/>
            <a:ext cx="2043000" cy="12668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365880" y="3156120"/>
            <a:ext cx="210960" cy="314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15000" y="327672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15000" y="480060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2666520" y="3733920"/>
            <a:ext cx="193680" cy="724680"/>
            <a:chOff x="2666520" y="3733920"/>
            <a:chExt cx="193680" cy="724680"/>
          </a:xfrm>
        </p:grpSpPr>
        <p:sp>
          <p:nvSpPr>
            <p:cNvPr id="1106" name=""/>
            <p:cNvSpPr/>
            <p:nvPr/>
          </p:nvSpPr>
          <p:spPr>
            <a:xfrm>
              <a:off x="2770560" y="3733920"/>
              <a:ext cx="87120" cy="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2666520" y="383076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671200" y="396540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2666520" y="411228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671200" y="424692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768760" y="4387320"/>
              <a:ext cx="8712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 flipH="1">
            <a:off x="21337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27432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743200" y="4495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5CF3-1EE5-4EB5-8762-655760AE90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ial Simulation at Lossy Coupled TL Terminated with LVDS R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51944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2778-830E-4D70-8631-08D91D218B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Loads -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1676520"/>
            <a:ext cx="7543800" cy="358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Differential Internal Terminated LVDS TX              Differential LVDS R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Z11=49Ohms    Z12=11Ohms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/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Z22=49Ohms    Z21=11Oh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5400000">
            <a:off x="1017720" y="3461400"/>
            <a:ext cx="2043360" cy="12668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933560" y="3230640"/>
            <a:ext cx="212760" cy="314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2120" y="4094280"/>
            <a:ext cx="64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068640" y="3300480"/>
            <a:ext cx="266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68640" y="4809960"/>
            <a:ext cx="266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1801440" y="48099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5400000">
            <a:off x="6231600" y="3355200"/>
            <a:ext cx="2043000" cy="12668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365880" y="3156120"/>
            <a:ext cx="210960" cy="314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327672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15000" y="480060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666520" y="3733920"/>
            <a:ext cx="193680" cy="724680"/>
            <a:chOff x="2666520" y="3733920"/>
            <a:chExt cx="193680" cy="724680"/>
          </a:xfrm>
        </p:grpSpPr>
        <p:sp>
          <p:nvSpPr>
            <p:cNvPr id="1132" name=""/>
            <p:cNvSpPr/>
            <p:nvPr/>
          </p:nvSpPr>
          <p:spPr>
            <a:xfrm>
              <a:off x="2770560" y="3733920"/>
              <a:ext cx="87120" cy="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666520" y="383076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71200" y="396540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66520" y="411228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671200" y="424692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2768760" y="4387320"/>
              <a:ext cx="8712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 flipH="1">
            <a:off x="21337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27432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743200" y="4495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5943240" y="3733920"/>
            <a:ext cx="193680" cy="724680"/>
            <a:chOff x="5943240" y="3733920"/>
            <a:chExt cx="193680" cy="724680"/>
          </a:xfrm>
        </p:grpSpPr>
        <p:sp>
          <p:nvSpPr>
            <p:cNvPr id="1142" name=""/>
            <p:cNvSpPr/>
            <p:nvPr/>
          </p:nvSpPr>
          <p:spPr>
            <a:xfrm>
              <a:off x="6047280" y="3733920"/>
              <a:ext cx="87120" cy="7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5943240" y="383076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47920" y="396540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5943240" y="4112280"/>
              <a:ext cx="189000" cy="11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47920" y="4246920"/>
              <a:ext cx="189000" cy="1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6045480" y="4387320"/>
              <a:ext cx="8712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6019920" y="4495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601992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EC89-5DB3-431E-9A13-C671E0B925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ifferential Simulation at Lossy Coupled TL Terminated with Terminated LVDS RX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52124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ADE4-98C8-4A04-BFB1-6BF34AE872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Extract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imulation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1600200" y="3353760"/>
            <a:ext cx="5892480" cy="1507680"/>
            <a:chOff x="1600200" y="3353760"/>
            <a:chExt cx="5892480" cy="1507680"/>
          </a:xfrm>
        </p:grpSpPr>
        <p:sp>
          <p:nvSpPr>
            <p:cNvPr id="1156" name=""/>
            <p:cNvSpPr/>
            <p:nvPr/>
          </p:nvSpPr>
          <p:spPr>
            <a:xfrm>
              <a:off x="2438640" y="4420440"/>
              <a:ext cx="74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1600200" y="3353760"/>
              <a:ext cx="1481400" cy="1368360"/>
              <a:chOff x="1600200" y="3353760"/>
              <a:chExt cx="1481400" cy="1368360"/>
            </a:xfrm>
          </p:grpSpPr>
          <p:sp>
            <p:nvSpPr>
              <p:cNvPr id="1158" name=""/>
              <p:cNvSpPr/>
              <p:nvPr/>
            </p:nvSpPr>
            <p:spPr>
              <a:xfrm>
                <a:off x="2438640" y="3353760"/>
                <a:ext cx="642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5400000">
                <a:off x="1481400" y="3807720"/>
                <a:ext cx="1032840" cy="79560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852560" y="3740040"/>
                <a:ext cx="131760" cy="159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003400" y="3790800"/>
                <a:ext cx="90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901880" y="4560480"/>
                <a:ext cx="101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2558880" y="3946320"/>
                <a:ext cx="101520" cy="461160"/>
                <a:chOff x="2558880" y="3946320"/>
                <a:chExt cx="101520" cy="46116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2613600" y="3946320"/>
                  <a:ext cx="45720" cy="4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2558880" y="4007880"/>
                  <a:ext cx="9900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561400" y="4093560"/>
                  <a:ext cx="9900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2558880" y="4187160"/>
                  <a:ext cx="9900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61400" y="4272840"/>
                  <a:ext cx="9900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2612520" y="4362120"/>
                  <a:ext cx="45720" cy="4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"/>
              <p:cNvSpPr/>
              <p:nvPr/>
            </p:nvSpPr>
            <p:spPr>
              <a:xfrm flipV="1">
                <a:off x="2610000" y="3790440"/>
                <a:ext cx="0" cy="15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610000" y="440820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4647960" y="3354120"/>
              <a:ext cx="1586160" cy="1507320"/>
              <a:chOff x="4647960" y="3354120"/>
              <a:chExt cx="1586160" cy="1507320"/>
            </a:xfrm>
          </p:grpSpPr>
          <p:sp>
            <p:nvSpPr>
              <p:cNvPr id="1173" name=""/>
              <p:cNvSpPr/>
              <p:nvPr/>
            </p:nvSpPr>
            <p:spPr>
              <a:xfrm>
                <a:off x="5486400" y="3354120"/>
                <a:ext cx="642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5400000">
                <a:off x="4528800" y="3808440"/>
                <a:ext cx="1033560" cy="79524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00680" y="3740040"/>
                <a:ext cx="131760" cy="160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051520" y="3790800"/>
                <a:ext cx="90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950000" y="4560840"/>
                <a:ext cx="101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86400" y="4420800"/>
                <a:ext cx="74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3276720" y="396216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a2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7391160" y="3962160"/>
              <a:ext cx="101520" cy="461160"/>
              <a:chOff x="7391160" y="3962160"/>
              <a:chExt cx="101520" cy="461160"/>
            </a:xfrm>
          </p:grpSpPr>
          <p:sp>
            <p:nvSpPr>
              <p:cNvPr id="1181" name=""/>
              <p:cNvSpPr/>
              <p:nvPr/>
            </p:nvSpPr>
            <p:spPr>
              <a:xfrm>
                <a:off x="7445880" y="3962160"/>
                <a:ext cx="45720" cy="4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7391160" y="4023720"/>
                <a:ext cx="99000" cy="7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393680" y="4109400"/>
                <a:ext cx="99000" cy="7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7391160" y="4203000"/>
                <a:ext cx="99000" cy="7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393680" y="4288680"/>
                <a:ext cx="99000" cy="7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7444800" y="4377960"/>
                <a:ext cx="4572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6478560" y="380916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67840" y="4419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467840" y="37335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37AD-F9C3-408C-9FDA-E8BC63E9B5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 : V-I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914400" y="1752480"/>
            <a:ext cx="7010280" cy="411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5400000">
            <a:off x="1356840" y="2363760"/>
            <a:ext cx="2419200" cy="1981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477120" y="4648320"/>
            <a:ext cx="660240" cy="58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920960" y="4275000"/>
            <a:ext cx="204840" cy="206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14400" y="3436920"/>
            <a:ext cx="619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6629400" y="3200400"/>
            <a:ext cx="428400" cy="466200"/>
            <a:chOff x="6629400" y="3200400"/>
            <a:chExt cx="428400" cy="466200"/>
          </a:xfrm>
        </p:grpSpPr>
        <p:sp>
          <p:nvSpPr>
            <p:cNvPr id="1198" name=""/>
            <p:cNvSpPr/>
            <p:nvPr/>
          </p:nvSpPr>
          <p:spPr>
            <a:xfrm>
              <a:off x="6843600" y="3200400"/>
              <a:ext cx="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29400" y="3479760"/>
              <a:ext cx="42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735960" y="3573360"/>
              <a:ext cx="21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794280" y="3666600"/>
              <a:ext cx="9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6465960" y="2616120"/>
            <a:ext cx="660240" cy="58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516720" y="2457000"/>
            <a:ext cx="66996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477120" y="4495680"/>
            <a:ext cx="660240" cy="82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644640" y="2814480"/>
            <a:ext cx="131760" cy="937440"/>
            <a:chOff x="3644640" y="2814480"/>
            <a:chExt cx="131760" cy="937440"/>
          </a:xfrm>
        </p:grpSpPr>
        <p:sp>
          <p:nvSpPr>
            <p:cNvPr id="1206" name=""/>
            <p:cNvSpPr/>
            <p:nvPr/>
          </p:nvSpPr>
          <p:spPr>
            <a:xfrm>
              <a:off x="3715560" y="2814480"/>
              <a:ext cx="59040" cy="9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3644640" y="2939760"/>
              <a:ext cx="1285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47880" y="3114000"/>
              <a:ext cx="128520" cy="15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3644640" y="3304080"/>
              <a:ext cx="1285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647880" y="3477960"/>
              <a:ext cx="128520" cy="15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3714480" y="3659400"/>
              <a:ext cx="59040" cy="9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 flipH="1">
            <a:off x="1920960" y="2346480"/>
            <a:ext cx="493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851520" y="2346480"/>
            <a:ext cx="0" cy="33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181480" y="2438280"/>
            <a:ext cx="95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5181120" y="449568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4647960" y="2133720"/>
            <a:ext cx="409320" cy="4413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705200" y="2133720"/>
            <a:ext cx="476280" cy="4413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696920" y="4038480"/>
            <a:ext cx="484200" cy="533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67320" y="4114800"/>
            <a:ext cx="614160" cy="4413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716280" y="2338560"/>
            <a:ext cx="0" cy="47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16280" y="3699000"/>
            <a:ext cx="0" cy="68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571920" y="2270160"/>
            <a:ext cx="216000" cy="13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571920" y="4311720"/>
            <a:ext cx="216000" cy="13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696080" y="5257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733920" y="434340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6629400" y="5257800"/>
            <a:ext cx="428400" cy="466200"/>
            <a:chOff x="6629400" y="5257800"/>
            <a:chExt cx="428400" cy="466200"/>
          </a:xfrm>
        </p:grpSpPr>
        <p:sp>
          <p:nvSpPr>
            <p:cNvPr id="1228" name=""/>
            <p:cNvSpPr/>
            <p:nvPr/>
          </p:nvSpPr>
          <p:spPr>
            <a:xfrm>
              <a:off x="6843600" y="5257800"/>
              <a:ext cx="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29400" y="5537160"/>
              <a:ext cx="42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35960" y="5630760"/>
              <a:ext cx="21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94280" y="5724000"/>
              <a:ext cx="9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 flipH="1">
            <a:off x="2057040" y="43434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962520" y="2971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A7C0-FCF4-43EE-85A8-8A912BF445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 : R Extracting                    R=1/(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419720" y="2805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648320" y="1981080"/>
            <a:ext cx="419076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Arou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5400000">
            <a:off x="5168880" y="2681280"/>
            <a:ext cx="1533600" cy="1200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858000" y="4191120"/>
            <a:ext cx="601560" cy="707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705720" y="4114800"/>
            <a:ext cx="801720" cy="94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7010280" y="3657600"/>
            <a:ext cx="300240" cy="35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 flipV="1">
            <a:off x="7010280" y="3657240"/>
            <a:ext cx="300240" cy="35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835600" y="2631960"/>
            <a:ext cx="20016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2428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6705360" y="3048120"/>
            <a:ext cx="152280" cy="456480"/>
            <a:chOff x="6705360" y="3048120"/>
            <a:chExt cx="152280" cy="456480"/>
          </a:xfrm>
        </p:grpSpPr>
        <p:sp>
          <p:nvSpPr>
            <p:cNvPr id="1246" name=""/>
            <p:cNvSpPr/>
            <p:nvPr/>
          </p:nvSpPr>
          <p:spPr>
            <a:xfrm>
              <a:off x="678744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670536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70896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70536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70896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678600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6019920" y="27432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678168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15000" y="3809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6292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934320" y="4876920"/>
            <a:ext cx="347040" cy="377640"/>
            <a:chOff x="6934320" y="4876920"/>
            <a:chExt cx="347040" cy="377640"/>
          </a:xfrm>
        </p:grpSpPr>
        <p:sp>
          <p:nvSpPr>
            <p:cNvPr id="1258" name=""/>
            <p:cNvSpPr/>
            <p:nvPr/>
          </p:nvSpPr>
          <p:spPr>
            <a:xfrm>
              <a:off x="7107840" y="487692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934320" y="5103360"/>
              <a:ext cx="34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20720" y="5178960"/>
              <a:ext cx="17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67880" y="52545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8229600" y="3200400"/>
            <a:ext cx="347400" cy="378000"/>
            <a:chOff x="8229600" y="3200400"/>
            <a:chExt cx="347400" cy="378000"/>
          </a:xfrm>
        </p:grpSpPr>
        <p:sp>
          <p:nvSpPr>
            <p:cNvPr id="1263" name=""/>
            <p:cNvSpPr/>
            <p:nvPr/>
          </p:nvSpPr>
          <p:spPr>
            <a:xfrm>
              <a:off x="8403120" y="320040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229600" y="342684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16000" y="350244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63520" y="357840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6461280" y="2117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381880" y="274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7924320" y="304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822924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4920" y="1981080"/>
            <a:ext cx="419076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I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Lo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Arou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Operat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rot="5400000">
            <a:off x="825120" y="2681280"/>
            <a:ext cx="1533600" cy="1200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514600" y="4191120"/>
            <a:ext cx="601560" cy="707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2362320" y="4114800"/>
            <a:ext cx="801720" cy="94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666880" y="3657600"/>
            <a:ext cx="300240" cy="35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 flipV="1">
            <a:off x="2666880" y="3657240"/>
            <a:ext cx="300240" cy="35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92200" y="2631960"/>
            <a:ext cx="20016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088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2361960" y="3048120"/>
            <a:ext cx="152280" cy="456480"/>
            <a:chOff x="2361960" y="3048120"/>
            <a:chExt cx="152280" cy="456480"/>
          </a:xfrm>
        </p:grpSpPr>
        <p:sp>
          <p:nvSpPr>
            <p:cNvPr id="1280" name=""/>
            <p:cNvSpPr/>
            <p:nvPr/>
          </p:nvSpPr>
          <p:spPr>
            <a:xfrm>
              <a:off x="244404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236196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36556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36196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6556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244260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1676520" y="27432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243828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371600" y="3809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43828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1952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2590920" y="4876920"/>
            <a:ext cx="347040" cy="377640"/>
            <a:chOff x="2590920" y="4876920"/>
            <a:chExt cx="347040" cy="377640"/>
          </a:xfrm>
        </p:grpSpPr>
        <p:sp>
          <p:nvSpPr>
            <p:cNvPr id="1292" name=""/>
            <p:cNvSpPr/>
            <p:nvPr/>
          </p:nvSpPr>
          <p:spPr>
            <a:xfrm>
              <a:off x="2764440" y="487692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590920" y="5103360"/>
              <a:ext cx="34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677320" y="5178960"/>
              <a:ext cx="17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24480" y="52545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809880" y="2743200"/>
            <a:ext cx="347400" cy="378000"/>
            <a:chOff x="3809880" y="2743200"/>
            <a:chExt cx="347400" cy="378000"/>
          </a:xfrm>
        </p:grpSpPr>
        <p:sp>
          <p:nvSpPr>
            <p:cNvPr id="1297" name=""/>
            <p:cNvSpPr/>
            <p:nvPr/>
          </p:nvSpPr>
          <p:spPr>
            <a:xfrm>
              <a:off x="3983400" y="274320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809880" y="296964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896280" y="304524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43800" y="312120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2117880" y="2117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87692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C59D-2AA9-4115-B5A4-4DF64BEED4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ice Setup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 : V-T Curves                G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/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33520" y="1981080"/>
            <a:ext cx="7848360" cy="4038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T Cu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_fix=5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             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LL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_fix=5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5400000">
            <a:off x="1288800" y="2657160"/>
            <a:ext cx="2870280" cy="23529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160720" y="2678040"/>
            <a:ext cx="2038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097000" y="2538360"/>
            <a:ext cx="239760" cy="24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38080" y="3962520"/>
            <a:ext cx="733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009880" y="5045040"/>
            <a:ext cx="2039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5562720" y="4114800"/>
            <a:ext cx="507600" cy="553680"/>
            <a:chOff x="5562720" y="4114800"/>
            <a:chExt cx="507600" cy="553680"/>
          </a:xfrm>
        </p:grpSpPr>
        <p:sp>
          <p:nvSpPr>
            <p:cNvPr id="1312" name=""/>
            <p:cNvSpPr/>
            <p:nvPr/>
          </p:nvSpPr>
          <p:spPr>
            <a:xfrm>
              <a:off x="5816520" y="4114800"/>
              <a:ext cx="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562720" y="4446720"/>
              <a:ext cx="50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9080" y="455760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58200" y="4668480"/>
              <a:ext cx="11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4025880" y="2678040"/>
            <a:ext cx="3608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68560" y="5045040"/>
            <a:ext cx="3765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634160" y="2678040"/>
            <a:ext cx="1800" cy="2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7634160" y="4765680"/>
            <a:ext cx="180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562720" y="4114800"/>
            <a:ext cx="4712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410080" y="3962520"/>
            <a:ext cx="785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7472160" y="2955960"/>
            <a:ext cx="249480" cy="560160"/>
            <a:chOff x="7472160" y="2955960"/>
            <a:chExt cx="249480" cy="560160"/>
          </a:xfrm>
        </p:grpSpPr>
        <p:sp>
          <p:nvSpPr>
            <p:cNvPr id="1323" name=""/>
            <p:cNvSpPr/>
            <p:nvPr/>
          </p:nvSpPr>
          <p:spPr>
            <a:xfrm>
              <a:off x="7606440" y="2955960"/>
              <a:ext cx="11268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7472160" y="303120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77920" y="313452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7472160" y="324864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77920" y="335232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603920" y="3461400"/>
              <a:ext cx="111960" cy="5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7472160" y="4210200"/>
            <a:ext cx="249480" cy="559800"/>
            <a:chOff x="7472160" y="4210200"/>
            <a:chExt cx="249480" cy="559800"/>
          </a:xfrm>
        </p:grpSpPr>
        <p:sp>
          <p:nvSpPr>
            <p:cNvPr id="1330" name=""/>
            <p:cNvSpPr/>
            <p:nvPr/>
          </p:nvSpPr>
          <p:spPr>
            <a:xfrm>
              <a:off x="7606440" y="4210200"/>
              <a:ext cx="11268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7472160" y="428544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77920" y="438876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472160" y="450288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77920" y="4606200"/>
              <a:ext cx="24372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3920" y="4715280"/>
              <a:ext cx="111960" cy="5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634160" y="3513240"/>
            <a:ext cx="180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4114440" y="3429000"/>
            <a:ext cx="139680" cy="1050120"/>
            <a:chOff x="4114440" y="3429000"/>
            <a:chExt cx="139680" cy="1050120"/>
          </a:xfrm>
        </p:grpSpPr>
        <p:sp>
          <p:nvSpPr>
            <p:cNvPr id="1338" name=""/>
            <p:cNvSpPr/>
            <p:nvPr/>
          </p:nvSpPr>
          <p:spPr>
            <a:xfrm>
              <a:off x="4189680" y="3429000"/>
              <a:ext cx="6264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4114440" y="356940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17680" y="376452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4114440" y="3976920"/>
              <a:ext cx="13644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17680" y="4172040"/>
              <a:ext cx="136440" cy="17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4188240" y="4375440"/>
              <a:ext cx="62640" cy="10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 flipV="1">
            <a:off x="4191120" y="266652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91120" y="4495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038480" y="25909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49528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0" y="3429000"/>
            <a:ext cx="609480" cy="838080"/>
          </a:xfrm>
          <a:prstGeom prst="diamond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876920" y="4267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876920" y="266652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343400" y="24382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1981080" y="2438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190476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5791320" y="38098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648320" y="1295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5036-9D3C-44FA-8848-9D0F6EF075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DS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 Voltage Differential Sign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LVDS 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LVDS 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 Swing (350mV)*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 Power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 Nois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“LVDS MEGABITS” National Semiconductor, April 25, 1997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3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1752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3429000" cy="24228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733560" y="1996920"/>
            <a:ext cx="1662480" cy="1507320"/>
            <a:chOff x="3733560" y="1996920"/>
            <a:chExt cx="1662480" cy="1507320"/>
          </a:xfrm>
        </p:grpSpPr>
        <p:sp>
          <p:nvSpPr>
            <p:cNvPr id="105" name=""/>
            <p:cNvSpPr/>
            <p:nvPr/>
          </p:nvSpPr>
          <p:spPr>
            <a:xfrm>
              <a:off x="4572000" y="1996920"/>
              <a:ext cx="64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3614400" y="2451240"/>
              <a:ext cx="1033560" cy="79524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8480" y="3124080"/>
              <a:ext cx="131760" cy="16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438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3200400"/>
              <a:ext cx="101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8320" y="3063600"/>
              <a:ext cx="74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61D8-FD45-461D-A679-D4BA8E6845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mulation Flow for Non-Terminated Buff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pice NetList                                      Spice NetList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ce Sim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IS Sim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571640" y="1753560"/>
            <a:ext cx="1586160" cy="1507320"/>
            <a:chOff x="4571640" y="1753560"/>
            <a:chExt cx="1586160" cy="1507320"/>
          </a:xfrm>
        </p:grpSpPr>
        <p:sp>
          <p:nvSpPr>
            <p:cNvPr id="1361" name=""/>
            <p:cNvSpPr/>
            <p:nvPr/>
          </p:nvSpPr>
          <p:spPr>
            <a:xfrm>
              <a:off x="5410080" y="2820240"/>
              <a:ext cx="74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571640" y="1753560"/>
              <a:ext cx="1481040" cy="1368360"/>
              <a:chOff x="4571640" y="1753560"/>
              <a:chExt cx="1481040" cy="1368360"/>
            </a:xfrm>
          </p:grpSpPr>
          <p:sp>
            <p:nvSpPr>
              <p:cNvPr id="1363" name=""/>
              <p:cNvSpPr/>
              <p:nvPr/>
            </p:nvSpPr>
            <p:spPr>
              <a:xfrm>
                <a:off x="5410080" y="1753560"/>
                <a:ext cx="6426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5400000">
                <a:off x="4452840" y="2207880"/>
                <a:ext cx="1032840" cy="79524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824000" y="2139840"/>
                <a:ext cx="131400" cy="159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974840" y="2190600"/>
                <a:ext cx="90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873320" y="2960280"/>
                <a:ext cx="101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68" name=""/>
              <p:cNvGrpSpPr/>
              <p:nvPr/>
            </p:nvGrpSpPr>
            <p:grpSpPr>
              <a:xfrm>
                <a:off x="5530320" y="2346120"/>
                <a:ext cx="101520" cy="461160"/>
                <a:chOff x="5530320" y="2346120"/>
                <a:chExt cx="101520" cy="46116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585040" y="2346120"/>
                  <a:ext cx="45360" cy="4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H="1">
                  <a:off x="5530320" y="2407680"/>
                  <a:ext cx="9900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532840" y="2493360"/>
                  <a:ext cx="9900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5530320" y="2586960"/>
                  <a:ext cx="9900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532840" y="2672640"/>
                  <a:ext cx="9900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V="1">
                  <a:off x="5583960" y="2761920"/>
                  <a:ext cx="45360" cy="4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"/>
              <p:cNvSpPr/>
              <p:nvPr/>
            </p:nvSpPr>
            <p:spPr>
              <a:xfrm flipV="1">
                <a:off x="5581440" y="2190240"/>
                <a:ext cx="0" cy="15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81440" y="280800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304560" y="1830240"/>
            <a:ext cx="4024440" cy="1507320"/>
            <a:chOff x="304560" y="1830240"/>
            <a:chExt cx="4024440" cy="1507320"/>
          </a:xfrm>
        </p:grpSpPr>
        <p:grpSp>
          <p:nvGrpSpPr>
            <p:cNvPr id="1378" name=""/>
            <p:cNvGrpSpPr/>
            <p:nvPr/>
          </p:nvGrpSpPr>
          <p:grpSpPr>
            <a:xfrm>
              <a:off x="304560" y="1830240"/>
              <a:ext cx="1586160" cy="1507320"/>
              <a:chOff x="304560" y="1830240"/>
              <a:chExt cx="1586160" cy="1507320"/>
            </a:xfrm>
          </p:grpSpPr>
          <p:sp>
            <p:nvSpPr>
              <p:cNvPr id="1379" name=""/>
              <p:cNvSpPr/>
              <p:nvPr/>
            </p:nvSpPr>
            <p:spPr>
              <a:xfrm>
                <a:off x="1143000" y="1830240"/>
                <a:ext cx="642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5400000">
                <a:off x="185400" y="2284560"/>
                <a:ext cx="1033560" cy="79524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57280" y="2216160"/>
                <a:ext cx="131760" cy="160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08120" y="2266920"/>
                <a:ext cx="90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06600" y="3036960"/>
                <a:ext cx="101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143000" y="2896920"/>
                <a:ext cx="74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>
              <a:off x="3352680" y="2362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a2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058840" y="22093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2819160" y="2133360"/>
            <a:ext cx="101520" cy="914760"/>
            <a:chOff x="2819160" y="2133360"/>
            <a:chExt cx="101520" cy="914760"/>
          </a:xfrm>
        </p:grpSpPr>
        <p:grpSp>
          <p:nvGrpSpPr>
            <p:cNvPr id="1388" name=""/>
            <p:cNvGrpSpPr/>
            <p:nvPr/>
          </p:nvGrpSpPr>
          <p:grpSpPr>
            <a:xfrm>
              <a:off x="2819160" y="2362320"/>
              <a:ext cx="101520" cy="461520"/>
              <a:chOff x="2819160" y="2362320"/>
              <a:chExt cx="101520" cy="461520"/>
            </a:xfrm>
          </p:grpSpPr>
          <p:sp>
            <p:nvSpPr>
              <p:cNvPr id="1389" name=""/>
              <p:cNvSpPr/>
              <p:nvPr/>
            </p:nvSpPr>
            <p:spPr>
              <a:xfrm>
                <a:off x="2873880" y="2362320"/>
                <a:ext cx="45720" cy="4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>
                <a:off x="2819160" y="2423880"/>
                <a:ext cx="99000" cy="7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21680" y="2509920"/>
                <a:ext cx="99000" cy="7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2819160" y="2603160"/>
                <a:ext cx="99000" cy="7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821680" y="2688840"/>
                <a:ext cx="99000" cy="7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2872800" y="2778480"/>
                <a:ext cx="4572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5" name=""/>
            <p:cNvSpPr/>
            <p:nvPr/>
          </p:nvSpPr>
          <p:spPr>
            <a:xfrm>
              <a:off x="2895480" y="281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2895480" y="2133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7238880" y="1676520"/>
            <a:ext cx="1676520" cy="19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0958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391520" y="1629000"/>
            <a:ext cx="12952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 rot="16200000">
            <a:off x="6729480" y="3633840"/>
            <a:ext cx="838080" cy="885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510120 h 885600"/>
              <a:gd name="textAreaBottom" fmla="*/ 758520 h 885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5400000">
            <a:off x="7908120" y="390276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 rot="16200000">
            <a:off x="7711560" y="501228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10800000">
            <a:off x="6629400" y="53337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267080" y="3809880"/>
            <a:ext cx="221004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Value of Se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267080" y="4952880"/>
            <a:ext cx="2210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on-Termin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BI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19320" y="3809880"/>
            <a:ext cx="1752480" cy="2133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 flipV="1">
            <a:off x="3124080" y="5333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5400000">
            <a:off x="-92880" y="390276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rot="5400000">
            <a:off x="244800" y="501228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53AD-A24E-4CF4-8AFD-6BE316C05B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0" name="" descr=""/>
          <p:cNvPicPr/>
          <p:nvPr/>
        </p:nvPicPr>
        <p:blipFill>
          <a:blip r:embed="rId1"/>
          <a:stretch/>
        </p:blipFill>
        <p:spPr>
          <a:xfrm>
            <a:off x="838080" y="1206360"/>
            <a:ext cx="7086600" cy="50040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380880" y="9907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Pin 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 for Non-Terminat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C632-BD79-4425-96FB-575063779C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238880" cy="511164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380880" y="9907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Pin Simulation at 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 for Non-Terminat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ADC5-9CED-4345-9F8F-EF85894E225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82040" cy="4789440"/>
          </a:xfrm>
          <a:prstGeom prst="rect">
            <a:avLst/>
          </a:prstGeom>
          <a:ln w="0">
            <a:noFill/>
          </a:ln>
        </p:spPr>
      </p:pic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ial Simulation at Lossy Coupled TL Terminated with LVDSR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 for Non-Terminat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7F21-359D-46E7-8E6C-BD88A1B212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mulation Flow for Terminated Buff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pice NetList                                      Spice NetList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ce Sim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IS Sim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571640" y="1753560"/>
            <a:ext cx="1586160" cy="1507320"/>
            <a:chOff x="4571640" y="1753560"/>
            <a:chExt cx="1586160" cy="1507320"/>
          </a:xfrm>
        </p:grpSpPr>
        <p:sp>
          <p:nvSpPr>
            <p:cNvPr id="1422" name=""/>
            <p:cNvSpPr/>
            <p:nvPr/>
          </p:nvSpPr>
          <p:spPr>
            <a:xfrm>
              <a:off x="5410080" y="2820240"/>
              <a:ext cx="74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3" name=""/>
            <p:cNvGrpSpPr/>
            <p:nvPr/>
          </p:nvGrpSpPr>
          <p:grpSpPr>
            <a:xfrm>
              <a:off x="4571640" y="1753560"/>
              <a:ext cx="1481040" cy="1368360"/>
              <a:chOff x="4571640" y="1753560"/>
              <a:chExt cx="1481040" cy="1368360"/>
            </a:xfrm>
          </p:grpSpPr>
          <p:sp>
            <p:nvSpPr>
              <p:cNvPr id="1424" name=""/>
              <p:cNvSpPr/>
              <p:nvPr/>
            </p:nvSpPr>
            <p:spPr>
              <a:xfrm>
                <a:off x="5410080" y="1753560"/>
                <a:ext cx="6426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5400000">
                <a:off x="4452840" y="2207880"/>
                <a:ext cx="1032840" cy="79524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824000" y="2139840"/>
                <a:ext cx="131400" cy="159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974840" y="2190600"/>
                <a:ext cx="90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73320" y="2960280"/>
                <a:ext cx="101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9" name=""/>
              <p:cNvGrpSpPr/>
              <p:nvPr/>
            </p:nvGrpSpPr>
            <p:grpSpPr>
              <a:xfrm>
                <a:off x="5530320" y="2346120"/>
                <a:ext cx="101520" cy="461160"/>
                <a:chOff x="5530320" y="2346120"/>
                <a:chExt cx="101520" cy="46116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585040" y="2346120"/>
                  <a:ext cx="45360" cy="4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>
                  <a:off x="5530320" y="2407680"/>
                  <a:ext cx="9900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532840" y="2493360"/>
                  <a:ext cx="9900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>
                  <a:off x="5530320" y="2586960"/>
                  <a:ext cx="9900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532840" y="2672640"/>
                  <a:ext cx="9900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5583960" y="2761920"/>
                  <a:ext cx="45360" cy="4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 flipV="1">
                <a:off x="5581440" y="2190240"/>
                <a:ext cx="0" cy="15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81440" y="280800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8" name=""/>
          <p:cNvGrpSpPr/>
          <p:nvPr/>
        </p:nvGrpSpPr>
        <p:grpSpPr>
          <a:xfrm>
            <a:off x="304560" y="1830240"/>
            <a:ext cx="4024440" cy="1507320"/>
            <a:chOff x="304560" y="1830240"/>
            <a:chExt cx="4024440" cy="1507320"/>
          </a:xfrm>
        </p:grpSpPr>
        <p:grpSp>
          <p:nvGrpSpPr>
            <p:cNvPr id="1439" name=""/>
            <p:cNvGrpSpPr/>
            <p:nvPr/>
          </p:nvGrpSpPr>
          <p:grpSpPr>
            <a:xfrm>
              <a:off x="304560" y="1830240"/>
              <a:ext cx="1586160" cy="1507320"/>
              <a:chOff x="304560" y="1830240"/>
              <a:chExt cx="1586160" cy="1507320"/>
            </a:xfrm>
          </p:grpSpPr>
          <p:sp>
            <p:nvSpPr>
              <p:cNvPr id="1440" name=""/>
              <p:cNvSpPr/>
              <p:nvPr/>
            </p:nvSpPr>
            <p:spPr>
              <a:xfrm>
                <a:off x="1143000" y="1830240"/>
                <a:ext cx="642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5400000">
                <a:off x="185400" y="2284560"/>
                <a:ext cx="1033560" cy="79524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57280" y="2216160"/>
                <a:ext cx="131760" cy="160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8120" y="2266920"/>
                <a:ext cx="90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06600" y="3036960"/>
                <a:ext cx="101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143000" y="2896920"/>
                <a:ext cx="74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3352680" y="2362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a2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058840" y="22093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2819160" y="2133360"/>
            <a:ext cx="101520" cy="914760"/>
            <a:chOff x="2819160" y="2133360"/>
            <a:chExt cx="101520" cy="914760"/>
          </a:xfrm>
        </p:grpSpPr>
        <p:grpSp>
          <p:nvGrpSpPr>
            <p:cNvPr id="1449" name=""/>
            <p:cNvGrpSpPr/>
            <p:nvPr/>
          </p:nvGrpSpPr>
          <p:grpSpPr>
            <a:xfrm>
              <a:off x="2819160" y="2362320"/>
              <a:ext cx="101520" cy="461520"/>
              <a:chOff x="2819160" y="2362320"/>
              <a:chExt cx="101520" cy="461520"/>
            </a:xfrm>
          </p:grpSpPr>
          <p:sp>
            <p:nvSpPr>
              <p:cNvPr id="1450" name=""/>
              <p:cNvSpPr/>
              <p:nvPr/>
            </p:nvSpPr>
            <p:spPr>
              <a:xfrm>
                <a:off x="2873880" y="2362320"/>
                <a:ext cx="45720" cy="4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2819160" y="2423880"/>
                <a:ext cx="99000" cy="7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1680" y="2509920"/>
                <a:ext cx="99000" cy="7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2819160" y="2603160"/>
                <a:ext cx="99000" cy="7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821680" y="2688840"/>
                <a:ext cx="99000" cy="7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2872800" y="2778480"/>
                <a:ext cx="4572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>
              <a:off x="2895480" y="281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2895480" y="2133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8" name=""/>
          <p:cNvSpPr/>
          <p:nvPr/>
        </p:nvSpPr>
        <p:spPr>
          <a:xfrm>
            <a:off x="7238880" y="1676520"/>
            <a:ext cx="1676520" cy="19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0958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391520" y="1629000"/>
            <a:ext cx="12952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 rot="16200000">
            <a:off x="6729480" y="3633840"/>
            <a:ext cx="838080" cy="885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510120 h 885600"/>
              <a:gd name="textAreaBottom" fmla="*/ 758520 h 885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rot="5400000">
            <a:off x="7908120" y="390276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 rot="16200000">
            <a:off x="7711560" y="501228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rot="10800000">
            <a:off x="6629400" y="53337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Value of Se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267080" y="4952880"/>
            <a:ext cx="2210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on-Termin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BI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066680" y="4343400"/>
            <a:ext cx="1676520" cy="1600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rot="10800000">
            <a:off x="2819520" y="342864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 rot="5400000">
            <a:off x="1626120" y="355392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419720"/>
            <a:ext cx="1295280" cy="838080"/>
          </a:xfrm>
          <a:prstGeom prst="leftArrowCallout">
            <a:avLst>
              <a:gd name="adj1" fmla="val 25002"/>
              <a:gd name="adj2" fmla="val 25000"/>
              <a:gd name="adj3" fmla="val 25759"/>
              <a:gd name="adj4" fmla="val 66673"/>
            </a:avLst>
          </a:pr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 rot="16200000">
            <a:off x="4319640" y="3024360"/>
            <a:ext cx="838080" cy="885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510120 h 885600"/>
              <a:gd name="textAreaBottom" fmla="*/ 758520 h 885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2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B7ED-8F81-41E5-AB1C-1A5F978E305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086600" cy="500544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/>
          <p:nvPr/>
        </p:nvSpPr>
        <p:spPr>
          <a:xfrm>
            <a:off x="380880" y="9907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Pin Simulation at 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 for Terminat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3325-1331-4AA1-9ED9-7E64664801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010280" cy="494964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380880" y="9907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Pin Simulation at 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 for Terminat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46B6-BD9B-4C1C-BE82-374A18B1500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6953400" cy="491040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380880" y="9907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ial TL Terminated with LVDS R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Proposal-III Approach for LVDS IBIS Modeling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mulation for Terminate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uffer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6E0C-C690-4A30-9ECD-F8EDD263EA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990720" y="1174680"/>
            <a:ext cx="7162560" cy="5058000"/>
          </a:xfrm>
          <a:prstGeom prst="rect">
            <a:avLst/>
          </a:prstGeom>
          <a:ln w="0">
            <a:noFill/>
          </a:ln>
        </p:spPr>
      </p:pic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0033"/>
                </a:solidFill>
                <a:latin typeface="Arial"/>
              </a:rPr>
              <a:t>Importance of C-comp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mulation with PKG at 50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Load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Matched Load)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D30F-A0DD-46BC-894E-CC5C2DCE806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1066680" y="1076400"/>
            <a:ext cx="7334280" cy="5180040"/>
          </a:xfrm>
          <a:prstGeom prst="rect">
            <a:avLst/>
          </a:prstGeom>
          <a:ln w="0">
            <a:noFill/>
          </a:ln>
        </p:spPr>
      </p:pic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0033"/>
                </a:solidFill>
                <a:latin typeface="Arial"/>
              </a:rPr>
              <a:t>Importance of C-com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mulation with PKG at 150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Load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matched Load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7262-5A7B-4F33-B60F-BDB20D2047A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DC Analysis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Terminated LVDS Buff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inated LVDS Buff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476760" y="3658680"/>
            <a:ext cx="1586160" cy="1506960"/>
            <a:chOff x="6476760" y="3658680"/>
            <a:chExt cx="1586160" cy="1506960"/>
          </a:xfrm>
        </p:grpSpPr>
        <p:sp>
          <p:nvSpPr>
            <p:cNvPr id="114" name=""/>
            <p:cNvSpPr/>
            <p:nvPr/>
          </p:nvSpPr>
          <p:spPr>
            <a:xfrm>
              <a:off x="7315200" y="3658680"/>
              <a:ext cx="64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476760" y="3994200"/>
              <a:ext cx="1586160" cy="1171440"/>
              <a:chOff x="6476760" y="3994200"/>
              <a:chExt cx="1586160" cy="1171440"/>
            </a:xfrm>
          </p:grpSpPr>
          <p:sp>
            <p:nvSpPr>
              <p:cNvPr id="116" name=""/>
              <p:cNvSpPr/>
              <p:nvPr/>
            </p:nvSpPr>
            <p:spPr>
              <a:xfrm rot="5400000">
                <a:off x="6357960" y="4113000"/>
                <a:ext cx="1032840" cy="79524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29480" y="4044600"/>
                <a:ext cx="131760" cy="159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80320" y="4095360"/>
                <a:ext cx="90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78800" y="4865040"/>
                <a:ext cx="101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435800" y="4250880"/>
                <a:ext cx="101520" cy="461160"/>
                <a:chOff x="7435800" y="4250880"/>
                <a:chExt cx="101520" cy="4611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490520" y="4250880"/>
                  <a:ext cx="45720" cy="4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7435800" y="4312440"/>
                  <a:ext cx="9936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437960" y="4398120"/>
                  <a:ext cx="9936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7435800" y="4491720"/>
                  <a:ext cx="9936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37960" y="4577400"/>
                  <a:ext cx="99360" cy="7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7489440" y="4666680"/>
                  <a:ext cx="45720" cy="4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7315200" y="4725000"/>
                <a:ext cx="74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PA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486920" y="4095000"/>
                <a:ext cx="0" cy="15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86920" y="471276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6400440" y="1601640"/>
            <a:ext cx="1586160" cy="1507320"/>
            <a:chOff x="6400440" y="1601640"/>
            <a:chExt cx="1586160" cy="1507320"/>
          </a:xfrm>
        </p:grpSpPr>
        <p:sp>
          <p:nvSpPr>
            <p:cNvPr id="131" name=""/>
            <p:cNvSpPr/>
            <p:nvPr/>
          </p:nvSpPr>
          <p:spPr>
            <a:xfrm>
              <a:off x="7238880" y="1601640"/>
              <a:ext cx="64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6281280" y="2055960"/>
              <a:ext cx="1033560" cy="79524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53160" y="1987560"/>
              <a:ext cx="131760" cy="16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4000" y="2038320"/>
              <a:ext cx="90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2480" y="2808360"/>
              <a:ext cx="101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38880" y="2668320"/>
              <a:ext cx="747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4356-B274-44EC-94E2-187CDACD80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" descr=""/>
          <p:cNvPicPr/>
          <p:nvPr/>
        </p:nvPicPr>
        <p:blipFill>
          <a:blip r:embed="rId1"/>
          <a:stretch/>
        </p:blipFill>
        <p:spPr>
          <a:xfrm>
            <a:off x="1219320" y="1106640"/>
            <a:ext cx="7238880" cy="5113080"/>
          </a:xfrm>
          <a:prstGeom prst="rect">
            <a:avLst/>
          </a:prstGeom>
          <a:ln w="0">
            <a:noFill/>
          </a:ln>
        </p:spPr>
      </p:pic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0033"/>
                </a:solidFill>
                <a:latin typeface="Arial"/>
              </a:rPr>
              <a:t>Importance of C-com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mulation with TL at 150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matched Load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6E16-9536-4A18-8C8D-C4A0B919FE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0033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VDS IBIS Modeling Needs High DC Resolu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ntional Approaches Does Not Support Terminated LVDS IBIS Model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sal-I Supports Only the Corresponding R_fix of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sal-II Supports All Different Loading Condit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oving Internal Resistance is Another Modeling Approac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Some Cases, It is Needed to Model Both I/O Pi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imation of C-comp is Very Importa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0BBF-579C-421E-AC89-69F3AF9BB0C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DC Analysis 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0" y="1371240"/>
            <a:ext cx="4419720" cy="4724280"/>
            <a:chOff x="4572000" y="1371240"/>
            <a:chExt cx="4419720" cy="4724280"/>
          </a:xfrm>
        </p:grpSpPr>
        <p:sp>
          <p:nvSpPr>
            <p:cNvPr id="139" name=""/>
            <p:cNvSpPr/>
            <p:nvPr/>
          </p:nvSpPr>
          <p:spPr>
            <a:xfrm flipV="1">
              <a:off x="4572000" y="1370520"/>
              <a:ext cx="4419720" cy="4724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519880" y="1507680"/>
              <a:ext cx="3108240" cy="4224240"/>
              <a:chOff x="5519880" y="1507680"/>
              <a:chExt cx="3108240" cy="4224240"/>
            </a:xfrm>
          </p:grpSpPr>
          <p:sp>
            <p:nvSpPr>
              <p:cNvPr id="141" name=""/>
              <p:cNvSpPr/>
              <p:nvPr/>
            </p:nvSpPr>
            <p:spPr>
              <a:xfrm>
                <a:off x="5661000" y="1742400"/>
                <a:ext cx="423720" cy="64512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61000" y="2622600"/>
                <a:ext cx="423720" cy="645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61000" y="3972240"/>
                <a:ext cx="423720" cy="64512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61000" y="4852440"/>
                <a:ext cx="423720" cy="645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73040" y="2387880"/>
                <a:ext cx="0" cy="23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73040" y="4617720"/>
                <a:ext cx="0" cy="23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73040" y="2505240"/>
                <a:ext cx="155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73040" y="4735080"/>
                <a:ext cx="155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6579000" y="3385440"/>
                <a:ext cx="141120" cy="527040"/>
                <a:chOff x="6579000" y="3385440"/>
                <a:chExt cx="141120" cy="527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654960" y="3385440"/>
                  <a:ext cx="63360" cy="5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6579000" y="3456000"/>
                  <a:ext cx="137880" cy="86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582240" y="3553920"/>
                  <a:ext cx="137880" cy="8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6579000" y="3660840"/>
                  <a:ext cx="137880" cy="86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582240" y="3758760"/>
                  <a:ext cx="137880" cy="8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6653520" y="3860640"/>
                  <a:ext cx="63360" cy="51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6649920" y="3913560"/>
                <a:ext cx="0" cy="82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649920" y="2505240"/>
                <a:ext cx="0" cy="87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519880" y="1507680"/>
                <a:ext cx="706320" cy="234360"/>
                <a:chOff x="5519880" y="1507680"/>
                <a:chExt cx="706320" cy="234360"/>
              </a:xfrm>
            </p:grpSpPr>
            <p:sp>
              <p:nvSpPr>
                <p:cNvPr id="159" name=""/>
                <p:cNvSpPr/>
                <p:nvPr/>
              </p:nvSpPr>
              <p:spPr>
                <a:xfrm flipV="1">
                  <a:off x="5873040" y="1507680"/>
                  <a:ext cx="0" cy="23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5519880" y="1508040"/>
                  <a:ext cx="70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519880" y="3737160"/>
                <a:ext cx="706320" cy="234360"/>
                <a:chOff x="5519880" y="3737160"/>
                <a:chExt cx="706320" cy="234360"/>
              </a:xfrm>
            </p:grpSpPr>
            <p:sp>
              <p:nvSpPr>
                <p:cNvPr id="162" name=""/>
                <p:cNvSpPr/>
                <p:nvPr/>
              </p:nvSpPr>
              <p:spPr>
                <a:xfrm flipV="1">
                  <a:off x="5873040" y="3737160"/>
                  <a:ext cx="0" cy="23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5519880" y="3737520"/>
                  <a:ext cx="70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661000" y="3268080"/>
                <a:ext cx="423720" cy="234360"/>
                <a:chOff x="5661000" y="3268080"/>
                <a:chExt cx="423720" cy="234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872680" y="3268080"/>
                  <a:ext cx="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661000" y="3385080"/>
                  <a:ext cx="42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31560" y="3443760"/>
                  <a:ext cx="21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802120" y="3502440"/>
                  <a:ext cx="7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661000" y="5497560"/>
                <a:ext cx="423720" cy="234360"/>
                <a:chOff x="5661000" y="5497560"/>
                <a:chExt cx="423720" cy="234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72680" y="5497560"/>
                  <a:ext cx="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661000" y="5614560"/>
                  <a:ext cx="42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731560" y="5673240"/>
                  <a:ext cx="21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802120" y="5731920"/>
                  <a:ext cx="7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6508800" y="2446560"/>
                <a:ext cx="282240" cy="11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08800" y="4676400"/>
                <a:ext cx="282240" cy="117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7427160" y="2446560"/>
                <a:ext cx="613080" cy="166320"/>
                <a:chOff x="7427160" y="2446560"/>
                <a:chExt cx="613080" cy="16632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7427160" y="2448720"/>
                  <a:ext cx="60840" cy="7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509240" y="2450160"/>
                  <a:ext cx="10044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7623000" y="2446560"/>
                  <a:ext cx="10008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747200" y="2450160"/>
                  <a:ext cx="10044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7860960" y="2446560"/>
                  <a:ext cx="10008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7979760" y="2450160"/>
                  <a:ext cx="60480" cy="7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427160" y="4676400"/>
                <a:ext cx="613080" cy="166320"/>
                <a:chOff x="7427160" y="4676400"/>
                <a:chExt cx="613080" cy="166320"/>
              </a:xfrm>
            </p:grpSpPr>
            <p:sp>
              <p:nvSpPr>
                <p:cNvPr id="184" name=""/>
                <p:cNvSpPr/>
                <p:nvPr/>
              </p:nvSpPr>
              <p:spPr>
                <a:xfrm flipV="1">
                  <a:off x="7427160" y="4678560"/>
                  <a:ext cx="60840" cy="7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509240" y="4680000"/>
                  <a:ext cx="10044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7623000" y="4676400"/>
                  <a:ext cx="10008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747200" y="4680000"/>
                  <a:ext cx="10044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7860960" y="4676400"/>
                  <a:ext cx="100080" cy="16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7979760" y="4680000"/>
                  <a:ext cx="60480" cy="7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7992360" y="2505240"/>
                <a:ext cx="63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92360" y="4735080"/>
                <a:ext cx="63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28120" y="2505240"/>
                <a:ext cx="0" cy="22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8062560" y="3561480"/>
                <a:ext cx="56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62920" y="3561480"/>
                <a:ext cx="0" cy="23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062920" y="3796200"/>
                <a:ext cx="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851240" y="3913560"/>
                <a:ext cx="42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921800" y="3972240"/>
                <a:ext cx="282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62920" y="3972240"/>
                <a:ext cx="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7851240" y="4089600"/>
                <a:ext cx="423720" cy="234360"/>
                <a:chOff x="7851240" y="4089600"/>
                <a:chExt cx="423720" cy="2343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8062920" y="4089600"/>
                  <a:ext cx="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851240" y="4206600"/>
                  <a:ext cx="42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921800" y="4265280"/>
                  <a:ext cx="21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992360" y="4323960"/>
                  <a:ext cx="7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6226200" y="1859760"/>
                <a:ext cx="0" cy="41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26200" y="4969440"/>
                <a:ext cx="0" cy="41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61960" y="2622600"/>
                <a:ext cx="63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791400" y="4500360"/>
                <a:ext cx="63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91400" y="2857320"/>
                <a:ext cx="0" cy="41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02120" y="2446560"/>
                <a:ext cx="141120" cy="11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02120" y="4676400"/>
                <a:ext cx="141120" cy="11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26708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ll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V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up    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DN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2280" y="1371240"/>
            <a:ext cx="4191120" cy="4724280"/>
            <a:chOff x="152280" y="1371240"/>
            <a:chExt cx="4191120" cy="4724280"/>
          </a:xfrm>
        </p:grpSpPr>
        <p:sp>
          <p:nvSpPr>
            <p:cNvPr id="213" name=""/>
            <p:cNvSpPr/>
            <p:nvPr/>
          </p:nvSpPr>
          <p:spPr>
            <a:xfrm flipV="1">
              <a:off x="152280" y="1370520"/>
              <a:ext cx="4191120" cy="4724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4760" y="1743120"/>
              <a:ext cx="401760" cy="644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4760" y="2622600"/>
              <a:ext cx="401760" cy="645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4760" y="3971880"/>
              <a:ext cx="401760" cy="6462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84760" y="4852800"/>
              <a:ext cx="401760" cy="644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86360" y="2387520"/>
              <a:ext cx="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6360" y="4618080"/>
              <a:ext cx="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86360" y="2504880"/>
              <a:ext cx="147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86360" y="4735440"/>
              <a:ext cx="147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050840" y="1507680"/>
              <a:ext cx="669600" cy="235080"/>
              <a:chOff x="1050840" y="1507680"/>
              <a:chExt cx="669600" cy="23508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1385640" y="1507680"/>
                <a:ext cx="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050840" y="1508040"/>
                <a:ext cx="66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050840" y="3736440"/>
              <a:ext cx="669600" cy="235080"/>
              <a:chOff x="1050840" y="3736440"/>
              <a:chExt cx="669600" cy="2350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385640" y="3736440"/>
                <a:ext cx="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1050840" y="3736800"/>
                <a:ext cx="66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184760" y="3268440"/>
              <a:ext cx="401760" cy="235080"/>
              <a:chOff x="1184760" y="3268440"/>
              <a:chExt cx="401760" cy="235080"/>
            </a:xfrm>
          </p:grpSpPr>
          <p:sp>
            <p:nvSpPr>
              <p:cNvPr id="229" name=""/>
              <p:cNvSpPr/>
              <p:nvPr/>
            </p:nvSpPr>
            <p:spPr>
              <a:xfrm>
                <a:off x="1385640" y="3268440"/>
                <a:ext cx="0" cy="11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84760" y="3385800"/>
                <a:ext cx="40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51720" y="3444840"/>
                <a:ext cx="20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18680" y="3503520"/>
                <a:ext cx="6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184760" y="5497560"/>
              <a:ext cx="401760" cy="234720"/>
              <a:chOff x="1184760" y="5497560"/>
              <a:chExt cx="401760" cy="234720"/>
            </a:xfrm>
          </p:grpSpPr>
          <p:sp>
            <p:nvSpPr>
              <p:cNvPr id="234" name=""/>
              <p:cNvSpPr/>
              <p:nvPr/>
            </p:nvSpPr>
            <p:spPr>
              <a:xfrm>
                <a:off x="1385640" y="5497560"/>
                <a:ext cx="0" cy="11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84760" y="5614920"/>
                <a:ext cx="40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51720" y="5673600"/>
                <a:ext cx="20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18680" y="5732280"/>
                <a:ext cx="6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988640" y="2446200"/>
              <a:ext cx="267840" cy="11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8640" y="4676760"/>
              <a:ext cx="267840" cy="11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860200" y="2446200"/>
              <a:ext cx="579960" cy="166320"/>
              <a:chOff x="2860200" y="2446200"/>
              <a:chExt cx="579960" cy="16632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2860200" y="2448360"/>
                <a:ext cx="5760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37600" y="2449800"/>
                <a:ext cx="9504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045600" y="2446200"/>
                <a:ext cx="9468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62960" y="2449800"/>
                <a:ext cx="9504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270960" y="2446200"/>
                <a:ext cx="9468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382920" y="2449800"/>
                <a:ext cx="572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860200" y="4676760"/>
              <a:ext cx="579960" cy="166320"/>
              <a:chOff x="2860200" y="4676760"/>
              <a:chExt cx="579960" cy="16632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2860200" y="4678920"/>
                <a:ext cx="5760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37600" y="4680360"/>
                <a:ext cx="9504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45600" y="4676760"/>
                <a:ext cx="9468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62960" y="4680360"/>
                <a:ext cx="9504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270960" y="4676760"/>
                <a:ext cx="94680" cy="16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3382920" y="4680360"/>
                <a:ext cx="572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396240" y="2504880"/>
              <a:ext cx="6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240" y="4735440"/>
              <a:ext cx="6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8520" y="2504880"/>
              <a:ext cx="0" cy="22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62480" y="3562200"/>
              <a:ext cx="53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62480" y="3562200"/>
              <a:ext cx="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2480" y="3795480"/>
              <a:ext cx="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61960" y="3913200"/>
              <a:ext cx="40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328200" y="3971880"/>
              <a:ext cx="26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62480" y="3971880"/>
              <a:ext cx="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261960" y="4089240"/>
              <a:ext cx="402120" cy="235080"/>
              <a:chOff x="3261960" y="4089240"/>
              <a:chExt cx="402120" cy="235080"/>
            </a:xfrm>
          </p:grpSpPr>
          <p:sp>
            <p:nvSpPr>
              <p:cNvPr id="264" name=""/>
              <p:cNvSpPr/>
              <p:nvPr/>
            </p:nvSpPr>
            <p:spPr>
              <a:xfrm>
                <a:off x="3462840" y="4089240"/>
                <a:ext cx="0" cy="11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61960" y="4206600"/>
                <a:ext cx="40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28920" y="4265640"/>
                <a:ext cx="20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95880" y="4324320"/>
                <a:ext cx="66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720800" y="186048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20800" y="4970520"/>
              <a:ext cx="0" cy="40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24160" y="2622600"/>
              <a:ext cx="6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256840" y="4500360"/>
              <a:ext cx="6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19040" y="2446200"/>
              <a:ext cx="133560" cy="11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19040" y="4676760"/>
              <a:ext cx="133560" cy="11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1752480"/>
            <a:ext cx="426708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ll-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up                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DN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ull-down               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73404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on-Terminated LV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7390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erminated LV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5907-B81A-4ECF-B039-01EF623EF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DC Analysis 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087560"/>
            <a:ext cx="883944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Terminated LV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Terminated LV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A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AD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AD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749A-A9C6-4318-A26E-183D2C9802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34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A. Muranyi “ Introduction to IBIS Models and IBIS Model Making”, Sept. 11-13,2000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52280" y="1981080"/>
            <a:ext cx="8534520" cy="3886200"/>
            <a:chOff x="152280" y="1981080"/>
            <a:chExt cx="8534520" cy="3886200"/>
          </a:xfrm>
        </p:grpSpPr>
        <p:sp>
          <p:nvSpPr>
            <p:cNvPr id="282" name=""/>
            <p:cNvSpPr/>
            <p:nvPr/>
          </p:nvSpPr>
          <p:spPr>
            <a:xfrm>
              <a:off x="152280" y="1981080"/>
              <a:ext cx="4191120" cy="3886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I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r>
                <a:rPr b="1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Hi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R_f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Lo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sz="2000" spc="-1" strike="noStrike" baseline="-25000">
                  <a:solidFill>
                    <a:srgbClr val="000000"/>
                  </a:solidFill>
                  <a:latin typeface="Times New Roman"/>
                </a:rPr>
                <a:t>PAD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sz="1800" spc="-1" strike="noStrike" baseline="-25000">
                  <a:solidFill>
                    <a:srgbClr val="000000"/>
                  </a:solidFill>
                  <a:latin typeface="Times New Roman"/>
                </a:rPr>
                <a:t>PAD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sz="18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672480" y="2681280"/>
              <a:ext cx="1533600" cy="11998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2320" y="4191120"/>
              <a:ext cx="601560" cy="707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209680" y="4114800"/>
              <a:ext cx="801720" cy="94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514240" y="3657600"/>
              <a:ext cx="299880" cy="35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14240" y="3657240"/>
              <a:ext cx="299880" cy="35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39920" y="2631960"/>
              <a:ext cx="1998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" y="3281400"/>
              <a:ext cx="61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81280" y="4191120"/>
              <a:ext cx="601920" cy="707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209680" y="3048120"/>
              <a:ext cx="152280" cy="456480"/>
              <a:chOff x="2209680" y="3048120"/>
              <a:chExt cx="152280" cy="456480"/>
            </a:xfrm>
          </p:grpSpPr>
          <p:sp>
            <p:nvSpPr>
              <p:cNvPr id="292" name=""/>
              <p:cNvSpPr/>
              <p:nvPr/>
            </p:nvSpPr>
            <p:spPr>
              <a:xfrm>
                <a:off x="2291400" y="3048120"/>
                <a:ext cx="6840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209680" y="310932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2920" y="319392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209680" y="328644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12920" y="337140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289960" y="3459600"/>
                <a:ext cx="68400" cy="4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523880" y="27432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286000" y="2742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19320" y="380988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0" y="3505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809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2438280" y="4876920"/>
              <a:ext cx="347400" cy="377640"/>
              <a:chOff x="2438280" y="4876920"/>
              <a:chExt cx="347400" cy="377640"/>
            </a:xfrm>
          </p:grpSpPr>
          <p:sp>
            <p:nvSpPr>
              <p:cNvPr id="304" name=""/>
              <p:cNvSpPr/>
              <p:nvPr/>
            </p:nvSpPr>
            <p:spPr>
              <a:xfrm>
                <a:off x="2611800" y="4876920"/>
                <a:ext cx="0" cy="22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438280" y="5103360"/>
                <a:ext cx="34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24680" y="5178960"/>
                <a:ext cx="17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72200" y="5254560"/>
                <a:ext cx="79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57600" y="4876920"/>
              <a:ext cx="347400" cy="377640"/>
              <a:chOff x="3657600" y="4876920"/>
              <a:chExt cx="347400" cy="377640"/>
            </a:xfrm>
          </p:grpSpPr>
          <p:sp>
            <p:nvSpPr>
              <p:cNvPr id="309" name=""/>
              <p:cNvSpPr/>
              <p:nvPr/>
            </p:nvSpPr>
            <p:spPr>
              <a:xfrm>
                <a:off x="3831120" y="4876920"/>
                <a:ext cx="0" cy="22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57600" y="5103360"/>
                <a:ext cx="34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44000" y="5178960"/>
                <a:ext cx="17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91520" y="5254560"/>
                <a:ext cx="79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965240" y="211788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809880" y="3048120"/>
              <a:ext cx="152280" cy="456480"/>
              <a:chOff x="3809880" y="3048120"/>
              <a:chExt cx="152280" cy="456480"/>
            </a:xfrm>
          </p:grpSpPr>
          <p:sp>
            <p:nvSpPr>
              <p:cNvPr id="315" name=""/>
              <p:cNvSpPr/>
              <p:nvPr/>
            </p:nvSpPr>
            <p:spPr>
              <a:xfrm>
                <a:off x="3891600" y="3048120"/>
                <a:ext cx="6840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09880" y="310932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813120" y="319392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3809880" y="328644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13120" y="337140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890160" y="3459600"/>
                <a:ext cx="68400" cy="4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88620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35053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19720" y="28051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5680" y="1981080"/>
              <a:ext cx="4191120" cy="3886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-T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DN</a:t>
              </a:r>
              <a:r>
                <a:rPr b="1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RISE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R_f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FALL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R_fix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P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1" sz="18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sz="1800" spc="-1" strike="noStrike" baseline="-25000">
                  <a:solidFill>
                    <a:srgbClr val="000000"/>
                  </a:solidFill>
                  <a:latin typeface="Times New Roman"/>
                </a:rPr>
                <a:t>R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5015880" y="2681280"/>
              <a:ext cx="1533600" cy="11998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83320" y="2631960"/>
              <a:ext cx="1998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0" y="3281400"/>
              <a:ext cx="61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24680" y="4191120"/>
              <a:ext cx="601920" cy="707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6553080" y="3048120"/>
              <a:ext cx="152280" cy="456480"/>
              <a:chOff x="6553080" y="3048120"/>
              <a:chExt cx="152280" cy="456480"/>
            </a:xfrm>
          </p:grpSpPr>
          <p:sp>
            <p:nvSpPr>
              <p:cNvPr id="330" name=""/>
              <p:cNvSpPr/>
              <p:nvPr/>
            </p:nvSpPr>
            <p:spPr>
              <a:xfrm>
                <a:off x="6634800" y="3048120"/>
                <a:ext cx="6840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553080" y="310932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56320" y="319392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553080" y="328644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56320" y="337140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633360" y="3459600"/>
                <a:ext cx="68400" cy="4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67280" y="27432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29400" y="27428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62720" y="38098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29400" y="3505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8001000" y="4876920"/>
              <a:ext cx="347400" cy="377640"/>
              <a:chOff x="8001000" y="4876920"/>
              <a:chExt cx="347400" cy="377640"/>
            </a:xfrm>
          </p:grpSpPr>
          <p:sp>
            <p:nvSpPr>
              <p:cNvPr id="341" name=""/>
              <p:cNvSpPr/>
              <p:nvPr/>
            </p:nvSpPr>
            <p:spPr>
              <a:xfrm>
                <a:off x="8174520" y="4876920"/>
                <a:ext cx="0" cy="22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000" y="5103360"/>
                <a:ext cx="34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87400" y="5178960"/>
                <a:ext cx="17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34920" y="5254560"/>
                <a:ext cx="79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6308640" y="211788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8153280" y="3048120"/>
              <a:ext cx="152280" cy="456480"/>
              <a:chOff x="8153280" y="3048120"/>
              <a:chExt cx="152280" cy="456480"/>
            </a:xfrm>
          </p:grpSpPr>
          <p:sp>
            <p:nvSpPr>
              <p:cNvPr id="347" name=""/>
              <p:cNvSpPr/>
              <p:nvPr/>
            </p:nvSpPr>
            <p:spPr>
              <a:xfrm>
                <a:off x="8235000" y="3048120"/>
                <a:ext cx="68400" cy="4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8153280" y="310932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156520" y="319392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8153280" y="3286440"/>
                <a:ext cx="149040" cy="7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156520" y="3371400"/>
                <a:ext cx="14904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33560" y="3459600"/>
                <a:ext cx="68400" cy="4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822960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29600" y="35053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315200" y="3733920"/>
              <a:ext cx="456480" cy="152280"/>
              <a:chOff x="7315200" y="3733920"/>
              <a:chExt cx="456480" cy="152280"/>
            </a:xfrm>
          </p:grpSpPr>
          <p:sp>
            <p:nvSpPr>
              <p:cNvPr id="356" name=""/>
              <p:cNvSpPr/>
              <p:nvPr/>
            </p:nvSpPr>
            <p:spPr>
              <a:xfrm flipV="1">
                <a:off x="7315200" y="3735720"/>
                <a:ext cx="45360" cy="6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76400" y="3737520"/>
                <a:ext cx="74880" cy="1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7461000" y="3733920"/>
                <a:ext cx="74520" cy="1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53520" y="3737520"/>
                <a:ext cx="74880" cy="1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7638480" y="3733920"/>
                <a:ext cx="74520" cy="1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7726680" y="3737160"/>
                <a:ext cx="45000" cy="6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7772400" y="3809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6DD8-CF3B-4B49-A521-01D93C3C9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LVDS Modeling Review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thod-I</a:t>
            </a:r>
            <a:br>
              <a:rPr sz="2800"/>
            </a:b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Versus Spice; Problem Stat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2805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19810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load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5092560" y="2681280"/>
            <a:ext cx="1533600" cy="1200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3733920"/>
            <a:ext cx="20016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01000" y="4191120"/>
            <a:ext cx="601560" cy="707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629040" y="3048120"/>
            <a:ext cx="152280" cy="456480"/>
            <a:chOff x="6629040" y="3048120"/>
            <a:chExt cx="152280" cy="456480"/>
          </a:xfrm>
        </p:grpSpPr>
        <p:sp>
          <p:nvSpPr>
            <p:cNvPr id="372" name=""/>
            <p:cNvSpPr/>
            <p:nvPr/>
          </p:nvSpPr>
          <p:spPr>
            <a:xfrm>
              <a:off x="671112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62904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3264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62904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3264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70968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638680" y="27432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70572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38098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53280" y="4876920"/>
            <a:ext cx="347400" cy="377640"/>
            <a:chOff x="8153280" y="4876920"/>
            <a:chExt cx="347400" cy="377640"/>
          </a:xfrm>
        </p:grpSpPr>
        <p:sp>
          <p:nvSpPr>
            <p:cNvPr id="383" name=""/>
            <p:cNvSpPr/>
            <p:nvPr/>
          </p:nvSpPr>
          <p:spPr>
            <a:xfrm>
              <a:off x="8326800" y="487692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53280" y="5103360"/>
              <a:ext cx="34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39680" y="5178960"/>
              <a:ext cx="17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87200" y="52545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384960" y="2117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229240" y="3048120"/>
            <a:ext cx="152280" cy="456480"/>
            <a:chOff x="8229240" y="3048120"/>
            <a:chExt cx="152280" cy="456480"/>
          </a:xfrm>
        </p:grpSpPr>
        <p:sp>
          <p:nvSpPr>
            <p:cNvPr id="389" name=""/>
            <p:cNvSpPr/>
            <p:nvPr/>
          </p:nvSpPr>
          <p:spPr>
            <a:xfrm>
              <a:off x="831132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22924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3284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822924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284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30988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8305920" y="274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05920" y="3505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391520" y="3733920"/>
            <a:ext cx="456480" cy="152280"/>
            <a:chOff x="7391520" y="3733920"/>
            <a:chExt cx="456480" cy="152280"/>
          </a:xfrm>
        </p:grpSpPr>
        <p:sp>
          <p:nvSpPr>
            <p:cNvPr id="398" name=""/>
            <p:cNvSpPr/>
            <p:nvPr/>
          </p:nvSpPr>
          <p:spPr>
            <a:xfrm flipV="1">
              <a:off x="7391520" y="3735720"/>
              <a:ext cx="45360" cy="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2720" y="3737520"/>
              <a:ext cx="7488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537320" y="3733920"/>
              <a:ext cx="7452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9840" y="3737520"/>
              <a:ext cx="7488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714800" y="3733920"/>
              <a:ext cx="7452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7803000" y="3737160"/>
              <a:ext cx="45000" cy="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84872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1981080"/>
            <a:ext cx="4191120" cy="3886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DN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R_f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V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REF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 baseline="-25000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48800" y="2681280"/>
            <a:ext cx="1533600" cy="1200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3733920"/>
            <a:ext cx="200160" cy="23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3281400"/>
            <a:ext cx="6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724280"/>
            <a:ext cx="601920" cy="70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285640" y="3048120"/>
            <a:ext cx="152280" cy="456480"/>
            <a:chOff x="2285640" y="3048120"/>
            <a:chExt cx="152280" cy="456480"/>
          </a:xfrm>
        </p:grpSpPr>
        <p:sp>
          <p:nvSpPr>
            <p:cNvPr id="411" name=""/>
            <p:cNvSpPr/>
            <p:nvPr/>
          </p:nvSpPr>
          <p:spPr>
            <a:xfrm>
              <a:off x="236772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8564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924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28564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924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36628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95280" y="274320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36232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733920" y="5410080"/>
            <a:ext cx="347040" cy="378000"/>
            <a:chOff x="3733920" y="5410080"/>
            <a:chExt cx="347040" cy="378000"/>
          </a:xfrm>
        </p:grpSpPr>
        <p:sp>
          <p:nvSpPr>
            <p:cNvPr id="421" name=""/>
            <p:cNvSpPr/>
            <p:nvPr/>
          </p:nvSpPr>
          <p:spPr>
            <a:xfrm>
              <a:off x="3907440" y="541008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3920" y="5636520"/>
              <a:ext cx="34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20320" y="5712120"/>
              <a:ext cx="17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67480" y="578808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2041560" y="2117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885840" y="3048120"/>
            <a:ext cx="152280" cy="456480"/>
            <a:chOff x="3885840" y="3048120"/>
            <a:chExt cx="152280" cy="456480"/>
          </a:xfrm>
        </p:grpSpPr>
        <p:sp>
          <p:nvSpPr>
            <p:cNvPr id="427" name=""/>
            <p:cNvSpPr/>
            <p:nvPr/>
          </p:nvSpPr>
          <p:spPr>
            <a:xfrm>
              <a:off x="3967920" y="304812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3885840" y="310932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89440" y="319392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885840" y="3286440"/>
              <a:ext cx="14868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89440" y="3371400"/>
              <a:ext cx="1486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966480" y="345960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962520" y="274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35053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3880" y="3809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666880" y="4114800"/>
            <a:ext cx="152280" cy="456480"/>
            <a:chOff x="2666880" y="4114800"/>
            <a:chExt cx="152280" cy="456480"/>
          </a:xfrm>
        </p:grpSpPr>
        <p:sp>
          <p:nvSpPr>
            <p:cNvPr id="437" name=""/>
            <p:cNvSpPr/>
            <p:nvPr/>
          </p:nvSpPr>
          <p:spPr>
            <a:xfrm>
              <a:off x="2748600" y="4114800"/>
              <a:ext cx="68400" cy="4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666880" y="417600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70120" y="426060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666880" y="4353120"/>
              <a:ext cx="149040" cy="7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0120" y="4438080"/>
              <a:ext cx="1490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747160" y="4526280"/>
              <a:ext cx="68400" cy="4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4724280"/>
            <a:ext cx="601920" cy="70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4572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590920" y="5410080"/>
            <a:ext cx="347040" cy="378000"/>
            <a:chOff x="2590920" y="5410080"/>
            <a:chExt cx="347040" cy="378000"/>
          </a:xfrm>
        </p:grpSpPr>
        <p:sp>
          <p:nvSpPr>
            <p:cNvPr id="447" name=""/>
            <p:cNvSpPr/>
            <p:nvPr/>
          </p:nvSpPr>
          <p:spPr>
            <a:xfrm>
              <a:off x="2764440" y="5410080"/>
              <a:ext cx="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90920" y="5636520"/>
              <a:ext cx="34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7320" y="5712120"/>
              <a:ext cx="17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24480" y="578808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VDS Mode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1D69-A0FD-469A-A558-882BB2041E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bobr</cp:lastModifiedBy>
  <cp:lastPrinted>2001-01-23T06:17:43Z</cp:lastPrinted>
  <dcterms:modified xsi:type="dcterms:W3CDTF">2001-03-19T14:32:14Z</dcterms:modified>
  <cp:revision>166</cp:revision>
  <dc:subject/>
  <dc:title>No Slide Title</dc:title>
</cp:coreProperties>
</file>