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426-5581-443C-8FCA-8A9F8869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894-863D-4E38-ADCD-C986AC58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DD2-CBC5-420E-B235-D2B90BCA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E05-DE47-4A05-9EAD-936FE927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16B-FD08-4184-933B-A64FFF06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515-8B8C-4022-8B0C-78E3F23C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D63-E409-4E4D-B6DD-2644678C1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B24E-C200-4DA4-8CB5-F2EAAAAF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D06-3C40-4467-8CB3-60657568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A524-11A8-48C6-B669-D734A118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356-F3A3-48B6-AD25-78376602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BF45-DDAF-4539-AE1E-A83E894C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0696E-FEEC-4168-937E-6B350B13C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447920"/>
            <a:ext cx="5410080" cy="46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BIS Su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nich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traction of Key Ibis Parameters for Easier Model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egory: Generating and Validating IBIS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Berrie (Bristol)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hael Schaeder (Paderbor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is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ing IBIS models from the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make it easier with a basic utility (ibsinf)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icking IBIS Models from the 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en Parser checks syntax and basic semantics (driven by EDA softwa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 EDA software does the 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962520"/>
            <a:ext cx="2133720" cy="21333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3962520"/>
            <a:ext cx="2133720" cy="2133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4229280"/>
            <a:ext cx="327672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096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4191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4648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den Parser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ong pin 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s not modeled or wrongly mode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ns wrongly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DA systems need uniqu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bsinf Ut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 browsing assis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ed for licenses/EDA instal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basic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consider donating as free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being impro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080" y="1295280"/>
            <a:ext cx="6098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onent: zk08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ufacturer: Newte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Pins: 4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Modeled Pins: 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Supply Pins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Other Pins: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Models: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: BUF_0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: BUF_0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/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: BUF_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I/O_open_sou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: DRV_0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Out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: DRV_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-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: DRV_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Open_si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age: pin/tssop48.p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put Mode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86640" y="1725480"/>
            <a:ext cx="477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: BUF_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: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arity: Non-Inve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able: Active-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nl: 0.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nh: 2.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_comp: 4.90pF; 2.70pF; 7.10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tage Range: 5.0V; 4.75V; 5.2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eas: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f: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ref: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ref: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 Char.: GND_clamp; Power_cl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ut Mode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59920" y="2209680"/>
            <a:ext cx="682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: DRV_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: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arity: Non-Inve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_comp: 3.40pF; 1.70pF; 5.10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ltage Range: 5.0V; 4.75V; 5.2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c Char.: GND_clamp; Power_clamp; Pullup; Pull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mp dV/dt_r: 1.47/302p; 1.23/419p; 1.75/206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mp dV/dt_f: 1.59/418p; 1.33/654p; 1.89/235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e Wvf.  1: R_fixture = 50; V_fixture =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 Wvf.  1: R_fixture = 50; V_fixture = 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e Wvf.  2: R_fixture = 50; V_fixture = 5.0; 4.5V; 5.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l Wvf.  2: R_fixture = 50; V_fixture = 5.0; 4.5V; 5.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s when working off-line to the EDA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with a PC but no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ier del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expertise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 very basic utility for the 80/20 r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hotstage</cp:lastModifiedBy>
  <dcterms:modified xsi:type="dcterms:W3CDTF">2001-03-07T10:13:48Z</dcterms:modified>
  <cp:revision>5</cp:revision>
  <dc:subject/>
  <dc:title>No Slide Title</dc:title>
</cp:coreProperties>
</file>