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8382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7280" y="4131000"/>
            <a:ext cx="8382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728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8244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21560" y="198252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5840" y="198252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7280" y="413100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21560" y="413100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55840" y="413100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7280" y="1982520"/>
            <a:ext cx="83822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83822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2280" y="38052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7280" y="1982520"/>
            <a:ext cx="83822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8244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7280" y="4131000"/>
            <a:ext cx="8382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8382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7280" y="4131000"/>
            <a:ext cx="8382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728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8244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21560" y="198252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5840" y="198252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7280" y="413100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021560" y="413100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855840" y="4131000"/>
            <a:ext cx="26989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83822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2280" y="380520"/>
            <a:ext cx="9601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728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82440" y="413100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82440" y="1982520"/>
            <a:ext cx="40903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131000"/>
            <a:ext cx="8382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419040"/>
            <a:ext cx="9591840" cy="5923080"/>
            <a:chOff x="152280" y="419040"/>
            <a:chExt cx="9591840" cy="5923080"/>
          </a:xfrm>
        </p:grpSpPr>
        <p:sp>
          <p:nvSpPr>
            <p:cNvPr id="1" name=""/>
            <p:cNvSpPr/>
            <p:nvPr/>
          </p:nvSpPr>
          <p:spPr>
            <a:xfrm>
              <a:off x="152280" y="419040"/>
              <a:ext cx="95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6342120"/>
              <a:ext cx="95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1523880"/>
              <a:ext cx="959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52280" y="419040"/>
            <a:ext cx="9604440" cy="5935680"/>
            <a:chOff x="152280" y="419040"/>
            <a:chExt cx="9604440" cy="5935680"/>
          </a:xfrm>
        </p:grpSpPr>
        <p:sp>
          <p:nvSpPr>
            <p:cNvPr id="5" name=""/>
            <p:cNvSpPr/>
            <p:nvPr/>
          </p:nvSpPr>
          <p:spPr>
            <a:xfrm>
              <a:off x="152280" y="419040"/>
              <a:ext cx="9601200" cy="5935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419040"/>
              <a:ext cx="9601200" cy="1104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536840"/>
              <a:ext cx="9604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187280" y="1982520"/>
            <a:ext cx="83822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30312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SzPct val="8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303120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" name="siemens5" descr=""/>
          <p:cNvPicPr/>
          <p:nvPr/>
        </p:nvPicPr>
        <p:blipFill>
          <a:blip r:embed="rId2"/>
          <a:stretch/>
        </p:blipFill>
        <p:spPr>
          <a:xfrm>
            <a:off x="1293840" y="177840"/>
            <a:ext cx="922320" cy="14904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9347040" y="6332400"/>
            <a:ext cx="457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 algn="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E7ABC51E-5E4D-4CDF-B2B9-34C10786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IandC_words_300" descr=""/>
          <p:cNvPicPr/>
          <p:nvPr/>
        </p:nvPicPr>
        <p:blipFill>
          <a:blip r:embed="rId3"/>
          <a:stretch/>
        </p:blipFill>
        <p:spPr>
          <a:xfrm>
            <a:off x="7329600" y="6413400"/>
            <a:ext cx="1339560" cy="373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1219320" y="6327720"/>
            <a:ext cx="3047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nd Communication Networ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c.siemens.com/networ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425520"/>
            <a:ext cx="9601200" cy="5929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56576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47040" y="6332400"/>
            <a:ext cx="457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 algn="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75C085B1-88D6-4E8B-9620-49CB603B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andC_words_300" descr=""/>
          <p:cNvPicPr/>
          <p:nvPr/>
        </p:nvPicPr>
        <p:blipFill>
          <a:blip r:embed="rId2"/>
          <a:stretch/>
        </p:blipFill>
        <p:spPr>
          <a:xfrm>
            <a:off x="7329600" y="6413400"/>
            <a:ext cx="1339560" cy="3733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65240" y="438120"/>
            <a:ext cx="9572400" cy="5904000"/>
            <a:chOff x="165240" y="438120"/>
            <a:chExt cx="9572400" cy="5904000"/>
          </a:xfrm>
        </p:grpSpPr>
        <p:sp>
          <p:nvSpPr>
            <p:cNvPr id="55" name=""/>
            <p:cNvSpPr/>
            <p:nvPr/>
          </p:nvSpPr>
          <p:spPr>
            <a:xfrm>
              <a:off x="165240" y="438120"/>
              <a:ext cx="95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5240" y="6342120"/>
              <a:ext cx="95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siemens5" descr=""/>
          <p:cNvPicPr/>
          <p:nvPr/>
        </p:nvPicPr>
        <p:blipFill>
          <a:blip r:embed="rId3"/>
          <a:stretch/>
        </p:blipFill>
        <p:spPr>
          <a:xfrm>
            <a:off x="1293840" y="177840"/>
            <a:ext cx="922320" cy="149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6327720"/>
            <a:ext cx="3047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no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nd Communication Networ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c.siemens.com/networ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9440" algn="ctr">
              <a:lnSpc>
                <a:spcPct val="95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56576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ints of View for High</a:t>
            </a: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IBIS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6800" y="4572000"/>
            <a:ext cx="2571120" cy="637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n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 AG, Mun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3520" y="5961240"/>
            <a:ext cx="13334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iemens AG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67752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-979560" y="135396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rm col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79560" y="24768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ld col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990720" y="538200"/>
            <a:ext cx="179640" cy="179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990720" y="762120"/>
            <a:ext cx="179640" cy="179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990720" y="990720"/>
            <a:ext cx="179640" cy="179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50960" y="762120"/>
            <a:ext cx="17928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50960" y="990720"/>
            <a:ext cx="179280" cy="17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522360" y="538200"/>
            <a:ext cx="179280" cy="179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522360" y="762120"/>
            <a:ext cx="179280" cy="179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522360" y="990720"/>
            <a:ext cx="179280" cy="179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50960" y="538200"/>
            <a:ext cx="179280" cy="179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990720" y="1676520"/>
            <a:ext cx="179640" cy="179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990720" y="1893960"/>
            <a:ext cx="179640" cy="179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990720" y="2122560"/>
            <a:ext cx="179640" cy="179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750960" y="1893960"/>
            <a:ext cx="179280" cy="179280"/>
          </a:xfrm>
          <a:prstGeom prst="rect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50960" y="2122560"/>
            <a:ext cx="17928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522360" y="1676520"/>
            <a:ext cx="179280" cy="179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84040" y="538200"/>
            <a:ext cx="179280" cy="179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22360" y="1893960"/>
            <a:ext cx="179280" cy="17928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522360" y="2122560"/>
            <a:ext cx="179280" cy="179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750960" y="1676520"/>
            <a:ext cx="179280" cy="17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84040" y="762120"/>
            <a:ext cx="179280" cy="179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84040" y="990720"/>
            <a:ext cx="179280" cy="179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990720" y="433440"/>
            <a:ext cx="179640" cy="38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50960" y="433440"/>
            <a:ext cx="179280" cy="38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522360" y="433440"/>
            <a:ext cx="179280" cy="381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990720" y="1569960"/>
            <a:ext cx="179640" cy="38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50960" y="1569960"/>
            <a:ext cx="179280" cy="38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22360" y="1569960"/>
            <a:ext cx="179280" cy="3816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84040" y="433440"/>
            <a:ext cx="179280" cy="381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84040" y="1676520"/>
            <a:ext cx="179280" cy="179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284040" y="1893960"/>
            <a:ext cx="179280" cy="17928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84040" y="2122560"/>
            <a:ext cx="179280" cy="17928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284040" y="1569960"/>
            <a:ext cx="179280" cy="3816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95280" y="1295280"/>
            <a:ext cx="8472960" cy="4085280"/>
            <a:chOff x="1295280" y="1295280"/>
            <a:chExt cx="8472960" cy="4085280"/>
          </a:xfrm>
        </p:grpSpPr>
        <p:sp>
          <p:nvSpPr>
            <p:cNvPr id="135" name=""/>
            <p:cNvSpPr/>
            <p:nvPr/>
          </p:nvSpPr>
          <p:spPr>
            <a:xfrm>
              <a:off x="1318680" y="2397240"/>
              <a:ext cx="8449560" cy="29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el Gen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ology develop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red IBIS 3.2 improv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ckage developments and electrical parameter of infl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iteria for package class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ossbar cur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1295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8320" y="1481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73640" y="4572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ence on IBIS and IBIS-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2600" y="2590920"/>
            <a:ext cx="908820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Use all modeling possibilities including options of official IBIS version and BI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Use official IBIS-model examples for the different technologies if they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model information must match actual silicon behavi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Make a model as simple as possible according to the customers practical application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oid technical discrepancies between data sheet 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information should be available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ustomer should be informed in time about model changes and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odel gener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5257800"/>
            <a:ext cx="77724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’s requirements must be taken into account; IBIS is the basic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71400" y="838080"/>
            <a:ext cx="66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for last 10 years I/O-technologies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1840" y="1600200"/>
            <a:ext cx="2957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echnology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- in measures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- in measures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robustness 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 transmission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transmissio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s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time tr,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 pin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count / sq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-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0680" y="1600200"/>
            <a:ext cx="2165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OS,TTL,(E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mitt-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MHz to 25 (100)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,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V; 2,5V; 0,8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ns (0,5) to 20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0 =50..100,CL=50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70160" y="1600200"/>
            <a:ext cx="3894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, MS: 5 ;3,3; 2,5, 1,8, 1,3 [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OS, PECL, GTL,SSTL, LVDS,CML,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control,slew rate control,multi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_trigger, bus hold, pull/termin. -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MHz to 1,5 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, bus, SE diff., diff. 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V; 3,3; 2,5V; 1V; 0,8V; 0,4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,1ns to 2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0 =50; CL=15p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9120" y="5791320"/>
            <a:ext cx="93474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speed and complexit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 of I/O variety, higher influence of paras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echnology Development Last 10 Years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1240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429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8954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24382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22096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9810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16765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3886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36576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1911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4197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26668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4648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sired IBIS 4.2 Improve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523880"/>
          <a:ext cx="914400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9144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876920" y="4724280"/>
            <a:ext cx="4647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809880"/>
            <a:ext cx="3886200" cy="457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895480"/>
            <a:ext cx="3962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1905120"/>
            <a:ext cx="403848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523880"/>
          <a:ext cx="4087800" cy="22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4087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4267080"/>
          <a:ext cx="67788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67080"/>
                    <a:ext cx="6778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73120" y="4149720"/>
            <a:ext cx="2160720" cy="178740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3120" y="5865840"/>
            <a:ext cx="0" cy="71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512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3016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96760" y="5901840"/>
            <a:ext cx="180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94932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216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02888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05876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08756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11320" y="5865840"/>
            <a:ext cx="1440" cy="71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7620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016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38200" y="5901840"/>
            <a:ext cx="180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8896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531800" y="5901840"/>
            <a:ext cx="180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6996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9876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62864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652760" y="5865840"/>
            <a:ext cx="1440" cy="71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81620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0980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820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03040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7324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108160" y="5901840"/>
            <a:ext cx="180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14164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16864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92400" y="5865840"/>
            <a:ext cx="0" cy="712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355840" y="5901840"/>
            <a:ext cx="144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5124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51928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7004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612880" y="5901840"/>
            <a:ext cx="180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8128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09720" y="5901840"/>
            <a:ext cx="0" cy="349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652760" y="4149360"/>
            <a:ext cx="1440" cy="178740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192400" y="4149360"/>
            <a:ext cx="0" cy="178740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3120" y="4149720"/>
            <a:ext cx="0" cy="68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3512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3016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96760" y="41493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94932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9216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02888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05876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8756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11320" y="4149720"/>
            <a:ext cx="1440" cy="68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7620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37016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438200" y="41493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48896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531800" y="41493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56996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9876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2864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652760" y="4149720"/>
            <a:ext cx="1440" cy="68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81620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0980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97820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03040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07324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108160" y="41493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14164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6864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192400" y="4149720"/>
            <a:ext cx="0" cy="68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355840" y="4149360"/>
            <a:ext cx="144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45124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1928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57004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12880" y="4149360"/>
            <a:ext cx="180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65104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68128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709720" y="4149360"/>
            <a:ext cx="0" cy="334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3120" y="584820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3120" y="575928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3120" y="567216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3120" y="558180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3120" y="5491080"/>
            <a:ext cx="8424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3120" y="540072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3120" y="5311800"/>
            <a:ext cx="41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3120" y="5221440"/>
            <a:ext cx="41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3120" y="5132520"/>
            <a:ext cx="41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3120" y="5045040"/>
            <a:ext cx="8424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3120" y="495468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3120" y="486396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3120" y="4775040"/>
            <a:ext cx="414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3120" y="468468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3120" y="4594320"/>
            <a:ext cx="8424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450684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3120" y="441648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3120" y="4327560"/>
            <a:ext cx="414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3120" y="4237200"/>
            <a:ext cx="41400" cy="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63560" y="5489640"/>
            <a:ext cx="1070280" cy="144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63560" y="5044680"/>
            <a:ext cx="1070280" cy="324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658880" y="4593960"/>
            <a:ext cx="1074960" cy="3240"/>
          </a:xfrm>
          <a:prstGeom prst="line">
            <a:avLst/>
          </a:prstGeom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4040" y="4183200"/>
            <a:ext cx="1708200" cy="1761840"/>
          </a:xfrm>
          <a:custGeom>
            <a:avLst/>
            <a:gdLst/>
            <a:ahLst/>
            <a:rect l="l" t="t" r="r" b="b"/>
            <a:pathLst>
              <a:path w="2641" h="2310">
                <a:moveTo>
                  <a:pt x="10" y="0"/>
                </a:moveTo>
                <a:lnTo>
                  <a:pt x="9" y="0"/>
                </a:lnTo>
                <a:lnTo>
                  <a:pt x="5" y="1"/>
                </a:lnTo>
                <a:lnTo>
                  <a:pt x="0" y="7"/>
                </a:lnTo>
                <a:lnTo>
                  <a:pt x="0" y="12"/>
                </a:lnTo>
                <a:lnTo>
                  <a:pt x="2" y="14"/>
                </a:lnTo>
                <a:lnTo>
                  <a:pt x="8" y="21"/>
                </a:lnTo>
                <a:lnTo>
                  <a:pt x="10" y="21"/>
                </a:lnTo>
                <a:lnTo>
                  <a:pt x="879" y="45"/>
                </a:lnTo>
                <a:lnTo>
                  <a:pt x="878" y="45"/>
                </a:lnTo>
                <a:lnTo>
                  <a:pt x="1113" y="69"/>
                </a:lnTo>
                <a:lnTo>
                  <a:pt x="1254" y="91"/>
                </a:lnTo>
                <a:lnTo>
                  <a:pt x="1356" y="110"/>
                </a:lnTo>
                <a:lnTo>
                  <a:pt x="1435" y="128"/>
                </a:lnTo>
                <a:lnTo>
                  <a:pt x="1433" y="128"/>
                </a:lnTo>
                <a:lnTo>
                  <a:pt x="1498" y="146"/>
                </a:lnTo>
                <a:lnTo>
                  <a:pt x="1554" y="163"/>
                </a:lnTo>
                <a:lnTo>
                  <a:pt x="1602" y="180"/>
                </a:lnTo>
                <a:lnTo>
                  <a:pt x="1643" y="198"/>
                </a:lnTo>
                <a:lnTo>
                  <a:pt x="1680" y="213"/>
                </a:lnTo>
                <a:lnTo>
                  <a:pt x="1679" y="211"/>
                </a:lnTo>
                <a:lnTo>
                  <a:pt x="1714" y="229"/>
                </a:lnTo>
                <a:lnTo>
                  <a:pt x="1745" y="246"/>
                </a:lnTo>
                <a:lnTo>
                  <a:pt x="1773" y="261"/>
                </a:lnTo>
                <a:lnTo>
                  <a:pt x="1802" y="277"/>
                </a:lnTo>
                <a:lnTo>
                  <a:pt x="1825" y="294"/>
                </a:lnTo>
                <a:lnTo>
                  <a:pt x="1850" y="308"/>
                </a:lnTo>
                <a:lnTo>
                  <a:pt x="1847" y="308"/>
                </a:lnTo>
                <a:lnTo>
                  <a:pt x="1909" y="354"/>
                </a:lnTo>
                <a:lnTo>
                  <a:pt x="1909" y="352"/>
                </a:lnTo>
                <a:lnTo>
                  <a:pt x="1928" y="370"/>
                </a:lnTo>
                <a:lnTo>
                  <a:pt x="1944" y="387"/>
                </a:lnTo>
                <a:lnTo>
                  <a:pt x="1944" y="388"/>
                </a:lnTo>
                <a:lnTo>
                  <a:pt x="1961" y="402"/>
                </a:lnTo>
                <a:lnTo>
                  <a:pt x="1963" y="402"/>
                </a:lnTo>
                <a:lnTo>
                  <a:pt x="1980" y="412"/>
                </a:lnTo>
                <a:lnTo>
                  <a:pt x="1979" y="411"/>
                </a:lnTo>
                <a:lnTo>
                  <a:pt x="1993" y="427"/>
                </a:lnTo>
                <a:lnTo>
                  <a:pt x="2010" y="440"/>
                </a:lnTo>
                <a:lnTo>
                  <a:pt x="2021" y="451"/>
                </a:lnTo>
                <a:lnTo>
                  <a:pt x="2037" y="466"/>
                </a:lnTo>
                <a:lnTo>
                  <a:pt x="2036" y="466"/>
                </a:lnTo>
                <a:lnTo>
                  <a:pt x="2047" y="480"/>
                </a:lnTo>
                <a:lnTo>
                  <a:pt x="2071" y="511"/>
                </a:lnTo>
                <a:lnTo>
                  <a:pt x="2073" y="511"/>
                </a:lnTo>
                <a:lnTo>
                  <a:pt x="2085" y="522"/>
                </a:lnTo>
                <a:lnTo>
                  <a:pt x="2084" y="522"/>
                </a:lnTo>
                <a:lnTo>
                  <a:pt x="2095" y="537"/>
                </a:lnTo>
                <a:lnTo>
                  <a:pt x="2097" y="537"/>
                </a:lnTo>
                <a:lnTo>
                  <a:pt x="2109" y="548"/>
                </a:lnTo>
                <a:lnTo>
                  <a:pt x="2107" y="548"/>
                </a:lnTo>
                <a:lnTo>
                  <a:pt x="2138" y="584"/>
                </a:lnTo>
                <a:lnTo>
                  <a:pt x="2138" y="583"/>
                </a:lnTo>
                <a:lnTo>
                  <a:pt x="2147" y="599"/>
                </a:lnTo>
                <a:lnTo>
                  <a:pt x="2168" y="630"/>
                </a:lnTo>
                <a:lnTo>
                  <a:pt x="2177" y="645"/>
                </a:lnTo>
                <a:lnTo>
                  <a:pt x="2177" y="646"/>
                </a:lnTo>
                <a:lnTo>
                  <a:pt x="2184" y="657"/>
                </a:lnTo>
                <a:lnTo>
                  <a:pt x="2187" y="657"/>
                </a:lnTo>
                <a:lnTo>
                  <a:pt x="2195" y="666"/>
                </a:lnTo>
                <a:lnTo>
                  <a:pt x="2193" y="666"/>
                </a:lnTo>
                <a:lnTo>
                  <a:pt x="2210" y="685"/>
                </a:lnTo>
                <a:lnTo>
                  <a:pt x="2210" y="684"/>
                </a:lnTo>
                <a:lnTo>
                  <a:pt x="2219" y="702"/>
                </a:lnTo>
                <a:lnTo>
                  <a:pt x="2218" y="700"/>
                </a:lnTo>
                <a:lnTo>
                  <a:pt x="2224" y="716"/>
                </a:lnTo>
                <a:lnTo>
                  <a:pt x="2226" y="719"/>
                </a:lnTo>
                <a:lnTo>
                  <a:pt x="2235" y="733"/>
                </a:lnTo>
                <a:lnTo>
                  <a:pt x="2235" y="731"/>
                </a:lnTo>
                <a:lnTo>
                  <a:pt x="2241" y="746"/>
                </a:lnTo>
                <a:lnTo>
                  <a:pt x="2241" y="747"/>
                </a:lnTo>
                <a:lnTo>
                  <a:pt x="2250" y="763"/>
                </a:lnTo>
                <a:lnTo>
                  <a:pt x="2257" y="777"/>
                </a:lnTo>
                <a:lnTo>
                  <a:pt x="2263" y="789"/>
                </a:lnTo>
                <a:lnTo>
                  <a:pt x="2274" y="799"/>
                </a:lnTo>
                <a:lnTo>
                  <a:pt x="2272" y="799"/>
                </a:lnTo>
                <a:lnTo>
                  <a:pt x="2277" y="807"/>
                </a:lnTo>
                <a:lnTo>
                  <a:pt x="2277" y="804"/>
                </a:lnTo>
                <a:lnTo>
                  <a:pt x="2284" y="815"/>
                </a:lnTo>
                <a:lnTo>
                  <a:pt x="2298" y="843"/>
                </a:lnTo>
                <a:lnTo>
                  <a:pt x="2297" y="840"/>
                </a:lnTo>
                <a:lnTo>
                  <a:pt x="2302" y="855"/>
                </a:lnTo>
                <a:lnTo>
                  <a:pt x="2308" y="875"/>
                </a:lnTo>
                <a:lnTo>
                  <a:pt x="2310" y="875"/>
                </a:lnTo>
                <a:lnTo>
                  <a:pt x="2317" y="891"/>
                </a:lnTo>
                <a:lnTo>
                  <a:pt x="2317" y="895"/>
                </a:lnTo>
                <a:lnTo>
                  <a:pt x="2324" y="902"/>
                </a:lnTo>
                <a:lnTo>
                  <a:pt x="2324" y="901"/>
                </a:lnTo>
                <a:lnTo>
                  <a:pt x="2329" y="910"/>
                </a:lnTo>
                <a:lnTo>
                  <a:pt x="2341" y="933"/>
                </a:lnTo>
                <a:lnTo>
                  <a:pt x="2340" y="932"/>
                </a:lnTo>
                <a:lnTo>
                  <a:pt x="2355" y="989"/>
                </a:lnTo>
                <a:lnTo>
                  <a:pt x="2356" y="990"/>
                </a:lnTo>
                <a:lnTo>
                  <a:pt x="2364" y="1002"/>
                </a:lnTo>
                <a:lnTo>
                  <a:pt x="2364" y="1004"/>
                </a:lnTo>
                <a:lnTo>
                  <a:pt x="2369" y="1011"/>
                </a:lnTo>
                <a:lnTo>
                  <a:pt x="2369" y="1010"/>
                </a:lnTo>
                <a:lnTo>
                  <a:pt x="2385" y="1041"/>
                </a:lnTo>
                <a:lnTo>
                  <a:pt x="2382" y="1038"/>
                </a:lnTo>
                <a:lnTo>
                  <a:pt x="2393" y="1077"/>
                </a:lnTo>
                <a:lnTo>
                  <a:pt x="2398" y="1090"/>
                </a:lnTo>
                <a:lnTo>
                  <a:pt x="2398" y="1089"/>
                </a:lnTo>
                <a:lnTo>
                  <a:pt x="2402" y="1109"/>
                </a:lnTo>
                <a:lnTo>
                  <a:pt x="2402" y="1111"/>
                </a:lnTo>
                <a:lnTo>
                  <a:pt x="2407" y="1130"/>
                </a:lnTo>
                <a:lnTo>
                  <a:pt x="2408" y="1131"/>
                </a:lnTo>
                <a:lnTo>
                  <a:pt x="2413" y="1142"/>
                </a:lnTo>
                <a:lnTo>
                  <a:pt x="2413" y="1144"/>
                </a:lnTo>
                <a:lnTo>
                  <a:pt x="2418" y="1151"/>
                </a:lnTo>
                <a:lnTo>
                  <a:pt x="2417" y="1147"/>
                </a:lnTo>
                <a:lnTo>
                  <a:pt x="2421" y="1157"/>
                </a:lnTo>
                <a:lnTo>
                  <a:pt x="2429" y="1166"/>
                </a:lnTo>
                <a:lnTo>
                  <a:pt x="2425" y="1162"/>
                </a:lnTo>
                <a:lnTo>
                  <a:pt x="2429" y="1175"/>
                </a:lnTo>
                <a:lnTo>
                  <a:pt x="2434" y="1188"/>
                </a:lnTo>
                <a:lnTo>
                  <a:pt x="2439" y="1205"/>
                </a:lnTo>
                <a:lnTo>
                  <a:pt x="2439" y="1204"/>
                </a:lnTo>
                <a:lnTo>
                  <a:pt x="2443" y="1233"/>
                </a:lnTo>
                <a:lnTo>
                  <a:pt x="2448" y="1255"/>
                </a:lnTo>
                <a:lnTo>
                  <a:pt x="2451" y="1275"/>
                </a:lnTo>
                <a:lnTo>
                  <a:pt x="2453" y="1277"/>
                </a:lnTo>
                <a:lnTo>
                  <a:pt x="2453" y="1280"/>
                </a:lnTo>
                <a:lnTo>
                  <a:pt x="2456" y="1281"/>
                </a:lnTo>
                <a:lnTo>
                  <a:pt x="2461" y="1285"/>
                </a:lnTo>
                <a:lnTo>
                  <a:pt x="2458" y="1281"/>
                </a:lnTo>
                <a:lnTo>
                  <a:pt x="2461" y="1288"/>
                </a:lnTo>
                <a:lnTo>
                  <a:pt x="2460" y="1286"/>
                </a:lnTo>
                <a:lnTo>
                  <a:pt x="2465" y="1298"/>
                </a:lnTo>
                <a:lnTo>
                  <a:pt x="2465" y="1297"/>
                </a:lnTo>
                <a:lnTo>
                  <a:pt x="2469" y="1316"/>
                </a:lnTo>
                <a:lnTo>
                  <a:pt x="2471" y="1333"/>
                </a:lnTo>
                <a:lnTo>
                  <a:pt x="2477" y="1354"/>
                </a:lnTo>
                <a:lnTo>
                  <a:pt x="2480" y="1376"/>
                </a:lnTo>
                <a:lnTo>
                  <a:pt x="2484" y="1404"/>
                </a:lnTo>
                <a:lnTo>
                  <a:pt x="2487" y="1427"/>
                </a:lnTo>
                <a:lnTo>
                  <a:pt x="2487" y="1430"/>
                </a:lnTo>
                <a:lnTo>
                  <a:pt x="2491" y="1439"/>
                </a:lnTo>
                <a:lnTo>
                  <a:pt x="2497" y="1447"/>
                </a:lnTo>
                <a:lnTo>
                  <a:pt x="2502" y="1448"/>
                </a:lnTo>
                <a:lnTo>
                  <a:pt x="2496" y="1441"/>
                </a:lnTo>
                <a:lnTo>
                  <a:pt x="2500" y="1449"/>
                </a:lnTo>
                <a:lnTo>
                  <a:pt x="2500" y="1448"/>
                </a:lnTo>
                <a:lnTo>
                  <a:pt x="2502" y="1470"/>
                </a:lnTo>
                <a:lnTo>
                  <a:pt x="2506" y="1505"/>
                </a:lnTo>
                <a:lnTo>
                  <a:pt x="2510" y="1522"/>
                </a:lnTo>
                <a:lnTo>
                  <a:pt x="2510" y="1524"/>
                </a:lnTo>
                <a:lnTo>
                  <a:pt x="2515" y="1541"/>
                </a:lnTo>
                <a:lnTo>
                  <a:pt x="2515" y="1537"/>
                </a:lnTo>
                <a:lnTo>
                  <a:pt x="2517" y="1567"/>
                </a:lnTo>
                <a:lnTo>
                  <a:pt x="2517" y="1568"/>
                </a:lnTo>
                <a:lnTo>
                  <a:pt x="2520" y="1598"/>
                </a:lnTo>
                <a:lnTo>
                  <a:pt x="2520" y="1599"/>
                </a:lnTo>
                <a:lnTo>
                  <a:pt x="2522" y="1603"/>
                </a:lnTo>
                <a:lnTo>
                  <a:pt x="2523" y="1604"/>
                </a:lnTo>
                <a:lnTo>
                  <a:pt x="2527" y="1607"/>
                </a:lnTo>
                <a:lnTo>
                  <a:pt x="2533" y="1607"/>
                </a:lnTo>
                <a:lnTo>
                  <a:pt x="2537" y="1604"/>
                </a:lnTo>
                <a:lnTo>
                  <a:pt x="2539" y="1603"/>
                </a:lnTo>
                <a:lnTo>
                  <a:pt x="2539" y="1602"/>
                </a:lnTo>
                <a:lnTo>
                  <a:pt x="2542" y="1595"/>
                </a:lnTo>
                <a:lnTo>
                  <a:pt x="2544" y="1594"/>
                </a:lnTo>
                <a:lnTo>
                  <a:pt x="2549" y="1576"/>
                </a:lnTo>
                <a:lnTo>
                  <a:pt x="2551" y="1571"/>
                </a:lnTo>
                <a:lnTo>
                  <a:pt x="2531" y="1571"/>
                </a:lnTo>
                <a:lnTo>
                  <a:pt x="2533" y="1582"/>
                </a:lnTo>
                <a:lnTo>
                  <a:pt x="2533" y="1581"/>
                </a:lnTo>
                <a:lnTo>
                  <a:pt x="2537" y="1595"/>
                </a:lnTo>
                <a:lnTo>
                  <a:pt x="2544" y="1638"/>
                </a:lnTo>
                <a:lnTo>
                  <a:pt x="2551" y="1706"/>
                </a:lnTo>
                <a:lnTo>
                  <a:pt x="2554" y="1727"/>
                </a:lnTo>
                <a:lnTo>
                  <a:pt x="2557" y="1728"/>
                </a:lnTo>
                <a:lnTo>
                  <a:pt x="2557" y="1732"/>
                </a:lnTo>
                <a:lnTo>
                  <a:pt x="2559" y="1734"/>
                </a:lnTo>
                <a:lnTo>
                  <a:pt x="2562" y="1735"/>
                </a:lnTo>
                <a:lnTo>
                  <a:pt x="2570" y="1735"/>
                </a:lnTo>
                <a:lnTo>
                  <a:pt x="2572" y="1734"/>
                </a:lnTo>
                <a:lnTo>
                  <a:pt x="2575" y="1732"/>
                </a:lnTo>
                <a:lnTo>
                  <a:pt x="2559" y="1725"/>
                </a:lnTo>
                <a:lnTo>
                  <a:pt x="2563" y="1748"/>
                </a:lnTo>
                <a:lnTo>
                  <a:pt x="2567" y="1780"/>
                </a:lnTo>
                <a:lnTo>
                  <a:pt x="2567" y="1779"/>
                </a:lnTo>
                <a:lnTo>
                  <a:pt x="2568" y="1822"/>
                </a:lnTo>
                <a:lnTo>
                  <a:pt x="2568" y="1823"/>
                </a:lnTo>
                <a:lnTo>
                  <a:pt x="2573" y="1855"/>
                </a:lnTo>
                <a:lnTo>
                  <a:pt x="2573" y="1854"/>
                </a:lnTo>
                <a:lnTo>
                  <a:pt x="2575" y="1886"/>
                </a:lnTo>
                <a:lnTo>
                  <a:pt x="2575" y="1889"/>
                </a:lnTo>
                <a:lnTo>
                  <a:pt x="2579" y="1920"/>
                </a:lnTo>
                <a:lnTo>
                  <a:pt x="2579" y="1921"/>
                </a:lnTo>
                <a:lnTo>
                  <a:pt x="2580" y="1925"/>
                </a:lnTo>
                <a:lnTo>
                  <a:pt x="2581" y="1926"/>
                </a:lnTo>
                <a:lnTo>
                  <a:pt x="2585" y="1926"/>
                </a:lnTo>
                <a:lnTo>
                  <a:pt x="2588" y="1929"/>
                </a:lnTo>
                <a:lnTo>
                  <a:pt x="2593" y="1929"/>
                </a:lnTo>
                <a:lnTo>
                  <a:pt x="2596" y="1926"/>
                </a:lnTo>
                <a:lnTo>
                  <a:pt x="2598" y="1925"/>
                </a:lnTo>
                <a:lnTo>
                  <a:pt x="2598" y="1921"/>
                </a:lnTo>
                <a:lnTo>
                  <a:pt x="2599" y="1920"/>
                </a:lnTo>
                <a:lnTo>
                  <a:pt x="2601" y="1912"/>
                </a:lnTo>
                <a:lnTo>
                  <a:pt x="2604" y="1881"/>
                </a:lnTo>
                <a:lnTo>
                  <a:pt x="2604" y="1884"/>
                </a:lnTo>
                <a:lnTo>
                  <a:pt x="2607" y="1875"/>
                </a:lnTo>
                <a:lnTo>
                  <a:pt x="2588" y="1875"/>
                </a:lnTo>
                <a:lnTo>
                  <a:pt x="2590" y="1886"/>
                </a:lnTo>
                <a:lnTo>
                  <a:pt x="2590" y="1884"/>
                </a:lnTo>
                <a:lnTo>
                  <a:pt x="2593" y="1920"/>
                </a:lnTo>
                <a:lnTo>
                  <a:pt x="2596" y="1964"/>
                </a:lnTo>
                <a:lnTo>
                  <a:pt x="2603" y="2063"/>
                </a:lnTo>
                <a:lnTo>
                  <a:pt x="2604" y="2109"/>
                </a:lnTo>
                <a:lnTo>
                  <a:pt x="2606" y="2132"/>
                </a:lnTo>
                <a:lnTo>
                  <a:pt x="2606" y="2134"/>
                </a:lnTo>
                <a:lnTo>
                  <a:pt x="2607" y="2137"/>
                </a:lnTo>
                <a:lnTo>
                  <a:pt x="2610" y="2140"/>
                </a:lnTo>
                <a:lnTo>
                  <a:pt x="2611" y="2140"/>
                </a:lnTo>
                <a:lnTo>
                  <a:pt x="2615" y="2141"/>
                </a:lnTo>
                <a:lnTo>
                  <a:pt x="2620" y="2141"/>
                </a:lnTo>
                <a:lnTo>
                  <a:pt x="2610" y="2133"/>
                </a:lnTo>
                <a:lnTo>
                  <a:pt x="2612" y="2151"/>
                </a:lnTo>
                <a:lnTo>
                  <a:pt x="2612" y="2150"/>
                </a:lnTo>
                <a:lnTo>
                  <a:pt x="2616" y="2203"/>
                </a:lnTo>
                <a:lnTo>
                  <a:pt x="2619" y="2262"/>
                </a:lnTo>
                <a:lnTo>
                  <a:pt x="2620" y="2300"/>
                </a:lnTo>
                <a:lnTo>
                  <a:pt x="2620" y="2304"/>
                </a:lnTo>
                <a:lnTo>
                  <a:pt x="2625" y="2309"/>
                </a:lnTo>
                <a:lnTo>
                  <a:pt x="2628" y="2310"/>
                </a:lnTo>
                <a:lnTo>
                  <a:pt x="2633" y="2310"/>
                </a:lnTo>
                <a:lnTo>
                  <a:pt x="2638" y="2305"/>
                </a:lnTo>
                <a:lnTo>
                  <a:pt x="2641" y="2301"/>
                </a:lnTo>
                <a:lnTo>
                  <a:pt x="2641" y="2300"/>
                </a:lnTo>
                <a:lnTo>
                  <a:pt x="2638" y="2262"/>
                </a:lnTo>
                <a:lnTo>
                  <a:pt x="2637" y="2203"/>
                </a:lnTo>
                <a:lnTo>
                  <a:pt x="2633" y="2150"/>
                </a:lnTo>
                <a:lnTo>
                  <a:pt x="2633" y="2149"/>
                </a:lnTo>
                <a:lnTo>
                  <a:pt x="2630" y="2129"/>
                </a:lnTo>
                <a:lnTo>
                  <a:pt x="2630" y="2128"/>
                </a:lnTo>
                <a:lnTo>
                  <a:pt x="2624" y="2120"/>
                </a:lnTo>
                <a:lnTo>
                  <a:pt x="2616" y="2120"/>
                </a:lnTo>
                <a:lnTo>
                  <a:pt x="2627" y="2132"/>
                </a:lnTo>
                <a:lnTo>
                  <a:pt x="2625" y="2109"/>
                </a:lnTo>
                <a:lnTo>
                  <a:pt x="2624" y="2063"/>
                </a:lnTo>
                <a:lnTo>
                  <a:pt x="2616" y="1964"/>
                </a:lnTo>
                <a:lnTo>
                  <a:pt x="2612" y="1920"/>
                </a:lnTo>
                <a:lnTo>
                  <a:pt x="2611" y="1884"/>
                </a:lnTo>
                <a:lnTo>
                  <a:pt x="2611" y="1880"/>
                </a:lnTo>
                <a:lnTo>
                  <a:pt x="2607" y="1868"/>
                </a:lnTo>
                <a:lnTo>
                  <a:pt x="2606" y="1864"/>
                </a:lnTo>
                <a:lnTo>
                  <a:pt x="2604" y="1863"/>
                </a:lnTo>
                <a:lnTo>
                  <a:pt x="2601" y="1860"/>
                </a:lnTo>
                <a:lnTo>
                  <a:pt x="2594" y="1860"/>
                </a:lnTo>
                <a:lnTo>
                  <a:pt x="2590" y="1863"/>
                </a:lnTo>
                <a:lnTo>
                  <a:pt x="2589" y="1864"/>
                </a:lnTo>
                <a:lnTo>
                  <a:pt x="2588" y="1868"/>
                </a:lnTo>
                <a:lnTo>
                  <a:pt x="2584" y="1877"/>
                </a:lnTo>
                <a:lnTo>
                  <a:pt x="2584" y="1878"/>
                </a:lnTo>
                <a:lnTo>
                  <a:pt x="2580" y="1909"/>
                </a:lnTo>
                <a:lnTo>
                  <a:pt x="2579" y="1916"/>
                </a:lnTo>
                <a:lnTo>
                  <a:pt x="2599" y="1916"/>
                </a:lnTo>
                <a:lnTo>
                  <a:pt x="2596" y="1885"/>
                </a:lnTo>
                <a:lnTo>
                  <a:pt x="2596" y="1886"/>
                </a:lnTo>
                <a:lnTo>
                  <a:pt x="2594" y="1854"/>
                </a:lnTo>
                <a:lnTo>
                  <a:pt x="2594" y="1853"/>
                </a:lnTo>
                <a:lnTo>
                  <a:pt x="2589" y="1820"/>
                </a:lnTo>
                <a:lnTo>
                  <a:pt x="2589" y="1822"/>
                </a:lnTo>
                <a:lnTo>
                  <a:pt x="2588" y="1779"/>
                </a:lnTo>
                <a:lnTo>
                  <a:pt x="2588" y="1776"/>
                </a:lnTo>
                <a:lnTo>
                  <a:pt x="2584" y="1744"/>
                </a:lnTo>
                <a:lnTo>
                  <a:pt x="2580" y="1722"/>
                </a:lnTo>
                <a:lnTo>
                  <a:pt x="2579" y="1718"/>
                </a:lnTo>
                <a:lnTo>
                  <a:pt x="2573" y="1713"/>
                </a:lnTo>
                <a:lnTo>
                  <a:pt x="2568" y="1713"/>
                </a:lnTo>
                <a:lnTo>
                  <a:pt x="2564" y="1714"/>
                </a:lnTo>
                <a:lnTo>
                  <a:pt x="2562" y="1717"/>
                </a:lnTo>
                <a:lnTo>
                  <a:pt x="2567" y="1714"/>
                </a:lnTo>
                <a:lnTo>
                  <a:pt x="2564" y="1714"/>
                </a:lnTo>
                <a:lnTo>
                  <a:pt x="2575" y="1723"/>
                </a:lnTo>
                <a:lnTo>
                  <a:pt x="2572" y="1703"/>
                </a:lnTo>
                <a:lnTo>
                  <a:pt x="2564" y="1634"/>
                </a:lnTo>
                <a:lnTo>
                  <a:pt x="2558" y="1593"/>
                </a:lnTo>
                <a:lnTo>
                  <a:pt x="2554" y="1577"/>
                </a:lnTo>
                <a:lnTo>
                  <a:pt x="2554" y="1576"/>
                </a:lnTo>
                <a:lnTo>
                  <a:pt x="2551" y="1563"/>
                </a:lnTo>
                <a:lnTo>
                  <a:pt x="2544" y="1557"/>
                </a:lnTo>
                <a:lnTo>
                  <a:pt x="2539" y="1557"/>
                </a:lnTo>
                <a:lnTo>
                  <a:pt x="2536" y="1558"/>
                </a:lnTo>
                <a:lnTo>
                  <a:pt x="2531" y="1563"/>
                </a:lnTo>
                <a:lnTo>
                  <a:pt x="2528" y="1568"/>
                </a:lnTo>
                <a:lnTo>
                  <a:pt x="2523" y="1588"/>
                </a:lnTo>
                <a:lnTo>
                  <a:pt x="2526" y="1586"/>
                </a:lnTo>
                <a:lnTo>
                  <a:pt x="2522" y="1591"/>
                </a:lnTo>
                <a:lnTo>
                  <a:pt x="2541" y="1594"/>
                </a:lnTo>
                <a:lnTo>
                  <a:pt x="2537" y="1565"/>
                </a:lnTo>
                <a:lnTo>
                  <a:pt x="2537" y="1567"/>
                </a:lnTo>
                <a:lnTo>
                  <a:pt x="2536" y="1537"/>
                </a:lnTo>
                <a:lnTo>
                  <a:pt x="2536" y="1534"/>
                </a:lnTo>
                <a:lnTo>
                  <a:pt x="2531" y="1517"/>
                </a:lnTo>
                <a:lnTo>
                  <a:pt x="2531" y="1519"/>
                </a:lnTo>
                <a:lnTo>
                  <a:pt x="2527" y="1501"/>
                </a:lnTo>
                <a:lnTo>
                  <a:pt x="2523" y="1467"/>
                </a:lnTo>
                <a:lnTo>
                  <a:pt x="2520" y="1444"/>
                </a:lnTo>
                <a:lnTo>
                  <a:pt x="2520" y="1443"/>
                </a:lnTo>
                <a:lnTo>
                  <a:pt x="2517" y="1435"/>
                </a:lnTo>
                <a:lnTo>
                  <a:pt x="2510" y="1427"/>
                </a:lnTo>
                <a:lnTo>
                  <a:pt x="2505" y="1426"/>
                </a:lnTo>
                <a:lnTo>
                  <a:pt x="2511" y="1432"/>
                </a:lnTo>
                <a:lnTo>
                  <a:pt x="2508" y="1422"/>
                </a:lnTo>
                <a:lnTo>
                  <a:pt x="2508" y="1425"/>
                </a:lnTo>
                <a:lnTo>
                  <a:pt x="2505" y="1400"/>
                </a:lnTo>
                <a:lnTo>
                  <a:pt x="2501" y="1373"/>
                </a:lnTo>
                <a:lnTo>
                  <a:pt x="2497" y="1350"/>
                </a:lnTo>
                <a:lnTo>
                  <a:pt x="2492" y="1329"/>
                </a:lnTo>
                <a:lnTo>
                  <a:pt x="2489" y="1312"/>
                </a:lnTo>
                <a:lnTo>
                  <a:pt x="2486" y="1293"/>
                </a:lnTo>
                <a:lnTo>
                  <a:pt x="2486" y="1292"/>
                </a:lnTo>
                <a:lnTo>
                  <a:pt x="2480" y="1280"/>
                </a:lnTo>
                <a:lnTo>
                  <a:pt x="2479" y="1277"/>
                </a:lnTo>
                <a:lnTo>
                  <a:pt x="2475" y="1271"/>
                </a:lnTo>
                <a:lnTo>
                  <a:pt x="2475" y="1269"/>
                </a:lnTo>
                <a:lnTo>
                  <a:pt x="2471" y="1267"/>
                </a:lnTo>
                <a:lnTo>
                  <a:pt x="2466" y="1264"/>
                </a:lnTo>
                <a:lnTo>
                  <a:pt x="2471" y="1271"/>
                </a:lnTo>
                <a:lnTo>
                  <a:pt x="2469" y="1253"/>
                </a:lnTo>
                <a:lnTo>
                  <a:pt x="2464" y="1230"/>
                </a:lnTo>
                <a:lnTo>
                  <a:pt x="2460" y="1201"/>
                </a:lnTo>
                <a:lnTo>
                  <a:pt x="2460" y="1198"/>
                </a:lnTo>
                <a:lnTo>
                  <a:pt x="2455" y="1182"/>
                </a:lnTo>
                <a:lnTo>
                  <a:pt x="2449" y="1167"/>
                </a:lnTo>
                <a:lnTo>
                  <a:pt x="2447" y="1156"/>
                </a:lnTo>
                <a:lnTo>
                  <a:pt x="2438" y="1147"/>
                </a:lnTo>
                <a:lnTo>
                  <a:pt x="2440" y="1151"/>
                </a:lnTo>
                <a:lnTo>
                  <a:pt x="2438" y="1140"/>
                </a:lnTo>
                <a:lnTo>
                  <a:pt x="2435" y="1136"/>
                </a:lnTo>
                <a:lnTo>
                  <a:pt x="2430" y="1130"/>
                </a:lnTo>
                <a:lnTo>
                  <a:pt x="2430" y="1131"/>
                </a:lnTo>
                <a:lnTo>
                  <a:pt x="2425" y="1121"/>
                </a:lnTo>
                <a:lnTo>
                  <a:pt x="2427" y="1123"/>
                </a:lnTo>
                <a:lnTo>
                  <a:pt x="2422" y="1104"/>
                </a:lnTo>
                <a:lnTo>
                  <a:pt x="2422" y="1105"/>
                </a:lnTo>
                <a:lnTo>
                  <a:pt x="2418" y="1085"/>
                </a:lnTo>
                <a:lnTo>
                  <a:pt x="2418" y="1083"/>
                </a:lnTo>
                <a:lnTo>
                  <a:pt x="2413" y="1069"/>
                </a:lnTo>
                <a:lnTo>
                  <a:pt x="2403" y="1032"/>
                </a:lnTo>
                <a:lnTo>
                  <a:pt x="2402" y="1030"/>
                </a:lnTo>
                <a:lnTo>
                  <a:pt x="2386" y="999"/>
                </a:lnTo>
                <a:lnTo>
                  <a:pt x="2386" y="997"/>
                </a:lnTo>
                <a:lnTo>
                  <a:pt x="2381" y="990"/>
                </a:lnTo>
                <a:lnTo>
                  <a:pt x="2381" y="993"/>
                </a:lnTo>
                <a:lnTo>
                  <a:pt x="2373" y="980"/>
                </a:lnTo>
                <a:lnTo>
                  <a:pt x="2376" y="981"/>
                </a:lnTo>
                <a:lnTo>
                  <a:pt x="2360" y="926"/>
                </a:lnTo>
                <a:lnTo>
                  <a:pt x="2359" y="923"/>
                </a:lnTo>
                <a:lnTo>
                  <a:pt x="2346" y="900"/>
                </a:lnTo>
                <a:lnTo>
                  <a:pt x="2341" y="891"/>
                </a:lnTo>
                <a:lnTo>
                  <a:pt x="2341" y="889"/>
                </a:lnTo>
                <a:lnTo>
                  <a:pt x="2334" y="880"/>
                </a:lnTo>
                <a:lnTo>
                  <a:pt x="2334" y="884"/>
                </a:lnTo>
                <a:lnTo>
                  <a:pt x="2328" y="869"/>
                </a:lnTo>
                <a:lnTo>
                  <a:pt x="2329" y="869"/>
                </a:lnTo>
                <a:lnTo>
                  <a:pt x="2323" y="848"/>
                </a:lnTo>
                <a:lnTo>
                  <a:pt x="2317" y="834"/>
                </a:lnTo>
                <a:lnTo>
                  <a:pt x="2315" y="833"/>
                </a:lnTo>
                <a:lnTo>
                  <a:pt x="2302" y="804"/>
                </a:lnTo>
                <a:lnTo>
                  <a:pt x="2294" y="794"/>
                </a:lnTo>
                <a:lnTo>
                  <a:pt x="2294" y="793"/>
                </a:lnTo>
                <a:lnTo>
                  <a:pt x="2289" y="786"/>
                </a:lnTo>
                <a:lnTo>
                  <a:pt x="2288" y="786"/>
                </a:lnTo>
                <a:lnTo>
                  <a:pt x="2279" y="777"/>
                </a:lnTo>
                <a:lnTo>
                  <a:pt x="2281" y="778"/>
                </a:lnTo>
                <a:lnTo>
                  <a:pt x="2274" y="767"/>
                </a:lnTo>
                <a:lnTo>
                  <a:pt x="2267" y="754"/>
                </a:lnTo>
                <a:lnTo>
                  <a:pt x="2258" y="737"/>
                </a:lnTo>
                <a:lnTo>
                  <a:pt x="2258" y="739"/>
                </a:lnTo>
                <a:lnTo>
                  <a:pt x="2252" y="724"/>
                </a:lnTo>
                <a:lnTo>
                  <a:pt x="2252" y="723"/>
                </a:lnTo>
                <a:lnTo>
                  <a:pt x="2244" y="708"/>
                </a:lnTo>
                <a:lnTo>
                  <a:pt x="2245" y="710"/>
                </a:lnTo>
                <a:lnTo>
                  <a:pt x="2239" y="693"/>
                </a:lnTo>
                <a:lnTo>
                  <a:pt x="2236" y="692"/>
                </a:lnTo>
                <a:lnTo>
                  <a:pt x="2227" y="674"/>
                </a:lnTo>
                <a:lnTo>
                  <a:pt x="2227" y="672"/>
                </a:lnTo>
                <a:lnTo>
                  <a:pt x="2210" y="652"/>
                </a:lnTo>
                <a:lnTo>
                  <a:pt x="2209" y="652"/>
                </a:lnTo>
                <a:lnTo>
                  <a:pt x="2200" y="643"/>
                </a:lnTo>
                <a:lnTo>
                  <a:pt x="2201" y="643"/>
                </a:lnTo>
                <a:lnTo>
                  <a:pt x="2193" y="632"/>
                </a:lnTo>
                <a:lnTo>
                  <a:pt x="2193" y="635"/>
                </a:lnTo>
                <a:lnTo>
                  <a:pt x="2184" y="619"/>
                </a:lnTo>
                <a:lnTo>
                  <a:pt x="2164" y="588"/>
                </a:lnTo>
                <a:lnTo>
                  <a:pt x="2156" y="573"/>
                </a:lnTo>
                <a:lnTo>
                  <a:pt x="2156" y="570"/>
                </a:lnTo>
                <a:lnTo>
                  <a:pt x="2125" y="534"/>
                </a:lnTo>
                <a:lnTo>
                  <a:pt x="2122" y="534"/>
                </a:lnTo>
                <a:lnTo>
                  <a:pt x="2111" y="522"/>
                </a:lnTo>
                <a:lnTo>
                  <a:pt x="2112" y="522"/>
                </a:lnTo>
                <a:lnTo>
                  <a:pt x="2100" y="508"/>
                </a:lnTo>
                <a:lnTo>
                  <a:pt x="2099" y="508"/>
                </a:lnTo>
                <a:lnTo>
                  <a:pt x="2086" y="497"/>
                </a:lnTo>
                <a:lnTo>
                  <a:pt x="2089" y="497"/>
                </a:lnTo>
                <a:lnTo>
                  <a:pt x="2064" y="466"/>
                </a:lnTo>
                <a:lnTo>
                  <a:pt x="2052" y="451"/>
                </a:lnTo>
                <a:lnTo>
                  <a:pt x="2050" y="451"/>
                </a:lnTo>
                <a:lnTo>
                  <a:pt x="2036" y="438"/>
                </a:lnTo>
                <a:lnTo>
                  <a:pt x="2023" y="427"/>
                </a:lnTo>
                <a:lnTo>
                  <a:pt x="2007" y="412"/>
                </a:lnTo>
                <a:lnTo>
                  <a:pt x="1990" y="396"/>
                </a:lnTo>
                <a:lnTo>
                  <a:pt x="1974" y="385"/>
                </a:lnTo>
                <a:lnTo>
                  <a:pt x="1975" y="385"/>
                </a:lnTo>
                <a:lnTo>
                  <a:pt x="1958" y="371"/>
                </a:lnTo>
                <a:lnTo>
                  <a:pt x="1958" y="373"/>
                </a:lnTo>
                <a:lnTo>
                  <a:pt x="1943" y="356"/>
                </a:lnTo>
                <a:lnTo>
                  <a:pt x="1923" y="339"/>
                </a:lnTo>
                <a:lnTo>
                  <a:pt x="1923" y="336"/>
                </a:lnTo>
                <a:lnTo>
                  <a:pt x="1861" y="291"/>
                </a:lnTo>
                <a:lnTo>
                  <a:pt x="1860" y="291"/>
                </a:lnTo>
                <a:lnTo>
                  <a:pt x="1835" y="277"/>
                </a:lnTo>
                <a:lnTo>
                  <a:pt x="1811" y="260"/>
                </a:lnTo>
                <a:lnTo>
                  <a:pt x="1784" y="243"/>
                </a:lnTo>
                <a:lnTo>
                  <a:pt x="1755" y="229"/>
                </a:lnTo>
                <a:lnTo>
                  <a:pt x="1724" y="211"/>
                </a:lnTo>
                <a:lnTo>
                  <a:pt x="1689" y="194"/>
                </a:lnTo>
                <a:lnTo>
                  <a:pt x="1688" y="193"/>
                </a:lnTo>
                <a:lnTo>
                  <a:pt x="1649" y="177"/>
                </a:lnTo>
                <a:lnTo>
                  <a:pt x="1608" y="159"/>
                </a:lnTo>
                <a:lnTo>
                  <a:pt x="1560" y="142"/>
                </a:lnTo>
                <a:lnTo>
                  <a:pt x="1506" y="125"/>
                </a:lnTo>
                <a:lnTo>
                  <a:pt x="1440" y="109"/>
                </a:lnTo>
                <a:lnTo>
                  <a:pt x="1439" y="109"/>
                </a:lnTo>
                <a:lnTo>
                  <a:pt x="1360" y="89"/>
                </a:lnTo>
                <a:lnTo>
                  <a:pt x="1258" y="70"/>
                </a:lnTo>
                <a:lnTo>
                  <a:pt x="1117" y="48"/>
                </a:lnTo>
                <a:lnTo>
                  <a:pt x="881" y="26"/>
                </a:lnTo>
                <a:lnTo>
                  <a:pt x="879" y="26"/>
                </a:lnTo>
                <a:lnTo>
                  <a:pt x="1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4040" y="4179960"/>
            <a:ext cx="1796760" cy="511200"/>
          </a:xfrm>
          <a:custGeom>
            <a:avLst/>
            <a:gdLst/>
            <a:ahLst/>
            <a:rect l="l" t="t" r="r" b="b"/>
            <a:pathLst>
              <a:path w="2778" h="671">
                <a:moveTo>
                  <a:pt x="10" y="0"/>
                </a:moveTo>
                <a:lnTo>
                  <a:pt x="9" y="0"/>
                </a:lnTo>
                <a:lnTo>
                  <a:pt x="5" y="1"/>
                </a:lnTo>
                <a:lnTo>
                  <a:pt x="0" y="6"/>
                </a:lnTo>
                <a:lnTo>
                  <a:pt x="0" y="12"/>
                </a:lnTo>
                <a:lnTo>
                  <a:pt x="2" y="14"/>
                </a:lnTo>
                <a:lnTo>
                  <a:pt x="8" y="19"/>
                </a:lnTo>
                <a:lnTo>
                  <a:pt x="10" y="19"/>
                </a:lnTo>
                <a:lnTo>
                  <a:pt x="879" y="34"/>
                </a:lnTo>
                <a:lnTo>
                  <a:pt x="1115" y="45"/>
                </a:lnTo>
                <a:lnTo>
                  <a:pt x="1113" y="45"/>
                </a:lnTo>
                <a:lnTo>
                  <a:pt x="1254" y="59"/>
                </a:lnTo>
                <a:lnTo>
                  <a:pt x="1356" y="70"/>
                </a:lnTo>
                <a:lnTo>
                  <a:pt x="1435" y="83"/>
                </a:lnTo>
                <a:lnTo>
                  <a:pt x="1501" y="92"/>
                </a:lnTo>
                <a:lnTo>
                  <a:pt x="1555" y="101"/>
                </a:lnTo>
                <a:lnTo>
                  <a:pt x="1604" y="110"/>
                </a:lnTo>
                <a:lnTo>
                  <a:pt x="1644" y="118"/>
                </a:lnTo>
                <a:lnTo>
                  <a:pt x="1683" y="127"/>
                </a:lnTo>
                <a:lnTo>
                  <a:pt x="1717" y="133"/>
                </a:lnTo>
                <a:lnTo>
                  <a:pt x="1748" y="141"/>
                </a:lnTo>
                <a:lnTo>
                  <a:pt x="1777" y="147"/>
                </a:lnTo>
                <a:lnTo>
                  <a:pt x="1776" y="147"/>
                </a:lnTo>
                <a:lnTo>
                  <a:pt x="1828" y="161"/>
                </a:lnTo>
                <a:lnTo>
                  <a:pt x="1851" y="168"/>
                </a:lnTo>
                <a:lnTo>
                  <a:pt x="1852" y="168"/>
                </a:lnTo>
                <a:lnTo>
                  <a:pt x="1873" y="173"/>
                </a:lnTo>
                <a:lnTo>
                  <a:pt x="1872" y="173"/>
                </a:lnTo>
                <a:lnTo>
                  <a:pt x="1892" y="180"/>
                </a:lnTo>
                <a:lnTo>
                  <a:pt x="1894" y="180"/>
                </a:lnTo>
                <a:lnTo>
                  <a:pt x="1914" y="185"/>
                </a:lnTo>
                <a:lnTo>
                  <a:pt x="1913" y="185"/>
                </a:lnTo>
                <a:lnTo>
                  <a:pt x="1948" y="195"/>
                </a:lnTo>
                <a:lnTo>
                  <a:pt x="1965" y="203"/>
                </a:lnTo>
                <a:lnTo>
                  <a:pt x="1966" y="203"/>
                </a:lnTo>
                <a:lnTo>
                  <a:pt x="1982" y="206"/>
                </a:lnTo>
                <a:lnTo>
                  <a:pt x="1980" y="206"/>
                </a:lnTo>
                <a:lnTo>
                  <a:pt x="2011" y="216"/>
                </a:lnTo>
                <a:lnTo>
                  <a:pt x="2024" y="221"/>
                </a:lnTo>
                <a:lnTo>
                  <a:pt x="2040" y="226"/>
                </a:lnTo>
                <a:lnTo>
                  <a:pt x="2052" y="231"/>
                </a:lnTo>
                <a:lnTo>
                  <a:pt x="2064" y="235"/>
                </a:lnTo>
                <a:lnTo>
                  <a:pt x="2089" y="246"/>
                </a:lnTo>
                <a:lnTo>
                  <a:pt x="2100" y="248"/>
                </a:lnTo>
                <a:lnTo>
                  <a:pt x="2112" y="253"/>
                </a:lnTo>
                <a:lnTo>
                  <a:pt x="2122" y="257"/>
                </a:lnTo>
                <a:lnTo>
                  <a:pt x="2121" y="256"/>
                </a:lnTo>
                <a:lnTo>
                  <a:pt x="2131" y="261"/>
                </a:lnTo>
                <a:lnTo>
                  <a:pt x="2133" y="262"/>
                </a:lnTo>
                <a:lnTo>
                  <a:pt x="2143" y="266"/>
                </a:lnTo>
                <a:lnTo>
                  <a:pt x="2142" y="265"/>
                </a:lnTo>
                <a:lnTo>
                  <a:pt x="2151" y="270"/>
                </a:lnTo>
                <a:lnTo>
                  <a:pt x="2152" y="271"/>
                </a:lnTo>
                <a:lnTo>
                  <a:pt x="2162" y="274"/>
                </a:lnTo>
                <a:lnTo>
                  <a:pt x="2170" y="278"/>
                </a:lnTo>
                <a:lnTo>
                  <a:pt x="2169" y="277"/>
                </a:lnTo>
                <a:lnTo>
                  <a:pt x="2179" y="282"/>
                </a:lnTo>
                <a:lnTo>
                  <a:pt x="2182" y="283"/>
                </a:lnTo>
                <a:lnTo>
                  <a:pt x="2208" y="293"/>
                </a:lnTo>
                <a:lnTo>
                  <a:pt x="2205" y="292"/>
                </a:lnTo>
                <a:lnTo>
                  <a:pt x="2214" y="297"/>
                </a:lnTo>
                <a:lnTo>
                  <a:pt x="2221" y="300"/>
                </a:lnTo>
                <a:lnTo>
                  <a:pt x="2222" y="302"/>
                </a:lnTo>
                <a:lnTo>
                  <a:pt x="2240" y="309"/>
                </a:lnTo>
                <a:lnTo>
                  <a:pt x="2239" y="308"/>
                </a:lnTo>
                <a:lnTo>
                  <a:pt x="2252" y="314"/>
                </a:lnTo>
                <a:lnTo>
                  <a:pt x="2253" y="315"/>
                </a:lnTo>
                <a:lnTo>
                  <a:pt x="2262" y="319"/>
                </a:lnTo>
                <a:lnTo>
                  <a:pt x="2261" y="318"/>
                </a:lnTo>
                <a:lnTo>
                  <a:pt x="2302" y="339"/>
                </a:lnTo>
                <a:lnTo>
                  <a:pt x="2307" y="341"/>
                </a:lnTo>
                <a:lnTo>
                  <a:pt x="2320" y="349"/>
                </a:lnTo>
                <a:lnTo>
                  <a:pt x="2323" y="350"/>
                </a:lnTo>
                <a:lnTo>
                  <a:pt x="2328" y="352"/>
                </a:lnTo>
                <a:lnTo>
                  <a:pt x="2325" y="350"/>
                </a:lnTo>
                <a:lnTo>
                  <a:pt x="2333" y="354"/>
                </a:lnTo>
                <a:lnTo>
                  <a:pt x="2331" y="352"/>
                </a:lnTo>
                <a:lnTo>
                  <a:pt x="2340" y="361"/>
                </a:lnTo>
                <a:lnTo>
                  <a:pt x="2341" y="361"/>
                </a:lnTo>
                <a:lnTo>
                  <a:pt x="2347" y="362"/>
                </a:lnTo>
                <a:lnTo>
                  <a:pt x="2345" y="361"/>
                </a:lnTo>
                <a:lnTo>
                  <a:pt x="2355" y="367"/>
                </a:lnTo>
                <a:lnTo>
                  <a:pt x="2356" y="370"/>
                </a:lnTo>
                <a:lnTo>
                  <a:pt x="2362" y="371"/>
                </a:lnTo>
                <a:lnTo>
                  <a:pt x="2360" y="370"/>
                </a:lnTo>
                <a:lnTo>
                  <a:pt x="2367" y="372"/>
                </a:lnTo>
                <a:lnTo>
                  <a:pt x="2372" y="376"/>
                </a:lnTo>
                <a:lnTo>
                  <a:pt x="2371" y="375"/>
                </a:lnTo>
                <a:lnTo>
                  <a:pt x="2376" y="380"/>
                </a:lnTo>
                <a:lnTo>
                  <a:pt x="2382" y="383"/>
                </a:lnTo>
                <a:lnTo>
                  <a:pt x="2385" y="385"/>
                </a:lnTo>
                <a:lnTo>
                  <a:pt x="2390" y="386"/>
                </a:lnTo>
                <a:lnTo>
                  <a:pt x="2386" y="383"/>
                </a:lnTo>
                <a:lnTo>
                  <a:pt x="2391" y="388"/>
                </a:lnTo>
                <a:lnTo>
                  <a:pt x="2402" y="393"/>
                </a:lnTo>
                <a:lnTo>
                  <a:pt x="2417" y="403"/>
                </a:lnTo>
                <a:lnTo>
                  <a:pt x="2418" y="406"/>
                </a:lnTo>
                <a:lnTo>
                  <a:pt x="2424" y="407"/>
                </a:lnTo>
                <a:lnTo>
                  <a:pt x="2421" y="403"/>
                </a:lnTo>
                <a:lnTo>
                  <a:pt x="2427" y="411"/>
                </a:lnTo>
                <a:lnTo>
                  <a:pt x="2433" y="412"/>
                </a:lnTo>
                <a:lnTo>
                  <a:pt x="2429" y="409"/>
                </a:lnTo>
                <a:lnTo>
                  <a:pt x="2434" y="414"/>
                </a:lnTo>
                <a:lnTo>
                  <a:pt x="2439" y="417"/>
                </a:lnTo>
                <a:lnTo>
                  <a:pt x="2440" y="419"/>
                </a:lnTo>
                <a:lnTo>
                  <a:pt x="2447" y="421"/>
                </a:lnTo>
                <a:lnTo>
                  <a:pt x="2443" y="417"/>
                </a:lnTo>
                <a:lnTo>
                  <a:pt x="2448" y="423"/>
                </a:lnTo>
                <a:lnTo>
                  <a:pt x="2451" y="424"/>
                </a:lnTo>
                <a:lnTo>
                  <a:pt x="2456" y="428"/>
                </a:lnTo>
                <a:lnTo>
                  <a:pt x="2458" y="429"/>
                </a:lnTo>
                <a:lnTo>
                  <a:pt x="2464" y="432"/>
                </a:lnTo>
                <a:lnTo>
                  <a:pt x="2460" y="428"/>
                </a:lnTo>
                <a:lnTo>
                  <a:pt x="2470" y="438"/>
                </a:lnTo>
                <a:lnTo>
                  <a:pt x="2475" y="440"/>
                </a:lnTo>
                <a:lnTo>
                  <a:pt x="2471" y="437"/>
                </a:lnTo>
                <a:lnTo>
                  <a:pt x="2477" y="442"/>
                </a:lnTo>
                <a:lnTo>
                  <a:pt x="2480" y="443"/>
                </a:lnTo>
                <a:lnTo>
                  <a:pt x="2486" y="447"/>
                </a:lnTo>
                <a:lnTo>
                  <a:pt x="2489" y="448"/>
                </a:lnTo>
                <a:lnTo>
                  <a:pt x="2487" y="447"/>
                </a:lnTo>
                <a:lnTo>
                  <a:pt x="2492" y="452"/>
                </a:lnTo>
                <a:lnTo>
                  <a:pt x="2496" y="454"/>
                </a:lnTo>
                <a:lnTo>
                  <a:pt x="2495" y="452"/>
                </a:lnTo>
                <a:lnTo>
                  <a:pt x="2500" y="456"/>
                </a:lnTo>
                <a:lnTo>
                  <a:pt x="2502" y="459"/>
                </a:lnTo>
                <a:lnTo>
                  <a:pt x="2505" y="460"/>
                </a:lnTo>
                <a:lnTo>
                  <a:pt x="2510" y="463"/>
                </a:lnTo>
                <a:lnTo>
                  <a:pt x="2506" y="459"/>
                </a:lnTo>
                <a:lnTo>
                  <a:pt x="2511" y="464"/>
                </a:lnTo>
                <a:lnTo>
                  <a:pt x="2515" y="465"/>
                </a:lnTo>
                <a:lnTo>
                  <a:pt x="2513" y="464"/>
                </a:lnTo>
                <a:lnTo>
                  <a:pt x="2518" y="469"/>
                </a:lnTo>
                <a:lnTo>
                  <a:pt x="2526" y="473"/>
                </a:lnTo>
                <a:lnTo>
                  <a:pt x="2523" y="471"/>
                </a:lnTo>
                <a:lnTo>
                  <a:pt x="2532" y="479"/>
                </a:lnTo>
                <a:lnTo>
                  <a:pt x="2539" y="482"/>
                </a:lnTo>
                <a:lnTo>
                  <a:pt x="2537" y="481"/>
                </a:lnTo>
                <a:lnTo>
                  <a:pt x="2542" y="486"/>
                </a:lnTo>
                <a:lnTo>
                  <a:pt x="2549" y="490"/>
                </a:lnTo>
                <a:lnTo>
                  <a:pt x="2546" y="486"/>
                </a:lnTo>
                <a:lnTo>
                  <a:pt x="2548" y="490"/>
                </a:lnTo>
                <a:lnTo>
                  <a:pt x="2553" y="495"/>
                </a:lnTo>
                <a:lnTo>
                  <a:pt x="2558" y="496"/>
                </a:lnTo>
                <a:lnTo>
                  <a:pt x="2554" y="494"/>
                </a:lnTo>
                <a:lnTo>
                  <a:pt x="2562" y="500"/>
                </a:lnTo>
                <a:lnTo>
                  <a:pt x="2568" y="504"/>
                </a:lnTo>
                <a:lnTo>
                  <a:pt x="2567" y="502"/>
                </a:lnTo>
                <a:lnTo>
                  <a:pt x="2573" y="508"/>
                </a:lnTo>
                <a:lnTo>
                  <a:pt x="2577" y="510"/>
                </a:lnTo>
                <a:lnTo>
                  <a:pt x="2575" y="508"/>
                </a:lnTo>
                <a:lnTo>
                  <a:pt x="2580" y="513"/>
                </a:lnTo>
                <a:lnTo>
                  <a:pt x="2584" y="516"/>
                </a:lnTo>
                <a:lnTo>
                  <a:pt x="2581" y="513"/>
                </a:lnTo>
                <a:lnTo>
                  <a:pt x="2589" y="521"/>
                </a:lnTo>
                <a:lnTo>
                  <a:pt x="2596" y="525"/>
                </a:lnTo>
                <a:lnTo>
                  <a:pt x="2593" y="521"/>
                </a:lnTo>
                <a:lnTo>
                  <a:pt x="2594" y="525"/>
                </a:lnTo>
                <a:lnTo>
                  <a:pt x="2598" y="527"/>
                </a:lnTo>
                <a:lnTo>
                  <a:pt x="2601" y="530"/>
                </a:lnTo>
                <a:lnTo>
                  <a:pt x="2599" y="527"/>
                </a:lnTo>
                <a:lnTo>
                  <a:pt x="2603" y="531"/>
                </a:lnTo>
                <a:lnTo>
                  <a:pt x="2606" y="533"/>
                </a:lnTo>
                <a:lnTo>
                  <a:pt x="2603" y="530"/>
                </a:lnTo>
                <a:lnTo>
                  <a:pt x="2604" y="533"/>
                </a:lnTo>
                <a:lnTo>
                  <a:pt x="2607" y="536"/>
                </a:lnTo>
                <a:lnTo>
                  <a:pt x="2615" y="539"/>
                </a:lnTo>
                <a:lnTo>
                  <a:pt x="2612" y="538"/>
                </a:lnTo>
                <a:lnTo>
                  <a:pt x="2620" y="544"/>
                </a:lnTo>
                <a:lnTo>
                  <a:pt x="2624" y="547"/>
                </a:lnTo>
                <a:lnTo>
                  <a:pt x="2621" y="544"/>
                </a:lnTo>
                <a:lnTo>
                  <a:pt x="2630" y="553"/>
                </a:lnTo>
                <a:lnTo>
                  <a:pt x="2633" y="556"/>
                </a:lnTo>
                <a:lnTo>
                  <a:pt x="2632" y="553"/>
                </a:lnTo>
                <a:lnTo>
                  <a:pt x="2635" y="557"/>
                </a:lnTo>
                <a:lnTo>
                  <a:pt x="2638" y="558"/>
                </a:lnTo>
                <a:lnTo>
                  <a:pt x="2635" y="556"/>
                </a:lnTo>
                <a:lnTo>
                  <a:pt x="2637" y="558"/>
                </a:lnTo>
                <a:lnTo>
                  <a:pt x="2641" y="562"/>
                </a:lnTo>
                <a:lnTo>
                  <a:pt x="2643" y="564"/>
                </a:lnTo>
                <a:lnTo>
                  <a:pt x="2642" y="562"/>
                </a:lnTo>
                <a:lnTo>
                  <a:pt x="2646" y="565"/>
                </a:lnTo>
                <a:lnTo>
                  <a:pt x="2650" y="567"/>
                </a:lnTo>
                <a:lnTo>
                  <a:pt x="2647" y="565"/>
                </a:lnTo>
                <a:lnTo>
                  <a:pt x="2652" y="570"/>
                </a:lnTo>
                <a:lnTo>
                  <a:pt x="2656" y="573"/>
                </a:lnTo>
                <a:lnTo>
                  <a:pt x="2652" y="569"/>
                </a:lnTo>
                <a:lnTo>
                  <a:pt x="2654" y="573"/>
                </a:lnTo>
                <a:lnTo>
                  <a:pt x="2658" y="575"/>
                </a:lnTo>
                <a:lnTo>
                  <a:pt x="2661" y="578"/>
                </a:lnTo>
                <a:lnTo>
                  <a:pt x="2659" y="575"/>
                </a:lnTo>
                <a:lnTo>
                  <a:pt x="2672" y="588"/>
                </a:lnTo>
                <a:lnTo>
                  <a:pt x="2674" y="589"/>
                </a:lnTo>
                <a:lnTo>
                  <a:pt x="2673" y="588"/>
                </a:lnTo>
                <a:lnTo>
                  <a:pt x="2677" y="591"/>
                </a:lnTo>
                <a:lnTo>
                  <a:pt x="2674" y="589"/>
                </a:lnTo>
                <a:lnTo>
                  <a:pt x="2677" y="593"/>
                </a:lnTo>
                <a:lnTo>
                  <a:pt x="2680" y="596"/>
                </a:lnTo>
                <a:lnTo>
                  <a:pt x="2683" y="598"/>
                </a:lnTo>
                <a:lnTo>
                  <a:pt x="2682" y="596"/>
                </a:lnTo>
                <a:lnTo>
                  <a:pt x="2685" y="600"/>
                </a:lnTo>
                <a:lnTo>
                  <a:pt x="2689" y="601"/>
                </a:lnTo>
                <a:lnTo>
                  <a:pt x="2687" y="600"/>
                </a:lnTo>
                <a:lnTo>
                  <a:pt x="2692" y="605"/>
                </a:lnTo>
                <a:lnTo>
                  <a:pt x="2695" y="606"/>
                </a:lnTo>
                <a:lnTo>
                  <a:pt x="2694" y="605"/>
                </a:lnTo>
                <a:lnTo>
                  <a:pt x="2697" y="609"/>
                </a:lnTo>
                <a:lnTo>
                  <a:pt x="2695" y="606"/>
                </a:lnTo>
                <a:lnTo>
                  <a:pt x="2697" y="610"/>
                </a:lnTo>
                <a:lnTo>
                  <a:pt x="2703" y="615"/>
                </a:lnTo>
                <a:lnTo>
                  <a:pt x="2705" y="617"/>
                </a:lnTo>
                <a:lnTo>
                  <a:pt x="2704" y="615"/>
                </a:lnTo>
                <a:lnTo>
                  <a:pt x="2709" y="620"/>
                </a:lnTo>
                <a:lnTo>
                  <a:pt x="2713" y="622"/>
                </a:lnTo>
                <a:lnTo>
                  <a:pt x="2711" y="620"/>
                </a:lnTo>
                <a:lnTo>
                  <a:pt x="2720" y="629"/>
                </a:lnTo>
                <a:lnTo>
                  <a:pt x="2723" y="631"/>
                </a:lnTo>
                <a:lnTo>
                  <a:pt x="2721" y="629"/>
                </a:lnTo>
                <a:lnTo>
                  <a:pt x="2723" y="631"/>
                </a:lnTo>
                <a:lnTo>
                  <a:pt x="2721" y="629"/>
                </a:lnTo>
                <a:lnTo>
                  <a:pt x="2723" y="632"/>
                </a:lnTo>
                <a:lnTo>
                  <a:pt x="2735" y="645"/>
                </a:lnTo>
                <a:lnTo>
                  <a:pt x="2739" y="646"/>
                </a:lnTo>
                <a:lnTo>
                  <a:pt x="2736" y="645"/>
                </a:lnTo>
                <a:lnTo>
                  <a:pt x="2747" y="655"/>
                </a:lnTo>
                <a:lnTo>
                  <a:pt x="2751" y="657"/>
                </a:lnTo>
                <a:lnTo>
                  <a:pt x="2747" y="653"/>
                </a:lnTo>
                <a:lnTo>
                  <a:pt x="2749" y="657"/>
                </a:lnTo>
                <a:lnTo>
                  <a:pt x="2754" y="662"/>
                </a:lnTo>
                <a:lnTo>
                  <a:pt x="2758" y="662"/>
                </a:lnTo>
                <a:lnTo>
                  <a:pt x="2749" y="651"/>
                </a:lnTo>
                <a:lnTo>
                  <a:pt x="2749" y="657"/>
                </a:lnTo>
                <a:lnTo>
                  <a:pt x="2754" y="662"/>
                </a:lnTo>
                <a:lnTo>
                  <a:pt x="2757" y="663"/>
                </a:lnTo>
                <a:lnTo>
                  <a:pt x="2754" y="660"/>
                </a:lnTo>
                <a:lnTo>
                  <a:pt x="2756" y="663"/>
                </a:lnTo>
                <a:lnTo>
                  <a:pt x="2761" y="668"/>
                </a:lnTo>
                <a:lnTo>
                  <a:pt x="2766" y="668"/>
                </a:lnTo>
                <a:lnTo>
                  <a:pt x="2758" y="666"/>
                </a:lnTo>
                <a:lnTo>
                  <a:pt x="2765" y="671"/>
                </a:lnTo>
                <a:lnTo>
                  <a:pt x="2771" y="671"/>
                </a:lnTo>
                <a:lnTo>
                  <a:pt x="2778" y="663"/>
                </a:lnTo>
                <a:lnTo>
                  <a:pt x="2778" y="657"/>
                </a:lnTo>
                <a:lnTo>
                  <a:pt x="2775" y="653"/>
                </a:lnTo>
                <a:lnTo>
                  <a:pt x="2773" y="651"/>
                </a:lnTo>
                <a:lnTo>
                  <a:pt x="2770" y="648"/>
                </a:lnTo>
                <a:lnTo>
                  <a:pt x="2765" y="648"/>
                </a:lnTo>
                <a:lnTo>
                  <a:pt x="2773" y="653"/>
                </a:lnTo>
                <a:lnTo>
                  <a:pt x="2771" y="650"/>
                </a:lnTo>
                <a:lnTo>
                  <a:pt x="2767" y="646"/>
                </a:lnTo>
                <a:lnTo>
                  <a:pt x="2765" y="645"/>
                </a:lnTo>
                <a:lnTo>
                  <a:pt x="2770" y="653"/>
                </a:lnTo>
                <a:lnTo>
                  <a:pt x="2770" y="648"/>
                </a:lnTo>
                <a:lnTo>
                  <a:pt x="2762" y="641"/>
                </a:lnTo>
                <a:lnTo>
                  <a:pt x="2757" y="641"/>
                </a:lnTo>
                <a:lnTo>
                  <a:pt x="2766" y="646"/>
                </a:lnTo>
                <a:lnTo>
                  <a:pt x="2765" y="642"/>
                </a:lnTo>
                <a:lnTo>
                  <a:pt x="2761" y="640"/>
                </a:lnTo>
                <a:lnTo>
                  <a:pt x="2757" y="637"/>
                </a:lnTo>
                <a:lnTo>
                  <a:pt x="2758" y="640"/>
                </a:lnTo>
                <a:lnTo>
                  <a:pt x="2749" y="629"/>
                </a:lnTo>
                <a:lnTo>
                  <a:pt x="2745" y="627"/>
                </a:lnTo>
                <a:lnTo>
                  <a:pt x="2747" y="629"/>
                </a:lnTo>
                <a:lnTo>
                  <a:pt x="2739" y="620"/>
                </a:lnTo>
                <a:lnTo>
                  <a:pt x="2740" y="622"/>
                </a:lnTo>
                <a:lnTo>
                  <a:pt x="2739" y="619"/>
                </a:lnTo>
                <a:lnTo>
                  <a:pt x="2734" y="614"/>
                </a:lnTo>
                <a:lnTo>
                  <a:pt x="2730" y="611"/>
                </a:lnTo>
                <a:lnTo>
                  <a:pt x="2731" y="614"/>
                </a:lnTo>
                <a:lnTo>
                  <a:pt x="2723" y="605"/>
                </a:lnTo>
                <a:lnTo>
                  <a:pt x="2720" y="604"/>
                </a:lnTo>
                <a:lnTo>
                  <a:pt x="2721" y="605"/>
                </a:lnTo>
                <a:lnTo>
                  <a:pt x="2716" y="600"/>
                </a:lnTo>
                <a:lnTo>
                  <a:pt x="2713" y="598"/>
                </a:lnTo>
                <a:lnTo>
                  <a:pt x="2714" y="600"/>
                </a:lnTo>
                <a:lnTo>
                  <a:pt x="2713" y="598"/>
                </a:lnTo>
                <a:lnTo>
                  <a:pt x="2714" y="600"/>
                </a:lnTo>
                <a:lnTo>
                  <a:pt x="2713" y="596"/>
                </a:lnTo>
                <a:lnTo>
                  <a:pt x="2705" y="589"/>
                </a:lnTo>
                <a:lnTo>
                  <a:pt x="2703" y="588"/>
                </a:lnTo>
                <a:lnTo>
                  <a:pt x="2704" y="589"/>
                </a:lnTo>
                <a:lnTo>
                  <a:pt x="2699" y="584"/>
                </a:lnTo>
                <a:lnTo>
                  <a:pt x="2695" y="583"/>
                </a:lnTo>
                <a:lnTo>
                  <a:pt x="2697" y="584"/>
                </a:lnTo>
                <a:lnTo>
                  <a:pt x="2694" y="580"/>
                </a:lnTo>
                <a:lnTo>
                  <a:pt x="2690" y="579"/>
                </a:lnTo>
                <a:lnTo>
                  <a:pt x="2694" y="583"/>
                </a:lnTo>
                <a:lnTo>
                  <a:pt x="2692" y="579"/>
                </a:lnTo>
                <a:lnTo>
                  <a:pt x="2685" y="573"/>
                </a:lnTo>
                <a:lnTo>
                  <a:pt x="2682" y="570"/>
                </a:lnTo>
                <a:lnTo>
                  <a:pt x="2683" y="573"/>
                </a:lnTo>
                <a:lnTo>
                  <a:pt x="2672" y="560"/>
                </a:lnTo>
                <a:lnTo>
                  <a:pt x="2668" y="558"/>
                </a:lnTo>
                <a:lnTo>
                  <a:pt x="2672" y="562"/>
                </a:lnTo>
                <a:lnTo>
                  <a:pt x="2669" y="558"/>
                </a:lnTo>
                <a:lnTo>
                  <a:pt x="2666" y="556"/>
                </a:lnTo>
                <a:lnTo>
                  <a:pt x="2663" y="553"/>
                </a:lnTo>
                <a:lnTo>
                  <a:pt x="2664" y="556"/>
                </a:lnTo>
                <a:lnTo>
                  <a:pt x="2659" y="549"/>
                </a:lnTo>
                <a:lnTo>
                  <a:pt x="2656" y="548"/>
                </a:lnTo>
                <a:lnTo>
                  <a:pt x="2658" y="549"/>
                </a:lnTo>
                <a:lnTo>
                  <a:pt x="2654" y="547"/>
                </a:lnTo>
                <a:lnTo>
                  <a:pt x="2651" y="544"/>
                </a:lnTo>
                <a:lnTo>
                  <a:pt x="2654" y="548"/>
                </a:lnTo>
                <a:lnTo>
                  <a:pt x="2652" y="544"/>
                </a:lnTo>
                <a:lnTo>
                  <a:pt x="2650" y="542"/>
                </a:lnTo>
                <a:lnTo>
                  <a:pt x="2646" y="539"/>
                </a:lnTo>
                <a:lnTo>
                  <a:pt x="2647" y="542"/>
                </a:lnTo>
                <a:lnTo>
                  <a:pt x="2643" y="538"/>
                </a:lnTo>
                <a:lnTo>
                  <a:pt x="2641" y="536"/>
                </a:lnTo>
                <a:lnTo>
                  <a:pt x="2642" y="538"/>
                </a:lnTo>
                <a:lnTo>
                  <a:pt x="2633" y="530"/>
                </a:lnTo>
                <a:lnTo>
                  <a:pt x="2630" y="527"/>
                </a:lnTo>
                <a:lnTo>
                  <a:pt x="2632" y="530"/>
                </a:lnTo>
                <a:lnTo>
                  <a:pt x="2625" y="522"/>
                </a:lnTo>
                <a:lnTo>
                  <a:pt x="2619" y="518"/>
                </a:lnTo>
                <a:lnTo>
                  <a:pt x="2621" y="522"/>
                </a:lnTo>
                <a:lnTo>
                  <a:pt x="2620" y="518"/>
                </a:lnTo>
                <a:lnTo>
                  <a:pt x="2616" y="516"/>
                </a:lnTo>
                <a:lnTo>
                  <a:pt x="2612" y="513"/>
                </a:lnTo>
                <a:lnTo>
                  <a:pt x="2615" y="516"/>
                </a:lnTo>
                <a:lnTo>
                  <a:pt x="2611" y="512"/>
                </a:lnTo>
                <a:lnTo>
                  <a:pt x="2607" y="510"/>
                </a:lnTo>
                <a:lnTo>
                  <a:pt x="2611" y="513"/>
                </a:lnTo>
                <a:lnTo>
                  <a:pt x="2610" y="510"/>
                </a:lnTo>
                <a:lnTo>
                  <a:pt x="2606" y="507"/>
                </a:lnTo>
                <a:lnTo>
                  <a:pt x="2599" y="504"/>
                </a:lnTo>
                <a:lnTo>
                  <a:pt x="2601" y="505"/>
                </a:lnTo>
                <a:lnTo>
                  <a:pt x="2594" y="499"/>
                </a:lnTo>
                <a:lnTo>
                  <a:pt x="2590" y="496"/>
                </a:lnTo>
                <a:lnTo>
                  <a:pt x="2593" y="499"/>
                </a:lnTo>
                <a:lnTo>
                  <a:pt x="2588" y="494"/>
                </a:lnTo>
                <a:lnTo>
                  <a:pt x="2584" y="491"/>
                </a:lnTo>
                <a:lnTo>
                  <a:pt x="2585" y="494"/>
                </a:lnTo>
                <a:lnTo>
                  <a:pt x="2579" y="486"/>
                </a:lnTo>
                <a:lnTo>
                  <a:pt x="2572" y="482"/>
                </a:lnTo>
                <a:lnTo>
                  <a:pt x="2573" y="485"/>
                </a:lnTo>
                <a:lnTo>
                  <a:pt x="2564" y="476"/>
                </a:lnTo>
                <a:lnTo>
                  <a:pt x="2559" y="474"/>
                </a:lnTo>
                <a:lnTo>
                  <a:pt x="2564" y="479"/>
                </a:lnTo>
                <a:lnTo>
                  <a:pt x="2563" y="476"/>
                </a:lnTo>
                <a:lnTo>
                  <a:pt x="2559" y="473"/>
                </a:lnTo>
                <a:lnTo>
                  <a:pt x="2553" y="469"/>
                </a:lnTo>
                <a:lnTo>
                  <a:pt x="2554" y="471"/>
                </a:lnTo>
                <a:lnTo>
                  <a:pt x="2549" y="465"/>
                </a:lnTo>
                <a:lnTo>
                  <a:pt x="2542" y="463"/>
                </a:lnTo>
                <a:lnTo>
                  <a:pt x="2544" y="464"/>
                </a:lnTo>
                <a:lnTo>
                  <a:pt x="2536" y="455"/>
                </a:lnTo>
                <a:lnTo>
                  <a:pt x="2528" y="452"/>
                </a:lnTo>
                <a:lnTo>
                  <a:pt x="2531" y="454"/>
                </a:lnTo>
                <a:lnTo>
                  <a:pt x="2526" y="448"/>
                </a:lnTo>
                <a:lnTo>
                  <a:pt x="2522" y="447"/>
                </a:lnTo>
                <a:lnTo>
                  <a:pt x="2523" y="448"/>
                </a:lnTo>
                <a:lnTo>
                  <a:pt x="2517" y="442"/>
                </a:lnTo>
                <a:lnTo>
                  <a:pt x="2511" y="440"/>
                </a:lnTo>
                <a:lnTo>
                  <a:pt x="2513" y="442"/>
                </a:lnTo>
                <a:lnTo>
                  <a:pt x="2510" y="440"/>
                </a:lnTo>
                <a:lnTo>
                  <a:pt x="2511" y="442"/>
                </a:lnTo>
                <a:lnTo>
                  <a:pt x="2506" y="437"/>
                </a:lnTo>
                <a:lnTo>
                  <a:pt x="2502" y="434"/>
                </a:lnTo>
                <a:lnTo>
                  <a:pt x="2505" y="437"/>
                </a:lnTo>
                <a:lnTo>
                  <a:pt x="2500" y="432"/>
                </a:lnTo>
                <a:lnTo>
                  <a:pt x="2496" y="429"/>
                </a:lnTo>
                <a:lnTo>
                  <a:pt x="2491" y="426"/>
                </a:lnTo>
                <a:lnTo>
                  <a:pt x="2487" y="424"/>
                </a:lnTo>
                <a:lnTo>
                  <a:pt x="2489" y="426"/>
                </a:lnTo>
                <a:lnTo>
                  <a:pt x="2482" y="419"/>
                </a:lnTo>
                <a:lnTo>
                  <a:pt x="2477" y="417"/>
                </a:lnTo>
                <a:lnTo>
                  <a:pt x="2480" y="421"/>
                </a:lnTo>
                <a:lnTo>
                  <a:pt x="2470" y="411"/>
                </a:lnTo>
                <a:lnTo>
                  <a:pt x="2465" y="409"/>
                </a:lnTo>
                <a:lnTo>
                  <a:pt x="2466" y="411"/>
                </a:lnTo>
                <a:lnTo>
                  <a:pt x="2461" y="407"/>
                </a:lnTo>
                <a:lnTo>
                  <a:pt x="2458" y="406"/>
                </a:lnTo>
                <a:lnTo>
                  <a:pt x="2460" y="407"/>
                </a:lnTo>
                <a:lnTo>
                  <a:pt x="2453" y="401"/>
                </a:lnTo>
                <a:lnTo>
                  <a:pt x="2448" y="398"/>
                </a:lnTo>
                <a:lnTo>
                  <a:pt x="2449" y="401"/>
                </a:lnTo>
                <a:lnTo>
                  <a:pt x="2444" y="397"/>
                </a:lnTo>
                <a:lnTo>
                  <a:pt x="2447" y="398"/>
                </a:lnTo>
                <a:lnTo>
                  <a:pt x="2439" y="392"/>
                </a:lnTo>
                <a:lnTo>
                  <a:pt x="2434" y="390"/>
                </a:lnTo>
                <a:lnTo>
                  <a:pt x="2438" y="393"/>
                </a:lnTo>
                <a:lnTo>
                  <a:pt x="2430" y="386"/>
                </a:lnTo>
                <a:lnTo>
                  <a:pt x="2425" y="385"/>
                </a:lnTo>
                <a:lnTo>
                  <a:pt x="2427" y="386"/>
                </a:lnTo>
                <a:lnTo>
                  <a:pt x="2412" y="376"/>
                </a:lnTo>
                <a:lnTo>
                  <a:pt x="2402" y="371"/>
                </a:lnTo>
                <a:lnTo>
                  <a:pt x="2403" y="372"/>
                </a:lnTo>
                <a:lnTo>
                  <a:pt x="2396" y="366"/>
                </a:lnTo>
                <a:lnTo>
                  <a:pt x="2391" y="364"/>
                </a:lnTo>
                <a:lnTo>
                  <a:pt x="2393" y="366"/>
                </a:lnTo>
                <a:lnTo>
                  <a:pt x="2386" y="362"/>
                </a:lnTo>
                <a:lnTo>
                  <a:pt x="2387" y="364"/>
                </a:lnTo>
                <a:lnTo>
                  <a:pt x="2382" y="359"/>
                </a:lnTo>
                <a:lnTo>
                  <a:pt x="2377" y="355"/>
                </a:lnTo>
                <a:lnTo>
                  <a:pt x="2371" y="352"/>
                </a:lnTo>
                <a:lnTo>
                  <a:pt x="2369" y="350"/>
                </a:lnTo>
                <a:lnTo>
                  <a:pt x="2364" y="349"/>
                </a:lnTo>
                <a:lnTo>
                  <a:pt x="2365" y="350"/>
                </a:lnTo>
                <a:lnTo>
                  <a:pt x="2355" y="344"/>
                </a:lnTo>
                <a:lnTo>
                  <a:pt x="2351" y="341"/>
                </a:lnTo>
                <a:lnTo>
                  <a:pt x="2345" y="340"/>
                </a:lnTo>
                <a:lnTo>
                  <a:pt x="2350" y="344"/>
                </a:lnTo>
                <a:lnTo>
                  <a:pt x="2343" y="336"/>
                </a:lnTo>
                <a:lnTo>
                  <a:pt x="2336" y="333"/>
                </a:lnTo>
                <a:lnTo>
                  <a:pt x="2334" y="331"/>
                </a:lnTo>
                <a:lnTo>
                  <a:pt x="2329" y="330"/>
                </a:lnTo>
                <a:lnTo>
                  <a:pt x="2331" y="331"/>
                </a:lnTo>
                <a:lnTo>
                  <a:pt x="2317" y="324"/>
                </a:lnTo>
                <a:lnTo>
                  <a:pt x="2312" y="322"/>
                </a:lnTo>
                <a:lnTo>
                  <a:pt x="2271" y="300"/>
                </a:lnTo>
                <a:lnTo>
                  <a:pt x="2270" y="299"/>
                </a:lnTo>
                <a:lnTo>
                  <a:pt x="2261" y="296"/>
                </a:lnTo>
                <a:lnTo>
                  <a:pt x="2262" y="297"/>
                </a:lnTo>
                <a:lnTo>
                  <a:pt x="2248" y="291"/>
                </a:lnTo>
                <a:lnTo>
                  <a:pt x="2246" y="288"/>
                </a:lnTo>
                <a:lnTo>
                  <a:pt x="2230" y="282"/>
                </a:lnTo>
                <a:lnTo>
                  <a:pt x="2231" y="283"/>
                </a:lnTo>
                <a:lnTo>
                  <a:pt x="2224" y="279"/>
                </a:lnTo>
                <a:lnTo>
                  <a:pt x="2215" y="274"/>
                </a:lnTo>
                <a:lnTo>
                  <a:pt x="2214" y="273"/>
                </a:lnTo>
                <a:lnTo>
                  <a:pt x="2188" y="262"/>
                </a:lnTo>
                <a:lnTo>
                  <a:pt x="2190" y="265"/>
                </a:lnTo>
                <a:lnTo>
                  <a:pt x="2179" y="260"/>
                </a:lnTo>
                <a:lnTo>
                  <a:pt x="2178" y="257"/>
                </a:lnTo>
                <a:lnTo>
                  <a:pt x="2169" y="253"/>
                </a:lnTo>
                <a:lnTo>
                  <a:pt x="2159" y="251"/>
                </a:lnTo>
                <a:lnTo>
                  <a:pt x="2161" y="252"/>
                </a:lnTo>
                <a:lnTo>
                  <a:pt x="2152" y="247"/>
                </a:lnTo>
                <a:lnTo>
                  <a:pt x="2151" y="246"/>
                </a:lnTo>
                <a:lnTo>
                  <a:pt x="2140" y="242"/>
                </a:lnTo>
                <a:lnTo>
                  <a:pt x="2142" y="244"/>
                </a:lnTo>
                <a:lnTo>
                  <a:pt x="2131" y="239"/>
                </a:lnTo>
                <a:lnTo>
                  <a:pt x="2130" y="237"/>
                </a:lnTo>
                <a:lnTo>
                  <a:pt x="2120" y="234"/>
                </a:lnTo>
                <a:lnTo>
                  <a:pt x="2107" y="229"/>
                </a:lnTo>
                <a:lnTo>
                  <a:pt x="2095" y="225"/>
                </a:lnTo>
                <a:lnTo>
                  <a:pt x="2071" y="214"/>
                </a:lnTo>
                <a:lnTo>
                  <a:pt x="2059" y="211"/>
                </a:lnTo>
                <a:lnTo>
                  <a:pt x="2047" y="206"/>
                </a:lnTo>
                <a:lnTo>
                  <a:pt x="2032" y="200"/>
                </a:lnTo>
                <a:lnTo>
                  <a:pt x="2018" y="195"/>
                </a:lnTo>
                <a:lnTo>
                  <a:pt x="1987" y="185"/>
                </a:lnTo>
                <a:lnTo>
                  <a:pt x="1985" y="185"/>
                </a:lnTo>
                <a:lnTo>
                  <a:pt x="1970" y="182"/>
                </a:lnTo>
                <a:lnTo>
                  <a:pt x="1971" y="182"/>
                </a:lnTo>
                <a:lnTo>
                  <a:pt x="1954" y="175"/>
                </a:lnTo>
                <a:lnTo>
                  <a:pt x="1920" y="164"/>
                </a:lnTo>
                <a:lnTo>
                  <a:pt x="1918" y="164"/>
                </a:lnTo>
                <a:lnTo>
                  <a:pt x="1897" y="159"/>
                </a:lnTo>
                <a:lnTo>
                  <a:pt x="1899" y="159"/>
                </a:lnTo>
                <a:lnTo>
                  <a:pt x="1878" y="152"/>
                </a:lnTo>
                <a:lnTo>
                  <a:pt x="1877" y="152"/>
                </a:lnTo>
                <a:lnTo>
                  <a:pt x="1856" y="147"/>
                </a:lnTo>
                <a:lnTo>
                  <a:pt x="1859" y="147"/>
                </a:lnTo>
                <a:lnTo>
                  <a:pt x="1834" y="141"/>
                </a:lnTo>
                <a:lnTo>
                  <a:pt x="1782" y="127"/>
                </a:lnTo>
                <a:lnTo>
                  <a:pt x="1781" y="127"/>
                </a:lnTo>
                <a:lnTo>
                  <a:pt x="1751" y="120"/>
                </a:lnTo>
                <a:lnTo>
                  <a:pt x="1720" y="114"/>
                </a:lnTo>
                <a:lnTo>
                  <a:pt x="1686" y="106"/>
                </a:lnTo>
                <a:lnTo>
                  <a:pt x="1648" y="97"/>
                </a:lnTo>
                <a:lnTo>
                  <a:pt x="1607" y="89"/>
                </a:lnTo>
                <a:lnTo>
                  <a:pt x="1559" y="80"/>
                </a:lnTo>
                <a:lnTo>
                  <a:pt x="1503" y="71"/>
                </a:lnTo>
                <a:lnTo>
                  <a:pt x="1439" y="62"/>
                </a:lnTo>
                <a:lnTo>
                  <a:pt x="1360" y="49"/>
                </a:lnTo>
                <a:lnTo>
                  <a:pt x="1258" y="39"/>
                </a:lnTo>
                <a:lnTo>
                  <a:pt x="1117" y="26"/>
                </a:lnTo>
                <a:lnTo>
                  <a:pt x="1115" y="26"/>
                </a:lnTo>
                <a:lnTo>
                  <a:pt x="879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0160" y="4140360"/>
            <a:ext cx="1752840" cy="1282680"/>
          </a:xfrm>
          <a:custGeom>
            <a:avLst/>
            <a:gdLst/>
            <a:ahLst/>
            <a:rect l="l" t="t" r="r" b="b"/>
            <a:pathLst>
              <a:path w="2710" h="1681">
                <a:moveTo>
                  <a:pt x="0" y="24"/>
                </a:moveTo>
                <a:lnTo>
                  <a:pt x="869" y="33"/>
                </a:lnTo>
                <a:lnTo>
                  <a:pt x="1105" y="43"/>
                </a:lnTo>
                <a:lnTo>
                  <a:pt x="1103" y="43"/>
                </a:lnTo>
                <a:lnTo>
                  <a:pt x="1244" y="53"/>
                </a:lnTo>
                <a:lnTo>
                  <a:pt x="1346" y="62"/>
                </a:lnTo>
                <a:lnTo>
                  <a:pt x="1425" y="71"/>
                </a:lnTo>
                <a:lnTo>
                  <a:pt x="1491" y="83"/>
                </a:lnTo>
                <a:lnTo>
                  <a:pt x="1545" y="91"/>
                </a:lnTo>
                <a:lnTo>
                  <a:pt x="1594" y="101"/>
                </a:lnTo>
                <a:lnTo>
                  <a:pt x="1592" y="101"/>
                </a:lnTo>
                <a:lnTo>
                  <a:pt x="1633" y="111"/>
                </a:lnTo>
                <a:lnTo>
                  <a:pt x="1670" y="120"/>
                </a:lnTo>
                <a:lnTo>
                  <a:pt x="1705" y="131"/>
                </a:lnTo>
                <a:lnTo>
                  <a:pt x="1736" y="140"/>
                </a:lnTo>
                <a:lnTo>
                  <a:pt x="1735" y="137"/>
                </a:lnTo>
                <a:lnTo>
                  <a:pt x="1763" y="149"/>
                </a:lnTo>
                <a:lnTo>
                  <a:pt x="1766" y="151"/>
                </a:lnTo>
                <a:lnTo>
                  <a:pt x="1792" y="159"/>
                </a:lnTo>
                <a:lnTo>
                  <a:pt x="1789" y="158"/>
                </a:lnTo>
                <a:lnTo>
                  <a:pt x="1815" y="168"/>
                </a:lnTo>
                <a:lnTo>
                  <a:pt x="1818" y="170"/>
                </a:lnTo>
                <a:lnTo>
                  <a:pt x="1841" y="179"/>
                </a:lnTo>
                <a:lnTo>
                  <a:pt x="1840" y="177"/>
                </a:lnTo>
                <a:lnTo>
                  <a:pt x="1881" y="198"/>
                </a:lnTo>
                <a:lnTo>
                  <a:pt x="1902" y="206"/>
                </a:lnTo>
                <a:lnTo>
                  <a:pt x="1899" y="206"/>
                </a:lnTo>
                <a:lnTo>
                  <a:pt x="1934" y="227"/>
                </a:lnTo>
                <a:lnTo>
                  <a:pt x="1935" y="227"/>
                </a:lnTo>
                <a:lnTo>
                  <a:pt x="1953" y="235"/>
                </a:lnTo>
                <a:lnTo>
                  <a:pt x="1951" y="235"/>
                </a:lnTo>
                <a:lnTo>
                  <a:pt x="1982" y="256"/>
                </a:lnTo>
                <a:lnTo>
                  <a:pt x="1983" y="256"/>
                </a:lnTo>
                <a:lnTo>
                  <a:pt x="2000" y="265"/>
                </a:lnTo>
                <a:lnTo>
                  <a:pt x="1997" y="265"/>
                </a:lnTo>
                <a:lnTo>
                  <a:pt x="2011" y="274"/>
                </a:lnTo>
                <a:lnTo>
                  <a:pt x="2027" y="286"/>
                </a:lnTo>
                <a:lnTo>
                  <a:pt x="2039" y="294"/>
                </a:lnTo>
                <a:lnTo>
                  <a:pt x="2037" y="292"/>
                </a:lnTo>
                <a:lnTo>
                  <a:pt x="2074" y="323"/>
                </a:lnTo>
                <a:lnTo>
                  <a:pt x="2075" y="325"/>
                </a:lnTo>
                <a:lnTo>
                  <a:pt x="2087" y="334"/>
                </a:lnTo>
                <a:lnTo>
                  <a:pt x="2085" y="331"/>
                </a:lnTo>
                <a:lnTo>
                  <a:pt x="2097" y="343"/>
                </a:lnTo>
                <a:lnTo>
                  <a:pt x="2099" y="343"/>
                </a:lnTo>
                <a:lnTo>
                  <a:pt x="2110" y="351"/>
                </a:lnTo>
                <a:lnTo>
                  <a:pt x="2107" y="351"/>
                </a:lnTo>
                <a:lnTo>
                  <a:pt x="2147" y="391"/>
                </a:lnTo>
                <a:lnTo>
                  <a:pt x="2147" y="388"/>
                </a:lnTo>
                <a:lnTo>
                  <a:pt x="2156" y="401"/>
                </a:lnTo>
                <a:lnTo>
                  <a:pt x="2168" y="409"/>
                </a:lnTo>
                <a:lnTo>
                  <a:pt x="2167" y="407"/>
                </a:lnTo>
                <a:lnTo>
                  <a:pt x="2174" y="418"/>
                </a:lnTo>
                <a:lnTo>
                  <a:pt x="2174" y="419"/>
                </a:lnTo>
                <a:lnTo>
                  <a:pt x="2183" y="428"/>
                </a:lnTo>
                <a:lnTo>
                  <a:pt x="2183" y="427"/>
                </a:lnTo>
                <a:lnTo>
                  <a:pt x="2200" y="447"/>
                </a:lnTo>
                <a:lnTo>
                  <a:pt x="2199" y="447"/>
                </a:lnTo>
                <a:lnTo>
                  <a:pt x="2208" y="458"/>
                </a:lnTo>
                <a:lnTo>
                  <a:pt x="2216" y="468"/>
                </a:lnTo>
                <a:lnTo>
                  <a:pt x="2216" y="466"/>
                </a:lnTo>
                <a:lnTo>
                  <a:pt x="2225" y="476"/>
                </a:lnTo>
                <a:lnTo>
                  <a:pt x="2222" y="476"/>
                </a:lnTo>
                <a:lnTo>
                  <a:pt x="2230" y="486"/>
                </a:lnTo>
                <a:lnTo>
                  <a:pt x="2231" y="486"/>
                </a:lnTo>
                <a:lnTo>
                  <a:pt x="2238" y="495"/>
                </a:lnTo>
                <a:lnTo>
                  <a:pt x="2247" y="506"/>
                </a:lnTo>
                <a:lnTo>
                  <a:pt x="2253" y="515"/>
                </a:lnTo>
                <a:lnTo>
                  <a:pt x="2252" y="512"/>
                </a:lnTo>
                <a:lnTo>
                  <a:pt x="2260" y="525"/>
                </a:lnTo>
                <a:lnTo>
                  <a:pt x="2261" y="526"/>
                </a:lnTo>
                <a:lnTo>
                  <a:pt x="2267" y="534"/>
                </a:lnTo>
                <a:lnTo>
                  <a:pt x="2266" y="534"/>
                </a:lnTo>
                <a:lnTo>
                  <a:pt x="2273" y="546"/>
                </a:lnTo>
                <a:lnTo>
                  <a:pt x="2274" y="546"/>
                </a:lnTo>
                <a:lnTo>
                  <a:pt x="2282" y="554"/>
                </a:lnTo>
                <a:lnTo>
                  <a:pt x="2279" y="554"/>
                </a:lnTo>
                <a:lnTo>
                  <a:pt x="2287" y="564"/>
                </a:lnTo>
                <a:lnTo>
                  <a:pt x="2287" y="562"/>
                </a:lnTo>
                <a:lnTo>
                  <a:pt x="2292" y="574"/>
                </a:lnTo>
                <a:lnTo>
                  <a:pt x="2300" y="583"/>
                </a:lnTo>
                <a:lnTo>
                  <a:pt x="2298" y="583"/>
                </a:lnTo>
                <a:lnTo>
                  <a:pt x="2305" y="594"/>
                </a:lnTo>
                <a:lnTo>
                  <a:pt x="2310" y="601"/>
                </a:lnTo>
                <a:lnTo>
                  <a:pt x="2318" y="612"/>
                </a:lnTo>
                <a:lnTo>
                  <a:pt x="2318" y="610"/>
                </a:lnTo>
                <a:lnTo>
                  <a:pt x="2323" y="621"/>
                </a:lnTo>
                <a:lnTo>
                  <a:pt x="2323" y="622"/>
                </a:lnTo>
                <a:lnTo>
                  <a:pt x="2330" y="632"/>
                </a:lnTo>
                <a:lnTo>
                  <a:pt x="2335" y="641"/>
                </a:lnTo>
                <a:lnTo>
                  <a:pt x="2335" y="640"/>
                </a:lnTo>
                <a:lnTo>
                  <a:pt x="2345" y="662"/>
                </a:lnTo>
                <a:lnTo>
                  <a:pt x="2354" y="671"/>
                </a:lnTo>
                <a:lnTo>
                  <a:pt x="2352" y="669"/>
                </a:lnTo>
                <a:lnTo>
                  <a:pt x="2357" y="679"/>
                </a:lnTo>
                <a:lnTo>
                  <a:pt x="2361" y="688"/>
                </a:lnTo>
                <a:lnTo>
                  <a:pt x="2367" y="700"/>
                </a:lnTo>
                <a:lnTo>
                  <a:pt x="2367" y="698"/>
                </a:lnTo>
                <a:lnTo>
                  <a:pt x="2372" y="709"/>
                </a:lnTo>
                <a:lnTo>
                  <a:pt x="2371" y="707"/>
                </a:lnTo>
                <a:lnTo>
                  <a:pt x="2376" y="719"/>
                </a:lnTo>
                <a:lnTo>
                  <a:pt x="2385" y="729"/>
                </a:lnTo>
                <a:lnTo>
                  <a:pt x="2381" y="726"/>
                </a:lnTo>
                <a:lnTo>
                  <a:pt x="2385" y="736"/>
                </a:lnTo>
                <a:lnTo>
                  <a:pt x="2386" y="738"/>
                </a:lnTo>
                <a:lnTo>
                  <a:pt x="2392" y="749"/>
                </a:lnTo>
                <a:lnTo>
                  <a:pt x="2392" y="750"/>
                </a:lnTo>
                <a:lnTo>
                  <a:pt x="2397" y="759"/>
                </a:lnTo>
                <a:lnTo>
                  <a:pt x="2397" y="757"/>
                </a:lnTo>
                <a:lnTo>
                  <a:pt x="2402" y="767"/>
                </a:lnTo>
                <a:lnTo>
                  <a:pt x="2402" y="768"/>
                </a:lnTo>
                <a:lnTo>
                  <a:pt x="2407" y="777"/>
                </a:lnTo>
                <a:lnTo>
                  <a:pt x="2406" y="773"/>
                </a:lnTo>
                <a:lnTo>
                  <a:pt x="2408" y="785"/>
                </a:lnTo>
                <a:lnTo>
                  <a:pt x="2411" y="786"/>
                </a:lnTo>
                <a:lnTo>
                  <a:pt x="2415" y="796"/>
                </a:lnTo>
                <a:lnTo>
                  <a:pt x="2419" y="804"/>
                </a:lnTo>
                <a:lnTo>
                  <a:pt x="2429" y="825"/>
                </a:lnTo>
                <a:lnTo>
                  <a:pt x="2428" y="824"/>
                </a:lnTo>
                <a:lnTo>
                  <a:pt x="2430" y="834"/>
                </a:lnTo>
                <a:lnTo>
                  <a:pt x="2433" y="835"/>
                </a:lnTo>
                <a:lnTo>
                  <a:pt x="2437" y="844"/>
                </a:lnTo>
                <a:lnTo>
                  <a:pt x="2441" y="855"/>
                </a:lnTo>
                <a:lnTo>
                  <a:pt x="2441" y="856"/>
                </a:lnTo>
                <a:lnTo>
                  <a:pt x="2446" y="865"/>
                </a:lnTo>
                <a:lnTo>
                  <a:pt x="2445" y="861"/>
                </a:lnTo>
                <a:lnTo>
                  <a:pt x="2454" y="884"/>
                </a:lnTo>
                <a:lnTo>
                  <a:pt x="2459" y="895"/>
                </a:lnTo>
                <a:lnTo>
                  <a:pt x="2456" y="891"/>
                </a:lnTo>
                <a:lnTo>
                  <a:pt x="2464" y="912"/>
                </a:lnTo>
                <a:lnTo>
                  <a:pt x="2465" y="913"/>
                </a:lnTo>
                <a:lnTo>
                  <a:pt x="2470" y="923"/>
                </a:lnTo>
                <a:lnTo>
                  <a:pt x="2474" y="932"/>
                </a:lnTo>
                <a:lnTo>
                  <a:pt x="2472" y="931"/>
                </a:lnTo>
                <a:lnTo>
                  <a:pt x="2476" y="941"/>
                </a:lnTo>
                <a:lnTo>
                  <a:pt x="2477" y="943"/>
                </a:lnTo>
                <a:lnTo>
                  <a:pt x="2481" y="952"/>
                </a:lnTo>
                <a:lnTo>
                  <a:pt x="2479" y="949"/>
                </a:lnTo>
                <a:lnTo>
                  <a:pt x="2487" y="972"/>
                </a:lnTo>
                <a:lnTo>
                  <a:pt x="2492" y="983"/>
                </a:lnTo>
                <a:lnTo>
                  <a:pt x="2491" y="979"/>
                </a:lnTo>
                <a:lnTo>
                  <a:pt x="2501" y="1010"/>
                </a:lnTo>
                <a:lnTo>
                  <a:pt x="2503" y="1011"/>
                </a:lnTo>
                <a:lnTo>
                  <a:pt x="2507" y="1020"/>
                </a:lnTo>
                <a:lnTo>
                  <a:pt x="2505" y="1019"/>
                </a:lnTo>
                <a:lnTo>
                  <a:pt x="2512" y="1038"/>
                </a:lnTo>
                <a:lnTo>
                  <a:pt x="2513" y="1041"/>
                </a:lnTo>
                <a:lnTo>
                  <a:pt x="2517" y="1050"/>
                </a:lnTo>
                <a:lnTo>
                  <a:pt x="2516" y="1047"/>
                </a:lnTo>
                <a:lnTo>
                  <a:pt x="2518" y="1058"/>
                </a:lnTo>
                <a:lnTo>
                  <a:pt x="2521" y="1059"/>
                </a:lnTo>
                <a:lnTo>
                  <a:pt x="2523" y="1068"/>
                </a:lnTo>
                <a:lnTo>
                  <a:pt x="2522" y="1067"/>
                </a:lnTo>
                <a:lnTo>
                  <a:pt x="2529" y="1087"/>
                </a:lnTo>
                <a:lnTo>
                  <a:pt x="2531" y="1089"/>
                </a:lnTo>
                <a:lnTo>
                  <a:pt x="2534" y="1098"/>
                </a:lnTo>
                <a:lnTo>
                  <a:pt x="2532" y="1094"/>
                </a:lnTo>
                <a:lnTo>
                  <a:pt x="2534" y="1106"/>
                </a:lnTo>
                <a:lnTo>
                  <a:pt x="2541" y="1118"/>
                </a:lnTo>
                <a:lnTo>
                  <a:pt x="2539" y="1115"/>
                </a:lnTo>
                <a:lnTo>
                  <a:pt x="2541" y="1123"/>
                </a:lnTo>
                <a:lnTo>
                  <a:pt x="2541" y="1125"/>
                </a:lnTo>
                <a:lnTo>
                  <a:pt x="2548" y="1146"/>
                </a:lnTo>
                <a:lnTo>
                  <a:pt x="2549" y="1147"/>
                </a:lnTo>
                <a:lnTo>
                  <a:pt x="2553" y="1156"/>
                </a:lnTo>
                <a:lnTo>
                  <a:pt x="2552" y="1155"/>
                </a:lnTo>
                <a:lnTo>
                  <a:pt x="2554" y="1165"/>
                </a:lnTo>
                <a:lnTo>
                  <a:pt x="2554" y="1162"/>
                </a:lnTo>
                <a:lnTo>
                  <a:pt x="2557" y="1175"/>
                </a:lnTo>
                <a:lnTo>
                  <a:pt x="2562" y="1186"/>
                </a:lnTo>
                <a:lnTo>
                  <a:pt x="2560" y="1183"/>
                </a:lnTo>
                <a:lnTo>
                  <a:pt x="2563" y="1193"/>
                </a:lnTo>
                <a:lnTo>
                  <a:pt x="2565" y="1196"/>
                </a:lnTo>
                <a:lnTo>
                  <a:pt x="2569" y="1204"/>
                </a:lnTo>
                <a:lnTo>
                  <a:pt x="2567" y="1201"/>
                </a:lnTo>
                <a:lnTo>
                  <a:pt x="2569" y="1214"/>
                </a:lnTo>
                <a:lnTo>
                  <a:pt x="2574" y="1224"/>
                </a:lnTo>
                <a:lnTo>
                  <a:pt x="2571" y="1223"/>
                </a:lnTo>
                <a:lnTo>
                  <a:pt x="2575" y="1233"/>
                </a:lnTo>
                <a:lnTo>
                  <a:pt x="2578" y="1235"/>
                </a:lnTo>
                <a:lnTo>
                  <a:pt x="2580" y="1244"/>
                </a:lnTo>
                <a:lnTo>
                  <a:pt x="2579" y="1240"/>
                </a:lnTo>
                <a:lnTo>
                  <a:pt x="2580" y="1250"/>
                </a:lnTo>
                <a:lnTo>
                  <a:pt x="2580" y="1253"/>
                </a:lnTo>
                <a:lnTo>
                  <a:pt x="2584" y="1262"/>
                </a:lnTo>
                <a:lnTo>
                  <a:pt x="2584" y="1261"/>
                </a:lnTo>
                <a:lnTo>
                  <a:pt x="2586" y="1270"/>
                </a:lnTo>
                <a:lnTo>
                  <a:pt x="2586" y="1271"/>
                </a:lnTo>
                <a:lnTo>
                  <a:pt x="2589" y="1281"/>
                </a:lnTo>
                <a:lnTo>
                  <a:pt x="2589" y="1280"/>
                </a:lnTo>
                <a:lnTo>
                  <a:pt x="2591" y="1292"/>
                </a:lnTo>
                <a:lnTo>
                  <a:pt x="2596" y="1302"/>
                </a:lnTo>
                <a:lnTo>
                  <a:pt x="2594" y="1301"/>
                </a:lnTo>
                <a:lnTo>
                  <a:pt x="2597" y="1311"/>
                </a:lnTo>
                <a:lnTo>
                  <a:pt x="2597" y="1310"/>
                </a:lnTo>
                <a:lnTo>
                  <a:pt x="2600" y="1321"/>
                </a:lnTo>
                <a:lnTo>
                  <a:pt x="2605" y="1332"/>
                </a:lnTo>
                <a:lnTo>
                  <a:pt x="2602" y="1329"/>
                </a:lnTo>
                <a:lnTo>
                  <a:pt x="2606" y="1340"/>
                </a:lnTo>
                <a:lnTo>
                  <a:pt x="2606" y="1338"/>
                </a:lnTo>
                <a:lnTo>
                  <a:pt x="2609" y="1349"/>
                </a:lnTo>
                <a:lnTo>
                  <a:pt x="2610" y="1357"/>
                </a:lnTo>
                <a:lnTo>
                  <a:pt x="2610" y="1359"/>
                </a:lnTo>
                <a:lnTo>
                  <a:pt x="2614" y="1369"/>
                </a:lnTo>
                <a:lnTo>
                  <a:pt x="2615" y="1371"/>
                </a:lnTo>
                <a:lnTo>
                  <a:pt x="2618" y="1380"/>
                </a:lnTo>
                <a:lnTo>
                  <a:pt x="2617" y="1376"/>
                </a:lnTo>
                <a:lnTo>
                  <a:pt x="2618" y="1390"/>
                </a:lnTo>
                <a:lnTo>
                  <a:pt x="2623" y="1400"/>
                </a:lnTo>
                <a:lnTo>
                  <a:pt x="2622" y="1396"/>
                </a:lnTo>
                <a:lnTo>
                  <a:pt x="2623" y="1409"/>
                </a:lnTo>
                <a:lnTo>
                  <a:pt x="2628" y="1418"/>
                </a:lnTo>
                <a:lnTo>
                  <a:pt x="2627" y="1416"/>
                </a:lnTo>
                <a:lnTo>
                  <a:pt x="2628" y="1426"/>
                </a:lnTo>
                <a:lnTo>
                  <a:pt x="2628" y="1427"/>
                </a:lnTo>
                <a:lnTo>
                  <a:pt x="2632" y="1438"/>
                </a:lnTo>
                <a:lnTo>
                  <a:pt x="2632" y="1436"/>
                </a:lnTo>
                <a:lnTo>
                  <a:pt x="2633" y="1444"/>
                </a:lnTo>
                <a:lnTo>
                  <a:pt x="2636" y="1456"/>
                </a:lnTo>
                <a:lnTo>
                  <a:pt x="2636" y="1457"/>
                </a:lnTo>
                <a:lnTo>
                  <a:pt x="2640" y="1467"/>
                </a:lnTo>
                <a:lnTo>
                  <a:pt x="2640" y="1466"/>
                </a:lnTo>
                <a:lnTo>
                  <a:pt x="2641" y="1474"/>
                </a:lnTo>
                <a:lnTo>
                  <a:pt x="2641" y="1475"/>
                </a:lnTo>
                <a:lnTo>
                  <a:pt x="2644" y="1487"/>
                </a:lnTo>
                <a:lnTo>
                  <a:pt x="2644" y="1484"/>
                </a:lnTo>
                <a:lnTo>
                  <a:pt x="2646" y="1493"/>
                </a:lnTo>
                <a:lnTo>
                  <a:pt x="2648" y="1504"/>
                </a:lnTo>
                <a:lnTo>
                  <a:pt x="2648" y="1505"/>
                </a:lnTo>
                <a:lnTo>
                  <a:pt x="2651" y="1515"/>
                </a:lnTo>
                <a:lnTo>
                  <a:pt x="2651" y="1514"/>
                </a:lnTo>
                <a:lnTo>
                  <a:pt x="2653" y="1524"/>
                </a:lnTo>
                <a:lnTo>
                  <a:pt x="2654" y="1532"/>
                </a:lnTo>
                <a:lnTo>
                  <a:pt x="2654" y="1535"/>
                </a:lnTo>
                <a:lnTo>
                  <a:pt x="2658" y="1545"/>
                </a:lnTo>
                <a:lnTo>
                  <a:pt x="2658" y="1544"/>
                </a:lnTo>
                <a:lnTo>
                  <a:pt x="2659" y="1553"/>
                </a:lnTo>
                <a:lnTo>
                  <a:pt x="2662" y="1562"/>
                </a:lnTo>
                <a:lnTo>
                  <a:pt x="2663" y="1574"/>
                </a:lnTo>
                <a:lnTo>
                  <a:pt x="2668" y="1584"/>
                </a:lnTo>
                <a:lnTo>
                  <a:pt x="2667" y="1581"/>
                </a:lnTo>
                <a:lnTo>
                  <a:pt x="2668" y="1591"/>
                </a:lnTo>
                <a:lnTo>
                  <a:pt x="2668" y="1593"/>
                </a:lnTo>
                <a:lnTo>
                  <a:pt x="2672" y="1603"/>
                </a:lnTo>
                <a:lnTo>
                  <a:pt x="2672" y="1602"/>
                </a:lnTo>
                <a:lnTo>
                  <a:pt x="2673" y="1612"/>
                </a:lnTo>
                <a:lnTo>
                  <a:pt x="2675" y="1620"/>
                </a:lnTo>
                <a:lnTo>
                  <a:pt x="2675" y="1622"/>
                </a:lnTo>
                <a:lnTo>
                  <a:pt x="2679" y="1633"/>
                </a:lnTo>
                <a:lnTo>
                  <a:pt x="2679" y="1630"/>
                </a:lnTo>
                <a:lnTo>
                  <a:pt x="2680" y="1641"/>
                </a:lnTo>
                <a:lnTo>
                  <a:pt x="2682" y="1650"/>
                </a:lnTo>
                <a:lnTo>
                  <a:pt x="2684" y="1660"/>
                </a:lnTo>
                <a:lnTo>
                  <a:pt x="2685" y="1669"/>
                </a:lnTo>
                <a:lnTo>
                  <a:pt x="2685" y="1670"/>
                </a:lnTo>
                <a:lnTo>
                  <a:pt x="2689" y="1681"/>
                </a:lnTo>
                <a:lnTo>
                  <a:pt x="2710" y="1664"/>
                </a:lnTo>
                <a:lnTo>
                  <a:pt x="2710" y="1665"/>
                </a:lnTo>
                <a:lnTo>
                  <a:pt x="2708" y="1656"/>
                </a:lnTo>
                <a:lnTo>
                  <a:pt x="2706" y="1646"/>
                </a:lnTo>
                <a:lnTo>
                  <a:pt x="2704" y="1638"/>
                </a:lnTo>
                <a:lnTo>
                  <a:pt x="2703" y="1628"/>
                </a:lnTo>
                <a:lnTo>
                  <a:pt x="2703" y="1625"/>
                </a:lnTo>
                <a:lnTo>
                  <a:pt x="2699" y="1615"/>
                </a:lnTo>
                <a:lnTo>
                  <a:pt x="2699" y="1617"/>
                </a:lnTo>
                <a:lnTo>
                  <a:pt x="2698" y="1608"/>
                </a:lnTo>
                <a:lnTo>
                  <a:pt x="2695" y="1598"/>
                </a:lnTo>
                <a:lnTo>
                  <a:pt x="2695" y="1597"/>
                </a:lnTo>
                <a:lnTo>
                  <a:pt x="2693" y="1586"/>
                </a:lnTo>
                <a:lnTo>
                  <a:pt x="2693" y="1588"/>
                </a:lnTo>
                <a:lnTo>
                  <a:pt x="2690" y="1576"/>
                </a:lnTo>
                <a:lnTo>
                  <a:pt x="2685" y="1566"/>
                </a:lnTo>
                <a:lnTo>
                  <a:pt x="2687" y="1568"/>
                </a:lnTo>
                <a:lnTo>
                  <a:pt x="2685" y="1558"/>
                </a:lnTo>
                <a:lnTo>
                  <a:pt x="2684" y="1550"/>
                </a:lnTo>
                <a:lnTo>
                  <a:pt x="2682" y="1540"/>
                </a:lnTo>
                <a:lnTo>
                  <a:pt x="2682" y="1537"/>
                </a:lnTo>
                <a:lnTo>
                  <a:pt x="2679" y="1527"/>
                </a:lnTo>
                <a:lnTo>
                  <a:pt x="2679" y="1529"/>
                </a:lnTo>
                <a:lnTo>
                  <a:pt x="2677" y="1520"/>
                </a:lnTo>
                <a:lnTo>
                  <a:pt x="2675" y="1510"/>
                </a:lnTo>
                <a:lnTo>
                  <a:pt x="2675" y="1509"/>
                </a:lnTo>
                <a:lnTo>
                  <a:pt x="2672" y="1498"/>
                </a:lnTo>
                <a:lnTo>
                  <a:pt x="2672" y="1500"/>
                </a:lnTo>
                <a:lnTo>
                  <a:pt x="2670" y="1489"/>
                </a:lnTo>
                <a:lnTo>
                  <a:pt x="2668" y="1482"/>
                </a:lnTo>
                <a:lnTo>
                  <a:pt x="2668" y="1479"/>
                </a:lnTo>
                <a:lnTo>
                  <a:pt x="2664" y="1469"/>
                </a:lnTo>
                <a:lnTo>
                  <a:pt x="2664" y="1470"/>
                </a:lnTo>
                <a:lnTo>
                  <a:pt x="2663" y="1462"/>
                </a:lnTo>
                <a:lnTo>
                  <a:pt x="2663" y="1461"/>
                </a:lnTo>
                <a:lnTo>
                  <a:pt x="2659" y="1451"/>
                </a:lnTo>
                <a:lnTo>
                  <a:pt x="2659" y="1452"/>
                </a:lnTo>
                <a:lnTo>
                  <a:pt x="2658" y="1442"/>
                </a:lnTo>
                <a:lnTo>
                  <a:pt x="2656" y="1433"/>
                </a:lnTo>
                <a:lnTo>
                  <a:pt x="2656" y="1431"/>
                </a:lnTo>
                <a:lnTo>
                  <a:pt x="2653" y="1421"/>
                </a:lnTo>
                <a:lnTo>
                  <a:pt x="2653" y="1422"/>
                </a:lnTo>
                <a:lnTo>
                  <a:pt x="2651" y="1411"/>
                </a:lnTo>
                <a:lnTo>
                  <a:pt x="2646" y="1400"/>
                </a:lnTo>
                <a:lnTo>
                  <a:pt x="2648" y="1404"/>
                </a:lnTo>
                <a:lnTo>
                  <a:pt x="2646" y="1391"/>
                </a:lnTo>
                <a:lnTo>
                  <a:pt x="2641" y="1381"/>
                </a:lnTo>
                <a:lnTo>
                  <a:pt x="2642" y="1385"/>
                </a:lnTo>
                <a:lnTo>
                  <a:pt x="2641" y="1371"/>
                </a:lnTo>
                <a:lnTo>
                  <a:pt x="2636" y="1360"/>
                </a:lnTo>
                <a:lnTo>
                  <a:pt x="2637" y="1363"/>
                </a:lnTo>
                <a:lnTo>
                  <a:pt x="2633" y="1352"/>
                </a:lnTo>
                <a:lnTo>
                  <a:pt x="2633" y="1354"/>
                </a:lnTo>
                <a:lnTo>
                  <a:pt x="2632" y="1345"/>
                </a:lnTo>
                <a:lnTo>
                  <a:pt x="2631" y="1334"/>
                </a:lnTo>
                <a:lnTo>
                  <a:pt x="2631" y="1333"/>
                </a:lnTo>
                <a:lnTo>
                  <a:pt x="2627" y="1323"/>
                </a:lnTo>
                <a:lnTo>
                  <a:pt x="2625" y="1321"/>
                </a:lnTo>
                <a:lnTo>
                  <a:pt x="2622" y="1312"/>
                </a:lnTo>
                <a:lnTo>
                  <a:pt x="2623" y="1316"/>
                </a:lnTo>
                <a:lnTo>
                  <a:pt x="2622" y="1306"/>
                </a:lnTo>
                <a:lnTo>
                  <a:pt x="2622" y="1303"/>
                </a:lnTo>
                <a:lnTo>
                  <a:pt x="2618" y="1293"/>
                </a:lnTo>
                <a:lnTo>
                  <a:pt x="2617" y="1292"/>
                </a:lnTo>
                <a:lnTo>
                  <a:pt x="2614" y="1284"/>
                </a:lnTo>
                <a:lnTo>
                  <a:pt x="2615" y="1287"/>
                </a:lnTo>
                <a:lnTo>
                  <a:pt x="2614" y="1276"/>
                </a:lnTo>
                <a:lnTo>
                  <a:pt x="2614" y="1275"/>
                </a:lnTo>
                <a:lnTo>
                  <a:pt x="2610" y="1264"/>
                </a:lnTo>
                <a:lnTo>
                  <a:pt x="2610" y="1266"/>
                </a:lnTo>
                <a:lnTo>
                  <a:pt x="2609" y="1258"/>
                </a:lnTo>
                <a:lnTo>
                  <a:pt x="2609" y="1255"/>
                </a:lnTo>
                <a:lnTo>
                  <a:pt x="2605" y="1245"/>
                </a:lnTo>
                <a:lnTo>
                  <a:pt x="2605" y="1248"/>
                </a:lnTo>
                <a:lnTo>
                  <a:pt x="2602" y="1235"/>
                </a:lnTo>
                <a:lnTo>
                  <a:pt x="2597" y="1224"/>
                </a:lnTo>
                <a:lnTo>
                  <a:pt x="2600" y="1227"/>
                </a:lnTo>
                <a:lnTo>
                  <a:pt x="2596" y="1217"/>
                </a:lnTo>
                <a:lnTo>
                  <a:pt x="2594" y="1214"/>
                </a:lnTo>
                <a:lnTo>
                  <a:pt x="2591" y="1206"/>
                </a:lnTo>
                <a:lnTo>
                  <a:pt x="2593" y="1209"/>
                </a:lnTo>
                <a:lnTo>
                  <a:pt x="2591" y="1196"/>
                </a:lnTo>
                <a:lnTo>
                  <a:pt x="2586" y="1186"/>
                </a:lnTo>
                <a:lnTo>
                  <a:pt x="2588" y="1187"/>
                </a:lnTo>
                <a:lnTo>
                  <a:pt x="2584" y="1177"/>
                </a:lnTo>
                <a:lnTo>
                  <a:pt x="2583" y="1175"/>
                </a:lnTo>
                <a:lnTo>
                  <a:pt x="2579" y="1166"/>
                </a:lnTo>
                <a:lnTo>
                  <a:pt x="2580" y="1170"/>
                </a:lnTo>
                <a:lnTo>
                  <a:pt x="2579" y="1160"/>
                </a:lnTo>
                <a:lnTo>
                  <a:pt x="2579" y="1157"/>
                </a:lnTo>
                <a:lnTo>
                  <a:pt x="2575" y="1147"/>
                </a:lnTo>
                <a:lnTo>
                  <a:pt x="2574" y="1146"/>
                </a:lnTo>
                <a:lnTo>
                  <a:pt x="2570" y="1137"/>
                </a:lnTo>
                <a:lnTo>
                  <a:pt x="2571" y="1139"/>
                </a:lnTo>
                <a:lnTo>
                  <a:pt x="2565" y="1118"/>
                </a:lnTo>
                <a:lnTo>
                  <a:pt x="2565" y="1120"/>
                </a:lnTo>
                <a:lnTo>
                  <a:pt x="2563" y="1109"/>
                </a:lnTo>
                <a:lnTo>
                  <a:pt x="2557" y="1098"/>
                </a:lnTo>
                <a:lnTo>
                  <a:pt x="2558" y="1100"/>
                </a:lnTo>
                <a:lnTo>
                  <a:pt x="2557" y="1089"/>
                </a:lnTo>
                <a:lnTo>
                  <a:pt x="2552" y="1078"/>
                </a:lnTo>
                <a:lnTo>
                  <a:pt x="2553" y="1080"/>
                </a:lnTo>
                <a:lnTo>
                  <a:pt x="2547" y="1059"/>
                </a:lnTo>
                <a:lnTo>
                  <a:pt x="2544" y="1058"/>
                </a:lnTo>
                <a:lnTo>
                  <a:pt x="2541" y="1050"/>
                </a:lnTo>
                <a:lnTo>
                  <a:pt x="2543" y="1051"/>
                </a:lnTo>
                <a:lnTo>
                  <a:pt x="2539" y="1041"/>
                </a:lnTo>
                <a:lnTo>
                  <a:pt x="2538" y="1038"/>
                </a:lnTo>
                <a:lnTo>
                  <a:pt x="2534" y="1030"/>
                </a:lnTo>
                <a:lnTo>
                  <a:pt x="2536" y="1032"/>
                </a:lnTo>
                <a:lnTo>
                  <a:pt x="2529" y="1011"/>
                </a:lnTo>
                <a:lnTo>
                  <a:pt x="2527" y="1010"/>
                </a:lnTo>
                <a:lnTo>
                  <a:pt x="2523" y="1001"/>
                </a:lnTo>
                <a:lnTo>
                  <a:pt x="2526" y="1002"/>
                </a:lnTo>
                <a:lnTo>
                  <a:pt x="2513" y="970"/>
                </a:lnTo>
                <a:lnTo>
                  <a:pt x="2508" y="959"/>
                </a:lnTo>
                <a:lnTo>
                  <a:pt x="2510" y="963"/>
                </a:lnTo>
                <a:lnTo>
                  <a:pt x="2503" y="943"/>
                </a:lnTo>
                <a:lnTo>
                  <a:pt x="2501" y="941"/>
                </a:lnTo>
                <a:lnTo>
                  <a:pt x="2498" y="932"/>
                </a:lnTo>
                <a:lnTo>
                  <a:pt x="2500" y="934"/>
                </a:lnTo>
                <a:lnTo>
                  <a:pt x="2496" y="923"/>
                </a:lnTo>
                <a:lnTo>
                  <a:pt x="2495" y="922"/>
                </a:lnTo>
                <a:lnTo>
                  <a:pt x="2491" y="913"/>
                </a:lnTo>
                <a:lnTo>
                  <a:pt x="2486" y="903"/>
                </a:lnTo>
                <a:lnTo>
                  <a:pt x="2487" y="905"/>
                </a:lnTo>
                <a:lnTo>
                  <a:pt x="2479" y="882"/>
                </a:lnTo>
                <a:lnTo>
                  <a:pt x="2474" y="872"/>
                </a:lnTo>
                <a:lnTo>
                  <a:pt x="2476" y="875"/>
                </a:lnTo>
                <a:lnTo>
                  <a:pt x="2467" y="853"/>
                </a:lnTo>
                <a:lnTo>
                  <a:pt x="2461" y="843"/>
                </a:lnTo>
                <a:lnTo>
                  <a:pt x="2461" y="844"/>
                </a:lnTo>
                <a:lnTo>
                  <a:pt x="2456" y="834"/>
                </a:lnTo>
                <a:lnTo>
                  <a:pt x="2454" y="825"/>
                </a:lnTo>
                <a:lnTo>
                  <a:pt x="2455" y="827"/>
                </a:lnTo>
                <a:lnTo>
                  <a:pt x="2451" y="817"/>
                </a:lnTo>
                <a:lnTo>
                  <a:pt x="2450" y="816"/>
                </a:lnTo>
                <a:lnTo>
                  <a:pt x="2439" y="794"/>
                </a:lnTo>
                <a:lnTo>
                  <a:pt x="2437" y="786"/>
                </a:lnTo>
                <a:lnTo>
                  <a:pt x="2430" y="776"/>
                </a:lnTo>
                <a:lnTo>
                  <a:pt x="2433" y="777"/>
                </a:lnTo>
                <a:lnTo>
                  <a:pt x="2428" y="765"/>
                </a:lnTo>
                <a:lnTo>
                  <a:pt x="2423" y="755"/>
                </a:lnTo>
                <a:lnTo>
                  <a:pt x="2423" y="757"/>
                </a:lnTo>
                <a:lnTo>
                  <a:pt x="2417" y="746"/>
                </a:lnTo>
                <a:lnTo>
                  <a:pt x="2417" y="745"/>
                </a:lnTo>
                <a:lnTo>
                  <a:pt x="2412" y="736"/>
                </a:lnTo>
                <a:lnTo>
                  <a:pt x="2412" y="738"/>
                </a:lnTo>
                <a:lnTo>
                  <a:pt x="2407" y="728"/>
                </a:lnTo>
                <a:lnTo>
                  <a:pt x="2408" y="729"/>
                </a:lnTo>
                <a:lnTo>
                  <a:pt x="2403" y="718"/>
                </a:lnTo>
                <a:lnTo>
                  <a:pt x="2394" y="707"/>
                </a:lnTo>
                <a:lnTo>
                  <a:pt x="2398" y="710"/>
                </a:lnTo>
                <a:lnTo>
                  <a:pt x="2394" y="700"/>
                </a:lnTo>
                <a:lnTo>
                  <a:pt x="2393" y="698"/>
                </a:lnTo>
                <a:lnTo>
                  <a:pt x="2388" y="688"/>
                </a:lnTo>
                <a:lnTo>
                  <a:pt x="2388" y="687"/>
                </a:lnTo>
                <a:lnTo>
                  <a:pt x="2381" y="676"/>
                </a:lnTo>
                <a:lnTo>
                  <a:pt x="2381" y="678"/>
                </a:lnTo>
                <a:lnTo>
                  <a:pt x="2377" y="669"/>
                </a:lnTo>
                <a:lnTo>
                  <a:pt x="2372" y="657"/>
                </a:lnTo>
                <a:lnTo>
                  <a:pt x="2363" y="648"/>
                </a:lnTo>
                <a:lnTo>
                  <a:pt x="2366" y="650"/>
                </a:lnTo>
                <a:lnTo>
                  <a:pt x="2355" y="630"/>
                </a:lnTo>
                <a:lnTo>
                  <a:pt x="2355" y="627"/>
                </a:lnTo>
                <a:lnTo>
                  <a:pt x="2350" y="619"/>
                </a:lnTo>
                <a:lnTo>
                  <a:pt x="2344" y="609"/>
                </a:lnTo>
                <a:lnTo>
                  <a:pt x="2344" y="610"/>
                </a:lnTo>
                <a:lnTo>
                  <a:pt x="2337" y="600"/>
                </a:lnTo>
                <a:lnTo>
                  <a:pt x="2337" y="599"/>
                </a:lnTo>
                <a:lnTo>
                  <a:pt x="2331" y="588"/>
                </a:lnTo>
                <a:lnTo>
                  <a:pt x="2326" y="579"/>
                </a:lnTo>
                <a:lnTo>
                  <a:pt x="2319" y="569"/>
                </a:lnTo>
                <a:lnTo>
                  <a:pt x="2318" y="569"/>
                </a:lnTo>
                <a:lnTo>
                  <a:pt x="2310" y="560"/>
                </a:lnTo>
                <a:lnTo>
                  <a:pt x="2313" y="562"/>
                </a:lnTo>
                <a:lnTo>
                  <a:pt x="2307" y="552"/>
                </a:lnTo>
                <a:lnTo>
                  <a:pt x="2307" y="551"/>
                </a:lnTo>
                <a:lnTo>
                  <a:pt x="2300" y="539"/>
                </a:lnTo>
                <a:lnTo>
                  <a:pt x="2298" y="539"/>
                </a:lnTo>
                <a:lnTo>
                  <a:pt x="2292" y="531"/>
                </a:lnTo>
                <a:lnTo>
                  <a:pt x="2293" y="531"/>
                </a:lnTo>
                <a:lnTo>
                  <a:pt x="2287" y="521"/>
                </a:lnTo>
                <a:lnTo>
                  <a:pt x="2284" y="521"/>
                </a:lnTo>
                <a:lnTo>
                  <a:pt x="2278" y="512"/>
                </a:lnTo>
                <a:lnTo>
                  <a:pt x="2279" y="515"/>
                </a:lnTo>
                <a:lnTo>
                  <a:pt x="2273" y="502"/>
                </a:lnTo>
                <a:lnTo>
                  <a:pt x="2271" y="500"/>
                </a:lnTo>
                <a:lnTo>
                  <a:pt x="2264" y="492"/>
                </a:lnTo>
                <a:lnTo>
                  <a:pt x="2256" y="481"/>
                </a:lnTo>
                <a:lnTo>
                  <a:pt x="2248" y="473"/>
                </a:lnTo>
                <a:lnTo>
                  <a:pt x="2251" y="473"/>
                </a:lnTo>
                <a:lnTo>
                  <a:pt x="2243" y="463"/>
                </a:lnTo>
                <a:lnTo>
                  <a:pt x="2242" y="463"/>
                </a:lnTo>
                <a:lnTo>
                  <a:pt x="2234" y="453"/>
                </a:lnTo>
                <a:lnTo>
                  <a:pt x="2234" y="450"/>
                </a:lnTo>
                <a:lnTo>
                  <a:pt x="2225" y="442"/>
                </a:lnTo>
                <a:lnTo>
                  <a:pt x="2226" y="444"/>
                </a:lnTo>
                <a:lnTo>
                  <a:pt x="2220" y="433"/>
                </a:lnTo>
                <a:lnTo>
                  <a:pt x="2217" y="433"/>
                </a:lnTo>
                <a:lnTo>
                  <a:pt x="2200" y="413"/>
                </a:lnTo>
                <a:lnTo>
                  <a:pt x="2200" y="411"/>
                </a:lnTo>
                <a:lnTo>
                  <a:pt x="2191" y="402"/>
                </a:lnTo>
                <a:lnTo>
                  <a:pt x="2191" y="404"/>
                </a:lnTo>
                <a:lnTo>
                  <a:pt x="2183" y="392"/>
                </a:lnTo>
                <a:lnTo>
                  <a:pt x="2172" y="383"/>
                </a:lnTo>
                <a:lnTo>
                  <a:pt x="2173" y="385"/>
                </a:lnTo>
                <a:lnTo>
                  <a:pt x="2164" y="375"/>
                </a:lnTo>
                <a:lnTo>
                  <a:pt x="2164" y="374"/>
                </a:lnTo>
                <a:lnTo>
                  <a:pt x="2125" y="334"/>
                </a:lnTo>
                <a:lnTo>
                  <a:pt x="2123" y="334"/>
                </a:lnTo>
                <a:lnTo>
                  <a:pt x="2112" y="325"/>
                </a:lnTo>
                <a:lnTo>
                  <a:pt x="2115" y="325"/>
                </a:lnTo>
                <a:lnTo>
                  <a:pt x="2102" y="314"/>
                </a:lnTo>
                <a:lnTo>
                  <a:pt x="2101" y="313"/>
                </a:lnTo>
                <a:lnTo>
                  <a:pt x="2089" y="304"/>
                </a:lnTo>
                <a:lnTo>
                  <a:pt x="2090" y="305"/>
                </a:lnTo>
                <a:lnTo>
                  <a:pt x="2054" y="274"/>
                </a:lnTo>
                <a:lnTo>
                  <a:pt x="2053" y="273"/>
                </a:lnTo>
                <a:lnTo>
                  <a:pt x="2040" y="265"/>
                </a:lnTo>
                <a:lnTo>
                  <a:pt x="2026" y="255"/>
                </a:lnTo>
                <a:lnTo>
                  <a:pt x="2011" y="244"/>
                </a:lnTo>
                <a:lnTo>
                  <a:pt x="2009" y="244"/>
                </a:lnTo>
                <a:lnTo>
                  <a:pt x="1995" y="235"/>
                </a:lnTo>
                <a:lnTo>
                  <a:pt x="1996" y="235"/>
                </a:lnTo>
                <a:lnTo>
                  <a:pt x="1965" y="215"/>
                </a:lnTo>
                <a:lnTo>
                  <a:pt x="1964" y="215"/>
                </a:lnTo>
                <a:lnTo>
                  <a:pt x="1946" y="206"/>
                </a:lnTo>
                <a:lnTo>
                  <a:pt x="1948" y="206"/>
                </a:lnTo>
                <a:lnTo>
                  <a:pt x="1913" y="185"/>
                </a:lnTo>
                <a:lnTo>
                  <a:pt x="1912" y="185"/>
                </a:lnTo>
                <a:lnTo>
                  <a:pt x="1891" y="177"/>
                </a:lnTo>
                <a:lnTo>
                  <a:pt x="1850" y="157"/>
                </a:lnTo>
                <a:lnTo>
                  <a:pt x="1849" y="154"/>
                </a:lnTo>
                <a:lnTo>
                  <a:pt x="1824" y="146"/>
                </a:lnTo>
                <a:lnTo>
                  <a:pt x="1825" y="148"/>
                </a:lnTo>
                <a:lnTo>
                  <a:pt x="1800" y="137"/>
                </a:lnTo>
                <a:lnTo>
                  <a:pt x="1798" y="136"/>
                </a:lnTo>
                <a:lnTo>
                  <a:pt x="1772" y="127"/>
                </a:lnTo>
                <a:lnTo>
                  <a:pt x="1774" y="128"/>
                </a:lnTo>
                <a:lnTo>
                  <a:pt x="1745" y="117"/>
                </a:lnTo>
                <a:lnTo>
                  <a:pt x="1743" y="115"/>
                </a:lnTo>
                <a:lnTo>
                  <a:pt x="1712" y="106"/>
                </a:lnTo>
                <a:lnTo>
                  <a:pt x="1678" y="96"/>
                </a:lnTo>
                <a:lnTo>
                  <a:pt x="1639" y="88"/>
                </a:lnTo>
                <a:lnTo>
                  <a:pt x="1598" y="78"/>
                </a:lnTo>
                <a:lnTo>
                  <a:pt x="1597" y="78"/>
                </a:lnTo>
                <a:lnTo>
                  <a:pt x="1549" y="66"/>
                </a:lnTo>
                <a:lnTo>
                  <a:pt x="1493" y="58"/>
                </a:lnTo>
                <a:lnTo>
                  <a:pt x="1429" y="48"/>
                </a:lnTo>
                <a:lnTo>
                  <a:pt x="1350" y="38"/>
                </a:lnTo>
                <a:lnTo>
                  <a:pt x="1248" y="29"/>
                </a:lnTo>
                <a:lnTo>
                  <a:pt x="1107" y="18"/>
                </a:lnTo>
                <a:lnTo>
                  <a:pt x="1105" y="18"/>
                </a:lnTo>
                <a:lnTo>
                  <a:pt x="869" y="8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70040" y="5408640"/>
            <a:ext cx="52560" cy="227160"/>
          </a:xfrm>
          <a:custGeom>
            <a:avLst/>
            <a:gdLst/>
            <a:ahLst/>
            <a:rect l="l" t="t" r="r" b="b"/>
            <a:pathLst>
              <a:path w="81" h="297">
                <a:moveTo>
                  <a:pt x="0" y="17"/>
                </a:moveTo>
                <a:lnTo>
                  <a:pt x="0" y="14"/>
                </a:lnTo>
                <a:lnTo>
                  <a:pt x="4" y="37"/>
                </a:lnTo>
                <a:lnTo>
                  <a:pt x="9" y="48"/>
                </a:lnTo>
                <a:lnTo>
                  <a:pt x="6" y="44"/>
                </a:lnTo>
                <a:lnTo>
                  <a:pt x="10" y="65"/>
                </a:lnTo>
                <a:lnTo>
                  <a:pt x="12" y="74"/>
                </a:lnTo>
                <a:lnTo>
                  <a:pt x="14" y="85"/>
                </a:lnTo>
                <a:lnTo>
                  <a:pt x="19" y="96"/>
                </a:lnTo>
                <a:lnTo>
                  <a:pt x="17" y="92"/>
                </a:lnTo>
                <a:lnTo>
                  <a:pt x="19" y="105"/>
                </a:lnTo>
                <a:lnTo>
                  <a:pt x="21" y="114"/>
                </a:lnTo>
                <a:lnTo>
                  <a:pt x="22" y="123"/>
                </a:lnTo>
                <a:lnTo>
                  <a:pt x="24" y="132"/>
                </a:lnTo>
                <a:lnTo>
                  <a:pt x="27" y="152"/>
                </a:lnTo>
                <a:lnTo>
                  <a:pt x="29" y="161"/>
                </a:lnTo>
                <a:lnTo>
                  <a:pt x="29" y="163"/>
                </a:lnTo>
                <a:lnTo>
                  <a:pt x="32" y="173"/>
                </a:lnTo>
                <a:lnTo>
                  <a:pt x="32" y="172"/>
                </a:lnTo>
                <a:lnTo>
                  <a:pt x="35" y="180"/>
                </a:lnTo>
                <a:lnTo>
                  <a:pt x="37" y="200"/>
                </a:lnTo>
                <a:lnTo>
                  <a:pt x="40" y="209"/>
                </a:lnTo>
                <a:lnTo>
                  <a:pt x="41" y="220"/>
                </a:lnTo>
                <a:lnTo>
                  <a:pt x="41" y="221"/>
                </a:lnTo>
                <a:lnTo>
                  <a:pt x="45" y="231"/>
                </a:lnTo>
                <a:lnTo>
                  <a:pt x="45" y="230"/>
                </a:lnTo>
                <a:lnTo>
                  <a:pt x="46" y="240"/>
                </a:lnTo>
                <a:lnTo>
                  <a:pt x="48" y="248"/>
                </a:lnTo>
                <a:lnTo>
                  <a:pt x="48" y="247"/>
                </a:lnTo>
                <a:lnTo>
                  <a:pt x="48" y="260"/>
                </a:lnTo>
                <a:lnTo>
                  <a:pt x="53" y="271"/>
                </a:lnTo>
                <a:lnTo>
                  <a:pt x="52" y="268"/>
                </a:lnTo>
                <a:lnTo>
                  <a:pt x="55" y="288"/>
                </a:lnTo>
                <a:lnTo>
                  <a:pt x="57" y="297"/>
                </a:lnTo>
                <a:lnTo>
                  <a:pt x="81" y="293"/>
                </a:lnTo>
                <a:lnTo>
                  <a:pt x="79" y="284"/>
                </a:lnTo>
                <a:lnTo>
                  <a:pt x="76" y="262"/>
                </a:lnTo>
                <a:lnTo>
                  <a:pt x="71" y="252"/>
                </a:lnTo>
                <a:lnTo>
                  <a:pt x="72" y="257"/>
                </a:lnTo>
                <a:lnTo>
                  <a:pt x="72" y="246"/>
                </a:lnTo>
                <a:lnTo>
                  <a:pt x="71" y="237"/>
                </a:lnTo>
                <a:lnTo>
                  <a:pt x="68" y="226"/>
                </a:lnTo>
                <a:lnTo>
                  <a:pt x="68" y="225"/>
                </a:lnTo>
                <a:lnTo>
                  <a:pt x="66" y="215"/>
                </a:lnTo>
                <a:lnTo>
                  <a:pt x="66" y="216"/>
                </a:lnTo>
                <a:lnTo>
                  <a:pt x="63" y="206"/>
                </a:lnTo>
                <a:lnTo>
                  <a:pt x="62" y="198"/>
                </a:lnTo>
                <a:lnTo>
                  <a:pt x="58" y="177"/>
                </a:lnTo>
                <a:lnTo>
                  <a:pt x="57" y="168"/>
                </a:lnTo>
                <a:lnTo>
                  <a:pt x="57" y="167"/>
                </a:lnTo>
                <a:lnTo>
                  <a:pt x="53" y="156"/>
                </a:lnTo>
                <a:lnTo>
                  <a:pt x="53" y="158"/>
                </a:lnTo>
                <a:lnTo>
                  <a:pt x="52" y="149"/>
                </a:lnTo>
                <a:lnTo>
                  <a:pt x="48" y="128"/>
                </a:lnTo>
                <a:lnTo>
                  <a:pt x="46" y="120"/>
                </a:lnTo>
                <a:lnTo>
                  <a:pt x="45" y="110"/>
                </a:lnTo>
                <a:lnTo>
                  <a:pt x="43" y="101"/>
                </a:lnTo>
                <a:lnTo>
                  <a:pt x="41" y="88"/>
                </a:lnTo>
                <a:lnTo>
                  <a:pt x="36" y="76"/>
                </a:lnTo>
                <a:lnTo>
                  <a:pt x="37" y="80"/>
                </a:lnTo>
                <a:lnTo>
                  <a:pt x="36" y="70"/>
                </a:lnTo>
                <a:lnTo>
                  <a:pt x="35" y="62"/>
                </a:lnTo>
                <a:lnTo>
                  <a:pt x="31" y="39"/>
                </a:lnTo>
                <a:lnTo>
                  <a:pt x="26" y="28"/>
                </a:lnTo>
                <a:lnTo>
                  <a:pt x="27" y="32"/>
                </a:lnTo>
                <a:lnTo>
                  <a:pt x="24" y="12"/>
                </a:lnTo>
                <a:lnTo>
                  <a:pt x="24" y="10"/>
                </a:lnTo>
                <a:lnTo>
                  <a:pt x="21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4040" y="4170240"/>
            <a:ext cx="1796760" cy="17640"/>
          </a:xfrm>
          <a:custGeom>
            <a:avLst/>
            <a:gdLst/>
            <a:ahLst/>
            <a:rect l="l" t="t" r="r" b="b"/>
            <a:pathLst>
              <a:path w="2778" h="22">
                <a:moveTo>
                  <a:pt x="10" y="0"/>
                </a:moveTo>
                <a:lnTo>
                  <a:pt x="8" y="0"/>
                </a:lnTo>
                <a:lnTo>
                  <a:pt x="0" y="8"/>
                </a:lnTo>
                <a:lnTo>
                  <a:pt x="0" y="15"/>
                </a:lnTo>
                <a:lnTo>
                  <a:pt x="8" y="22"/>
                </a:lnTo>
                <a:lnTo>
                  <a:pt x="2771" y="22"/>
                </a:lnTo>
                <a:lnTo>
                  <a:pt x="2778" y="15"/>
                </a:lnTo>
                <a:lnTo>
                  <a:pt x="2778" y="8"/>
                </a:lnTo>
                <a:lnTo>
                  <a:pt x="2771" y="0"/>
                </a:lnTo>
                <a:lnTo>
                  <a:pt x="2767" y="0"/>
                </a:lnTo>
                <a:lnTo>
                  <a:pt x="10" y="0"/>
                </a:lnTo>
                <a:close/>
              </a:path>
            </a:pathLst>
          </a:custGeom>
          <a:solidFill>
            <a:srgbClr val="c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23840" y="4071240"/>
            <a:ext cx="91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21680" y="450936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kin ef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23480" y="5277600"/>
            <a:ext cx="67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lectr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22760" y="5481000"/>
            <a:ext cx="91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ulation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16120" y="4187880"/>
            <a:ext cx="206280" cy="4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16120" y="4640400"/>
            <a:ext cx="206280" cy="5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16120" y="5445000"/>
            <a:ext cx="206280" cy="5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565360" y="5789160"/>
            <a:ext cx="25704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5000" y="4647960"/>
            <a:ext cx="938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: FR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=210µ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=200µ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=18µ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=0.27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=4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de=0.0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=50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960" y="41140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7360" y="5986080"/>
            <a:ext cx="459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3360" y="44949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3360" y="4952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3360" y="5333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3360" y="5714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28800" y="6003360"/>
            <a:ext cx="459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54400" y="5986080"/>
            <a:ext cx="459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7560" y="5986080"/>
            <a:ext cx="4597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51240" y="5986080"/>
            <a:ext cx="525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90320" y="1905120"/>
            <a:ext cx="37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development: DIL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LCC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F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A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GA ( CCGA)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2590920"/>
            <a:ext cx="464796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94120" y="28954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: L-,R-,C-reduction ,multiple Vcc/Gnd p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876920" y="4419720"/>
            <a:ext cx="4495680" cy="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44240" y="3962520"/>
            <a:ext cx="385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mprovement: Package size (pin count, pin dens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3581280"/>
            <a:ext cx="45720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99960" y="4724280"/>
            <a:ext cx="429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possibilities: R,L,C per pkg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,L,C per p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L,C,Z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ections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ssing: coupled sections R,L,C,Z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58200" y="5410080"/>
            <a:ext cx="914400" cy="0"/>
          </a:xfrm>
          <a:prstGeom prst="line">
            <a:avLst/>
          </a:prstGeom>
          <a:ln w="76320">
            <a:solidFill>
              <a:srgbClr val="99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876920" y="5410080"/>
            <a:ext cx="35049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6600" y="379512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losses (ex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76560" y="15994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ackage developments and  and electrical parameter of influenc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5867280"/>
            <a:ext cx="59436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high frequency simulations w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 coup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10680" y="2286000"/>
            <a:ext cx="3231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n effect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urrent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lectric lo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ence of Chip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. frequency  of interest [MHz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s attenuation for f_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mped model 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ional R’, L’, C’ model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d R’, L’, C’ model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mped model per 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514600"/>
            <a:ext cx="6000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no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v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 no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ation of a few  die sizes per packag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ed on tr e.g. f_int_max = 1/ 0,5 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ed on f_int_max e.g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ed on tr e.g.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p_packag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/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ed on tr and tp e.g. t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data transmission, crosstalk could not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lected (analog signals, jitter, crosstal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 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. requirement if R,L,C differences between pins &gt;  1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5638680"/>
            <a:ext cx="76201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 classifications could be of help for the futu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880" y="1849320"/>
            <a:ext cx="88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les of thumb for discussion, further investigations necessary or rules already exis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25909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8954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31240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33526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5812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38098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0384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434340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457200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502920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ome criteria for package  classif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70400" y="2208600"/>
            <a:ext cx="231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57320" y="405288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915840" y="349056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965160" y="349056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9560" y="3780000"/>
            <a:ext cx="77760" cy="299880"/>
          </a:xfrm>
          <a:custGeom>
            <a:avLst/>
            <a:gdLst/>
            <a:ahLst/>
            <a:rect l="l" t="t" r="r" b="b"/>
            <a:pathLst>
              <a:path w="46" h="142">
                <a:moveTo>
                  <a:pt x="45" y="141"/>
                </a:moveTo>
                <a:lnTo>
                  <a:pt x="4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4880" y="2463840"/>
            <a:ext cx="129960" cy="1101600"/>
          </a:xfrm>
          <a:custGeom>
            <a:avLst/>
            <a:gdLst/>
            <a:ahLst/>
            <a:rect l="l" t="t" r="r" b="b"/>
            <a:pathLst>
              <a:path w="50" h="335">
                <a:moveTo>
                  <a:pt x="49" y="0"/>
                </a:moveTo>
                <a:lnTo>
                  <a:pt x="48" y="334"/>
                </a:lnTo>
                <a:lnTo>
                  <a:pt x="0" y="3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425916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61920" y="4259160"/>
            <a:ext cx="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76320" y="4046400"/>
            <a:ext cx="77760" cy="266760"/>
          </a:xfrm>
          <a:custGeom>
            <a:avLst/>
            <a:gdLst/>
            <a:ahLst/>
            <a:rect l="l" t="t" r="r" b="b"/>
            <a:pathLst>
              <a:path w="46" h="126">
                <a:moveTo>
                  <a:pt x="45" y="0"/>
                </a:moveTo>
                <a:lnTo>
                  <a:pt x="45" y="125"/>
                </a:lnTo>
                <a:lnTo>
                  <a:pt x="0" y="1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52200" y="4530600"/>
            <a:ext cx="177480" cy="699840"/>
            <a:chOff x="952200" y="4530600"/>
            <a:chExt cx="177480" cy="699840"/>
          </a:xfrm>
        </p:grpSpPr>
        <p:sp>
          <p:nvSpPr>
            <p:cNvPr id="332" name=""/>
            <p:cNvSpPr/>
            <p:nvPr/>
          </p:nvSpPr>
          <p:spPr>
            <a:xfrm>
              <a:off x="974160" y="4530600"/>
              <a:ext cx="71280" cy="695520"/>
            </a:xfrm>
            <a:custGeom>
              <a:avLst/>
              <a:gdLst/>
              <a:ahLst/>
              <a:rect l="l" t="t" r="r" b="b"/>
              <a:pathLst>
                <a:path w="42" h="328">
                  <a:moveTo>
                    <a:pt x="41" y="327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952200" y="5230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038240" y="4033800"/>
            <a:ext cx="2700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439884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46000" y="3629160"/>
            <a:ext cx="57240" cy="7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27200" y="4019400"/>
            <a:ext cx="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12720" y="4633920"/>
            <a:ext cx="23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27200" y="464832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41520" y="518148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08040" y="4581360"/>
            <a:ext cx="2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31560" y="2421000"/>
            <a:ext cx="16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Ic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I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7360" y="4494600"/>
            <a:ext cx="3056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295280" y="2971800"/>
            <a:ext cx="99720" cy="447120"/>
            <a:chOff x="1295280" y="2971800"/>
            <a:chExt cx="99720" cy="447120"/>
          </a:xfrm>
        </p:grpSpPr>
        <p:sp>
          <p:nvSpPr>
            <p:cNvPr id="345" name=""/>
            <p:cNvSpPr/>
            <p:nvPr/>
          </p:nvSpPr>
          <p:spPr>
            <a:xfrm>
              <a:off x="1346040" y="2971800"/>
              <a:ext cx="0" cy="3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95280" y="3251880"/>
              <a:ext cx="99720" cy="16704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29" y="78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9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182600" y="3889440"/>
            <a:ext cx="487440" cy="101160"/>
            <a:chOff x="1182600" y="3889440"/>
            <a:chExt cx="487440" cy="101160"/>
          </a:xfrm>
        </p:grpSpPr>
        <p:sp>
          <p:nvSpPr>
            <p:cNvPr id="348" name=""/>
            <p:cNvSpPr/>
            <p:nvPr/>
          </p:nvSpPr>
          <p:spPr>
            <a:xfrm>
              <a:off x="1182600" y="3937320"/>
              <a:ext cx="4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04880" y="3889440"/>
              <a:ext cx="65160" cy="10116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76" y="29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76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295280" y="4800600"/>
            <a:ext cx="99720" cy="447480"/>
            <a:chOff x="1295280" y="4800600"/>
            <a:chExt cx="99720" cy="447480"/>
          </a:xfrm>
        </p:grpSpPr>
        <p:sp>
          <p:nvSpPr>
            <p:cNvPr id="351" name=""/>
            <p:cNvSpPr/>
            <p:nvPr/>
          </p:nvSpPr>
          <p:spPr>
            <a:xfrm>
              <a:off x="1346040" y="4800600"/>
              <a:ext cx="0" cy="3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95280" y="5080680"/>
              <a:ext cx="99720" cy="1674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29" y="78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29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H="1">
            <a:off x="371520" y="3686040"/>
            <a:ext cx="4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79280" y="4737960"/>
            <a:ext cx="16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Ic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I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5440" y="4053600"/>
            <a:ext cx="2170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600" spc="-1" strike="noStrike" baseline="-10000">
                <a:solidFill>
                  <a:srgbClr val="ff9900"/>
                </a:solidFill>
                <a:latin typeface="Arial"/>
              </a:rPr>
              <a:t>I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79080" y="4080240"/>
            <a:ext cx="146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200" spc="-1" strike="noStrike" baseline="-10000">
                <a:solidFill>
                  <a:srgbClr val="000000"/>
                </a:solidFill>
                <a:latin typeface="Arial"/>
              </a:rPr>
              <a:t>I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396252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720" y="3748680"/>
            <a:ext cx="2170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600" spc="-1" strike="noStrike" baseline="-10000">
                <a:solidFill>
                  <a:srgbClr val="ff9900"/>
                </a:solidFill>
                <a:latin typeface="Arial"/>
              </a:rPr>
              <a:t>Cp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3581280"/>
            <a:ext cx="0" cy="228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219320" y="3657600"/>
            <a:ext cx="2286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066680" y="4419720"/>
            <a:ext cx="2286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4343400"/>
            <a:ext cx="0" cy="2286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295280" y="3733560"/>
            <a:ext cx="15264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8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56560" y="1753200"/>
            <a:ext cx="158328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Princi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2040" y="2209680"/>
            <a:ext cx="1066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336600"/>
                </a:solidFill>
                <a:latin typeface="Arial"/>
              </a:rPr>
              <a:t>CC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-stat_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(normal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88640" y="2209680"/>
            <a:ext cx="1354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336600"/>
                </a:solidFill>
                <a:latin typeface="Arial"/>
              </a:rPr>
              <a:t>CC</a:t>
            </a: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-stat_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00"/>
                </a:solidFill>
                <a:latin typeface="Arial"/>
              </a:rPr>
              <a:t>(normal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70720" y="2689200"/>
            <a:ext cx="968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ff3300"/>
                </a:solidFill>
                <a:latin typeface="Arial"/>
              </a:rPr>
              <a:t>CCd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_rise/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69280" y="3360600"/>
            <a:ext cx="1023120" cy="550800"/>
            <a:chOff x="2069280" y="3360600"/>
            <a:chExt cx="1023120" cy="550800"/>
          </a:xfrm>
        </p:grpSpPr>
        <p:sp>
          <p:nvSpPr>
            <p:cNvPr id="370" name=""/>
            <p:cNvSpPr/>
            <p:nvPr/>
          </p:nvSpPr>
          <p:spPr>
            <a:xfrm>
              <a:off x="2133720" y="3360600"/>
              <a:ext cx="685800" cy="3808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9280" y="3360600"/>
              <a:ext cx="487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C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8440" y="3636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68600" y="337824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056680" y="300816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rise/fall_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4040" y="29034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_rise/fall_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019400" y="3965400"/>
            <a:ext cx="138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ff3300"/>
                </a:solidFill>
                <a:latin typeface="Arial"/>
              </a:rPr>
              <a:t>CCd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_rise/fall_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0920" y="35892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_rise/fall_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76680" y="259092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72040" y="269568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43400" y="3144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32440" y="2685960"/>
            <a:ext cx="930240" cy="96840"/>
          </a:xfrm>
          <a:custGeom>
            <a:avLst/>
            <a:gdLst/>
            <a:ahLst/>
            <a:rect l="l" t="t" r="r" b="b"/>
            <a:pathLst>
              <a:path w="856" h="89">
                <a:moveTo>
                  <a:pt x="856" y="0"/>
                </a:moveTo>
                <a:cubicBezTo>
                  <a:pt x="664" y="0"/>
                  <a:pt x="471" y="2"/>
                  <a:pt x="272" y="11"/>
                </a:cubicBezTo>
                <a:cubicBezTo>
                  <a:pt x="223" y="30"/>
                  <a:pt x="209" y="31"/>
                  <a:pt x="150" y="37"/>
                </a:cubicBezTo>
                <a:cubicBezTo>
                  <a:pt x="115" y="48"/>
                  <a:pt x="78" y="57"/>
                  <a:pt x="44" y="70"/>
                </a:cubicBezTo>
                <a:cubicBezTo>
                  <a:pt x="30" y="76"/>
                  <a:pt x="10" y="76"/>
                  <a:pt x="0" y="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38400" y="2644920"/>
            <a:ext cx="2183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79920" y="2644920"/>
            <a:ext cx="0" cy="1831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33640" y="2590920"/>
            <a:ext cx="0" cy="1447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76480" y="2639880"/>
            <a:ext cx="682560" cy="1478160"/>
          </a:xfrm>
          <a:custGeom>
            <a:avLst/>
            <a:gdLst/>
            <a:ahLst/>
            <a:rect l="l" t="t" r="r" b="b"/>
            <a:pathLst>
              <a:path w="869" h="1615">
                <a:moveTo>
                  <a:pt x="0" y="0"/>
                </a:moveTo>
                <a:cubicBezTo>
                  <a:pt x="60" y="39"/>
                  <a:pt x="70" y="99"/>
                  <a:pt x="108" y="154"/>
                </a:cubicBezTo>
                <a:cubicBezTo>
                  <a:pt x="116" y="180"/>
                  <a:pt x="127" y="199"/>
                  <a:pt x="138" y="223"/>
                </a:cubicBezTo>
                <a:cubicBezTo>
                  <a:pt x="157" y="264"/>
                  <a:pt x="161" y="320"/>
                  <a:pt x="192" y="354"/>
                </a:cubicBezTo>
                <a:cubicBezTo>
                  <a:pt x="200" y="384"/>
                  <a:pt x="206" y="405"/>
                  <a:pt x="223" y="431"/>
                </a:cubicBezTo>
                <a:cubicBezTo>
                  <a:pt x="255" y="550"/>
                  <a:pt x="316" y="662"/>
                  <a:pt x="351" y="780"/>
                </a:cubicBezTo>
                <a:cubicBezTo>
                  <a:pt x="375" y="816"/>
                  <a:pt x="369" y="876"/>
                  <a:pt x="417" y="891"/>
                </a:cubicBezTo>
                <a:cubicBezTo>
                  <a:pt x="435" y="889"/>
                  <a:pt x="437" y="896"/>
                  <a:pt x="453" y="888"/>
                </a:cubicBezTo>
                <a:cubicBezTo>
                  <a:pt x="459" y="885"/>
                  <a:pt x="485" y="798"/>
                  <a:pt x="486" y="795"/>
                </a:cubicBezTo>
                <a:cubicBezTo>
                  <a:pt x="494" y="708"/>
                  <a:pt x="508" y="729"/>
                  <a:pt x="519" y="642"/>
                </a:cubicBezTo>
                <a:cubicBezTo>
                  <a:pt x="525" y="609"/>
                  <a:pt x="526" y="616"/>
                  <a:pt x="531" y="606"/>
                </a:cubicBezTo>
                <a:cubicBezTo>
                  <a:pt x="536" y="596"/>
                  <a:pt x="542" y="587"/>
                  <a:pt x="549" y="579"/>
                </a:cubicBezTo>
                <a:cubicBezTo>
                  <a:pt x="555" y="575"/>
                  <a:pt x="563" y="558"/>
                  <a:pt x="570" y="558"/>
                </a:cubicBezTo>
                <a:cubicBezTo>
                  <a:pt x="579" y="556"/>
                  <a:pt x="594" y="559"/>
                  <a:pt x="603" y="567"/>
                </a:cubicBezTo>
                <a:cubicBezTo>
                  <a:pt x="621" y="575"/>
                  <a:pt x="609" y="592"/>
                  <a:pt x="624" y="606"/>
                </a:cubicBezTo>
                <a:cubicBezTo>
                  <a:pt x="642" y="665"/>
                  <a:pt x="642" y="639"/>
                  <a:pt x="657" y="699"/>
                </a:cubicBezTo>
                <a:cubicBezTo>
                  <a:pt x="690" y="822"/>
                  <a:pt x="708" y="949"/>
                  <a:pt x="733" y="1067"/>
                </a:cubicBezTo>
                <a:cubicBezTo>
                  <a:pt x="745" y="1124"/>
                  <a:pt x="745" y="1183"/>
                  <a:pt x="762" y="1239"/>
                </a:cubicBezTo>
                <a:cubicBezTo>
                  <a:pt x="762" y="1284"/>
                  <a:pt x="771" y="1335"/>
                  <a:pt x="780" y="1380"/>
                </a:cubicBezTo>
                <a:cubicBezTo>
                  <a:pt x="788" y="1435"/>
                  <a:pt x="801" y="1515"/>
                  <a:pt x="825" y="1563"/>
                </a:cubicBezTo>
                <a:cubicBezTo>
                  <a:pt x="835" y="1597"/>
                  <a:pt x="834" y="1603"/>
                  <a:pt x="869" y="16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72040" y="2695680"/>
            <a:ext cx="0" cy="893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06720" y="2644920"/>
            <a:ext cx="0" cy="1137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79920" y="4133880"/>
            <a:ext cx="301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89160" y="2747880"/>
            <a:ext cx="0" cy="61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679920" y="2774880"/>
            <a:ext cx="469800" cy="1349280"/>
          </a:xfrm>
          <a:custGeom>
            <a:avLst/>
            <a:gdLst/>
            <a:ahLst/>
            <a:rect l="l" t="t" r="r" b="b"/>
            <a:pathLst>
              <a:path w="600" h="1476">
                <a:moveTo>
                  <a:pt x="0" y="1476"/>
                </a:moveTo>
                <a:cubicBezTo>
                  <a:pt x="31" y="1453"/>
                  <a:pt x="36" y="1428"/>
                  <a:pt x="54" y="1395"/>
                </a:cubicBezTo>
                <a:cubicBezTo>
                  <a:pt x="89" y="1280"/>
                  <a:pt x="116" y="1182"/>
                  <a:pt x="128" y="1062"/>
                </a:cubicBezTo>
                <a:cubicBezTo>
                  <a:pt x="130" y="952"/>
                  <a:pt x="182" y="830"/>
                  <a:pt x="186" y="720"/>
                </a:cubicBezTo>
                <a:cubicBezTo>
                  <a:pt x="190" y="613"/>
                  <a:pt x="212" y="511"/>
                  <a:pt x="229" y="406"/>
                </a:cubicBezTo>
                <a:cubicBezTo>
                  <a:pt x="242" y="328"/>
                  <a:pt x="250" y="257"/>
                  <a:pt x="276" y="183"/>
                </a:cubicBezTo>
                <a:cubicBezTo>
                  <a:pt x="282" y="165"/>
                  <a:pt x="295" y="158"/>
                  <a:pt x="306" y="144"/>
                </a:cubicBezTo>
                <a:cubicBezTo>
                  <a:pt x="369" y="64"/>
                  <a:pt x="453" y="25"/>
                  <a:pt x="553" y="14"/>
                </a:cubicBezTo>
                <a:cubicBezTo>
                  <a:pt x="589" y="4"/>
                  <a:pt x="590" y="3"/>
                  <a:pt x="6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14800" y="4876920"/>
            <a:ext cx="1066680" cy="380880"/>
            <a:chOff x="4114800" y="4876920"/>
            <a:chExt cx="1066680" cy="380880"/>
          </a:xfrm>
        </p:grpSpPr>
        <p:sp>
          <p:nvSpPr>
            <p:cNvPr id="392" name=""/>
            <p:cNvSpPr/>
            <p:nvPr/>
          </p:nvSpPr>
          <p:spPr>
            <a:xfrm>
              <a:off x="4114800" y="4876920"/>
              <a:ext cx="1066680" cy="3808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7960" y="5029200"/>
              <a:ext cx="30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92560" y="487692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251440" y="40924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_rise/fall_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36440" y="282096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943440" y="29448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38480" y="3132000"/>
            <a:ext cx="939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ff3300"/>
                </a:solidFill>
                <a:latin typeface="Arial"/>
              </a:rPr>
              <a:t>CCd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_rise/fall_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33640" y="4319640"/>
            <a:ext cx="0" cy="156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33640" y="4370400"/>
            <a:ext cx="781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19640" y="3124080"/>
            <a:ext cx="9360" cy="255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24"/>
                </a:moveTo>
                <a:cubicBezTo>
                  <a:pt x="3" y="16"/>
                  <a:pt x="8" y="0"/>
                  <a:pt x="8" y="0"/>
                </a:cubicBezTo>
                <a:cubicBezTo>
                  <a:pt x="8" y="0"/>
                  <a:pt x="3" y="16"/>
                  <a:pt x="0" y="2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0440" bIns="-10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652840"/>
            <a:ext cx="295200" cy="479160"/>
          </a:xfrm>
          <a:custGeom>
            <a:avLst/>
            <a:gdLst/>
            <a:ahLst/>
            <a:rect l="l" t="t" r="r" b="b"/>
            <a:pathLst>
              <a:path w="272" h="440">
                <a:moveTo>
                  <a:pt x="0" y="440"/>
                </a:moveTo>
                <a:cubicBezTo>
                  <a:pt x="21" y="377"/>
                  <a:pt x="59" y="327"/>
                  <a:pt x="96" y="272"/>
                </a:cubicBezTo>
                <a:cubicBezTo>
                  <a:pt x="114" y="246"/>
                  <a:pt x="128" y="204"/>
                  <a:pt x="144" y="176"/>
                </a:cubicBezTo>
                <a:cubicBezTo>
                  <a:pt x="162" y="143"/>
                  <a:pt x="187" y="111"/>
                  <a:pt x="208" y="80"/>
                </a:cubicBezTo>
                <a:cubicBezTo>
                  <a:pt x="219" y="64"/>
                  <a:pt x="224" y="43"/>
                  <a:pt x="240" y="32"/>
                </a:cubicBezTo>
                <a:cubicBezTo>
                  <a:pt x="269" y="13"/>
                  <a:pt x="260" y="25"/>
                  <a:pt x="272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02000" y="2660760"/>
            <a:ext cx="270000" cy="488880"/>
          </a:xfrm>
          <a:custGeom>
            <a:avLst/>
            <a:gdLst/>
            <a:ahLst/>
            <a:rect l="l" t="t" r="r" b="b"/>
            <a:pathLst>
              <a:path w="248" h="448">
                <a:moveTo>
                  <a:pt x="0" y="448"/>
                </a:moveTo>
                <a:cubicBezTo>
                  <a:pt x="31" y="355"/>
                  <a:pt x="74" y="266"/>
                  <a:pt x="128" y="184"/>
                </a:cubicBezTo>
                <a:cubicBezTo>
                  <a:pt x="146" y="157"/>
                  <a:pt x="151" y="114"/>
                  <a:pt x="168" y="88"/>
                </a:cubicBezTo>
                <a:cubicBezTo>
                  <a:pt x="190" y="55"/>
                  <a:pt x="220" y="28"/>
                  <a:pt x="24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09920" y="2660760"/>
            <a:ext cx="279360" cy="515880"/>
          </a:xfrm>
          <a:custGeom>
            <a:avLst/>
            <a:gdLst/>
            <a:ahLst/>
            <a:rect l="l" t="t" r="r" b="b"/>
            <a:pathLst>
              <a:path w="256" h="472">
                <a:moveTo>
                  <a:pt x="0" y="472"/>
                </a:moveTo>
                <a:cubicBezTo>
                  <a:pt x="28" y="388"/>
                  <a:pt x="65" y="311"/>
                  <a:pt x="104" y="232"/>
                </a:cubicBezTo>
                <a:cubicBezTo>
                  <a:pt x="146" y="148"/>
                  <a:pt x="188" y="68"/>
                  <a:pt x="256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09920" y="2660760"/>
            <a:ext cx="262080" cy="47124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432"/>
                </a:moveTo>
                <a:cubicBezTo>
                  <a:pt x="50" y="399"/>
                  <a:pt x="29" y="360"/>
                  <a:pt x="56" y="320"/>
                </a:cubicBezTo>
                <a:cubicBezTo>
                  <a:pt x="81" y="282"/>
                  <a:pt x="69" y="305"/>
                  <a:pt x="88" y="248"/>
                </a:cubicBezTo>
                <a:cubicBezTo>
                  <a:pt x="96" y="224"/>
                  <a:pt x="117" y="199"/>
                  <a:pt x="128" y="176"/>
                </a:cubicBezTo>
                <a:cubicBezTo>
                  <a:pt x="159" y="113"/>
                  <a:pt x="189" y="51"/>
                  <a:pt x="24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36080" y="4476600"/>
            <a:ext cx="12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-rise/fall-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19920" y="1752480"/>
            <a:ext cx="3657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esting                  Order of magn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meter for EMI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de [Dim]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t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Cpd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0....50 [pF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pd_rise/fa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0.... 25[pF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w_rise/fall_0                 0         [n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w_rise/fall_e                 0....10 [ns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w_rise/fall_peak           0,2....5[ns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t_rise/fall_Iccd =n          0,1....3[n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ccd_rise/fall_peak        0....50 [mA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ccd_rise/fall_t=m          0... .40[mA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4191120"/>
            <a:ext cx="4190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re are the main problem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Parame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cy on 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any, complicated parame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Parameter use in future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bnormal curve of Ic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ccd for core/ inputs shoud not be neg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5638680"/>
            <a:ext cx="8762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definition complicated. What do we really ne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rossbar Curren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04080" y="1905120"/>
            <a:ext cx="858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re a very big demand for IBIS-X curren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 IBIS  must be developed furth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void voluminous, individual customer spec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chnical model level classification concept inclu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practical examples could be of help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 official IBIS possibilities for  model cre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6012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Points of view for High Frequency IBIS Models</a:t>
            </a:r>
            <a:br>
              <a:rPr sz="2800"/>
            </a:br>
            <a:r>
              <a:rPr b="1" lang="en-US" sz="2000" spc="-1" strike="noStrike">
                <a:solidFill>
                  <a:srgbClr val="ffff99"/>
                </a:solidFill>
                <a:latin typeface="Arial Narrow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5334120"/>
            <a:ext cx="76197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envisage all official, state of the art IBIS possibilities for  model cre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6:29:40Z</dcterms:created>
  <dc:creator/>
  <dc:description/>
  <dc:language>en-US</dc:language>
  <cp:lastModifiedBy>bobr</cp:lastModifiedBy>
  <cp:lastPrinted>2001-03-15T06:33:40Z</cp:lastPrinted>
  <dcterms:modified xsi:type="dcterms:W3CDTF">2001-03-20T08:42:55Z</dcterms:modified>
  <cp:revision>39</cp:revision>
  <dc:subject/>
  <dc:title>Title of presentation</dc:title>
</cp:coreProperties>
</file>