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C3D-56A1-4808-8942-9E1E74ED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DA6-17A0-49D0-868F-C3464AF4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D88-AEF6-4CB1-A10D-6781FF4E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2AF-0123-42A8-9FC1-ABD0F956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8B7-1D96-4BA9-8543-B699965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3B1-D0A9-48EC-8ECF-3C1B9E35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24C-DB5D-4683-A9AD-820F7DB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B55-1449-45B3-8DBE-2F79C68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786-7845-4856-B5E3-5F761F3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454-AE3F-4416-B4F4-4F7CC319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4D1-7533-4E7A-B494-2E65E97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EE7-F3A9-4636-88C6-24E2911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287A-4126-4A2F-BBB2-8C0BF6AD3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Future Activiti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31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ens Specific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hecking and Development and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Receiver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and Ad Hoc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Standard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3.2 August 1999 - ANSI/EIA-656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 Version 3.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2014-1 (IBIS Ver 3.2) - ratified, awaiting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Users Group released Connector Specification and still has draft Accuracy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ibis3 activity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ities 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pub/ibis/connecto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for IBIS Version 4.0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C Influence - Early IBIS Version 4.0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-X and othe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uropean TC93 WG6 EMC/EMI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IAJ IM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JEDE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nector Featur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onnector Specification - some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ine and Multi-lin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h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 model autogeneration for a give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d, unmated variations, multiple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review being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fy Version 1.0 mid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connector parse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Ver 4.0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62 - Receiver Thres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other pending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 - Dr. Unger’s proposal will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JEDEC requests to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comp range limit for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 coupling at the pad to pi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- Ratify by Mid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ibischk4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bischk3 bug 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-X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ports for nodal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features of IBIS, but not directly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xxx” for internal die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roup meeting March 30 or 31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- unify the ideas and initiate a draft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lusion &amp; Discus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-X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3-21T00:33:38Z</cp:lastPrinted>
  <dcterms:modified xsi:type="dcterms:W3CDTF">2000-03-21T00:38:27Z</dcterms:modified>
  <cp:revision>121</cp:revision>
  <dc:subject/>
  <dc:title>IBIS ACCURACY</dc:title>
</cp:coreProperties>
</file>