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7E0-AD89-452B-BAC4-CEC63E00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51A-393C-423D-BEA8-43AE53E6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5FA-7E22-4F2F-BBDE-D165C47D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624-F325-4432-B46E-A75EFC76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B8B-64AE-467C-A3F3-16ED27E6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890-A47B-442B-9345-A388FB28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31D-9895-45EB-A6D8-3BF1F24E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F9D-A71B-4ED1-A204-2CD2CE07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A40-962E-414D-96C4-2C299850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25D-E924-460D-A39F-A3830644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CE3-C179-4F31-832C-D2CF83B0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B20-4968-446A-AE5C-088241F1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/03/2000Par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UROPEAN  IBIS SUBMIT MEE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4795-B44B-4D72-8FD9-6D7F796B1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C93WG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MC /EMI IC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NDARDIZATION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93WG6 EMC /EMI IC MODEL STANDARDIZA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20968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CORE POWER SUPP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PERIPHERAL (I/O) POWER SUPP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CLOCK SIGNALS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PACKA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3716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 BLOCS IDEN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93WG6 EMC /EMI IC MODEL STANDARDIZA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1676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2286000"/>
            <a:ext cx="5638680" cy="320040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2590920"/>
            <a:ext cx="4800600" cy="2666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2895480"/>
            <a:ext cx="3886200" cy="1981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276720"/>
            <a:ext cx="2666880" cy="1295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486400" y="159984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45720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419720" y="1676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52578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91520" y="3048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4800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/O..P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01000" y="3581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12193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dd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d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121932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ddP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dP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5715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ssP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5715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s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3244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93WG6 EMC /EMI IC MODEL STANDARDIZA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447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C IBIS FILE DESCRI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2362320"/>
            <a:ext cx="8839080" cy="35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Core Current]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antaneous current consumptio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Pad Current]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antaneous current consum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Die Size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Width and length of the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Clock Frequency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ock frequencies of the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Pad Clock]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pads connected to one of the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93WG6 EMC /EMI IC MODEL STANDARDIZA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52480" y="1219320"/>
            <a:ext cx="6172200" cy="520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 supply current tran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182880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2209680"/>
            <a:ext cx="2438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24382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91520" y="205740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286000" y="243828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810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 force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26668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3124080"/>
            <a:ext cx="16002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342900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285640" y="342900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91520" y="31240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30481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 fo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00600" y="35812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5680" y="41148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24280" y="45720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441972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42670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209680" y="441972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510552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24280" y="548640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91120" y="57150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601992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15200" y="5791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285640" y="6019920"/>
            <a:ext cx="1981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571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44197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510552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10080" y="5105520"/>
            <a:ext cx="1524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44197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93WG6 EMC /EMI IC MODEL STANDARDIZA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514600"/>
            <a:ext cx="81532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rate working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New NP IEC proposal incl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C IBIS specific file descrip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echnical report of on chip model vali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13716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ON PLAN FOR STANDARD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93WG6 EMC /EMI IC MODEL STANDARDIZA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simu" descr=""/>
          <p:cNvPicPr/>
          <p:nvPr/>
        </p:nvPicPr>
        <p:blipFill>
          <a:blip r:embed="rId1"/>
          <a:stretch/>
        </p:blipFill>
        <p:spPr>
          <a:xfrm>
            <a:off x="0" y="1676520"/>
            <a:ext cx="91346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93WG6 EMC /EMI IC MODEL STANDARDIZA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2514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121932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MC IBIS files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MEANS TO RE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Generate Model in existing software for PCB sim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Verify data are enough to create  model taking into account EMC phenom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efine what to sim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RUN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mpare results to what to sim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324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93WG6 EMC/EMI  IC MODEL STANDARDIZA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of E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 needs and model lim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C source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force stat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EMI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IS upgrade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lid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93WG6 EMC /EMI IC MODEL STANDARDIZATION REPOR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TEGRATED CIRCUITS AND EMC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of complexity and system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er switching and clock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of digit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dies increase logic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comply new directives/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s contribution to system EMC perform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93WG6 EMC /EMI IC MODEL STANDARDIZA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2952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ATION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09680"/>
            <a:ext cx="853416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s  MANUFACTUR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into account CEM constraint in Ics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e ICS EMC behavior and con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 PCB MANUFACTUR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y the EMC requirement for FTI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e EMC phenomena on P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93WG6 EMC /EMI IC MODEL STANDARDIZATION REPOR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EMC  TASK FORCE KEY 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663300"/>
                </a:solidFill>
                <a:latin typeface="Arial"/>
              </a:rPr>
              <a:t>                                             </a:t>
            </a:r>
            <a:r>
              <a:rPr b="1" lang="fr-FR" sz="2600" spc="-1" strike="noStrike">
                <a:solidFill>
                  <a:srgbClr val="663300"/>
                </a:solidFill>
                <a:latin typeface="Arial"/>
              </a:rPr>
              <a:t>94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663300"/>
                </a:solidFill>
                <a:latin typeface="Arial"/>
              </a:rPr>
              <a:t>           </a:t>
            </a:r>
            <a:r>
              <a:rPr b="1" lang="fr-FR" sz="2600" spc="-1" strike="noStrike">
                <a:solidFill>
                  <a:srgbClr val="663300"/>
                </a:solidFill>
                <a:latin typeface="Arial"/>
              </a:rPr>
              <a:t>WORKING GROUP: UTE/CEF 93GT5 EM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66ff"/>
                </a:solidFill>
                <a:latin typeface="Arial"/>
              </a:rPr>
              <a:t>                                             </a:t>
            </a:r>
            <a:r>
              <a:rPr b="1" lang="fr-FR" sz="2600" spc="-1" strike="noStrike">
                <a:solidFill>
                  <a:srgbClr val="0066ff"/>
                </a:solidFill>
                <a:latin typeface="Arial"/>
              </a:rPr>
              <a:t>9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66ff"/>
                </a:solidFill>
                <a:latin typeface="Arial"/>
              </a:rPr>
              <a:t>                          </a:t>
            </a:r>
            <a:r>
              <a:rPr b="1" lang="fr-FR" sz="2600" spc="-1" strike="noStrike">
                <a:solidFill>
                  <a:srgbClr val="0066ff"/>
                </a:solidFill>
                <a:latin typeface="Arial"/>
              </a:rPr>
              <a:t>IEC 93/67 NP, juin 9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8000"/>
                </a:solidFill>
                <a:latin typeface="Arial"/>
              </a:rPr>
              <a:t>                                             </a:t>
            </a:r>
            <a:r>
              <a:rPr b="1" lang="fr-FR" sz="2600" spc="-1" strike="noStrike">
                <a:solidFill>
                  <a:srgbClr val="008000"/>
                </a:solidFill>
                <a:latin typeface="Arial"/>
              </a:rPr>
              <a:t>9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8000"/>
                </a:solidFill>
                <a:latin typeface="Arial"/>
              </a:rPr>
              <a:t>            </a:t>
            </a:r>
            <a:r>
              <a:rPr b="1" lang="fr-FR" sz="2600" spc="-1" strike="noStrike">
                <a:solidFill>
                  <a:srgbClr val="008000"/>
                </a:solidFill>
                <a:latin typeface="Arial"/>
              </a:rPr>
              <a:t>DATE 98 / INTERNATIONAL TASK FOR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3300"/>
                </a:solidFill>
                <a:latin typeface="Arial"/>
              </a:rPr>
              <a:t>                                           </a:t>
            </a:r>
            <a:r>
              <a:rPr b="1" lang="fr-FR" sz="2600" spc="-1" strike="noStrike">
                <a:solidFill>
                  <a:srgbClr val="ff3300"/>
                </a:solidFill>
                <a:latin typeface="Arial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ff3300"/>
                </a:solidFill>
                <a:latin typeface="Arial"/>
              </a:rPr>
              <a:t>DATE 2000/IEC INTERNATIONAL  EXPERTS MEE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93WG6 EMC /EMI IC MODEL STANDARDIZA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447920"/>
            <a:ext cx="937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MODEL LIMI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NG TO EMC SIM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743200"/>
            <a:ext cx="822960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es not take into ac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I/O noise due to internal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Current fast transition trough power suppl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 Direct Electromagnetic emission from 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93WG6 EMC /EMI IC MODEL STANDARDIZA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219320"/>
            <a:ext cx="8000640" cy="4952520"/>
            <a:chOff x="457200" y="1219320"/>
            <a:chExt cx="8000640" cy="4952520"/>
          </a:xfrm>
        </p:grpSpPr>
        <p:sp>
          <p:nvSpPr>
            <p:cNvPr id="60" name=""/>
            <p:cNvSpPr/>
            <p:nvPr/>
          </p:nvSpPr>
          <p:spPr>
            <a:xfrm>
              <a:off x="4020840" y="3491280"/>
              <a:ext cx="21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20840" y="3566520"/>
              <a:ext cx="21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20840" y="3645000"/>
              <a:ext cx="21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20840" y="3723120"/>
              <a:ext cx="21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20840" y="3798360"/>
              <a:ext cx="21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1219320"/>
              <a:ext cx="3472920" cy="4180320"/>
            </a:xfrm>
            <a:prstGeom prst="rect">
              <a:avLst/>
            </a:prstGeom>
            <a:solidFill>
              <a:srgbClr val="dadada"/>
            </a:solidFill>
            <a:ln w="25560">
              <a:solidFill>
                <a:srgbClr val="919191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50560" y="3295080"/>
              <a:ext cx="140760" cy="772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97080" y="2310840"/>
              <a:ext cx="1564560" cy="10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099160" y="3957840"/>
              <a:ext cx="1612800" cy="67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07280" y="2324520"/>
              <a:ext cx="85284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du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i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53640" y="3658680"/>
              <a:ext cx="945360" cy="0"/>
            </a:xfrm>
            <a:prstGeom prst="line">
              <a:avLst/>
            </a:prstGeom>
            <a:ln w="127080">
              <a:solidFill>
                <a:srgbClr val="9191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29080" y="3873600"/>
              <a:ext cx="15674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9080" bIns="19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mmon mode curr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02040" y="5043600"/>
              <a:ext cx="1411560" cy="27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ernal groun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9000" y="5505840"/>
              <a:ext cx="2161080" cy="27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External  groun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739480" y="3967920"/>
              <a:ext cx="1674720" cy="1424880"/>
              <a:chOff x="5739480" y="3967920"/>
              <a:chExt cx="1674720" cy="1424880"/>
            </a:xfrm>
          </p:grpSpPr>
          <p:sp>
            <p:nvSpPr>
              <p:cNvPr id="75" name=""/>
              <p:cNvSpPr/>
              <p:nvPr/>
            </p:nvSpPr>
            <p:spPr>
              <a:xfrm>
                <a:off x="5739480" y="4002480"/>
                <a:ext cx="1674360" cy="139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924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92403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5400000">
                <a:off x="5882040" y="3825360"/>
                <a:ext cx="1389600" cy="167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3102480" y="4576680"/>
              <a:ext cx="412920" cy="347760"/>
              <a:chOff x="3102480" y="4576680"/>
              <a:chExt cx="412920" cy="347760"/>
            </a:xfrm>
          </p:grpSpPr>
          <p:sp>
            <p:nvSpPr>
              <p:cNvPr id="78" name=""/>
              <p:cNvSpPr/>
              <p:nvPr/>
            </p:nvSpPr>
            <p:spPr>
              <a:xfrm>
                <a:off x="3103560" y="4581360"/>
                <a:ext cx="410040" cy="34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691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6916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5400000">
                <a:off x="3138840" y="4540320"/>
                <a:ext cx="340200" cy="41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691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6916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93640" y="5889600"/>
              <a:ext cx="7864200" cy="282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795600" y="4305240"/>
              <a:ext cx="1233000" cy="638640"/>
              <a:chOff x="795600" y="4305240"/>
              <a:chExt cx="1233000" cy="638640"/>
            </a:xfrm>
          </p:grpSpPr>
          <p:sp>
            <p:nvSpPr>
              <p:cNvPr id="82" name=""/>
              <p:cNvSpPr/>
              <p:nvPr/>
            </p:nvSpPr>
            <p:spPr>
              <a:xfrm>
                <a:off x="795600" y="4305240"/>
                <a:ext cx="1233000" cy="638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27360" y="4404960"/>
                <a:ext cx="968760" cy="43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19080" bIns="19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ower suppl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ta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952920" y="1779480"/>
              <a:ext cx="827280" cy="672840"/>
              <a:chOff x="952920" y="1779480"/>
              <a:chExt cx="827280" cy="672840"/>
            </a:xfrm>
          </p:grpSpPr>
          <p:sp>
            <p:nvSpPr>
              <p:cNvPr id="85" name=""/>
              <p:cNvSpPr/>
              <p:nvPr/>
            </p:nvSpPr>
            <p:spPr>
              <a:xfrm>
                <a:off x="952920" y="1897560"/>
                <a:ext cx="668520" cy="55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809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80954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039680" y="1848600"/>
                <a:ext cx="664560" cy="55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0" y="0"/>
                    </a:moveTo>
                    <a:arcTo wR="10800" hR="10800" stAng="-5418993" swAng="53998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0" y="0"/>
                    </a:moveTo>
                    <a:arcTo wR="10800" hR="10800" stAng="-5418993" swAng="5399894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12040" y="1779480"/>
                <a:ext cx="668160" cy="55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761840" y="1676520"/>
              <a:ext cx="98532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Cs radi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i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92880" y="2772720"/>
              <a:ext cx="232920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common mode nois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2720" y="1318680"/>
              <a:ext cx="259740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differential mode nois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75600" y="2467440"/>
              <a:ext cx="347400" cy="1117440"/>
            </a:xfrm>
            <a:custGeom>
              <a:avLst/>
              <a:gdLst/>
              <a:ahLst/>
              <a:rect l="l" t="t" r="r" b="b"/>
              <a:pathLst>
                <a:path w="188" h="728">
                  <a:moveTo>
                    <a:pt x="0" y="0"/>
                  </a:moveTo>
                  <a:lnTo>
                    <a:pt x="187" y="0"/>
                  </a:lnTo>
                  <a:lnTo>
                    <a:pt x="187" y="727"/>
                  </a:lnTo>
                  <a:lnTo>
                    <a:pt x="7" y="727"/>
                  </a:lnTo>
                  <a:lnTo>
                    <a:pt x="7" y="7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43200" y="2837160"/>
              <a:ext cx="0" cy="57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750960" y="2190960"/>
              <a:ext cx="1112760" cy="638280"/>
              <a:chOff x="750960" y="2190960"/>
              <a:chExt cx="1112760" cy="638280"/>
            </a:xfrm>
          </p:grpSpPr>
          <p:sp>
            <p:nvSpPr>
              <p:cNvPr id="94" name=""/>
              <p:cNvSpPr/>
              <p:nvPr/>
            </p:nvSpPr>
            <p:spPr>
              <a:xfrm>
                <a:off x="750960" y="2190960"/>
                <a:ext cx="1112760" cy="63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36720" y="2287440"/>
                <a:ext cx="744480" cy="43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19080" bIns="19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Integrat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Circui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1002960" y="2857320"/>
              <a:ext cx="105696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op radi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i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74640" y="2616120"/>
              <a:ext cx="827280" cy="671400"/>
              <a:chOff x="1574640" y="2616120"/>
              <a:chExt cx="827280" cy="671400"/>
            </a:xfrm>
          </p:grpSpPr>
          <p:sp>
            <p:nvSpPr>
              <p:cNvPr id="98" name=""/>
              <p:cNvSpPr/>
              <p:nvPr/>
            </p:nvSpPr>
            <p:spPr>
              <a:xfrm>
                <a:off x="1574640" y="2732760"/>
                <a:ext cx="668160" cy="55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57080" y="2683440"/>
                <a:ext cx="668880" cy="55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0" y="0"/>
                    </a:moveTo>
                    <a:arcTo wR="10800" hR="10800" stAng="-5419046" swAng="5419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0" y="0"/>
                    </a:moveTo>
                    <a:arcTo wR="10800" hR="10800" stAng="-5419046" swAng="5419046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732680" y="2616120"/>
                <a:ext cx="669240" cy="55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809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80954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64080" y="3726360"/>
              <a:ext cx="1847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50960" y="3386880"/>
              <a:ext cx="1112760" cy="638640"/>
              <a:chOff x="750960" y="3386880"/>
              <a:chExt cx="1112760" cy="638640"/>
            </a:xfrm>
          </p:grpSpPr>
          <p:sp>
            <p:nvSpPr>
              <p:cNvPr id="103" name=""/>
              <p:cNvSpPr/>
              <p:nvPr/>
            </p:nvSpPr>
            <p:spPr>
              <a:xfrm>
                <a:off x="750960" y="3386880"/>
                <a:ext cx="1112760" cy="638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36720" y="3481920"/>
                <a:ext cx="744480" cy="43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19080" bIns="19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Integrat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Circui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293560" y="3787560"/>
              <a:ext cx="85284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du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i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029200" y="2133720"/>
            <a:ext cx="274320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mi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93WG EMC /EMI IC MODEL STANDARDIZA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1218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3520" y="1295280"/>
            <a:ext cx="8076600" cy="4724280"/>
            <a:chOff x="533520" y="1295280"/>
            <a:chExt cx="8076600" cy="4724280"/>
          </a:xfrm>
        </p:grpSpPr>
        <p:sp>
          <p:nvSpPr>
            <p:cNvPr id="110" name=""/>
            <p:cNvSpPr/>
            <p:nvPr/>
          </p:nvSpPr>
          <p:spPr>
            <a:xfrm>
              <a:off x="4131000" y="3462480"/>
              <a:ext cx="21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31000" y="3534480"/>
              <a:ext cx="21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31000" y="3609000"/>
              <a:ext cx="21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31000" y="3683880"/>
              <a:ext cx="21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31000" y="3755520"/>
              <a:ext cx="21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1295280"/>
              <a:ext cx="3506040" cy="3987720"/>
            </a:xfrm>
            <a:prstGeom prst="rect">
              <a:avLst/>
            </a:prstGeom>
            <a:solidFill>
              <a:srgbClr val="dadada"/>
            </a:solidFill>
            <a:ln w="25560">
              <a:solidFill>
                <a:srgbClr val="919191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59280" y="3275280"/>
              <a:ext cx="14220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9960" y="2336400"/>
              <a:ext cx="1579680" cy="9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190960" y="3907800"/>
              <a:ext cx="1628280" cy="6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11320" y="2349720"/>
              <a:ext cx="85284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du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i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517640" y="3622320"/>
              <a:ext cx="1252800" cy="0"/>
            </a:xfrm>
            <a:prstGeom prst="line">
              <a:avLst/>
            </a:prstGeom>
            <a:ln w="127080">
              <a:solidFill>
                <a:srgbClr val="9191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43920" y="3826080"/>
              <a:ext cx="15674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9080" bIns="19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mmon mode curr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93480" y="4943160"/>
              <a:ext cx="1390320" cy="27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ernal groun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29840" y="5403240"/>
              <a:ext cx="1410120" cy="27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external groun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1400" y="5750280"/>
              <a:ext cx="7938720" cy="269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75160" y="4239000"/>
              <a:ext cx="1244520" cy="609120"/>
              <a:chOff x="875160" y="4239000"/>
              <a:chExt cx="1244520" cy="609120"/>
            </a:xfrm>
          </p:grpSpPr>
          <p:sp>
            <p:nvSpPr>
              <p:cNvPr id="126" name=""/>
              <p:cNvSpPr/>
              <p:nvPr/>
            </p:nvSpPr>
            <p:spPr>
              <a:xfrm>
                <a:off x="875160" y="4239000"/>
                <a:ext cx="1244520" cy="609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13040" y="4334040"/>
                <a:ext cx="968760" cy="43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19080" bIns="19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ower suppl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ta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927360" y="1438920"/>
              <a:ext cx="833400" cy="640800"/>
              <a:chOff x="927360" y="1438920"/>
              <a:chExt cx="833400" cy="640800"/>
            </a:xfrm>
          </p:grpSpPr>
          <p:sp>
            <p:nvSpPr>
              <p:cNvPr id="129" name=""/>
              <p:cNvSpPr/>
              <p:nvPr/>
            </p:nvSpPr>
            <p:spPr>
              <a:xfrm rot="10800000">
                <a:off x="1089720" y="1438920"/>
                <a:ext cx="671040" cy="52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0" y="0"/>
                    </a:moveTo>
                    <a:arcTo wR="10800" hR="10800" stAng="-5418993" swAng="53998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0" y="0"/>
                    </a:moveTo>
                    <a:arcTo wR="10800" hR="10800" stAng="-5418993" swAng="5399894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0800000">
                <a:off x="1005480" y="1485720"/>
                <a:ext cx="675000" cy="52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809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80954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0800000">
                <a:off x="927360" y="1550160"/>
                <a:ext cx="674640" cy="52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1752120" y="1732680"/>
              <a:ext cx="118656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diated noi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n IC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65240" y="2485800"/>
              <a:ext cx="351000" cy="1065960"/>
            </a:xfrm>
            <a:custGeom>
              <a:avLst/>
              <a:gdLst/>
              <a:ahLst/>
              <a:rect l="l" t="t" r="r" b="b"/>
              <a:pathLst>
                <a:path w="188" h="728">
                  <a:moveTo>
                    <a:pt x="0" y="0"/>
                  </a:moveTo>
                  <a:lnTo>
                    <a:pt x="187" y="0"/>
                  </a:lnTo>
                  <a:lnTo>
                    <a:pt x="187" y="727"/>
                  </a:lnTo>
                  <a:lnTo>
                    <a:pt x="7" y="727"/>
                  </a:lnTo>
                  <a:lnTo>
                    <a:pt x="7" y="7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830160" y="2221920"/>
              <a:ext cx="1123200" cy="609120"/>
              <a:chOff x="830160" y="2221920"/>
              <a:chExt cx="1123200" cy="609120"/>
            </a:xfrm>
          </p:grpSpPr>
          <p:sp>
            <p:nvSpPr>
              <p:cNvPr id="135" name=""/>
              <p:cNvSpPr/>
              <p:nvPr/>
            </p:nvSpPr>
            <p:spPr>
              <a:xfrm>
                <a:off x="830160" y="2221920"/>
                <a:ext cx="1123200" cy="609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21320" y="2314080"/>
                <a:ext cx="744480" cy="43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19080" bIns="19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Integrat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Circui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837360" y="2856240"/>
              <a:ext cx="123084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diated nois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n PCB li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200320" y="2667960"/>
              <a:ext cx="835560" cy="641880"/>
              <a:chOff x="2200320" y="2667960"/>
              <a:chExt cx="835560" cy="641880"/>
            </a:xfrm>
          </p:grpSpPr>
          <p:sp>
            <p:nvSpPr>
              <p:cNvPr id="139" name=""/>
              <p:cNvSpPr/>
              <p:nvPr/>
            </p:nvSpPr>
            <p:spPr>
              <a:xfrm rot="10800000">
                <a:off x="2361240" y="2667960"/>
                <a:ext cx="674640" cy="52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0800000">
                <a:off x="2276640" y="2714760"/>
                <a:ext cx="674640" cy="52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0" y="0"/>
                    </a:moveTo>
                    <a:arcTo wR="10800" hR="10800" stAng="-5419046" swAng="5419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0" y="0"/>
                    </a:moveTo>
                    <a:arcTo wR="10800" hR="10800" stAng="-5419046" swAng="5419046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0800000">
                <a:off x="2200320" y="2780280"/>
                <a:ext cx="675360" cy="52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953720" y="3686760"/>
              <a:ext cx="186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830160" y="3363120"/>
              <a:ext cx="1123200" cy="609120"/>
              <a:chOff x="830160" y="3363120"/>
              <a:chExt cx="1123200" cy="609120"/>
            </a:xfrm>
          </p:grpSpPr>
          <p:sp>
            <p:nvSpPr>
              <p:cNvPr id="144" name=""/>
              <p:cNvSpPr/>
              <p:nvPr/>
            </p:nvSpPr>
            <p:spPr>
              <a:xfrm>
                <a:off x="830160" y="3363120"/>
                <a:ext cx="1123200" cy="609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21320" y="3455280"/>
                <a:ext cx="744480" cy="43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38160" tIns="19080" bIns="19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Integrat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Circui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389320" y="3745440"/>
              <a:ext cx="85284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8440" bIns="28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du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i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618800" y="4473360"/>
              <a:ext cx="837000" cy="640800"/>
              <a:chOff x="4618800" y="4473360"/>
              <a:chExt cx="837000" cy="640800"/>
            </a:xfrm>
          </p:grpSpPr>
          <p:sp>
            <p:nvSpPr>
              <p:cNvPr id="148" name=""/>
              <p:cNvSpPr/>
              <p:nvPr/>
            </p:nvSpPr>
            <p:spPr>
              <a:xfrm>
                <a:off x="4618800" y="4584600"/>
                <a:ext cx="674640" cy="52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02680" y="4537440"/>
                <a:ext cx="674640" cy="52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84760" y="4473360"/>
                <a:ext cx="671040" cy="52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0" y="0"/>
                    </a:moveTo>
                    <a:arcTo wR="10800" hR="10800" stAng="-5418993" swAng="53998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0" y="0"/>
                    </a:moveTo>
                    <a:arcTo wR="10800" hR="10800" stAng="-5418993" swAng="5399894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5685480" y="4372200"/>
              <a:ext cx="75960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E , 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56120" y="1482480"/>
              <a:ext cx="59040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 , 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37280" y="2828520"/>
              <a:ext cx="59040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 , 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419720" y="1600200"/>
            <a:ext cx="44956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SCEPTI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93WG6 EMC /EMI IC MODEL STANDARDIZA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dels of integrated circuits for EMI behavioral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1600200"/>
            <a:ext cx="8494560" cy="4301280"/>
            <a:chOff x="380880" y="1600200"/>
            <a:chExt cx="8494560" cy="4301280"/>
          </a:xfrm>
        </p:grpSpPr>
        <p:sp>
          <p:nvSpPr>
            <p:cNvPr id="158" name=""/>
            <p:cNvSpPr/>
            <p:nvPr/>
          </p:nvSpPr>
          <p:spPr>
            <a:xfrm>
              <a:off x="5224320" y="1697040"/>
              <a:ext cx="3651120" cy="32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600" rIns="84600" tIns="42120" bIns="42120" anchor="t">
              <a:spAutoFit/>
            </a:bodyPr>
            <a:p>
              <a:pPr algn="just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Symbol" charset="2"/>
                <a:buChar char="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: impedance and current of the equivalent noise generator across the power supply (Vdd /V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30000"/>
                </a:lnSpc>
                <a:spcBef>
                  <a:spcPts val="550"/>
                </a:spcBef>
                <a:buClr>
                  <a:srgbClr val="000000"/>
                </a:buClr>
                <a:buFont typeface="Symbol" charset="2"/>
                <a:buChar char="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Symbol" charset="2"/>
                <a:buChar char="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: Equivalent noise    generator/antenna responsible for external hf noise emissio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Symbol" charset="2"/>
                <a:buChar char=""/>
                <a:tabLst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x(F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: Transfer function between internal generator and other inputs/oupout p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80880" y="1600200"/>
              <a:ext cx="4859280" cy="4301280"/>
              <a:chOff x="380880" y="1600200"/>
              <a:chExt cx="4859280" cy="4301280"/>
            </a:xfrm>
          </p:grpSpPr>
          <p:sp>
            <p:nvSpPr>
              <p:cNvPr id="160" name=""/>
              <p:cNvSpPr/>
              <p:nvPr/>
            </p:nvSpPr>
            <p:spPr>
              <a:xfrm>
                <a:off x="2235240" y="2759040"/>
                <a:ext cx="2314800" cy="2363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29200" y="3078360"/>
                <a:ext cx="353880" cy="1381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117680" y="2925000"/>
                <a:ext cx="355320" cy="3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17680" y="3549240"/>
                <a:ext cx="355320" cy="3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117680" y="4211280"/>
                <a:ext cx="355320" cy="27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117680" y="4798800"/>
                <a:ext cx="355320" cy="3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3583080" y="3135960"/>
                <a:ext cx="53460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583080" y="3549240"/>
                <a:ext cx="53460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583080" y="3903120"/>
                <a:ext cx="534600" cy="46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83080" y="4177080"/>
                <a:ext cx="53460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473360" y="3078360"/>
                <a:ext cx="9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73360" y="3706560"/>
                <a:ext cx="9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73360" y="4328280"/>
                <a:ext cx="9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473360" y="4956480"/>
                <a:ext cx="9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94240" y="3549240"/>
                <a:ext cx="176040" cy="459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2783160" y="2767320"/>
                <a:ext cx="0" cy="76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94240" y="3863880"/>
                <a:ext cx="176040" cy="46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783160" y="4211280"/>
                <a:ext cx="0" cy="9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26400" y="3549240"/>
                <a:ext cx="178920" cy="91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514960" y="3393360"/>
                <a:ext cx="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83160" y="4485600"/>
                <a:ext cx="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14960" y="3393360"/>
                <a:ext cx="26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14960" y="4485600"/>
                <a:ext cx="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14960" y="4642920"/>
                <a:ext cx="26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2694240" y="3706560"/>
                <a:ext cx="266400" cy="61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961000" y="4328280"/>
                <a:ext cx="26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405240" y="2298600"/>
                <a:ext cx="0" cy="76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05240" y="2298960"/>
                <a:ext cx="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94240" y="2612160"/>
                <a:ext cx="176040" cy="15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94240" y="5131080"/>
                <a:ext cx="176040" cy="15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63720" y="2925000"/>
                <a:ext cx="88920" cy="3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563720" y="3549240"/>
                <a:ext cx="88920" cy="3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63720" y="4177080"/>
                <a:ext cx="889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3720" y="4798800"/>
                <a:ext cx="88920" cy="3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783160" y="2298600"/>
                <a:ext cx="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783160" y="5286240"/>
                <a:ext cx="0" cy="30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558360" y="2298960"/>
                <a:ext cx="222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469800" y="5737680"/>
                <a:ext cx="231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090080" y="2298960"/>
                <a:ext cx="0" cy="153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14040" y="3706560"/>
                <a:ext cx="356400" cy="92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090080" y="4642920"/>
                <a:ext cx="0" cy="10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04400" y="4177080"/>
                <a:ext cx="17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04400" y="4328280"/>
                <a:ext cx="17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0880" y="5577840"/>
                <a:ext cx="177480" cy="30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80880" y="2143800"/>
                <a:ext cx="177480" cy="30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154760" y="2966040"/>
                <a:ext cx="33912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Times New Roman"/>
                  </a:rPr>
                  <a:t>H1(F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154760" y="3587760"/>
                <a:ext cx="361080" cy="28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Times New Roman"/>
                  </a:rPr>
                  <a:t>H2(F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154760" y="4209480"/>
                <a:ext cx="33912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Times New Roman"/>
                  </a:rPr>
                  <a:t>H3(F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83160" y="5593320"/>
                <a:ext cx="0" cy="15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600" rIns="216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54760" y="4831200"/>
                <a:ext cx="33912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1" lang="fr-FR" sz="900" spc="-1" strike="noStrike">
                    <a:solidFill>
                      <a:srgbClr val="000000"/>
                    </a:solidFill>
                    <a:latin typeface="Times New Roman"/>
                  </a:rPr>
                  <a:t>H4(F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94480" y="2966040"/>
                <a:ext cx="33912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/O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94480" y="4209480"/>
                <a:ext cx="44568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/O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794480" y="4831200"/>
                <a:ext cx="410040" cy="47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/O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30280" y="3587760"/>
                <a:ext cx="285840" cy="76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1" lang="fr-FR" sz="11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fr-FR" sz="1100" spc="-1" strike="noStrike">
                    <a:solidFill>
                      <a:srgbClr val="000000"/>
                    </a:solidFill>
                    <a:latin typeface="Times New Roman"/>
                  </a:rPr>
                  <a:t>S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870640" y="3596760"/>
                <a:ext cx="358200" cy="46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1" lang="fr-FR" sz="1100" spc="-1" strike="noStrike">
                    <a:solidFill>
                      <a:srgbClr val="000000"/>
                    </a:solidFill>
                    <a:latin typeface="Times New Roman"/>
                  </a:rPr>
                  <a:t>I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48560" y="3136320"/>
                <a:ext cx="356400" cy="76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1" lang="fr-FR" sz="1100" spc="-1" strike="noStrike">
                    <a:solidFill>
                      <a:srgbClr val="000000"/>
                    </a:solidFill>
                    <a:latin typeface="Times New Roman"/>
                  </a:rPr>
                  <a:t>Z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04400" y="1600200"/>
                <a:ext cx="1243800" cy="46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900" spc="-1" strike="noStrike">
                    <a:solidFill>
                      <a:srgbClr val="000000"/>
                    </a:solidFill>
                    <a:latin typeface="Times New Roman"/>
                  </a:rPr>
                  <a:t>ZVd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0440" y="4671360"/>
                <a:ext cx="623520" cy="45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Times New Roman"/>
                  </a:rPr>
                  <a:t>Z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229200" y="5286240"/>
                <a:ext cx="888480" cy="61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1" lang="fr-FR" sz="1100" spc="-1" strike="noStrike">
                    <a:solidFill>
                      <a:srgbClr val="000000"/>
                    </a:solidFill>
                    <a:latin typeface="Times New Roman"/>
                  </a:rPr>
                  <a:t>composan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229200" y="4520160"/>
                <a:ext cx="353880" cy="45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229200" y="1755360"/>
                <a:ext cx="53280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1" lang="fr-FR" sz="1100" spc="-1" strike="noStrike">
                    <a:solidFill>
                      <a:srgbClr val="000000"/>
                    </a:solidFill>
                    <a:latin typeface="Times New Roman"/>
                  </a:rPr>
                  <a:t>G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94480" y="3587760"/>
                <a:ext cx="41004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1960" rIns="21960" tIns="10800" bIns="10800" anchor="t">
                <a:noAutofit/>
              </a:bodyPr>
              <a:p>
                <a:pPr>
                  <a:tabLst>
                    <a:tab algn="l" pos="0"/>
                    <a:tab algn="l" pos="844560"/>
                    <a:tab algn="l" pos="1689120"/>
                    <a:tab algn="l" pos="2533680"/>
                    <a:tab algn="l" pos="3378240"/>
                    <a:tab algn="l" pos="4222800"/>
                    <a:tab algn="l" pos="5067360"/>
                    <a:tab algn="l" pos="5911920"/>
                    <a:tab algn="l" pos="6756480"/>
                    <a:tab algn="l" pos="7601040"/>
                    <a:tab algn="l" pos="8445600"/>
                    <a:tab algn="l" pos="9290160"/>
                    <a:tab algn="l" pos="1013472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/O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0" y="6248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3:35:19Z</dcterms:created>
  <dc:creator>Texas Instruments France</dc:creator>
  <dc:description/>
  <dc:language>en-US</dc:language>
  <cp:lastModifiedBy>Texas Instruments France</cp:lastModifiedBy>
  <cp:lastPrinted>2000-03-28T15:27:32Z</cp:lastPrinted>
  <dcterms:modified xsi:type="dcterms:W3CDTF">2000-03-31T05:28:55Z</dcterms:modified>
  <cp:revision>148</cp:revision>
  <dc:subject/>
  <dc:title>TC93WG6 EMC TASK FORCE</dc:title>
</cp:coreProperties>
</file>