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B32-A84B-4863-8083-69B3FDF8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4B5-E839-44C9-A4A3-09A9A917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5CA-A2D2-4456-8352-97C4007E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973-9486-4BA8-B6EB-5CDC404E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5A8-E10D-4DF3-9F6B-D9EABB62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C74-F76A-4D1F-9F0B-33E48381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C26-3DD6-4C2A-B711-920C0E4C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2DE-F3B1-4CE8-A1C7-83EA359C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35A-C3AD-455C-BE0B-C30D047E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79A-4AE7-4B9D-AABB-9B1B274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084-33FF-4ABD-A3BF-4B9F74F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362-AFB0-414C-ADAF-B97B052E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/03/2000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UROPEAN  IBIS SUBMIT MEE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77DB-4951-4163-9DCA-BBD6CB3D4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CTRIC FIELD RADIATED BY AN I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MEN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eas1" descr=""/>
          <p:cNvPicPr/>
          <p:nvPr/>
        </p:nvPicPr>
        <p:blipFill>
          <a:blip r:embed="rId1"/>
          <a:stretch/>
        </p:blipFill>
        <p:spPr>
          <a:xfrm>
            <a:off x="361800" y="2066760"/>
            <a:ext cx="3962520" cy="3124440"/>
          </a:xfrm>
          <a:prstGeom prst="rect">
            <a:avLst/>
          </a:prstGeom>
          <a:ln w="0">
            <a:noFill/>
          </a:ln>
        </p:spPr>
      </p:pic>
      <p:pic>
        <p:nvPicPr>
          <p:cNvPr id="43" name="meas2" descr=""/>
          <p:cNvPicPr/>
          <p:nvPr/>
        </p:nvPicPr>
        <p:blipFill>
          <a:blip r:embed="rId2"/>
          <a:stretch/>
        </p:blipFill>
        <p:spPr>
          <a:xfrm>
            <a:off x="4762440" y="2057400"/>
            <a:ext cx="39909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CTRIC FIELD RADIATED BY AN I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imu" descr=""/>
          <p:cNvPicPr/>
          <p:nvPr/>
        </p:nvPicPr>
        <p:blipFill>
          <a:blip r:embed="rId1"/>
          <a:stretch/>
        </p:blipFill>
        <p:spPr>
          <a:xfrm>
            <a:off x="0" y="1676520"/>
            <a:ext cx="91346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3:35:19Z</dcterms:created>
  <dc:creator>Texas Instruments France</dc:creator>
  <dc:description/>
  <dc:language>en-US</dc:language>
  <cp:lastModifiedBy>Texas Instruments</cp:lastModifiedBy>
  <cp:lastPrinted>2000-03-30T15:45:18Z</cp:lastPrinted>
  <dcterms:modified xsi:type="dcterms:W3CDTF">2000-03-30T17:02:32Z</dcterms:modified>
  <cp:revision>150</cp:revision>
  <dc:subject/>
  <dc:title>TC93WG6 EMC TASK FORCE</dc:title>
</cp:coreProperties>
</file>