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09320" y="35974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6455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660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4388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0932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7660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4388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14280" y="22860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455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09320" y="35974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6455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660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3880" y="14479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0932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7660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43880" y="35974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14280" y="22860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45520" y="35974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5520" y="14479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320" y="35974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90560" y="20570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d62226"/>
              </a:buClr>
              <a:buSzPct val="5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0560" y="20570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Tips and Tricks for Creating </a:t>
            </a:r>
            <a:br>
              <a:rPr sz="3600"/>
            </a:b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IBIS Model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905120" y="32000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mples from a case study on the creation and QA of IBIS models from SPICE simulation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ritten by Jon Powell - Viewlogic Consulting Servi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ented by Cary Mandel - Technical Specialis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OverView (sorry)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me Important IBIS featur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ting up test circui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nning Q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me common problem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me difficulties in IB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ple Model Simulation Comparis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Important IBIS feature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32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T Cur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st Fixture Descrip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perly chosen point distribu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562720" y="1905120"/>
          <a:ext cx="274320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905120"/>
                    <a:ext cx="2743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Setting up Test Circuit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t rid of package parasitics. (Cdie required onl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e to a high accurac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t SPICE options to allow for exact voltage measur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 sure to measure long enoug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 sure input signal does not effect output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81480" y="1905120"/>
          <a:ext cx="3571920" cy="26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905120"/>
                    <a:ext cx="357192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Running QA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96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A against original SPICE VT dat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 a well chosen mid-voltage point for time synchronization on rising and falling edg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d additional test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d6222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Fixture (ie. 50pf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d6222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mission lin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d6222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ll package tes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410080" y="1371600"/>
          <a:ext cx="3252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371600"/>
                    <a:ext cx="3252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Some Common Problem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imulation Time Doesn’t allow waveform to reach full high or low.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PICE model doesn’t behave well at Corners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PICE model needs special control options to converge.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PICE diode model creates unlikely amounts of current.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QA Simulation doesn’t reproduce some SPICE features.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Some Difficulties in IBI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 point limit can create difficulties in fitting large MIN MAX TYP  IV and VT curves. May require careful linearizatio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IN MAX and TYP may not describe full range of corners desir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C may not be enough information for package description (can use new 3.2 TLINE description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d622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nsition Time not very useful for RTC or many highspeed advanced drive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Example Model QA Simulation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1676520"/>
          <a:ext cx="5478480" cy="44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54784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428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64af"/>
                </a:solidFill>
                <a:latin typeface="Arial Narrow"/>
              </a:rPr>
              <a:t>Without VT waveforms</a:t>
            </a:r>
            <a:endParaRPr b="0" lang="en-US" sz="3600" spc="-1" strike="noStrike">
              <a:solidFill>
                <a:srgbClr val="0264af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4600" y="1828800"/>
          <a:ext cx="5478480" cy="440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828800"/>
                    <a:ext cx="5478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23:07:00Z</dcterms:created>
  <dc:creator>Jon Powell</dc:creator>
  <dc:description/>
  <dc:language>en-US</dc:language>
  <cp:lastModifiedBy>bobr</cp:lastModifiedBy>
  <dcterms:modified xsi:type="dcterms:W3CDTF">2000-03-21T18:23:52Z</dcterms:modified>
  <cp:revision>10</cp:revision>
  <dc:subject/>
  <dc:title>No Slide Title</dc:title>
</cp:coreProperties>
</file>