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png" ContentType="image/png"/>
  <Override PartName="/ppt/media/image4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1" name=""/>
            <p:cNvSpPr/>
            <p:nvPr/>
          </p:nvSpPr>
          <p:spPr>
            <a:xfrm>
              <a:off x="893880" y="1019160"/>
              <a:ext cx="0" cy="538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1680" y="5867280"/>
              <a:ext cx="401400" cy="201600"/>
            </a:xfrm>
            <a:custGeom>
              <a:avLst/>
              <a:gdLst/>
              <a:ahLst/>
              <a:rect l="l" t="t" r="r" b="b"/>
              <a:pathLst>
                <a:path w="253" h="127">
                  <a:moveTo>
                    <a:pt x="0" y="126"/>
                  </a:moveTo>
                  <a:lnTo>
                    <a:pt x="0" y="0"/>
                  </a:lnTo>
                  <a:lnTo>
                    <a:pt x="252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7720" y="5934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1EC24E-5697-4EAA-B181-2EC908FF8F65}" type="slidenum"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Cadence%20Logo%20Web%20Red" descr=""/>
            <p:cNvPicPr/>
            <p:nvPr/>
          </p:nvPicPr>
          <p:blipFill>
            <a:blip r:embed="rId2"/>
            <a:stretch/>
          </p:blipFill>
          <p:spPr>
            <a:xfrm>
              <a:off x="7351560" y="855720"/>
              <a:ext cx="13352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784080" y="3446640"/>
            <a:ext cx="271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havioral Receiver Mode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9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6280" algn="ctr">
              <a:spcBef>
                <a:spcPts val="56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Narrow"/>
              </a:rPr>
              <a:t>Behavioral Receiver Modeling</a:t>
            </a:r>
            <a:endParaRPr b="1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28440" y="3809520"/>
            <a:ext cx="6620040" cy="18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nald Telia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presented by Patrick Dos Santo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dence, PCB Systems Div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uropean IBIS Summit:  March 31, 2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v. 1.0 with updated title pag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72200" y="3962520"/>
            <a:ext cx="2057400" cy="1523880"/>
            <a:chOff x="6172200" y="3962520"/>
            <a:chExt cx="2057400" cy="1523880"/>
          </a:xfrm>
        </p:grpSpPr>
        <p:sp>
          <p:nvSpPr>
            <p:cNvPr id="97" name=""/>
            <p:cNvSpPr/>
            <p:nvPr/>
          </p:nvSpPr>
          <p:spPr>
            <a:xfrm>
              <a:off x="6553080" y="3962520"/>
              <a:ext cx="1295640" cy="15238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172200" y="50292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172200" y="44193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848720" y="4800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807696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eceiver Modeling Allows Greater </a:t>
            </a: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Performanc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190760" y="2514240"/>
            <a:ext cx="43448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ts the whole digital trans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o one succinct transa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iminates awkward signa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and-off at receiver n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uble coun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xtrapol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s the high-speed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be studied at one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6600" y="2133720"/>
          <a:ext cx="25732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2133720"/>
                    <a:ext cx="25732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9" name=""/>
          <p:cNvGrpSpPr/>
          <p:nvPr/>
        </p:nvGrpSpPr>
        <p:grpSpPr>
          <a:xfrm>
            <a:off x="7467480" y="4114800"/>
            <a:ext cx="838440" cy="762120"/>
            <a:chOff x="7467480" y="4114800"/>
            <a:chExt cx="838440" cy="762120"/>
          </a:xfrm>
        </p:grpSpPr>
        <p:sp>
          <p:nvSpPr>
            <p:cNvPr id="180" name=""/>
            <p:cNvSpPr/>
            <p:nvPr/>
          </p:nvSpPr>
          <p:spPr>
            <a:xfrm flipH="1">
              <a:off x="7621920" y="4114800"/>
              <a:ext cx="52812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50760" y="4648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0760" y="43434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7480" y="45338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eceiver Modeling Allows </a:t>
            </a: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Optimiz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switching function do I need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type of pulses will need to be rejected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sort of propagation characteristics will work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voltages should this all operate a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 algn="ctr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hort, the Receiver can be “tuned”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 like we’re used to doing with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river and the interconnect 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008840" y="1865160"/>
          <a:ext cx="183024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8840" y="1865160"/>
                    <a:ext cx="18302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7162560" y="4114800"/>
            <a:ext cx="838080" cy="762120"/>
            <a:chOff x="7162560" y="4114800"/>
            <a:chExt cx="838080" cy="762120"/>
          </a:xfrm>
        </p:grpSpPr>
        <p:sp>
          <p:nvSpPr>
            <p:cNvPr id="189" name=""/>
            <p:cNvSpPr/>
            <p:nvPr/>
          </p:nvSpPr>
          <p:spPr>
            <a:xfrm>
              <a:off x="7318080" y="4114800"/>
              <a:ext cx="52776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62560" y="4648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62560" y="43434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845480" y="45338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8000640" y="4800600"/>
            <a:ext cx="838080" cy="762120"/>
            <a:chOff x="8000640" y="4800600"/>
            <a:chExt cx="838080" cy="762120"/>
          </a:xfrm>
        </p:grpSpPr>
        <p:sp>
          <p:nvSpPr>
            <p:cNvPr id="194" name=""/>
            <p:cNvSpPr/>
            <p:nvPr/>
          </p:nvSpPr>
          <p:spPr>
            <a:xfrm>
              <a:off x="8156160" y="4800600"/>
              <a:ext cx="52776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000640" y="53341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000640" y="50292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683560" y="52196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924320" y="5867280"/>
            <a:ext cx="838440" cy="762120"/>
            <a:chOff x="7924320" y="5867280"/>
            <a:chExt cx="838440" cy="762120"/>
          </a:xfrm>
        </p:grpSpPr>
        <p:sp>
          <p:nvSpPr>
            <p:cNvPr id="199" name=""/>
            <p:cNvSpPr/>
            <p:nvPr/>
          </p:nvSpPr>
          <p:spPr>
            <a:xfrm>
              <a:off x="8079840" y="5867280"/>
              <a:ext cx="52812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924320" y="64008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924320" y="609588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607600" y="6286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086240" y="5257800"/>
            <a:ext cx="838080" cy="762120"/>
            <a:chOff x="7086240" y="5257800"/>
            <a:chExt cx="838080" cy="762120"/>
          </a:xfrm>
        </p:grpSpPr>
        <p:sp>
          <p:nvSpPr>
            <p:cNvPr id="204" name=""/>
            <p:cNvSpPr/>
            <p:nvPr/>
          </p:nvSpPr>
          <p:spPr>
            <a:xfrm>
              <a:off x="7241760" y="5257800"/>
              <a:ext cx="527760" cy="76212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086240" y="579132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086240" y="548640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769160" y="5676840"/>
              <a:ext cx="15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75438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Methods Avail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Methods Contras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Cadence’s Solu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2280" y="2971800"/>
            <a:ext cx="1447560" cy="1066680"/>
            <a:chOff x="152280" y="2971800"/>
            <a:chExt cx="1447560" cy="1066680"/>
          </a:xfrm>
        </p:grpSpPr>
        <p:sp>
          <p:nvSpPr>
            <p:cNvPr id="211" name=""/>
            <p:cNvSpPr/>
            <p:nvPr/>
          </p:nvSpPr>
          <p:spPr>
            <a:xfrm>
              <a:off x="420120" y="2971800"/>
              <a:ext cx="911880" cy="10666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52280" y="37184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52280" y="32914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332000" y="355860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12873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ethods to Model a Complete Receiv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80920" y="19807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159120" indent="-159120"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licon-level SPICE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o slow, or is it ?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o proprietary 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59120" indent="-159120"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-Configured Behavioral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del has defined structure / construc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mitates one thing only, not a design too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o limiting (leads to IBIS’ current roadblocks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59120" indent="-159120"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al Behavioral Descri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llows modeling a receiver’s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characteristic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asily adapts to arbitrary behavior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84280" indent="-1591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s is what Cadence implemente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66680" y="2057400"/>
          <a:ext cx="23623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23623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943600" y="3657600"/>
            <a:ext cx="2514600" cy="1828800"/>
            <a:chOff x="5943600" y="3657600"/>
            <a:chExt cx="2514600" cy="1828800"/>
          </a:xfrm>
        </p:grpSpPr>
        <p:sp>
          <p:nvSpPr>
            <p:cNvPr id="220" name=""/>
            <p:cNvSpPr/>
            <p:nvPr/>
          </p:nvSpPr>
          <p:spPr>
            <a:xfrm>
              <a:off x="6629400" y="381024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72400" y="403884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29400" y="487692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6292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2400" y="464832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3657600"/>
              <a:ext cx="2514600" cy="18288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624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4840" y="4038840"/>
              <a:ext cx="304560" cy="3045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0" y="192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001000" y="4495680"/>
              <a:ext cx="0" cy="1522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1000" y="5105520"/>
              <a:ext cx="0" cy="1522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086600" y="5257800"/>
              <a:ext cx="91440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440" y="4572000"/>
              <a:ext cx="609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858000" y="4571640"/>
              <a:ext cx="0" cy="3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86600" y="403884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6720" y="45342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867280" y="3581280"/>
            <a:ext cx="251460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8960" y="1371600"/>
            <a:ext cx="746604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re-Configured vs Nodal Behavioral Model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6019920"/>
            <a:ext cx="602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6596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PRE-CONFIGURED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   NOD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1524960" y="228492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38240" y="2743200"/>
            <a:ext cx="41904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09840" y="2743200"/>
            <a:ext cx="7286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6080" y="24372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895480"/>
            <a:ext cx="3049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91520" y="2895480"/>
            <a:ext cx="3045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5920" y="3426840"/>
            <a:ext cx="1163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3733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42670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800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437200" y="2971080"/>
            <a:ext cx="197460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335" y="2996"/>
                </a:moveTo>
                <a:arcTo wR="10800" hR="10800" stAng="-8023721" swAng="5794745"/>
                <a:lnTo>
                  <a:pt x="10800" y="10800"/>
                </a:lnTo>
                <a:close/>
              </a:path>
              <a:path fill="none" w="21600" h="21600">
                <a:moveTo>
                  <a:pt x="3335" y="2996"/>
                </a:moveTo>
                <a:arcTo wR="10800" hR="10800" stAng="-8023721" swAng="5794745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2133720"/>
            <a:ext cx="360" cy="4419360"/>
          </a:xfrm>
          <a:prstGeom prst="lin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9400" y="3506760"/>
            <a:ext cx="109440" cy="59364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0"/>
                </a:moveTo>
                <a:lnTo>
                  <a:pt x="85" y="144"/>
                </a:lnTo>
                <a:lnTo>
                  <a:pt x="0" y="192"/>
                </a:lnTo>
                <a:lnTo>
                  <a:pt x="128" y="240"/>
                </a:lnTo>
                <a:lnTo>
                  <a:pt x="0" y="288"/>
                </a:lnTo>
                <a:lnTo>
                  <a:pt x="128" y="336"/>
                </a:lnTo>
                <a:lnTo>
                  <a:pt x="0" y="384"/>
                </a:lnTo>
                <a:lnTo>
                  <a:pt x="85" y="432"/>
                </a:lnTo>
                <a:lnTo>
                  <a:pt x="85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49400" y="4416480"/>
            <a:ext cx="109440" cy="59220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720"/>
                </a:moveTo>
                <a:lnTo>
                  <a:pt x="85" y="576"/>
                </a:lnTo>
                <a:lnTo>
                  <a:pt x="0" y="528"/>
                </a:lnTo>
                <a:lnTo>
                  <a:pt x="128" y="480"/>
                </a:lnTo>
                <a:lnTo>
                  <a:pt x="0" y="432"/>
                </a:lnTo>
                <a:lnTo>
                  <a:pt x="128" y="384"/>
                </a:lnTo>
                <a:lnTo>
                  <a:pt x="0" y="336"/>
                </a:lnTo>
                <a:lnTo>
                  <a:pt x="85" y="288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9000" y="4064040"/>
            <a:ext cx="6516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68640" y="4221000"/>
            <a:ext cx="648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9000" y="4379760"/>
            <a:ext cx="6516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9000" y="3432240"/>
            <a:ext cx="65160" cy="7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6120" y="5008680"/>
            <a:ext cx="72720" cy="118800"/>
          </a:xfrm>
          <a:custGeom>
            <a:avLst/>
            <a:gdLst/>
            <a:ahLst/>
            <a:rect l="l" t="t" r="r" b="b"/>
            <a:pathLst>
              <a:path w="87" h="145">
                <a:moveTo>
                  <a:pt x="86" y="0"/>
                </a:moveTo>
                <a:lnTo>
                  <a:pt x="0" y="0"/>
                </a:lnTo>
                <a:lnTo>
                  <a:pt x="43" y="144"/>
                </a:lnTo>
                <a:lnTo>
                  <a:pt x="86" y="0"/>
                </a:lnTo>
                <a:lnTo>
                  <a:pt x="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8120" y="4100400"/>
            <a:ext cx="322200" cy="157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79600" y="3506760"/>
            <a:ext cx="109440" cy="59364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0"/>
                </a:moveTo>
                <a:lnTo>
                  <a:pt x="85" y="144"/>
                </a:lnTo>
                <a:lnTo>
                  <a:pt x="85" y="240"/>
                </a:lnTo>
                <a:lnTo>
                  <a:pt x="128" y="240"/>
                </a:lnTo>
                <a:lnTo>
                  <a:pt x="0" y="288"/>
                </a:lnTo>
                <a:lnTo>
                  <a:pt x="128" y="336"/>
                </a:lnTo>
                <a:lnTo>
                  <a:pt x="0" y="384"/>
                </a:lnTo>
                <a:lnTo>
                  <a:pt x="85" y="384"/>
                </a:lnTo>
                <a:lnTo>
                  <a:pt x="85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79600" y="4416480"/>
            <a:ext cx="109440" cy="592200"/>
          </a:xfrm>
          <a:custGeom>
            <a:avLst/>
            <a:gdLst/>
            <a:ahLst/>
            <a:rect l="l" t="t" r="r" b="b"/>
            <a:pathLst>
              <a:path w="129" h="721">
                <a:moveTo>
                  <a:pt x="85" y="720"/>
                </a:moveTo>
                <a:lnTo>
                  <a:pt x="85" y="528"/>
                </a:lnTo>
                <a:lnTo>
                  <a:pt x="0" y="528"/>
                </a:lnTo>
                <a:lnTo>
                  <a:pt x="128" y="480"/>
                </a:lnTo>
                <a:lnTo>
                  <a:pt x="0" y="432"/>
                </a:lnTo>
                <a:lnTo>
                  <a:pt x="128" y="384"/>
                </a:lnTo>
                <a:lnTo>
                  <a:pt x="42" y="384"/>
                </a:lnTo>
                <a:lnTo>
                  <a:pt x="85" y="288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19200" y="4221000"/>
            <a:ext cx="6516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19200" y="3432240"/>
            <a:ext cx="65160" cy="7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14520" y="5008680"/>
            <a:ext cx="74520" cy="118800"/>
          </a:xfrm>
          <a:custGeom>
            <a:avLst/>
            <a:gdLst/>
            <a:ahLst/>
            <a:rect l="l" t="t" r="r" b="b"/>
            <a:pathLst>
              <a:path w="87" h="145">
                <a:moveTo>
                  <a:pt x="86" y="0"/>
                </a:moveTo>
                <a:lnTo>
                  <a:pt x="0" y="0"/>
                </a:lnTo>
                <a:lnTo>
                  <a:pt x="43" y="144"/>
                </a:lnTo>
                <a:lnTo>
                  <a:pt x="86" y="0"/>
                </a:lnTo>
                <a:lnTo>
                  <a:pt x="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4680" y="3625920"/>
            <a:ext cx="214200" cy="198360"/>
          </a:xfrm>
          <a:custGeom>
            <a:avLst/>
            <a:gdLst/>
            <a:ahLst/>
            <a:rect l="l" t="t" r="r" b="b"/>
            <a:pathLst>
              <a:path w="257" h="241">
                <a:moveTo>
                  <a:pt x="0" y="0"/>
                </a:moveTo>
                <a:lnTo>
                  <a:pt x="128" y="0"/>
                </a:lnTo>
                <a:lnTo>
                  <a:pt x="0" y="240"/>
                </a:lnTo>
                <a:lnTo>
                  <a:pt x="256" y="240"/>
                </a:lnTo>
                <a:lnTo>
                  <a:pt x="128" y="0"/>
                </a:lnTo>
                <a:lnTo>
                  <a:pt x="256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4680" y="4653000"/>
            <a:ext cx="214200" cy="198360"/>
          </a:xfrm>
          <a:custGeom>
            <a:avLst/>
            <a:gdLst/>
            <a:ahLst/>
            <a:rect l="l" t="t" r="r" b="b"/>
            <a:pathLst>
              <a:path w="257" h="241">
                <a:moveTo>
                  <a:pt x="0" y="0"/>
                </a:moveTo>
                <a:lnTo>
                  <a:pt x="128" y="0"/>
                </a:lnTo>
                <a:lnTo>
                  <a:pt x="0" y="240"/>
                </a:lnTo>
                <a:lnTo>
                  <a:pt x="256" y="240"/>
                </a:lnTo>
                <a:lnTo>
                  <a:pt x="128" y="0"/>
                </a:lnTo>
                <a:lnTo>
                  <a:pt x="256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2680" y="406080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0320" y="4257720"/>
            <a:ext cx="61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59040" y="4208400"/>
            <a:ext cx="6516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33480" y="3560760"/>
            <a:ext cx="36216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3560760"/>
            <a:ext cx="36216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62240" y="4565520"/>
            <a:ext cx="36180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65520"/>
            <a:ext cx="361800" cy="3668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05040" y="3998880"/>
            <a:ext cx="523800" cy="50472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925280" y="2793960"/>
            <a:ext cx="25560" cy="67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406880" y="2694240"/>
            <a:ext cx="1618920" cy="180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940" y="2697"/>
                </a:moveTo>
                <a:arcTo wR="10800" hR="10800" stAng="-2916898" swAng="7240501"/>
                <a:lnTo>
                  <a:pt x="10800" y="10800"/>
                </a:lnTo>
                <a:close/>
              </a:path>
              <a:path fill="none" w="21600" h="21600">
                <a:moveTo>
                  <a:pt x="17940" y="2697"/>
                </a:moveTo>
                <a:arcTo wR="10800" hR="10800" stAng="-2916898" swAng="7240501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419840" y="3326040"/>
            <a:ext cx="1389960" cy="15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29" y="1645"/>
                </a:moveTo>
                <a:arcTo wR="10800" hR="10800" stAng="-3477714" swAng="4689959"/>
                <a:lnTo>
                  <a:pt x="10800" y="10800"/>
                </a:lnTo>
                <a:close/>
              </a:path>
              <a:path fill="none" w="21600" h="21600">
                <a:moveTo>
                  <a:pt x="16529" y="1645"/>
                </a:moveTo>
                <a:arcTo wR="10800" hR="10800" stAng="-3477714" swAng="4689959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4495680"/>
            <a:ext cx="38124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43800" y="4495680"/>
            <a:ext cx="12193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373392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96080" y="396252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480060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426708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96080" y="457200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4267080"/>
            <a:ext cx="457200" cy="4572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3962520"/>
            <a:ext cx="304560" cy="30456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192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924680" y="441936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502920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010280" y="5181480"/>
            <a:ext cx="91440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4495680"/>
            <a:ext cx="60948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1680" y="449532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3962520"/>
            <a:ext cx="30492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880400" y="4457880"/>
            <a:ext cx="76320" cy="759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3352680"/>
            <a:ext cx="0" cy="381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553080" y="4800600"/>
            <a:ext cx="457200" cy="457200"/>
            <a:chOff x="6553080" y="4800600"/>
            <a:chExt cx="457200" cy="457200"/>
          </a:xfrm>
        </p:grpSpPr>
        <p:sp>
          <p:nvSpPr>
            <p:cNvPr id="294" name=""/>
            <p:cNvSpPr/>
            <p:nvPr/>
          </p:nvSpPr>
          <p:spPr>
            <a:xfrm>
              <a:off x="6677640" y="483876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85720" y="489564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77640" y="510552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74840" y="497196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85720" y="504828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4800600"/>
              <a:ext cx="457200" cy="45720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80800" y="4971960"/>
              <a:ext cx="83160" cy="1141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2200" y="4895640"/>
              <a:ext cx="55080" cy="75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0" y="192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927120" y="5009760"/>
              <a:ext cx="0" cy="37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27120" y="5162760"/>
              <a:ext cx="0" cy="37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760800" y="5200560"/>
              <a:ext cx="1663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63960" y="5029200"/>
              <a:ext cx="110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719400" y="5028840"/>
              <a:ext cx="0" cy="75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0800" y="4895640"/>
              <a:ext cx="55440" cy="759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19200" y="5019840"/>
              <a:ext cx="13680" cy="187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581280" y="2971800"/>
            <a:ext cx="457200" cy="19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1440000"/>
            <a:ext cx="792504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al Better for “Design” not Just “Design In”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5280" y="55627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and more “Driver” design problems are solved this 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re is better to work this way, when you can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2133720" y="2514600"/>
            <a:ext cx="144756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51460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251460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86400" y="2971800"/>
            <a:ext cx="457200" cy="19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3600" y="403848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4038480"/>
            <a:ext cx="144792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4038480"/>
            <a:ext cx="1447560" cy="990720"/>
          </a:xfrm>
          <a:prstGeom prst="rect">
            <a:avLst/>
          </a:prstGeom>
          <a:gradFill rotWithShape="0">
            <a:gsLst>
              <a:gs pos="0">
                <a:srgbClr val="5b9c5b"/>
              </a:gs>
              <a:gs pos="50000">
                <a:srgbClr val="006600"/>
              </a:gs>
              <a:gs pos="100000">
                <a:srgbClr val="5b9c5b"/>
              </a:gs>
            </a:gsLst>
            <a:lin ang="5400000"/>
          </a:gra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86400" y="44956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251460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gradFill rotWithShape="0">
            <a:gsLst>
              <a:gs pos="0">
                <a:srgbClr val="ffffcc"/>
              </a:gs>
              <a:gs pos="100000">
                <a:srgbClr val="fefee7"/>
              </a:gs>
            </a:gsLst>
            <a:lin ang="10800000"/>
          </a:gra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SIGN-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403848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gradFill rotWithShape="0">
            <a:gsLst>
              <a:gs pos="0">
                <a:srgbClr val="ffffcc"/>
              </a:gs>
              <a:gs pos="100000">
                <a:srgbClr val="fefee7"/>
              </a:gs>
            </a:gsLst>
            <a:lin ang="10800000"/>
          </a:gra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72400" y="297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SzPct val="30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72400" y="449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ffcc00"/>
              </a:buClr>
              <a:buSzPct val="30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815328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1998:  The Digital Universal Behavioral Receiv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0160" y="22093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ing with Intel, on a certain unnamed project, in 1998 Cadence used Nodal Behavioral Modeling to develop the fir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gital Universal Behavioral (DUB) Receiver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600200" y="3809880"/>
            <a:ext cx="2133720" cy="2209680"/>
            <a:chOff x="1600200" y="3809880"/>
            <a:chExt cx="2133720" cy="2209680"/>
          </a:xfrm>
        </p:grpSpPr>
        <p:graphicFrame>
          <p:nvGraphicFramePr>
            <p:cNvPr id="328" name=""/>
            <p:cNvGraphicFramePr/>
            <p:nvPr/>
          </p:nvGraphicFramePr>
          <p:xfrm>
            <a:off x="1600200" y="3809880"/>
            <a:ext cx="2038320" cy="213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809880"/>
                      <a:ext cx="203832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"/>
            <p:cNvSpPr/>
            <p:nvPr/>
          </p:nvSpPr>
          <p:spPr>
            <a:xfrm>
              <a:off x="2590920" y="4647960"/>
              <a:ext cx="1143000" cy="1371600"/>
            </a:xfrm>
            <a:custGeom>
              <a:avLst/>
              <a:gdLst/>
              <a:ahLst/>
              <a:rect l="l" t="t" r="r" b="b"/>
              <a:pathLst>
                <a:path w="720" h="864">
                  <a:moveTo>
                    <a:pt x="144" y="432"/>
                  </a:moveTo>
                  <a:lnTo>
                    <a:pt x="288" y="192"/>
                  </a:lnTo>
                  <a:lnTo>
                    <a:pt x="720" y="0"/>
                  </a:lnTo>
                  <a:lnTo>
                    <a:pt x="720" y="864"/>
                  </a:lnTo>
                  <a:lnTo>
                    <a:pt x="0" y="864"/>
                  </a:lnTo>
                  <a:lnTo>
                    <a:pt x="0" y="672"/>
                  </a:lnTo>
                  <a:lnTo>
                    <a:pt x="48" y="528"/>
                  </a:lnTo>
                  <a:lnTo>
                    <a:pt x="96" y="480"/>
                  </a:lnTo>
                  <a:lnTo>
                    <a:pt x="240" y="528"/>
                  </a:lnTo>
                  <a:lnTo>
                    <a:pt x="144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809880" y="4419720"/>
            <a:ext cx="2209680" cy="1675800"/>
            <a:chOff x="3809880" y="4419720"/>
            <a:chExt cx="2209680" cy="1675800"/>
          </a:xfrm>
        </p:grpSpPr>
        <p:sp>
          <p:nvSpPr>
            <p:cNvPr id="332" name=""/>
            <p:cNvSpPr/>
            <p:nvPr/>
          </p:nvSpPr>
          <p:spPr>
            <a:xfrm>
              <a:off x="4218840" y="4419720"/>
              <a:ext cx="1391400" cy="167580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76340" dir="7216901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809880" y="5592960"/>
              <a:ext cx="40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09880" y="4922280"/>
              <a:ext cx="40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610600" y="5341680"/>
              <a:ext cx="40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324480" y="5486400"/>
            <a:ext cx="1524240" cy="1219320"/>
            <a:chOff x="6324480" y="5486400"/>
            <a:chExt cx="1524240" cy="1219320"/>
          </a:xfrm>
        </p:grpSpPr>
        <p:sp>
          <p:nvSpPr>
            <p:cNvPr id="337" name=""/>
            <p:cNvSpPr/>
            <p:nvPr/>
          </p:nvSpPr>
          <p:spPr>
            <a:xfrm flipH="1">
              <a:off x="6324480" y="5486400"/>
              <a:ext cx="1524240" cy="1219320"/>
            </a:xfrm>
            <a:prstGeom prst="wedgeEllipseCallout">
              <a:avLst>
                <a:gd name="adj1" fmla="val -67189"/>
                <a:gd name="adj2" fmla="val -3372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37600" y="5561640"/>
              <a:ext cx="1157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ound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UBiou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o me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57600" y="3657600"/>
            <a:ext cx="2895480" cy="609480"/>
          </a:xfrm>
          <a:prstGeom prst="wedgeRoundRectCallout">
            <a:avLst>
              <a:gd name="adj1" fmla="val -63324"/>
              <a:gd name="adj2" fmla="val 53648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dub thee a D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5235480"/>
            <a:ext cx="212760" cy="250920"/>
          </a:xfrm>
          <a:prstGeom prst="irregularSeal1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CHICK" descr=""/>
          <p:cNvPicPr/>
          <p:nvPr/>
        </p:nvPicPr>
        <p:blipFill>
          <a:blip r:embed="rId3"/>
          <a:stretch/>
        </p:blipFill>
        <p:spPr>
          <a:xfrm>
            <a:off x="8153280" y="5181480"/>
            <a:ext cx="874800" cy="163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Block Dia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Block - by - Block Explan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Elements Requi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How Fast?  How Accurate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2280" y="3505320"/>
            <a:ext cx="1447560" cy="1066680"/>
            <a:chOff x="152280" y="3505320"/>
            <a:chExt cx="1447560" cy="1066680"/>
          </a:xfrm>
        </p:grpSpPr>
        <p:sp>
          <p:nvSpPr>
            <p:cNvPr id="345" name=""/>
            <p:cNvSpPr/>
            <p:nvPr/>
          </p:nvSpPr>
          <p:spPr>
            <a:xfrm>
              <a:off x="420120" y="3505320"/>
              <a:ext cx="911880" cy="10666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52280" y="425196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52280" y="382500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1332000" y="40921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Diagram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790960" y="2133360"/>
            <a:ext cx="240804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5 Basic Elements of any Recei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1176480" y="4522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46400" y="4522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03400" y="5356080"/>
            <a:ext cx="247680" cy="7488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03400" y="5300640"/>
            <a:ext cx="25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11120" y="4884840"/>
            <a:ext cx="609840" cy="196920"/>
          </a:xfrm>
          <a:custGeom>
            <a:avLst/>
            <a:gdLst/>
            <a:ahLst/>
            <a:rect l="l" t="t" r="r" b="b"/>
            <a:pathLst>
              <a:path w="384" h="124">
                <a:moveTo>
                  <a:pt x="0" y="54"/>
                </a:moveTo>
                <a:lnTo>
                  <a:pt x="56" y="54"/>
                </a:lnTo>
                <a:lnTo>
                  <a:pt x="100" y="124"/>
                </a:lnTo>
                <a:lnTo>
                  <a:pt x="166" y="2"/>
                </a:lnTo>
                <a:lnTo>
                  <a:pt x="237" y="124"/>
                </a:lnTo>
                <a:lnTo>
                  <a:pt x="296" y="0"/>
                </a:lnTo>
                <a:lnTo>
                  <a:pt x="328" y="64"/>
                </a:lnTo>
                <a:lnTo>
                  <a:pt x="384" y="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27240" y="5357880"/>
            <a:ext cx="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13040" y="4986360"/>
            <a:ext cx="217440" cy="1440"/>
          </a:xfrm>
          <a:custGeom>
            <a:avLst/>
            <a:gdLst/>
            <a:ahLst/>
            <a:rect l="l" t="t" r="r" b="b"/>
            <a:pathLst>
              <a:path w="137" h="1">
                <a:moveTo>
                  <a:pt x="0" y="0"/>
                </a:moveTo>
                <a:lnTo>
                  <a:pt x="137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127240" y="4986000"/>
            <a:ext cx="0" cy="3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1880" y="4522680"/>
            <a:ext cx="138780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77000" y="4522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24240" y="284652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523360" y="5324400"/>
            <a:ext cx="247680" cy="7452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23360" y="5268960"/>
            <a:ext cx="2570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647200" y="5326200"/>
            <a:ext cx="0" cy="247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8647200" y="4954320"/>
            <a:ext cx="0" cy="314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6400" y="4952880"/>
            <a:ext cx="374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77960" y="4952880"/>
            <a:ext cx="5526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19520" y="3352320"/>
            <a:ext cx="0" cy="16002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35268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09920" y="4719600"/>
            <a:ext cx="831960" cy="622440"/>
          </a:xfrm>
          <a:custGeom>
            <a:avLst/>
            <a:gdLst/>
            <a:ahLst/>
            <a:rect l="l" t="t" r="r" b="b"/>
            <a:pathLst>
              <a:path w="524" h="392">
                <a:moveTo>
                  <a:pt x="0" y="392"/>
                </a:moveTo>
                <a:lnTo>
                  <a:pt x="148" y="392"/>
                </a:lnTo>
                <a:lnTo>
                  <a:pt x="396" y="0"/>
                </a:lnTo>
                <a:lnTo>
                  <a:pt x="5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09920" y="4719600"/>
            <a:ext cx="838080" cy="635040"/>
          </a:xfrm>
          <a:custGeom>
            <a:avLst/>
            <a:gdLst/>
            <a:ahLst/>
            <a:rect l="l" t="t" r="r" b="b"/>
            <a:pathLst>
              <a:path w="528" h="400">
                <a:moveTo>
                  <a:pt x="0" y="0"/>
                </a:moveTo>
                <a:lnTo>
                  <a:pt x="132" y="0"/>
                </a:lnTo>
                <a:lnTo>
                  <a:pt x="416" y="400"/>
                </a:lnTo>
                <a:lnTo>
                  <a:pt x="528" y="4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327480" y="3046320"/>
                <a:ext cx="13842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·</m:t>
                    </m:r>
                    <m:r>
                      <m:t xml:space="preserve">¶</m:t>
                    </m:r>
                    <m:r>
                      <m:t xml:space="preserve">V</m:t>
                    </m:r>
                    <m:r>
                      <m:t xml:space="preserve">¶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616280" y="4952880"/>
            <a:ext cx="260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68880" y="4998960"/>
            <a:ext cx="7452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48280" y="50562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968800" y="504972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88120" y="4653000"/>
                <a:ext cx="4492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4788000" y="3335400"/>
            <a:ext cx="833400" cy="7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13480" y="3322800"/>
            <a:ext cx="0" cy="1117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35840" y="5005440"/>
            <a:ext cx="7452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914880" y="505620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7835760" y="504972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261200" y="4637160"/>
                <a:ext cx="366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324480" y="4952880"/>
            <a:ext cx="432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229600" y="4952880"/>
            <a:ext cx="762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564400" y="5570640"/>
            <a:ext cx="165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93200" y="5602320"/>
            <a:ext cx="11412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612280" y="560232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7920" y="567864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Pass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24360" y="5678640"/>
            <a:ext cx="17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30640" y="5678640"/>
            <a:ext cx="12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ay 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48640" y="5678640"/>
            <a:ext cx="14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insic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94120" y="1905120"/>
            <a:ext cx="21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ge R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861400" y="4876920"/>
            <a:ext cx="1303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8120" y="4876920"/>
            <a:ext cx="1299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1:  Low Pass Filt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791240" y="2819160"/>
            <a:ext cx="3124080" cy="2361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ry Receiver Rejects Certain Pulse Spik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ple to Characterize and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2220840" y="30304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3863880"/>
            <a:ext cx="247680" cy="7488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808440"/>
            <a:ext cx="25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55840" y="3392640"/>
            <a:ext cx="609480" cy="196560"/>
          </a:xfrm>
          <a:custGeom>
            <a:avLst/>
            <a:gdLst/>
            <a:ahLst/>
            <a:rect l="l" t="t" r="r" b="b"/>
            <a:pathLst>
              <a:path w="384" h="124">
                <a:moveTo>
                  <a:pt x="0" y="54"/>
                </a:moveTo>
                <a:lnTo>
                  <a:pt x="56" y="54"/>
                </a:lnTo>
                <a:lnTo>
                  <a:pt x="100" y="124"/>
                </a:lnTo>
                <a:lnTo>
                  <a:pt x="166" y="2"/>
                </a:lnTo>
                <a:lnTo>
                  <a:pt x="237" y="124"/>
                </a:lnTo>
                <a:lnTo>
                  <a:pt x="296" y="0"/>
                </a:lnTo>
                <a:lnTo>
                  <a:pt x="328" y="64"/>
                </a:lnTo>
                <a:lnTo>
                  <a:pt x="384" y="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71960" y="3865680"/>
            <a:ext cx="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57400" y="3494160"/>
            <a:ext cx="217440" cy="1440"/>
          </a:xfrm>
          <a:custGeom>
            <a:avLst/>
            <a:gdLst/>
            <a:ahLst/>
            <a:rect l="l" t="t" r="r" b="b"/>
            <a:pathLst>
              <a:path w="137" h="1">
                <a:moveTo>
                  <a:pt x="0" y="0"/>
                </a:moveTo>
                <a:lnTo>
                  <a:pt x="137" y="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171960" y="3493800"/>
            <a:ext cx="0" cy="31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51120" y="3460680"/>
            <a:ext cx="3744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86040" y="3460680"/>
            <a:ext cx="489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22640" y="4186080"/>
            <a:ext cx="146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Pass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3384720"/>
            <a:ext cx="1303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0" y="5165640"/>
            <a:ext cx="1447560" cy="1067040"/>
            <a:chOff x="2286000" y="5165640"/>
            <a:chExt cx="1447560" cy="1067040"/>
          </a:xfrm>
        </p:grpSpPr>
        <p:sp>
          <p:nvSpPr>
            <p:cNvPr id="104" name=""/>
            <p:cNvSpPr/>
            <p:nvPr/>
          </p:nvSpPr>
          <p:spPr>
            <a:xfrm>
              <a:off x="2553840" y="516564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286000" y="59126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286000" y="54856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465720" y="57524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867640" y="5165640"/>
            <a:ext cx="1447560" cy="1067040"/>
            <a:chOff x="5867640" y="5165640"/>
            <a:chExt cx="1447560" cy="1067040"/>
          </a:xfrm>
        </p:grpSpPr>
        <p:sp>
          <p:nvSpPr>
            <p:cNvPr id="109" name=""/>
            <p:cNvSpPr/>
            <p:nvPr/>
          </p:nvSpPr>
          <p:spPr>
            <a:xfrm flipH="1">
              <a:off x="6135120" y="516564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65581" dir="3451155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47360" y="59126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47360" y="54856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7640" y="575244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2:  Switching Func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2880" y="2742840"/>
            <a:ext cx="2895840" cy="2392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r’s Basic Transfer Fun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 Simpler for non-Differenti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2308320" y="297180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39880" y="3402000"/>
            <a:ext cx="5526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71840" y="3168720"/>
            <a:ext cx="831600" cy="622080"/>
          </a:xfrm>
          <a:custGeom>
            <a:avLst/>
            <a:gdLst/>
            <a:ahLst/>
            <a:rect l="l" t="t" r="r" b="b"/>
            <a:pathLst>
              <a:path w="524" h="392">
                <a:moveTo>
                  <a:pt x="0" y="392"/>
                </a:moveTo>
                <a:lnTo>
                  <a:pt x="148" y="392"/>
                </a:lnTo>
                <a:lnTo>
                  <a:pt x="396" y="0"/>
                </a:lnTo>
                <a:lnTo>
                  <a:pt x="52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71840" y="3168720"/>
            <a:ext cx="838080" cy="635040"/>
          </a:xfrm>
          <a:custGeom>
            <a:avLst/>
            <a:gdLst/>
            <a:ahLst/>
            <a:rect l="l" t="t" r="r" b="b"/>
            <a:pathLst>
              <a:path w="528" h="400">
                <a:moveTo>
                  <a:pt x="0" y="0"/>
                </a:moveTo>
                <a:lnTo>
                  <a:pt x="132" y="0"/>
                </a:lnTo>
                <a:lnTo>
                  <a:pt x="416" y="400"/>
                </a:lnTo>
                <a:lnTo>
                  <a:pt x="528" y="4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78200" y="3402000"/>
            <a:ext cx="260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85920" y="4127400"/>
            <a:ext cx="17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5:  Intrinsic Dela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94920" y="2514600"/>
            <a:ext cx="3429000" cy="2666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ry Receiver has an Intrinsic (minimum) Del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ily Determined by Measuring Against the Fastest Edge Expect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5527800" y="312732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273800" y="3929040"/>
            <a:ext cx="247680" cy="74520"/>
          </a:xfrm>
          <a:custGeom>
            <a:avLst/>
            <a:gdLst/>
            <a:ahLst/>
            <a:rect l="l" t="t" r="r" b="b"/>
            <a:pathLst>
              <a:path w="1314" h="1273">
                <a:moveTo>
                  <a:pt x="0" y="1267"/>
                </a:moveTo>
                <a:cubicBezTo>
                  <a:pt x="229" y="633"/>
                  <a:pt x="459" y="0"/>
                  <a:pt x="678" y="1"/>
                </a:cubicBezTo>
                <a:cubicBezTo>
                  <a:pt x="897" y="2"/>
                  <a:pt x="1208" y="1061"/>
                  <a:pt x="1314" y="127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73800" y="3873600"/>
            <a:ext cx="2574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97640" y="3930480"/>
            <a:ext cx="0" cy="2476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397640" y="3558960"/>
            <a:ext cx="0" cy="314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86280" y="3610080"/>
            <a:ext cx="7488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5665680" y="36608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586560" y="36543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012000" y="3241800"/>
                <a:ext cx="366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D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5075280" y="3557520"/>
            <a:ext cx="431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80400" y="3557520"/>
            <a:ext cx="7617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4175280"/>
            <a:ext cx="165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43640" y="4206960"/>
            <a:ext cx="1144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62720" y="4206960"/>
            <a:ext cx="7632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99080" y="4282920"/>
            <a:ext cx="14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insic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12200" y="3481560"/>
            <a:ext cx="1299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136368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3:  Edge Rate Detec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2286000"/>
            <a:ext cx="3581280" cy="3657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r Delay Changes with Input Edge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hematically Determine Derivative of Input Sign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Real-time Derivative to Adapt Propagation Del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"/>
          <p:cNvSpPr/>
          <p:nvPr/>
        </p:nvSpPr>
        <p:spPr>
          <a:xfrm>
            <a:off x="2028960" y="353232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523880" y="4038120"/>
            <a:ext cx="0" cy="10875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3880" y="4038480"/>
            <a:ext cx="5461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031840" y="3732120"/>
                <a:ext cx="1384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·</m:t>
                    </m:r>
                    <m:r>
                      <m:t xml:space="preserve">¶</m:t>
                    </m:r>
                    <m:r>
                      <m:t xml:space="preserve">V</m:t>
                    </m:r>
                    <m:r>
                      <m:t xml:space="preserve">¶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3492360" y="4021200"/>
            <a:ext cx="622440" cy="7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4008600"/>
            <a:ext cx="0" cy="1117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98480" y="2590920"/>
            <a:ext cx="21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ge R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95280" y="14400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DUB Block #4:  Delay Add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00200" y="2701440"/>
            <a:ext cx="3200400" cy="2667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c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cc0000"/>
            </a:solidFill>
            <a:miter/>
          </a:ln>
          <a:effectLst>
            <a:outerShdw dist="143570" dir="18900000" blurRad="0" rotWithShape="0">
              <a:srgbClr val="969696"/>
            </a:outerShdw>
          </a:effectLst>
        </p:spPr>
        <p:txBody>
          <a:bodyPr tIns="91440" bIns="9144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ircuit to Adjust Propagation Delay Based on Input Slop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l-time Adaptive Delay Line Constru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5964120" y="3379680"/>
            <a:ext cx="1387440" cy="110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08520" y="3809880"/>
            <a:ext cx="260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61120" y="3855960"/>
            <a:ext cx="7452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140520" y="39132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061040" y="390672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480000" y="3510000"/>
                <a:ext cx="4492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T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5880240" y="2666880"/>
            <a:ext cx="833400" cy="7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05720" y="2674800"/>
            <a:ext cx="0" cy="622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16720" y="3809880"/>
            <a:ext cx="432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22880" y="4535640"/>
            <a:ext cx="12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ay 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815328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What is Needed for Nodal Behavioral DUB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599840" y="22096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al Langu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 (VCCS) and E (VCVS) sour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9480" indent="-1659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wl table drive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09480" indent="-1659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quation driven, with derivativ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09480" indent="-1659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vent driven and time-controlled as wel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l-time Adaptive Delay Li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-1659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circuit Nesting and Random Node Prin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596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se are all available in SPECCTRAQuest’s MacroModeling langu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5943600" y="2209680"/>
          <a:ext cx="2666880" cy="24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209680"/>
                    <a:ext cx="26668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0160" y="129528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ow Fast is the DUB Method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99840" y="3581280"/>
            <a:ext cx="670572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es Derived from Receiver Benchmark, not Appl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 DUB” needed additional elements to work righ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“small” SPICE circuits, “Behavioral” can be slower !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2080" indent="-1695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at was the big surprise to this engine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9560" indent="-169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wever, in the Intel application, the pure receiver delta above was insignificant because the elaborate package model contributed to ~90% of the run-time h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447920" y="1981080"/>
          <a:ext cx="6959520" cy="172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9595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 flipV="1">
            <a:off x="457200" y="38091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295640"/>
              <a:gd name="textAreaBottom" fmla="*/ 12956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487" stAng="10800000" swAng="5400000"/>
                <a:lnTo>
                  <a:pt x="15646" y="2673"/>
                </a:lnTo>
                <a:lnTo>
                  <a:pt x="15646" y="0"/>
                </a:lnTo>
                <a:lnTo>
                  <a:pt x="21600" y="6079"/>
                </a:lnTo>
                <a:lnTo>
                  <a:pt x="15646" y="12158"/>
                </a:lnTo>
                <a:lnTo>
                  <a:pt x="15646" y="9485"/>
                </a:lnTo>
                <a:lnTo>
                  <a:pt x="12427" y="9485"/>
                </a:lnTo>
                <a:arcTo wR="5615" hR="2675" stAng="16200000" swAng="-5400000"/>
                <a:lnTo>
                  <a:pt x="6812" y="21600"/>
                </a:lnTo>
                <a:close/>
              </a:path>
            </a:pathLst>
          </a:custGeom>
          <a:gradFill rotWithShape="0">
            <a:gsLst>
              <a:gs pos="0">
                <a:srgbClr val="eeb1b1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How Accurate?  As Accurate as You Want !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18960" y="5334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121320" indent="-1213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cosecond variations for 242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remely difficul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est wavefor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21320" indent="-1213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verage difference was 19 pS (std. dev. of 14 p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21320" indent="-1213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uld have matched even closer with more work, if desi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828800" y="1828800"/>
            <a:ext cx="5962680" cy="3352680"/>
            <a:chOff x="1828800" y="1828800"/>
            <a:chExt cx="5962680" cy="3352680"/>
          </a:xfrm>
        </p:grpSpPr>
        <p:grpSp>
          <p:nvGrpSpPr>
            <p:cNvPr id="468" name=""/>
            <p:cNvGrpSpPr/>
            <p:nvPr/>
          </p:nvGrpSpPr>
          <p:grpSpPr>
            <a:xfrm>
              <a:off x="1828800" y="1828800"/>
              <a:ext cx="5962680" cy="3352680"/>
              <a:chOff x="1828800" y="1828800"/>
              <a:chExt cx="5962680" cy="3352680"/>
            </a:xfrm>
          </p:grpSpPr>
          <p:graphicFrame>
            <p:nvGraphicFramePr>
              <p:cNvPr id="469" name=""/>
              <p:cNvGraphicFramePr/>
              <p:nvPr/>
            </p:nvGraphicFramePr>
            <p:xfrm>
              <a:off x="1828800" y="1828800"/>
              <a:ext cx="5962680" cy="33526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7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28800" y="1828800"/>
                        <a:ext cx="5962680" cy="335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1" name=""/>
              <p:cNvSpPr/>
              <p:nvPr/>
            </p:nvSpPr>
            <p:spPr>
              <a:xfrm>
                <a:off x="2698200" y="3263760"/>
                <a:ext cx="4782600" cy="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872440" y="2988720"/>
                <a:ext cx="13251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00"/>
                    </a:solidFill>
                    <a:latin typeface="Arial"/>
                  </a:rPr>
                  <a:t>50 pS lim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2349000" y="1980360"/>
              <a:ext cx="5014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UB Receiver Variation vs SPICE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nd Here’s the Rest of the Story...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the Original Intel DUB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ther Elements Were Added to Accommodate Unique (Proprietary) Eff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s is what caused the extra 50% simulation slow dow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62720" indent="-16272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denc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IGHL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commends that if IBIS Implements Behavioral Receivers that a Nodal Syntax Language Be U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96880" indent="-16272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ny approach needs to be adaptable to unique situation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5410080" y="2209680"/>
          <a:ext cx="33292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09680"/>
                    <a:ext cx="33292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why do answers always raise more questions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52280" y="4038480"/>
            <a:ext cx="1447560" cy="1067040"/>
            <a:chOff x="152280" y="4038480"/>
            <a:chExt cx="1447560" cy="1067040"/>
          </a:xfrm>
        </p:grpSpPr>
        <p:sp>
          <p:nvSpPr>
            <p:cNvPr id="481" name=""/>
            <p:cNvSpPr/>
            <p:nvPr/>
          </p:nvSpPr>
          <p:spPr>
            <a:xfrm>
              <a:off x="420120" y="403848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52280" y="47854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52280" y="43585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1332000" y="46252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93480" y="1432080"/>
            <a:ext cx="251604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DUB is All Dressed Up...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876560" y="5867280"/>
            <a:ext cx="3808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d Ready to Go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742840" y="3200400"/>
            <a:ext cx="2514240" cy="2057040"/>
            <a:chOff x="2742840" y="3200400"/>
            <a:chExt cx="2514240" cy="2057040"/>
          </a:xfrm>
        </p:grpSpPr>
        <p:sp>
          <p:nvSpPr>
            <p:cNvPr id="488" name=""/>
            <p:cNvSpPr/>
            <p:nvPr/>
          </p:nvSpPr>
          <p:spPr>
            <a:xfrm>
              <a:off x="3208680" y="3200400"/>
              <a:ext cx="1583280" cy="205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2742840" y="4640400"/>
              <a:ext cx="46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742840" y="3817440"/>
              <a:ext cx="46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791600" y="4331880"/>
              <a:ext cx="46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92" name=""/>
          <p:cNvGraphicFramePr/>
          <p:nvPr/>
        </p:nvGraphicFramePr>
        <p:xfrm>
          <a:off x="4114800" y="1303200"/>
          <a:ext cx="449568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03200"/>
                    <a:ext cx="449568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6934320" y="1752480"/>
            <a:ext cx="1904760" cy="1295640"/>
          </a:xfrm>
          <a:custGeom>
            <a:avLst/>
            <a:gdLst/>
            <a:ahLst/>
            <a:rect l="l" t="t" r="r" b="b"/>
            <a:pathLst>
              <a:path w="1200" h="816">
                <a:moveTo>
                  <a:pt x="0" y="768"/>
                </a:moveTo>
                <a:lnTo>
                  <a:pt x="864" y="0"/>
                </a:lnTo>
                <a:lnTo>
                  <a:pt x="1200" y="288"/>
                </a:lnTo>
                <a:lnTo>
                  <a:pt x="240" y="816"/>
                </a:lnTo>
                <a:lnTo>
                  <a:pt x="0" y="7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termination mode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driver sizing &amp; sca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interconnect optimiz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760040" indent="-15984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who’s left ??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sons to Use Behavioral Receivers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19880" indent="-119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905120"/>
            <a:ext cx="1447560" cy="1066680"/>
            <a:chOff x="152280" y="1905120"/>
            <a:chExt cx="1447560" cy="1066680"/>
          </a:xfrm>
        </p:grpSpPr>
        <p:sp>
          <p:nvSpPr>
            <p:cNvPr id="116" name=""/>
            <p:cNvSpPr/>
            <p:nvPr/>
          </p:nvSpPr>
          <p:spPr>
            <a:xfrm>
              <a:off x="420120" y="1905120"/>
              <a:ext cx="911880" cy="10666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52280" y="265176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52280" y="222480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32000" y="24919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Big Question: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0160" y="228564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142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Narrow"/>
              </a:rPr>
              <a:t>Will the Compelling Application Please Step Forward ????</a:t>
            </a: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marL="14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42200"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IBIS Drivers had PCI and Pentium, but who will Rub-A-DUB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287360"/>
            <a:ext cx="784872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he Study &amp; Optimization of Digital Interfac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81320" y="3200400"/>
            <a:ext cx="21337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d - ‘80s  =  Terminations 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of the rest was “off-the-shelf” to the digital engine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term" descr=""/>
          <p:cNvPicPr/>
          <p:nvPr/>
        </p:nvPicPr>
        <p:blipFill>
          <a:blip r:embed="rId1"/>
          <a:stretch/>
        </p:blipFill>
        <p:spPr>
          <a:xfrm>
            <a:off x="1295280" y="1957320"/>
            <a:ext cx="5265720" cy="474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 flipV="1">
            <a:off x="5105520" y="3428640"/>
            <a:ext cx="1752480" cy="30492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467080" y="1803240"/>
          <a:ext cx="1724040" cy="185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7080" y="1803240"/>
                    <a:ext cx="172404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733920" y="2362320"/>
            <a:ext cx="2057400" cy="205740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2873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ext Came Driver Scaling &amp; Tun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33960" y="2133360"/>
            <a:ext cx="1981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stom IC &amp; ASIC Design brought the ability to sweep and tune Driver Characterist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t the stage for “IBIS” representation in early ‘90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no_term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584680" cy="40863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2296080" y="4572000"/>
            <a:ext cx="5420160" cy="3423960"/>
            <a:chOff x="-2296080" y="4572000"/>
            <a:chExt cx="5420160" cy="3423960"/>
          </a:xfrm>
        </p:grpSpPr>
        <p:sp>
          <p:nvSpPr>
            <p:cNvPr id="131" name=""/>
            <p:cNvSpPr/>
            <p:nvPr/>
          </p:nvSpPr>
          <p:spPr>
            <a:xfrm>
              <a:off x="1000080" y="4572000"/>
              <a:ext cx="2124000" cy="190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-2296080" y="4669200"/>
              <a:ext cx="5337360" cy="3326760"/>
              <a:chOff x="-2296080" y="4669200"/>
              <a:chExt cx="5337360" cy="3326760"/>
            </a:xfrm>
          </p:grpSpPr>
          <p:sp>
            <p:nvSpPr>
              <p:cNvPr id="133" name=""/>
              <p:cNvSpPr/>
              <p:nvPr/>
            </p:nvSpPr>
            <p:spPr>
              <a:xfrm>
                <a:off x="1773000" y="6514560"/>
                <a:ext cx="53964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6200000">
                <a:off x="501480" y="5358240"/>
                <a:ext cx="6814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lt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64520" y="4860000"/>
                <a:ext cx="1976760" cy="1534320"/>
              </a:xfrm>
              <a:custGeom>
                <a:avLst/>
                <a:gdLst/>
                <a:ahLst/>
                <a:rect l="l" t="t" r="r" b="b"/>
                <a:pathLst>
                  <a:path w="2457" h="1511">
                    <a:moveTo>
                      <a:pt x="0" y="0"/>
                    </a:moveTo>
                    <a:lnTo>
                      <a:pt x="768" y="174"/>
                    </a:lnTo>
                    <a:lnTo>
                      <a:pt x="2456" y="174"/>
                    </a:lnTo>
                    <a:lnTo>
                      <a:pt x="2456" y="1508"/>
                    </a:lnTo>
                    <a:lnTo>
                      <a:pt x="936" y="1510"/>
                    </a:lnTo>
                    <a:lnTo>
                      <a:pt x="944" y="918"/>
                    </a:lnTo>
                    <a:lnTo>
                      <a:pt x="0" y="239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618ffd"/>
                  </a:gs>
                  <a:gs pos="100000">
                    <a:srgbClr val="567fe2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custDash>
                  <a:ds d="499000" sp="20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1064520" y="5051520"/>
                <a:ext cx="6177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1077120" y="5806080"/>
                <a:ext cx="733680" cy="57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2296080" y="4776480"/>
                <a:ext cx="5201640" cy="321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956" y="472"/>
                    </a:moveTo>
                    <a:arcTo wR="10800" hR="10800" stAng="-4380405" swAng="43804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956" y="472"/>
                    </a:moveTo>
                    <a:arcTo wR="10800" hR="10800" stAng="-4380405" swAng="4380405"/>
                  </a:path>
                </a:pathLst>
              </a:custGeom>
              <a:noFill/>
              <a:ln cap="rnd"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573480" y="5036760"/>
                <a:ext cx="2530440" cy="269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952" y="470"/>
                    </a:moveTo>
                    <a:arcTo wR="10800" hR="10800" stAng="-4381936" swAng="43819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952" y="470"/>
                    </a:moveTo>
                    <a:arcTo wR="10800" hR="10800" stAng="-4381936" swAng="4381936"/>
                  </a:path>
                </a:pathLst>
              </a:custGeom>
              <a:noFill/>
              <a:ln cap="rnd" w="5076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75520" y="5766840"/>
                <a:ext cx="70560" cy="79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57680" y="4669200"/>
                <a:ext cx="1976040" cy="1713960"/>
              </a:xfrm>
              <a:prstGeom prst="rect">
                <a:avLst/>
              </a:prstGeom>
              <a:noFill/>
              <a:ln w="507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59600" y="4997160"/>
                <a:ext cx="70560" cy="79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 flipV="1">
            <a:off x="1371600" y="3962160"/>
            <a:ext cx="457200" cy="106668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6172200"/>
            <a:ext cx="380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:  “Treat pc-board traces as transmission lines to specify drive buffers”  EDN September 2, 1993  page 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895480"/>
            <a:ext cx="1600200" cy="160020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8480" y="1371600"/>
            <a:ext cx="769464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&amp; Tools Allowed Topology Optimization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209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ven well-tuned driver technology, constraining “Topology” factors brought more speed advances in the mid ‘90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ffers acquired new dynamic behavi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no_term" descr=""/>
          <p:cNvPicPr/>
          <p:nvPr/>
        </p:nvPicPr>
        <p:blipFill>
          <a:blip r:embed="rId1"/>
          <a:stretch/>
        </p:blipFill>
        <p:spPr>
          <a:xfrm>
            <a:off x="3429000" y="2238480"/>
            <a:ext cx="5584680" cy="408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48320" y="2895480"/>
            <a:ext cx="3124080" cy="304812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657600"/>
            <a:ext cx="3657600" cy="91440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505320" y="1955880"/>
          <a:ext cx="1724040" cy="185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955880"/>
                    <a:ext cx="172404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But What About the Lowly Receiver?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86600" y="2209680"/>
            <a:ext cx="1828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b-b-BIRD?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, uh, I guess I hoped no one would notice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no_term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585040" cy="408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05520" y="2971800"/>
            <a:ext cx="1828800" cy="2971800"/>
          </a:xfrm>
          <a:prstGeom prst="ellipse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248160" y="3276720"/>
            <a:ext cx="1066680" cy="457200"/>
          </a:xfrm>
          <a:prstGeom prst="line">
            <a:avLst/>
          </a:prstGeom>
          <a:ln w="633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CHICK" descr=""/>
          <p:cNvPicPr/>
          <p:nvPr/>
        </p:nvPicPr>
        <p:blipFill>
          <a:blip r:embed="rId2"/>
          <a:stretch/>
        </p:blipFill>
        <p:spPr>
          <a:xfrm>
            <a:off x="7477200" y="2362320"/>
            <a:ext cx="98100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151596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GENDA:  Behavioral Receiver Modeling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o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Digital Receiver Steps For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Why?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Reasons to Use Behavioral Rece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961280" indent="-178200">
              <a:spcBef>
                <a:spcPts val="499"/>
              </a:spcBef>
              <a:buClr>
                <a:srgbClr val="cc0000"/>
              </a:buClr>
              <a:buFont typeface="Arial Narrow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Narrow"/>
              </a:rPr>
              <a:t>Design Optimiz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at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aring Various Receiver Modeling Metho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ow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cro-Structure of a Behavioral Rece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33560" indent="-1335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?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 the BIG Qu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2280" y="2438280"/>
            <a:ext cx="1447560" cy="1067040"/>
            <a:chOff x="152280" y="2438280"/>
            <a:chExt cx="1447560" cy="1067040"/>
          </a:xfrm>
        </p:grpSpPr>
        <p:sp>
          <p:nvSpPr>
            <p:cNvPr id="162" name=""/>
            <p:cNvSpPr/>
            <p:nvPr/>
          </p:nvSpPr>
          <p:spPr>
            <a:xfrm>
              <a:off x="420120" y="2438280"/>
              <a:ext cx="911880" cy="10670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52280" y="31852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52280" y="275832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2000" y="3025080"/>
              <a:ext cx="26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A Receiver is Basically an A - D Convert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99840" y="5105160"/>
            <a:ext cx="66279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152280" indent="-15228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sequently, i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mplifies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question of how the (not-so-digital) digital signal is responded to by the devic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52280" indent="-15228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’s a “digital” problem once again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505320" y="2743200"/>
            <a:ext cx="2057400" cy="1523880"/>
            <a:chOff x="3505320" y="2743200"/>
            <a:chExt cx="2057400" cy="1523880"/>
          </a:xfrm>
        </p:grpSpPr>
        <p:sp>
          <p:nvSpPr>
            <p:cNvPr id="169" name=""/>
            <p:cNvSpPr/>
            <p:nvPr/>
          </p:nvSpPr>
          <p:spPr>
            <a:xfrm>
              <a:off x="3886200" y="2743200"/>
              <a:ext cx="1295640" cy="152388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0" y="0"/>
                  </a:moveTo>
                  <a:lnTo>
                    <a:pt x="0" y="960"/>
                  </a:lnTo>
                  <a:lnTo>
                    <a:pt x="816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000000"/>
              </a:solidFill>
              <a:round/>
            </a:ln>
            <a:effectLst>
              <a:outerShdw dist="183017" dir="7421404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505320" y="38098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505320" y="3200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81840" y="35812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input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035160" cy="2314440"/>
          </a:xfrm>
          <a:prstGeom prst="rect">
            <a:avLst/>
          </a:prstGeom>
          <a:ln w="0">
            <a:noFill/>
          </a:ln>
        </p:spPr>
      </p:pic>
      <p:pic>
        <p:nvPicPr>
          <p:cNvPr id="174" name="output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3025800" cy="230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9:01:59Z</dcterms:created>
  <dc:creator>Donald Telian</dc:creator>
  <dc:description/>
  <dc:language>en-US</dc:language>
  <cp:lastModifiedBy>bobr</cp:lastModifiedBy>
  <dcterms:modified xsi:type="dcterms:W3CDTF">2000-03-13T18:20:17Z</dcterms:modified>
  <cp:revision>39</cp:revision>
  <dc:subject/>
  <dc:title>No Slide Title</dc:title>
</cp:coreProperties>
</file>