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7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4.docx" ContentType="application/vnd.openxmlformats-officedocument.wordprocessingml.document"/>
  <Override PartName="/ppt/embeddings/oleObject5.docx" ContentType="application/vnd.openxmlformats-officedocument.wordprocessingml.document"/>
  <Override PartName="/ppt/embeddings/oleObject6.docx" ContentType="application/vnd.openxmlformats-officedocument.wordprocessingml.documen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907588" cy="6858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47520" y="1625760"/>
            <a:ext cx="784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47520" y="3775320"/>
            <a:ext cx="784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47520" y="1625760"/>
            <a:ext cx="382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69080" y="1625760"/>
            <a:ext cx="382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47520" y="3775320"/>
            <a:ext cx="382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69080" y="3775320"/>
            <a:ext cx="382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47520" y="1625760"/>
            <a:ext cx="252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01080" y="1625760"/>
            <a:ext cx="252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254640" y="1625760"/>
            <a:ext cx="252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47520" y="3775320"/>
            <a:ext cx="252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01080" y="3775320"/>
            <a:ext cx="252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254640" y="3775320"/>
            <a:ext cx="252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47520" y="162576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47520" y="162576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47520" y="1625760"/>
            <a:ext cx="382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69080" y="1625760"/>
            <a:ext cx="382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45800" y="503280"/>
            <a:ext cx="838188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7520" y="1625760"/>
            <a:ext cx="382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69080" y="1625760"/>
            <a:ext cx="382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47520" y="3775320"/>
            <a:ext cx="382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47520" y="162576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47520" y="1625760"/>
            <a:ext cx="382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9080" y="1625760"/>
            <a:ext cx="382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69080" y="3775320"/>
            <a:ext cx="382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47520" y="1625760"/>
            <a:ext cx="382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69080" y="1625760"/>
            <a:ext cx="382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47520" y="3775320"/>
            <a:ext cx="784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47520" y="1625760"/>
            <a:ext cx="784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47520" y="3775320"/>
            <a:ext cx="784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7520" y="1625760"/>
            <a:ext cx="382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69080" y="1625760"/>
            <a:ext cx="382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47520" y="3775320"/>
            <a:ext cx="382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69080" y="3775320"/>
            <a:ext cx="382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47520" y="1625760"/>
            <a:ext cx="252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01080" y="1625760"/>
            <a:ext cx="252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254640" y="1625760"/>
            <a:ext cx="252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47520" y="3775320"/>
            <a:ext cx="252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01080" y="3775320"/>
            <a:ext cx="252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254640" y="3775320"/>
            <a:ext cx="25268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47520" y="162576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47520" y="1625760"/>
            <a:ext cx="382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69080" y="1625760"/>
            <a:ext cx="382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45800" y="503280"/>
            <a:ext cx="838188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7520" y="1625760"/>
            <a:ext cx="382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9080" y="1625760"/>
            <a:ext cx="382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47520" y="3775320"/>
            <a:ext cx="382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7520" y="1625760"/>
            <a:ext cx="3829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69080" y="1625760"/>
            <a:ext cx="382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69080" y="3775320"/>
            <a:ext cx="382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7520" y="1625760"/>
            <a:ext cx="382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69080" y="1625760"/>
            <a:ext cx="3829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47520" y="3775320"/>
            <a:ext cx="7848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54800"/>
            <a:ext cx="990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2040"/>
            <a:ext cx="990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479600"/>
            <a:ext cx="990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" name=""/>
          <p:cNvSpPr/>
          <p:nvPr/>
        </p:nvSpPr>
        <p:spPr>
          <a:xfrm>
            <a:off x="1441800" y="34920"/>
            <a:ext cx="15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009999"/>
                </a:solidFill>
                <a:latin typeface="SIEMENS-Firmenmarke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S 57 Condensed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47520" y="162576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S 55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  <a:p>
            <a:pPr lvl="1" marL="622440" indent="-277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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S 55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  <a:p>
            <a:pPr lvl="2" marL="888840" indent="-264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UniversS 55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S 55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UniversS 55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S 55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  <a:p>
            <a:pPr lvl="4" marL="20574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UniversS 55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S 55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  <a:p>
            <a:pPr lvl="5" marL="20574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UniversS 55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S 55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  <a:p>
            <a:pPr lvl="6" marL="20574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UniversS 55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S 55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pic>
        <p:nvPicPr>
          <p:cNvPr id="6" name="IuC_PPT" descr=""/>
          <p:cNvPicPr/>
          <p:nvPr/>
        </p:nvPicPr>
        <p:blipFill>
          <a:blip r:embed="rId2"/>
          <a:stretch/>
        </p:blipFill>
        <p:spPr>
          <a:xfrm>
            <a:off x="7610400" y="6535800"/>
            <a:ext cx="1228680" cy="285840"/>
          </a:xfrm>
          <a:prstGeom prst="rect">
            <a:avLst/>
          </a:prstGeom>
          <a:ln w="0">
            <a:noFill/>
          </a:ln>
        </p:spPr>
      </p:pic>
      <p:grpSp>
        <p:nvGrpSpPr>
          <p:cNvPr id="7" name=""/>
          <p:cNvGrpSpPr/>
          <p:nvPr/>
        </p:nvGrpSpPr>
        <p:grpSpPr>
          <a:xfrm>
            <a:off x="0" y="380880"/>
            <a:ext cx="9906120" cy="6107400"/>
            <a:chOff x="0" y="380880"/>
            <a:chExt cx="9906120" cy="6107400"/>
          </a:xfrm>
        </p:grpSpPr>
        <p:sp>
          <p:nvSpPr>
            <p:cNvPr id="8" name=""/>
            <p:cNvSpPr/>
            <p:nvPr/>
          </p:nvSpPr>
          <p:spPr>
            <a:xfrm>
              <a:off x="0" y="380880"/>
              <a:ext cx="9906120" cy="6107400"/>
            </a:xfrm>
            <a:prstGeom prst="rect">
              <a:avLst/>
            </a:prstGeom>
            <a:solidFill>
              <a:srgbClr val="da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1476360"/>
              <a:ext cx="99061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</p:grpSp>
      <p:sp>
        <p:nvSpPr>
          <p:cNvPr id="10" name=""/>
          <p:cNvSpPr/>
          <p:nvPr/>
        </p:nvSpPr>
        <p:spPr>
          <a:xfrm>
            <a:off x="9144000" y="6683400"/>
            <a:ext cx="533520" cy="1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8659BCB-1575-4487-BAA3-B5A46EB19A29}" type="slidenum">
              <a:rPr b="0" lang="en-US" sz="800" spc="-1" strike="noStrike">
                <a:solidFill>
                  <a:srgbClr val="000000"/>
                </a:solidFill>
                <a:latin typeface="UniversS 55 Roman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UniversS 55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854360" y="6566040"/>
            <a:ext cx="5638680" cy="1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Terms of Delivery for I/O Models of Digital Integrated Circuits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2" name=""/>
          <p:cNvSpPr/>
          <p:nvPr/>
        </p:nvSpPr>
        <p:spPr>
          <a:xfrm>
            <a:off x="673200" y="6515280"/>
            <a:ext cx="1066680" cy="2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UniversS 55 Roman"/>
              </a:rPr>
              <a:t>© Siemens AG</a:t>
            </a:r>
            <a:endParaRPr b="0" lang="en-US" sz="600" spc="-1" strike="noStrike">
              <a:solidFill>
                <a:srgbClr val="000000"/>
              </a:solidFill>
              <a:latin typeface="UniversS 55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600" spc="-1" strike="noStrike">
                <a:solidFill>
                  <a:srgbClr val="000000"/>
                </a:solidFill>
                <a:latin typeface="UniversS 45 Light"/>
              </a:rPr>
              <a:t>Technology Applications</a:t>
            </a:r>
            <a:endParaRPr b="0" lang="en-US" sz="600" spc="-1" strike="noStrike">
              <a:solidFill>
                <a:srgbClr val="000000"/>
              </a:solidFill>
              <a:latin typeface="UniversS 55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UniversS 45 Light"/>
              </a:rPr>
              <a:t>ICN M TC 14       G.Bannert</a:t>
            </a:r>
            <a:endParaRPr b="0" lang="en-US" sz="600" spc="-1" strike="noStrike">
              <a:solidFill>
                <a:srgbClr val="000000"/>
              </a:solidFill>
              <a:latin typeface="UniversS 55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UniversS 45 Light"/>
              </a:rPr>
              <a:t>21.03.00              IBIS.ppt</a:t>
            </a:r>
            <a:endParaRPr b="0" lang="en-US" sz="6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64800" y="1466640"/>
            <a:ext cx="8231400" cy="173484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txBody>
          <a:bodyPr lIns="90360" rIns="90360" tIns="44280" bIns="4428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000" spc="-1" strike="noStrike">
                <a:solidFill>
                  <a:srgbClr val="330066"/>
                </a:solidFill>
                <a:latin typeface="UniversS 57 Condensed"/>
              </a:rPr>
              <a:t>Click to edit the title text format</a:t>
            </a:r>
            <a:endParaRPr b="0" lang="en-US" sz="6000" spc="-1" strike="noStrike">
              <a:solidFill>
                <a:srgbClr val="330066"/>
              </a:solidFill>
              <a:latin typeface="UniversS 57 Condensed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477120"/>
            <a:ext cx="990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95280"/>
            <a:ext cx="9906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41800" y="34920"/>
            <a:ext cx="15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500" spc="-1" strike="noStrike">
                <a:solidFill>
                  <a:srgbClr val="009999"/>
                </a:solidFill>
                <a:latin typeface="SIEMENS-Firmenmarke"/>
              </a:rPr>
              <a:t>s</a:t>
            </a:r>
            <a:endParaRPr b="0" lang="en-US" sz="25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80880"/>
            <a:ext cx="9906120" cy="613260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pic>
        <p:nvPicPr>
          <p:cNvPr id="54" name="IuC_PPT" descr=""/>
          <p:cNvPicPr/>
          <p:nvPr/>
        </p:nvPicPr>
        <p:blipFill>
          <a:blip r:embed="rId2"/>
          <a:stretch/>
        </p:blipFill>
        <p:spPr>
          <a:xfrm>
            <a:off x="7610400" y="6535800"/>
            <a:ext cx="1228680" cy="285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991720" y="6678720"/>
            <a:ext cx="533160" cy="1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FBBC7A2-CF63-4988-A625-8127123EF7C0}" type="slidenum">
              <a:rPr b="0" lang="en-US" sz="800" spc="-1" strike="noStrike">
                <a:solidFill>
                  <a:srgbClr val="000000"/>
                </a:solidFill>
                <a:latin typeface="UniversS 55 Roman"/>
              </a:rPr>
              <a:t>&lt;number&gt;</a:t>
            </a:fld>
            <a:r>
              <a:rPr b="0" lang="en-US" sz="800" spc="-1" strike="noStrike">
                <a:solidFill>
                  <a:srgbClr val="000000"/>
                </a:solidFill>
                <a:latin typeface="UniversS 55 Roman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S 55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  <a:p>
            <a:pPr lvl="1" marL="344520" indent="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S 55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  <a:p>
            <a:pPr lvl="2" marL="6238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UniversS 55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S 55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  <a:p>
            <a:pPr lvl="3" marL="137160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UniversS 55 Roman"/>
              <a:buChar char="–"/>
              <a:tabLst>
                <a:tab algn="l" pos="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S 55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  <a:p>
            <a:pPr lvl="4" marL="182880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UniversS 55 Roman"/>
              <a:buChar char="•"/>
              <a:tabLst>
                <a:tab algn="l" pos="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S 55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UniversS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S 55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UniversS 55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UniversS 55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22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23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24.wmf"/><Relationship Id="rId1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5.wmf"/><Relationship Id="rId7" Type="http://schemas.openxmlformats.org/officeDocument/2006/relationships/package" Target="../embeddings/oleObject4.docx"/><Relationship Id="rId8" Type="http://schemas.openxmlformats.org/officeDocument/2006/relationships/image" Target="../media/image6.wmf"/><Relationship Id="rId9" Type="http://schemas.openxmlformats.org/officeDocument/2006/relationships/package" Target="../embeddings/oleObject5.docx"/><Relationship Id="rId10" Type="http://schemas.openxmlformats.org/officeDocument/2006/relationships/image" Target="../media/image7.wmf"/><Relationship Id="rId11" Type="http://schemas.openxmlformats.org/officeDocument/2006/relationships/package" Target="../embeddings/oleObject6.docx"/><Relationship Id="rId12" Type="http://schemas.openxmlformats.org/officeDocument/2006/relationships/image" Target="../media/image8.wmf"/><Relationship Id="rId13" Type="http://schemas.openxmlformats.org/officeDocument/2006/relationships/package" Target="../embeddings/oleObject7.docx"/><Relationship Id="rId14" Type="http://schemas.openxmlformats.org/officeDocument/2006/relationships/image" Target="../media/image9.wmf"/><Relationship Id="rId1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521000"/>
            <a:ext cx="9906120" cy="173376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ffffff"/>
            </a:outerShdw>
          </a:effectLst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3600" spc="-1" strike="noStrike">
                <a:solidFill>
                  <a:srgbClr val="330066"/>
                </a:solidFill>
                <a:latin typeface="UniversS 57 Condensed"/>
              </a:rPr>
              <a:t>Siemens ICN I/O Model Specification</a:t>
            </a:r>
            <a:br>
              <a:rPr sz="6000"/>
            </a:br>
            <a:r>
              <a:rPr b="0" lang="de-DE" sz="2800" spc="-1" strike="noStrike">
                <a:solidFill>
                  <a:srgbClr val="330066"/>
                </a:solidFill>
                <a:latin typeface="UniversS 57 Condensed"/>
              </a:rPr>
              <a:t>Terms of Delivery for I/O Models of Digital Integrated Circuits</a:t>
            </a:r>
            <a:br>
              <a:rPr sz="2800"/>
            </a:br>
            <a:r>
              <a:rPr b="0" lang="de-DE" sz="2800" spc="-1" strike="noStrike">
                <a:solidFill>
                  <a:srgbClr val="330066"/>
                </a:solidFill>
                <a:latin typeface="UniversS 57 Condensed"/>
              </a:rPr>
              <a:t>V50004-Y1-T210-*-7625 Revision Feb.08.2000</a:t>
            </a:r>
            <a:endParaRPr b="0" lang="en-US" sz="2800" spc="-1" strike="noStrike">
              <a:solidFill>
                <a:srgbClr val="330066"/>
              </a:solidFill>
              <a:latin typeface="UniversS 57 Condensed"/>
            </a:endParaRPr>
          </a:p>
        </p:txBody>
      </p:sp>
      <p:sp>
        <p:nvSpPr>
          <p:cNvPr id="94" name=""/>
          <p:cNvSpPr/>
          <p:nvPr/>
        </p:nvSpPr>
        <p:spPr>
          <a:xfrm>
            <a:off x="1005480" y="4648320"/>
            <a:ext cx="319428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UniversS 55 Roman"/>
              </a:rPr>
              <a:t>Technology Applications</a:t>
            </a: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UniversS 55 Roman"/>
              </a:rPr>
              <a:t>ICN M TC 14,    G.Bannert</a:t>
            </a: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UniversS 55 Roman"/>
              </a:rPr>
              <a:t>Siemens AG,       Munich</a:t>
            </a:r>
            <a:endParaRPr b="0" lang="en-US" sz="2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9360" y="6249960"/>
            <a:ext cx="1348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© Siemens AG 1999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 rot="16235400">
            <a:off x="7249320" y="4075560"/>
            <a:ext cx="285840" cy="347760"/>
          </a:xfrm>
          <a:prstGeom prst="rtTriangl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97" name=""/>
          <p:cNvSpPr/>
          <p:nvPr/>
        </p:nvSpPr>
        <p:spPr>
          <a:xfrm rot="16235400">
            <a:off x="7667640" y="3717720"/>
            <a:ext cx="293760" cy="439920"/>
          </a:xfrm>
          <a:prstGeom prst="rtTriangle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7313040" y="4244040"/>
            <a:ext cx="2160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UniversS 57 Condensed"/>
              </a:rPr>
              <a:t>Examples out of Part 2: Distribution of IBIS Points of Table</a:t>
            </a: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800" name=""/>
          <p:cNvSpPr/>
          <p:nvPr/>
        </p:nvSpPr>
        <p:spPr>
          <a:xfrm>
            <a:off x="-977760" y="2908440"/>
            <a:ext cx="139680" cy="13968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-771480" y="2908440"/>
            <a:ext cx="139680" cy="139680"/>
          </a:xfrm>
          <a:prstGeom prst="rect">
            <a:avLst/>
          </a:prstGeom>
          <a:solidFill>
            <a:srgbClr val="66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-565200" y="2908440"/>
            <a:ext cx="139680" cy="139680"/>
          </a:xfrm>
          <a:prstGeom prst="rect">
            <a:avLst/>
          </a:prstGeom>
          <a:solidFill>
            <a:srgbClr val="99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-358920" y="2908440"/>
            <a:ext cx="139680" cy="139680"/>
          </a:xfrm>
          <a:prstGeom prst="rect">
            <a:avLst/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-993240" y="2673360"/>
            <a:ext cx="5036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4 × Grau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-984240" y="216000"/>
            <a:ext cx="15228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-984240" y="444600"/>
            <a:ext cx="152280" cy="15228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-984240" y="673200"/>
            <a:ext cx="152280" cy="152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-777960" y="444600"/>
            <a:ext cx="1526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-777960" y="673200"/>
            <a:ext cx="15264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-571680" y="216000"/>
            <a:ext cx="152640" cy="15228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-365040" y="1225440"/>
            <a:ext cx="152280" cy="1526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-571680" y="444600"/>
            <a:ext cx="152640" cy="1522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-571680" y="673200"/>
            <a:ext cx="152640" cy="1522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-777960" y="216000"/>
            <a:ext cx="152640" cy="152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-990720" y="1041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Warm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-365040" y="1454040"/>
            <a:ext cx="152280" cy="152640"/>
          </a:xfrm>
          <a:prstGeom prst="rect">
            <a:avLst/>
          </a:prstGeom>
          <a:solidFill>
            <a:srgbClr val="99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-365040" y="1682640"/>
            <a:ext cx="152280" cy="152640"/>
          </a:xfrm>
          <a:prstGeom prst="rect">
            <a:avLst/>
          </a:prstGeom>
          <a:solidFill>
            <a:srgbClr val="cc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-984240" y="122220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-984240" y="1450800"/>
            <a:ext cx="152280" cy="1526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-984240" y="1679400"/>
            <a:ext cx="152280" cy="152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-777960" y="1450800"/>
            <a:ext cx="152640" cy="1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-777960" y="1679400"/>
            <a:ext cx="1526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-571680" y="1222200"/>
            <a:ext cx="152640" cy="1526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-571680" y="1450800"/>
            <a:ext cx="152640" cy="15264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-571680" y="1679400"/>
            <a:ext cx="152640" cy="1526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-777960" y="1222200"/>
            <a:ext cx="15264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-990720" y="34920"/>
            <a:ext cx="7621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Kalt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-990720" y="2049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Vorzugs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-990720" y="2254320"/>
            <a:ext cx="15264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-990720" y="2444760"/>
            <a:ext cx="152640" cy="152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-762120" y="2254320"/>
            <a:ext cx="15264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-533520" y="2444760"/>
            <a:ext cx="152640" cy="15228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-533520" y="2254320"/>
            <a:ext cx="152640" cy="1522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-758880" y="2443320"/>
            <a:ext cx="150840" cy="150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-366840" y="220680"/>
            <a:ext cx="152640" cy="1522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-366840" y="449280"/>
            <a:ext cx="152640" cy="15228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-366840" y="677880"/>
            <a:ext cx="152640" cy="15228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graphicFrame>
        <p:nvGraphicFramePr>
          <p:cNvPr id="838" name=""/>
          <p:cNvGraphicFramePr/>
          <p:nvPr/>
        </p:nvGraphicFramePr>
        <p:xfrm>
          <a:off x="171360" y="2743200"/>
          <a:ext cx="6019920" cy="267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2743200"/>
                    <a:ext cx="6019920" cy="26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"/>
          <p:cNvSpPr/>
          <p:nvPr/>
        </p:nvSpPr>
        <p:spPr>
          <a:xfrm>
            <a:off x="6589800" y="2693880"/>
            <a:ext cx="2646360" cy="1689120"/>
          </a:xfrm>
          <a:custGeom>
            <a:avLst/>
            <a:gdLst/>
            <a:ahLst/>
            <a:rect l="l" t="t" r="r" b="b"/>
            <a:pathLst>
              <a:path w="1048" h="686">
                <a:moveTo>
                  <a:pt x="1048" y="0"/>
                </a:moveTo>
                <a:lnTo>
                  <a:pt x="802" y="33"/>
                </a:lnTo>
                <a:lnTo>
                  <a:pt x="697" y="47"/>
                </a:lnTo>
                <a:lnTo>
                  <a:pt x="622" y="66"/>
                </a:lnTo>
                <a:lnTo>
                  <a:pt x="548" y="92"/>
                </a:lnTo>
                <a:lnTo>
                  <a:pt x="505" y="107"/>
                </a:lnTo>
                <a:lnTo>
                  <a:pt x="451" y="132"/>
                </a:lnTo>
                <a:lnTo>
                  <a:pt x="388" y="173"/>
                </a:lnTo>
                <a:lnTo>
                  <a:pt x="330" y="218"/>
                </a:lnTo>
                <a:lnTo>
                  <a:pt x="278" y="275"/>
                </a:lnTo>
                <a:lnTo>
                  <a:pt x="214" y="354"/>
                </a:lnTo>
                <a:lnTo>
                  <a:pt x="137" y="458"/>
                </a:lnTo>
                <a:lnTo>
                  <a:pt x="49" y="593"/>
                </a:lnTo>
                <a:lnTo>
                  <a:pt x="12" y="663"/>
                </a:lnTo>
                <a:lnTo>
                  <a:pt x="0" y="6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862600" y="5194440"/>
            <a:ext cx="369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36000" rIns="36000" tIns="-36000" bIns="-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42" name=""/>
          <p:cNvSpPr/>
          <p:nvPr/>
        </p:nvSpPr>
        <p:spPr>
          <a:xfrm flipV="1">
            <a:off x="6005520" y="2418840"/>
            <a:ext cx="0" cy="318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6586560" y="3124080"/>
            <a:ext cx="2728800" cy="1922760"/>
          </a:xfrm>
          <a:custGeom>
            <a:avLst/>
            <a:gdLst/>
            <a:ahLst/>
            <a:rect l="l" t="t" r="r" b="b"/>
            <a:pathLst>
              <a:path w="1297" h="938">
                <a:moveTo>
                  <a:pt x="1297" y="0"/>
                </a:moveTo>
                <a:lnTo>
                  <a:pt x="1213" y="36"/>
                </a:lnTo>
                <a:lnTo>
                  <a:pt x="1129" y="78"/>
                </a:lnTo>
                <a:lnTo>
                  <a:pt x="997" y="147"/>
                </a:lnTo>
                <a:lnTo>
                  <a:pt x="865" y="216"/>
                </a:lnTo>
                <a:lnTo>
                  <a:pt x="765" y="271"/>
                </a:lnTo>
                <a:lnTo>
                  <a:pt x="643" y="349"/>
                </a:lnTo>
                <a:lnTo>
                  <a:pt x="494" y="452"/>
                </a:lnTo>
                <a:lnTo>
                  <a:pt x="325" y="586"/>
                </a:lnTo>
                <a:lnTo>
                  <a:pt x="253" y="656"/>
                </a:lnTo>
                <a:lnTo>
                  <a:pt x="97" y="818"/>
                </a:lnTo>
                <a:lnTo>
                  <a:pt x="0" y="938"/>
                </a:lnTo>
              </a:path>
            </a:pathLst>
          </a:custGeom>
          <a:noFill/>
          <a:ln w="284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091280" y="3576600"/>
            <a:ext cx="38160" cy="3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-11160" bIns="-11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145280" y="4390920"/>
            <a:ext cx="38160" cy="3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-11160" bIns="-11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854760" y="3886200"/>
            <a:ext cx="38160" cy="3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-11160" bIns="-11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564320" y="4070520"/>
            <a:ext cx="38160" cy="3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-11160" bIns="-11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343640" y="3252960"/>
            <a:ext cx="38160" cy="3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-11160" bIns="-11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023320" y="3762360"/>
            <a:ext cx="38160" cy="34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-11160" bIns="-1116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6583320" y="4997520"/>
            <a:ext cx="38160" cy="33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-12240" bIns="-12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126560" y="4151880"/>
            <a:ext cx="12924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7420680" y="3861360"/>
            <a:ext cx="244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798880" y="2518200"/>
            <a:ext cx="957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6756840" y="3704040"/>
            <a:ext cx="12924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868080" y="3405600"/>
            <a:ext cx="244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+1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8835480" y="2748600"/>
            <a:ext cx="2664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251640" y="5229720"/>
            <a:ext cx="1245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58" name=""/>
          <p:cNvSpPr/>
          <p:nvPr/>
        </p:nvSpPr>
        <p:spPr>
          <a:xfrm rot="16166400">
            <a:off x="7326000" y="4717800"/>
            <a:ext cx="235080" cy="1244520"/>
          </a:xfrm>
          <a:custGeom>
            <a:avLst/>
            <a:gdLst>
              <a:gd name="textAreaLeft" fmla="*/ 150120 w 235080"/>
              <a:gd name="textAreaRight" fmla="*/ 235440 w 235080"/>
              <a:gd name="textAreaTop" fmla="*/ 32400 h 1244520"/>
              <a:gd name="textAreaBottom" fmla="*/ 1212120 h 1244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541560" y="5418720"/>
            <a:ext cx="1793160" cy="31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-points on x-axis</a:t>
            </a:r>
            <a:endParaRPr b="0" lang="en-US" sz="16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090200" y="3096000"/>
            <a:ext cx="244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+2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750800" y="3574080"/>
            <a:ext cx="244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+2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8911800" y="3281760"/>
            <a:ext cx="2725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yp 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877080" y="3909960"/>
            <a:ext cx="0" cy="1284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7164360" y="4397400"/>
            <a:ext cx="9720" cy="79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121520" y="3608280"/>
            <a:ext cx="0" cy="1578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575480" y="4108320"/>
            <a:ext cx="1800" cy="27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369200" y="3276720"/>
            <a:ext cx="0" cy="127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68" name=""/>
          <p:cNvSpPr/>
          <p:nvPr/>
        </p:nvSpPr>
        <p:spPr>
          <a:xfrm flipV="1">
            <a:off x="7581960" y="4079880"/>
            <a:ext cx="44748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082000" y="3816720"/>
            <a:ext cx="24336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1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70" name=""/>
          <p:cNvSpPr/>
          <p:nvPr/>
        </p:nvSpPr>
        <p:spPr>
          <a:xfrm flipV="1">
            <a:off x="7174080" y="4400280"/>
            <a:ext cx="3967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619040" y="4137480"/>
            <a:ext cx="24480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  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7748280" y="3918600"/>
            <a:ext cx="272520" cy="1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8040600" y="3800520"/>
            <a:ext cx="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575480" y="4357800"/>
            <a:ext cx="0" cy="825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8029440" y="4070520"/>
            <a:ext cx="0" cy="1112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76" name=""/>
          <p:cNvSpPr/>
          <p:nvPr/>
        </p:nvSpPr>
        <p:spPr>
          <a:xfrm flipH="1">
            <a:off x="7375680" y="4554360"/>
            <a:ext cx="1440" cy="62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28560" y="1878840"/>
            <a:ext cx="32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S 55 Roman"/>
              </a:rPr>
              <a:t>Principle (recommendation )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UniversS 57 Condensed"/>
              </a:rPr>
              <a:t>Examples out of Part 2: Keyword [Rising and Falling Wave Form]</a:t>
            </a: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879" name=""/>
          <p:cNvSpPr/>
          <p:nvPr/>
        </p:nvSpPr>
        <p:spPr>
          <a:xfrm>
            <a:off x="-977760" y="2908440"/>
            <a:ext cx="139680" cy="13968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-771480" y="2908440"/>
            <a:ext cx="139680" cy="139680"/>
          </a:xfrm>
          <a:prstGeom prst="rect">
            <a:avLst/>
          </a:prstGeom>
          <a:solidFill>
            <a:srgbClr val="66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-565200" y="2908440"/>
            <a:ext cx="139680" cy="139680"/>
          </a:xfrm>
          <a:prstGeom prst="rect">
            <a:avLst/>
          </a:prstGeom>
          <a:solidFill>
            <a:srgbClr val="99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-358920" y="2908440"/>
            <a:ext cx="139680" cy="139680"/>
          </a:xfrm>
          <a:prstGeom prst="rect">
            <a:avLst/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-993240" y="2673360"/>
            <a:ext cx="5036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4 × Grau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-984240" y="216000"/>
            <a:ext cx="15228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-984240" y="444600"/>
            <a:ext cx="152280" cy="15228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-984240" y="673200"/>
            <a:ext cx="152280" cy="152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-777960" y="444600"/>
            <a:ext cx="1526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-777960" y="673200"/>
            <a:ext cx="15264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-571680" y="216000"/>
            <a:ext cx="152640" cy="15228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-365040" y="1225440"/>
            <a:ext cx="152280" cy="1526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-571680" y="444600"/>
            <a:ext cx="152640" cy="1522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-571680" y="673200"/>
            <a:ext cx="152640" cy="1522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-777960" y="216000"/>
            <a:ext cx="152640" cy="152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-990720" y="1041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Warm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-365040" y="1454040"/>
            <a:ext cx="152280" cy="152640"/>
          </a:xfrm>
          <a:prstGeom prst="rect">
            <a:avLst/>
          </a:prstGeom>
          <a:solidFill>
            <a:srgbClr val="99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-365040" y="1682640"/>
            <a:ext cx="152280" cy="152640"/>
          </a:xfrm>
          <a:prstGeom prst="rect">
            <a:avLst/>
          </a:prstGeom>
          <a:solidFill>
            <a:srgbClr val="cc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-984240" y="122220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-984240" y="1450800"/>
            <a:ext cx="152280" cy="1526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-984240" y="1679400"/>
            <a:ext cx="152280" cy="152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-777960" y="1450800"/>
            <a:ext cx="152640" cy="1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-777960" y="1679400"/>
            <a:ext cx="1526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-571680" y="1222200"/>
            <a:ext cx="152640" cy="1526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-571680" y="1450800"/>
            <a:ext cx="152640" cy="15264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571680" y="1679400"/>
            <a:ext cx="152640" cy="1526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-777960" y="1222200"/>
            <a:ext cx="15264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-990720" y="34920"/>
            <a:ext cx="7621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Kalt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-990720" y="2049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Vorzugs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-990720" y="2254320"/>
            <a:ext cx="15264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-990720" y="2444760"/>
            <a:ext cx="152640" cy="152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-762120" y="2254320"/>
            <a:ext cx="15264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-533520" y="2444760"/>
            <a:ext cx="152640" cy="15228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-533520" y="2254320"/>
            <a:ext cx="152640" cy="1522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-758880" y="2443320"/>
            <a:ext cx="150840" cy="150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-366840" y="220680"/>
            <a:ext cx="152640" cy="1522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-366840" y="449280"/>
            <a:ext cx="152640" cy="15228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-366840" y="677880"/>
            <a:ext cx="152640" cy="15228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008000" y="4675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028880" y="3929040"/>
            <a:ext cx="368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19" name=""/>
          <p:cNvSpPr/>
          <p:nvPr/>
        </p:nvSpPr>
        <p:spPr>
          <a:xfrm flipV="1">
            <a:off x="1020600" y="1674360"/>
            <a:ext cx="0" cy="252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20" name=""/>
          <p:cNvSpPr/>
          <p:nvPr/>
        </p:nvSpPr>
        <p:spPr>
          <a:xfrm flipV="1">
            <a:off x="1017720" y="3114000"/>
            <a:ext cx="3038400" cy="909720"/>
          </a:xfrm>
          <a:custGeom>
            <a:avLst/>
            <a:gdLst/>
            <a:ahLst/>
            <a:rect l="l" t="t" r="r" b="b"/>
            <a:pathLst>
              <a:path w="1371" h="1078">
                <a:moveTo>
                  <a:pt x="0" y="892"/>
                </a:moveTo>
                <a:lnTo>
                  <a:pt x="64" y="892"/>
                </a:lnTo>
                <a:lnTo>
                  <a:pt x="85" y="886"/>
                </a:lnTo>
                <a:lnTo>
                  <a:pt x="117" y="844"/>
                </a:lnTo>
                <a:lnTo>
                  <a:pt x="134" y="805"/>
                </a:lnTo>
                <a:lnTo>
                  <a:pt x="209" y="553"/>
                </a:lnTo>
                <a:lnTo>
                  <a:pt x="299" y="220"/>
                </a:lnTo>
                <a:lnTo>
                  <a:pt x="320" y="142"/>
                </a:lnTo>
                <a:lnTo>
                  <a:pt x="339" y="61"/>
                </a:lnTo>
                <a:lnTo>
                  <a:pt x="361" y="7"/>
                </a:lnTo>
                <a:lnTo>
                  <a:pt x="380" y="0"/>
                </a:lnTo>
                <a:lnTo>
                  <a:pt x="398" y="9"/>
                </a:lnTo>
                <a:lnTo>
                  <a:pt x="408" y="28"/>
                </a:lnTo>
                <a:lnTo>
                  <a:pt x="416" y="64"/>
                </a:lnTo>
                <a:lnTo>
                  <a:pt x="418" y="88"/>
                </a:lnTo>
                <a:cubicBezTo>
                  <a:pt x="419" y="97"/>
                  <a:pt x="421" y="106"/>
                  <a:pt x="423" y="115"/>
                </a:cubicBezTo>
                <a:cubicBezTo>
                  <a:pt x="426" y="125"/>
                  <a:pt x="428" y="143"/>
                  <a:pt x="434" y="151"/>
                </a:cubicBezTo>
                <a:lnTo>
                  <a:pt x="449" y="169"/>
                </a:lnTo>
                <a:lnTo>
                  <a:pt x="485" y="169"/>
                </a:lnTo>
                <a:lnTo>
                  <a:pt x="897" y="169"/>
                </a:lnTo>
                <a:lnTo>
                  <a:pt x="915" y="171"/>
                </a:lnTo>
                <a:lnTo>
                  <a:pt x="930" y="178"/>
                </a:lnTo>
                <a:lnTo>
                  <a:pt x="942" y="190"/>
                </a:lnTo>
                <a:lnTo>
                  <a:pt x="953" y="226"/>
                </a:lnTo>
                <a:lnTo>
                  <a:pt x="959" y="259"/>
                </a:lnTo>
                <a:lnTo>
                  <a:pt x="985" y="403"/>
                </a:lnTo>
                <a:lnTo>
                  <a:pt x="1017" y="550"/>
                </a:lnTo>
                <a:lnTo>
                  <a:pt x="1044" y="676"/>
                </a:lnTo>
                <a:lnTo>
                  <a:pt x="1066" y="772"/>
                </a:lnTo>
                <a:lnTo>
                  <a:pt x="1085" y="856"/>
                </a:lnTo>
                <a:lnTo>
                  <a:pt x="1125" y="1015"/>
                </a:lnTo>
                <a:lnTo>
                  <a:pt x="1140" y="1060"/>
                </a:lnTo>
                <a:lnTo>
                  <a:pt x="1157" y="1072"/>
                </a:lnTo>
                <a:lnTo>
                  <a:pt x="1170" y="1078"/>
                </a:lnTo>
                <a:lnTo>
                  <a:pt x="1185" y="1078"/>
                </a:lnTo>
                <a:lnTo>
                  <a:pt x="1202" y="1060"/>
                </a:lnTo>
                <a:lnTo>
                  <a:pt x="1213" y="1048"/>
                </a:lnTo>
                <a:lnTo>
                  <a:pt x="1224" y="1015"/>
                </a:lnTo>
                <a:lnTo>
                  <a:pt x="1251" y="925"/>
                </a:lnTo>
                <a:lnTo>
                  <a:pt x="1260" y="907"/>
                </a:lnTo>
                <a:lnTo>
                  <a:pt x="1277" y="898"/>
                </a:lnTo>
                <a:lnTo>
                  <a:pt x="1292" y="898"/>
                </a:lnTo>
                <a:lnTo>
                  <a:pt x="1371" y="89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032920" y="3986280"/>
            <a:ext cx="826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yn_baseline_gnd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1402920" y="3117960"/>
            <a:ext cx="1221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at_topline_gnd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622440" y="3865680"/>
            <a:ext cx="35924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500120" y="3573360"/>
            <a:ext cx="722520" cy="301680"/>
          </a:xfrm>
          <a:custGeom>
            <a:avLst/>
            <a:gdLst/>
            <a:ahLst/>
            <a:rect l="l" t="t" r="r" b="b"/>
            <a:pathLst>
              <a:path w="455" h="190">
                <a:moveTo>
                  <a:pt x="455" y="187"/>
                </a:moveTo>
                <a:lnTo>
                  <a:pt x="346" y="190"/>
                </a:lnTo>
                <a:lnTo>
                  <a:pt x="255" y="188"/>
                </a:lnTo>
                <a:lnTo>
                  <a:pt x="189" y="176"/>
                </a:lnTo>
                <a:lnTo>
                  <a:pt x="135" y="150"/>
                </a:lnTo>
                <a:lnTo>
                  <a:pt x="87" y="106"/>
                </a:lnTo>
                <a:lnTo>
                  <a:pt x="54" y="62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1069920" y="3263760"/>
            <a:ext cx="2873520" cy="0"/>
          </a:xfrm>
          <a:prstGeom prst="line">
            <a:avLst/>
          </a:prstGeom>
          <a:ln cap="rnd" w="9360">
            <a:solidFill>
              <a:srgbClr val="ff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270240" y="3708360"/>
            <a:ext cx="82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tat_baseline_gnd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523960" y="3111480"/>
            <a:ext cx="13161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2620080" y="2962440"/>
            <a:ext cx="7765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yn._topline_gnd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493880" y="39798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524400" y="21528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1060560" y="1955880"/>
            <a:ext cx="3038400" cy="911160"/>
          </a:xfrm>
          <a:custGeom>
            <a:avLst/>
            <a:gdLst/>
            <a:ahLst/>
            <a:rect l="l" t="t" r="r" b="b"/>
            <a:pathLst>
              <a:path w="1371" h="1078">
                <a:moveTo>
                  <a:pt x="0" y="892"/>
                </a:moveTo>
                <a:lnTo>
                  <a:pt x="64" y="892"/>
                </a:lnTo>
                <a:lnTo>
                  <a:pt x="85" y="886"/>
                </a:lnTo>
                <a:lnTo>
                  <a:pt x="117" y="844"/>
                </a:lnTo>
                <a:lnTo>
                  <a:pt x="134" y="805"/>
                </a:lnTo>
                <a:lnTo>
                  <a:pt x="209" y="553"/>
                </a:lnTo>
                <a:lnTo>
                  <a:pt x="299" y="220"/>
                </a:lnTo>
                <a:lnTo>
                  <a:pt x="320" y="142"/>
                </a:lnTo>
                <a:lnTo>
                  <a:pt x="339" y="61"/>
                </a:lnTo>
                <a:lnTo>
                  <a:pt x="361" y="7"/>
                </a:lnTo>
                <a:lnTo>
                  <a:pt x="380" y="0"/>
                </a:lnTo>
                <a:lnTo>
                  <a:pt x="398" y="9"/>
                </a:lnTo>
                <a:lnTo>
                  <a:pt x="408" y="28"/>
                </a:lnTo>
                <a:lnTo>
                  <a:pt x="416" y="64"/>
                </a:lnTo>
                <a:lnTo>
                  <a:pt x="418" y="88"/>
                </a:lnTo>
                <a:cubicBezTo>
                  <a:pt x="419" y="97"/>
                  <a:pt x="421" y="106"/>
                  <a:pt x="423" y="115"/>
                </a:cubicBezTo>
                <a:cubicBezTo>
                  <a:pt x="426" y="125"/>
                  <a:pt x="428" y="143"/>
                  <a:pt x="434" y="151"/>
                </a:cubicBezTo>
                <a:lnTo>
                  <a:pt x="449" y="169"/>
                </a:lnTo>
                <a:lnTo>
                  <a:pt x="485" y="169"/>
                </a:lnTo>
                <a:lnTo>
                  <a:pt x="897" y="169"/>
                </a:lnTo>
                <a:lnTo>
                  <a:pt x="915" y="171"/>
                </a:lnTo>
                <a:lnTo>
                  <a:pt x="930" y="178"/>
                </a:lnTo>
                <a:lnTo>
                  <a:pt x="942" y="190"/>
                </a:lnTo>
                <a:lnTo>
                  <a:pt x="953" y="226"/>
                </a:lnTo>
                <a:lnTo>
                  <a:pt x="959" y="259"/>
                </a:lnTo>
                <a:lnTo>
                  <a:pt x="985" y="403"/>
                </a:lnTo>
                <a:lnTo>
                  <a:pt x="1017" y="550"/>
                </a:lnTo>
                <a:lnTo>
                  <a:pt x="1044" y="676"/>
                </a:lnTo>
                <a:lnTo>
                  <a:pt x="1066" y="772"/>
                </a:lnTo>
                <a:lnTo>
                  <a:pt x="1085" y="856"/>
                </a:lnTo>
                <a:lnTo>
                  <a:pt x="1125" y="1015"/>
                </a:lnTo>
                <a:lnTo>
                  <a:pt x="1140" y="1060"/>
                </a:lnTo>
                <a:lnTo>
                  <a:pt x="1157" y="1072"/>
                </a:lnTo>
                <a:lnTo>
                  <a:pt x="1170" y="1078"/>
                </a:lnTo>
                <a:lnTo>
                  <a:pt x="1185" y="1078"/>
                </a:lnTo>
                <a:lnTo>
                  <a:pt x="1202" y="1060"/>
                </a:lnTo>
                <a:lnTo>
                  <a:pt x="1213" y="1048"/>
                </a:lnTo>
                <a:lnTo>
                  <a:pt x="1224" y="1015"/>
                </a:lnTo>
                <a:lnTo>
                  <a:pt x="1251" y="925"/>
                </a:lnTo>
                <a:lnTo>
                  <a:pt x="1260" y="907"/>
                </a:lnTo>
                <a:lnTo>
                  <a:pt x="1277" y="898"/>
                </a:lnTo>
                <a:lnTo>
                  <a:pt x="1292" y="898"/>
                </a:lnTo>
                <a:lnTo>
                  <a:pt x="1371" y="898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1552680" y="2085840"/>
            <a:ext cx="620640" cy="293760"/>
          </a:xfrm>
          <a:custGeom>
            <a:avLst/>
            <a:gdLst/>
            <a:ahLst/>
            <a:rect l="l" t="t" r="r" b="b"/>
            <a:pathLst>
              <a:path w="326" h="154">
                <a:moveTo>
                  <a:pt x="0" y="154"/>
                </a:moveTo>
                <a:lnTo>
                  <a:pt x="38" y="103"/>
                </a:lnTo>
                <a:lnTo>
                  <a:pt x="63" y="74"/>
                </a:lnTo>
                <a:lnTo>
                  <a:pt x="103" y="36"/>
                </a:lnTo>
                <a:lnTo>
                  <a:pt x="127" y="18"/>
                </a:lnTo>
                <a:lnTo>
                  <a:pt x="151" y="9"/>
                </a:lnTo>
                <a:lnTo>
                  <a:pt x="196" y="0"/>
                </a:lnTo>
                <a:lnTo>
                  <a:pt x="240" y="7"/>
                </a:lnTo>
                <a:lnTo>
                  <a:pt x="272" y="7"/>
                </a:lnTo>
                <a:lnTo>
                  <a:pt x="326" y="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870840" y="165564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0280" y="1954080"/>
            <a:ext cx="2373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2987640" y="2263680"/>
            <a:ext cx="519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056040" y="2228760"/>
            <a:ext cx="210960" cy="411120"/>
          </a:xfrm>
          <a:custGeom>
            <a:avLst/>
            <a:gdLst/>
            <a:ahLst/>
            <a:rect l="l" t="t" r="r" b="b"/>
            <a:pathLst>
              <a:path w="111" h="216">
                <a:moveTo>
                  <a:pt x="0" y="0"/>
                </a:moveTo>
                <a:lnTo>
                  <a:pt x="36" y="75"/>
                </a:lnTo>
                <a:lnTo>
                  <a:pt x="57" y="117"/>
                </a:lnTo>
                <a:lnTo>
                  <a:pt x="87" y="168"/>
                </a:lnTo>
                <a:lnTo>
                  <a:pt x="111" y="216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409920" y="2239920"/>
            <a:ext cx="211320" cy="411120"/>
          </a:xfrm>
          <a:custGeom>
            <a:avLst/>
            <a:gdLst/>
            <a:ahLst/>
            <a:rect l="l" t="t" r="r" b="b"/>
            <a:pathLst>
              <a:path w="111" h="216">
                <a:moveTo>
                  <a:pt x="0" y="0"/>
                </a:moveTo>
                <a:lnTo>
                  <a:pt x="36" y="75"/>
                </a:lnTo>
                <a:lnTo>
                  <a:pt x="57" y="117"/>
                </a:lnTo>
                <a:lnTo>
                  <a:pt x="87" y="168"/>
                </a:lnTo>
                <a:lnTo>
                  <a:pt x="111" y="216"/>
                </a:lnTo>
              </a:path>
            </a:pathLst>
          </a:custGeom>
          <a:noFill/>
          <a:ln w="1908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06800" y="2565360"/>
            <a:ext cx="5205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666960" y="25002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52640" y="2092320"/>
            <a:ext cx="1828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995480" y="1800360"/>
            <a:ext cx="733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yn_topline_vcc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845880" y="1969920"/>
            <a:ext cx="7351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tat_topline_vcc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2122560" y="2114640"/>
            <a:ext cx="4680" cy="59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638280" y="1952640"/>
            <a:ext cx="0" cy="75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791000" y="2224080"/>
            <a:ext cx="26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tat.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wing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02000" y="2124000"/>
            <a:ext cx="261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yn.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wing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2751840" y="2335320"/>
            <a:ext cx="165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in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3707280" y="2327400"/>
            <a:ext cx="223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ax 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2239200" y="2573280"/>
            <a:ext cx="814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tat_baseline_vcc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3924360" y="2222640"/>
            <a:ext cx="182520" cy="372960"/>
          </a:xfrm>
          <a:custGeom>
            <a:avLst/>
            <a:gdLst>
              <a:gd name="textAreaLeft" fmla="*/ 0 w 182520"/>
              <a:gd name="textAreaRight" fmla="*/ 65880 w 182520"/>
              <a:gd name="textAreaTop" fmla="*/ 29160 h 372960"/>
              <a:gd name="textAreaBottom" fmla="*/ 343800 h 37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16200" y="10800"/>
                  <a:pt x="21600" y="10800"/>
                </a:cubicBezTo>
                <a:cubicBezTo>
                  <a:pt x="162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147200" y="2282760"/>
            <a:ext cx="436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range for 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sigma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446640" y="2873520"/>
            <a:ext cx="12906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885840" y="2738520"/>
            <a:ext cx="842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dyn._baseline_vcc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055520" y="2098800"/>
            <a:ext cx="9874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682200" y="4063680"/>
            <a:ext cx="576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90480" y="3703680"/>
            <a:ext cx="0" cy="16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15960" y="3890880"/>
            <a:ext cx="285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533520" y="2716200"/>
            <a:ext cx="35049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5008680" y="2257560"/>
            <a:ext cx="477000" cy="1730520"/>
            <a:chOff x="5008680" y="2257560"/>
            <a:chExt cx="477000" cy="1730520"/>
          </a:xfrm>
        </p:grpSpPr>
        <p:sp>
          <p:nvSpPr>
            <p:cNvPr id="960" name=""/>
            <p:cNvSpPr/>
            <p:nvPr/>
          </p:nvSpPr>
          <p:spPr>
            <a:xfrm>
              <a:off x="5008680" y="3633840"/>
              <a:ext cx="4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rot="5400000">
              <a:off x="5113800" y="3562560"/>
              <a:ext cx="224280" cy="13860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5039640" y="3866040"/>
              <a:ext cx="192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0160"/>
                  <a:tab algn="l" pos="2200320"/>
                  <a:tab algn="l" pos="3300480"/>
                  <a:tab algn="l" pos="4400640"/>
                  <a:tab algn="l" pos="5500800"/>
                  <a:tab algn="l" pos="6600960"/>
                  <a:tab algn="l" pos="7701120"/>
                  <a:tab algn="l" pos="8801280"/>
                  <a:tab algn="l" pos="99010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Gnd</a:t>
              </a:r>
              <a:endParaRPr b="0" lang="en-US" sz="8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grpSp>
          <p:nvGrpSpPr>
            <p:cNvPr id="963" name=""/>
            <p:cNvGrpSpPr/>
            <p:nvPr/>
          </p:nvGrpSpPr>
          <p:grpSpPr>
            <a:xfrm>
              <a:off x="5398560" y="3635640"/>
              <a:ext cx="64080" cy="277200"/>
              <a:chOff x="5398560" y="3635640"/>
              <a:chExt cx="64080" cy="277200"/>
            </a:xfrm>
          </p:grpSpPr>
          <p:sp>
            <p:nvSpPr>
              <p:cNvPr id="964" name=""/>
              <p:cNvSpPr/>
              <p:nvPr/>
            </p:nvSpPr>
            <p:spPr>
              <a:xfrm>
                <a:off x="5398560" y="3709440"/>
                <a:ext cx="64080" cy="125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UniversS 55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V="1">
                <a:off x="5428800" y="3835080"/>
                <a:ext cx="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UniversS 55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V="1">
                <a:off x="5428800" y="3635640"/>
                <a:ext cx="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UniversS 55 Roman"/>
                </a:endParaRPr>
              </a:p>
            </p:txBody>
          </p:sp>
        </p:grpSp>
        <p:sp>
          <p:nvSpPr>
            <p:cNvPr id="967" name=""/>
            <p:cNvSpPr/>
            <p:nvPr/>
          </p:nvSpPr>
          <p:spPr>
            <a:xfrm>
              <a:off x="5031360" y="2555640"/>
              <a:ext cx="427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rot="5400000">
              <a:off x="5136480" y="2484360"/>
              <a:ext cx="223920" cy="138600"/>
            </a:xfrm>
            <a:prstGeom prst="triangle">
              <a:avLst>
                <a:gd name="adj" fmla="val 49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5089320" y="2257560"/>
              <a:ext cx="1728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100160"/>
                  <a:tab algn="l" pos="2200320"/>
                  <a:tab algn="l" pos="3300480"/>
                  <a:tab algn="l" pos="4400640"/>
                  <a:tab algn="l" pos="5500800"/>
                  <a:tab algn="l" pos="6600960"/>
                  <a:tab algn="l" pos="7701120"/>
                  <a:tab algn="l" pos="8801280"/>
                  <a:tab algn="l" pos="99010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Vcc</a:t>
              </a:r>
              <a:endParaRPr b="0" lang="en-US" sz="8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grpSp>
          <p:nvGrpSpPr>
            <p:cNvPr id="970" name=""/>
            <p:cNvGrpSpPr/>
            <p:nvPr/>
          </p:nvGrpSpPr>
          <p:grpSpPr>
            <a:xfrm>
              <a:off x="5421600" y="2280240"/>
              <a:ext cx="64080" cy="277200"/>
              <a:chOff x="5421600" y="2280240"/>
              <a:chExt cx="64080" cy="277200"/>
            </a:xfrm>
          </p:grpSpPr>
          <p:sp>
            <p:nvSpPr>
              <p:cNvPr id="971" name=""/>
              <p:cNvSpPr/>
              <p:nvPr/>
            </p:nvSpPr>
            <p:spPr>
              <a:xfrm>
                <a:off x="5421600" y="2355840"/>
                <a:ext cx="64080" cy="1234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UniversS 55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V="1">
                <a:off x="5451840" y="2479680"/>
                <a:ext cx="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UniversS 55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V="1">
                <a:off x="5451840" y="2280240"/>
                <a:ext cx="0" cy="7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UniversS 55 Roman"/>
                </a:endParaRPr>
              </a:p>
            </p:txBody>
          </p:sp>
        </p:grpSp>
      </p:grpSp>
      <p:sp>
        <p:nvSpPr>
          <p:cNvPr id="974" name=""/>
          <p:cNvSpPr/>
          <p:nvPr/>
        </p:nvSpPr>
        <p:spPr>
          <a:xfrm flipV="1">
            <a:off x="3181320" y="2257200"/>
            <a:ext cx="103320" cy="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75" name=""/>
          <p:cNvSpPr/>
          <p:nvPr/>
        </p:nvSpPr>
        <p:spPr>
          <a:xfrm flipV="1">
            <a:off x="3352680" y="2554200"/>
            <a:ext cx="103320" cy="6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196440" y="1819440"/>
            <a:ext cx="1378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typ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2970360" y="2406600"/>
            <a:ext cx="171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495600" y="2400480"/>
            <a:ext cx="171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79" name=""/>
          <p:cNvSpPr/>
          <p:nvPr/>
        </p:nvSpPr>
        <p:spPr>
          <a:xfrm flipV="1">
            <a:off x="3200760" y="1964160"/>
            <a:ext cx="73800" cy="154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22440" y="4044960"/>
            <a:ext cx="13842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81" name=""/>
          <p:cNvSpPr/>
          <p:nvPr/>
        </p:nvSpPr>
        <p:spPr>
          <a:xfrm flipV="1">
            <a:off x="1149840" y="2116080"/>
            <a:ext cx="6120" cy="16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1122480" y="1781280"/>
            <a:ext cx="285480" cy="306000"/>
            <a:chOff x="1122480" y="1781280"/>
            <a:chExt cx="285480" cy="306000"/>
          </a:xfrm>
        </p:grpSpPr>
        <p:sp>
          <p:nvSpPr>
            <p:cNvPr id="983" name=""/>
            <p:cNvSpPr/>
            <p:nvPr/>
          </p:nvSpPr>
          <p:spPr>
            <a:xfrm>
              <a:off x="1159560" y="1781280"/>
              <a:ext cx="0" cy="1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122480" y="1965240"/>
              <a:ext cx="2854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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%</a:t>
              </a:r>
              <a:endParaRPr b="0" lang="en-US" sz="8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</p:grpSp>
      <p:sp>
        <p:nvSpPr>
          <p:cNvPr id="985" name=""/>
          <p:cNvSpPr/>
          <p:nvPr/>
        </p:nvSpPr>
        <p:spPr>
          <a:xfrm>
            <a:off x="1600200" y="2262240"/>
            <a:ext cx="69840" cy="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428840" y="21780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190320" y="5175360"/>
            <a:ext cx="38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Voh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464480" y="4251240"/>
            <a:ext cx="340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Ioh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507680" y="512748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Vcc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90" name=""/>
          <p:cNvSpPr/>
          <p:nvPr/>
        </p:nvSpPr>
        <p:spPr>
          <a:xfrm flipH="1">
            <a:off x="1850760" y="4269600"/>
            <a:ext cx="4680" cy="1816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432080" y="4654440"/>
            <a:ext cx="1409400" cy="1341720"/>
          </a:xfrm>
          <a:custGeom>
            <a:avLst/>
            <a:gdLst/>
            <a:ahLst/>
            <a:rect l="l" t="t" r="r" b="b"/>
            <a:pathLst>
              <a:path w="1767" h="1081">
                <a:moveTo>
                  <a:pt x="1767" y="1081"/>
                </a:moveTo>
                <a:lnTo>
                  <a:pt x="1601" y="1073"/>
                </a:lnTo>
                <a:lnTo>
                  <a:pt x="1458" y="1058"/>
                </a:lnTo>
                <a:lnTo>
                  <a:pt x="1355" y="1038"/>
                </a:lnTo>
                <a:lnTo>
                  <a:pt x="1254" y="1010"/>
                </a:lnTo>
                <a:lnTo>
                  <a:pt x="1194" y="993"/>
                </a:lnTo>
                <a:lnTo>
                  <a:pt x="1121" y="967"/>
                </a:lnTo>
                <a:lnTo>
                  <a:pt x="1035" y="924"/>
                </a:lnTo>
                <a:lnTo>
                  <a:pt x="956" y="875"/>
                </a:lnTo>
                <a:lnTo>
                  <a:pt x="885" y="814"/>
                </a:lnTo>
                <a:lnTo>
                  <a:pt x="797" y="730"/>
                </a:lnTo>
                <a:lnTo>
                  <a:pt x="692" y="619"/>
                </a:lnTo>
                <a:lnTo>
                  <a:pt x="572" y="475"/>
                </a:lnTo>
                <a:lnTo>
                  <a:pt x="521" y="400"/>
                </a:lnTo>
                <a:lnTo>
                  <a:pt x="410" y="226"/>
                </a:lnTo>
                <a:lnTo>
                  <a:pt x="346" y="144"/>
                </a:lnTo>
                <a:lnTo>
                  <a:pt x="242" y="68"/>
                </a:lnTo>
                <a:lnTo>
                  <a:pt x="144" y="15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2909880" y="4921200"/>
            <a:ext cx="32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V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672280" y="5583240"/>
            <a:ext cx="11545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R_fixture = 50 ohm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2328840" y="5159520"/>
            <a:ext cx="0" cy="70956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867320" y="4883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at_topline_gnd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96" name=""/>
          <p:cNvSpPr/>
          <p:nvPr/>
        </p:nvSpPr>
        <p:spPr>
          <a:xfrm flipH="1" flipV="1">
            <a:off x="1512720" y="5151240"/>
            <a:ext cx="2044800" cy="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97" name=""/>
          <p:cNvSpPr/>
          <p:nvPr/>
        </p:nvSpPr>
        <p:spPr>
          <a:xfrm flipV="1">
            <a:off x="2201760" y="5122440"/>
            <a:ext cx="824040" cy="85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graphicFrame>
        <p:nvGraphicFramePr>
          <p:cNvPr id="998" name=""/>
          <p:cNvGraphicFramePr/>
          <p:nvPr/>
        </p:nvGraphicFramePr>
        <p:xfrm>
          <a:off x="4373640" y="4170240"/>
          <a:ext cx="5959440" cy="2381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73640" y="4170240"/>
                    <a:ext cx="595944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0" name=""/>
          <p:cNvSpPr/>
          <p:nvPr/>
        </p:nvSpPr>
        <p:spPr>
          <a:xfrm>
            <a:off x="5873760" y="1719360"/>
            <a:ext cx="384012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Definition of: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- Stat_ and dyn_topline/baseline</a:t>
            </a:r>
            <a:br>
              <a:rPr sz="1400"/>
            </a:br>
            <a:r>
              <a:rPr b="1" lang="de-DE" sz="1400" spc="-1" strike="noStrike">
                <a:solidFill>
                  <a:srgbClr val="ff00ff"/>
                </a:solidFill>
                <a:latin typeface="UniversS 55 Roman"/>
              </a:rPr>
              <a:t>- Loads for different technologies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- Dyn. Swing adjustment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- Max. dyn. overvoltage swing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- Number of wave forms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- Range for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79400" y="1447200"/>
            <a:ext cx="30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Example: CMOS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UniversS 57 Condensed"/>
              </a:rPr>
              <a:t>Examples out of Part 2: Not Covered Today (Future Aspects)</a:t>
            </a: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1003" name=""/>
          <p:cNvSpPr/>
          <p:nvPr/>
        </p:nvSpPr>
        <p:spPr>
          <a:xfrm>
            <a:off x="-977760" y="2908440"/>
            <a:ext cx="139680" cy="13968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-771480" y="2908440"/>
            <a:ext cx="139680" cy="139680"/>
          </a:xfrm>
          <a:prstGeom prst="rect">
            <a:avLst/>
          </a:prstGeom>
          <a:solidFill>
            <a:srgbClr val="66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-565200" y="2908440"/>
            <a:ext cx="139680" cy="139680"/>
          </a:xfrm>
          <a:prstGeom prst="rect">
            <a:avLst/>
          </a:prstGeom>
          <a:solidFill>
            <a:srgbClr val="99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-358920" y="2908440"/>
            <a:ext cx="139680" cy="139680"/>
          </a:xfrm>
          <a:prstGeom prst="rect">
            <a:avLst/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-993240" y="2673360"/>
            <a:ext cx="5036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4 × Grau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-984240" y="216000"/>
            <a:ext cx="15228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-984240" y="444600"/>
            <a:ext cx="152280" cy="15228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-984240" y="673200"/>
            <a:ext cx="152280" cy="152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-777960" y="444600"/>
            <a:ext cx="1526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-777960" y="673200"/>
            <a:ext cx="15264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-571680" y="216000"/>
            <a:ext cx="152640" cy="15228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-365040" y="1225440"/>
            <a:ext cx="152280" cy="1526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-571680" y="444600"/>
            <a:ext cx="152640" cy="1522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-571680" y="673200"/>
            <a:ext cx="152640" cy="1522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-777960" y="216000"/>
            <a:ext cx="152640" cy="152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-990720" y="1041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Warm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-365040" y="1454040"/>
            <a:ext cx="152280" cy="152640"/>
          </a:xfrm>
          <a:prstGeom prst="rect">
            <a:avLst/>
          </a:prstGeom>
          <a:solidFill>
            <a:srgbClr val="99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-365040" y="1682640"/>
            <a:ext cx="152280" cy="152640"/>
          </a:xfrm>
          <a:prstGeom prst="rect">
            <a:avLst/>
          </a:prstGeom>
          <a:solidFill>
            <a:srgbClr val="cc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-984240" y="122220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-984240" y="1450800"/>
            <a:ext cx="152280" cy="1526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-984240" y="1679400"/>
            <a:ext cx="152280" cy="152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-777960" y="1450800"/>
            <a:ext cx="152640" cy="1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-777960" y="1679400"/>
            <a:ext cx="1526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-571680" y="1222200"/>
            <a:ext cx="152640" cy="1526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-571680" y="1450800"/>
            <a:ext cx="152640" cy="15264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-571680" y="1679400"/>
            <a:ext cx="152640" cy="1526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-777960" y="1222200"/>
            <a:ext cx="15264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-990720" y="34920"/>
            <a:ext cx="7621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Kalt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-990720" y="2049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Vorzugs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-990720" y="2254320"/>
            <a:ext cx="15264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-990720" y="2444760"/>
            <a:ext cx="152640" cy="152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-762120" y="2254320"/>
            <a:ext cx="15264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-533520" y="2444760"/>
            <a:ext cx="152640" cy="15228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-533520" y="2254320"/>
            <a:ext cx="152640" cy="1522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-758880" y="2443320"/>
            <a:ext cx="150840" cy="150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-366840" y="220680"/>
            <a:ext cx="152640" cy="1522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-366840" y="449280"/>
            <a:ext cx="152640" cy="15228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-366840" y="677880"/>
            <a:ext cx="152640" cy="15228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graphicFrame>
        <p:nvGraphicFramePr>
          <p:cNvPr id="1041" name=""/>
          <p:cNvGraphicFramePr/>
          <p:nvPr/>
        </p:nvGraphicFramePr>
        <p:xfrm>
          <a:off x="1039680" y="4719600"/>
          <a:ext cx="5959440" cy="131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9680" y="4719600"/>
                    <a:ext cx="5959440" cy="131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3" name=""/>
          <p:cNvSpPr/>
          <p:nvPr/>
        </p:nvSpPr>
        <p:spPr>
          <a:xfrm>
            <a:off x="1039680" y="1627920"/>
            <a:ext cx="5905800" cy="293220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UniversS 55 Roman"/>
              </a:rPr>
              <a:t>Examples for Keywords</a:t>
            </a: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UniversS 55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[Driver Schedule</a:t>
            </a: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UniversS 55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[TT gnd], [TT power], [Rgnd], [RAC], [CAC]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UniversS 55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[R, C, R1, C, ..... Series]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UniversS 55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[Series MosFet</a:t>
            </a: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UniversS 55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[Submodels] exception treshold (partly)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UniversS 55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[GND Pulse Table / Power Pulse Table ]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UniversS 55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.pkg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UniversS 55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 </a:t>
            </a: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.edb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331920" y="1689120"/>
            <a:ext cx="5918040" cy="33192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331920" y="2021040"/>
            <a:ext cx="1068120" cy="1976400"/>
          </a:xfrm>
          <a:prstGeom prst="rect">
            <a:avLst/>
          </a:prstGeom>
          <a:gradFill rotWithShape="0">
            <a:gsLst>
              <a:gs pos="0">
                <a:srgbClr val="75462f"/>
              </a:gs>
              <a:gs pos="50000">
                <a:srgbClr val="ff9966"/>
              </a:gs>
              <a:gs pos="100000">
                <a:srgbClr val="75462f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31920" y="4011480"/>
            <a:ext cx="1068120" cy="952560"/>
          </a:xfrm>
          <a:prstGeom prst="rect">
            <a:avLst/>
          </a:prstGeom>
          <a:solidFill>
            <a:srgbClr val="99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303120" y="4979880"/>
            <a:ext cx="1082880" cy="10526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317520" y="6046920"/>
            <a:ext cx="1068480" cy="24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560840" y="6060960"/>
            <a:ext cx="1717560" cy="231840"/>
          </a:xfrm>
          <a:prstGeom prst="rect">
            <a:avLst/>
          </a:prstGeom>
          <a:solidFill>
            <a:srgbClr val="ffff66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560840" y="4964040"/>
            <a:ext cx="1689120" cy="1068480"/>
          </a:xfrm>
          <a:prstGeom prst="rect">
            <a:avLst/>
          </a:prstGeom>
          <a:solidFill>
            <a:srgbClr val="99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575240" y="4027320"/>
            <a:ext cx="1660320" cy="93672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579920" y="2063880"/>
            <a:ext cx="1646280" cy="19476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UniversS 57 Condensed"/>
              </a:rPr>
              <a:t>Examples out of Part 2: Keyword [SI_add_pin_info]</a:t>
            </a: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1054" name=""/>
          <p:cNvSpPr/>
          <p:nvPr/>
        </p:nvSpPr>
        <p:spPr>
          <a:xfrm>
            <a:off x="-977760" y="2908440"/>
            <a:ext cx="139680" cy="13968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-771480" y="2908440"/>
            <a:ext cx="139680" cy="139680"/>
          </a:xfrm>
          <a:prstGeom prst="rect">
            <a:avLst/>
          </a:prstGeom>
          <a:solidFill>
            <a:srgbClr val="66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-565200" y="2908440"/>
            <a:ext cx="139680" cy="139680"/>
          </a:xfrm>
          <a:prstGeom prst="rect">
            <a:avLst/>
          </a:prstGeom>
          <a:solidFill>
            <a:srgbClr val="99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-358920" y="2908440"/>
            <a:ext cx="139680" cy="139680"/>
          </a:xfrm>
          <a:prstGeom prst="rect">
            <a:avLst/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-993240" y="2673360"/>
            <a:ext cx="5036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4 × Grau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-984240" y="216000"/>
            <a:ext cx="15228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-984240" y="444600"/>
            <a:ext cx="152280" cy="15228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-984240" y="673200"/>
            <a:ext cx="152280" cy="152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-777960" y="444600"/>
            <a:ext cx="1526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-777960" y="673200"/>
            <a:ext cx="15264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-571680" y="216000"/>
            <a:ext cx="152640" cy="15228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-365040" y="1225440"/>
            <a:ext cx="152280" cy="1526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-571680" y="444600"/>
            <a:ext cx="152640" cy="1522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-571680" y="673200"/>
            <a:ext cx="152640" cy="1522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-777960" y="216000"/>
            <a:ext cx="152640" cy="152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-990720" y="1041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Warm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-365040" y="1454040"/>
            <a:ext cx="152280" cy="152640"/>
          </a:xfrm>
          <a:prstGeom prst="rect">
            <a:avLst/>
          </a:prstGeom>
          <a:solidFill>
            <a:srgbClr val="99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-365040" y="1682640"/>
            <a:ext cx="152280" cy="152640"/>
          </a:xfrm>
          <a:prstGeom prst="rect">
            <a:avLst/>
          </a:prstGeom>
          <a:solidFill>
            <a:srgbClr val="cc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-984240" y="122220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-984240" y="1450800"/>
            <a:ext cx="152280" cy="1526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-984240" y="1679400"/>
            <a:ext cx="152280" cy="152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-777960" y="1450800"/>
            <a:ext cx="152640" cy="1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-777960" y="1679400"/>
            <a:ext cx="1526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-571680" y="1222200"/>
            <a:ext cx="152640" cy="1526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-571680" y="1450800"/>
            <a:ext cx="152640" cy="15264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-571680" y="1679400"/>
            <a:ext cx="152640" cy="1526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-777960" y="1222200"/>
            <a:ext cx="15264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-990720" y="34920"/>
            <a:ext cx="7621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Kalt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-990720" y="2049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Vorzugs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-990720" y="2254320"/>
            <a:ext cx="15264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-990720" y="2444760"/>
            <a:ext cx="152640" cy="152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-762120" y="2254320"/>
            <a:ext cx="15264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-533520" y="2444760"/>
            <a:ext cx="152640" cy="15228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-533520" y="2254320"/>
            <a:ext cx="152640" cy="1522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-758880" y="2443320"/>
            <a:ext cx="150840" cy="150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-366840" y="220680"/>
            <a:ext cx="152640" cy="1522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-366840" y="449280"/>
            <a:ext cx="152640" cy="15228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-366840" y="677880"/>
            <a:ext cx="152640" cy="15228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graphicFrame>
        <p:nvGraphicFramePr>
          <p:cNvPr id="1092" name=""/>
          <p:cNvGraphicFramePr/>
          <p:nvPr/>
        </p:nvGraphicFramePr>
        <p:xfrm>
          <a:off x="5916600" y="3246480"/>
          <a:ext cx="5961240" cy="248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16600" y="3246480"/>
                    <a:ext cx="5961240" cy="24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4" name=""/>
          <p:cNvGraphicFramePr/>
          <p:nvPr/>
        </p:nvGraphicFramePr>
        <p:xfrm>
          <a:off x="316080" y="1670040"/>
          <a:ext cx="8038800" cy="7662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6080" y="1670040"/>
                    <a:ext cx="8038800" cy="76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6" name=""/>
          <p:cNvGraphicFramePr/>
          <p:nvPr/>
        </p:nvGraphicFramePr>
        <p:xfrm>
          <a:off x="3795840" y="2021040"/>
          <a:ext cx="6103800" cy="178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5840" y="2021040"/>
                    <a:ext cx="6103800" cy="17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8" name=""/>
          <p:cNvSpPr/>
          <p:nvPr/>
        </p:nvSpPr>
        <p:spPr>
          <a:xfrm>
            <a:off x="0" y="3868560"/>
            <a:ext cx="4791240" cy="2597400"/>
          </a:xfrm>
          <a:prstGeom prst="rect">
            <a:avLst/>
          </a:prstGeom>
          <a:solidFill>
            <a:srgbClr val="d4e5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UniversS 57 Condensed"/>
              </a:rPr>
              <a:t>Examples out of Part 2: Keywords [SI_analog/-add_cell_info]</a:t>
            </a: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1100" name=""/>
          <p:cNvSpPr/>
          <p:nvPr/>
        </p:nvSpPr>
        <p:spPr>
          <a:xfrm>
            <a:off x="-977760" y="2908440"/>
            <a:ext cx="139680" cy="13968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-771480" y="2908440"/>
            <a:ext cx="139680" cy="139680"/>
          </a:xfrm>
          <a:prstGeom prst="rect">
            <a:avLst/>
          </a:prstGeom>
          <a:solidFill>
            <a:srgbClr val="66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-565200" y="2908440"/>
            <a:ext cx="139680" cy="139680"/>
          </a:xfrm>
          <a:prstGeom prst="rect">
            <a:avLst/>
          </a:prstGeom>
          <a:solidFill>
            <a:srgbClr val="99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-358920" y="2908440"/>
            <a:ext cx="139680" cy="139680"/>
          </a:xfrm>
          <a:prstGeom prst="rect">
            <a:avLst/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-993240" y="2673360"/>
            <a:ext cx="5036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4 × Grau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-984240" y="216000"/>
            <a:ext cx="15228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-984240" y="444600"/>
            <a:ext cx="152280" cy="15228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-984240" y="673200"/>
            <a:ext cx="152280" cy="152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-777960" y="444600"/>
            <a:ext cx="1526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-777960" y="673200"/>
            <a:ext cx="15264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-571680" y="216000"/>
            <a:ext cx="152640" cy="15228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-365040" y="1225440"/>
            <a:ext cx="152280" cy="1526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-571680" y="444600"/>
            <a:ext cx="152640" cy="1522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-571680" y="673200"/>
            <a:ext cx="152640" cy="1522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-777960" y="216000"/>
            <a:ext cx="152640" cy="152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-990720" y="1041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Warm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-365040" y="1454040"/>
            <a:ext cx="152280" cy="152640"/>
          </a:xfrm>
          <a:prstGeom prst="rect">
            <a:avLst/>
          </a:prstGeom>
          <a:solidFill>
            <a:srgbClr val="99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-365040" y="1682640"/>
            <a:ext cx="152280" cy="152640"/>
          </a:xfrm>
          <a:prstGeom prst="rect">
            <a:avLst/>
          </a:prstGeom>
          <a:solidFill>
            <a:srgbClr val="cc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-984240" y="122220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-984240" y="1450800"/>
            <a:ext cx="152280" cy="1526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-984240" y="1679400"/>
            <a:ext cx="152280" cy="152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-777960" y="1450800"/>
            <a:ext cx="152640" cy="1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-777960" y="1679400"/>
            <a:ext cx="1526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-571680" y="1222200"/>
            <a:ext cx="152640" cy="1526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-571680" y="1450800"/>
            <a:ext cx="152640" cy="15264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-571680" y="1679400"/>
            <a:ext cx="152640" cy="1526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-777960" y="1222200"/>
            <a:ext cx="15264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-990720" y="34920"/>
            <a:ext cx="7621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Kalt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-990720" y="2049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Vorzugs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-990720" y="2254320"/>
            <a:ext cx="15264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-990720" y="2444760"/>
            <a:ext cx="152640" cy="152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-762120" y="2254320"/>
            <a:ext cx="15264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-533520" y="2444760"/>
            <a:ext cx="152640" cy="15228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-533520" y="2254320"/>
            <a:ext cx="152640" cy="1522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-758880" y="2443320"/>
            <a:ext cx="150840" cy="150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-366840" y="220680"/>
            <a:ext cx="152640" cy="1522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-366840" y="449280"/>
            <a:ext cx="152640" cy="15228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-366840" y="677880"/>
            <a:ext cx="152640" cy="15228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grpSp>
        <p:nvGrpSpPr>
          <p:cNvPr id="1138" name=""/>
          <p:cNvGrpSpPr/>
          <p:nvPr/>
        </p:nvGrpSpPr>
        <p:grpSpPr>
          <a:xfrm>
            <a:off x="425160" y="4416480"/>
            <a:ext cx="2838240" cy="866880"/>
            <a:chOff x="425160" y="4416480"/>
            <a:chExt cx="2838240" cy="866880"/>
          </a:xfrm>
        </p:grpSpPr>
        <p:sp>
          <p:nvSpPr>
            <p:cNvPr id="1139" name=""/>
            <p:cNvSpPr/>
            <p:nvPr/>
          </p:nvSpPr>
          <p:spPr>
            <a:xfrm>
              <a:off x="1193400" y="4718160"/>
              <a:ext cx="146016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1564920" y="4934160"/>
              <a:ext cx="27756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1684080" y="4724640"/>
              <a:ext cx="26640" cy="222120"/>
            </a:xfrm>
            <a:custGeom>
              <a:avLst/>
              <a:gdLst/>
              <a:ahLst/>
              <a:rect l="l" t="t" r="r" b="b"/>
              <a:pathLst>
                <a:path w="17" h="140">
                  <a:moveTo>
                    <a:pt x="15" y="0"/>
                  </a:moveTo>
                  <a:lnTo>
                    <a:pt x="0" y="0"/>
                  </a:lnTo>
                  <a:lnTo>
                    <a:pt x="2" y="140"/>
                  </a:lnTo>
                  <a:lnTo>
                    <a:pt x="17" y="14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1564920" y="4991400"/>
              <a:ext cx="277560" cy="28440"/>
            </a:xfrm>
            <a:custGeom>
              <a:avLst/>
              <a:gdLst/>
              <a:ahLst/>
              <a:rect l="l" t="t" r="r" b="b"/>
              <a:pathLst>
                <a:path w="175" h="18">
                  <a:moveTo>
                    <a:pt x="0" y="0"/>
                  </a:moveTo>
                  <a:lnTo>
                    <a:pt x="0" y="16"/>
                  </a:lnTo>
                  <a:lnTo>
                    <a:pt x="175" y="18"/>
                  </a:lnTo>
                  <a:lnTo>
                    <a:pt x="17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1684080" y="5010120"/>
              <a:ext cx="26640" cy="192240"/>
            </a:xfrm>
            <a:custGeom>
              <a:avLst/>
              <a:gdLst/>
              <a:ahLst/>
              <a:rect l="l" t="t" r="r" b="b"/>
              <a:pathLst>
                <a:path w="17" h="121">
                  <a:moveTo>
                    <a:pt x="15" y="0"/>
                  </a:moveTo>
                  <a:lnTo>
                    <a:pt x="0" y="0"/>
                  </a:lnTo>
                  <a:lnTo>
                    <a:pt x="2" y="121"/>
                  </a:lnTo>
                  <a:lnTo>
                    <a:pt x="17" y="12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1123560" y="4665960"/>
              <a:ext cx="15516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25520" y="4599000"/>
              <a:ext cx="64260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25160" y="4599000"/>
              <a:ext cx="58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nalog pin</a:t>
              </a:r>
              <a:endParaRPr b="0" lang="en-US" sz="10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1979280" y="4416480"/>
              <a:ext cx="54252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1977840" y="4416480"/>
              <a:ext cx="41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r_subst</a:t>
              </a:r>
              <a:endParaRPr b="0" lang="en-US" sz="10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101680" y="4665960"/>
              <a:ext cx="307440" cy="13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1666440" y="4695840"/>
              <a:ext cx="79200" cy="795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2711160" y="4691160"/>
              <a:ext cx="5522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2710080" y="469116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V_subst</a:t>
              </a:r>
              <a:endParaRPr b="0" lang="en-US" sz="10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553760" y="5180040"/>
              <a:ext cx="29808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1595160" y="5216760"/>
              <a:ext cx="21384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1638000" y="5259600"/>
              <a:ext cx="124920" cy="23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1931760" y="4891320"/>
              <a:ext cx="5997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1929960" y="4891320"/>
              <a:ext cx="43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_subst</a:t>
              </a:r>
              <a:endParaRPr b="0" lang="en-US" sz="10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</p:grpSp>
      <p:graphicFrame>
        <p:nvGraphicFramePr>
          <p:cNvPr id="1158" name=""/>
          <p:cNvGraphicFramePr/>
          <p:nvPr/>
        </p:nvGraphicFramePr>
        <p:xfrm>
          <a:off x="0" y="5700600"/>
          <a:ext cx="5873760" cy="389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1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5700600"/>
                    <a:ext cx="587376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0" name=""/>
          <p:cNvGraphicFramePr/>
          <p:nvPr/>
        </p:nvGraphicFramePr>
        <p:xfrm>
          <a:off x="201600" y="1876320"/>
          <a:ext cx="5686560" cy="220824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1600" y="1876320"/>
                    <a:ext cx="5686560" cy="22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2" name=""/>
          <p:cNvGraphicFramePr/>
          <p:nvPr/>
        </p:nvGraphicFramePr>
        <p:xfrm>
          <a:off x="4849920" y="6103800"/>
          <a:ext cx="5857920" cy="36216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11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49920" y="6103800"/>
                    <a:ext cx="5857920" cy="3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4" name=""/>
          <p:cNvSpPr/>
          <p:nvPr/>
        </p:nvSpPr>
        <p:spPr>
          <a:xfrm>
            <a:off x="260280" y="1498680"/>
            <a:ext cx="5108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33200" y="1472400"/>
            <a:ext cx="2136960" cy="36828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[Si_add_cell_info]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66" name=""/>
          <p:cNvSpPr/>
          <p:nvPr/>
        </p:nvSpPr>
        <p:spPr>
          <a:xfrm rot="20928600">
            <a:off x="1803240" y="2033640"/>
            <a:ext cx="3148200" cy="128520"/>
          </a:xfrm>
          <a:prstGeom prst="rightArrow">
            <a:avLst>
              <a:gd name="adj1" fmla="val 50000"/>
              <a:gd name="adj2" fmla="val 612395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7640" bIns="17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965840" y="1651320"/>
            <a:ext cx="26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Definition of driver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5983200" y="3696120"/>
            <a:ext cx="262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Definition of input slewrate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7854840" y="168660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UniversS 55 Roman"/>
              </a:rPr>
              <a:t>EOS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185760" y="3963240"/>
            <a:ext cx="2440080" cy="368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[Si_analog_model]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graphicFrame>
        <p:nvGraphicFramePr>
          <p:cNvPr id="1171" name=""/>
          <p:cNvGraphicFramePr/>
          <p:nvPr/>
        </p:nvGraphicFramePr>
        <p:xfrm>
          <a:off x="5830920" y="4272120"/>
          <a:ext cx="3679920" cy="17888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117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30920" y="4272120"/>
                    <a:ext cx="3679920" cy="178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3" name=""/>
          <p:cNvSpPr/>
          <p:nvPr/>
        </p:nvSpPr>
        <p:spPr>
          <a:xfrm flipV="1" rot="1243200">
            <a:off x="2482920" y="3411360"/>
            <a:ext cx="3502080" cy="167040"/>
          </a:xfrm>
          <a:prstGeom prst="rightArrow">
            <a:avLst>
              <a:gd name="adj1" fmla="val 50000"/>
              <a:gd name="adj2" fmla="val 524138"/>
            </a:avLst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8775720" y="4932360"/>
            <a:ext cx="428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75" name=""/>
          <p:cNvSpPr/>
          <p:nvPr/>
        </p:nvSpPr>
        <p:spPr>
          <a:xfrm rot="5400000">
            <a:off x="8866440" y="4861800"/>
            <a:ext cx="225360" cy="137880"/>
          </a:xfrm>
          <a:prstGeom prst="triangle">
            <a:avLst>
              <a:gd name="adj" fmla="val 49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6280" y="56052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S 57 Condensed"/>
              </a:rPr>
              <a:t>Table of Contents</a:t>
            </a: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97" name=""/>
          <p:cNvSpPr/>
          <p:nvPr/>
        </p:nvSpPr>
        <p:spPr>
          <a:xfrm>
            <a:off x="-977760" y="2908440"/>
            <a:ext cx="139680" cy="13968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8" name=""/>
          <p:cNvSpPr/>
          <p:nvPr/>
        </p:nvSpPr>
        <p:spPr>
          <a:xfrm>
            <a:off x="-771480" y="2908440"/>
            <a:ext cx="139680" cy="139680"/>
          </a:xfrm>
          <a:prstGeom prst="rect">
            <a:avLst/>
          </a:prstGeom>
          <a:solidFill>
            <a:srgbClr val="66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99" name=""/>
          <p:cNvSpPr/>
          <p:nvPr/>
        </p:nvSpPr>
        <p:spPr>
          <a:xfrm>
            <a:off x="-565200" y="2908440"/>
            <a:ext cx="139680" cy="139680"/>
          </a:xfrm>
          <a:prstGeom prst="rect">
            <a:avLst/>
          </a:prstGeom>
          <a:solidFill>
            <a:srgbClr val="99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358920" y="2908440"/>
            <a:ext cx="139680" cy="139680"/>
          </a:xfrm>
          <a:prstGeom prst="rect">
            <a:avLst/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993240" y="2673360"/>
            <a:ext cx="5036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4 × Grau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-984240" y="216000"/>
            <a:ext cx="15228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-984240" y="444600"/>
            <a:ext cx="152280" cy="15228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-984240" y="673200"/>
            <a:ext cx="152280" cy="152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-777960" y="444600"/>
            <a:ext cx="1526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-777960" y="673200"/>
            <a:ext cx="15264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-571680" y="216000"/>
            <a:ext cx="152640" cy="15228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365040" y="1225440"/>
            <a:ext cx="152280" cy="1526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-571680" y="444600"/>
            <a:ext cx="152640" cy="1522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-571680" y="673200"/>
            <a:ext cx="152640" cy="1522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-777960" y="216000"/>
            <a:ext cx="152640" cy="152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-990720" y="1041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Warm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-365040" y="1454040"/>
            <a:ext cx="152280" cy="152640"/>
          </a:xfrm>
          <a:prstGeom prst="rect">
            <a:avLst/>
          </a:prstGeom>
          <a:solidFill>
            <a:srgbClr val="99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365040" y="1682640"/>
            <a:ext cx="152280" cy="152640"/>
          </a:xfrm>
          <a:prstGeom prst="rect">
            <a:avLst/>
          </a:prstGeom>
          <a:solidFill>
            <a:srgbClr val="cc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984240" y="122220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984240" y="1450800"/>
            <a:ext cx="152280" cy="1526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984240" y="1679400"/>
            <a:ext cx="152280" cy="152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-777960" y="1450800"/>
            <a:ext cx="152640" cy="1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777960" y="1679400"/>
            <a:ext cx="1526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571680" y="1222200"/>
            <a:ext cx="152640" cy="1526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-571680" y="1450800"/>
            <a:ext cx="152640" cy="15264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-571680" y="1679400"/>
            <a:ext cx="152640" cy="1526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777960" y="1222200"/>
            <a:ext cx="15264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-990720" y="34920"/>
            <a:ext cx="7621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Kalt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-990720" y="2049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Vorzugs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-990720" y="2254320"/>
            <a:ext cx="15264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-990720" y="2444760"/>
            <a:ext cx="152640" cy="152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762120" y="2254320"/>
            <a:ext cx="15264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533520" y="2444760"/>
            <a:ext cx="152640" cy="15228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533520" y="2254320"/>
            <a:ext cx="152640" cy="1522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758880" y="2443320"/>
            <a:ext cx="150840" cy="150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366840" y="220680"/>
            <a:ext cx="152640" cy="1522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366840" y="449280"/>
            <a:ext cx="152640" cy="15228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366840" y="677880"/>
            <a:ext cx="152640" cy="15228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349360" y="1610640"/>
            <a:ext cx="22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ff0066"/>
                </a:solidFill>
                <a:latin typeface="UniversS 55 Roman"/>
              </a:rPr>
              <a:t>•</a:t>
            </a:r>
            <a:r>
              <a:rPr b="0" lang="en-US" sz="1800" spc="-1" strike="noStrike">
                <a:solidFill>
                  <a:srgbClr val="000000"/>
                </a:solidFill>
                <a:latin typeface="UniversS 55 Roman"/>
              </a:rPr>
              <a:t>Status and Targets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56560" y="1975680"/>
            <a:ext cx="432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ff0066"/>
                </a:solidFill>
                <a:latin typeface="UniversS 55 Roman"/>
              </a:rPr>
              <a:t>•</a:t>
            </a: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Contents and Addressees ( Overview)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65480" y="2304360"/>
            <a:ext cx="48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 </a:t>
            </a:r>
            <a:r>
              <a:rPr b="0" lang="de-DE" sz="1800" spc="-1" strike="noStrike">
                <a:solidFill>
                  <a:srgbClr val="ff0066"/>
                </a:solidFill>
                <a:latin typeface="UniversS 55 Roman"/>
              </a:rPr>
              <a:t>•</a:t>
            </a: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Typ.,min.,max. definition for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     parameter of influence (Standard model)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97160" y="3052080"/>
            <a:ext cx="649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ff00"/>
                </a:solidFill>
                <a:latin typeface="UniversS 55 Roman"/>
              </a:rPr>
              <a:t>•</a:t>
            </a:r>
            <a:r>
              <a:rPr b="0" lang="de-DE" sz="1800" spc="-1" strike="noStrike">
                <a:solidFill>
                  <a:srgbClr val="ff0066"/>
                </a:solidFill>
                <a:latin typeface="UniversS 55 Roman"/>
              </a:rPr>
              <a:t> </a:t>
            </a:r>
            <a:r>
              <a:rPr b="0" lang="de-DE" sz="1800" spc="-1" strike="noStrike">
                <a:solidFill>
                  <a:srgbClr val="ff0066"/>
                </a:solidFill>
                <a:latin typeface="UniversS 55 Roman"/>
              </a:rPr>
              <a:t>Keyword Vdiff_min/max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3480" y="3382200"/>
            <a:ext cx="49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                  </a:t>
            </a:r>
            <a:r>
              <a:rPr b="0" lang="de-DE" sz="1800" spc="-1" strike="noStrike">
                <a:solidFill>
                  <a:srgbClr val="ff0066"/>
                </a:solidFill>
                <a:latin typeface="UniversS 55 Roman"/>
              </a:rPr>
              <a:t> </a:t>
            </a:r>
            <a:r>
              <a:rPr b="0" lang="de-DE" sz="1800" spc="-1" strike="noStrike">
                <a:solidFill>
                  <a:srgbClr val="00ff00"/>
                </a:solidFill>
                <a:latin typeface="UniversS 55 Roman"/>
              </a:rPr>
              <a:t>•</a:t>
            </a:r>
            <a:r>
              <a:rPr b="0" lang="de-DE" sz="1800" spc="-1" strike="noStrike">
                <a:solidFill>
                  <a:srgbClr val="ff0066"/>
                </a:solidFill>
                <a:latin typeface="UniversS 55 Roman"/>
              </a:rPr>
              <a:t> </a:t>
            </a:r>
            <a:r>
              <a:rPr b="0" lang="de-DE" sz="1800" spc="-1" strike="noStrike">
                <a:solidFill>
                  <a:srgbClr val="ff0066"/>
                </a:solidFill>
                <a:latin typeface="UniversS 55 Roman"/>
              </a:rPr>
              <a:t>Keyword [Model spec] Vinl, Vinh</a:t>
            </a: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25400" y="3891960"/>
            <a:ext cx="849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ff0066"/>
                </a:solidFill>
                <a:latin typeface="UniversS 55 Roman"/>
              </a:rPr>
              <a:t>                         </a:t>
            </a:r>
            <a:r>
              <a:rPr b="0" lang="de-DE" sz="1800" spc="-1" strike="noStrike">
                <a:solidFill>
                  <a:srgbClr val="00ff00"/>
                </a:solidFill>
                <a:latin typeface="UniversS 55 Roman"/>
              </a:rPr>
              <a:t>•</a:t>
            </a:r>
            <a:r>
              <a:rPr b="0" lang="de-DE" sz="1800" spc="-1" strike="noStrike">
                <a:solidFill>
                  <a:srgbClr val="ff0066"/>
                </a:solidFill>
                <a:latin typeface="UniversS 55 Roman"/>
              </a:rPr>
              <a:t> </a:t>
            </a:r>
            <a:r>
              <a:rPr b="0" lang="de-DE" sz="1800" spc="-1" strike="noStrike">
                <a:solidFill>
                  <a:srgbClr val="ff0066"/>
                </a:solidFill>
                <a:latin typeface="UniversS 55 Roman"/>
              </a:rPr>
              <a:t>Keywords Overshoot],[GND/power Clamp]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43440" y="4244400"/>
            <a:ext cx="41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ff0066"/>
                </a:solidFill>
                <a:latin typeface="UniversS 55 Roman"/>
              </a:rPr>
              <a:t>   </a:t>
            </a:r>
            <a:r>
              <a:rPr b="0" lang="de-DE" sz="1800" spc="-1" strike="noStrike">
                <a:solidFill>
                  <a:srgbClr val="00ff00"/>
                </a:solidFill>
                <a:latin typeface="UniversS 55 Roman"/>
              </a:rPr>
              <a:t>•</a:t>
            </a:r>
            <a:r>
              <a:rPr b="0" lang="de-DE" sz="1800" spc="-1" strike="noStrike">
                <a:solidFill>
                  <a:srgbClr val="ff0066"/>
                </a:solidFill>
                <a:latin typeface="UniversS 55 Roman"/>
              </a:rPr>
              <a:t> </a:t>
            </a:r>
            <a:r>
              <a:rPr b="0" lang="de-DE" sz="1800" spc="-1" strike="noStrike">
                <a:solidFill>
                  <a:srgbClr val="ff0066"/>
                </a:solidFill>
                <a:latin typeface="UniversS 55 Roman"/>
              </a:rPr>
              <a:t>Distribution of IBIS Points of Table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8360" y="4587120"/>
            <a:ext cx="695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                                      </a:t>
            </a:r>
            <a:r>
              <a:rPr b="0" lang="de-DE" sz="1800" spc="-1" strike="noStrike">
                <a:solidFill>
                  <a:srgbClr val="ff0066"/>
                </a:solidFill>
                <a:latin typeface="UniversS 55 Roman"/>
              </a:rPr>
              <a:t> </a:t>
            </a:r>
            <a:r>
              <a:rPr b="0" lang="de-DE" sz="1800" spc="-1" strike="noStrike">
                <a:solidFill>
                  <a:srgbClr val="00ff00"/>
                </a:solidFill>
                <a:latin typeface="UniversS 55 Roman"/>
              </a:rPr>
              <a:t>•</a:t>
            </a:r>
            <a:r>
              <a:rPr b="0" lang="de-DE" sz="1800" spc="-1" strike="noStrike">
                <a:solidFill>
                  <a:srgbClr val="ff0066"/>
                </a:solidFill>
                <a:latin typeface="UniversS 55 Roman"/>
              </a:rPr>
              <a:t> </a:t>
            </a:r>
            <a:r>
              <a:rPr b="0" lang="de-DE" sz="1800" spc="-1" strike="noStrike">
                <a:solidFill>
                  <a:srgbClr val="ff0066"/>
                </a:solidFill>
                <a:latin typeface="UniversS 55 Roman"/>
              </a:rPr>
              <a:t>Keyword [Rising and Falling Wave Form]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35120" y="5133960"/>
            <a:ext cx="181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35640" y="4953960"/>
            <a:ext cx="436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                                      </a:t>
            </a:r>
            <a:r>
              <a:rPr b="0" lang="de-DE" sz="1800" spc="-1" strike="noStrike">
                <a:solidFill>
                  <a:srgbClr val="ff0066"/>
                </a:solidFill>
                <a:latin typeface="UniversS 55 Roman"/>
              </a:rPr>
              <a:t> </a:t>
            </a:r>
            <a:r>
              <a:rPr b="0" lang="de-DE" sz="1800" spc="-1" strike="noStrike">
                <a:solidFill>
                  <a:srgbClr val="00ff00"/>
                </a:solidFill>
                <a:latin typeface="UniversS 55 Roman"/>
              </a:rPr>
              <a:t>•</a:t>
            </a:r>
            <a:r>
              <a:rPr b="0" lang="de-DE" sz="1800" spc="-1" strike="noStrike">
                <a:solidFill>
                  <a:srgbClr val="ff0066"/>
                </a:solidFill>
                <a:latin typeface="UniversS 55 Roman"/>
              </a:rPr>
              <a:t> </a:t>
            </a:r>
            <a:r>
              <a:rPr b="0" lang="de-DE" sz="1800" spc="-1" strike="noStrike">
                <a:solidFill>
                  <a:srgbClr val="ff0066"/>
                </a:solidFill>
                <a:latin typeface="UniversS 55 Roman"/>
              </a:rPr>
              <a:t>Still not covered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32360" y="5355360"/>
            <a:ext cx="32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3333ff"/>
                </a:solidFill>
                <a:latin typeface="UniversS 55 Roman"/>
              </a:rPr>
              <a:t>  </a:t>
            </a: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•</a:t>
            </a:r>
            <a:r>
              <a:rPr b="0" lang="de-DE" sz="1800" spc="-1" strike="noStrike">
                <a:solidFill>
                  <a:srgbClr val="3333ff"/>
                </a:solidFill>
                <a:latin typeface="UniversS 55 Roman"/>
              </a:rPr>
              <a:t> </a:t>
            </a:r>
            <a:r>
              <a:rPr b="0" lang="de-DE" sz="1800" spc="-1" strike="noStrike">
                <a:solidFill>
                  <a:srgbClr val="3333ff"/>
                </a:solidFill>
                <a:latin typeface="UniversS 55 Roman"/>
              </a:rPr>
              <a:t>Keyword [SI_add_pin_info]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-106920" y="5812560"/>
            <a:ext cx="65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3333ff"/>
                </a:solidFill>
                <a:latin typeface="UniversS 55 Roman"/>
              </a:rPr>
              <a:t>                                        </a:t>
            </a: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•</a:t>
            </a:r>
            <a:r>
              <a:rPr b="0" lang="de-DE" sz="1800" spc="-1" strike="noStrike">
                <a:solidFill>
                  <a:srgbClr val="3333ff"/>
                </a:solidFill>
                <a:latin typeface="UniversS 55 Roman"/>
              </a:rPr>
              <a:t> </a:t>
            </a:r>
            <a:r>
              <a:rPr b="0" lang="de-DE" sz="1800" spc="-1" strike="noStrike">
                <a:solidFill>
                  <a:srgbClr val="3333ff"/>
                </a:solidFill>
                <a:latin typeface="UniversS 55 Roman"/>
              </a:rPr>
              <a:t>Keywords [SI_analog/-add_cell_info]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UniversS 57 Condensed"/>
              </a:rPr>
              <a:t>Contents and Addressees (Overview)</a:t>
            </a: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148" name=""/>
          <p:cNvSpPr/>
          <p:nvPr/>
        </p:nvSpPr>
        <p:spPr>
          <a:xfrm>
            <a:off x="-977760" y="2908440"/>
            <a:ext cx="139680" cy="13968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771480" y="2908440"/>
            <a:ext cx="139680" cy="139680"/>
          </a:xfrm>
          <a:prstGeom prst="rect">
            <a:avLst/>
          </a:prstGeom>
          <a:solidFill>
            <a:srgbClr val="66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-565200" y="2908440"/>
            <a:ext cx="139680" cy="139680"/>
          </a:xfrm>
          <a:prstGeom prst="rect">
            <a:avLst/>
          </a:prstGeom>
          <a:solidFill>
            <a:srgbClr val="99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-358920" y="2908440"/>
            <a:ext cx="139680" cy="139680"/>
          </a:xfrm>
          <a:prstGeom prst="rect">
            <a:avLst/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-993240" y="2673360"/>
            <a:ext cx="5036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4 × Grau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-984240" y="216000"/>
            <a:ext cx="15228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-984240" y="444600"/>
            <a:ext cx="152280" cy="15228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-984240" y="673200"/>
            <a:ext cx="152280" cy="152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-777960" y="444600"/>
            <a:ext cx="1526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-777960" y="673200"/>
            <a:ext cx="15264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-571680" y="216000"/>
            <a:ext cx="152640" cy="15228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-365040" y="1225440"/>
            <a:ext cx="152280" cy="1526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-571680" y="444600"/>
            <a:ext cx="152640" cy="1522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-571680" y="673200"/>
            <a:ext cx="152640" cy="1522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-777960" y="216000"/>
            <a:ext cx="152640" cy="152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-990720" y="1041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Warm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-365040" y="1454040"/>
            <a:ext cx="152280" cy="152640"/>
          </a:xfrm>
          <a:prstGeom prst="rect">
            <a:avLst/>
          </a:prstGeom>
          <a:solidFill>
            <a:srgbClr val="99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-365040" y="1682640"/>
            <a:ext cx="152280" cy="152640"/>
          </a:xfrm>
          <a:prstGeom prst="rect">
            <a:avLst/>
          </a:prstGeom>
          <a:solidFill>
            <a:srgbClr val="cc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-984240" y="122220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-984240" y="1450800"/>
            <a:ext cx="152280" cy="1526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-984240" y="1679400"/>
            <a:ext cx="152280" cy="152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-777960" y="1450800"/>
            <a:ext cx="152640" cy="1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777960" y="1679400"/>
            <a:ext cx="1526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-571680" y="1222200"/>
            <a:ext cx="152640" cy="1526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-571680" y="1450800"/>
            <a:ext cx="152640" cy="15264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-571680" y="1679400"/>
            <a:ext cx="152640" cy="1526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-777960" y="1222200"/>
            <a:ext cx="15264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-990720" y="34920"/>
            <a:ext cx="7621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Kalt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-990720" y="2049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Vorzugs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-990720" y="2254320"/>
            <a:ext cx="15264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-990720" y="2444760"/>
            <a:ext cx="152640" cy="152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-762120" y="2254320"/>
            <a:ext cx="15264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-533520" y="2444760"/>
            <a:ext cx="152640" cy="15228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-533520" y="2254320"/>
            <a:ext cx="152640" cy="1522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-758880" y="2443320"/>
            <a:ext cx="150840" cy="150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-366840" y="220680"/>
            <a:ext cx="152640" cy="1522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-366840" y="449280"/>
            <a:ext cx="152640" cy="15228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-366840" y="677880"/>
            <a:ext cx="152640" cy="15228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03040" y="1498680"/>
          <a:ext cx="909324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040" y="1498680"/>
                    <a:ext cx="909324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"/>
          <p:cNvSpPr/>
          <p:nvPr/>
        </p:nvSpPr>
        <p:spPr>
          <a:xfrm>
            <a:off x="7023240" y="2882880"/>
            <a:ext cx="531720" cy="333360"/>
          </a:xfrm>
          <a:prstGeom prst="rightArrow">
            <a:avLst>
              <a:gd name="adj1" fmla="val 50000"/>
              <a:gd name="adj2" fmla="val 39876"/>
            </a:avLst>
          </a:prstGeom>
          <a:solidFill>
            <a:srgbClr val="99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35840" y="5778360"/>
            <a:ext cx="531720" cy="333360"/>
          </a:xfrm>
          <a:prstGeom prst="rightArrow">
            <a:avLst>
              <a:gd name="adj1" fmla="val 50000"/>
              <a:gd name="adj2" fmla="val 39876"/>
            </a:avLst>
          </a:prstGeom>
          <a:solidFill>
            <a:srgbClr val="99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23240" y="4635360"/>
            <a:ext cx="531720" cy="333360"/>
          </a:xfrm>
          <a:prstGeom prst="rightArrow">
            <a:avLst>
              <a:gd name="adj1" fmla="val 50000"/>
              <a:gd name="adj2" fmla="val 39876"/>
            </a:avLst>
          </a:prstGeom>
          <a:solidFill>
            <a:srgbClr val="99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86680" y="2597760"/>
            <a:ext cx="1351080" cy="82404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C manufacturer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IBIS)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iemens int.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ool Design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111880" y="5439240"/>
            <a:ext cx="1351080" cy="1006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C manufacturer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(IBIS)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(Siemens int.)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ircuit Designer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ool Design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11880" y="4278960"/>
            <a:ext cx="1351080" cy="10065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C manufacturer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iemens int.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Circuit Designer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Tool Design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17440" y="1840320"/>
            <a:ext cx="903240" cy="276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dressees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534520" y="2247840"/>
            <a:ext cx="485640" cy="2397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UniversS 57 Condensed"/>
              </a:rPr>
              <a:t>Status and Targets</a:t>
            </a: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197" name=""/>
          <p:cNvSpPr/>
          <p:nvPr/>
        </p:nvSpPr>
        <p:spPr>
          <a:xfrm>
            <a:off x="-977760" y="2908440"/>
            <a:ext cx="139680" cy="13968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-771480" y="2908440"/>
            <a:ext cx="139680" cy="139680"/>
          </a:xfrm>
          <a:prstGeom prst="rect">
            <a:avLst/>
          </a:prstGeom>
          <a:solidFill>
            <a:srgbClr val="66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-565200" y="2908440"/>
            <a:ext cx="139680" cy="139680"/>
          </a:xfrm>
          <a:prstGeom prst="rect">
            <a:avLst/>
          </a:prstGeom>
          <a:solidFill>
            <a:srgbClr val="99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-358920" y="2908440"/>
            <a:ext cx="139680" cy="139680"/>
          </a:xfrm>
          <a:prstGeom prst="rect">
            <a:avLst/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-993240" y="2673360"/>
            <a:ext cx="5036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4 × Grau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-984240" y="216000"/>
            <a:ext cx="15228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-984240" y="444600"/>
            <a:ext cx="152280" cy="15228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-984240" y="673200"/>
            <a:ext cx="152280" cy="152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-777960" y="444600"/>
            <a:ext cx="1526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-777960" y="673200"/>
            <a:ext cx="15264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-571680" y="216000"/>
            <a:ext cx="152640" cy="15228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365040" y="1225440"/>
            <a:ext cx="152280" cy="1526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-571680" y="444600"/>
            <a:ext cx="152640" cy="1522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-571680" y="673200"/>
            <a:ext cx="152640" cy="1522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-777960" y="216000"/>
            <a:ext cx="152640" cy="152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-990720" y="1041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Warm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-365040" y="1454040"/>
            <a:ext cx="152280" cy="152640"/>
          </a:xfrm>
          <a:prstGeom prst="rect">
            <a:avLst/>
          </a:prstGeom>
          <a:solidFill>
            <a:srgbClr val="99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-365040" y="1682640"/>
            <a:ext cx="152280" cy="152640"/>
          </a:xfrm>
          <a:prstGeom prst="rect">
            <a:avLst/>
          </a:prstGeom>
          <a:solidFill>
            <a:srgbClr val="cc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-984240" y="122220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-984240" y="1450800"/>
            <a:ext cx="152280" cy="1526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-984240" y="1679400"/>
            <a:ext cx="152280" cy="152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-777960" y="1450800"/>
            <a:ext cx="152640" cy="1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-777960" y="1679400"/>
            <a:ext cx="1526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-571680" y="1222200"/>
            <a:ext cx="152640" cy="1526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-571680" y="1450800"/>
            <a:ext cx="152640" cy="15264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-571680" y="1679400"/>
            <a:ext cx="152640" cy="1526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777960" y="1222200"/>
            <a:ext cx="15264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-990720" y="34920"/>
            <a:ext cx="7621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Kalt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-990720" y="2049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Vorzugs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-990720" y="2254320"/>
            <a:ext cx="15264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-990720" y="2444760"/>
            <a:ext cx="152640" cy="152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-762120" y="2254320"/>
            <a:ext cx="15264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-533520" y="2444760"/>
            <a:ext cx="152640" cy="15228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-533520" y="2254320"/>
            <a:ext cx="152640" cy="1522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-758880" y="2443320"/>
            <a:ext cx="150840" cy="150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-366840" y="220680"/>
            <a:ext cx="152640" cy="1522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-366840" y="449280"/>
            <a:ext cx="152640" cy="15228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366840" y="677880"/>
            <a:ext cx="152640" cy="15228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125360" y="6018120"/>
          <a:ext cx="6624720" cy="447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5360" y="6018120"/>
                    <a:ext cx="6624720" cy="4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3062520" y="147564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UniversS 55 Roman"/>
              </a:rPr>
              <a:t>Status</a:t>
            </a:r>
            <a:r>
              <a:rPr b="0" lang="en-US" sz="1400" spc="-1" strike="noStrike">
                <a:solidFill>
                  <a:srgbClr val="000000"/>
                </a:solidFill>
                <a:latin typeface="UniversS 55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459920" y="1483560"/>
            <a:ext cx="109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UniversS 55 Roman"/>
              </a:rPr>
              <a:t>Targets</a:t>
            </a:r>
            <a:r>
              <a:rPr b="0" lang="en-US" sz="1400" spc="-1" strike="noStrike">
                <a:solidFill>
                  <a:srgbClr val="000000"/>
                </a:solidFill>
                <a:latin typeface="UniversS 55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92240" y="1886040"/>
            <a:ext cx="9524880" cy="3886200"/>
            <a:chOff x="192240" y="1886040"/>
            <a:chExt cx="9524880" cy="3886200"/>
          </a:xfrm>
        </p:grpSpPr>
        <p:sp>
          <p:nvSpPr>
            <p:cNvPr id="240" name=""/>
            <p:cNvSpPr/>
            <p:nvPr/>
          </p:nvSpPr>
          <p:spPr>
            <a:xfrm>
              <a:off x="192240" y="1886040"/>
              <a:ext cx="9524880" cy="14475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2240" y="4400640"/>
              <a:ext cx="9524880" cy="137160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2240" y="3333600"/>
              <a:ext cx="9524880" cy="1067040"/>
            </a:xfrm>
            <a:prstGeom prst="rect">
              <a:avLst/>
            </a:prstGeom>
            <a:solidFill>
              <a:srgbClr val="99cc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288120" y="2495520"/>
              <a:ext cx="532800" cy="60948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288120" y="3790800"/>
              <a:ext cx="532800" cy="38124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381240"/>
                <a:gd name="textAreaBottom" fmla="*/ 381600 h 381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88120" y="4933800"/>
              <a:ext cx="532800" cy="763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288120" y="5162400"/>
              <a:ext cx="532800" cy="7632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76320"/>
                <a:gd name="textAreaBottom" fmla="*/ 76320 h 7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288120" y="5543640"/>
              <a:ext cx="532800" cy="7596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288120" y="5315040"/>
              <a:ext cx="532800" cy="75960"/>
            </a:xfrm>
            <a:custGeom>
              <a:avLst/>
              <a:gdLst>
                <a:gd name="textAreaLeft" fmla="*/ 0 w 532800"/>
                <a:gd name="textAreaRight" fmla="*/ 533160 w 532800"/>
                <a:gd name="textAreaTop" fmla="*/ 0 h 75960"/>
                <a:gd name="textAreaBottom" fmla="*/ 76320 h 75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66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</p:grpSp>
      <p:graphicFrame>
        <p:nvGraphicFramePr>
          <p:cNvPr id="249" name=""/>
          <p:cNvGraphicFramePr/>
          <p:nvPr/>
        </p:nvGraphicFramePr>
        <p:xfrm>
          <a:off x="563400" y="3435480"/>
          <a:ext cx="5801040" cy="893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400" y="3435480"/>
                    <a:ext cx="5801040" cy="89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547560" y="4646520"/>
          <a:ext cx="6623280" cy="13575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7560" y="4646520"/>
                    <a:ext cx="6623280" cy="13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7099200" y="2627280"/>
          <a:ext cx="2395800" cy="44604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099200" y="2627280"/>
                    <a:ext cx="23958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7142040" y="3738600"/>
          <a:ext cx="2381400" cy="446040"/>
        </p:xfrm>
        <a:graphic>
          <a:graphicData uri="http://schemas.openxmlformats.org/presentationml/2006/ole">
            <p:oleObj progId="Word.Document.12" r:id="rId9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142040" y="3738600"/>
                    <a:ext cx="238140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7157880" y="4878360"/>
          <a:ext cx="2381400" cy="8082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57880" y="4878360"/>
                    <a:ext cx="2381400" cy="8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547560" y="1876320"/>
          <a:ext cx="4950000" cy="1471680"/>
        </p:xfrm>
        <a:graphic>
          <a:graphicData uri="http://schemas.openxmlformats.org/presentationml/2006/ole">
            <p:oleObj progId="Word.Document.12" r:id="rId13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47560" y="1876320"/>
                    <a:ext cx="4950000" cy="14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UniversS 57 Condensed"/>
              </a:rPr>
              <a:t>Examples for general requirements (out of Part 1):</a:t>
            </a: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262" name=""/>
          <p:cNvSpPr/>
          <p:nvPr/>
        </p:nvSpPr>
        <p:spPr>
          <a:xfrm>
            <a:off x="-977760" y="2908440"/>
            <a:ext cx="139680" cy="13968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-771480" y="2908440"/>
            <a:ext cx="139680" cy="139680"/>
          </a:xfrm>
          <a:prstGeom prst="rect">
            <a:avLst/>
          </a:prstGeom>
          <a:solidFill>
            <a:srgbClr val="66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-565200" y="2908440"/>
            <a:ext cx="139680" cy="139680"/>
          </a:xfrm>
          <a:prstGeom prst="rect">
            <a:avLst/>
          </a:prstGeom>
          <a:solidFill>
            <a:srgbClr val="99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-358920" y="2908440"/>
            <a:ext cx="139680" cy="139680"/>
          </a:xfrm>
          <a:prstGeom prst="rect">
            <a:avLst/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-993240" y="2673360"/>
            <a:ext cx="5036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4 × Grau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-984240" y="216000"/>
            <a:ext cx="15228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-984240" y="444600"/>
            <a:ext cx="152280" cy="15228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-984240" y="673200"/>
            <a:ext cx="152280" cy="152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-777960" y="444600"/>
            <a:ext cx="1526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-777960" y="673200"/>
            <a:ext cx="15264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-571680" y="216000"/>
            <a:ext cx="152640" cy="15228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-365040" y="1225440"/>
            <a:ext cx="152280" cy="1526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571680" y="444600"/>
            <a:ext cx="152640" cy="1522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-571680" y="673200"/>
            <a:ext cx="152640" cy="1522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-777960" y="216000"/>
            <a:ext cx="152640" cy="152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-990720" y="1041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Warm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-365040" y="1454040"/>
            <a:ext cx="152280" cy="152640"/>
          </a:xfrm>
          <a:prstGeom prst="rect">
            <a:avLst/>
          </a:prstGeom>
          <a:solidFill>
            <a:srgbClr val="99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-365040" y="1682640"/>
            <a:ext cx="152280" cy="152640"/>
          </a:xfrm>
          <a:prstGeom prst="rect">
            <a:avLst/>
          </a:prstGeom>
          <a:solidFill>
            <a:srgbClr val="cc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-984240" y="122220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-984240" y="1450800"/>
            <a:ext cx="152280" cy="1526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-984240" y="1679400"/>
            <a:ext cx="152280" cy="152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-777960" y="1450800"/>
            <a:ext cx="152640" cy="1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-777960" y="1679400"/>
            <a:ext cx="1526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-571680" y="1222200"/>
            <a:ext cx="152640" cy="1526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-571680" y="1450800"/>
            <a:ext cx="152640" cy="15264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-571680" y="1679400"/>
            <a:ext cx="152640" cy="1526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-777960" y="1222200"/>
            <a:ext cx="15264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-990720" y="34920"/>
            <a:ext cx="7621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Kalt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-990720" y="2049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Vorzugs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-990720" y="2254320"/>
            <a:ext cx="15264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-990720" y="2444760"/>
            <a:ext cx="152640" cy="152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-762120" y="2254320"/>
            <a:ext cx="15264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-533520" y="2444760"/>
            <a:ext cx="152640" cy="15228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-533520" y="2254320"/>
            <a:ext cx="152640" cy="1522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-758880" y="2443320"/>
            <a:ext cx="150840" cy="150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-366840" y="220680"/>
            <a:ext cx="152640" cy="1522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-366840" y="449280"/>
            <a:ext cx="152640" cy="15228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-366840" y="677880"/>
            <a:ext cx="152640" cy="15228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41560" y="1849320"/>
            <a:ext cx="18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0" y="1455840"/>
          <a:ext cx="5959440" cy="314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55840"/>
                    <a:ext cx="5959440" cy="31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"/>
          <p:cNvSpPr/>
          <p:nvPr/>
        </p:nvSpPr>
        <p:spPr>
          <a:xfrm rot="178800">
            <a:off x="-42840" y="4756320"/>
            <a:ext cx="537516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12 Documentation of deviations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..deviations to this specification...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hould be negotiated and documented in a Vendor Addendum...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04" name=""/>
          <p:cNvSpPr/>
          <p:nvPr/>
        </p:nvSpPr>
        <p:spPr>
          <a:xfrm rot="268200">
            <a:off x="-33120" y="5637240"/>
            <a:ext cx="5375520" cy="76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2 Model validity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..model information should be in accordance with actual of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planned (production in preparation) die and package deliveries.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05" name=""/>
          <p:cNvSpPr/>
          <p:nvPr/>
        </p:nvSpPr>
        <p:spPr>
          <a:xfrm rot="21235800">
            <a:off x="2700000" y="2773440"/>
            <a:ext cx="4803840" cy="585000"/>
          </a:xfrm>
          <a:prstGeom prst="rect">
            <a:avLst/>
          </a:prstGeom>
          <a:solidFill>
            <a:srgbClr val="8adc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Basic type of models and models preference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..IBIS models are preferred. However, if IBIS models are not....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06" name=""/>
          <p:cNvSpPr/>
          <p:nvPr/>
        </p:nvSpPr>
        <p:spPr>
          <a:xfrm rot="21189000">
            <a:off x="3990600" y="3345480"/>
            <a:ext cx="5429160" cy="95004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3 Responsibility for correct model information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he IC manufacturer is responsible for the correct physical model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behavior, compliance of standard syntax rules (e.g. IBIS, HSpice)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s well as valid header information in proper form.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07" name=""/>
          <p:cNvSpPr/>
          <p:nvPr/>
        </p:nvSpPr>
        <p:spPr>
          <a:xfrm rot="21399000">
            <a:off x="5157720" y="4301280"/>
            <a:ext cx="4924440" cy="95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1 Model identification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..model information supplied to Siemens ICN, must be clearly identified in regard to significant IC ordering information as valid die and package revisions.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08" name=""/>
          <p:cNvSpPr/>
          <p:nvPr/>
        </p:nvSpPr>
        <p:spPr>
          <a:xfrm rot="21458400">
            <a:off x="4354560" y="5261400"/>
            <a:ext cx="6203880" cy="672120"/>
          </a:xfrm>
          <a:prstGeom prst="rect">
            <a:avLst/>
          </a:prstGeom>
          <a:solidFill>
            <a:srgbClr val="82e4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10 Model delivery before IC production</a:t>
            </a:r>
            <a:br>
              <a:rPr sz="14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..model information available to the manufacturer must be made accessible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to Siemens ICN before production of silicon.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09" name=""/>
          <p:cNvSpPr/>
          <p:nvPr/>
        </p:nvSpPr>
        <p:spPr>
          <a:xfrm rot="21437400">
            <a:off x="5089680" y="5940720"/>
            <a:ext cx="51847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6.6 Model encryption</a:t>
            </a:r>
            <a:br>
              <a:rPr sz="14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...should not be encrypted. ASCII file format is preferred.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10" name=""/>
          <p:cNvSpPr/>
          <p:nvPr/>
        </p:nvSpPr>
        <p:spPr>
          <a:xfrm rot="411600">
            <a:off x="5200560" y="1766160"/>
            <a:ext cx="5322960" cy="1006560"/>
          </a:xfrm>
          <a:prstGeom prst="rect">
            <a:avLst/>
          </a:prstGeom>
          <a:solidFill>
            <a:srgbClr val="c49d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7. Vendors reporting duty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f vendor becomes aware of a model problem which might affect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ICN simulation results, or if model information must be changed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ue to I/O redesigns and/or process changes, ICN M TC must be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notified immediately by MCN (Model Change Notification).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1066680" y="4010040"/>
            <a:ext cx="3276720" cy="21240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16240" y="3187800"/>
            <a:ext cx="76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llowed point  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eviation    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120080" y="4010040"/>
            <a:ext cx="2786040" cy="21240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S 55 Roman"/>
              </a:rPr>
              <a:t>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UniversS 55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UniversS 55 Roman"/>
              </a:rPr>
              <a:t>C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UniversS 55 Roman"/>
              </a:rPr>
              <a:t>&lt; </a:t>
            </a:r>
            <a:r>
              <a:rPr b="0" lang="en-US" sz="1800" spc="-1" strike="noStrike">
                <a:solidFill>
                  <a:srgbClr val="000000"/>
                </a:solidFill>
                <a:latin typeface="UniversS 55 Roman"/>
              </a:rPr>
              <a:t>Tj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UniversS 55 Roman"/>
              </a:rPr>
              <a:t>&lt; </a:t>
            </a:r>
            <a:r>
              <a:rPr b="0" lang="en-US" sz="1800" spc="-1" strike="noStrike">
                <a:solidFill>
                  <a:srgbClr val="000000"/>
                </a:solidFill>
                <a:latin typeface="UniversS 55 Roman"/>
              </a:rPr>
              <a:t>1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UniversS 55 Roman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UniversS 55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120080" y="1878120"/>
            <a:ext cx="2786040" cy="2124000"/>
          </a:xfrm>
          <a:prstGeom prst="rect">
            <a:avLst/>
          </a:prstGeom>
          <a:solidFill>
            <a:srgbClr val="99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UniversS 57 Condensed"/>
              </a:rPr>
              <a:t>Examples out of part 1:Typ.,min.,max. definition for parameter of influence (Standard model)</a:t>
            </a: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316" name=""/>
          <p:cNvSpPr/>
          <p:nvPr/>
        </p:nvSpPr>
        <p:spPr>
          <a:xfrm>
            <a:off x="-977760" y="2908440"/>
            <a:ext cx="139680" cy="13968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-771480" y="2908440"/>
            <a:ext cx="139680" cy="139680"/>
          </a:xfrm>
          <a:prstGeom prst="rect">
            <a:avLst/>
          </a:prstGeom>
          <a:solidFill>
            <a:srgbClr val="66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-565200" y="2908440"/>
            <a:ext cx="139680" cy="139680"/>
          </a:xfrm>
          <a:prstGeom prst="rect">
            <a:avLst/>
          </a:prstGeom>
          <a:solidFill>
            <a:srgbClr val="99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-358920" y="2908440"/>
            <a:ext cx="139680" cy="139680"/>
          </a:xfrm>
          <a:prstGeom prst="rect">
            <a:avLst/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-993240" y="2673360"/>
            <a:ext cx="5036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4 × Grau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-984240" y="216000"/>
            <a:ext cx="15228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-984240" y="444600"/>
            <a:ext cx="152280" cy="15228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-984240" y="673200"/>
            <a:ext cx="152280" cy="152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777960" y="444600"/>
            <a:ext cx="1526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-777960" y="673200"/>
            <a:ext cx="15264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-571680" y="216000"/>
            <a:ext cx="152640" cy="15228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-365040" y="1225440"/>
            <a:ext cx="152280" cy="1526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-571680" y="444600"/>
            <a:ext cx="152640" cy="1522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-571680" y="673200"/>
            <a:ext cx="152640" cy="1522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-777960" y="216000"/>
            <a:ext cx="152640" cy="152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990720" y="1041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Warm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-365040" y="1454040"/>
            <a:ext cx="152280" cy="152640"/>
          </a:xfrm>
          <a:prstGeom prst="rect">
            <a:avLst/>
          </a:prstGeom>
          <a:solidFill>
            <a:srgbClr val="99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-365040" y="1682640"/>
            <a:ext cx="152280" cy="152640"/>
          </a:xfrm>
          <a:prstGeom prst="rect">
            <a:avLst/>
          </a:prstGeom>
          <a:solidFill>
            <a:srgbClr val="cc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-984240" y="122220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-984240" y="1450800"/>
            <a:ext cx="152280" cy="1526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-984240" y="1679400"/>
            <a:ext cx="152280" cy="152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-777960" y="1450800"/>
            <a:ext cx="152640" cy="1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-777960" y="1679400"/>
            <a:ext cx="1526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-571680" y="1222200"/>
            <a:ext cx="152640" cy="1526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-571680" y="1450800"/>
            <a:ext cx="152640" cy="15264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-571680" y="1679400"/>
            <a:ext cx="152640" cy="1526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-777960" y="1222200"/>
            <a:ext cx="15264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-990720" y="34920"/>
            <a:ext cx="7621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Kalt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-990720" y="2049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Vorzugs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-990720" y="2254320"/>
            <a:ext cx="15264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-990720" y="2444760"/>
            <a:ext cx="152640" cy="152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-762120" y="2254320"/>
            <a:ext cx="15264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-533520" y="2444760"/>
            <a:ext cx="152640" cy="15228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-533520" y="2254320"/>
            <a:ext cx="152640" cy="1522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-758880" y="2443320"/>
            <a:ext cx="150840" cy="150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-366840" y="220680"/>
            <a:ext cx="152640" cy="1522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-366840" y="449280"/>
            <a:ext cx="152640" cy="15228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-366840" y="677880"/>
            <a:ext cx="152640" cy="15228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68480" y="1878120"/>
            <a:ext cx="3276360" cy="2124000"/>
          </a:xfrm>
          <a:prstGeom prst="rect">
            <a:avLst/>
          </a:prstGeom>
          <a:solidFill>
            <a:srgbClr val="99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203480" y="4532400"/>
            <a:ext cx="1182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00040" y="4092480"/>
            <a:ext cx="0" cy="2013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303200" y="4562640"/>
            <a:ext cx="9720" cy="1274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65160" y="4610160"/>
            <a:ext cx="1405080" cy="604800"/>
          </a:xfrm>
          <a:custGeom>
            <a:avLst/>
            <a:gdLst/>
            <a:ahLst/>
            <a:rect l="l" t="t" r="r" b="b"/>
            <a:pathLst>
              <a:path w="1182" h="462">
                <a:moveTo>
                  <a:pt x="0" y="462"/>
                </a:moveTo>
                <a:lnTo>
                  <a:pt x="132" y="459"/>
                </a:lnTo>
                <a:lnTo>
                  <a:pt x="203" y="447"/>
                </a:lnTo>
                <a:lnTo>
                  <a:pt x="229" y="425"/>
                </a:lnTo>
                <a:lnTo>
                  <a:pt x="251" y="391"/>
                </a:lnTo>
                <a:lnTo>
                  <a:pt x="276" y="346"/>
                </a:lnTo>
                <a:lnTo>
                  <a:pt x="324" y="232"/>
                </a:lnTo>
                <a:lnTo>
                  <a:pt x="364" y="132"/>
                </a:lnTo>
                <a:lnTo>
                  <a:pt x="395" y="76"/>
                </a:lnTo>
                <a:lnTo>
                  <a:pt x="440" y="33"/>
                </a:lnTo>
                <a:lnTo>
                  <a:pt x="491" y="11"/>
                </a:lnTo>
                <a:lnTo>
                  <a:pt x="553" y="1"/>
                </a:lnTo>
                <a:lnTo>
                  <a:pt x="629" y="0"/>
                </a:lnTo>
                <a:lnTo>
                  <a:pt x="691" y="14"/>
                </a:lnTo>
                <a:lnTo>
                  <a:pt x="738" y="36"/>
                </a:lnTo>
                <a:lnTo>
                  <a:pt x="783" y="75"/>
                </a:lnTo>
                <a:lnTo>
                  <a:pt x="817" y="126"/>
                </a:lnTo>
                <a:lnTo>
                  <a:pt x="861" y="233"/>
                </a:lnTo>
                <a:lnTo>
                  <a:pt x="902" y="343"/>
                </a:lnTo>
                <a:lnTo>
                  <a:pt x="933" y="393"/>
                </a:lnTo>
                <a:lnTo>
                  <a:pt x="950" y="422"/>
                </a:lnTo>
                <a:lnTo>
                  <a:pt x="979" y="446"/>
                </a:lnTo>
                <a:lnTo>
                  <a:pt x="1047" y="458"/>
                </a:lnTo>
                <a:lnTo>
                  <a:pt x="1182" y="462"/>
                </a:lnTo>
              </a:path>
            </a:pathLst>
          </a:custGeom>
          <a:solidFill>
            <a:srgbClr val="99cc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68600" y="4565520"/>
            <a:ext cx="0" cy="7970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08280" y="5209560"/>
            <a:ext cx="152856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25520" y="4662360"/>
            <a:ext cx="0" cy="7099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927520" y="4700520"/>
            <a:ext cx="0" cy="70020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1316160" y="6019920"/>
            <a:ext cx="2712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27320" y="5305320"/>
            <a:ext cx="3366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560680" y="5307120"/>
            <a:ext cx="3668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927520" y="5289480"/>
            <a:ext cx="252360" cy="7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52760" y="5197320"/>
            <a:ext cx="23760" cy="25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1946160" y="5292720"/>
            <a:ext cx="276480" cy="6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212920" y="5197320"/>
            <a:ext cx="23760" cy="25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913120" y="5200560"/>
            <a:ext cx="23760" cy="25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73320" y="5865840"/>
            <a:ext cx="221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1325520" y="5017680"/>
            <a:ext cx="182520" cy="2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322720" y="5321160"/>
            <a:ext cx="331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2..3 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697480" y="53211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..3 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852000" y="576756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245960" y="398160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375920" y="4862520"/>
            <a:ext cx="903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range for sigma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87600" y="5319720"/>
            <a:ext cx="6793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in. Value 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993040" y="4770360"/>
            <a:ext cx="6944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aussian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istribution 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6880" y="5315040"/>
            <a:ext cx="71136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ax. Value 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191680" y="5535720"/>
            <a:ext cx="2491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n 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20320" y="5535720"/>
            <a:ext cx="28116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ax 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561040" y="5535720"/>
            <a:ext cx="2185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yp 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22200" y="2417760"/>
            <a:ext cx="1182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419120" y="1987560"/>
            <a:ext cx="0" cy="1965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322280" y="2448000"/>
            <a:ext cx="9720" cy="124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27360" y="3079800"/>
            <a:ext cx="1528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1335240" y="3868560"/>
            <a:ext cx="27129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46400" y="3171960"/>
            <a:ext cx="33660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579760" y="3173400"/>
            <a:ext cx="3664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sm" type="stealth" w="sm"/>
            <a:tailEnd len="sm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46240" y="3157560"/>
            <a:ext cx="228600" cy="6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2571840" y="3067200"/>
            <a:ext cx="23760" cy="23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2043000" y="3160800"/>
            <a:ext cx="198720" cy="5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32000" y="3067200"/>
            <a:ext cx="23760" cy="237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932200" y="3070080"/>
            <a:ext cx="23760" cy="241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9160" bIns="-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2400" y="3719520"/>
            <a:ext cx="221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1344600" y="2892240"/>
            <a:ext cx="18252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341800" y="318780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0.5 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725920" y="31878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 </a:t>
            </a:r>
            <a:r>
              <a:rPr b="0" lang="en-US" sz="9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871080" y="3624120"/>
            <a:ext cx="12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264680" y="187956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701080" y="2225520"/>
            <a:ext cx="69444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aussian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istribution 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210760" y="3395520"/>
            <a:ext cx="2491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min 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39400" y="3395520"/>
            <a:ext cx="28116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max 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580120" y="3395520"/>
            <a:ext cx="218520" cy="137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typ 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585800" y="3187800"/>
            <a:ext cx="76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allowed point  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eviation    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334040" y="1870200"/>
            <a:ext cx="2786040" cy="2124000"/>
          </a:xfrm>
          <a:prstGeom prst="rect">
            <a:avLst/>
          </a:prstGeom>
          <a:solidFill>
            <a:srgbClr val="99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343400" y="4005360"/>
            <a:ext cx="2786040" cy="21240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Jedec 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UniversS 55 Roman"/>
              </a:rPr>
              <a:t>+</a:t>
            </a: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 5%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1878120"/>
            <a:ext cx="1066680" cy="2124000"/>
          </a:xfrm>
          <a:prstGeom prst="rect">
            <a:avLst/>
          </a:prstGeom>
          <a:solidFill>
            <a:srgbClr val="99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typ.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4006800"/>
            <a:ext cx="1066680" cy="212400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min./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max.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486080" y="1526400"/>
            <a:ext cx="23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76840" y="1515600"/>
            <a:ext cx="1963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S 55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UniversS 55 Roman"/>
              </a:rPr>
              <a:t>CC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48480" y="15422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S 55 Roman"/>
              </a:rPr>
              <a:t>Tj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278240" y="2335680"/>
            <a:ext cx="29163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Jedec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12V, 5V, 3.3V, 2.5V, 1.8V, 1.5V, 1.3V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270160" y="4061160"/>
            <a:ext cx="229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deviation = | 2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UniversS 55 Roman"/>
              </a:rPr>
              <a:t>+</a:t>
            </a: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0.5|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σ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15501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UniversS 55 Roman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UniversS 55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278840" y="2210040"/>
            <a:ext cx="26272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Conditions for Tj: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T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UniversS 55 Roman"/>
              </a:rPr>
              <a:t>A</a:t>
            </a: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 = 40</a:t>
            </a:r>
            <a:r>
              <a:rPr b="0" lang="de-DE" sz="1800" spc="-1" strike="noStrike" baseline="30000">
                <a:solidFill>
                  <a:srgbClr val="000000"/>
                </a:solidFill>
                <a:latin typeface="UniversS 55 Roman"/>
              </a:rPr>
              <a:t>o</a:t>
            </a: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C</a:t>
            </a:r>
            <a:r>
              <a:rPr b="0" lang="de-DE" sz="1800" spc="-1" strike="noStrike" u="sng">
                <a:solidFill>
                  <a:srgbClr val="000000"/>
                </a:solidFill>
                <a:uFillTx/>
                <a:latin typeface="UniversS 55 Roman"/>
              </a:rPr>
              <a:t>+</a:t>
            </a: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  </a:t>
            </a:r>
            <a:r>
              <a:rPr b="0" lang="de-DE" sz="1800" spc="-1" strike="noStrike" baseline="30000">
                <a:solidFill>
                  <a:srgbClr val="000000"/>
                </a:solidFill>
                <a:latin typeface="UniversS 55 Roman"/>
              </a:rPr>
              <a:t>o</a:t>
            </a: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C, still</a:t>
            </a:r>
            <a:br>
              <a:rPr sz="1800"/>
            </a:b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min. load, frequency = typ., SSO = 50%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55520" y="6159600"/>
            <a:ext cx="8271000" cy="3362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Independent scaling algorithm for process, Tj and V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UniversS 55 Roman"/>
              </a:rPr>
              <a:t>CC</a:t>
            </a: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 needed in addition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884240" y="2494080"/>
            <a:ext cx="1405080" cy="588960"/>
          </a:xfrm>
          <a:custGeom>
            <a:avLst/>
            <a:gdLst/>
            <a:ahLst/>
            <a:rect l="l" t="t" r="r" b="b"/>
            <a:pathLst>
              <a:path w="1182" h="462">
                <a:moveTo>
                  <a:pt x="0" y="462"/>
                </a:moveTo>
                <a:lnTo>
                  <a:pt x="132" y="459"/>
                </a:lnTo>
                <a:lnTo>
                  <a:pt x="203" y="447"/>
                </a:lnTo>
                <a:lnTo>
                  <a:pt x="229" y="425"/>
                </a:lnTo>
                <a:lnTo>
                  <a:pt x="251" y="391"/>
                </a:lnTo>
                <a:lnTo>
                  <a:pt x="276" y="346"/>
                </a:lnTo>
                <a:lnTo>
                  <a:pt x="324" y="232"/>
                </a:lnTo>
                <a:lnTo>
                  <a:pt x="364" y="132"/>
                </a:lnTo>
                <a:lnTo>
                  <a:pt x="395" y="76"/>
                </a:lnTo>
                <a:lnTo>
                  <a:pt x="440" y="33"/>
                </a:lnTo>
                <a:lnTo>
                  <a:pt x="491" y="11"/>
                </a:lnTo>
                <a:lnTo>
                  <a:pt x="553" y="1"/>
                </a:lnTo>
                <a:lnTo>
                  <a:pt x="629" y="0"/>
                </a:lnTo>
                <a:lnTo>
                  <a:pt x="691" y="14"/>
                </a:lnTo>
                <a:lnTo>
                  <a:pt x="738" y="36"/>
                </a:lnTo>
                <a:lnTo>
                  <a:pt x="783" y="75"/>
                </a:lnTo>
                <a:lnTo>
                  <a:pt x="817" y="126"/>
                </a:lnTo>
                <a:lnTo>
                  <a:pt x="861" y="233"/>
                </a:lnTo>
                <a:lnTo>
                  <a:pt x="902" y="343"/>
                </a:lnTo>
                <a:lnTo>
                  <a:pt x="933" y="393"/>
                </a:lnTo>
                <a:lnTo>
                  <a:pt x="950" y="422"/>
                </a:lnTo>
                <a:lnTo>
                  <a:pt x="979" y="446"/>
                </a:lnTo>
                <a:lnTo>
                  <a:pt x="1047" y="458"/>
                </a:lnTo>
                <a:lnTo>
                  <a:pt x="1182" y="462"/>
                </a:lnTo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407960" y="2189160"/>
            <a:ext cx="2221200" cy="1668600"/>
          </a:xfrm>
          <a:custGeom>
            <a:avLst/>
            <a:gdLst/>
            <a:ahLst/>
            <a:rect l="l" t="t" r="r" b="b"/>
            <a:pathLst>
              <a:path w="2368" h="1741">
                <a:moveTo>
                  <a:pt x="0" y="0"/>
                </a:moveTo>
                <a:lnTo>
                  <a:pt x="163" y="8"/>
                </a:lnTo>
                <a:lnTo>
                  <a:pt x="217" y="19"/>
                </a:lnTo>
                <a:lnTo>
                  <a:pt x="316" y="47"/>
                </a:lnTo>
                <a:lnTo>
                  <a:pt x="457" y="117"/>
                </a:lnTo>
                <a:lnTo>
                  <a:pt x="604" y="205"/>
                </a:lnTo>
                <a:lnTo>
                  <a:pt x="787" y="332"/>
                </a:lnTo>
                <a:lnTo>
                  <a:pt x="916" y="451"/>
                </a:lnTo>
                <a:lnTo>
                  <a:pt x="1036" y="576"/>
                </a:lnTo>
                <a:lnTo>
                  <a:pt x="1157" y="747"/>
                </a:lnTo>
                <a:lnTo>
                  <a:pt x="1273" y="959"/>
                </a:lnTo>
                <a:lnTo>
                  <a:pt x="1415" y="1244"/>
                </a:lnTo>
                <a:lnTo>
                  <a:pt x="1479" y="1410"/>
                </a:lnTo>
                <a:lnTo>
                  <a:pt x="1544" y="1534"/>
                </a:lnTo>
                <a:lnTo>
                  <a:pt x="1608" y="1617"/>
                </a:lnTo>
                <a:lnTo>
                  <a:pt x="1678" y="1671"/>
                </a:lnTo>
                <a:lnTo>
                  <a:pt x="1761" y="1696"/>
                </a:lnTo>
                <a:lnTo>
                  <a:pt x="1879" y="1715"/>
                </a:lnTo>
                <a:lnTo>
                  <a:pt x="2013" y="1728"/>
                </a:lnTo>
                <a:lnTo>
                  <a:pt x="2131" y="1736"/>
                </a:lnTo>
                <a:lnTo>
                  <a:pt x="2368" y="174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405080" y="2143080"/>
            <a:ext cx="2495520" cy="1708200"/>
          </a:xfrm>
          <a:custGeom>
            <a:avLst/>
            <a:gdLst/>
            <a:ahLst/>
            <a:rect l="l" t="t" r="r" b="b"/>
            <a:pathLst>
              <a:path w="2489" h="1748">
                <a:moveTo>
                  <a:pt x="0" y="0"/>
                </a:moveTo>
                <a:lnTo>
                  <a:pt x="326" y="20"/>
                </a:lnTo>
                <a:lnTo>
                  <a:pt x="386" y="31"/>
                </a:lnTo>
                <a:lnTo>
                  <a:pt x="494" y="59"/>
                </a:lnTo>
                <a:lnTo>
                  <a:pt x="649" y="129"/>
                </a:lnTo>
                <a:lnTo>
                  <a:pt x="811" y="217"/>
                </a:lnTo>
                <a:lnTo>
                  <a:pt x="1012" y="344"/>
                </a:lnTo>
                <a:lnTo>
                  <a:pt x="1154" y="463"/>
                </a:lnTo>
                <a:lnTo>
                  <a:pt x="1285" y="588"/>
                </a:lnTo>
                <a:lnTo>
                  <a:pt x="1418" y="759"/>
                </a:lnTo>
                <a:lnTo>
                  <a:pt x="1546" y="971"/>
                </a:lnTo>
                <a:lnTo>
                  <a:pt x="1702" y="1256"/>
                </a:lnTo>
                <a:lnTo>
                  <a:pt x="1772" y="1422"/>
                </a:lnTo>
                <a:lnTo>
                  <a:pt x="1844" y="1546"/>
                </a:lnTo>
                <a:lnTo>
                  <a:pt x="1914" y="1629"/>
                </a:lnTo>
                <a:lnTo>
                  <a:pt x="1991" y="1683"/>
                </a:lnTo>
                <a:lnTo>
                  <a:pt x="2082" y="1708"/>
                </a:lnTo>
                <a:lnTo>
                  <a:pt x="2212" y="1727"/>
                </a:lnTo>
                <a:lnTo>
                  <a:pt x="2359" y="1740"/>
                </a:lnTo>
                <a:lnTo>
                  <a:pt x="2489" y="17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406520" y="2263680"/>
            <a:ext cx="1685880" cy="1602000"/>
          </a:xfrm>
          <a:custGeom>
            <a:avLst/>
            <a:gdLst/>
            <a:ahLst/>
            <a:rect l="l" t="t" r="r" b="b"/>
            <a:pathLst>
              <a:path w="1957" h="1738">
                <a:moveTo>
                  <a:pt x="0" y="0"/>
                </a:moveTo>
                <a:lnTo>
                  <a:pt x="50" y="5"/>
                </a:lnTo>
                <a:lnTo>
                  <a:pt x="97" y="16"/>
                </a:lnTo>
                <a:lnTo>
                  <a:pt x="183" y="44"/>
                </a:lnTo>
                <a:lnTo>
                  <a:pt x="304" y="114"/>
                </a:lnTo>
                <a:lnTo>
                  <a:pt x="432" y="202"/>
                </a:lnTo>
                <a:lnTo>
                  <a:pt x="590" y="329"/>
                </a:lnTo>
                <a:lnTo>
                  <a:pt x="701" y="448"/>
                </a:lnTo>
                <a:lnTo>
                  <a:pt x="805" y="573"/>
                </a:lnTo>
                <a:lnTo>
                  <a:pt x="910" y="744"/>
                </a:lnTo>
                <a:lnTo>
                  <a:pt x="1010" y="956"/>
                </a:lnTo>
                <a:lnTo>
                  <a:pt x="1133" y="1241"/>
                </a:lnTo>
                <a:lnTo>
                  <a:pt x="1188" y="1407"/>
                </a:lnTo>
                <a:lnTo>
                  <a:pt x="1244" y="1531"/>
                </a:lnTo>
                <a:lnTo>
                  <a:pt x="1300" y="1614"/>
                </a:lnTo>
                <a:lnTo>
                  <a:pt x="1360" y="1668"/>
                </a:lnTo>
                <a:lnTo>
                  <a:pt x="1432" y="1693"/>
                </a:lnTo>
                <a:lnTo>
                  <a:pt x="1534" y="1712"/>
                </a:lnTo>
                <a:lnTo>
                  <a:pt x="1650" y="1725"/>
                </a:lnTo>
                <a:lnTo>
                  <a:pt x="1752" y="1733"/>
                </a:lnTo>
                <a:lnTo>
                  <a:pt x="1957" y="17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87680" y="2451240"/>
            <a:ext cx="0" cy="7761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413720" y="2701800"/>
            <a:ext cx="903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range for sigma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946240" y="2581200"/>
            <a:ext cx="0" cy="6825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244600" y="2544840"/>
            <a:ext cx="0" cy="69372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389240" y="4297320"/>
            <a:ext cx="2220840" cy="1709640"/>
          </a:xfrm>
          <a:custGeom>
            <a:avLst/>
            <a:gdLst/>
            <a:ahLst/>
            <a:rect l="l" t="t" r="r" b="b"/>
            <a:pathLst>
              <a:path w="2368" h="1741">
                <a:moveTo>
                  <a:pt x="0" y="0"/>
                </a:moveTo>
                <a:lnTo>
                  <a:pt x="163" y="8"/>
                </a:lnTo>
                <a:lnTo>
                  <a:pt x="217" y="19"/>
                </a:lnTo>
                <a:lnTo>
                  <a:pt x="316" y="47"/>
                </a:lnTo>
                <a:lnTo>
                  <a:pt x="457" y="117"/>
                </a:lnTo>
                <a:lnTo>
                  <a:pt x="604" y="205"/>
                </a:lnTo>
                <a:lnTo>
                  <a:pt x="787" y="332"/>
                </a:lnTo>
                <a:lnTo>
                  <a:pt x="916" y="451"/>
                </a:lnTo>
                <a:lnTo>
                  <a:pt x="1036" y="576"/>
                </a:lnTo>
                <a:lnTo>
                  <a:pt x="1157" y="747"/>
                </a:lnTo>
                <a:lnTo>
                  <a:pt x="1273" y="959"/>
                </a:lnTo>
                <a:lnTo>
                  <a:pt x="1415" y="1244"/>
                </a:lnTo>
                <a:lnTo>
                  <a:pt x="1479" y="1410"/>
                </a:lnTo>
                <a:lnTo>
                  <a:pt x="1544" y="1534"/>
                </a:lnTo>
                <a:lnTo>
                  <a:pt x="1608" y="1617"/>
                </a:lnTo>
                <a:lnTo>
                  <a:pt x="1678" y="1671"/>
                </a:lnTo>
                <a:lnTo>
                  <a:pt x="1761" y="1696"/>
                </a:lnTo>
                <a:lnTo>
                  <a:pt x="1879" y="1715"/>
                </a:lnTo>
                <a:lnTo>
                  <a:pt x="2013" y="1728"/>
                </a:lnTo>
                <a:lnTo>
                  <a:pt x="2131" y="1736"/>
                </a:lnTo>
                <a:lnTo>
                  <a:pt x="2368" y="174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386000" y="4251240"/>
            <a:ext cx="2495520" cy="1751040"/>
          </a:xfrm>
          <a:custGeom>
            <a:avLst/>
            <a:gdLst/>
            <a:ahLst/>
            <a:rect l="l" t="t" r="r" b="b"/>
            <a:pathLst>
              <a:path w="2489" h="1748">
                <a:moveTo>
                  <a:pt x="0" y="0"/>
                </a:moveTo>
                <a:lnTo>
                  <a:pt x="326" y="20"/>
                </a:lnTo>
                <a:lnTo>
                  <a:pt x="386" y="31"/>
                </a:lnTo>
                <a:lnTo>
                  <a:pt x="494" y="59"/>
                </a:lnTo>
                <a:lnTo>
                  <a:pt x="649" y="129"/>
                </a:lnTo>
                <a:lnTo>
                  <a:pt x="811" y="217"/>
                </a:lnTo>
                <a:lnTo>
                  <a:pt x="1012" y="344"/>
                </a:lnTo>
                <a:lnTo>
                  <a:pt x="1154" y="463"/>
                </a:lnTo>
                <a:lnTo>
                  <a:pt x="1285" y="588"/>
                </a:lnTo>
                <a:lnTo>
                  <a:pt x="1418" y="759"/>
                </a:lnTo>
                <a:lnTo>
                  <a:pt x="1546" y="971"/>
                </a:lnTo>
                <a:lnTo>
                  <a:pt x="1702" y="1256"/>
                </a:lnTo>
                <a:lnTo>
                  <a:pt x="1772" y="1422"/>
                </a:lnTo>
                <a:lnTo>
                  <a:pt x="1844" y="1546"/>
                </a:lnTo>
                <a:lnTo>
                  <a:pt x="1914" y="1629"/>
                </a:lnTo>
                <a:lnTo>
                  <a:pt x="1991" y="1683"/>
                </a:lnTo>
                <a:lnTo>
                  <a:pt x="2082" y="1708"/>
                </a:lnTo>
                <a:lnTo>
                  <a:pt x="2212" y="1727"/>
                </a:lnTo>
                <a:lnTo>
                  <a:pt x="2359" y="1740"/>
                </a:lnTo>
                <a:lnTo>
                  <a:pt x="2489" y="174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87440" y="4375080"/>
            <a:ext cx="1685880" cy="1641600"/>
          </a:xfrm>
          <a:custGeom>
            <a:avLst/>
            <a:gdLst/>
            <a:ahLst/>
            <a:rect l="l" t="t" r="r" b="b"/>
            <a:pathLst>
              <a:path w="1957" h="1738">
                <a:moveTo>
                  <a:pt x="0" y="0"/>
                </a:moveTo>
                <a:lnTo>
                  <a:pt x="50" y="5"/>
                </a:lnTo>
                <a:lnTo>
                  <a:pt x="97" y="16"/>
                </a:lnTo>
                <a:lnTo>
                  <a:pt x="183" y="44"/>
                </a:lnTo>
                <a:lnTo>
                  <a:pt x="304" y="114"/>
                </a:lnTo>
                <a:lnTo>
                  <a:pt x="432" y="202"/>
                </a:lnTo>
                <a:lnTo>
                  <a:pt x="590" y="329"/>
                </a:lnTo>
                <a:lnTo>
                  <a:pt x="701" y="448"/>
                </a:lnTo>
                <a:lnTo>
                  <a:pt x="805" y="573"/>
                </a:lnTo>
                <a:lnTo>
                  <a:pt x="910" y="744"/>
                </a:lnTo>
                <a:lnTo>
                  <a:pt x="1010" y="956"/>
                </a:lnTo>
                <a:lnTo>
                  <a:pt x="1133" y="1241"/>
                </a:lnTo>
                <a:lnTo>
                  <a:pt x="1188" y="1407"/>
                </a:lnTo>
                <a:lnTo>
                  <a:pt x="1244" y="1531"/>
                </a:lnTo>
                <a:lnTo>
                  <a:pt x="1300" y="1614"/>
                </a:lnTo>
                <a:lnTo>
                  <a:pt x="1360" y="1668"/>
                </a:lnTo>
                <a:lnTo>
                  <a:pt x="1432" y="1693"/>
                </a:lnTo>
                <a:lnTo>
                  <a:pt x="1534" y="1712"/>
                </a:lnTo>
                <a:lnTo>
                  <a:pt x="1650" y="1725"/>
                </a:lnTo>
                <a:lnTo>
                  <a:pt x="1752" y="1733"/>
                </a:lnTo>
                <a:lnTo>
                  <a:pt x="1957" y="173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UniversS 57 Condensed"/>
              </a:rPr>
              <a:t>Examples out of Part 2: Keyword Vdiff_</a:t>
            </a:r>
            <a:r>
              <a:rPr b="0" lang="de-DE" sz="1800" spc="-1" strike="noStrike">
                <a:solidFill>
                  <a:srgbClr val="000000"/>
                </a:solidFill>
                <a:latin typeface="UniversS 57 Condensed"/>
              </a:rPr>
              <a:t>min/max</a:t>
            </a:r>
            <a:endParaRPr b="0" lang="en-US" sz="1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431" name=""/>
          <p:cNvSpPr/>
          <p:nvPr/>
        </p:nvSpPr>
        <p:spPr>
          <a:xfrm>
            <a:off x="-977760" y="2908440"/>
            <a:ext cx="139680" cy="13968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-771480" y="2908440"/>
            <a:ext cx="139680" cy="139680"/>
          </a:xfrm>
          <a:prstGeom prst="rect">
            <a:avLst/>
          </a:prstGeom>
          <a:solidFill>
            <a:srgbClr val="66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-565200" y="2908440"/>
            <a:ext cx="139680" cy="139680"/>
          </a:xfrm>
          <a:prstGeom prst="rect">
            <a:avLst/>
          </a:prstGeom>
          <a:solidFill>
            <a:srgbClr val="99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-358920" y="2908440"/>
            <a:ext cx="139680" cy="139680"/>
          </a:xfrm>
          <a:prstGeom prst="rect">
            <a:avLst/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-993240" y="2673360"/>
            <a:ext cx="5036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4 × Grau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-984240" y="216000"/>
            <a:ext cx="15228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-984240" y="444600"/>
            <a:ext cx="152280" cy="15228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-984240" y="673200"/>
            <a:ext cx="152280" cy="152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-777960" y="444600"/>
            <a:ext cx="1526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-777960" y="673200"/>
            <a:ext cx="15264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-571680" y="216000"/>
            <a:ext cx="152640" cy="15228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-365040" y="1225440"/>
            <a:ext cx="152280" cy="1526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-571680" y="444600"/>
            <a:ext cx="152640" cy="1522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-571680" y="673200"/>
            <a:ext cx="152640" cy="1522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-777960" y="216000"/>
            <a:ext cx="152640" cy="152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-990720" y="1041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Warm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-365040" y="1454040"/>
            <a:ext cx="152280" cy="152640"/>
          </a:xfrm>
          <a:prstGeom prst="rect">
            <a:avLst/>
          </a:prstGeom>
          <a:solidFill>
            <a:srgbClr val="99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-365040" y="1682640"/>
            <a:ext cx="152280" cy="152640"/>
          </a:xfrm>
          <a:prstGeom prst="rect">
            <a:avLst/>
          </a:prstGeom>
          <a:solidFill>
            <a:srgbClr val="cc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-984240" y="122220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-984240" y="1450800"/>
            <a:ext cx="152280" cy="1526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-984240" y="1679400"/>
            <a:ext cx="152280" cy="152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-777960" y="1450800"/>
            <a:ext cx="152640" cy="1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-777960" y="1679400"/>
            <a:ext cx="1526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-571680" y="1222200"/>
            <a:ext cx="152640" cy="1526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-571680" y="1450800"/>
            <a:ext cx="152640" cy="15264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-571680" y="1679400"/>
            <a:ext cx="152640" cy="1526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-777960" y="1222200"/>
            <a:ext cx="15264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-990720" y="34920"/>
            <a:ext cx="7621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Kalt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-990720" y="2049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Vorzugs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-990720" y="2254320"/>
            <a:ext cx="15264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-990720" y="2444760"/>
            <a:ext cx="152640" cy="152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-762120" y="2254320"/>
            <a:ext cx="15264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-533520" y="2444760"/>
            <a:ext cx="152640" cy="15228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-533520" y="2254320"/>
            <a:ext cx="152640" cy="1522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-758880" y="2443320"/>
            <a:ext cx="150840" cy="150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-366840" y="220680"/>
            <a:ext cx="152640" cy="1522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-366840" y="449280"/>
            <a:ext cx="152640" cy="15228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-366840" y="677880"/>
            <a:ext cx="152640" cy="15228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938320" y="2468520"/>
            <a:ext cx="1177560" cy="2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_overshoot_high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85720" y="2577960"/>
            <a:ext cx="21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5720" y="4040280"/>
            <a:ext cx="2183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476080" y="3624120"/>
            <a:ext cx="2474280" cy="2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n=negative input voltage of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diffmax</a:t>
            </a: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/mi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1040" y="2770200"/>
            <a:ext cx="1333440" cy="107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51040" y="2768760"/>
            <a:ext cx="13381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475360" y="2811600"/>
            <a:ext cx="2448720" cy="2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Vp=positive input voltage of </a:t>
            </a: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diffmax/mi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235240" y="2773440"/>
            <a:ext cx="200160" cy="260280"/>
          </a:xfrm>
          <a:custGeom>
            <a:avLst/>
            <a:gdLst/>
            <a:ahLst/>
            <a:rect l="l" t="t" r="r" b="b"/>
            <a:pathLst>
              <a:path w="126" h="164">
                <a:moveTo>
                  <a:pt x="0" y="0"/>
                </a:moveTo>
                <a:lnTo>
                  <a:pt x="126" y="85"/>
                </a:lnTo>
                <a:lnTo>
                  <a:pt x="2" y="1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35240" y="3589200"/>
            <a:ext cx="176040" cy="262080"/>
          </a:xfrm>
          <a:custGeom>
            <a:avLst/>
            <a:gdLst/>
            <a:ahLst/>
            <a:rect l="l" t="t" r="r" b="b"/>
            <a:pathLst>
              <a:path w="111" h="165">
                <a:moveTo>
                  <a:pt x="0" y="0"/>
                </a:moveTo>
                <a:lnTo>
                  <a:pt x="110" y="83"/>
                </a:lnTo>
                <a:lnTo>
                  <a:pt x="2" y="16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904840" y="3916440"/>
            <a:ext cx="1121400" cy="22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S_overshoot_low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70120" y="3192840"/>
            <a:ext cx="60768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Vdiffmax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574640" y="3041640"/>
            <a:ext cx="612720" cy="529920"/>
            <a:chOff x="1574640" y="3041640"/>
            <a:chExt cx="612720" cy="529920"/>
          </a:xfrm>
        </p:grpSpPr>
        <p:sp>
          <p:nvSpPr>
            <p:cNvPr id="481" name=""/>
            <p:cNvSpPr/>
            <p:nvPr/>
          </p:nvSpPr>
          <p:spPr>
            <a:xfrm>
              <a:off x="1574640" y="3054240"/>
              <a:ext cx="609480" cy="517320"/>
            </a:xfrm>
            <a:prstGeom prst="rect">
              <a:avLst/>
            </a:prstGeom>
            <a:solidFill>
              <a:srgbClr val="c49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1581120" y="3041640"/>
              <a:ext cx="606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1592280" y="3202200"/>
              <a:ext cx="580320" cy="224640"/>
            </a:xfrm>
            <a:prstGeom prst="rect">
              <a:avLst/>
            </a:prstGeom>
            <a:solidFill>
              <a:srgbClr val="c49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diffmin</a:t>
              </a:r>
              <a:endParaRPr b="0" lang="en-US" sz="10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576080" y="3570120"/>
              <a:ext cx="606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</p:grpSp>
      <p:sp>
        <p:nvSpPr>
          <p:cNvPr id="485" name=""/>
          <p:cNvSpPr/>
          <p:nvPr/>
        </p:nvSpPr>
        <p:spPr>
          <a:xfrm>
            <a:off x="846000" y="3844800"/>
            <a:ext cx="13384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662040" y="2120760"/>
            <a:ext cx="21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62040" y="4521240"/>
            <a:ext cx="217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819440" y="5364720"/>
            <a:ext cx="6421320" cy="36828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Vdiff_max should be introduced to IBIS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854440" y="2021760"/>
            <a:ext cx="14446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_overshoot_high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922480" y="4382280"/>
            <a:ext cx="127008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Arial"/>
              </a:rPr>
              <a:t>D_overshoot_low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303960" y="1668600"/>
            <a:ext cx="34732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Vdiff_min 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UniversS 55 Roman"/>
              </a:rPr>
              <a:t>&lt;</a:t>
            </a: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 | Vdiff_IN | 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UniversS 55 Roman"/>
              </a:rPr>
              <a:t>&lt;</a:t>
            </a: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 Vdiff_max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Vp 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UniversS 55 Roman"/>
              </a:rPr>
              <a:t>&lt;</a:t>
            </a: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 S_overshoot_high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Vn </a:t>
            </a:r>
            <a:r>
              <a:rPr b="0" lang="de-DE" sz="1400" spc="-1" strike="noStrike" u="sng">
                <a:solidFill>
                  <a:srgbClr val="000000"/>
                </a:solidFill>
                <a:uFillTx/>
                <a:latin typeface="UniversS 55 Roman"/>
              </a:rPr>
              <a:t>&gt;</a:t>
            </a: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 S_overshoot_low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394320" y="4123800"/>
            <a:ext cx="351180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Note : </a:t>
            </a: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Vdiff_min/max are for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w.c. of V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UniversS 55 Roman"/>
              </a:rPr>
              <a:t>CC</a:t>
            </a: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, process variation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Tj, V</a:t>
            </a:r>
            <a:r>
              <a:rPr b="0" lang="de-DE" sz="1400" spc="-1" strike="noStrike" baseline="-25000">
                <a:solidFill>
                  <a:srgbClr val="000000"/>
                </a:solidFill>
                <a:latin typeface="UniversS 55 Roman"/>
              </a:rPr>
              <a:t>CM  </a:t>
            </a: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 and with proper 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                   function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324400" y="2956320"/>
            <a:ext cx="477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LVDS, P/ECL: D_overshoot_high = S_overshoot_high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UniversS 55 Roman"/>
              </a:rPr>
              <a:t>LVDS, P/ECL: D_overshoot_low = S_overshoot_low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76280" y="2120760"/>
            <a:ext cx="2352600" cy="476280"/>
          </a:xfrm>
          <a:prstGeom prst="rect">
            <a:avLst/>
          </a:prstGeom>
          <a:gradFill rotWithShape="0">
            <a:gsLst>
              <a:gs pos="0">
                <a:srgbClr val="3b6968"/>
              </a:gs>
              <a:gs pos="100000">
                <a:srgbClr val="82e4e2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63400" y="4025880"/>
            <a:ext cx="2279880" cy="520560"/>
          </a:xfrm>
          <a:prstGeom prst="rect">
            <a:avLst/>
          </a:prstGeom>
          <a:gradFill rotWithShape="0">
            <a:gsLst>
              <a:gs pos="0">
                <a:srgbClr val="82e4e2"/>
              </a:gs>
              <a:gs pos="100000">
                <a:srgbClr val="3b6968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UniversS 57 Condensed"/>
              </a:rPr>
              <a:t>Examples out of part 2: Keyword [Model spec] Vinl, Vinh (Example for CMOS inputs)</a:t>
            </a: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497" name=""/>
          <p:cNvSpPr/>
          <p:nvPr/>
        </p:nvSpPr>
        <p:spPr>
          <a:xfrm>
            <a:off x="-977760" y="2908440"/>
            <a:ext cx="139680" cy="13968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-771480" y="2908440"/>
            <a:ext cx="139680" cy="139680"/>
          </a:xfrm>
          <a:prstGeom prst="rect">
            <a:avLst/>
          </a:prstGeom>
          <a:solidFill>
            <a:srgbClr val="66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-565200" y="2908440"/>
            <a:ext cx="139680" cy="139680"/>
          </a:xfrm>
          <a:prstGeom prst="rect">
            <a:avLst/>
          </a:prstGeom>
          <a:solidFill>
            <a:srgbClr val="99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-358920" y="2908440"/>
            <a:ext cx="139680" cy="139680"/>
          </a:xfrm>
          <a:prstGeom prst="rect">
            <a:avLst/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-993240" y="2673360"/>
            <a:ext cx="5036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4 × Grau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-984240" y="216000"/>
            <a:ext cx="15228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-984240" y="444600"/>
            <a:ext cx="152280" cy="15228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-984240" y="673200"/>
            <a:ext cx="152280" cy="152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-777960" y="444600"/>
            <a:ext cx="1526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-777960" y="673200"/>
            <a:ext cx="15264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-571680" y="216000"/>
            <a:ext cx="152640" cy="15228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-365040" y="1225440"/>
            <a:ext cx="152280" cy="1526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-571680" y="444600"/>
            <a:ext cx="152640" cy="1522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-571680" y="673200"/>
            <a:ext cx="152640" cy="1522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-777960" y="216000"/>
            <a:ext cx="152640" cy="152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-990720" y="1041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Warm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-365040" y="1454040"/>
            <a:ext cx="152280" cy="152640"/>
          </a:xfrm>
          <a:prstGeom prst="rect">
            <a:avLst/>
          </a:prstGeom>
          <a:solidFill>
            <a:srgbClr val="99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-365040" y="1682640"/>
            <a:ext cx="152280" cy="152640"/>
          </a:xfrm>
          <a:prstGeom prst="rect">
            <a:avLst/>
          </a:prstGeom>
          <a:solidFill>
            <a:srgbClr val="cc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-984240" y="122220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-984240" y="1450800"/>
            <a:ext cx="152280" cy="1526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-984240" y="1679400"/>
            <a:ext cx="152280" cy="152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777960" y="1450800"/>
            <a:ext cx="152640" cy="1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-777960" y="1679400"/>
            <a:ext cx="1526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-571680" y="1222200"/>
            <a:ext cx="152640" cy="1526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-571680" y="1450800"/>
            <a:ext cx="152640" cy="15264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571680" y="1679400"/>
            <a:ext cx="152640" cy="1526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-777960" y="1222200"/>
            <a:ext cx="15264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-990720" y="34920"/>
            <a:ext cx="7621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Kalt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-990720" y="2049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Vorzugs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-990720" y="2254320"/>
            <a:ext cx="15264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-990720" y="2444760"/>
            <a:ext cx="152640" cy="152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-762120" y="2254320"/>
            <a:ext cx="15264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-533520" y="2444760"/>
            <a:ext cx="152640" cy="15228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-533520" y="2254320"/>
            <a:ext cx="152640" cy="1522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-758880" y="2443320"/>
            <a:ext cx="150840" cy="150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366840" y="220680"/>
            <a:ext cx="152640" cy="1522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-366840" y="449280"/>
            <a:ext cx="152640" cy="15228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-366840" y="677880"/>
            <a:ext cx="152640" cy="15228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graphicFrame>
        <p:nvGraphicFramePr>
          <p:cNvPr id="535" name=""/>
          <p:cNvGraphicFramePr/>
          <p:nvPr/>
        </p:nvGraphicFramePr>
        <p:xfrm>
          <a:off x="1371600" y="1933560"/>
          <a:ext cx="7807320" cy="1284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33560"/>
                    <a:ext cx="7807320" cy="12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"/>
          <p:cNvGraphicFramePr/>
          <p:nvPr/>
        </p:nvGraphicFramePr>
        <p:xfrm>
          <a:off x="547560" y="3262320"/>
          <a:ext cx="7809120" cy="13701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7560" y="3262320"/>
                    <a:ext cx="7809120" cy="13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9" name=""/>
          <p:cNvGraphicFramePr/>
          <p:nvPr/>
        </p:nvGraphicFramePr>
        <p:xfrm>
          <a:off x="1789200" y="4762440"/>
          <a:ext cx="8183520" cy="125568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54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89200" y="4762440"/>
                    <a:ext cx="818352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"/>
          <p:cNvSpPr/>
          <p:nvPr/>
        </p:nvSpPr>
        <p:spPr>
          <a:xfrm>
            <a:off x="1300320" y="6038640"/>
            <a:ext cx="8110440" cy="40572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For more accurate delay time calculations V</a:t>
            </a:r>
            <a:r>
              <a:rPr b="0" lang="de-DE" sz="1800" spc="-1" strike="noStrike" baseline="-25000">
                <a:solidFill>
                  <a:srgbClr val="000000"/>
                </a:solidFill>
                <a:latin typeface="UniversS 55 Roman"/>
              </a:rPr>
              <a:t>th</a:t>
            </a: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 position could be helpful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72880" y="5691960"/>
            <a:ext cx="297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200" spc="-1" strike="noStrike" baseline="30000">
                <a:solidFill>
                  <a:srgbClr val="000000"/>
                </a:solidFill>
                <a:latin typeface="UniversS 55 Roman"/>
              </a:rPr>
              <a:t>1)</a:t>
            </a:r>
            <a:r>
              <a:rPr b="0" lang="de-DE" sz="1200" spc="-1" strike="noStrike">
                <a:solidFill>
                  <a:srgbClr val="000000"/>
                </a:solidFill>
                <a:latin typeface="UniversS 55 Roman"/>
              </a:rPr>
              <a:t> Refer also to overshoot definition</a:t>
            </a:r>
            <a:endParaRPr b="0" lang="en-US" sz="12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45800" y="503280"/>
            <a:ext cx="8381880" cy="8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UniversS 57 Condensed"/>
              </a:rPr>
              <a:t>Examples out of Part 2:Keywords [Overshoot],[GND/power Clamp]</a:t>
            </a:r>
            <a:endParaRPr b="0" lang="en-US" sz="2800" spc="-1" strike="noStrike">
              <a:solidFill>
                <a:srgbClr val="000000"/>
              </a:solidFill>
              <a:latin typeface="UniversS 57 Condensed"/>
            </a:endParaRPr>
          </a:p>
        </p:txBody>
      </p:sp>
      <p:sp>
        <p:nvSpPr>
          <p:cNvPr id="544" name=""/>
          <p:cNvSpPr/>
          <p:nvPr/>
        </p:nvSpPr>
        <p:spPr>
          <a:xfrm>
            <a:off x="-977760" y="2908440"/>
            <a:ext cx="139680" cy="139680"/>
          </a:xfrm>
          <a:prstGeom prst="rect">
            <a:avLst/>
          </a:prstGeom>
          <a:solidFill>
            <a:srgbClr val="3333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-771480" y="2908440"/>
            <a:ext cx="139680" cy="139680"/>
          </a:xfrm>
          <a:prstGeom prst="rect">
            <a:avLst/>
          </a:prstGeom>
          <a:solidFill>
            <a:srgbClr val="6666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-565200" y="2908440"/>
            <a:ext cx="139680" cy="139680"/>
          </a:xfrm>
          <a:prstGeom prst="rect">
            <a:avLst/>
          </a:prstGeom>
          <a:solidFill>
            <a:srgbClr val="99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-358920" y="2908440"/>
            <a:ext cx="139680" cy="139680"/>
          </a:xfrm>
          <a:prstGeom prst="rect">
            <a:avLst/>
          </a:prstGeom>
          <a:solidFill>
            <a:srgbClr val="cc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-993240" y="2673360"/>
            <a:ext cx="50364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4 × Grau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-984240" y="216000"/>
            <a:ext cx="15228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-984240" y="444600"/>
            <a:ext cx="152280" cy="152280"/>
          </a:xfrm>
          <a:prstGeom prst="rect">
            <a:avLst/>
          </a:prstGeom>
          <a:solidFill>
            <a:srgbClr val="cc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-984240" y="673200"/>
            <a:ext cx="152280" cy="152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-777960" y="444600"/>
            <a:ext cx="152640" cy="152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-777960" y="673200"/>
            <a:ext cx="152640" cy="152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-571680" y="216000"/>
            <a:ext cx="152640" cy="152280"/>
          </a:xfrm>
          <a:prstGeom prst="rect">
            <a:avLst/>
          </a:prstGeom>
          <a:solidFill>
            <a:srgbClr val="00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-365040" y="1225440"/>
            <a:ext cx="152280" cy="15264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-571680" y="444600"/>
            <a:ext cx="152640" cy="152280"/>
          </a:xfrm>
          <a:prstGeom prst="rect">
            <a:avLst/>
          </a:prstGeom>
          <a:solidFill>
            <a:srgbClr val="66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-571680" y="673200"/>
            <a:ext cx="152640" cy="15228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-777960" y="216000"/>
            <a:ext cx="152640" cy="1522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-990720" y="1041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Warm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-365040" y="1454040"/>
            <a:ext cx="152280" cy="152640"/>
          </a:xfrm>
          <a:prstGeom prst="rect">
            <a:avLst/>
          </a:prstGeom>
          <a:solidFill>
            <a:srgbClr val="99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-365040" y="1682640"/>
            <a:ext cx="152280" cy="152640"/>
          </a:xfrm>
          <a:prstGeom prst="rect">
            <a:avLst/>
          </a:prstGeom>
          <a:solidFill>
            <a:srgbClr val="cc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-984240" y="1222200"/>
            <a:ext cx="152280" cy="1526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-984240" y="1450800"/>
            <a:ext cx="152280" cy="15264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-984240" y="1679400"/>
            <a:ext cx="152280" cy="152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-777960" y="1450800"/>
            <a:ext cx="152640" cy="1526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-777960" y="1679400"/>
            <a:ext cx="152640" cy="1526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-571680" y="1222200"/>
            <a:ext cx="152640" cy="15264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-571680" y="1450800"/>
            <a:ext cx="152640" cy="15264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-571680" y="1679400"/>
            <a:ext cx="152640" cy="15264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-777960" y="1222200"/>
            <a:ext cx="152640" cy="152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-990720" y="34920"/>
            <a:ext cx="76212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Kalte 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-990720" y="2049480"/>
            <a:ext cx="914400" cy="1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UniversS 55 Roman"/>
              </a:rPr>
              <a:t>Vorzugsfarben</a:t>
            </a:r>
            <a:endParaRPr b="0" lang="en-US" sz="10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-990720" y="2254320"/>
            <a:ext cx="152640" cy="152280"/>
          </a:xfrm>
          <a:prstGeom prst="rect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-990720" y="2444760"/>
            <a:ext cx="152640" cy="152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-762120" y="2254320"/>
            <a:ext cx="152640" cy="152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-533520" y="2444760"/>
            <a:ext cx="152640" cy="152280"/>
          </a:xfrm>
          <a:prstGeom prst="rect">
            <a:avLst/>
          </a:prstGeom>
          <a:solidFill>
            <a:srgbClr val="33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-533520" y="2254320"/>
            <a:ext cx="152640" cy="152280"/>
          </a:xfrm>
          <a:prstGeom prst="rect">
            <a:avLst/>
          </a:prstGeom>
          <a:solidFill>
            <a:srgbClr val="99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-758880" y="2443320"/>
            <a:ext cx="150840" cy="1504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-366840" y="220680"/>
            <a:ext cx="152640" cy="152280"/>
          </a:xfrm>
          <a:prstGeom prst="rect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-366840" y="449280"/>
            <a:ext cx="152640" cy="152280"/>
          </a:xfrm>
          <a:prstGeom prst="rect">
            <a:avLst/>
          </a:prstGeom>
          <a:solidFill>
            <a:srgbClr val="66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-366840" y="677880"/>
            <a:ext cx="152640" cy="152280"/>
          </a:xfrm>
          <a:prstGeom prst="rect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562720" y="2581200"/>
            <a:ext cx="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90400" y="3182760"/>
            <a:ext cx="99216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641520" y="3348000"/>
            <a:ext cx="7362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8080"/>
                </a:solidFill>
                <a:latin typeface="Arial"/>
              </a:rPr>
              <a:t>No clamp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8080"/>
                </a:solidFill>
                <a:latin typeface="Arial"/>
              </a:rPr>
              <a:t>diode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116160" y="1673280"/>
            <a:ext cx="27000" cy="2946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187800" y="1919160"/>
            <a:ext cx="9842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219480" y="195912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0080"/>
                </a:solidFill>
                <a:latin typeface="Arial"/>
              </a:rPr>
              <a:t>D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315960" y="19620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080"/>
                </a:solidFill>
                <a:latin typeface="Arial"/>
              </a:rPr>
              <a:t>_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90480" y="1962000"/>
            <a:ext cx="14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800080"/>
                </a:solidFill>
                <a:latin typeface="Arial"/>
              </a:rPr>
              <a:t>ov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30160" y="19620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080"/>
                </a:solidFill>
                <a:latin typeface="Arial"/>
              </a:rPr>
              <a:t>_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604680" y="1959120"/>
            <a:ext cx="21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800080"/>
                </a:solidFill>
                <a:latin typeface="Arial"/>
              </a:rPr>
              <a:t>cur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812040" y="1962000"/>
            <a:ext cx="342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080"/>
                </a:solidFill>
                <a:latin typeface="Arial"/>
              </a:rPr>
              <a:t>_high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744560" y="2036880"/>
            <a:ext cx="935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1778040" y="2079720"/>
            <a:ext cx="17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_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1941120" y="2079720"/>
            <a:ext cx="14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v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080800" y="20797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156400" y="2079720"/>
            <a:ext cx="20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355480" y="2079720"/>
            <a:ext cx="30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min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768760" y="1755720"/>
            <a:ext cx="2221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667960" y="1630440"/>
            <a:ext cx="30924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Iin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2941560" y="1530360"/>
            <a:ext cx="95400" cy="245520"/>
            <a:chOff x="2941560" y="1530360"/>
            <a:chExt cx="95400" cy="245520"/>
          </a:xfrm>
        </p:grpSpPr>
        <p:sp>
          <p:nvSpPr>
            <p:cNvPr id="602" name=""/>
            <p:cNvSpPr/>
            <p:nvPr/>
          </p:nvSpPr>
          <p:spPr>
            <a:xfrm flipV="1">
              <a:off x="2988360" y="1620000"/>
              <a:ext cx="144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941560" y="1530360"/>
              <a:ext cx="95400" cy="92880"/>
            </a:xfrm>
            <a:custGeom>
              <a:avLst/>
              <a:gdLst/>
              <a:ahLst/>
              <a:rect l="l" t="t" r="r" b="b"/>
              <a:pathLst>
                <a:path w="63" h="62">
                  <a:moveTo>
                    <a:pt x="63" y="62"/>
                  </a:moveTo>
                  <a:lnTo>
                    <a:pt x="31" y="0"/>
                  </a:lnTo>
                  <a:lnTo>
                    <a:pt x="0" y="62"/>
                  </a:lnTo>
                  <a:lnTo>
                    <a:pt x="63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</p:grpSp>
      <p:sp>
        <p:nvSpPr>
          <p:cNvPr id="604" name=""/>
          <p:cNvSpPr/>
          <p:nvPr/>
        </p:nvSpPr>
        <p:spPr>
          <a:xfrm>
            <a:off x="3097080" y="314640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230560" y="3141720"/>
            <a:ext cx="520560" cy="1495440"/>
          </a:xfrm>
          <a:custGeom>
            <a:avLst/>
            <a:gdLst/>
            <a:ahLst/>
            <a:rect l="l" t="t" r="r" b="b"/>
            <a:pathLst>
              <a:path w="333" h="990">
                <a:moveTo>
                  <a:pt x="333" y="6"/>
                </a:moveTo>
                <a:lnTo>
                  <a:pt x="316" y="0"/>
                </a:lnTo>
                <a:lnTo>
                  <a:pt x="0" y="984"/>
                </a:lnTo>
                <a:lnTo>
                  <a:pt x="17" y="990"/>
                </a:lnTo>
                <a:lnTo>
                  <a:pt x="333" y="6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grpSp>
        <p:nvGrpSpPr>
          <p:cNvPr id="606" name=""/>
          <p:cNvGrpSpPr/>
          <p:nvPr/>
        </p:nvGrpSpPr>
        <p:grpSpPr>
          <a:xfrm>
            <a:off x="1515960" y="3795840"/>
            <a:ext cx="1630080" cy="9360"/>
            <a:chOff x="1515960" y="3795840"/>
            <a:chExt cx="1630080" cy="9360"/>
          </a:xfrm>
        </p:grpSpPr>
        <p:sp>
          <p:nvSpPr>
            <p:cNvPr id="607" name=""/>
            <p:cNvSpPr/>
            <p:nvPr/>
          </p:nvSpPr>
          <p:spPr>
            <a:xfrm>
              <a:off x="1515960" y="3795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578960" y="3795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642320" y="3795840"/>
              <a:ext cx="4536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06040" y="3795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69400" y="3795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832760" y="3795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96120" y="3795840"/>
              <a:ext cx="4536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59480" y="3795840"/>
              <a:ext cx="4536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023200" y="3795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086560" y="3795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149920" y="3795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2213280" y="3795840"/>
              <a:ext cx="4536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2276640" y="3795840"/>
              <a:ext cx="4536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340360" y="3795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2403720" y="3795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467080" y="3795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530440" y="3795840"/>
              <a:ext cx="4536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2593800" y="3795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657160" y="3795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720520" y="3795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783880" y="3795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847240" y="3795840"/>
              <a:ext cx="4536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910960" y="3795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974320" y="3795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037680" y="3795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101040" y="3795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3137040" y="2733840"/>
            <a:ext cx="1799640" cy="9360"/>
            <a:chOff x="3137040" y="2733840"/>
            <a:chExt cx="1799640" cy="9360"/>
          </a:xfrm>
        </p:grpSpPr>
        <p:sp>
          <p:nvSpPr>
            <p:cNvPr id="634" name=""/>
            <p:cNvSpPr/>
            <p:nvPr/>
          </p:nvSpPr>
          <p:spPr>
            <a:xfrm>
              <a:off x="3137040" y="2733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4" y="0"/>
                  </a:move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3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200040" y="2733840"/>
              <a:ext cx="4536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263400" y="2733840"/>
              <a:ext cx="4536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327120" y="2733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390480" y="2733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453840" y="2733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517200" y="2733840"/>
              <a:ext cx="4536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580560" y="2733840"/>
              <a:ext cx="4536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644280" y="2733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707640" y="2733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71000" y="2733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34360" y="2733840"/>
              <a:ext cx="4536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898080" y="2733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61440" y="2733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024800" y="2733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088160" y="2733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151520" y="2733840"/>
              <a:ext cx="4536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215240" y="2733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278600" y="2733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41960" y="2733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05320" y="2733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468680" y="2733840"/>
              <a:ext cx="4536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32400" y="2733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595760" y="2733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59120" y="2733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722480" y="2733840"/>
              <a:ext cx="4536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785840" y="2733840"/>
              <a:ext cx="4536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49560" y="2733840"/>
              <a:ext cx="45000" cy="9360"/>
            </a:xfrm>
            <a:custGeom>
              <a:avLst/>
              <a:gdLst/>
              <a:ahLst/>
              <a:rect l="l" t="t" r="r" b="b"/>
              <a:pathLst>
                <a:path w="30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26" y="6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9" y="5"/>
                  </a:lnTo>
                  <a:lnTo>
                    <a:pt x="30" y="4"/>
                  </a:lnTo>
                  <a:lnTo>
                    <a:pt x="30" y="3"/>
                  </a:lnTo>
                  <a:lnTo>
                    <a:pt x="29" y="2"/>
                  </a:lnTo>
                  <a:lnTo>
                    <a:pt x="28" y="1"/>
                  </a:lnTo>
                  <a:lnTo>
                    <a:pt x="27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912920" y="2733840"/>
              <a:ext cx="23760" cy="936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3" y="0"/>
                  </a:move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6"/>
                  </a:lnTo>
                  <a:lnTo>
                    <a:pt x="2" y="6"/>
                  </a:lnTo>
                  <a:lnTo>
                    <a:pt x="13" y="6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6" y="3"/>
                  </a:lnTo>
                  <a:lnTo>
                    <a:pt x="15" y="2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UniversS 55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3230640" y="3637080"/>
            <a:ext cx="91908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263760" y="367668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008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52320" y="36813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080"/>
                </a:solidFill>
                <a:latin typeface="Arial"/>
              </a:rPr>
              <a:t>_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427200" y="3681360"/>
            <a:ext cx="14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800080"/>
                </a:solidFill>
                <a:latin typeface="Arial"/>
              </a:rPr>
              <a:t>ov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566880" y="3676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0080"/>
                </a:solidFill>
                <a:latin typeface="Arial"/>
              </a:rPr>
              <a:t>_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641400" y="3676680"/>
            <a:ext cx="21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800080"/>
                </a:solidFill>
                <a:latin typeface="Arial"/>
              </a:rPr>
              <a:t>cur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839760" y="36813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080"/>
                </a:solidFill>
                <a:latin typeface="Arial"/>
              </a:rPr>
              <a:t>_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915360" y="3681360"/>
            <a:ext cx="20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800080"/>
                </a:solidFill>
                <a:latin typeface="Arial"/>
              </a:rPr>
              <a:t>low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230640" y="4210200"/>
            <a:ext cx="9349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64120" y="4249800"/>
            <a:ext cx="101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0080"/>
                </a:solidFill>
                <a:latin typeface="Arial"/>
              </a:rPr>
              <a:t>D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360240" y="42544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080"/>
                </a:solidFill>
                <a:latin typeface="Arial"/>
              </a:rPr>
              <a:t>_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3320" y="4254480"/>
            <a:ext cx="14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800080"/>
                </a:solidFill>
                <a:latin typeface="Arial"/>
              </a:rPr>
              <a:t>ov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574800" y="42544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080"/>
                </a:solidFill>
                <a:latin typeface="Arial"/>
              </a:rPr>
              <a:t>_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647880" y="4249800"/>
            <a:ext cx="21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800080"/>
                </a:solidFill>
                <a:latin typeface="Arial"/>
              </a:rPr>
              <a:t>cur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55600" y="42544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080"/>
                </a:solidFill>
                <a:latin typeface="Arial"/>
              </a:rPr>
              <a:t>_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929760" y="4254480"/>
            <a:ext cx="20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800080"/>
                </a:solidFill>
                <a:latin typeface="Arial"/>
              </a:rPr>
              <a:t>low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3187800" y="2409840"/>
            <a:ext cx="97776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219480" y="2449440"/>
            <a:ext cx="93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80008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308040" y="24541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080"/>
                </a:solidFill>
                <a:latin typeface="Arial"/>
              </a:rPr>
              <a:t>_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3382560" y="2454120"/>
            <a:ext cx="14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800080"/>
                </a:solidFill>
                <a:latin typeface="Arial"/>
              </a:rPr>
              <a:t>ov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3522240" y="24541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080"/>
                </a:solidFill>
                <a:latin typeface="Arial"/>
              </a:rPr>
              <a:t>_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596760" y="2449440"/>
            <a:ext cx="21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800080"/>
                </a:solidFill>
                <a:latin typeface="Arial"/>
              </a:rPr>
              <a:t>cur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804120" y="2454120"/>
            <a:ext cx="342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800080"/>
                </a:solidFill>
                <a:latin typeface="Arial"/>
              </a:rPr>
              <a:t>_high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093760" y="2327400"/>
            <a:ext cx="905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2127240" y="2371680"/>
            <a:ext cx="17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8080"/>
                </a:solidFill>
                <a:latin typeface="Arial"/>
              </a:rPr>
              <a:t>D_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2296800" y="2371680"/>
            <a:ext cx="14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8080"/>
                </a:solidFill>
                <a:latin typeface="Arial"/>
              </a:rPr>
              <a:t>ov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437920" y="2371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8080"/>
                </a:solidFill>
                <a:latin typeface="Arial"/>
              </a:rPr>
              <a:t>_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512080" y="2371680"/>
            <a:ext cx="20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8080"/>
                </a:solidFill>
                <a:latin typeface="Arial"/>
              </a:rPr>
              <a:t>low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712600" y="237168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8080"/>
                </a:solidFill>
                <a:latin typeface="Arial"/>
              </a:rPr>
              <a:t>_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784960" y="2371680"/>
            <a:ext cx="188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8080"/>
                </a:solidFill>
                <a:latin typeface="Arial"/>
              </a:rPr>
              <a:t>typ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025640" y="2320920"/>
            <a:ext cx="9414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059120" y="2363760"/>
            <a:ext cx="17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8080"/>
                </a:solidFill>
                <a:latin typeface="Arial"/>
              </a:rPr>
              <a:t>D_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1228320" y="2363760"/>
            <a:ext cx="14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8080"/>
                </a:solidFill>
                <a:latin typeface="Arial"/>
              </a:rPr>
              <a:t>ov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369800" y="236376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8080"/>
                </a:solidFill>
                <a:latin typeface="Arial"/>
              </a:rPr>
              <a:t>_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443600" y="2363760"/>
            <a:ext cx="20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8080"/>
                </a:solidFill>
                <a:latin typeface="Arial"/>
              </a:rPr>
              <a:t>low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1644480" y="2363760"/>
            <a:ext cx="303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8080"/>
                </a:solidFill>
                <a:latin typeface="Arial"/>
              </a:rPr>
              <a:t>_min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657600" y="3309840"/>
            <a:ext cx="9856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691080" y="3352680"/>
            <a:ext cx="17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_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854160" y="3352680"/>
            <a:ext cx="14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v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994560" y="3352680"/>
            <a:ext cx="645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high_min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465800" y="3711600"/>
            <a:ext cx="10285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498920" y="3755880"/>
            <a:ext cx="17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8080"/>
                </a:solidFill>
                <a:latin typeface="Arial"/>
              </a:rPr>
              <a:t>D_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4668480" y="3755880"/>
            <a:ext cx="14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8080"/>
                </a:solidFill>
                <a:latin typeface="Arial"/>
              </a:rPr>
              <a:t>ov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4810320" y="3755880"/>
            <a:ext cx="419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8080"/>
                </a:solidFill>
                <a:latin typeface="Arial"/>
              </a:rPr>
              <a:t>_high_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209200" y="3755880"/>
            <a:ext cx="26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8080"/>
                </a:solidFill>
                <a:latin typeface="Arial"/>
              </a:rPr>
              <a:t>max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083200" y="3182760"/>
            <a:ext cx="27468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453640" y="3265560"/>
            <a:ext cx="362520" cy="3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Arial"/>
              </a:rPr>
              <a:t>Vin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419200" y="2655720"/>
            <a:ext cx="72072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452680" y="2698920"/>
            <a:ext cx="171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_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615760" y="2698920"/>
            <a:ext cx="14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ov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755440" y="26989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831400" y="2698920"/>
            <a:ext cx="209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030120" y="269892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451600" y="2857680"/>
            <a:ext cx="26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0000"/>
                </a:solidFill>
                <a:latin typeface="Arial"/>
              </a:rPr>
              <a:t>max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1328760" y="3079440"/>
            <a:ext cx="3544920" cy="135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5202360" y="2604960"/>
            <a:ext cx="7362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8080"/>
                </a:solidFill>
                <a:latin typeface="Arial"/>
              </a:rPr>
              <a:t>No clamp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8080"/>
                </a:solidFill>
                <a:latin typeface="Arial"/>
              </a:rPr>
              <a:t>diode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19" name=""/>
          <p:cNvSpPr/>
          <p:nvPr/>
        </p:nvSpPr>
        <p:spPr>
          <a:xfrm flipH="1">
            <a:off x="771120" y="3233880"/>
            <a:ext cx="546120" cy="586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4827600" y="3022200"/>
            <a:ext cx="658800" cy="63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06600" y="4035600"/>
            <a:ext cx="8154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8080"/>
                </a:solidFill>
                <a:latin typeface="Arial"/>
              </a:rPr>
              <a:t>Zener type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8080"/>
                </a:solidFill>
                <a:latin typeface="Arial"/>
              </a:rPr>
              <a:t>diode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4702320" y="1995480"/>
            <a:ext cx="390240" cy="1139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4848480" y="1608120"/>
            <a:ext cx="815400" cy="47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8080"/>
                </a:solidFill>
                <a:latin typeface="Arial"/>
              </a:rPr>
              <a:t>Zener type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008080"/>
                </a:solidFill>
                <a:latin typeface="Arial"/>
              </a:rPr>
              <a:t>diode</a:t>
            </a:r>
            <a:endParaRPr b="0" lang="en-US" sz="11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470560" y="3254400"/>
            <a:ext cx="29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279440" y="4384800"/>
            <a:ext cx="185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4621320" y="2260440"/>
            <a:ext cx="17280" cy="144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1301400" y="3171960"/>
            <a:ext cx="679320" cy="132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1378080" y="2562120"/>
            <a:ext cx="0" cy="1812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125360" y="26067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1784520" y="2529000"/>
            <a:ext cx="0" cy="18129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2327400" y="2568600"/>
            <a:ext cx="0" cy="18144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5216400" y="3082680"/>
            <a:ext cx="0" cy="600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983120" y="2243160"/>
            <a:ext cx="17640" cy="144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790720" y="2874960"/>
            <a:ext cx="0" cy="8809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4194000" y="2741760"/>
            <a:ext cx="0" cy="5997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32000" y="2241720"/>
            <a:ext cx="21542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58920" y="3154320"/>
            <a:ext cx="4416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300560" y="1835280"/>
            <a:ext cx="271440" cy="1314360"/>
          </a:xfrm>
          <a:custGeom>
            <a:avLst/>
            <a:gdLst/>
            <a:ahLst/>
            <a:rect l="l" t="t" r="r" b="b"/>
            <a:pathLst>
              <a:path w="180" h="878">
                <a:moveTo>
                  <a:pt x="0" y="875"/>
                </a:moveTo>
                <a:lnTo>
                  <a:pt x="17" y="878"/>
                </a:lnTo>
                <a:lnTo>
                  <a:pt x="180" y="3"/>
                </a:lnTo>
                <a:lnTo>
                  <a:pt x="163" y="0"/>
                </a:lnTo>
                <a:lnTo>
                  <a:pt x="0" y="875"/>
                </a:lnTo>
                <a:close/>
              </a:path>
            </a:pathLst>
          </a:custGeom>
          <a:solidFill>
            <a:srgbClr val="660033"/>
          </a:solidFill>
          <a:ln w="93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286160" y="1838160"/>
            <a:ext cx="447840" cy="1311480"/>
          </a:xfrm>
          <a:custGeom>
            <a:avLst/>
            <a:gdLst/>
            <a:ahLst/>
            <a:rect l="l" t="t" r="r" b="b"/>
            <a:pathLst>
              <a:path w="306" h="912">
                <a:moveTo>
                  <a:pt x="306" y="0"/>
                </a:moveTo>
                <a:lnTo>
                  <a:pt x="93" y="912"/>
                </a:lnTo>
                <a:lnTo>
                  <a:pt x="0" y="912"/>
                </a:lnTo>
              </a:path>
            </a:pathLst>
          </a:cu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662120" y="3152880"/>
            <a:ext cx="1071720" cy="1411200"/>
          </a:xfrm>
          <a:custGeom>
            <a:avLst/>
            <a:gdLst/>
            <a:ahLst/>
            <a:rect l="l" t="t" r="r" b="b"/>
            <a:pathLst>
              <a:path w="770" h="1003">
                <a:moveTo>
                  <a:pt x="0" y="1003"/>
                </a:moveTo>
                <a:lnTo>
                  <a:pt x="557" y="0"/>
                </a:lnTo>
                <a:lnTo>
                  <a:pt x="770" y="0"/>
                </a:lnTo>
              </a:path>
            </a:pathLst>
          </a:custGeom>
          <a:noFill/>
          <a:ln w="28440">
            <a:solidFill>
              <a:srgbClr val="ff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2709720" y="3154320"/>
            <a:ext cx="154080" cy="1471680"/>
          </a:xfrm>
          <a:prstGeom prst="line">
            <a:avLst/>
          </a:prstGeom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42" name=""/>
          <p:cNvSpPr/>
          <p:nvPr/>
        </p:nvSpPr>
        <p:spPr>
          <a:xfrm flipH="1">
            <a:off x="4154040" y="1843200"/>
            <a:ext cx="127080" cy="1311120"/>
          </a:xfrm>
          <a:prstGeom prst="line">
            <a:avLst/>
          </a:prstGeom>
          <a:ln w="28440">
            <a:solidFill>
              <a:srgbClr val="ff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1933560" y="4640400"/>
            <a:ext cx="6350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upper limit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1250640" y="4947840"/>
            <a:ext cx="6930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no clamping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iode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39960" y="5254560"/>
            <a:ext cx="981000" cy="1003320"/>
          </a:xfrm>
          <a:custGeom>
            <a:avLst/>
            <a:gdLst/>
            <a:ahLst/>
            <a:rect l="l" t="t" r="r" b="b"/>
            <a:pathLst>
              <a:path w="1093" h="991">
                <a:moveTo>
                  <a:pt x="0" y="0"/>
                </a:moveTo>
                <a:lnTo>
                  <a:pt x="371" y="841"/>
                </a:lnTo>
                <a:lnTo>
                  <a:pt x="413" y="884"/>
                </a:lnTo>
                <a:lnTo>
                  <a:pt x="481" y="927"/>
                </a:lnTo>
                <a:lnTo>
                  <a:pt x="566" y="956"/>
                </a:lnTo>
                <a:lnTo>
                  <a:pt x="685" y="977"/>
                </a:lnTo>
                <a:lnTo>
                  <a:pt x="813" y="986"/>
                </a:lnTo>
                <a:lnTo>
                  <a:pt x="926" y="990"/>
                </a:lnTo>
                <a:lnTo>
                  <a:pt x="1093" y="99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52680" y="5241960"/>
            <a:ext cx="1365120" cy="1015920"/>
          </a:xfrm>
          <a:custGeom>
            <a:avLst/>
            <a:gdLst/>
            <a:ahLst/>
            <a:rect l="l" t="t" r="r" b="b"/>
            <a:pathLst>
              <a:path w="1275" h="990">
                <a:moveTo>
                  <a:pt x="0" y="0"/>
                </a:moveTo>
                <a:lnTo>
                  <a:pt x="371" y="841"/>
                </a:lnTo>
                <a:lnTo>
                  <a:pt x="413" y="884"/>
                </a:lnTo>
                <a:lnTo>
                  <a:pt x="481" y="927"/>
                </a:lnTo>
                <a:lnTo>
                  <a:pt x="566" y="956"/>
                </a:lnTo>
                <a:lnTo>
                  <a:pt x="685" y="977"/>
                </a:lnTo>
                <a:lnTo>
                  <a:pt x="813" y="986"/>
                </a:lnTo>
                <a:lnTo>
                  <a:pt x="926" y="990"/>
                </a:lnTo>
                <a:lnTo>
                  <a:pt x="1275" y="990"/>
                </a:lnTo>
              </a:path>
            </a:pathLst>
          </a:custGeom>
          <a:noFill/>
          <a:ln w="93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254320" y="5254560"/>
            <a:ext cx="1198440" cy="1005120"/>
          </a:xfrm>
          <a:custGeom>
            <a:avLst/>
            <a:gdLst/>
            <a:ahLst/>
            <a:rect l="l" t="t" r="r" b="b"/>
            <a:pathLst>
              <a:path w="1332" h="993">
                <a:moveTo>
                  <a:pt x="0" y="0"/>
                </a:moveTo>
                <a:lnTo>
                  <a:pt x="371" y="841"/>
                </a:lnTo>
                <a:lnTo>
                  <a:pt x="413" y="884"/>
                </a:lnTo>
                <a:lnTo>
                  <a:pt x="481" y="927"/>
                </a:lnTo>
                <a:lnTo>
                  <a:pt x="566" y="956"/>
                </a:lnTo>
                <a:lnTo>
                  <a:pt x="685" y="977"/>
                </a:lnTo>
                <a:lnTo>
                  <a:pt x="813" y="986"/>
                </a:lnTo>
                <a:lnTo>
                  <a:pt x="926" y="990"/>
                </a:lnTo>
                <a:lnTo>
                  <a:pt x="1332" y="993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411200" y="6259680"/>
            <a:ext cx="2597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963960" y="6329520"/>
            <a:ext cx="146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3047400" y="4721040"/>
            <a:ext cx="58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996920" y="6259680"/>
            <a:ext cx="3654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Vmin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958760" y="4947840"/>
            <a:ext cx="6228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Zener type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iode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572200" y="4947840"/>
            <a:ext cx="5328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clamping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iode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179800" y="6199200"/>
            <a:ext cx="0" cy="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164040" y="4754520"/>
            <a:ext cx="2880" cy="1663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533760" y="6249960"/>
            <a:ext cx="17640" cy="17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423600" y="6281640"/>
            <a:ext cx="2617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=0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93960" y="5299200"/>
            <a:ext cx="0" cy="1039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112920" y="5272200"/>
            <a:ext cx="12034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i_forward_diode_max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927880" y="630216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Vcc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37080" y="6058080"/>
            <a:ext cx="6350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Vcc - Vout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62" name=""/>
          <p:cNvSpPr/>
          <p:nvPr/>
        </p:nvSpPr>
        <p:spPr>
          <a:xfrm rot="5400000">
            <a:off x="2186640" y="4166280"/>
            <a:ext cx="120600" cy="1490400"/>
          </a:xfrm>
          <a:custGeom>
            <a:avLst/>
            <a:gdLst>
              <a:gd name="textAreaLeft" fmla="*/ 77040 w 120600"/>
              <a:gd name="textAreaRight" fmla="*/ 120960 w 120600"/>
              <a:gd name="textAreaTop" fmla="*/ 38520 h 1490400"/>
              <a:gd name="textAreaBottom" fmla="*/ 1451880 h 149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234240" y="5786280"/>
            <a:ext cx="615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lower limit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3541680" y="600408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2602080" y="5380200"/>
            <a:ext cx="623880" cy="14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82800" y="5370480"/>
            <a:ext cx="15840" cy="19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67" name=""/>
          <p:cNvSpPr/>
          <p:nvPr/>
        </p:nvSpPr>
        <p:spPr>
          <a:xfrm flipV="1">
            <a:off x="7529400" y="5126040"/>
            <a:ext cx="1170000" cy="1008000"/>
          </a:xfrm>
          <a:custGeom>
            <a:avLst/>
            <a:gdLst/>
            <a:ahLst/>
            <a:rect l="l" t="t" r="r" b="b"/>
            <a:pathLst>
              <a:path w="1093" h="991">
                <a:moveTo>
                  <a:pt x="0" y="0"/>
                </a:moveTo>
                <a:lnTo>
                  <a:pt x="371" y="841"/>
                </a:lnTo>
                <a:lnTo>
                  <a:pt x="413" y="884"/>
                </a:lnTo>
                <a:lnTo>
                  <a:pt x="481" y="927"/>
                </a:lnTo>
                <a:lnTo>
                  <a:pt x="566" y="956"/>
                </a:lnTo>
                <a:lnTo>
                  <a:pt x="685" y="977"/>
                </a:lnTo>
                <a:lnTo>
                  <a:pt x="813" y="986"/>
                </a:lnTo>
                <a:lnTo>
                  <a:pt x="926" y="990"/>
                </a:lnTo>
                <a:lnTo>
                  <a:pt x="1093" y="99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68" name=""/>
          <p:cNvSpPr/>
          <p:nvPr/>
        </p:nvSpPr>
        <p:spPr>
          <a:xfrm flipV="1">
            <a:off x="5829480" y="5131800"/>
            <a:ext cx="1536480" cy="952200"/>
          </a:xfrm>
          <a:custGeom>
            <a:avLst/>
            <a:gdLst/>
            <a:ahLst/>
            <a:rect l="l" t="t" r="r" b="b"/>
            <a:pathLst>
              <a:path w="1275" h="990">
                <a:moveTo>
                  <a:pt x="0" y="0"/>
                </a:moveTo>
                <a:lnTo>
                  <a:pt x="371" y="841"/>
                </a:lnTo>
                <a:lnTo>
                  <a:pt x="413" y="884"/>
                </a:lnTo>
                <a:lnTo>
                  <a:pt x="481" y="927"/>
                </a:lnTo>
                <a:lnTo>
                  <a:pt x="566" y="956"/>
                </a:lnTo>
                <a:lnTo>
                  <a:pt x="685" y="977"/>
                </a:lnTo>
                <a:lnTo>
                  <a:pt x="813" y="986"/>
                </a:lnTo>
                <a:lnTo>
                  <a:pt x="926" y="990"/>
                </a:lnTo>
                <a:lnTo>
                  <a:pt x="1275" y="990"/>
                </a:lnTo>
              </a:path>
            </a:pathLst>
          </a:custGeom>
          <a:noFill/>
          <a:ln w="9360">
            <a:solidFill>
              <a:srgbClr val="ff0000"/>
            </a:solidFill>
            <a:prstDash val="lg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69" name=""/>
          <p:cNvSpPr/>
          <p:nvPr/>
        </p:nvSpPr>
        <p:spPr>
          <a:xfrm flipV="1">
            <a:off x="7213680" y="5132520"/>
            <a:ext cx="1428840" cy="1000080"/>
          </a:xfrm>
          <a:custGeom>
            <a:avLst/>
            <a:gdLst/>
            <a:ahLst/>
            <a:rect l="l" t="t" r="r" b="b"/>
            <a:pathLst>
              <a:path w="1332" h="993">
                <a:moveTo>
                  <a:pt x="0" y="0"/>
                </a:moveTo>
                <a:lnTo>
                  <a:pt x="371" y="841"/>
                </a:lnTo>
                <a:lnTo>
                  <a:pt x="413" y="884"/>
                </a:lnTo>
                <a:lnTo>
                  <a:pt x="481" y="927"/>
                </a:lnTo>
                <a:lnTo>
                  <a:pt x="566" y="956"/>
                </a:lnTo>
                <a:lnTo>
                  <a:pt x="685" y="977"/>
                </a:lnTo>
                <a:lnTo>
                  <a:pt x="813" y="986"/>
                </a:lnTo>
                <a:lnTo>
                  <a:pt x="926" y="990"/>
                </a:lnTo>
                <a:lnTo>
                  <a:pt x="1332" y="993"/>
                </a:lnTo>
              </a:path>
            </a:pathLst>
          </a:custGeom>
          <a:noFill/>
          <a:ln w="936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803920" y="5135400"/>
            <a:ext cx="316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883120" y="5857560"/>
            <a:ext cx="69300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no clamping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iode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842320" y="4913280"/>
            <a:ext cx="1810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625800" y="5973480"/>
            <a:ext cx="610560" cy="3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zener type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iode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7285680" y="6135120"/>
            <a:ext cx="6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no clamping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diode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75" name=""/>
          <p:cNvSpPr/>
          <p:nvPr/>
        </p:nvSpPr>
        <p:spPr>
          <a:xfrm flipV="1">
            <a:off x="7986600" y="4613040"/>
            <a:ext cx="0" cy="174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7605720" y="5937120"/>
            <a:ext cx="20520" cy="22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77" name=""/>
          <p:cNvSpPr/>
          <p:nvPr/>
        </p:nvSpPr>
        <p:spPr>
          <a:xfrm flipV="1">
            <a:off x="7230960" y="5947920"/>
            <a:ext cx="835200" cy="3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8020080" y="5823000"/>
            <a:ext cx="120348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i_forward_diode_max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7296120" y="5929200"/>
            <a:ext cx="19080" cy="19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8315280" y="5127480"/>
            <a:ext cx="19080" cy="19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760" bIns="-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7308720" y="4962240"/>
            <a:ext cx="0" cy="97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82" name=""/>
          <p:cNvSpPr/>
          <p:nvPr/>
        </p:nvSpPr>
        <p:spPr>
          <a:xfrm flipV="1">
            <a:off x="7621560" y="4946760"/>
            <a:ext cx="0" cy="9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6622920" y="4971960"/>
            <a:ext cx="0" cy="231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8010720" y="4759200"/>
            <a:ext cx="6350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upper limit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775920" y="4513320"/>
            <a:ext cx="61524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lower limit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86" name=""/>
          <p:cNvSpPr/>
          <p:nvPr/>
        </p:nvSpPr>
        <p:spPr>
          <a:xfrm rot="5400000">
            <a:off x="7004880" y="3940920"/>
            <a:ext cx="133200" cy="1779840"/>
          </a:xfrm>
          <a:custGeom>
            <a:avLst/>
            <a:gdLst>
              <a:gd name="textAreaLeft" fmla="*/ 85320 w 133200"/>
              <a:gd name="textAreaRight" fmla="*/ 133200 w 133200"/>
              <a:gd name="textAreaTop" fmla="*/ 46080 h 1779840"/>
              <a:gd name="textAreaBottom" fmla="*/ 1733760 h 177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8220960" y="5222880"/>
            <a:ext cx="2617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=0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8327880" y="4941360"/>
            <a:ext cx="0" cy="27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435720" y="5237280"/>
            <a:ext cx="36540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98720"/>
                <a:tab algn="l" pos="2197080"/>
                <a:tab algn="l" pos="3295800"/>
                <a:tab algn="l" pos="4394160"/>
                <a:tab algn="l" pos="5492880"/>
                <a:tab algn="l" pos="6591240"/>
                <a:tab algn="l" pos="7689960"/>
                <a:tab algn="l" pos="8788320"/>
                <a:tab algn="l" pos="988704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Vmin </a:t>
            </a:r>
            <a:endParaRPr b="0" lang="en-US" sz="9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246240" y="1483560"/>
            <a:ext cx="178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UniversS 55 Roman"/>
              </a:rPr>
              <a:t>[overshoot]</a:t>
            </a:r>
            <a:endParaRPr b="0" lang="en-US" sz="18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6248520" y="1492560"/>
            <a:ext cx="3657600" cy="2225160"/>
          </a:xfrm>
          <a:prstGeom prst="rect">
            <a:avLst/>
          </a:prstGeom>
          <a:solidFill>
            <a:srgbClr val="d4e5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General aspects: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- Definition of different, technology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  dependent „clamping behavior“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- Adjustment of upper and lower limits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  as well as  S_ and D_overshoot_high 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  /low_min/max to clamping behavior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- Definition of preferred limits for  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   upper/lower limits  and S_/D_overshoot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   for different  technologies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294000" y="4556160"/>
            <a:ext cx="1413000" cy="7333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[power clamp]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&lt;---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862520" y="4656600"/>
            <a:ext cx="1341360" cy="52020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[GND clamp]</a:t>
            </a:r>
            <a:br>
              <a:rPr sz="1400"/>
            </a:br>
            <a:r>
              <a:rPr b="1" lang="de-DE" sz="1400" spc="-1" strike="noStrike">
                <a:solidFill>
                  <a:srgbClr val="000000"/>
                </a:solidFill>
                <a:latin typeface="UniversS 55 Roman"/>
              </a:rPr>
              <a:t>---&gt;</a:t>
            </a:r>
            <a:endParaRPr b="0" lang="en-US" sz="1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3494160" y="6219720"/>
            <a:ext cx="74520" cy="7488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8294760" y="5102280"/>
            <a:ext cx="74520" cy="74520"/>
          </a:xfrm>
          <a:prstGeom prst="ellipse">
            <a:avLst/>
          </a:prstGeom>
          <a:solidFill>
            <a:srgbClr val="009900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UniversS 55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4T08:06:23Z</dcterms:created>
  <dc:creator>ICN M M22, Cornelissen</dc:creator>
  <dc:description/>
  <dc:language>en-US</dc:language>
  <cp:lastModifiedBy>Gerald Bannert</cp:lastModifiedBy>
  <cp:lastPrinted>2000-03-29T09:30:58Z</cp:lastPrinted>
  <dcterms:modified xsi:type="dcterms:W3CDTF">2000-03-29T14:27:56Z</dcterms:modified>
  <cp:revision>50</cp:revision>
  <dc:subject/>
  <dc:title>Titeltext Titeltext</dc:title>
</cp:coreProperties>
</file>