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326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B357-2B58-410E-9670-957884F09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0EDD-F250-488C-B179-C5E9D4AD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5246-F0D7-4379-8389-87059955D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86B3-7FE7-4504-BE91-57ACAD3D8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FDC7-C82E-4854-966A-DE5DC313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21A0-FB27-4B4F-B62E-5F40D278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9A9A-7FB4-4DC3-BFDC-7CF2512B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B13E-0648-454E-A4F6-E6CB0D0E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6EDD-7401-4B55-A58F-5A2D3F92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F70A-C90D-4271-BB21-54A1A3DE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E82F-3212-4755-978A-DC766B88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D2E0-50A3-46F4-BFC9-DF55530D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77B5-1CBA-46AC-940A-C565C8795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4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e64"/>
                </a:gs>
                <a:gs pos="50000">
                  <a:srgbClr val="00dfca"/>
                </a:gs>
                <a:gs pos="100000">
                  <a:srgbClr val="006e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65f7f"/>
                </a:gs>
                <a:gs pos="50000">
                  <a:srgbClr val="d989b8"/>
                </a:gs>
                <a:gs pos="100000">
                  <a:srgbClr val="965f7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60582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IBIS 1998 -1999 and</a:t>
            </a:r>
            <a:br>
              <a:rPr sz="4400"/>
            </a:b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Meeting Overview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90360" y="2362320"/>
            <a:ext cx="70866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or Graphics Cor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IS Summit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Orleans, Louisi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1,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Status Update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on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ion 3.2 January 15, 1999 - Pending ANSI/EIA-656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A Ballot Due June 23,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I Ballot Due August 9,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chk3.2.5 - Ra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C 62014-1 (IBIS Ver 2.1) - Next Phase FD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9 IBIS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370 on Refl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25+  Members (6 New) , 60+ Companies, 100+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Face-to-Face Summ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30 Company IBIS Model Web Site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Activities &amp; Issue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IS Version 4.X Ad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or Specification - Still i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ibis2/3 Upgrade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IS User’s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racy Specification - I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 Education Activity - Being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ng Relationship with EIAJ IMIC &amp; ECALS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ing Other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pean EMC/EMI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DEC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Meeting Today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(Annual Election of Officer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(Accuracy &amp; s2ibis2/3 Committe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Ideas (Behavioral Inputs &amp; Equ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AJ Activities (IMIC &amp; ECALS-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IS Version 4.X Features Discu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to Other Discussions and Ad Hoc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11T23:17:32Z</dcterms:created>
  <dc:creator/>
  <dc:description/>
  <dc:language>en-US</dc:language>
  <cp:lastModifiedBy>bob</cp:lastModifiedBy>
  <cp:lastPrinted>1999-06-16T08:33:52Z</cp:lastPrinted>
  <dcterms:modified xsi:type="dcterms:W3CDTF">1999-06-16T08:39:34Z</dcterms:modified>
  <cp:revision>111</cp:revision>
  <dc:subject/>
  <dc:title>IBIS ACCURACY</dc:title>
</cp:coreProperties>
</file>