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754-D620-4399-A0BC-8F9426DD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67820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3654000"/>
            <a:ext cx="67820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264-41F5-4A42-9510-9D0BCE51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0360" y="106632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365400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0360" y="365400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4BA9-6A51-44F6-A4D8-BBEB591C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218340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7760" y="1066320"/>
            <a:ext cx="218340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066320"/>
            <a:ext cx="218340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3654000"/>
            <a:ext cx="218340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7760" y="3654000"/>
            <a:ext cx="218340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654000"/>
            <a:ext cx="218340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0A8C-4ED6-4841-9707-0D6DDCEF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1066320"/>
            <a:ext cx="67820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728-257C-4EB4-BD23-B4952AC4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67820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6FD-15E4-4579-8B27-D8DF0710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3309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0360" y="1066320"/>
            <a:ext cx="3309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E3C-7A4B-4F88-828A-C117635D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B8F-61D2-491A-AB2E-910A8B4C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24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4CD-186F-4B14-B632-A6AD138C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0360" y="1066320"/>
            <a:ext cx="3309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365400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30C-16EB-46BA-8101-A915D2D5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3309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0360" y="106632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0360" y="365400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04C-31BF-4E5C-9CE7-C7CF783A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0360" y="1066320"/>
            <a:ext cx="3309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654000"/>
            <a:ext cx="67820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2CD-A55B-41B4-847B-EF26C7D4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47712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CE25-322B-42D2-94E5-AE9ACF7B8E6E}" type="datetime5">
              <a:rPr b="1" i="1" lang="en-US" sz="12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276360" y="72360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38520" y="6477120"/>
            <a:ext cx="1752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ide  # </a:t>
            </a:r>
            <a:fld id="{B1FC41B7-D5F3-4EE4-951B-04208E8EE043}" type="slidenum">
              <a:rPr b="1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294920" y="1066320"/>
            <a:ext cx="67820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61840" y="6499080"/>
            <a:ext cx="8123400" cy="0"/>
          </a:xfrm>
          <a:prstGeom prst="line">
            <a:avLst/>
          </a:prstGeom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8960" y="6649920"/>
            <a:ext cx="1886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7640" y="685800"/>
            <a:ext cx="822636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1320" y="762120"/>
            <a:ext cx="8226360" cy="0"/>
          </a:xfrm>
          <a:prstGeom prst="line">
            <a:avLst/>
          </a:prstGeom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004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BIS Open Forum 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ced Behavioral Timing Adjus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hard Mellitz, Intel Cor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67816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ested reme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38320" y="1579680"/>
            <a:ext cx="5486400" cy="2763720"/>
          </a:xfrm>
          <a:custGeom>
            <a:avLst/>
            <a:gdLst/>
            <a:ahLst/>
            <a:rect l="l" t="t" r="r" b="b"/>
            <a:pathLst>
              <a:path w="3456" h="1741">
                <a:moveTo>
                  <a:pt x="0" y="1711"/>
                </a:moveTo>
                <a:cubicBezTo>
                  <a:pt x="106" y="1710"/>
                  <a:pt x="458" y="1712"/>
                  <a:pt x="636" y="1693"/>
                </a:cubicBezTo>
                <a:cubicBezTo>
                  <a:pt x="814" y="1674"/>
                  <a:pt x="940" y="1741"/>
                  <a:pt x="1068" y="1597"/>
                </a:cubicBezTo>
                <a:cubicBezTo>
                  <a:pt x="1196" y="1453"/>
                  <a:pt x="1292" y="981"/>
                  <a:pt x="1404" y="829"/>
                </a:cubicBezTo>
                <a:cubicBezTo>
                  <a:pt x="1516" y="677"/>
                  <a:pt x="1652" y="749"/>
                  <a:pt x="1740" y="685"/>
                </a:cubicBezTo>
                <a:cubicBezTo>
                  <a:pt x="1828" y="621"/>
                  <a:pt x="1860" y="541"/>
                  <a:pt x="1932" y="445"/>
                </a:cubicBezTo>
                <a:cubicBezTo>
                  <a:pt x="2004" y="349"/>
                  <a:pt x="2068" y="181"/>
                  <a:pt x="2172" y="109"/>
                </a:cubicBezTo>
                <a:cubicBezTo>
                  <a:pt x="2276" y="37"/>
                  <a:pt x="2342" y="26"/>
                  <a:pt x="2556" y="13"/>
                </a:cubicBezTo>
                <a:cubicBezTo>
                  <a:pt x="2770" y="0"/>
                  <a:pt x="3269" y="27"/>
                  <a:pt x="3456" y="3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21337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30481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1600200"/>
            <a:ext cx="5486400" cy="2768760"/>
          </a:xfrm>
          <a:custGeom>
            <a:avLst/>
            <a:gdLst/>
            <a:ahLst/>
            <a:rect l="l" t="t" r="r" b="b"/>
            <a:pathLst>
              <a:path w="3456" h="1744">
                <a:moveTo>
                  <a:pt x="0" y="1696"/>
                </a:moveTo>
                <a:cubicBezTo>
                  <a:pt x="224" y="1704"/>
                  <a:pt x="448" y="1712"/>
                  <a:pt x="624" y="1696"/>
                </a:cubicBezTo>
                <a:cubicBezTo>
                  <a:pt x="800" y="1680"/>
                  <a:pt x="928" y="1744"/>
                  <a:pt x="1056" y="1600"/>
                </a:cubicBezTo>
                <a:cubicBezTo>
                  <a:pt x="1184" y="1456"/>
                  <a:pt x="1315" y="996"/>
                  <a:pt x="1392" y="832"/>
                </a:cubicBezTo>
                <a:cubicBezTo>
                  <a:pt x="1469" y="668"/>
                  <a:pt x="1462" y="669"/>
                  <a:pt x="1521" y="614"/>
                </a:cubicBezTo>
                <a:cubicBezTo>
                  <a:pt x="1580" y="559"/>
                  <a:pt x="1670" y="544"/>
                  <a:pt x="1744" y="502"/>
                </a:cubicBezTo>
                <a:cubicBezTo>
                  <a:pt x="1818" y="460"/>
                  <a:pt x="1899" y="427"/>
                  <a:pt x="1968" y="362"/>
                </a:cubicBezTo>
                <a:cubicBezTo>
                  <a:pt x="2037" y="297"/>
                  <a:pt x="2064" y="170"/>
                  <a:pt x="2160" y="112"/>
                </a:cubicBezTo>
                <a:cubicBezTo>
                  <a:pt x="2256" y="54"/>
                  <a:pt x="2328" y="32"/>
                  <a:pt x="2544" y="16"/>
                </a:cubicBezTo>
                <a:cubicBezTo>
                  <a:pt x="2760" y="0"/>
                  <a:pt x="3296" y="32"/>
                  <a:pt x="3456" y="16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1905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H over 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3124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 Over 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590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4320" y="2362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33480" y="1104840"/>
            <a:ext cx="139068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16280" y="2400480"/>
            <a:ext cx="120960" cy="11412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23623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97520" y="2298600"/>
            <a:ext cx="120600" cy="11448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: Waveform Distor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4191120"/>
            <a:ext cx="42674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green and red waveforms result in the same behavioral threshold switching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”  may be the real switch point for green, but “b” is what is repor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: Ringback Seve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2438280"/>
            <a:ext cx="4533840" cy="2057400"/>
          </a:xfrm>
          <a:custGeom>
            <a:avLst/>
            <a:gdLst/>
            <a:ahLst/>
            <a:rect l="l" t="t" r="r" b="b"/>
            <a:pathLst>
              <a:path w="2856" h="1296">
                <a:moveTo>
                  <a:pt x="0" y="1280"/>
                </a:moveTo>
                <a:cubicBezTo>
                  <a:pt x="188" y="1284"/>
                  <a:pt x="376" y="1288"/>
                  <a:pt x="480" y="1280"/>
                </a:cubicBezTo>
                <a:cubicBezTo>
                  <a:pt x="584" y="1272"/>
                  <a:pt x="576" y="1296"/>
                  <a:pt x="624" y="1232"/>
                </a:cubicBezTo>
                <a:cubicBezTo>
                  <a:pt x="672" y="1168"/>
                  <a:pt x="720" y="1032"/>
                  <a:pt x="768" y="896"/>
                </a:cubicBezTo>
                <a:cubicBezTo>
                  <a:pt x="816" y="760"/>
                  <a:pt x="856" y="560"/>
                  <a:pt x="912" y="416"/>
                </a:cubicBezTo>
                <a:cubicBezTo>
                  <a:pt x="968" y="272"/>
                  <a:pt x="1048" y="64"/>
                  <a:pt x="1104" y="32"/>
                </a:cubicBezTo>
                <a:cubicBezTo>
                  <a:pt x="1160" y="0"/>
                  <a:pt x="1208" y="136"/>
                  <a:pt x="1248" y="224"/>
                </a:cubicBezTo>
                <a:cubicBezTo>
                  <a:pt x="1288" y="312"/>
                  <a:pt x="1312" y="488"/>
                  <a:pt x="1344" y="560"/>
                </a:cubicBezTo>
                <a:cubicBezTo>
                  <a:pt x="1376" y="632"/>
                  <a:pt x="1400" y="656"/>
                  <a:pt x="1440" y="656"/>
                </a:cubicBezTo>
                <a:cubicBezTo>
                  <a:pt x="1480" y="656"/>
                  <a:pt x="1544" y="600"/>
                  <a:pt x="1584" y="560"/>
                </a:cubicBezTo>
                <a:cubicBezTo>
                  <a:pt x="1624" y="520"/>
                  <a:pt x="1648" y="456"/>
                  <a:pt x="1680" y="416"/>
                </a:cubicBezTo>
                <a:cubicBezTo>
                  <a:pt x="1712" y="376"/>
                  <a:pt x="1744" y="328"/>
                  <a:pt x="1776" y="320"/>
                </a:cubicBezTo>
                <a:cubicBezTo>
                  <a:pt x="1808" y="312"/>
                  <a:pt x="1840" y="344"/>
                  <a:pt x="1872" y="368"/>
                </a:cubicBezTo>
                <a:cubicBezTo>
                  <a:pt x="1904" y="392"/>
                  <a:pt x="1928" y="440"/>
                  <a:pt x="1968" y="464"/>
                </a:cubicBezTo>
                <a:cubicBezTo>
                  <a:pt x="2008" y="488"/>
                  <a:pt x="2064" y="528"/>
                  <a:pt x="2112" y="512"/>
                </a:cubicBezTo>
                <a:cubicBezTo>
                  <a:pt x="2160" y="496"/>
                  <a:pt x="2208" y="384"/>
                  <a:pt x="2256" y="368"/>
                </a:cubicBezTo>
                <a:cubicBezTo>
                  <a:pt x="2304" y="352"/>
                  <a:pt x="2352" y="408"/>
                  <a:pt x="2400" y="416"/>
                </a:cubicBezTo>
                <a:cubicBezTo>
                  <a:pt x="2448" y="424"/>
                  <a:pt x="2510" y="422"/>
                  <a:pt x="2544" y="416"/>
                </a:cubicBezTo>
                <a:cubicBezTo>
                  <a:pt x="2578" y="410"/>
                  <a:pt x="2580" y="392"/>
                  <a:pt x="2604" y="380"/>
                </a:cubicBezTo>
                <a:cubicBezTo>
                  <a:pt x="2628" y="368"/>
                  <a:pt x="2652" y="340"/>
                  <a:pt x="2688" y="344"/>
                </a:cubicBezTo>
                <a:cubicBezTo>
                  <a:pt x="2724" y="348"/>
                  <a:pt x="2792" y="396"/>
                  <a:pt x="2820" y="404"/>
                </a:cubicBezTo>
                <a:cubicBezTo>
                  <a:pt x="2848" y="412"/>
                  <a:pt x="2852" y="402"/>
                  <a:pt x="2856" y="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4290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71840" y="4110120"/>
            <a:ext cx="3324240" cy="192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95" y="2957"/>
                </a:moveTo>
                <a:lnTo>
                  <a:pt x="22229" y="2957"/>
                </a:lnTo>
                <a:lnTo>
                  <a:pt x="22229" y="-7474"/>
                </a:lnTo>
                <a:lnTo>
                  <a:pt x="1731" y="-17969"/>
                </a:lnTo>
              </a:path>
            </a:pathLst>
          </a:custGeom>
          <a:noFill/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ce suggests that this may not be a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rudimentary coverage the ringback spec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ggested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72392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harge transferred as behavioral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ge is proportional to area under voltage cur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 = volt*sec = coulomb*oh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impedance is constant, then  Are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ar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al: Flight time adjus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981080" y="838080"/>
            <a:ext cx="6343560" cy="4362480"/>
            <a:chOff x="1981080" y="838080"/>
            <a:chExt cx="6343560" cy="4362480"/>
          </a:xfrm>
        </p:grpSpPr>
        <p:sp>
          <p:nvSpPr>
            <p:cNvPr id="72" name=""/>
            <p:cNvSpPr/>
            <p:nvPr/>
          </p:nvSpPr>
          <p:spPr>
            <a:xfrm>
              <a:off x="1981080" y="1312920"/>
              <a:ext cx="5486400" cy="2763720"/>
            </a:xfrm>
            <a:custGeom>
              <a:avLst/>
              <a:gdLst/>
              <a:ahLst/>
              <a:rect l="l" t="t" r="r" b="b"/>
              <a:pathLst>
                <a:path w="3456" h="1741">
                  <a:moveTo>
                    <a:pt x="0" y="1711"/>
                  </a:moveTo>
                  <a:cubicBezTo>
                    <a:pt x="106" y="1710"/>
                    <a:pt x="458" y="1712"/>
                    <a:pt x="636" y="1693"/>
                  </a:cubicBezTo>
                  <a:cubicBezTo>
                    <a:pt x="814" y="1674"/>
                    <a:pt x="940" y="1741"/>
                    <a:pt x="1068" y="1597"/>
                  </a:cubicBezTo>
                  <a:cubicBezTo>
                    <a:pt x="1196" y="1453"/>
                    <a:pt x="1292" y="981"/>
                    <a:pt x="1404" y="829"/>
                  </a:cubicBezTo>
                  <a:cubicBezTo>
                    <a:pt x="1516" y="677"/>
                    <a:pt x="1652" y="749"/>
                    <a:pt x="1740" y="685"/>
                  </a:cubicBezTo>
                  <a:cubicBezTo>
                    <a:pt x="1828" y="621"/>
                    <a:pt x="1860" y="541"/>
                    <a:pt x="1932" y="445"/>
                  </a:cubicBezTo>
                  <a:cubicBezTo>
                    <a:pt x="2004" y="349"/>
                    <a:pt x="2068" y="181"/>
                    <a:pt x="2172" y="109"/>
                  </a:cubicBezTo>
                  <a:cubicBezTo>
                    <a:pt x="2276" y="37"/>
                    <a:pt x="2342" y="26"/>
                    <a:pt x="2556" y="13"/>
                  </a:cubicBezTo>
                  <a:cubicBezTo>
                    <a:pt x="2770" y="0"/>
                    <a:pt x="3269" y="27"/>
                    <a:pt x="3456" y="3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09640" y="186696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00160" y="1333440"/>
              <a:ext cx="5486400" cy="2768760"/>
            </a:xfrm>
            <a:custGeom>
              <a:avLst/>
              <a:gdLst/>
              <a:ahLst/>
              <a:rect l="l" t="t" r="r" b="b"/>
              <a:pathLst>
                <a:path w="3456" h="1744">
                  <a:moveTo>
                    <a:pt x="0" y="1696"/>
                  </a:moveTo>
                  <a:cubicBezTo>
                    <a:pt x="224" y="1704"/>
                    <a:pt x="448" y="1712"/>
                    <a:pt x="624" y="1696"/>
                  </a:cubicBezTo>
                  <a:cubicBezTo>
                    <a:pt x="800" y="1680"/>
                    <a:pt x="928" y="1744"/>
                    <a:pt x="1056" y="1600"/>
                  </a:cubicBezTo>
                  <a:cubicBezTo>
                    <a:pt x="1184" y="1456"/>
                    <a:pt x="1315" y="996"/>
                    <a:pt x="1392" y="832"/>
                  </a:cubicBezTo>
                  <a:cubicBezTo>
                    <a:pt x="1469" y="668"/>
                    <a:pt x="1462" y="669"/>
                    <a:pt x="1521" y="614"/>
                  </a:cubicBezTo>
                  <a:cubicBezTo>
                    <a:pt x="1580" y="559"/>
                    <a:pt x="1670" y="544"/>
                    <a:pt x="1744" y="502"/>
                  </a:cubicBezTo>
                  <a:cubicBezTo>
                    <a:pt x="1818" y="460"/>
                    <a:pt x="1899" y="427"/>
                    <a:pt x="1968" y="362"/>
                  </a:cubicBezTo>
                  <a:cubicBezTo>
                    <a:pt x="2037" y="297"/>
                    <a:pt x="2064" y="170"/>
                    <a:pt x="2160" y="112"/>
                  </a:cubicBezTo>
                  <a:cubicBezTo>
                    <a:pt x="2256" y="54"/>
                    <a:pt x="2328" y="32"/>
                    <a:pt x="2544" y="16"/>
                  </a:cubicBezTo>
                  <a:cubicBezTo>
                    <a:pt x="2760" y="0"/>
                    <a:pt x="3296" y="32"/>
                    <a:pt x="3456" y="16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52440" y="16383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H over dr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33680" y="2324160"/>
              <a:ext cx="533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77080" y="224784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th for PV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4476240" y="838080"/>
              <a:ext cx="13906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59040" y="2133720"/>
              <a:ext cx="120960" cy="11412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 anchorCtr="1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57360" y="209556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40280" y="2031840"/>
              <a:ext cx="120600" cy="11448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 anchorCtr="1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77080" y="18669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7240" y="1942920"/>
              <a:ext cx="1079640" cy="1295640"/>
            </a:xfrm>
            <a:custGeom>
              <a:avLst/>
              <a:gdLst/>
              <a:ahLst/>
              <a:rect l="l" t="t" r="r" b="b"/>
              <a:pathLst>
                <a:path w="680" h="816">
                  <a:moveTo>
                    <a:pt x="680" y="816"/>
                  </a:moveTo>
                  <a:cubicBezTo>
                    <a:pt x="604" y="644"/>
                    <a:pt x="528" y="472"/>
                    <a:pt x="440" y="384"/>
                  </a:cubicBezTo>
                  <a:cubicBezTo>
                    <a:pt x="352" y="296"/>
                    <a:pt x="224" y="320"/>
                    <a:pt x="152" y="288"/>
                  </a:cubicBezTo>
                  <a:cubicBezTo>
                    <a:pt x="80" y="256"/>
                    <a:pt x="16" y="232"/>
                    <a:pt x="8" y="192"/>
                  </a:cubicBezTo>
                  <a:cubicBezTo>
                    <a:pt x="0" y="152"/>
                    <a:pt x="32" y="80"/>
                    <a:pt x="104" y="48"/>
                  </a:cubicBezTo>
                  <a:cubicBezTo>
                    <a:pt x="176" y="16"/>
                    <a:pt x="352" y="0"/>
                    <a:pt x="440" y="0"/>
                  </a:cubicBezTo>
                  <a:cubicBezTo>
                    <a:pt x="528" y="0"/>
                    <a:pt x="600" y="16"/>
                    <a:pt x="632" y="48"/>
                  </a:cubicBezTo>
                  <a:cubicBezTo>
                    <a:pt x="664" y="80"/>
                    <a:pt x="664" y="144"/>
                    <a:pt x="632" y="192"/>
                  </a:cubicBezTo>
                  <a:cubicBezTo>
                    <a:pt x="600" y="240"/>
                    <a:pt x="472" y="304"/>
                    <a:pt x="440" y="336"/>
                  </a:cubicBezTo>
                  <a:cubicBezTo>
                    <a:pt x="408" y="368"/>
                    <a:pt x="424" y="376"/>
                    <a:pt x="440" y="38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438440" y="2019240"/>
              <a:ext cx="3886200" cy="3181320"/>
              <a:chOff x="4438440" y="2019240"/>
              <a:chExt cx="3886200" cy="3181320"/>
            </a:xfrm>
          </p:grpSpPr>
          <p:sp>
            <p:nvSpPr>
              <p:cNvPr id="85" name=""/>
              <p:cNvSpPr/>
              <p:nvPr/>
            </p:nvSpPr>
            <p:spPr>
              <a:xfrm>
                <a:off x="5376600" y="3056040"/>
                <a:ext cx="1406520" cy="1092240"/>
              </a:xfrm>
              <a:custGeom>
                <a:avLst/>
                <a:gdLst/>
                <a:ahLst/>
                <a:rect l="l" t="t" r="r" b="b"/>
                <a:pathLst>
                  <a:path w="886" h="688">
                    <a:moveTo>
                      <a:pt x="33" y="643"/>
                    </a:moveTo>
                    <a:cubicBezTo>
                      <a:pt x="52" y="612"/>
                      <a:pt x="109" y="510"/>
                      <a:pt x="150" y="457"/>
                    </a:cubicBezTo>
                    <a:cubicBezTo>
                      <a:pt x="191" y="404"/>
                      <a:pt x="217" y="367"/>
                      <a:pt x="276" y="325"/>
                    </a:cubicBezTo>
                    <a:cubicBezTo>
                      <a:pt x="335" y="283"/>
                      <a:pt x="426" y="242"/>
                      <a:pt x="504" y="205"/>
                    </a:cubicBezTo>
                    <a:cubicBezTo>
                      <a:pt x="582" y="168"/>
                      <a:pt x="696" y="123"/>
                      <a:pt x="744" y="103"/>
                    </a:cubicBezTo>
                    <a:cubicBezTo>
                      <a:pt x="792" y="83"/>
                      <a:pt x="782" y="88"/>
                      <a:pt x="792" y="85"/>
                    </a:cubicBezTo>
                    <a:cubicBezTo>
                      <a:pt x="802" y="82"/>
                      <a:pt x="803" y="0"/>
                      <a:pt x="804" y="85"/>
                    </a:cubicBezTo>
                    <a:cubicBezTo>
                      <a:pt x="805" y="170"/>
                      <a:pt x="801" y="502"/>
                      <a:pt x="801" y="595"/>
                    </a:cubicBezTo>
                    <a:cubicBezTo>
                      <a:pt x="801" y="688"/>
                      <a:pt x="809" y="635"/>
                      <a:pt x="801" y="643"/>
                    </a:cubicBezTo>
                    <a:cubicBezTo>
                      <a:pt x="793" y="651"/>
                      <a:pt x="886" y="643"/>
                      <a:pt x="753" y="643"/>
                    </a:cubicBezTo>
                    <a:cubicBezTo>
                      <a:pt x="620" y="643"/>
                      <a:pt x="157" y="643"/>
                      <a:pt x="0" y="643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216480" y="3024360"/>
                <a:ext cx="1103400" cy="1123920"/>
              </a:xfrm>
              <a:custGeom>
                <a:avLst/>
                <a:gdLst/>
                <a:ahLst/>
                <a:rect l="l" t="t" r="r" b="b"/>
                <a:pathLst>
                  <a:path w="695" h="708">
                    <a:moveTo>
                      <a:pt x="80" y="663"/>
                    </a:moveTo>
                    <a:cubicBezTo>
                      <a:pt x="0" y="660"/>
                      <a:pt x="104" y="659"/>
                      <a:pt x="125" y="642"/>
                    </a:cubicBezTo>
                    <a:cubicBezTo>
                      <a:pt x="146" y="625"/>
                      <a:pt x="165" y="609"/>
                      <a:pt x="209" y="564"/>
                    </a:cubicBezTo>
                    <a:cubicBezTo>
                      <a:pt x="253" y="519"/>
                      <a:pt x="328" y="443"/>
                      <a:pt x="389" y="372"/>
                    </a:cubicBezTo>
                    <a:cubicBezTo>
                      <a:pt x="450" y="301"/>
                      <a:pt x="539" y="185"/>
                      <a:pt x="575" y="138"/>
                    </a:cubicBezTo>
                    <a:cubicBezTo>
                      <a:pt x="611" y="91"/>
                      <a:pt x="600" y="99"/>
                      <a:pt x="605" y="90"/>
                    </a:cubicBezTo>
                    <a:cubicBezTo>
                      <a:pt x="610" y="81"/>
                      <a:pt x="608" y="0"/>
                      <a:pt x="608" y="87"/>
                    </a:cubicBezTo>
                    <a:cubicBezTo>
                      <a:pt x="608" y="174"/>
                      <a:pt x="607" y="522"/>
                      <a:pt x="608" y="615"/>
                    </a:cubicBezTo>
                    <a:cubicBezTo>
                      <a:pt x="609" y="708"/>
                      <a:pt x="617" y="642"/>
                      <a:pt x="617" y="648"/>
                    </a:cubicBezTo>
                    <a:cubicBezTo>
                      <a:pt x="617" y="654"/>
                      <a:pt x="606" y="652"/>
                      <a:pt x="605" y="654"/>
                    </a:cubicBezTo>
                    <a:cubicBezTo>
                      <a:pt x="604" y="656"/>
                      <a:pt x="695" y="662"/>
                      <a:pt x="608" y="663"/>
                    </a:cubicBezTo>
                    <a:cubicBezTo>
                      <a:pt x="521" y="664"/>
                      <a:pt x="170" y="667"/>
                      <a:pt x="80" y="663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879800" y="2324160"/>
                <a:ext cx="2844720" cy="2876400"/>
              </a:xfrm>
              <a:custGeom>
                <a:avLst/>
                <a:gdLst/>
                <a:ahLst/>
                <a:rect l="l" t="t" r="r" b="b"/>
                <a:pathLst>
                  <a:path w="1792" h="1812">
                    <a:moveTo>
                      <a:pt x="16" y="1752"/>
                    </a:moveTo>
                    <a:cubicBezTo>
                      <a:pt x="16" y="1756"/>
                      <a:pt x="0" y="1812"/>
                      <a:pt x="16" y="1776"/>
                    </a:cubicBezTo>
                    <a:cubicBezTo>
                      <a:pt x="32" y="1740"/>
                      <a:pt x="67" y="1613"/>
                      <a:pt x="112" y="1536"/>
                    </a:cubicBezTo>
                    <a:cubicBezTo>
                      <a:pt x="157" y="1459"/>
                      <a:pt x="216" y="1363"/>
                      <a:pt x="286" y="1313"/>
                    </a:cubicBezTo>
                    <a:cubicBezTo>
                      <a:pt x="356" y="1263"/>
                      <a:pt x="439" y="1262"/>
                      <a:pt x="531" y="1236"/>
                    </a:cubicBezTo>
                    <a:cubicBezTo>
                      <a:pt x="623" y="1211"/>
                      <a:pt x="756" y="1198"/>
                      <a:pt x="845" y="1157"/>
                    </a:cubicBezTo>
                    <a:cubicBezTo>
                      <a:pt x="934" y="1116"/>
                      <a:pt x="993" y="1057"/>
                      <a:pt x="1067" y="988"/>
                    </a:cubicBezTo>
                    <a:cubicBezTo>
                      <a:pt x="1141" y="920"/>
                      <a:pt x="1207" y="848"/>
                      <a:pt x="1289" y="743"/>
                    </a:cubicBezTo>
                    <a:cubicBezTo>
                      <a:pt x="1371" y="639"/>
                      <a:pt x="1487" y="465"/>
                      <a:pt x="1557" y="363"/>
                    </a:cubicBezTo>
                    <a:cubicBezTo>
                      <a:pt x="1627" y="261"/>
                      <a:pt x="1669" y="192"/>
                      <a:pt x="1708" y="132"/>
                    </a:cubicBezTo>
                    <a:cubicBezTo>
                      <a:pt x="1747" y="72"/>
                      <a:pt x="1778" y="22"/>
                      <a:pt x="179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895640" y="2343240"/>
                <a:ext cx="2828880" cy="2843280"/>
              </a:xfrm>
              <a:custGeom>
                <a:avLst/>
                <a:gdLst/>
                <a:ahLst/>
                <a:rect l="l" t="t" r="r" b="b"/>
                <a:pathLst>
                  <a:path w="1782" h="1791">
                    <a:moveTo>
                      <a:pt x="0" y="1791"/>
                    </a:moveTo>
                    <a:cubicBezTo>
                      <a:pt x="15" y="1755"/>
                      <a:pt x="59" y="1645"/>
                      <a:pt x="92" y="1577"/>
                    </a:cubicBezTo>
                    <a:cubicBezTo>
                      <a:pt x="125" y="1508"/>
                      <a:pt x="128" y="1500"/>
                      <a:pt x="199" y="1372"/>
                    </a:cubicBezTo>
                    <a:cubicBezTo>
                      <a:pt x="271" y="1245"/>
                      <a:pt x="378" y="956"/>
                      <a:pt x="528" y="816"/>
                    </a:cubicBezTo>
                    <a:cubicBezTo>
                      <a:pt x="679" y="675"/>
                      <a:pt x="923" y="624"/>
                      <a:pt x="1098" y="530"/>
                    </a:cubicBezTo>
                    <a:cubicBezTo>
                      <a:pt x="1273" y="436"/>
                      <a:pt x="1464" y="340"/>
                      <a:pt x="1578" y="252"/>
                    </a:cubicBezTo>
                    <a:cubicBezTo>
                      <a:pt x="1692" y="164"/>
                      <a:pt x="1740" y="52"/>
                      <a:pt x="1782" y="0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438440" y="4076640"/>
                <a:ext cx="388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38440" y="3162240"/>
                <a:ext cx="388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5962320" y="2019240"/>
                <a:ext cx="1981080" cy="289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762120" y="3276720"/>
            <a:ext cx="4267080" cy="328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5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table of  area v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 to be added to the time where wave crosses V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or T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ing fligh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5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crossing at V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5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rea as ind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5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ust time with area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181480" y="5029200"/>
            <a:ext cx="3605400" cy="1039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772400" y="3962520"/>
            <a:ext cx="5335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2819520"/>
            <a:ext cx="14479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Times New Roman"/>
              </a:rPr>
              <a:t>th 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43560" y="4000680"/>
            <a:ext cx="5335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95800" y="3714840"/>
            <a:ext cx="5335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494240" y="3868560"/>
            <a:ext cx="1843200" cy="576360"/>
          </a:xfrm>
          <a:custGeom>
            <a:avLst/>
            <a:gdLst/>
            <a:ahLst/>
            <a:rect l="l" t="t" r="r" b="b"/>
            <a:pathLst>
              <a:path w="1161" h="363">
                <a:moveTo>
                  <a:pt x="145" y="11"/>
                </a:moveTo>
                <a:cubicBezTo>
                  <a:pt x="0" y="12"/>
                  <a:pt x="134" y="14"/>
                  <a:pt x="137" y="15"/>
                </a:cubicBezTo>
                <a:cubicBezTo>
                  <a:pt x="140" y="16"/>
                  <a:pt x="152" y="0"/>
                  <a:pt x="161" y="15"/>
                </a:cubicBezTo>
                <a:cubicBezTo>
                  <a:pt x="170" y="30"/>
                  <a:pt x="172" y="68"/>
                  <a:pt x="193" y="107"/>
                </a:cubicBezTo>
                <a:cubicBezTo>
                  <a:pt x="214" y="146"/>
                  <a:pt x="249" y="211"/>
                  <a:pt x="289" y="251"/>
                </a:cubicBezTo>
                <a:cubicBezTo>
                  <a:pt x="329" y="291"/>
                  <a:pt x="385" y="331"/>
                  <a:pt x="433" y="347"/>
                </a:cubicBezTo>
                <a:cubicBezTo>
                  <a:pt x="481" y="363"/>
                  <a:pt x="529" y="355"/>
                  <a:pt x="577" y="347"/>
                </a:cubicBezTo>
                <a:cubicBezTo>
                  <a:pt x="625" y="339"/>
                  <a:pt x="665" y="331"/>
                  <a:pt x="721" y="299"/>
                </a:cubicBezTo>
                <a:cubicBezTo>
                  <a:pt x="777" y="267"/>
                  <a:pt x="861" y="200"/>
                  <a:pt x="913" y="155"/>
                </a:cubicBezTo>
                <a:cubicBezTo>
                  <a:pt x="965" y="110"/>
                  <a:pt x="1009" y="55"/>
                  <a:pt x="1033" y="31"/>
                </a:cubicBezTo>
                <a:cubicBezTo>
                  <a:pt x="1057" y="7"/>
                  <a:pt x="1061" y="14"/>
                  <a:pt x="1057" y="11"/>
                </a:cubicBezTo>
                <a:cubicBezTo>
                  <a:pt x="1053" y="8"/>
                  <a:pt x="1161" y="11"/>
                  <a:pt x="1009" y="11"/>
                </a:cubicBezTo>
                <a:cubicBezTo>
                  <a:pt x="857" y="11"/>
                  <a:pt x="290" y="2"/>
                  <a:pt x="145" y="11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al: Ringba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990720"/>
            <a:ext cx="4534200" cy="2057400"/>
          </a:xfrm>
          <a:custGeom>
            <a:avLst/>
            <a:gdLst/>
            <a:ahLst/>
            <a:rect l="l" t="t" r="r" b="b"/>
            <a:pathLst>
              <a:path w="2856" h="1296">
                <a:moveTo>
                  <a:pt x="0" y="1280"/>
                </a:moveTo>
                <a:cubicBezTo>
                  <a:pt x="188" y="1284"/>
                  <a:pt x="376" y="1288"/>
                  <a:pt x="480" y="1280"/>
                </a:cubicBezTo>
                <a:cubicBezTo>
                  <a:pt x="584" y="1272"/>
                  <a:pt x="576" y="1296"/>
                  <a:pt x="624" y="1232"/>
                </a:cubicBezTo>
                <a:cubicBezTo>
                  <a:pt x="672" y="1168"/>
                  <a:pt x="720" y="1032"/>
                  <a:pt x="768" y="896"/>
                </a:cubicBezTo>
                <a:cubicBezTo>
                  <a:pt x="816" y="760"/>
                  <a:pt x="856" y="560"/>
                  <a:pt x="912" y="416"/>
                </a:cubicBezTo>
                <a:cubicBezTo>
                  <a:pt x="968" y="272"/>
                  <a:pt x="1048" y="64"/>
                  <a:pt x="1104" y="32"/>
                </a:cubicBezTo>
                <a:cubicBezTo>
                  <a:pt x="1160" y="0"/>
                  <a:pt x="1208" y="136"/>
                  <a:pt x="1248" y="224"/>
                </a:cubicBezTo>
                <a:cubicBezTo>
                  <a:pt x="1288" y="312"/>
                  <a:pt x="1312" y="488"/>
                  <a:pt x="1344" y="560"/>
                </a:cubicBezTo>
                <a:cubicBezTo>
                  <a:pt x="1376" y="632"/>
                  <a:pt x="1400" y="656"/>
                  <a:pt x="1440" y="656"/>
                </a:cubicBezTo>
                <a:cubicBezTo>
                  <a:pt x="1480" y="656"/>
                  <a:pt x="1544" y="600"/>
                  <a:pt x="1584" y="560"/>
                </a:cubicBezTo>
                <a:cubicBezTo>
                  <a:pt x="1624" y="520"/>
                  <a:pt x="1648" y="456"/>
                  <a:pt x="1680" y="416"/>
                </a:cubicBezTo>
                <a:cubicBezTo>
                  <a:pt x="1712" y="376"/>
                  <a:pt x="1744" y="328"/>
                  <a:pt x="1776" y="320"/>
                </a:cubicBezTo>
                <a:cubicBezTo>
                  <a:pt x="1808" y="312"/>
                  <a:pt x="1840" y="344"/>
                  <a:pt x="1872" y="368"/>
                </a:cubicBezTo>
                <a:cubicBezTo>
                  <a:pt x="1904" y="392"/>
                  <a:pt x="1928" y="440"/>
                  <a:pt x="1968" y="464"/>
                </a:cubicBezTo>
                <a:cubicBezTo>
                  <a:pt x="2008" y="488"/>
                  <a:pt x="2064" y="528"/>
                  <a:pt x="2112" y="512"/>
                </a:cubicBezTo>
                <a:cubicBezTo>
                  <a:pt x="2160" y="496"/>
                  <a:pt x="2208" y="384"/>
                  <a:pt x="2256" y="368"/>
                </a:cubicBezTo>
                <a:cubicBezTo>
                  <a:pt x="2304" y="352"/>
                  <a:pt x="2352" y="408"/>
                  <a:pt x="2400" y="416"/>
                </a:cubicBezTo>
                <a:cubicBezTo>
                  <a:pt x="2448" y="424"/>
                  <a:pt x="2510" y="422"/>
                  <a:pt x="2544" y="416"/>
                </a:cubicBezTo>
                <a:cubicBezTo>
                  <a:pt x="2578" y="410"/>
                  <a:pt x="2580" y="392"/>
                  <a:pt x="2604" y="380"/>
                </a:cubicBezTo>
                <a:cubicBezTo>
                  <a:pt x="2628" y="368"/>
                  <a:pt x="2652" y="340"/>
                  <a:pt x="2688" y="344"/>
                </a:cubicBezTo>
                <a:cubicBezTo>
                  <a:pt x="2724" y="348"/>
                  <a:pt x="2792" y="396"/>
                  <a:pt x="2820" y="404"/>
                </a:cubicBezTo>
                <a:cubicBezTo>
                  <a:pt x="2848" y="412"/>
                  <a:pt x="2852" y="402"/>
                  <a:pt x="2856" y="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98108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3048120"/>
            <a:ext cx="2210040" cy="1422360"/>
          </a:xfrm>
          <a:custGeom>
            <a:avLst/>
            <a:gdLst/>
            <a:ahLst/>
            <a:rect l="l" t="t" r="r" b="b"/>
            <a:pathLst>
              <a:path w="1392" h="896">
                <a:moveTo>
                  <a:pt x="0" y="48"/>
                </a:moveTo>
                <a:cubicBezTo>
                  <a:pt x="60" y="268"/>
                  <a:pt x="120" y="488"/>
                  <a:pt x="192" y="624"/>
                </a:cubicBezTo>
                <a:cubicBezTo>
                  <a:pt x="264" y="760"/>
                  <a:pt x="344" y="832"/>
                  <a:pt x="432" y="864"/>
                </a:cubicBezTo>
                <a:cubicBezTo>
                  <a:pt x="520" y="896"/>
                  <a:pt x="632" y="856"/>
                  <a:pt x="720" y="816"/>
                </a:cubicBezTo>
                <a:cubicBezTo>
                  <a:pt x="808" y="776"/>
                  <a:pt x="872" y="712"/>
                  <a:pt x="960" y="624"/>
                </a:cubicBezTo>
                <a:cubicBezTo>
                  <a:pt x="1048" y="536"/>
                  <a:pt x="1176" y="392"/>
                  <a:pt x="1248" y="288"/>
                </a:cubicBezTo>
                <a:cubicBezTo>
                  <a:pt x="1320" y="184"/>
                  <a:pt x="1360" y="48"/>
                  <a:pt x="1392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8862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43480" y="1631880"/>
            <a:ext cx="1028520" cy="1416240"/>
          </a:xfrm>
          <a:custGeom>
            <a:avLst/>
            <a:gdLst/>
            <a:ahLst/>
            <a:rect l="l" t="t" r="r" b="b"/>
            <a:pathLst>
              <a:path w="648" h="892">
                <a:moveTo>
                  <a:pt x="648" y="892"/>
                </a:moveTo>
                <a:cubicBezTo>
                  <a:pt x="484" y="704"/>
                  <a:pt x="320" y="516"/>
                  <a:pt x="216" y="412"/>
                </a:cubicBezTo>
                <a:cubicBezTo>
                  <a:pt x="112" y="308"/>
                  <a:pt x="48" y="332"/>
                  <a:pt x="24" y="268"/>
                </a:cubicBezTo>
                <a:cubicBezTo>
                  <a:pt x="0" y="204"/>
                  <a:pt x="9" y="56"/>
                  <a:pt x="72" y="28"/>
                </a:cubicBezTo>
                <a:cubicBezTo>
                  <a:pt x="135" y="0"/>
                  <a:pt x="367" y="50"/>
                  <a:pt x="402" y="100"/>
                </a:cubicBezTo>
                <a:cubicBezTo>
                  <a:pt x="437" y="150"/>
                  <a:pt x="302" y="264"/>
                  <a:pt x="282" y="328"/>
                </a:cubicBezTo>
                <a:cubicBezTo>
                  <a:pt x="262" y="392"/>
                  <a:pt x="282" y="452"/>
                  <a:pt x="282" y="4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44956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adjustment only if area is greater than some characterized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5T19:17:04Z</dcterms:created>
  <dc:creator>Richard Mellitz</dc:creator>
  <dc:description/>
  <dc:language>en-US</dc:language>
  <cp:lastModifiedBy>MD6 Engineering Computing</cp:lastModifiedBy>
  <dcterms:modified xsi:type="dcterms:W3CDTF">1999-06-18T18:41:17Z</dcterms:modified>
  <cp:revision>10</cp:revision>
  <dc:subject/>
  <dc:title>No Slide Title</dc:title>
</cp:coreProperties>
</file>