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00600" y="689760"/>
            <a:ext cx="4538880" cy="340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94080" y="4312440"/>
            <a:ext cx="5552280" cy="40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933720" y="-1440"/>
            <a:ext cx="3006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3372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862488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-1440"/>
            <a:ext cx="3006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09600" y="685800"/>
            <a:ext cx="4523040" cy="33926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07560" y="4343400"/>
            <a:ext cx="507708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6283440"/>
            <a:ext cx="693720" cy="431640"/>
            <a:chOff x="318960" y="6283440"/>
            <a:chExt cx="693720" cy="43164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318960" y="6283440"/>
              <a:ext cx="69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28720" y="6453360"/>
              <a:ext cx="4608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44480" y="6413400"/>
              <a:ext cx="230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000000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6435720"/>
            <a:ext cx="9142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cc"/>
                </a:solidFill>
                <a:latin typeface="Arial"/>
              </a:rPr>
              <a:t>PAGE </a:t>
            </a:r>
            <a:fld id="{AA28E32F-B335-4156-8CE6-AC471AC380EF}" type="slidenum">
              <a:rPr b="1" lang="en-US" sz="9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04280" y="6058080"/>
            <a:ext cx="1261800" cy="550800"/>
            <a:chOff x="7604280" y="6058080"/>
            <a:chExt cx="1261800" cy="550800"/>
          </a:xfrm>
        </p:grpSpPr>
        <p:grpSp>
          <p:nvGrpSpPr>
            <p:cNvPr id="6" name=""/>
            <p:cNvGrpSpPr/>
            <p:nvPr/>
          </p:nvGrpSpPr>
          <p:grpSpPr>
            <a:xfrm>
              <a:off x="7625880" y="6103800"/>
              <a:ext cx="1217160" cy="457560"/>
              <a:chOff x="7625880" y="6103800"/>
              <a:chExt cx="1217160" cy="45756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7635240" y="6103800"/>
                <a:ext cx="1197720" cy="182880"/>
                <a:chOff x="7635240" y="6103800"/>
                <a:chExt cx="1197720" cy="18288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7635240" y="610380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767720" y="6103800"/>
                  <a:ext cx="93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900560" y="6103800"/>
                  <a:ext cx="11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8061480" y="6103800"/>
                  <a:ext cx="93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220240" y="6103800"/>
                  <a:ext cx="93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375400" y="6103800"/>
                  <a:ext cx="119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535600" y="6103800"/>
                  <a:ext cx="11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705880" y="6103800"/>
                  <a:ext cx="1270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637040" y="6378480"/>
                <a:ext cx="1193400" cy="182880"/>
                <a:chOff x="7637040" y="6378480"/>
                <a:chExt cx="1193400" cy="18288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637040" y="6378480"/>
                  <a:ext cx="11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cc"/>
                      </a:solidFill>
                      <a:latin typeface="Arial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800480" y="63784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930440" y="637848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8224200" y="637848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8405640" y="63784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529480" y="6378480"/>
                  <a:ext cx="119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719920" y="6378480"/>
                  <a:ext cx="11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116560" y="63784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7625880" y="6242040"/>
                <a:ext cx="1217160" cy="182880"/>
                <a:chOff x="7625880" y="6242040"/>
                <a:chExt cx="1217160" cy="18288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7625880" y="6242040"/>
                  <a:ext cx="11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cc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751520" y="6242040"/>
                  <a:ext cx="119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881840" y="6242040"/>
                  <a:ext cx="1270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8029080" y="624204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8137440" y="6242040"/>
                  <a:ext cx="119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8265600" y="6242040"/>
                  <a:ext cx="11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8386200" y="624204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515080" y="6242040"/>
                  <a:ext cx="110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636040" y="6242040"/>
                  <a:ext cx="93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8740080" y="6242040"/>
                  <a:ext cx="1029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Arial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7604280" y="6583320"/>
              <a:ext cx="1261800" cy="25560"/>
              <a:chOff x="7604280" y="6583320"/>
              <a:chExt cx="1261800" cy="25560"/>
            </a:xfrm>
          </p:grpSpPr>
          <p:sp>
            <p:nvSpPr>
              <p:cNvPr id="37" name=""/>
              <p:cNvSpPr/>
              <p:nvPr/>
            </p:nvSpPr>
            <p:spPr>
              <a:xfrm>
                <a:off x="7621560" y="6595920"/>
                <a:ext cx="123192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604280" y="6583320"/>
                <a:ext cx="25200" cy="2376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840880" y="6585120"/>
                <a:ext cx="25200" cy="2376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" name=""/>
            <p:cNvGrpSpPr/>
            <p:nvPr/>
          </p:nvGrpSpPr>
          <p:grpSpPr>
            <a:xfrm>
              <a:off x="7604280" y="6058080"/>
              <a:ext cx="1261800" cy="25200"/>
              <a:chOff x="7604280" y="6058080"/>
              <a:chExt cx="1261800" cy="25200"/>
            </a:xfrm>
          </p:grpSpPr>
          <p:sp>
            <p:nvSpPr>
              <p:cNvPr id="41" name=""/>
              <p:cNvSpPr/>
              <p:nvPr/>
            </p:nvSpPr>
            <p:spPr>
              <a:xfrm>
                <a:off x="7621560" y="6070680"/>
                <a:ext cx="1231920" cy="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604280" y="6058080"/>
                <a:ext cx="25200" cy="2376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840880" y="6059520"/>
                <a:ext cx="25200" cy="2376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buClr>
                <a:srgbClr val="99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85800" indent="-228600">
              <a:buClr>
                <a:srgbClr val="99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buClr>
                <a:srgbClr val="99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18960" y="6283440"/>
            <a:ext cx="693720" cy="431640"/>
            <a:chOff x="318960" y="6283440"/>
            <a:chExt cx="693720" cy="431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69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828720" y="6453360"/>
              <a:ext cx="46080" cy="5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4480" y="6413400"/>
              <a:ext cx="230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000000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602480" y="6058080"/>
            <a:ext cx="1263600" cy="520560"/>
            <a:chOff x="7602480" y="6058080"/>
            <a:chExt cx="1263600" cy="520560"/>
          </a:xfrm>
        </p:grpSpPr>
        <p:grpSp>
          <p:nvGrpSpPr>
            <p:cNvPr id="90" name=""/>
            <p:cNvGrpSpPr/>
            <p:nvPr/>
          </p:nvGrpSpPr>
          <p:grpSpPr>
            <a:xfrm>
              <a:off x="7620840" y="6083280"/>
              <a:ext cx="1197720" cy="182880"/>
              <a:chOff x="7620840" y="6083280"/>
              <a:chExt cx="1197720" cy="182880"/>
            </a:xfrm>
          </p:grpSpPr>
          <p:sp>
            <p:nvSpPr>
              <p:cNvPr id="91" name=""/>
              <p:cNvSpPr/>
              <p:nvPr/>
            </p:nvSpPr>
            <p:spPr>
              <a:xfrm>
                <a:off x="7620840" y="60832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cc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753320" y="60832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886520" y="6083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047080" y="60832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205840" y="60832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361360" y="608328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21200" y="60832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691480" y="6083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7619760" y="6357960"/>
              <a:ext cx="1193040" cy="182880"/>
              <a:chOff x="7619760" y="6357960"/>
              <a:chExt cx="1193040" cy="182880"/>
            </a:xfrm>
          </p:grpSpPr>
          <p:sp>
            <p:nvSpPr>
              <p:cNvPr id="100" name=""/>
              <p:cNvSpPr/>
              <p:nvPr/>
            </p:nvSpPr>
            <p:spPr>
              <a:xfrm>
                <a:off x="7619760" y="63579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cc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783200" y="6357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913160" y="63579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06560" y="63579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88000" y="6357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12200" y="635796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702280" y="63579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98920" y="6357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7602480" y="6554880"/>
              <a:ext cx="1262160" cy="23760"/>
              <a:chOff x="7602480" y="6554880"/>
              <a:chExt cx="1262160" cy="23760"/>
            </a:xfrm>
          </p:grpSpPr>
          <p:sp>
            <p:nvSpPr>
              <p:cNvPr id="109" name=""/>
              <p:cNvSpPr/>
              <p:nvPr/>
            </p:nvSpPr>
            <p:spPr>
              <a:xfrm>
                <a:off x="7643880" y="6566040"/>
                <a:ext cx="1189080" cy="144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080" y="6554880"/>
                <a:ext cx="25560" cy="2376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02480" y="6554880"/>
                <a:ext cx="25560" cy="2376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608600" y="6221520"/>
              <a:ext cx="1217160" cy="182880"/>
              <a:chOff x="7608600" y="6221520"/>
              <a:chExt cx="1217160" cy="182880"/>
            </a:xfrm>
          </p:grpSpPr>
          <p:sp>
            <p:nvSpPr>
              <p:cNvPr id="113" name=""/>
              <p:cNvSpPr/>
              <p:nvPr/>
            </p:nvSpPr>
            <p:spPr>
              <a:xfrm>
                <a:off x="7608600" y="6221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cc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734240" y="622152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864560" y="622152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011440" y="62215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119800" y="6221520"/>
                <a:ext cx="11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48320" y="6221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368560" y="62215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497440" y="62215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18400" y="622152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22800" y="62215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604280" y="6058080"/>
              <a:ext cx="1261800" cy="23760"/>
              <a:chOff x="7604280" y="6058080"/>
              <a:chExt cx="1261800" cy="23760"/>
            </a:xfrm>
          </p:grpSpPr>
          <p:sp>
            <p:nvSpPr>
              <p:cNvPr id="124" name=""/>
              <p:cNvSpPr/>
              <p:nvPr/>
            </p:nvSpPr>
            <p:spPr>
              <a:xfrm>
                <a:off x="7645320" y="6068880"/>
                <a:ext cx="1189080" cy="1800"/>
              </a:xfrm>
              <a:prstGeom prst="line">
                <a:avLst/>
              </a:prstGeom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40880" y="6058080"/>
                <a:ext cx="25200" cy="2376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04280" y="6058080"/>
                <a:ext cx="25200" cy="2376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oughts on equations in IBIS models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476760" y="4913280"/>
            <a:ext cx="2438280" cy="93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rpa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ranyi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tel Corporation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rpad.muranyi@intel.com</a:t>
            </a:r>
            <a:endParaRPr b="1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76200" y="1676520"/>
            <a:ext cx="8388360" cy="3774960"/>
            <a:chOff x="376200" y="1676520"/>
            <a:chExt cx="8388360" cy="377496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376200" y="1676520"/>
              <a:ext cx="5099040" cy="37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349960" y="2179800"/>
              <a:ext cx="3414600" cy="21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</a:rPr>
                <a:t>IBIS face to face sum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</a:rPr>
                <a:t>at DAC 19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</a:rPr>
                <a:t>Hilton Hot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00"/>
                  </a:solidFill>
                  <a:latin typeface="Times New Roman"/>
                </a:rPr>
                <a:t>New Orleans, Louisia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June 21, 19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0" y="2286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ow could we start using EQs in IB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95360" y="1274760"/>
            <a:ext cx="63565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immediate needs by developing equation equivalents / extensions for existing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nh, Vinl as a function of supply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_comp as a function of I/O pad voltage (frequency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ed versions of various parameters and/or I-V and V-t curves for typ., min., ma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ve fitted versions of data tables for I-V and V-t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 new features and/or techniques for long-term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ck fixes must be well though out so that consistency could be maintained when developing long term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0" y="2286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curacy problems - long term id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04800" y="1047600"/>
            <a:ext cx="613728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 accounting for currents is becoming an important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must for precise GND and Vcc bounce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must for proper transmission line return current and discontinuity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nnection of C_comp is too simp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 to GND, pad to Vcc, and pad to predriver(s) capacitance are currently lumped into one C_co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068480" y="3733920"/>
            <a:ext cx="7010280" cy="2562120"/>
            <a:chOff x="1068480" y="3733920"/>
            <a:chExt cx="7010280" cy="2562120"/>
          </a:xfrm>
        </p:grpSpPr>
        <p:sp>
          <p:nvSpPr>
            <p:cNvPr id="154" name=""/>
            <p:cNvSpPr/>
            <p:nvPr/>
          </p:nvSpPr>
          <p:spPr>
            <a:xfrm>
              <a:off x="1068480" y="3733920"/>
              <a:ext cx="7010280" cy="25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7777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148040" y="3795480"/>
              <a:ext cx="6851520" cy="2438280"/>
              <a:chOff x="1148040" y="3795480"/>
              <a:chExt cx="6851520" cy="2438280"/>
            </a:xfrm>
          </p:grpSpPr>
          <p:sp>
            <p:nvSpPr>
              <p:cNvPr id="156" name=""/>
              <p:cNvSpPr/>
              <p:nvPr/>
            </p:nvSpPr>
            <p:spPr>
              <a:xfrm>
                <a:off x="7480440" y="5752800"/>
                <a:ext cx="519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4348440" y="4168440"/>
                <a:ext cx="685800" cy="609480"/>
                <a:chOff x="4348440" y="4168440"/>
                <a:chExt cx="685800" cy="6094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348440" y="4168440"/>
                  <a:ext cx="685800" cy="609480"/>
                </a:xfrm>
                <a:prstGeom prst="rect">
                  <a:avLst/>
                </a:prstGeom>
                <a:solidFill>
                  <a:srgbClr val="66ff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399200" y="4200120"/>
                  <a:ext cx="5842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ull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-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1148040" y="5068440"/>
                <a:ext cx="63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480440" y="4754160"/>
                <a:ext cx="43344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/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214720" y="4473360"/>
                <a:ext cx="906480" cy="914400"/>
                <a:chOff x="2214720" y="4473360"/>
                <a:chExt cx="906480" cy="9144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214720" y="4473360"/>
                  <a:ext cx="906480" cy="914400"/>
                </a:xfrm>
                <a:prstGeom prst="rect">
                  <a:avLst/>
                </a:prstGeom>
                <a:solidFill>
                  <a:srgbClr val="ddddd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52880" y="4565520"/>
                  <a:ext cx="83196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reshol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&amp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-st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7480440" y="3924000"/>
                <a:ext cx="43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c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73320" y="4609800"/>
                <a:ext cx="50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3434040" y="4168440"/>
                <a:ext cx="685800" cy="609480"/>
                <a:chOff x="3434040" y="4168440"/>
                <a:chExt cx="685800" cy="6094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434040" y="4168440"/>
                  <a:ext cx="685800" cy="609480"/>
                </a:xfrm>
                <a:prstGeom prst="rect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484800" y="4200120"/>
                  <a:ext cx="58572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am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or V-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166160" y="4936680"/>
                <a:ext cx="1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285000" y="4473360"/>
                <a:ext cx="149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281760" y="4474800"/>
                <a:ext cx="0" cy="9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283200" y="538776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131000" y="4473360"/>
                <a:ext cx="21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729320" y="4779720"/>
                <a:ext cx="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729320" y="5694120"/>
                <a:ext cx="0" cy="14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43720" y="5695560"/>
                <a:ext cx="0" cy="14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729320" y="401760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43720" y="402732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740480" y="4930560"/>
                <a:ext cx="143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20240" y="4860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08800" y="491148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19960" y="490680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78960" y="582264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60880" y="490680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29320" y="5844960"/>
                <a:ext cx="145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731120" y="401616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124080" y="4930560"/>
                <a:ext cx="15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1985760" y="515916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1990800" y="4701960"/>
                <a:ext cx="22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296400" y="4473360"/>
                <a:ext cx="753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ck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00920" y="5533560"/>
                <a:ext cx="0" cy="31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21760" y="582264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177240" y="5333760"/>
                <a:ext cx="74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_com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5262840" y="4168440"/>
                <a:ext cx="685800" cy="609480"/>
                <a:chOff x="5262840" y="4168440"/>
                <a:chExt cx="685800" cy="6094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5262840" y="4168440"/>
                  <a:ext cx="685800" cy="609480"/>
                </a:xfrm>
                <a:prstGeom prst="rect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01000" y="4200120"/>
                  <a:ext cx="6094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OW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lam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-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434040" y="5082840"/>
                <a:ext cx="685800" cy="609480"/>
                <a:chOff x="3434040" y="5082840"/>
                <a:chExt cx="685800" cy="6094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434040" y="5082840"/>
                  <a:ext cx="685800" cy="609480"/>
                </a:xfrm>
                <a:prstGeom prst="rect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484800" y="5114520"/>
                  <a:ext cx="58572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am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ow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or V-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4131000" y="5387760"/>
                <a:ext cx="21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4348440" y="5082840"/>
                <a:ext cx="685800" cy="609480"/>
                <a:chOff x="4348440" y="5082840"/>
                <a:chExt cx="685800" cy="6094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348440" y="5082840"/>
                  <a:ext cx="685800" cy="609480"/>
                </a:xfrm>
                <a:prstGeom prst="rect">
                  <a:avLst/>
                </a:prstGeom>
                <a:solidFill>
                  <a:srgbClr val="66ff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399200" y="5114520"/>
                  <a:ext cx="5842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ull-dow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-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5262840" y="5082840"/>
                <a:ext cx="685800" cy="609480"/>
                <a:chOff x="5262840" y="5082840"/>
                <a:chExt cx="685800" cy="6094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262840" y="5082840"/>
                  <a:ext cx="685800" cy="609480"/>
                </a:xfrm>
                <a:prstGeom prst="rect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01000" y="5114520"/>
                  <a:ext cx="6094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lam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-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5643720" y="4779720"/>
                <a:ext cx="0" cy="30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6177240" y="4708080"/>
                <a:ext cx="990720" cy="457200"/>
                <a:chOff x="6177240" y="4708080"/>
                <a:chExt cx="990720" cy="4572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177240" y="4708080"/>
                  <a:ext cx="990720" cy="457200"/>
                </a:xfrm>
                <a:prstGeom prst="rect">
                  <a:avLst/>
                </a:prstGeom>
                <a:solidFill>
                  <a:srgbClr val="66ff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998040" y="4916160"/>
                  <a:ext cx="39600" cy="36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12" name=""/>
                <p:cNvGraphicFramePr/>
                <p:nvPr/>
              </p:nvGraphicFramePr>
              <p:xfrm>
                <a:off x="6183720" y="4838400"/>
                <a:ext cx="388800" cy="2048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1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183720" y="4838400"/>
                          <a:ext cx="388800" cy="204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214" name=""/>
                <p:cNvGrpSpPr/>
                <p:nvPr/>
              </p:nvGrpSpPr>
              <p:grpSpPr>
                <a:xfrm>
                  <a:off x="6488280" y="4866480"/>
                  <a:ext cx="370080" cy="146520"/>
                  <a:chOff x="6488280" y="4866480"/>
                  <a:chExt cx="370080" cy="14652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V="1">
                    <a:off x="6488280" y="4866480"/>
                    <a:ext cx="36720" cy="65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540840" y="4871880"/>
                    <a:ext cx="60120" cy="141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V="1">
                    <a:off x="6606000" y="4866480"/>
                    <a:ext cx="60120" cy="141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683760" y="4871880"/>
                    <a:ext cx="60120" cy="141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V="1">
                    <a:off x="6748560" y="4866480"/>
                    <a:ext cx="60480" cy="141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flipV="1">
                    <a:off x="6821640" y="4866480"/>
                    <a:ext cx="36720" cy="65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" name=""/>
                <p:cNvSpPr/>
                <p:nvPr/>
              </p:nvSpPr>
              <p:spPr>
                <a:xfrm>
                  <a:off x="6874200" y="4936680"/>
                  <a:ext cx="293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6950520" y="4947840"/>
                  <a:ext cx="141120" cy="217440"/>
                  <a:chOff x="6950520" y="4947840"/>
                  <a:chExt cx="141120" cy="21744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6950520" y="5028840"/>
                    <a:ext cx="141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6950520" y="5073480"/>
                    <a:ext cx="141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7015320" y="494784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015320" y="508428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7" name=""/>
              <p:cNvSpPr/>
              <p:nvPr/>
            </p:nvSpPr>
            <p:spPr>
              <a:xfrm>
                <a:off x="1833840" y="4625640"/>
                <a:ext cx="152280" cy="1522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33840" y="5082840"/>
                <a:ext cx="152280" cy="1522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320240" y="576864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6036120" y="5322600"/>
                <a:ext cx="141120" cy="217440"/>
                <a:chOff x="6036120" y="5322600"/>
                <a:chExt cx="141120" cy="2174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036120" y="5403240"/>
                  <a:ext cx="141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36120" y="5447880"/>
                  <a:ext cx="141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00920" y="5322600"/>
                  <a:ext cx="0" cy="8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100920" y="5459040"/>
                  <a:ext cx="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6100920" y="49417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078960" y="490680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20240" y="393984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26440" y="3993840"/>
                <a:ext cx="38160" cy="44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6177240" y="3795480"/>
                <a:ext cx="990720" cy="457200"/>
                <a:chOff x="6177240" y="3795480"/>
                <a:chExt cx="990720" cy="4572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6177240" y="3795480"/>
                  <a:ext cx="990720" cy="45720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98040" y="4003200"/>
                  <a:ext cx="39600" cy="367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42" name=""/>
                <p:cNvGraphicFramePr/>
                <p:nvPr/>
              </p:nvGraphicFramePr>
              <p:xfrm>
                <a:off x="6185160" y="3925440"/>
                <a:ext cx="387360" cy="2048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4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85160" y="3925440"/>
                          <a:ext cx="387360" cy="204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244" name=""/>
                <p:cNvGrpSpPr/>
                <p:nvPr/>
              </p:nvGrpSpPr>
              <p:grpSpPr>
                <a:xfrm>
                  <a:off x="6488280" y="3954240"/>
                  <a:ext cx="370080" cy="145440"/>
                  <a:chOff x="6488280" y="3954240"/>
                  <a:chExt cx="370080" cy="14544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V="1">
                    <a:off x="6488280" y="3954240"/>
                    <a:ext cx="36720" cy="64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6540840" y="3958920"/>
                    <a:ext cx="60120" cy="140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V="1">
                    <a:off x="6606000" y="3954240"/>
                    <a:ext cx="60120" cy="141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6683760" y="3958920"/>
                    <a:ext cx="60120" cy="140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V="1">
                    <a:off x="6748560" y="3954240"/>
                    <a:ext cx="60480" cy="141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flipV="1">
                    <a:off x="6821640" y="3954240"/>
                    <a:ext cx="36720" cy="64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6874200" y="4024080"/>
                  <a:ext cx="293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" name=""/>
                <p:cNvGrpSpPr/>
                <p:nvPr/>
              </p:nvGrpSpPr>
              <p:grpSpPr>
                <a:xfrm>
                  <a:off x="6950520" y="4035240"/>
                  <a:ext cx="141120" cy="217440"/>
                  <a:chOff x="6950520" y="4035240"/>
                  <a:chExt cx="141120" cy="21744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6950520" y="4116240"/>
                    <a:ext cx="141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6950520" y="4160880"/>
                    <a:ext cx="141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015320" y="403524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015320" y="417168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7" name=""/>
              <p:cNvSpPr/>
              <p:nvPr/>
            </p:nvSpPr>
            <p:spPr>
              <a:xfrm>
                <a:off x="7166160" y="5854320"/>
                <a:ext cx="1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166160" y="4022280"/>
                <a:ext cx="1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6945480" y="4252680"/>
                <a:ext cx="137880" cy="152280"/>
                <a:chOff x="6945480" y="4252680"/>
                <a:chExt cx="137880" cy="1522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013520" y="425268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945480" y="4304880"/>
                  <a:ext cx="137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973920" y="4358880"/>
                  <a:ext cx="82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007400" y="4404960"/>
                  <a:ext cx="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45480" y="5165280"/>
                <a:ext cx="137880" cy="152280"/>
                <a:chOff x="6945480" y="5165280"/>
                <a:chExt cx="137880" cy="1522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13520" y="516528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45480" y="5217480"/>
                  <a:ext cx="137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973920" y="5271480"/>
                  <a:ext cx="82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007400" y="5317560"/>
                  <a:ext cx="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6945480" y="6081480"/>
                <a:ext cx="137880" cy="152280"/>
                <a:chOff x="6945480" y="6081480"/>
                <a:chExt cx="137880" cy="1522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7013520" y="608148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945480" y="6133680"/>
                  <a:ext cx="137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973920" y="6187680"/>
                  <a:ext cx="82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007400" y="6233760"/>
                  <a:ext cx="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177240" y="5625720"/>
                <a:ext cx="990720" cy="457200"/>
                <a:chOff x="6177240" y="5625720"/>
                <a:chExt cx="990720" cy="4572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177240" y="5625720"/>
                  <a:ext cx="990720" cy="457200"/>
                </a:xfrm>
                <a:prstGeom prst="rect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998040" y="5833440"/>
                  <a:ext cx="39600" cy="367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77" name=""/>
                <p:cNvGraphicFramePr/>
                <p:nvPr/>
              </p:nvGraphicFramePr>
              <p:xfrm>
                <a:off x="6185160" y="5755680"/>
                <a:ext cx="387360" cy="2048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78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185160" y="5755680"/>
                          <a:ext cx="387360" cy="204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279" name=""/>
                <p:cNvGrpSpPr/>
                <p:nvPr/>
              </p:nvGrpSpPr>
              <p:grpSpPr>
                <a:xfrm>
                  <a:off x="6488280" y="5784480"/>
                  <a:ext cx="370080" cy="145440"/>
                  <a:chOff x="6488280" y="5784480"/>
                  <a:chExt cx="370080" cy="14544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flipV="1">
                    <a:off x="6488280" y="5784480"/>
                    <a:ext cx="36720" cy="64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540840" y="5789160"/>
                    <a:ext cx="60120" cy="140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V="1">
                    <a:off x="6606000" y="5784480"/>
                    <a:ext cx="60120" cy="141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683760" y="5789160"/>
                    <a:ext cx="60120" cy="140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V="1">
                    <a:off x="6748560" y="5784480"/>
                    <a:ext cx="60480" cy="141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6821640" y="5784480"/>
                    <a:ext cx="36720" cy="64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>
                  <a:off x="6874200" y="5854320"/>
                  <a:ext cx="293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" name=""/>
                <p:cNvGrpSpPr/>
                <p:nvPr/>
              </p:nvGrpSpPr>
              <p:grpSpPr>
                <a:xfrm>
                  <a:off x="6950520" y="5865480"/>
                  <a:ext cx="141120" cy="217440"/>
                  <a:chOff x="6950520" y="5865480"/>
                  <a:chExt cx="1411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6950520" y="5946480"/>
                    <a:ext cx="141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950520" y="5991120"/>
                    <a:ext cx="141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7015320" y="586548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015320" y="600192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0" y="2286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location of C_comp is impor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2160" y="990720"/>
            <a:ext cx="770256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_comp influences the amount of GND and Vcc bou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istribution of total die capacitance between Vcc and GND pins reduces the amount of current in the individual pins due to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_comp also acts as a decoupling capac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eries combination of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the poullup and pulldown transistors forms a decoupling capacitor between Vcc and 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15383" t="5810" r="6155" b="8716"/>
          <a:stretch/>
        </p:blipFill>
        <p:spPr>
          <a:xfrm>
            <a:off x="2347920" y="2960640"/>
            <a:ext cx="4449600" cy="3424320"/>
          </a:xfrm>
          <a:prstGeom prst="rect">
            <a:avLst/>
          </a:prstGeom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440" y="2286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leed through ef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71600" y="942840"/>
            <a:ext cx="8204040" cy="5229360"/>
            <a:chOff x="471600" y="942840"/>
            <a:chExt cx="8204040" cy="5229360"/>
          </a:xfrm>
        </p:grpSpPr>
        <p:sp>
          <p:nvSpPr>
            <p:cNvPr id="297" name=""/>
            <p:cNvSpPr/>
            <p:nvPr/>
          </p:nvSpPr>
          <p:spPr>
            <a:xfrm>
              <a:off x="4681440" y="942840"/>
              <a:ext cx="3994200" cy="51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27160" indent="-227160">
                <a:buClr>
                  <a:srgbClr val="000000"/>
                </a:buClr>
                <a:buFont typeface="Times New Roman"/>
                <a:buChar char="•"/>
                <a:tabLst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bump preceding the falling edge is a capacitive coupling of the gate voltage to the output p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79320" indent="-33804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"/>
                <a:tabLst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f this V-t curve is used as a scaling coefficient to the pulldown I-V curve, the coefficient will go negative during for the duration of the bump (to push u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79320" indent="-33804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"/>
                <a:tabLst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 reality, the current for the gate to pad capacitor comes from the supply rail (for the falling edge and for an inverting transist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79320" indent="-33804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"/>
                <a:tabLst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f the predriver is connected to a different supply rail, this current may bounce another power p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"/>
            <a:srcRect l="13206" t="9096" r="6068" b="4043"/>
            <a:stretch/>
          </p:blipFill>
          <p:spPr>
            <a:xfrm>
              <a:off x="471600" y="1079280"/>
              <a:ext cx="4132080" cy="314172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  <a:effectLst>
              <a:outerShdw dist="125751" dir="2700000" blurRad="0" rotWithShape="0">
                <a:srgbClr val="919191"/>
              </a:outerShdw>
            </a:effectLst>
          </p:spPr>
        </p:pic>
        <p:grpSp>
          <p:nvGrpSpPr>
            <p:cNvPr id="299" name=""/>
            <p:cNvGrpSpPr/>
            <p:nvPr/>
          </p:nvGrpSpPr>
          <p:grpSpPr>
            <a:xfrm>
              <a:off x="1363680" y="4419360"/>
              <a:ext cx="2347920" cy="1752840"/>
              <a:chOff x="1363680" y="4419360"/>
              <a:chExt cx="2347920" cy="1752840"/>
            </a:xfrm>
          </p:grpSpPr>
          <p:sp>
            <p:nvSpPr>
              <p:cNvPr id="300" name=""/>
              <p:cNvSpPr/>
              <p:nvPr/>
            </p:nvSpPr>
            <p:spPr>
              <a:xfrm>
                <a:off x="1363680" y="4419360"/>
                <a:ext cx="2347920" cy="1752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17181" dir="2438368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1578960" y="4425840"/>
                <a:ext cx="2046240" cy="1627560"/>
                <a:chOff x="1578960" y="4425840"/>
                <a:chExt cx="2046240" cy="16275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569680" y="546732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569680" y="53146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026880" y="5238720"/>
                  <a:ext cx="152640" cy="152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" name=""/>
                <p:cNvGrpSpPr/>
                <p:nvPr/>
              </p:nvGrpSpPr>
              <p:grpSpPr>
                <a:xfrm>
                  <a:off x="2264760" y="5238720"/>
                  <a:ext cx="304560" cy="304560"/>
                  <a:chOff x="2264760" y="5238720"/>
                  <a:chExt cx="304560" cy="3045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2417040" y="5238720"/>
                    <a:ext cx="0" cy="304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341080" y="5314680"/>
                    <a:ext cx="0" cy="151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417040" y="5314680"/>
                    <a:ext cx="152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417040" y="5466960"/>
                    <a:ext cx="152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>
                    <a:off x="2264760" y="5391000"/>
                    <a:ext cx="75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1578960" y="5543280"/>
                  <a:ext cx="381240" cy="304920"/>
                  <a:chOff x="1578960" y="5543280"/>
                  <a:chExt cx="381240" cy="30492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1807920" y="5543280"/>
                    <a:ext cx="0" cy="3049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1731600" y="561960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1807920" y="5619600"/>
                    <a:ext cx="152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1807920" y="5771880"/>
                    <a:ext cx="152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>
                    <a:off x="1578960" y="5695560"/>
                    <a:ext cx="152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" name=""/>
                <p:cNvSpPr/>
                <p:nvPr/>
              </p:nvSpPr>
              <p:spPr>
                <a:xfrm>
                  <a:off x="1960200" y="516240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960200" y="5391000"/>
                  <a:ext cx="304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960200" y="539100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960200" y="5771880"/>
                  <a:ext cx="0" cy="152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960200" y="4857480"/>
                  <a:ext cx="0" cy="152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2341080" y="5619600"/>
                  <a:ext cx="75960" cy="152280"/>
                  <a:chOff x="2341080" y="5619600"/>
                  <a:chExt cx="75960" cy="15228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2341080" y="5619600"/>
                    <a:ext cx="0" cy="15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2417040" y="5619600"/>
                    <a:ext cx="0" cy="15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2341080" y="5010120"/>
                  <a:ext cx="75960" cy="152280"/>
                  <a:chOff x="2341080" y="5010120"/>
                  <a:chExt cx="75960" cy="15228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2341080" y="5010120"/>
                    <a:ext cx="0" cy="15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417040" y="5010120"/>
                    <a:ext cx="0" cy="15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2722320" y="5466960"/>
                  <a:ext cx="152280" cy="75960"/>
                  <a:chOff x="2722320" y="5466960"/>
                  <a:chExt cx="152280" cy="7596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2722320" y="55429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722320" y="546696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>
                  <a:off x="2798280" y="5314680"/>
                  <a:ext cx="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798280" y="5543280"/>
                  <a:ext cx="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2569320" y="569592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>
                  <a:off x="2417040" y="5695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2188440" y="5695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188800" y="5391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2188440" y="508608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188800" y="508608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417400" y="508608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798280" y="5086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150640" y="53528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530080" y="56577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760480" y="5279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922040" y="5349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883880" y="4857480"/>
                  <a:ext cx="152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1883880" y="5924520"/>
                  <a:ext cx="152280" cy="85680"/>
                  <a:chOff x="1883880" y="5924520"/>
                  <a:chExt cx="152280" cy="8568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1883880" y="5924520"/>
                    <a:ext cx="152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1922040" y="5967360"/>
                    <a:ext cx="75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1950480" y="6010200"/>
                    <a:ext cx="19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2493720" y="5924520"/>
                  <a:ext cx="152280" cy="85680"/>
                  <a:chOff x="2493720" y="5924520"/>
                  <a:chExt cx="152280" cy="856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2493720" y="5924520"/>
                    <a:ext cx="152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531880" y="5967360"/>
                    <a:ext cx="75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560320" y="6010200"/>
                    <a:ext cx="19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" name=""/>
                <p:cNvSpPr/>
                <p:nvPr/>
              </p:nvSpPr>
              <p:spPr>
                <a:xfrm>
                  <a:off x="2107800" y="4719600"/>
                  <a:ext cx="1065240" cy="220680"/>
                </a:xfrm>
                <a:custGeom>
                  <a:avLst/>
                  <a:gdLst/>
                  <a:ahLst/>
                  <a:rect l="l" t="t" r="r" b="b"/>
                  <a:pathLst>
                    <a:path w="638" h="139">
                      <a:moveTo>
                        <a:pt x="0" y="0"/>
                      </a:moveTo>
                      <a:cubicBezTo>
                        <a:pt x="37" y="46"/>
                        <a:pt x="74" y="93"/>
                        <a:pt x="180" y="116"/>
                      </a:cubicBezTo>
                      <a:cubicBezTo>
                        <a:pt x="286" y="139"/>
                        <a:pt x="462" y="138"/>
                        <a:pt x="638" y="137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271600" y="442584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I</a:t>
                  </a:r>
                  <a:r>
                    <a:rPr b="0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bum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" name=""/>
                <p:cNvGrpSpPr/>
                <p:nvPr/>
              </p:nvGrpSpPr>
              <p:grpSpPr>
                <a:xfrm>
                  <a:off x="1579320" y="4933800"/>
                  <a:ext cx="380880" cy="304560"/>
                  <a:chOff x="1579320" y="4933800"/>
                  <a:chExt cx="380880" cy="3045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1807920" y="4933800"/>
                    <a:ext cx="0" cy="30456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731600" y="500976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1807920" y="5009760"/>
                    <a:ext cx="152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1807920" y="5162400"/>
                    <a:ext cx="152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>
                    <a:off x="1579320" y="5086080"/>
                    <a:ext cx="763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1655640" y="5047920"/>
                    <a:ext cx="75960" cy="763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3" name=""/>
                <p:cNvSpPr/>
                <p:nvPr/>
              </p:nvSpPr>
              <p:spPr>
                <a:xfrm>
                  <a:off x="2943000" y="5460840"/>
                  <a:ext cx="220680" cy="568440"/>
                </a:xfrm>
                <a:custGeom>
                  <a:avLst/>
                  <a:gdLst/>
                  <a:ahLst/>
                  <a:rect l="l" t="t" r="r" b="b"/>
                  <a:pathLst>
                    <a:path w="139" h="234">
                      <a:moveTo>
                        <a:pt x="139" y="0"/>
                      </a:moveTo>
                      <a:cubicBezTo>
                        <a:pt x="92" y="14"/>
                        <a:pt x="46" y="29"/>
                        <a:pt x="23" y="68"/>
                      </a:cubicBezTo>
                      <a:cubicBezTo>
                        <a:pt x="0" y="107"/>
                        <a:pt x="1" y="170"/>
                        <a:pt x="3" y="234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009960" y="5543280"/>
                  <a:ext cx="6152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I</a:t>
                  </a:r>
                  <a:r>
                    <a:rPr b="0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edg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" y="2286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sclai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84280" y="1793880"/>
            <a:ext cx="618012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foils discuss some of my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ave no answers to many of the detail questions that the ideas may raise, and I have no definite methodologies worked out regarding their practical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take them further with your own thinking or prove them us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440" y="2286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eling with transfer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38240" y="1233360"/>
            <a:ext cx="707076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be pin-to-pin characteristics as a complex impedance or conductance (or transfer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ive and inductive parasitics across driver transistor could also be described this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xpression needs to be time varying because of the tran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xpression must also be a function of voltage (Vcc to GND, I/O to GND) to account for the non linearities of I-V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expressions are needed for high-to-low, low-to-high (high-to-highZ, low-to-highZ, highZ-to-low, highZ-to-high) transitions and/or the receive (highZ) or terminator (not-so-highZ)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implest model for a pulldown or pullup stage should be a three-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hree ports are Vcc, GND, and the I/O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-ports are necessary to account for the bump current cor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440" y="2286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ower distribution on the d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79600" y="1662120"/>
            <a:ext cx="618948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urrent to a buffer may be supplied by multiple power and GND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 and GND interconnects (rails) on the die must be described more accurately to be able to account for on die supply bounce prope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do we know from which pin does the current really come fr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turn path of the current may vary, but we need to know what it is to find out whether the chip/system 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40" y="2286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el a component as a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31760" y="1644480"/>
            <a:ext cx="70851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ogy: transmission lin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ship between any input and any output node is character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be pin-to-pin relationships of a component similarly, in the form of a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s = power and GND pins (or pa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(s) = I/O pins (or pa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 the (time varying, voltage dependent) transfer characteristics between an I/O pin (or pad) and all power and GND pins (or pa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 rail characteristics will become available this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would show how current is delivered to an I/O pin (or pad)  from multiple power and GND pins (or pa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path of the current would be known more accur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" y="2286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71760" y="1968480"/>
            <a:ext cx="420516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types and their characteristics (backgr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s and cons about the use of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accuracy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286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essence of various model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6160" y="992160"/>
            <a:ext cx="75916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 (transistor)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tage/current/capacitance relationships of device nodes are calculated with detailed equations using device geometry, and properties of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d data is curve fitted to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driven transisto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tage/current/capacitance relationships of device nodes are based on I/C/V lookup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ables are generated from full SPICE model simulations and/or die level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ay be curve fitted to equations for more efficiency and flex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(or behavioral)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/voltage/time relationships of entire buffer are based on lookup tables (I/V and V/t curv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ables are generated from full SPICE model simulations and/or external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ay be curve fitted to equations for more efficiency and flex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odel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0040" y="844560"/>
            <a:ext cx="76039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 (transistor)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ates very slowly, because voltage/current relationships are calculated from lower leve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device in the buffer modeled/simulated individu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t for circuit desig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 slow for system level interconnect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reve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cess and circuit Intellectual 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driven transisto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ates faster, because voltage/current relationships are given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device in the buffer modeled individu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suitable for system leve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800" spc="-1" strike="noStrike" u="sng">
                <a:solidFill>
                  <a:srgbClr val="009900"/>
                </a:solidFill>
                <a:uFillTx/>
                <a:latin typeface="Times New Roman"/>
              </a:rPr>
              <a:t>hid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cess, but still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reve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ircuit Intellectual 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(or behavioral)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ates fastest, because voltage/current/time relationships are given only for the external nodes of the entire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circuit detail inv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less for circuit desig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l for system level interconnect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US" sz="1800" spc="-1" strike="noStrike" u="sng">
                <a:solidFill>
                  <a:srgbClr val="009900"/>
                </a:solidFill>
                <a:uFillTx/>
                <a:latin typeface="Times New Roman"/>
              </a:rPr>
              <a:t>hid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oth process and circuit intellectual 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286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reason for speed dif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0040" y="1211400"/>
            <a:ext cx="760392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CE models are not slower because they are based on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ICE models are based on lower level information, such as physical dimensions, properties of material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driven models are not faster because they are table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 driven models are usually faster, but only because they use a higher level device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 tables require a lot of conditional equation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 time depends on the length of the data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-dimensional tables tend to get huge and difficult to han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sions could make the information more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sions could make behavioral modeling more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 new syntax would be required for each new behavi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havioral vs. transistor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79360" y="1065240"/>
            <a:ext cx="67852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tions or data tables are not what makes one model transistor level and the other behavi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ICE models could be re-written to be table driven from raw measurement data (don’t even think of it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 driven models could be re-written to use curve fitted equations instead (may be a good thing to consi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al difference is in the level of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lecular/atomic description of materials (crystal stru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 behavior in crystal structure (mobility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metric device description (width, length, thickn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ies of materials (doping, resistance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/capacitance/voltage relationships on a devic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/capacitance/voltage/time relationships on a buff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13396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l models are “behavioral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0" y="2286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oosing the appropriate model 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43160" y="1344600"/>
            <a:ext cx="46591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omic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t for manufacturing process develo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 much detail for everyone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istor level (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t for circuit desig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 much detail for system desig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istor level (table driv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work for circuit designers, 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ter for system desig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t for system desig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223560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detailed enough for everyone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0" y="2286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ts of us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38240" y="933480"/>
            <a:ext cx="70707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tions are more co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xample, y=ax</a:t>
            </a:r>
            <a:r>
              <a:rPr b="0" lang="en-US" sz="1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bx+c describes a curve for x=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x=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describing the same curve with a data table would require a large number of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ng a surface (2D), volume (3D) or multidimensional problems becomes impossible with data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tions are more flexible and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words require certain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ew buffer behavior requires new assumption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xpression evaluator could take any equation that describes any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tions may be faster than lookup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-then-else operations take longer time with larger data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tions allow easy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., min., max. I-V curves could be scaled versions as a function of temperature and/or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nh, Vinl, C_comp, etc. could be expressed as a function of supply voltage, frequency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0" y="22860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oblems with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09840" y="1711440"/>
            <a:ext cx="6129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ra burden on model 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t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e up with an equation that 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7640" indent="-3380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te coefficients for the equations through curve f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equation based models simulator tools would do less thinking at the expense of the model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uld simulator tools eventually pick up model making al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08:43:34Z</dcterms:created>
  <dc:creator>Arpad Muranyi</dc:creator>
  <dc:description>IBIS face to face summit at DAC 1999
Hilton Hotel
New Orleans, Louisiana
June 21, 1999</dc:description>
  <dc:language>en-US</dc:language>
  <cp:lastModifiedBy>Arpad Muranyi</cp:lastModifiedBy>
  <cp:lastPrinted>1999-06-18T22:42:06Z</cp:lastPrinted>
  <dcterms:modified xsi:type="dcterms:W3CDTF">1999-06-18T22:44:17Z</dcterms:modified>
  <cp:revision>271</cp:revision>
  <dc:subject/>
  <dc:title>Equations in IBIS models?</dc:title>
</cp:coreProperties>
</file>