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33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65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01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33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65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731520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433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165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01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433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165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731520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0440" y="457200"/>
            <a:ext cx="8226360" cy="5943600"/>
            <a:chOff x="460440" y="457200"/>
            <a:chExt cx="8226360" cy="5943600"/>
          </a:xfrm>
        </p:grpSpPr>
        <p:sp>
          <p:nvSpPr>
            <p:cNvPr id="1" name=""/>
            <p:cNvSpPr/>
            <p:nvPr/>
          </p:nvSpPr>
          <p:spPr>
            <a:xfrm>
              <a:off x="893880" y="1019160"/>
              <a:ext cx="0" cy="538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3320" y="457200"/>
              <a:ext cx="59817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71680" y="5867280"/>
              <a:ext cx="401400" cy="201600"/>
            </a:xfrm>
            <a:custGeom>
              <a:avLst/>
              <a:gdLst/>
              <a:ahLst/>
              <a:rect l="l" t="t" r="r" b="b"/>
              <a:pathLst>
                <a:path w="253" h="127">
                  <a:moveTo>
                    <a:pt x="0" y="126"/>
                  </a:moveTo>
                  <a:lnTo>
                    <a:pt x="0" y="0"/>
                  </a:lnTo>
                  <a:lnTo>
                    <a:pt x="252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77720" y="593424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685E429-3B05-42A6-AFD3-10098BB3814F}" type="slidenum"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705720" y="63828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Cadence%20Logo%20Web%20Red" descr=""/>
            <p:cNvPicPr/>
            <p:nvPr/>
          </p:nvPicPr>
          <p:blipFill>
            <a:blip r:embed="rId2"/>
            <a:stretch/>
          </p:blipFill>
          <p:spPr>
            <a:xfrm>
              <a:off x="7351560" y="855720"/>
              <a:ext cx="133524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460440" y="644400"/>
              <a:ext cx="446040" cy="45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90640" y="644400"/>
              <a:ext cx="3427200" cy="374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49440" indent="-1731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60440" y="457200"/>
            <a:ext cx="8226360" cy="5943600"/>
            <a:chOff x="460440" y="457200"/>
            <a:chExt cx="8226360" cy="5943600"/>
          </a:xfrm>
        </p:grpSpPr>
        <p:sp>
          <p:nvSpPr>
            <p:cNvPr id="48" name=""/>
            <p:cNvSpPr/>
            <p:nvPr/>
          </p:nvSpPr>
          <p:spPr>
            <a:xfrm>
              <a:off x="733320" y="457200"/>
              <a:ext cx="59817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98560" y="1092240"/>
              <a:ext cx="0" cy="530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05720" y="63828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Cadence%20Logo%20Web%20Red%20Title" descr=""/>
            <p:cNvPicPr/>
            <p:nvPr/>
          </p:nvPicPr>
          <p:blipFill>
            <a:blip r:embed="rId2"/>
            <a:stretch/>
          </p:blipFill>
          <p:spPr>
            <a:xfrm>
              <a:off x="4313160" y="1731960"/>
              <a:ext cx="24210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644400"/>
              <a:ext cx="446040" cy="45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90640" y="644400"/>
              <a:ext cx="3427200" cy="374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848600" y="6127560"/>
            <a:ext cx="28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dence Design System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2590560"/>
            <a:ext cx="7315200" cy="21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piTran: A GUI for S2IBIS2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ike LaBonte</a:t>
            </a:r>
            <a:br>
              <a:rPr sz="3400"/>
            </a:br>
            <a:br>
              <a:rPr sz="34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BIS Summit 21 June 1999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4267080"/>
            <a:ext cx="214308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nstantiated Subckts 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257800" cy="3695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0" y="1981080"/>
            <a:ext cx="198108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stantiated subckts appear in the lower  section. Change the node names to establish the test circuit net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ode names se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257800" cy="3695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781680" y="1981080"/>
            <a:ext cx="2057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“Configure Net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elling S2IBIS How Each Node is Used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4010040" cy="3152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562720" y="1981080"/>
            <a:ext cx="30477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how each external node is to be used by s2ibis. The pin  type of each node  is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odes Configured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4010040" cy="3152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62720" y="1981080"/>
            <a:ext cx="304776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rcvrout” node is unused by s2ibis, so it must be “floated” with a terminating resistor. Click “OK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repare the S2IBIS Control Fil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257800" cy="3695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781680" y="1981080"/>
            <a:ext cx="18288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“Options”  item from the “Translate” men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ode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62920" y="1981080"/>
            <a:ext cx="14475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nodes to be used for power, ground, enabl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ode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238880" y="1981080"/>
            <a:ext cx="14479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simulator to be used, and other s2ibis o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Voltage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238880" y="1981080"/>
            <a:ext cx="144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ol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emperature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238880" y="1981080"/>
            <a:ext cx="1676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emper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timulus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1981080"/>
            <a:ext cx="144792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simulation duration and input stimulus times and vol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piTran: A GUI for S2IBIS2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ritten as a Java application - platform port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udits SPICE fi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pares top level test circui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pares S2IBIS control fi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uns NCSU s2ibis2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odel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238880" y="1981080"/>
            <a:ext cx="14479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logic thresholds and C_CO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Buffer Delay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238880" y="1981080"/>
            <a:ext cx="14479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meas and test fixture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VT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238880" y="1981080"/>
            <a:ext cx="14479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est fixture values for 1st wavefor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VT Options for 2nd Waveform Se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238880" y="1981080"/>
            <a:ext cx="14479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est fixture values for 2nd waveform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Ramp Load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238880" y="1981080"/>
            <a:ext cx="144792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load resistance for ramp time sim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ost-Processing Option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695920" cy="3391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238880" y="1981080"/>
            <a:ext cx="14479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derating values for optional curve post-proce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Running S2IBI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257800" cy="3695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858000" y="1981080"/>
            <a:ext cx="14479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“Execute” item from the “Translate” men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2IBIS Messag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19128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BIS Model File in Project Director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172200" cy="453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piTran Main Window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257800" cy="3695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010280" y="1981080"/>
            <a:ext cx="1828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he “New Document” ic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reating a New Project Directory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4076640" cy="1866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629400" y="2057400"/>
            <a:ext cx="2286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ter the name of a new directory and click “Crea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mport a SPICE File To the Projec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114880" cy="3467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781680" y="1981080"/>
            <a:ext cx="190512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elected SPICE file is copied into the project directory. Required process library files may be added here. Click “OK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PICE File Audi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4829040" cy="3152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781680" y="1981080"/>
            <a:ext cx="190512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PICE file is audited for elements that look like a built-in test fixture. Click “Edit Spice” to remove them, and then “Repars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ontents of iobuff.sp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905120"/>
            <a:ext cx="77724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SUBCKT IO_IN  OUT  IN VDD VSSD1   IN  VDD  DD2   VSS IN  DR1   IN  1   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1    OUT    1  VDD    VDD    pm    L =  5U     W = 120.00U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2    OUT    1  VSS    VSS    nm    L =  5U     W = 50.00U .ENDS IO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SUBCKT IO_TEST_LOA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1 LOAD 1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1 1 0 1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1 LOAD 0 10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XOUT 1 2 3 4 5 IO_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XIN 6 1 4 5 IO_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XLOAD 1 IO_TEST_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VDD 4 0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VSS 5 0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VDATA 2 0 PULSE(0 5 0 10n 10n 50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VENA 3 0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RDUM 6 0 1e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simulator lang = spec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el pm mos0 type=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el nm mos0 type=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el d  di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mulator lang = sp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5880" y="3048120"/>
            <a:ext cx="2514600" cy="1097640"/>
          </a:xfrm>
          <a:prstGeom prst="borderCallout2">
            <a:avLst>
              <a:gd name="adj1" fmla="val 18750"/>
              <a:gd name="adj2" fmla="val -8333"/>
              <a:gd name="adj3" fmla="val 10171"/>
              <a:gd name="adj4" fmla="val -47851"/>
              <a:gd name="adj5" fmla="val 159375"/>
              <a:gd name="adj6" fmla="val -94314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ain circuit is a test fixture and must be commented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Passes Audit without Warning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4829040" cy="3152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781680" y="1981080"/>
            <a:ext cx="19051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fixed-up file now passes the audit cleanly. Click “Continu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ain Window Shows Available Subckt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5257800" cy="3695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0" y="1981080"/>
            <a:ext cx="2057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subckt definitions are found in the SPICE file. Select “IO_OUT” and “IO_IN”, and click “Instantiat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5T17:43:29Z</dcterms:created>
  <dc:creator>Keith Felton - Cadence Design Systems, Inc.</dc:creator>
  <dc:description/>
  <dc:language>en-US</dc:language>
  <cp:lastModifiedBy>Cadence Design Systems, Inc.</cp:lastModifiedBy>
  <cp:lastPrinted>1999-06-17T20:41:28Z</cp:lastPrinted>
  <dcterms:modified xsi:type="dcterms:W3CDTF">1999-06-17T20:42:54Z</dcterms:modified>
  <cp:revision>147</cp:revision>
  <dc:subject/>
  <dc:title>Early - Mid 1990’s</dc:title>
</cp:coreProperties>
</file>