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DFD-7E8A-4A3D-A4CE-9B45CE00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316-BE7E-4E66-ACBD-0D8492B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F41-DA70-4D7E-AB7D-2A159CEC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CB6-F395-48FA-B6BD-56F703D6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47C1-2001-487C-A596-0560C4A5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9CB-4002-4902-994B-F87CEE05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B7C-273C-45CB-B236-19697D69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2B31-B036-4D0D-8F31-7C0DCA5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C572-BB33-4B6B-8F5E-2EB855A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9D42-4ACE-43B5-9CD9-6EB5041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E9F-84A1-4761-AA55-1F6F4C4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7D1-F571-4917-9527-F5AF3CA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C798-8D1B-46AA-8166-A20F1AE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5380-2C3B-4918-BB5D-285CD82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78D2-CD89-4BAA-869C-7405D0B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378-B221-4B11-A1F4-5EFECE0B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86A0-5DEE-4B48-A63A-6F10E382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04D-2294-463F-B145-2AA90937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A4D-1B2C-4DA1-B210-52D4884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709-BE3C-4112-95AC-1092763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5A1-5ACA-4703-892F-318A461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B5B-ACD1-41E5-B310-52E14DF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044-DE26-4F41-888E-79D4F41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640-A73E-475B-A34E-CE1537B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03440"/>
            <a:ext cx="9905760" cy="3454560"/>
            <a:chOff x="0" y="3403440"/>
            <a:chExt cx="9905760" cy="3454560"/>
          </a:xfrm>
        </p:grpSpPr>
        <p:sp>
          <p:nvSpPr>
            <p:cNvPr id="1" name=""/>
            <p:cNvSpPr/>
            <p:nvPr/>
          </p:nvSpPr>
          <p:spPr>
            <a:xfrm>
              <a:off x="0" y="5051520"/>
              <a:ext cx="9905760" cy="1800000"/>
            </a:xfrm>
            <a:custGeom>
              <a:avLst/>
              <a:gdLst/>
              <a:ahLst/>
              <a:rect l="l" t="t" r="r" b="b"/>
              <a:pathLst>
                <a:path w="4312" h="1232">
                  <a:moveTo>
                    <a:pt x="4312" y="616"/>
                  </a:moveTo>
                  <a:lnTo>
                    <a:pt x="4312" y="1232"/>
                  </a:lnTo>
                  <a:lnTo>
                    <a:pt x="0" y="1232"/>
                  </a:lnTo>
                  <a:lnTo>
                    <a:pt x="0" y="0"/>
                  </a:lnTo>
                  <a:cubicBezTo>
                    <a:pt x="50" y="15"/>
                    <a:pt x="103" y="21"/>
                    <a:pt x="147" y="48"/>
                  </a:cubicBezTo>
                  <a:cubicBezTo>
                    <a:pt x="168" y="76"/>
                    <a:pt x="168" y="93"/>
                    <a:pt x="200" y="112"/>
                  </a:cubicBezTo>
                  <a:cubicBezTo>
                    <a:pt x="213" y="149"/>
                    <a:pt x="226" y="139"/>
                    <a:pt x="260" y="160"/>
                  </a:cubicBezTo>
                  <a:cubicBezTo>
                    <a:pt x="317" y="143"/>
                    <a:pt x="367" y="132"/>
                    <a:pt x="425" y="120"/>
                  </a:cubicBezTo>
                  <a:cubicBezTo>
                    <a:pt x="454" y="114"/>
                    <a:pt x="475" y="97"/>
                    <a:pt x="503" y="88"/>
                  </a:cubicBezTo>
                  <a:cubicBezTo>
                    <a:pt x="540" y="99"/>
                    <a:pt x="616" y="112"/>
                    <a:pt x="616" y="112"/>
                  </a:cubicBezTo>
                  <a:cubicBezTo>
                    <a:pt x="665" y="142"/>
                    <a:pt x="643" y="169"/>
                    <a:pt x="677" y="200"/>
                  </a:cubicBezTo>
                  <a:cubicBezTo>
                    <a:pt x="684" y="207"/>
                    <a:pt x="695" y="210"/>
                    <a:pt x="703" y="216"/>
                  </a:cubicBezTo>
                  <a:cubicBezTo>
                    <a:pt x="721" y="231"/>
                    <a:pt x="755" y="264"/>
                    <a:pt x="755" y="264"/>
                  </a:cubicBezTo>
                  <a:cubicBezTo>
                    <a:pt x="801" y="253"/>
                    <a:pt x="838" y="248"/>
                    <a:pt x="868" y="288"/>
                  </a:cubicBezTo>
                  <a:cubicBezTo>
                    <a:pt x="859" y="293"/>
                    <a:pt x="846" y="295"/>
                    <a:pt x="842" y="304"/>
                  </a:cubicBezTo>
                  <a:cubicBezTo>
                    <a:pt x="838" y="312"/>
                    <a:pt x="854" y="320"/>
                    <a:pt x="850" y="328"/>
                  </a:cubicBezTo>
                  <a:cubicBezTo>
                    <a:pt x="846" y="337"/>
                    <a:pt x="833" y="339"/>
                    <a:pt x="824" y="344"/>
                  </a:cubicBezTo>
                  <a:cubicBezTo>
                    <a:pt x="843" y="394"/>
                    <a:pt x="875" y="408"/>
                    <a:pt x="928" y="424"/>
                  </a:cubicBezTo>
                  <a:cubicBezTo>
                    <a:pt x="960" y="414"/>
                    <a:pt x="983" y="400"/>
                    <a:pt x="1015" y="392"/>
                  </a:cubicBezTo>
                  <a:cubicBezTo>
                    <a:pt x="1068" y="402"/>
                    <a:pt x="1107" y="423"/>
                    <a:pt x="1163" y="432"/>
                  </a:cubicBezTo>
                  <a:cubicBezTo>
                    <a:pt x="1197" y="453"/>
                    <a:pt x="1232" y="475"/>
                    <a:pt x="1267" y="496"/>
                  </a:cubicBezTo>
                  <a:cubicBezTo>
                    <a:pt x="1297" y="515"/>
                    <a:pt x="1332" y="551"/>
                    <a:pt x="1371" y="560"/>
                  </a:cubicBezTo>
                  <a:cubicBezTo>
                    <a:pt x="1396" y="566"/>
                    <a:pt x="1423" y="565"/>
                    <a:pt x="1449" y="568"/>
                  </a:cubicBezTo>
                  <a:cubicBezTo>
                    <a:pt x="1516" y="583"/>
                    <a:pt x="1592" y="572"/>
                    <a:pt x="1657" y="552"/>
                  </a:cubicBezTo>
                  <a:cubicBezTo>
                    <a:pt x="1674" y="555"/>
                    <a:pt x="1694" y="552"/>
                    <a:pt x="1709" y="560"/>
                  </a:cubicBezTo>
                  <a:cubicBezTo>
                    <a:pt x="1717" y="564"/>
                    <a:pt x="1712" y="577"/>
                    <a:pt x="1718" y="584"/>
                  </a:cubicBezTo>
                  <a:cubicBezTo>
                    <a:pt x="1733" y="601"/>
                    <a:pt x="1758" y="603"/>
                    <a:pt x="1779" y="608"/>
                  </a:cubicBezTo>
                  <a:cubicBezTo>
                    <a:pt x="1795" y="623"/>
                    <a:pt x="1817" y="632"/>
                    <a:pt x="1831" y="648"/>
                  </a:cubicBezTo>
                  <a:cubicBezTo>
                    <a:pt x="1840" y="659"/>
                    <a:pt x="1847" y="719"/>
                    <a:pt x="1848" y="720"/>
                  </a:cubicBezTo>
                  <a:cubicBezTo>
                    <a:pt x="1855" y="732"/>
                    <a:pt x="1888" y="741"/>
                    <a:pt x="1900" y="744"/>
                  </a:cubicBezTo>
                  <a:cubicBezTo>
                    <a:pt x="1953" y="758"/>
                    <a:pt x="1991" y="777"/>
                    <a:pt x="2039" y="792"/>
                  </a:cubicBezTo>
                  <a:cubicBezTo>
                    <a:pt x="2109" y="776"/>
                    <a:pt x="2103" y="770"/>
                    <a:pt x="2160" y="752"/>
                  </a:cubicBezTo>
                  <a:cubicBezTo>
                    <a:pt x="2245" y="763"/>
                    <a:pt x="2332" y="796"/>
                    <a:pt x="2403" y="840"/>
                  </a:cubicBezTo>
                  <a:cubicBezTo>
                    <a:pt x="2476" y="823"/>
                    <a:pt x="2549" y="806"/>
                    <a:pt x="2620" y="784"/>
                  </a:cubicBezTo>
                  <a:cubicBezTo>
                    <a:pt x="2653" y="774"/>
                    <a:pt x="2667" y="741"/>
                    <a:pt x="2698" y="728"/>
                  </a:cubicBezTo>
                  <a:cubicBezTo>
                    <a:pt x="2754" y="705"/>
                    <a:pt x="2795" y="702"/>
                    <a:pt x="2854" y="696"/>
                  </a:cubicBezTo>
                  <a:cubicBezTo>
                    <a:pt x="2925" y="680"/>
                    <a:pt x="2991" y="653"/>
                    <a:pt x="3063" y="640"/>
                  </a:cubicBezTo>
                  <a:cubicBezTo>
                    <a:pt x="3083" y="643"/>
                    <a:pt x="3104" y="641"/>
                    <a:pt x="3123" y="648"/>
                  </a:cubicBezTo>
                  <a:cubicBezTo>
                    <a:pt x="3135" y="652"/>
                    <a:pt x="3140" y="666"/>
                    <a:pt x="3149" y="672"/>
                  </a:cubicBezTo>
                  <a:cubicBezTo>
                    <a:pt x="3157" y="677"/>
                    <a:pt x="3167" y="677"/>
                    <a:pt x="3175" y="680"/>
                  </a:cubicBezTo>
                  <a:cubicBezTo>
                    <a:pt x="3221" y="666"/>
                    <a:pt x="3265" y="673"/>
                    <a:pt x="3306" y="648"/>
                  </a:cubicBezTo>
                  <a:cubicBezTo>
                    <a:pt x="3415" y="682"/>
                    <a:pt x="3532" y="686"/>
                    <a:pt x="3644" y="712"/>
                  </a:cubicBezTo>
                  <a:cubicBezTo>
                    <a:pt x="3666" y="742"/>
                    <a:pt x="3675" y="774"/>
                    <a:pt x="3687" y="808"/>
                  </a:cubicBezTo>
                  <a:cubicBezTo>
                    <a:pt x="3691" y="816"/>
                    <a:pt x="3687" y="829"/>
                    <a:pt x="3696" y="832"/>
                  </a:cubicBezTo>
                  <a:cubicBezTo>
                    <a:pt x="3713" y="837"/>
                    <a:pt x="3748" y="848"/>
                    <a:pt x="3748" y="848"/>
                  </a:cubicBezTo>
                  <a:cubicBezTo>
                    <a:pt x="3798" y="833"/>
                    <a:pt x="3786" y="867"/>
                    <a:pt x="3817" y="824"/>
                  </a:cubicBezTo>
                  <a:cubicBezTo>
                    <a:pt x="3806" y="780"/>
                    <a:pt x="3809" y="760"/>
                    <a:pt x="3843" y="728"/>
                  </a:cubicBezTo>
                  <a:cubicBezTo>
                    <a:pt x="3847" y="715"/>
                    <a:pt x="3841" y="698"/>
                    <a:pt x="3852" y="688"/>
                  </a:cubicBezTo>
                  <a:cubicBezTo>
                    <a:pt x="3865" y="676"/>
                    <a:pt x="3904" y="672"/>
                    <a:pt x="3904" y="672"/>
                  </a:cubicBezTo>
                  <a:cubicBezTo>
                    <a:pt x="3932" y="681"/>
                    <a:pt x="3982" y="712"/>
                    <a:pt x="3982" y="712"/>
                  </a:cubicBezTo>
                  <a:cubicBezTo>
                    <a:pt x="3988" y="728"/>
                    <a:pt x="3996" y="743"/>
                    <a:pt x="4000" y="760"/>
                  </a:cubicBezTo>
                  <a:cubicBezTo>
                    <a:pt x="4003" y="773"/>
                    <a:pt x="4001" y="788"/>
                    <a:pt x="4008" y="800"/>
                  </a:cubicBezTo>
                  <a:cubicBezTo>
                    <a:pt x="4014" y="808"/>
                    <a:pt x="4026" y="811"/>
                    <a:pt x="4034" y="816"/>
                  </a:cubicBezTo>
                  <a:cubicBezTo>
                    <a:pt x="4072" y="804"/>
                    <a:pt x="4102" y="787"/>
                    <a:pt x="4138" y="776"/>
                  </a:cubicBezTo>
                  <a:cubicBezTo>
                    <a:pt x="4172" y="730"/>
                    <a:pt x="4159" y="719"/>
                    <a:pt x="4225" y="704"/>
                  </a:cubicBezTo>
                  <a:cubicBezTo>
                    <a:pt x="4246" y="675"/>
                    <a:pt x="4265" y="677"/>
                    <a:pt x="4286" y="648"/>
                  </a:cubicBezTo>
                  <a:cubicBezTo>
                    <a:pt x="4277" y="625"/>
                    <a:pt x="4312" y="616"/>
                    <a:pt x="4312" y="616"/>
                  </a:cubicBezTo>
                  <a:close/>
                </a:path>
              </a:pathLst>
            </a:cu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852680" y="3403440"/>
              <a:ext cx="2052720" cy="3454560"/>
              <a:chOff x="7852680" y="3403440"/>
              <a:chExt cx="2052720" cy="34545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021520" y="3403440"/>
                <a:ext cx="1681920" cy="1836720"/>
                <a:chOff x="8021520" y="3403440"/>
                <a:chExt cx="1681920" cy="1836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806320" y="3459240"/>
                  <a:ext cx="4536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8728920" y="3403440"/>
                  <a:ext cx="217440" cy="1157040"/>
                </a:xfrm>
                <a:custGeom>
                  <a:avLst/>
                  <a:gdLst/>
                  <a:ahLst/>
                  <a:rect l="l" t="t" r="r" b="b"/>
                  <a:pathLst>
                    <a:path w="225" h="1215">
                      <a:moveTo>
                        <a:pt x="39" y="1146"/>
                      </a:moveTo>
                      <a:lnTo>
                        <a:pt x="87" y="1092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38" y="1095"/>
                      </a:lnTo>
                      <a:lnTo>
                        <a:pt x="183" y="1146"/>
                      </a:lnTo>
                      <a:lnTo>
                        <a:pt x="225" y="1146"/>
                      </a:lnTo>
                      <a:lnTo>
                        <a:pt x="222" y="1212"/>
                      </a:lnTo>
                      <a:lnTo>
                        <a:pt x="0" y="1215"/>
                      </a:lnTo>
                      <a:lnTo>
                        <a:pt x="0" y="1149"/>
                      </a:lnTo>
                      <a:lnTo>
                        <a:pt x="39" y="1146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806320" y="3530880"/>
                  <a:ext cx="4536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793720" y="378324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793720" y="384588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793720" y="390924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793720" y="3971880"/>
                  <a:ext cx="8388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784360" y="4166280"/>
                  <a:ext cx="10404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789040" y="4103280"/>
                  <a:ext cx="9540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787960" y="4034880"/>
                  <a:ext cx="9576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784360" y="4228920"/>
                  <a:ext cx="10404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781120" y="4294800"/>
                  <a:ext cx="11016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763840" y="4357440"/>
                  <a:ext cx="147960" cy="88560"/>
                </a:xfrm>
                <a:custGeom>
                  <a:avLst/>
                  <a:gdLst/>
                  <a:ahLst/>
                  <a:rect l="l" t="t" r="r" b="b"/>
                  <a:pathLst>
                    <a:path w="153" h="93">
                      <a:moveTo>
                        <a:pt x="69" y="93"/>
                      </a:moveTo>
                      <a:lnTo>
                        <a:pt x="30" y="75"/>
                      </a:lnTo>
                      <a:lnTo>
                        <a:pt x="12" y="48"/>
                      </a:lnTo>
                      <a:lnTo>
                        <a:pt x="0" y="9"/>
                      </a:lnTo>
                      <a:lnTo>
                        <a:pt x="24" y="30"/>
                      </a:lnTo>
                      <a:lnTo>
                        <a:pt x="39" y="3"/>
                      </a:lnTo>
                      <a:lnTo>
                        <a:pt x="60" y="27"/>
                      </a:lnTo>
                      <a:lnTo>
                        <a:pt x="93" y="27"/>
                      </a:lnTo>
                      <a:lnTo>
                        <a:pt x="114" y="0"/>
                      </a:lnTo>
                      <a:lnTo>
                        <a:pt x="120" y="27"/>
                      </a:lnTo>
                      <a:lnTo>
                        <a:pt x="153" y="9"/>
                      </a:lnTo>
                      <a:lnTo>
                        <a:pt x="123" y="81"/>
                      </a:lnTo>
                      <a:lnTo>
                        <a:pt x="69" y="93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021520" y="4554720"/>
                  <a:ext cx="1681920" cy="685440"/>
                </a:xfrm>
                <a:custGeom>
                  <a:avLst/>
                  <a:gdLst/>
                  <a:ahLst/>
                  <a:rect l="l" t="t" r="r" b="b"/>
                  <a:pathLst>
                    <a:path w="1740" h="720">
                      <a:moveTo>
                        <a:pt x="954" y="0"/>
                      </a:moveTo>
                      <a:lnTo>
                        <a:pt x="1086" y="105"/>
                      </a:lnTo>
                      <a:lnTo>
                        <a:pt x="1206" y="180"/>
                      </a:lnTo>
                      <a:lnTo>
                        <a:pt x="1353" y="252"/>
                      </a:lnTo>
                      <a:lnTo>
                        <a:pt x="1467" y="291"/>
                      </a:lnTo>
                      <a:lnTo>
                        <a:pt x="1521" y="303"/>
                      </a:lnTo>
                      <a:lnTo>
                        <a:pt x="1581" y="294"/>
                      </a:lnTo>
                      <a:lnTo>
                        <a:pt x="1563" y="318"/>
                      </a:lnTo>
                      <a:lnTo>
                        <a:pt x="1572" y="342"/>
                      </a:lnTo>
                      <a:lnTo>
                        <a:pt x="1620" y="357"/>
                      </a:lnTo>
                      <a:lnTo>
                        <a:pt x="1680" y="354"/>
                      </a:lnTo>
                      <a:lnTo>
                        <a:pt x="1728" y="324"/>
                      </a:lnTo>
                      <a:lnTo>
                        <a:pt x="1740" y="339"/>
                      </a:lnTo>
                      <a:lnTo>
                        <a:pt x="1719" y="351"/>
                      </a:lnTo>
                      <a:lnTo>
                        <a:pt x="1710" y="393"/>
                      </a:lnTo>
                      <a:lnTo>
                        <a:pt x="1734" y="378"/>
                      </a:lnTo>
                      <a:lnTo>
                        <a:pt x="1707" y="414"/>
                      </a:lnTo>
                      <a:lnTo>
                        <a:pt x="1686" y="441"/>
                      </a:lnTo>
                      <a:lnTo>
                        <a:pt x="1698" y="456"/>
                      </a:lnTo>
                      <a:lnTo>
                        <a:pt x="1680" y="468"/>
                      </a:lnTo>
                      <a:lnTo>
                        <a:pt x="1668" y="486"/>
                      </a:lnTo>
                      <a:lnTo>
                        <a:pt x="1650" y="480"/>
                      </a:lnTo>
                      <a:lnTo>
                        <a:pt x="1614" y="510"/>
                      </a:lnTo>
                      <a:lnTo>
                        <a:pt x="1632" y="546"/>
                      </a:lnTo>
                      <a:lnTo>
                        <a:pt x="1632" y="579"/>
                      </a:lnTo>
                      <a:lnTo>
                        <a:pt x="1617" y="561"/>
                      </a:lnTo>
                      <a:lnTo>
                        <a:pt x="1617" y="585"/>
                      </a:lnTo>
                      <a:lnTo>
                        <a:pt x="1632" y="609"/>
                      </a:lnTo>
                      <a:lnTo>
                        <a:pt x="1605" y="609"/>
                      </a:lnTo>
                      <a:lnTo>
                        <a:pt x="1614" y="585"/>
                      </a:lnTo>
                      <a:lnTo>
                        <a:pt x="1614" y="561"/>
                      </a:lnTo>
                      <a:lnTo>
                        <a:pt x="1602" y="576"/>
                      </a:lnTo>
                      <a:lnTo>
                        <a:pt x="1608" y="516"/>
                      </a:lnTo>
                      <a:lnTo>
                        <a:pt x="1569" y="540"/>
                      </a:lnTo>
                      <a:lnTo>
                        <a:pt x="1518" y="558"/>
                      </a:lnTo>
                      <a:lnTo>
                        <a:pt x="1458" y="582"/>
                      </a:lnTo>
                      <a:lnTo>
                        <a:pt x="1407" y="597"/>
                      </a:lnTo>
                      <a:lnTo>
                        <a:pt x="1416" y="618"/>
                      </a:lnTo>
                      <a:lnTo>
                        <a:pt x="1395" y="627"/>
                      </a:lnTo>
                      <a:lnTo>
                        <a:pt x="1377" y="603"/>
                      </a:lnTo>
                      <a:lnTo>
                        <a:pt x="1347" y="606"/>
                      </a:lnTo>
                      <a:lnTo>
                        <a:pt x="1353" y="624"/>
                      </a:lnTo>
                      <a:lnTo>
                        <a:pt x="1335" y="630"/>
                      </a:lnTo>
                      <a:lnTo>
                        <a:pt x="1317" y="615"/>
                      </a:lnTo>
                      <a:lnTo>
                        <a:pt x="1311" y="639"/>
                      </a:lnTo>
                      <a:lnTo>
                        <a:pt x="1263" y="615"/>
                      </a:lnTo>
                      <a:lnTo>
                        <a:pt x="1263" y="642"/>
                      </a:lnTo>
                      <a:lnTo>
                        <a:pt x="1245" y="651"/>
                      </a:lnTo>
                      <a:lnTo>
                        <a:pt x="1218" y="633"/>
                      </a:lnTo>
                      <a:lnTo>
                        <a:pt x="1188" y="693"/>
                      </a:lnTo>
                      <a:lnTo>
                        <a:pt x="1191" y="720"/>
                      </a:lnTo>
                      <a:lnTo>
                        <a:pt x="504" y="717"/>
                      </a:lnTo>
                      <a:lnTo>
                        <a:pt x="498" y="687"/>
                      </a:lnTo>
                      <a:lnTo>
                        <a:pt x="471" y="690"/>
                      </a:lnTo>
                      <a:lnTo>
                        <a:pt x="462" y="663"/>
                      </a:lnTo>
                      <a:lnTo>
                        <a:pt x="417" y="660"/>
                      </a:lnTo>
                      <a:lnTo>
                        <a:pt x="411" y="642"/>
                      </a:lnTo>
                      <a:lnTo>
                        <a:pt x="333" y="681"/>
                      </a:lnTo>
                      <a:lnTo>
                        <a:pt x="306" y="663"/>
                      </a:lnTo>
                      <a:lnTo>
                        <a:pt x="366" y="621"/>
                      </a:lnTo>
                      <a:lnTo>
                        <a:pt x="345" y="615"/>
                      </a:lnTo>
                      <a:lnTo>
                        <a:pt x="258" y="657"/>
                      </a:lnTo>
                      <a:lnTo>
                        <a:pt x="237" y="642"/>
                      </a:lnTo>
                      <a:lnTo>
                        <a:pt x="279" y="603"/>
                      </a:lnTo>
                      <a:lnTo>
                        <a:pt x="120" y="606"/>
                      </a:lnTo>
                      <a:lnTo>
                        <a:pt x="123" y="660"/>
                      </a:lnTo>
                      <a:lnTo>
                        <a:pt x="102" y="657"/>
                      </a:lnTo>
                      <a:lnTo>
                        <a:pt x="81" y="699"/>
                      </a:lnTo>
                      <a:lnTo>
                        <a:pt x="117" y="702"/>
                      </a:lnTo>
                      <a:lnTo>
                        <a:pt x="87" y="651"/>
                      </a:lnTo>
                      <a:lnTo>
                        <a:pt x="105" y="603"/>
                      </a:lnTo>
                      <a:lnTo>
                        <a:pt x="81" y="603"/>
                      </a:lnTo>
                      <a:lnTo>
                        <a:pt x="36" y="579"/>
                      </a:lnTo>
                      <a:lnTo>
                        <a:pt x="12" y="513"/>
                      </a:lnTo>
                      <a:lnTo>
                        <a:pt x="0" y="480"/>
                      </a:lnTo>
                      <a:lnTo>
                        <a:pt x="87" y="474"/>
                      </a:lnTo>
                      <a:lnTo>
                        <a:pt x="162" y="444"/>
                      </a:lnTo>
                      <a:lnTo>
                        <a:pt x="144" y="414"/>
                      </a:lnTo>
                      <a:lnTo>
                        <a:pt x="192" y="417"/>
                      </a:lnTo>
                      <a:lnTo>
                        <a:pt x="252" y="378"/>
                      </a:lnTo>
                      <a:lnTo>
                        <a:pt x="246" y="330"/>
                      </a:lnTo>
                      <a:lnTo>
                        <a:pt x="258" y="318"/>
                      </a:lnTo>
                      <a:lnTo>
                        <a:pt x="270" y="342"/>
                      </a:lnTo>
                      <a:lnTo>
                        <a:pt x="306" y="348"/>
                      </a:lnTo>
                      <a:lnTo>
                        <a:pt x="372" y="312"/>
                      </a:lnTo>
                      <a:lnTo>
                        <a:pt x="360" y="300"/>
                      </a:lnTo>
                      <a:lnTo>
                        <a:pt x="363" y="285"/>
                      </a:lnTo>
                      <a:lnTo>
                        <a:pt x="393" y="297"/>
                      </a:lnTo>
                      <a:lnTo>
                        <a:pt x="597" y="135"/>
                      </a:lnTo>
                      <a:lnTo>
                        <a:pt x="723" y="3"/>
                      </a:lnTo>
                      <a:lnTo>
                        <a:pt x="954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>
                <a:off x="8783640" y="3613680"/>
                <a:ext cx="44280" cy="1656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832600" y="3613680"/>
                <a:ext cx="44280" cy="1656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764920" y="5231160"/>
                <a:ext cx="993600" cy="542880"/>
              </a:xfrm>
              <a:custGeom>
                <a:avLst/>
                <a:gdLst/>
                <a:ahLst/>
                <a:rect l="l" t="t" r="r" b="b"/>
                <a:pathLst>
                  <a:path w="1028" h="570">
                    <a:moveTo>
                      <a:pt x="408" y="8"/>
                    </a:moveTo>
                    <a:lnTo>
                      <a:pt x="574" y="12"/>
                    </a:lnTo>
                    <a:lnTo>
                      <a:pt x="592" y="0"/>
                    </a:lnTo>
                    <a:lnTo>
                      <a:pt x="602" y="6"/>
                    </a:lnTo>
                    <a:lnTo>
                      <a:pt x="576" y="20"/>
                    </a:lnTo>
                    <a:lnTo>
                      <a:pt x="426" y="20"/>
                    </a:lnTo>
                    <a:lnTo>
                      <a:pt x="430" y="38"/>
                    </a:lnTo>
                    <a:lnTo>
                      <a:pt x="570" y="36"/>
                    </a:lnTo>
                    <a:lnTo>
                      <a:pt x="596" y="24"/>
                    </a:lnTo>
                    <a:lnTo>
                      <a:pt x="596" y="36"/>
                    </a:lnTo>
                    <a:lnTo>
                      <a:pt x="570" y="48"/>
                    </a:lnTo>
                    <a:lnTo>
                      <a:pt x="434" y="48"/>
                    </a:lnTo>
                    <a:lnTo>
                      <a:pt x="452" y="64"/>
                    </a:lnTo>
                    <a:lnTo>
                      <a:pt x="584" y="64"/>
                    </a:lnTo>
                    <a:lnTo>
                      <a:pt x="592" y="74"/>
                    </a:lnTo>
                    <a:lnTo>
                      <a:pt x="602" y="80"/>
                    </a:lnTo>
                    <a:lnTo>
                      <a:pt x="610" y="96"/>
                    </a:lnTo>
                    <a:lnTo>
                      <a:pt x="584" y="96"/>
                    </a:lnTo>
                    <a:lnTo>
                      <a:pt x="580" y="108"/>
                    </a:lnTo>
                    <a:lnTo>
                      <a:pt x="594" y="110"/>
                    </a:lnTo>
                    <a:lnTo>
                      <a:pt x="594" y="130"/>
                    </a:lnTo>
                    <a:lnTo>
                      <a:pt x="742" y="178"/>
                    </a:lnTo>
                    <a:lnTo>
                      <a:pt x="792" y="182"/>
                    </a:lnTo>
                    <a:lnTo>
                      <a:pt x="834" y="174"/>
                    </a:lnTo>
                    <a:lnTo>
                      <a:pt x="882" y="158"/>
                    </a:lnTo>
                    <a:lnTo>
                      <a:pt x="888" y="168"/>
                    </a:lnTo>
                    <a:lnTo>
                      <a:pt x="874" y="176"/>
                    </a:lnTo>
                    <a:lnTo>
                      <a:pt x="882" y="192"/>
                    </a:lnTo>
                    <a:lnTo>
                      <a:pt x="878" y="206"/>
                    </a:lnTo>
                    <a:lnTo>
                      <a:pt x="932" y="204"/>
                    </a:lnTo>
                    <a:lnTo>
                      <a:pt x="982" y="190"/>
                    </a:lnTo>
                    <a:lnTo>
                      <a:pt x="1018" y="172"/>
                    </a:lnTo>
                    <a:lnTo>
                      <a:pt x="1028" y="182"/>
                    </a:lnTo>
                    <a:lnTo>
                      <a:pt x="1006" y="196"/>
                    </a:lnTo>
                    <a:lnTo>
                      <a:pt x="1012" y="206"/>
                    </a:lnTo>
                    <a:lnTo>
                      <a:pt x="996" y="228"/>
                    </a:lnTo>
                    <a:lnTo>
                      <a:pt x="1020" y="220"/>
                    </a:lnTo>
                    <a:lnTo>
                      <a:pt x="1010" y="242"/>
                    </a:lnTo>
                    <a:lnTo>
                      <a:pt x="1016" y="252"/>
                    </a:lnTo>
                    <a:lnTo>
                      <a:pt x="1004" y="264"/>
                    </a:lnTo>
                    <a:lnTo>
                      <a:pt x="966" y="282"/>
                    </a:lnTo>
                    <a:lnTo>
                      <a:pt x="976" y="298"/>
                    </a:lnTo>
                    <a:lnTo>
                      <a:pt x="994" y="298"/>
                    </a:lnTo>
                    <a:lnTo>
                      <a:pt x="968" y="316"/>
                    </a:lnTo>
                    <a:lnTo>
                      <a:pt x="962" y="332"/>
                    </a:lnTo>
                    <a:lnTo>
                      <a:pt x="948" y="334"/>
                    </a:lnTo>
                    <a:lnTo>
                      <a:pt x="934" y="326"/>
                    </a:lnTo>
                    <a:lnTo>
                      <a:pt x="908" y="348"/>
                    </a:lnTo>
                    <a:lnTo>
                      <a:pt x="920" y="372"/>
                    </a:lnTo>
                    <a:lnTo>
                      <a:pt x="924" y="410"/>
                    </a:lnTo>
                    <a:lnTo>
                      <a:pt x="906" y="398"/>
                    </a:lnTo>
                    <a:lnTo>
                      <a:pt x="906" y="412"/>
                    </a:lnTo>
                    <a:lnTo>
                      <a:pt x="918" y="422"/>
                    </a:lnTo>
                    <a:lnTo>
                      <a:pt x="916" y="434"/>
                    </a:lnTo>
                    <a:lnTo>
                      <a:pt x="892" y="434"/>
                    </a:lnTo>
                    <a:lnTo>
                      <a:pt x="890" y="420"/>
                    </a:lnTo>
                    <a:lnTo>
                      <a:pt x="900" y="400"/>
                    </a:lnTo>
                    <a:lnTo>
                      <a:pt x="886" y="406"/>
                    </a:lnTo>
                    <a:lnTo>
                      <a:pt x="892" y="358"/>
                    </a:lnTo>
                    <a:lnTo>
                      <a:pt x="850" y="372"/>
                    </a:lnTo>
                    <a:lnTo>
                      <a:pt x="804" y="384"/>
                    </a:lnTo>
                    <a:lnTo>
                      <a:pt x="756" y="388"/>
                    </a:lnTo>
                    <a:lnTo>
                      <a:pt x="754" y="412"/>
                    </a:lnTo>
                    <a:lnTo>
                      <a:pt x="734" y="408"/>
                    </a:lnTo>
                    <a:lnTo>
                      <a:pt x="696" y="390"/>
                    </a:lnTo>
                    <a:lnTo>
                      <a:pt x="654" y="414"/>
                    </a:lnTo>
                    <a:lnTo>
                      <a:pt x="698" y="438"/>
                    </a:lnTo>
                    <a:lnTo>
                      <a:pt x="694" y="456"/>
                    </a:lnTo>
                    <a:lnTo>
                      <a:pt x="684" y="462"/>
                    </a:lnTo>
                    <a:lnTo>
                      <a:pt x="640" y="438"/>
                    </a:lnTo>
                    <a:lnTo>
                      <a:pt x="620" y="468"/>
                    </a:lnTo>
                    <a:lnTo>
                      <a:pt x="592" y="442"/>
                    </a:lnTo>
                    <a:lnTo>
                      <a:pt x="574" y="468"/>
                    </a:lnTo>
                    <a:lnTo>
                      <a:pt x="540" y="444"/>
                    </a:lnTo>
                    <a:lnTo>
                      <a:pt x="520" y="476"/>
                    </a:lnTo>
                    <a:lnTo>
                      <a:pt x="498" y="486"/>
                    </a:lnTo>
                    <a:lnTo>
                      <a:pt x="466" y="482"/>
                    </a:lnTo>
                    <a:lnTo>
                      <a:pt x="462" y="502"/>
                    </a:lnTo>
                    <a:lnTo>
                      <a:pt x="486" y="514"/>
                    </a:lnTo>
                    <a:lnTo>
                      <a:pt x="480" y="532"/>
                    </a:lnTo>
                    <a:lnTo>
                      <a:pt x="460" y="540"/>
                    </a:lnTo>
                    <a:lnTo>
                      <a:pt x="464" y="570"/>
                    </a:lnTo>
                    <a:lnTo>
                      <a:pt x="0" y="562"/>
                    </a:lnTo>
                    <a:lnTo>
                      <a:pt x="138" y="0"/>
                    </a:lnTo>
                    <a:lnTo>
                      <a:pt x="408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188280" y="5242680"/>
                <a:ext cx="137160" cy="85680"/>
              </a:xfrm>
              <a:custGeom>
                <a:avLst/>
                <a:gdLst/>
                <a:ahLst/>
                <a:rect l="l" t="t" r="r" b="b"/>
                <a:pathLst>
                  <a:path w="142" h="90">
                    <a:moveTo>
                      <a:pt x="0" y="90"/>
                    </a:moveTo>
                    <a:lnTo>
                      <a:pt x="2" y="4"/>
                    </a:lnTo>
                    <a:lnTo>
                      <a:pt x="14" y="2"/>
                    </a:lnTo>
                    <a:lnTo>
                      <a:pt x="12" y="74"/>
                    </a:lnTo>
                    <a:lnTo>
                      <a:pt x="40" y="68"/>
                    </a:lnTo>
                    <a:lnTo>
                      <a:pt x="34" y="2"/>
                    </a:lnTo>
                    <a:lnTo>
                      <a:pt x="50" y="4"/>
                    </a:lnTo>
                    <a:lnTo>
                      <a:pt x="52" y="70"/>
                    </a:lnTo>
                    <a:lnTo>
                      <a:pt x="90" y="28"/>
                    </a:lnTo>
                    <a:lnTo>
                      <a:pt x="104" y="28"/>
                    </a:lnTo>
                    <a:lnTo>
                      <a:pt x="72" y="64"/>
                    </a:lnTo>
                    <a:lnTo>
                      <a:pt x="102" y="62"/>
                    </a:lnTo>
                    <a:lnTo>
                      <a:pt x="92" y="0"/>
                    </a:lnTo>
                    <a:lnTo>
                      <a:pt x="106" y="2"/>
                    </a:lnTo>
                    <a:lnTo>
                      <a:pt x="112" y="60"/>
                    </a:lnTo>
                    <a:lnTo>
                      <a:pt x="128" y="62"/>
                    </a:lnTo>
                    <a:lnTo>
                      <a:pt x="124" y="16"/>
                    </a:lnTo>
                    <a:lnTo>
                      <a:pt x="114" y="28"/>
                    </a:lnTo>
                    <a:lnTo>
                      <a:pt x="120" y="4"/>
                    </a:lnTo>
                    <a:lnTo>
                      <a:pt x="136" y="0"/>
                    </a:lnTo>
                    <a:lnTo>
                      <a:pt x="142" y="60"/>
                    </a:lnTo>
                    <a:lnTo>
                      <a:pt x="116" y="7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972200" y="5219640"/>
                <a:ext cx="956880" cy="559800"/>
              </a:xfrm>
              <a:custGeom>
                <a:avLst/>
                <a:gdLst/>
                <a:ahLst/>
                <a:rect l="l" t="t" r="r" b="b"/>
                <a:pathLst>
                  <a:path w="990" h="588">
                    <a:moveTo>
                      <a:pt x="844" y="532"/>
                    </a:moveTo>
                    <a:lnTo>
                      <a:pt x="990" y="0"/>
                    </a:lnTo>
                    <a:lnTo>
                      <a:pt x="554" y="10"/>
                    </a:lnTo>
                    <a:lnTo>
                      <a:pt x="534" y="38"/>
                    </a:lnTo>
                    <a:lnTo>
                      <a:pt x="506" y="50"/>
                    </a:lnTo>
                    <a:lnTo>
                      <a:pt x="506" y="62"/>
                    </a:lnTo>
                    <a:lnTo>
                      <a:pt x="550" y="38"/>
                    </a:lnTo>
                    <a:lnTo>
                      <a:pt x="548" y="58"/>
                    </a:lnTo>
                    <a:lnTo>
                      <a:pt x="506" y="74"/>
                    </a:lnTo>
                    <a:lnTo>
                      <a:pt x="508" y="86"/>
                    </a:lnTo>
                    <a:lnTo>
                      <a:pt x="550" y="64"/>
                    </a:lnTo>
                    <a:lnTo>
                      <a:pt x="552" y="86"/>
                    </a:lnTo>
                    <a:lnTo>
                      <a:pt x="506" y="104"/>
                    </a:lnTo>
                    <a:lnTo>
                      <a:pt x="482" y="112"/>
                    </a:lnTo>
                    <a:lnTo>
                      <a:pt x="480" y="72"/>
                    </a:lnTo>
                    <a:lnTo>
                      <a:pt x="414" y="90"/>
                    </a:lnTo>
                    <a:lnTo>
                      <a:pt x="394" y="84"/>
                    </a:lnTo>
                    <a:lnTo>
                      <a:pt x="410" y="102"/>
                    </a:lnTo>
                    <a:lnTo>
                      <a:pt x="472" y="84"/>
                    </a:lnTo>
                    <a:lnTo>
                      <a:pt x="410" y="116"/>
                    </a:lnTo>
                    <a:lnTo>
                      <a:pt x="390" y="110"/>
                    </a:lnTo>
                    <a:lnTo>
                      <a:pt x="384" y="122"/>
                    </a:lnTo>
                    <a:lnTo>
                      <a:pt x="404" y="128"/>
                    </a:lnTo>
                    <a:lnTo>
                      <a:pt x="472" y="98"/>
                    </a:lnTo>
                    <a:lnTo>
                      <a:pt x="472" y="122"/>
                    </a:lnTo>
                    <a:lnTo>
                      <a:pt x="406" y="144"/>
                    </a:lnTo>
                    <a:lnTo>
                      <a:pt x="402" y="160"/>
                    </a:lnTo>
                    <a:lnTo>
                      <a:pt x="390" y="160"/>
                    </a:lnTo>
                    <a:lnTo>
                      <a:pt x="402" y="172"/>
                    </a:lnTo>
                    <a:lnTo>
                      <a:pt x="396" y="200"/>
                    </a:lnTo>
                    <a:lnTo>
                      <a:pt x="382" y="202"/>
                    </a:lnTo>
                    <a:lnTo>
                      <a:pt x="374" y="182"/>
                    </a:lnTo>
                    <a:lnTo>
                      <a:pt x="364" y="190"/>
                    </a:lnTo>
                    <a:lnTo>
                      <a:pt x="364" y="216"/>
                    </a:lnTo>
                    <a:lnTo>
                      <a:pt x="352" y="226"/>
                    </a:lnTo>
                    <a:lnTo>
                      <a:pt x="322" y="234"/>
                    </a:lnTo>
                    <a:lnTo>
                      <a:pt x="300" y="218"/>
                    </a:lnTo>
                    <a:lnTo>
                      <a:pt x="290" y="196"/>
                    </a:lnTo>
                    <a:lnTo>
                      <a:pt x="276" y="198"/>
                    </a:lnTo>
                    <a:lnTo>
                      <a:pt x="280" y="216"/>
                    </a:lnTo>
                    <a:lnTo>
                      <a:pt x="268" y="238"/>
                    </a:lnTo>
                    <a:lnTo>
                      <a:pt x="270" y="252"/>
                    </a:lnTo>
                    <a:lnTo>
                      <a:pt x="222" y="278"/>
                    </a:lnTo>
                    <a:lnTo>
                      <a:pt x="184" y="280"/>
                    </a:lnTo>
                    <a:lnTo>
                      <a:pt x="156" y="274"/>
                    </a:lnTo>
                    <a:lnTo>
                      <a:pt x="130" y="258"/>
                    </a:lnTo>
                    <a:lnTo>
                      <a:pt x="120" y="268"/>
                    </a:lnTo>
                    <a:lnTo>
                      <a:pt x="144" y="288"/>
                    </a:lnTo>
                    <a:lnTo>
                      <a:pt x="112" y="304"/>
                    </a:lnTo>
                    <a:lnTo>
                      <a:pt x="66" y="308"/>
                    </a:lnTo>
                    <a:lnTo>
                      <a:pt x="34" y="298"/>
                    </a:lnTo>
                    <a:lnTo>
                      <a:pt x="18" y="286"/>
                    </a:lnTo>
                    <a:lnTo>
                      <a:pt x="8" y="296"/>
                    </a:lnTo>
                    <a:lnTo>
                      <a:pt x="24" y="310"/>
                    </a:lnTo>
                    <a:lnTo>
                      <a:pt x="26" y="332"/>
                    </a:lnTo>
                    <a:lnTo>
                      <a:pt x="18" y="342"/>
                    </a:lnTo>
                    <a:lnTo>
                      <a:pt x="6" y="334"/>
                    </a:lnTo>
                    <a:lnTo>
                      <a:pt x="0" y="348"/>
                    </a:lnTo>
                    <a:lnTo>
                      <a:pt x="20" y="364"/>
                    </a:lnTo>
                    <a:lnTo>
                      <a:pt x="52" y="374"/>
                    </a:lnTo>
                    <a:lnTo>
                      <a:pt x="66" y="382"/>
                    </a:lnTo>
                    <a:lnTo>
                      <a:pt x="60" y="394"/>
                    </a:lnTo>
                    <a:lnTo>
                      <a:pt x="38" y="392"/>
                    </a:lnTo>
                    <a:lnTo>
                      <a:pt x="36" y="406"/>
                    </a:lnTo>
                    <a:lnTo>
                      <a:pt x="62" y="410"/>
                    </a:lnTo>
                    <a:lnTo>
                      <a:pt x="76" y="426"/>
                    </a:lnTo>
                    <a:lnTo>
                      <a:pt x="104" y="422"/>
                    </a:lnTo>
                    <a:lnTo>
                      <a:pt x="104" y="440"/>
                    </a:lnTo>
                    <a:lnTo>
                      <a:pt x="94" y="460"/>
                    </a:lnTo>
                    <a:lnTo>
                      <a:pt x="94" y="488"/>
                    </a:lnTo>
                    <a:lnTo>
                      <a:pt x="110" y="482"/>
                    </a:lnTo>
                    <a:lnTo>
                      <a:pt x="110" y="498"/>
                    </a:lnTo>
                    <a:lnTo>
                      <a:pt x="96" y="514"/>
                    </a:lnTo>
                    <a:lnTo>
                      <a:pt x="118" y="518"/>
                    </a:lnTo>
                    <a:lnTo>
                      <a:pt x="124" y="506"/>
                    </a:lnTo>
                    <a:lnTo>
                      <a:pt x="116" y="476"/>
                    </a:lnTo>
                    <a:lnTo>
                      <a:pt x="134" y="486"/>
                    </a:lnTo>
                    <a:lnTo>
                      <a:pt x="130" y="448"/>
                    </a:lnTo>
                    <a:lnTo>
                      <a:pt x="118" y="432"/>
                    </a:lnTo>
                    <a:lnTo>
                      <a:pt x="180" y="426"/>
                    </a:lnTo>
                    <a:lnTo>
                      <a:pt x="188" y="442"/>
                    </a:lnTo>
                    <a:lnTo>
                      <a:pt x="212" y="440"/>
                    </a:lnTo>
                    <a:lnTo>
                      <a:pt x="208" y="422"/>
                    </a:lnTo>
                    <a:lnTo>
                      <a:pt x="222" y="424"/>
                    </a:lnTo>
                    <a:lnTo>
                      <a:pt x="228" y="442"/>
                    </a:lnTo>
                    <a:lnTo>
                      <a:pt x="246" y="442"/>
                    </a:lnTo>
                    <a:lnTo>
                      <a:pt x="244" y="426"/>
                    </a:lnTo>
                    <a:lnTo>
                      <a:pt x="260" y="434"/>
                    </a:lnTo>
                    <a:lnTo>
                      <a:pt x="288" y="428"/>
                    </a:lnTo>
                    <a:lnTo>
                      <a:pt x="244" y="462"/>
                    </a:lnTo>
                    <a:lnTo>
                      <a:pt x="266" y="492"/>
                    </a:lnTo>
                    <a:lnTo>
                      <a:pt x="350" y="444"/>
                    </a:lnTo>
                    <a:lnTo>
                      <a:pt x="368" y="452"/>
                    </a:lnTo>
                    <a:lnTo>
                      <a:pt x="344" y="472"/>
                    </a:lnTo>
                    <a:lnTo>
                      <a:pt x="300" y="502"/>
                    </a:lnTo>
                    <a:lnTo>
                      <a:pt x="330" y="528"/>
                    </a:lnTo>
                    <a:lnTo>
                      <a:pt x="370" y="502"/>
                    </a:lnTo>
                    <a:lnTo>
                      <a:pt x="414" y="474"/>
                    </a:lnTo>
                    <a:lnTo>
                      <a:pt x="426" y="508"/>
                    </a:lnTo>
                    <a:lnTo>
                      <a:pt x="480" y="502"/>
                    </a:lnTo>
                    <a:lnTo>
                      <a:pt x="476" y="524"/>
                    </a:lnTo>
                    <a:lnTo>
                      <a:pt x="526" y="528"/>
                    </a:lnTo>
                    <a:lnTo>
                      <a:pt x="516" y="542"/>
                    </a:lnTo>
                    <a:lnTo>
                      <a:pt x="494" y="556"/>
                    </a:lnTo>
                    <a:lnTo>
                      <a:pt x="512" y="582"/>
                    </a:lnTo>
                    <a:lnTo>
                      <a:pt x="528" y="588"/>
                    </a:lnTo>
                    <a:lnTo>
                      <a:pt x="836" y="568"/>
                    </a:lnTo>
                    <a:lnTo>
                      <a:pt x="844" y="53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367840" y="5256000"/>
                <a:ext cx="124560" cy="12564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129" y="78"/>
                    </a:moveTo>
                    <a:lnTo>
                      <a:pt x="127" y="0"/>
                    </a:lnTo>
                    <a:lnTo>
                      <a:pt x="119" y="4"/>
                    </a:lnTo>
                    <a:lnTo>
                      <a:pt x="119" y="66"/>
                    </a:lnTo>
                    <a:lnTo>
                      <a:pt x="107" y="72"/>
                    </a:lnTo>
                    <a:lnTo>
                      <a:pt x="109" y="10"/>
                    </a:lnTo>
                    <a:lnTo>
                      <a:pt x="97" y="14"/>
                    </a:lnTo>
                    <a:lnTo>
                      <a:pt x="99" y="88"/>
                    </a:lnTo>
                    <a:lnTo>
                      <a:pt x="47" y="108"/>
                    </a:lnTo>
                    <a:lnTo>
                      <a:pt x="41" y="46"/>
                    </a:lnTo>
                    <a:lnTo>
                      <a:pt x="33" y="48"/>
                    </a:lnTo>
                    <a:lnTo>
                      <a:pt x="33" y="104"/>
                    </a:lnTo>
                    <a:lnTo>
                      <a:pt x="15" y="110"/>
                    </a:lnTo>
                    <a:lnTo>
                      <a:pt x="15" y="52"/>
                    </a:lnTo>
                    <a:cubicBezTo>
                      <a:pt x="0" y="56"/>
                      <a:pt x="1" y="51"/>
                      <a:pt x="1" y="58"/>
                    </a:cubicBezTo>
                    <a:lnTo>
                      <a:pt x="7" y="132"/>
                    </a:lnTo>
                    <a:lnTo>
                      <a:pt x="129" y="7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24" name=""/>
              <p:cNvGrpSpPr/>
              <p:nvPr/>
            </p:nvGrpSpPr>
            <p:grpSpPr>
              <a:xfrm>
                <a:off x="7933680" y="5749200"/>
                <a:ext cx="1884960" cy="575280"/>
                <a:chOff x="7933680" y="5749200"/>
                <a:chExt cx="1884960" cy="57528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33680" y="5749200"/>
                  <a:ext cx="1020600" cy="575280"/>
                </a:xfrm>
                <a:custGeom>
                  <a:avLst/>
                  <a:gdLst/>
                  <a:ahLst/>
                  <a:rect l="l" t="t" r="r" b="b"/>
                  <a:pathLst>
                    <a:path w="1056" h="604">
                      <a:moveTo>
                        <a:pt x="1050" y="8"/>
                      </a:moveTo>
                      <a:lnTo>
                        <a:pt x="1056" y="590"/>
                      </a:lnTo>
                      <a:lnTo>
                        <a:pt x="526" y="604"/>
                      </a:lnTo>
                      <a:lnTo>
                        <a:pt x="512" y="584"/>
                      </a:lnTo>
                      <a:lnTo>
                        <a:pt x="526" y="574"/>
                      </a:lnTo>
                      <a:lnTo>
                        <a:pt x="510" y="566"/>
                      </a:lnTo>
                      <a:lnTo>
                        <a:pt x="510" y="548"/>
                      </a:lnTo>
                      <a:lnTo>
                        <a:pt x="532" y="532"/>
                      </a:lnTo>
                      <a:lnTo>
                        <a:pt x="530" y="520"/>
                      </a:lnTo>
                      <a:lnTo>
                        <a:pt x="490" y="528"/>
                      </a:lnTo>
                      <a:lnTo>
                        <a:pt x="486" y="514"/>
                      </a:lnTo>
                      <a:lnTo>
                        <a:pt x="470" y="514"/>
                      </a:lnTo>
                      <a:lnTo>
                        <a:pt x="474" y="496"/>
                      </a:lnTo>
                      <a:lnTo>
                        <a:pt x="462" y="492"/>
                      </a:lnTo>
                      <a:lnTo>
                        <a:pt x="436" y="508"/>
                      </a:lnTo>
                      <a:lnTo>
                        <a:pt x="430" y="496"/>
                      </a:lnTo>
                      <a:lnTo>
                        <a:pt x="408" y="504"/>
                      </a:lnTo>
                      <a:lnTo>
                        <a:pt x="400" y="516"/>
                      </a:lnTo>
                      <a:lnTo>
                        <a:pt x="388" y="514"/>
                      </a:lnTo>
                      <a:lnTo>
                        <a:pt x="382" y="504"/>
                      </a:lnTo>
                      <a:lnTo>
                        <a:pt x="370" y="506"/>
                      </a:lnTo>
                      <a:lnTo>
                        <a:pt x="312" y="520"/>
                      </a:lnTo>
                      <a:lnTo>
                        <a:pt x="296" y="494"/>
                      </a:lnTo>
                      <a:lnTo>
                        <a:pt x="348" y="462"/>
                      </a:lnTo>
                      <a:lnTo>
                        <a:pt x="340" y="444"/>
                      </a:lnTo>
                      <a:lnTo>
                        <a:pt x="322" y="448"/>
                      </a:lnTo>
                      <a:lnTo>
                        <a:pt x="264" y="470"/>
                      </a:lnTo>
                      <a:lnTo>
                        <a:pt x="250" y="468"/>
                      </a:lnTo>
                      <a:lnTo>
                        <a:pt x="236" y="448"/>
                      </a:lnTo>
                      <a:lnTo>
                        <a:pt x="242" y="438"/>
                      </a:lnTo>
                      <a:lnTo>
                        <a:pt x="260" y="430"/>
                      </a:lnTo>
                      <a:lnTo>
                        <a:pt x="282" y="422"/>
                      </a:lnTo>
                      <a:lnTo>
                        <a:pt x="246" y="428"/>
                      </a:lnTo>
                      <a:lnTo>
                        <a:pt x="220" y="428"/>
                      </a:lnTo>
                      <a:lnTo>
                        <a:pt x="180" y="432"/>
                      </a:lnTo>
                      <a:lnTo>
                        <a:pt x="162" y="422"/>
                      </a:lnTo>
                      <a:lnTo>
                        <a:pt x="120" y="422"/>
                      </a:lnTo>
                      <a:lnTo>
                        <a:pt x="114" y="444"/>
                      </a:lnTo>
                      <a:lnTo>
                        <a:pt x="122" y="458"/>
                      </a:lnTo>
                      <a:lnTo>
                        <a:pt x="126" y="484"/>
                      </a:lnTo>
                      <a:lnTo>
                        <a:pt x="110" y="478"/>
                      </a:lnTo>
                      <a:lnTo>
                        <a:pt x="112" y="490"/>
                      </a:lnTo>
                      <a:lnTo>
                        <a:pt x="124" y="508"/>
                      </a:lnTo>
                      <a:lnTo>
                        <a:pt x="106" y="512"/>
                      </a:lnTo>
                      <a:lnTo>
                        <a:pt x="94" y="502"/>
                      </a:lnTo>
                      <a:lnTo>
                        <a:pt x="104" y="480"/>
                      </a:lnTo>
                      <a:lnTo>
                        <a:pt x="92" y="482"/>
                      </a:lnTo>
                      <a:lnTo>
                        <a:pt x="96" y="440"/>
                      </a:lnTo>
                      <a:lnTo>
                        <a:pt x="106" y="420"/>
                      </a:lnTo>
                      <a:lnTo>
                        <a:pt x="76" y="418"/>
                      </a:lnTo>
                      <a:lnTo>
                        <a:pt x="58" y="404"/>
                      </a:lnTo>
                      <a:lnTo>
                        <a:pt x="38" y="390"/>
                      </a:lnTo>
                      <a:lnTo>
                        <a:pt x="34" y="378"/>
                      </a:lnTo>
                      <a:lnTo>
                        <a:pt x="50" y="374"/>
                      </a:lnTo>
                      <a:lnTo>
                        <a:pt x="32" y="334"/>
                      </a:lnTo>
                      <a:lnTo>
                        <a:pt x="20" y="324"/>
                      </a:lnTo>
                      <a:lnTo>
                        <a:pt x="0" y="318"/>
                      </a:lnTo>
                      <a:lnTo>
                        <a:pt x="8" y="308"/>
                      </a:lnTo>
                      <a:lnTo>
                        <a:pt x="22" y="292"/>
                      </a:lnTo>
                      <a:lnTo>
                        <a:pt x="2" y="270"/>
                      </a:lnTo>
                      <a:lnTo>
                        <a:pt x="20" y="264"/>
                      </a:lnTo>
                      <a:lnTo>
                        <a:pt x="50" y="286"/>
                      </a:lnTo>
                      <a:lnTo>
                        <a:pt x="116" y="286"/>
                      </a:lnTo>
                      <a:lnTo>
                        <a:pt x="136" y="276"/>
                      </a:lnTo>
                      <a:lnTo>
                        <a:pt x="138" y="260"/>
                      </a:lnTo>
                      <a:lnTo>
                        <a:pt x="126" y="252"/>
                      </a:lnTo>
                      <a:lnTo>
                        <a:pt x="140" y="242"/>
                      </a:lnTo>
                      <a:lnTo>
                        <a:pt x="156" y="250"/>
                      </a:lnTo>
                      <a:lnTo>
                        <a:pt x="176" y="260"/>
                      </a:lnTo>
                      <a:lnTo>
                        <a:pt x="200" y="256"/>
                      </a:lnTo>
                      <a:lnTo>
                        <a:pt x="222" y="246"/>
                      </a:lnTo>
                      <a:lnTo>
                        <a:pt x="254" y="240"/>
                      </a:lnTo>
                      <a:lnTo>
                        <a:pt x="346" y="206"/>
                      </a:lnTo>
                      <a:lnTo>
                        <a:pt x="398" y="180"/>
                      </a:lnTo>
                      <a:lnTo>
                        <a:pt x="408" y="172"/>
                      </a:lnTo>
                      <a:lnTo>
                        <a:pt x="366" y="158"/>
                      </a:lnTo>
                      <a:lnTo>
                        <a:pt x="394" y="120"/>
                      </a:lnTo>
                      <a:lnTo>
                        <a:pt x="436" y="126"/>
                      </a:lnTo>
                      <a:lnTo>
                        <a:pt x="474" y="122"/>
                      </a:lnTo>
                      <a:lnTo>
                        <a:pt x="472" y="100"/>
                      </a:lnTo>
                      <a:lnTo>
                        <a:pt x="414" y="106"/>
                      </a:lnTo>
                      <a:lnTo>
                        <a:pt x="398" y="102"/>
                      </a:lnTo>
                      <a:lnTo>
                        <a:pt x="378" y="94"/>
                      </a:lnTo>
                      <a:cubicBezTo>
                        <a:pt x="384" y="83"/>
                        <a:pt x="380" y="84"/>
                        <a:pt x="386" y="84"/>
                      </a:cubicBezTo>
                      <a:lnTo>
                        <a:pt x="420" y="98"/>
                      </a:lnTo>
                      <a:lnTo>
                        <a:pt x="470" y="90"/>
                      </a:lnTo>
                      <a:lnTo>
                        <a:pt x="470" y="74"/>
                      </a:lnTo>
                      <a:lnTo>
                        <a:pt x="426" y="82"/>
                      </a:lnTo>
                      <a:lnTo>
                        <a:pt x="402" y="78"/>
                      </a:lnTo>
                      <a:cubicBezTo>
                        <a:pt x="396" y="75"/>
                        <a:pt x="384" y="70"/>
                        <a:pt x="384" y="70"/>
                      </a:cubicBezTo>
                      <a:lnTo>
                        <a:pt x="392" y="60"/>
                      </a:lnTo>
                      <a:lnTo>
                        <a:pt x="424" y="72"/>
                      </a:lnTo>
                      <a:lnTo>
                        <a:pt x="454" y="68"/>
                      </a:lnTo>
                      <a:lnTo>
                        <a:pt x="482" y="66"/>
                      </a:lnTo>
                      <a:lnTo>
                        <a:pt x="484" y="122"/>
                      </a:lnTo>
                      <a:lnTo>
                        <a:pt x="512" y="118"/>
                      </a:lnTo>
                      <a:lnTo>
                        <a:pt x="510" y="62"/>
                      </a:lnTo>
                      <a:lnTo>
                        <a:pt x="522" y="58"/>
                      </a:lnTo>
                      <a:lnTo>
                        <a:pt x="524" y="114"/>
                      </a:lnTo>
                      <a:lnTo>
                        <a:pt x="536" y="110"/>
                      </a:lnTo>
                      <a:lnTo>
                        <a:pt x="536" y="54"/>
                      </a:lnTo>
                      <a:lnTo>
                        <a:pt x="548" y="52"/>
                      </a:lnTo>
                      <a:lnTo>
                        <a:pt x="548" y="110"/>
                      </a:lnTo>
                      <a:lnTo>
                        <a:pt x="566" y="102"/>
                      </a:lnTo>
                      <a:lnTo>
                        <a:pt x="564" y="20"/>
                      </a:lnTo>
                      <a:lnTo>
                        <a:pt x="908" y="0"/>
                      </a:lnTo>
                      <a:lnTo>
                        <a:pt x="1050" y="8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324280" y="5790960"/>
                  <a:ext cx="196920" cy="104760"/>
                </a:xfrm>
                <a:custGeom>
                  <a:avLst/>
                  <a:gdLst/>
                  <a:ahLst/>
                  <a:rect l="l" t="t" r="r" b="b"/>
                  <a:pathLst>
                    <a:path w="204" h="110">
                      <a:moveTo>
                        <a:pt x="190" y="0"/>
                      </a:moveTo>
                      <a:lnTo>
                        <a:pt x="110" y="16"/>
                      </a:lnTo>
                      <a:lnTo>
                        <a:pt x="112" y="22"/>
                      </a:lnTo>
                      <a:lnTo>
                        <a:pt x="172" y="14"/>
                      </a:lnTo>
                      <a:lnTo>
                        <a:pt x="170" y="26"/>
                      </a:lnTo>
                      <a:lnTo>
                        <a:pt x="110" y="38"/>
                      </a:lnTo>
                      <a:lnTo>
                        <a:pt x="112" y="50"/>
                      </a:lnTo>
                      <a:lnTo>
                        <a:pt x="174" y="34"/>
                      </a:lnTo>
                      <a:lnTo>
                        <a:pt x="178" y="80"/>
                      </a:lnTo>
                      <a:lnTo>
                        <a:pt x="120" y="84"/>
                      </a:lnTo>
                      <a:lnTo>
                        <a:pt x="74" y="44"/>
                      </a:lnTo>
                      <a:lnTo>
                        <a:pt x="74" y="56"/>
                      </a:lnTo>
                      <a:lnTo>
                        <a:pt x="110" y="86"/>
                      </a:lnTo>
                      <a:lnTo>
                        <a:pt x="46" y="94"/>
                      </a:lnTo>
                      <a:lnTo>
                        <a:pt x="46" y="30"/>
                      </a:lnTo>
                      <a:cubicBezTo>
                        <a:pt x="29" y="32"/>
                        <a:pt x="30" y="27"/>
                        <a:pt x="30" y="34"/>
                      </a:cubicBezTo>
                      <a:lnTo>
                        <a:pt x="34" y="94"/>
                      </a:lnTo>
                      <a:lnTo>
                        <a:pt x="12" y="88"/>
                      </a:lnTo>
                      <a:lnTo>
                        <a:pt x="12" y="32"/>
                      </a:lnTo>
                      <a:lnTo>
                        <a:pt x="0" y="28"/>
                      </a:lnTo>
                      <a:lnTo>
                        <a:pt x="4" y="92"/>
                      </a:lnTo>
                      <a:lnTo>
                        <a:pt x="70" y="110"/>
                      </a:lnTo>
                      <a:lnTo>
                        <a:pt x="182" y="98"/>
                      </a:lnTo>
                      <a:lnTo>
                        <a:pt x="204" y="72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935200" y="5749200"/>
                  <a:ext cx="883440" cy="556200"/>
                </a:xfrm>
                <a:custGeom>
                  <a:avLst/>
                  <a:gdLst/>
                  <a:ahLst/>
                  <a:rect l="l" t="t" r="r" b="b"/>
                  <a:pathLst>
                    <a:path w="914" h="584">
                      <a:moveTo>
                        <a:pt x="282" y="22"/>
                      </a:moveTo>
                      <a:lnTo>
                        <a:pt x="440" y="28"/>
                      </a:lnTo>
                      <a:lnTo>
                        <a:pt x="468" y="18"/>
                      </a:lnTo>
                      <a:lnTo>
                        <a:pt x="440" y="36"/>
                      </a:lnTo>
                      <a:lnTo>
                        <a:pt x="280" y="36"/>
                      </a:lnTo>
                      <a:lnTo>
                        <a:pt x="282" y="56"/>
                      </a:lnTo>
                      <a:lnTo>
                        <a:pt x="440" y="52"/>
                      </a:lnTo>
                      <a:lnTo>
                        <a:pt x="470" y="42"/>
                      </a:lnTo>
                      <a:lnTo>
                        <a:pt x="440" y="64"/>
                      </a:lnTo>
                      <a:lnTo>
                        <a:pt x="284" y="66"/>
                      </a:lnTo>
                      <a:lnTo>
                        <a:pt x="298" y="78"/>
                      </a:lnTo>
                      <a:lnTo>
                        <a:pt x="352" y="88"/>
                      </a:lnTo>
                      <a:lnTo>
                        <a:pt x="430" y="84"/>
                      </a:lnTo>
                      <a:lnTo>
                        <a:pt x="464" y="82"/>
                      </a:lnTo>
                      <a:lnTo>
                        <a:pt x="466" y="102"/>
                      </a:lnTo>
                      <a:lnTo>
                        <a:pt x="484" y="102"/>
                      </a:lnTo>
                      <a:lnTo>
                        <a:pt x="488" y="120"/>
                      </a:lnTo>
                      <a:lnTo>
                        <a:pt x="468" y="130"/>
                      </a:lnTo>
                      <a:lnTo>
                        <a:pt x="476" y="148"/>
                      </a:lnTo>
                      <a:lnTo>
                        <a:pt x="544" y="182"/>
                      </a:lnTo>
                      <a:lnTo>
                        <a:pt x="636" y="202"/>
                      </a:lnTo>
                      <a:lnTo>
                        <a:pt x="708" y="206"/>
                      </a:lnTo>
                      <a:lnTo>
                        <a:pt x="742" y="196"/>
                      </a:lnTo>
                      <a:lnTo>
                        <a:pt x="768" y="186"/>
                      </a:lnTo>
                      <a:lnTo>
                        <a:pt x="778" y="194"/>
                      </a:lnTo>
                      <a:lnTo>
                        <a:pt x="764" y="210"/>
                      </a:lnTo>
                      <a:lnTo>
                        <a:pt x="766" y="228"/>
                      </a:lnTo>
                      <a:lnTo>
                        <a:pt x="786" y="240"/>
                      </a:lnTo>
                      <a:lnTo>
                        <a:pt x="838" y="236"/>
                      </a:lnTo>
                      <a:lnTo>
                        <a:pt x="882" y="224"/>
                      </a:lnTo>
                      <a:lnTo>
                        <a:pt x="902" y="204"/>
                      </a:lnTo>
                      <a:lnTo>
                        <a:pt x="910" y="214"/>
                      </a:lnTo>
                      <a:lnTo>
                        <a:pt x="896" y="232"/>
                      </a:lnTo>
                      <a:lnTo>
                        <a:pt x="904" y="248"/>
                      </a:lnTo>
                      <a:lnTo>
                        <a:pt x="894" y="260"/>
                      </a:lnTo>
                      <a:lnTo>
                        <a:pt x="908" y="262"/>
                      </a:lnTo>
                      <a:lnTo>
                        <a:pt x="914" y="274"/>
                      </a:lnTo>
                      <a:lnTo>
                        <a:pt x="904" y="282"/>
                      </a:lnTo>
                      <a:lnTo>
                        <a:pt x="856" y="328"/>
                      </a:lnTo>
                      <a:lnTo>
                        <a:pt x="868" y="342"/>
                      </a:lnTo>
                      <a:lnTo>
                        <a:pt x="844" y="358"/>
                      </a:lnTo>
                      <a:lnTo>
                        <a:pt x="828" y="358"/>
                      </a:lnTo>
                      <a:lnTo>
                        <a:pt x="792" y="378"/>
                      </a:lnTo>
                      <a:lnTo>
                        <a:pt x="806" y="414"/>
                      </a:lnTo>
                      <a:lnTo>
                        <a:pt x="802" y="442"/>
                      </a:lnTo>
                      <a:lnTo>
                        <a:pt x="790" y="430"/>
                      </a:lnTo>
                      <a:lnTo>
                        <a:pt x="790" y="450"/>
                      </a:lnTo>
                      <a:lnTo>
                        <a:pt x="802" y="472"/>
                      </a:lnTo>
                      <a:lnTo>
                        <a:pt x="774" y="472"/>
                      </a:lnTo>
                      <a:lnTo>
                        <a:pt x="784" y="452"/>
                      </a:lnTo>
                      <a:lnTo>
                        <a:pt x="786" y="428"/>
                      </a:lnTo>
                      <a:lnTo>
                        <a:pt x="770" y="440"/>
                      </a:lnTo>
                      <a:lnTo>
                        <a:pt x="774" y="398"/>
                      </a:lnTo>
                      <a:lnTo>
                        <a:pt x="782" y="380"/>
                      </a:lnTo>
                      <a:lnTo>
                        <a:pt x="686" y="396"/>
                      </a:lnTo>
                      <a:lnTo>
                        <a:pt x="624" y="398"/>
                      </a:lnTo>
                      <a:lnTo>
                        <a:pt x="642" y="418"/>
                      </a:lnTo>
                      <a:lnTo>
                        <a:pt x="644" y="430"/>
                      </a:lnTo>
                      <a:lnTo>
                        <a:pt x="626" y="442"/>
                      </a:lnTo>
                      <a:lnTo>
                        <a:pt x="598" y="436"/>
                      </a:lnTo>
                      <a:lnTo>
                        <a:pt x="532" y="406"/>
                      </a:lnTo>
                      <a:lnTo>
                        <a:pt x="516" y="400"/>
                      </a:lnTo>
                      <a:lnTo>
                        <a:pt x="496" y="424"/>
                      </a:lnTo>
                      <a:lnTo>
                        <a:pt x="558" y="444"/>
                      </a:lnTo>
                      <a:lnTo>
                        <a:pt x="588" y="462"/>
                      </a:lnTo>
                      <a:lnTo>
                        <a:pt x="586" y="476"/>
                      </a:lnTo>
                      <a:lnTo>
                        <a:pt x="570" y="494"/>
                      </a:lnTo>
                      <a:lnTo>
                        <a:pt x="520" y="470"/>
                      </a:lnTo>
                      <a:lnTo>
                        <a:pt x="500" y="482"/>
                      </a:lnTo>
                      <a:lnTo>
                        <a:pt x="486" y="480"/>
                      </a:lnTo>
                      <a:lnTo>
                        <a:pt x="448" y="462"/>
                      </a:lnTo>
                      <a:lnTo>
                        <a:pt x="440" y="478"/>
                      </a:lnTo>
                      <a:lnTo>
                        <a:pt x="388" y="476"/>
                      </a:lnTo>
                      <a:lnTo>
                        <a:pt x="368" y="512"/>
                      </a:lnTo>
                      <a:lnTo>
                        <a:pt x="328" y="508"/>
                      </a:lnTo>
                      <a:lnTo>
                        <a:pt x="320" y="520"/>
                      </a:lnTo>
                      <a:lnTo>
                        <a:pt x="332" y="534"/>
                      </a:lnTo>
                      <a:lnTo>
                        <a:pt x="336" y="550"/>
                      </a:lnTo>
                      <a:lnTo>
                        <a:pt x="308" y="580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264" y="8"/>
                      </a:lnTo>
                      <a:lnTo>
                        <a:pt x="282" y="2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225000" y="5775840"/>
                  <a:ext cx="142920" cy="87480"/>
                </a:xfrm>
                <a:custGeom>
                  <a:avLst/>
                  <a:gdLst/>
                  <a:ahLst/>
                  <a:rect l="l" t="t" r="r" b="b"/>
                  <a:pathLst>
                    <a:path w="148" h="92">
                      <a:moveTo>
                        <a:pt x="0" y="82"/>
                      </a:moveTo>
                      <a:lnTo>
                        <a:pt x="4" y="2"/>
                      </a:lnTo>
                      <a:lnTo>
                        <a:pt x="18" y="0"/>
                      </a:lnTo>
                      <a:lnTo>
                        <a:pt x="12" y="74"/>
                      </a:lnTo>
                      <a:lnTo>
                        <a:pt x="44" y="78"/>
                      </a:lnTo>
                      <a:lnTo>
                        <a:pt x="46" y="2"/>
                      </a:lnTo>
                      <a:lnTo>
                        <a:pt x="58" y="2"/>
                      </a:lnTo>
                      <a:lnTo>
                        <a:pt x="56" y="72"/>
                      </a:lnTo>
                      <a:lnTo>
                        <a:pt x="94" y="70"/>
                      </a:lnTo>
                      <a:lnTo>
                        <a:pt x="92" y="2"/>
                      </a:lnTo>
                      <a:lnTo>
                        <a:pt x="106" y="4"/>
                      </a:lnTo>
                      <a:lnTo>
                        <a:pt x="104" y="68"/>
                      </a:lnTo>
                      <a:lnTo>
                        <a:pt x="136" y="64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48" y="70"/>
                      </a:lnTo>
                      <a:lnTo>
                        <a:pt x="60" y="88"/>
                      </a:lnTo>
                      <a:lnTo>
                        <a:pt x="8" y="9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7852680" y="6280920"/>
                <a:ext cx="1117080" cy="574920"/>
              </a:xfrm>
              <a:custGeom>
                <a:avLst/>
                <a:gdLst/>
                <a:ahLst/>
                <a:rect l="l" t="t" r="r" b="b"/>
                <a:pathLst>
                  <a:path w="1156" h="604">
                    <a:moveTo>
                      <a:pt x="1143" y="8"/>
                    </a:moveTo>
                    <a:lnTo>
                      <a:pt x="1156" y="600"/>
                    </a:lnTo>
                    <a:lnTo>
                      <a:pt x="573" y="604"/>
                    </a:lnTo>
                    <a:lnTo>
                      <a:pt x="558" y="584"/>
                    </a:lnTo>
                    <a:lnTo>
                      <a:pt x="573" y="574"/>
                    </a:lnTo>
                    <a:lnTo>
                      <a:pt x="555" y="566"/>
                    </a:lnTo>
                    <a:lnTo>
                      <a:pt x="555" y="548"/>
                    </a:lnTo>
                    <a:lnTo>
                      <a:pt x="579" y="532"/>
                    </a:lnTo>
                    <a:lnTo>
                      <a:pt x="577" y="520"/>
                    </a:lnTo>
                    <a:lnTo>
                      <a:pt x="534" y="528"/>
                    </a:lnTo>
                    <a:lnTo>
                      <a:pt x="529" y="514"/>
                    </a:lnTo>
                    <a:lnTo>
                      <a:pt x="512" y="514"/>
                    </a:lnTo>
                    <a:lnTo>
                      <a:pt x="516" y="496"/>
                    </a:lnTo>
                    <a:lnTo>
                      <a:pt x="503" y="492"/>
                    </a:lnTo>
                    <a:lnTo>
                      <a:pt x="475" y="508"/>
                    </a:lnTo>
                    <a:lnTo>
                      <a:pt x="468" y="496"/>
                    </a:lnTo>
                    <a:lnTo>
                      <a:pt x="444" y="504"/>
                    </a:lnTo>
                    <a:lnTo>
                      <a:pt x="436" y="516"/>
                    </a:lnTo>
                    <a:lnTo>
                      <a:pt x="423" y="514"/>
                    </a:lnTo>
                    <a:lnTo>
                      <a:pt x="416" y="504"/>
                    </a:lnTo>
                    <a:lnTo>
                      <a:pt x="403" y="506"/>
                    </a:lnTo>
                    <a:lnTo>
                      <a:pt x="340" y="520"/>
                    </a:lnTo>
                    <a:lnTo>
                      <a:pt x="322" y="494"/>
                    </a:lnTo>
                    <a:lnTo>
                      <a:pt x="379" y="462"/>
                    </a:lnTo>
                    <a:lnTo>
                      <a:pt x="370" y="444"/>
                    </a:lnTo>
                    <a:lnTo>
                      <a:pt x="351" y="448"/>
                    </a:lnTo>
                    <a:lnTo>
                      <a:pt x="288" y="470"/>
                    </a:lnTo>
                    <a:lnTo>
                      <a:pt x="272" y="468"/>
                    </a:lnTo>
                    <a:lnTo>
                      <a:pt x="257" y="448"/>
                    </a:lnTo>
                    <a:lnTo>
                      <a:pt x="264" y="438"/>
                    </a:lnTo>
                    <a:lnTo>
                      <a:pt x="283" y="430"/>
                    </a:lnTo>
                    <a:lnTo>
                      <a:pt x="307" y="422"/>
                    </a:lnTo>
                    <a:lnTo>
                      <a:pt x="268" y="428"/>
                    </a:lnTo>
                    <a:lnTo>
                      <a:pt x="240" y="428"/>
                    </a:lnTo>
                    <a:lnTo>
                      <a:pt x="196" y="432"/>
                    </a:lnTo>
                    <a:lnTo>
                      <a:pt x="176" y="422"/>
                    </a:lnTo>
                    <a:lnTo>
                      <a:pt x="131" y="422"/>
                    </a:lnTo>
                    <a:lnTo>
                      <a:pt x="124" y="444"/>
                    </a:lnTo>
                    <a:lnTo>
                      <a:pt x="133" y="458"/>
                    </a:lnTo>
                    <a:lnTo>
                      <a:pt x="137" y="484"/>
                    </a:lnTo>
                    <a:lnTo>
                      <a:pt x="120" y="478"/>
                    </a:lnTo>
                    <a:lnTo>
                      <a:pt x="122" y="490"/>
                    </a:lnTo>
                    <a:lnTo>
                      <a:pt x="135" y="508"/>
                    </a:lnTo>
                    <a:lnTo>
                      <a:pt x="115" y="512"/>
                    </a:lnTo>
                    <a:lnTo>
                      <a:pt x="102" y="502"/>
                    </a:lnTo>
                    <a:lnTo>
                      <a:pt x="113" y="480"/>
                    </a:lnTo>
                    <a:lnTo>
                      <a:pt x="100" y="482"/>
                    </a:lnTo>
                    <a:lnTo>
                      <a:pt x="105" y="440"/>
                    </a:lnTo>
                    <a:lnTo>
                      <a:pt x="115" y="420"/>
                    </a:lnTo>
                    <a:lnTo>
                      <a:pt x="83" y="418"/>
                    </a:lnTo>
                    <a:lnTo>
                      <a:pt x="63" y="404"/>
                    </a:lnTo>
                    <a:lnTo>
                      <a:pt x="41" y="390"/>
                    </a:lnTo>
                    <a:lnTo>
                      <a:pt x="37" y="378"/>
                    </a:lnTo>
                    <a:lnTo>
                      <a:pt x="54" y="374"/>
                    </a:lnTo>
                    <a:lnTo>
                      <a:pt x="35" y="334"/>
                    </a:lnTo>
                    <a:lnTo>
                      <a:pt x="22" y="324"/>
                    </a:lnTo>
                    <a:lnTo>
                      <a:pt x="0" y="318"/>
                    </a:lnTo>
                    <a:lnTo>
                      <a:pt x="9" y="308"/>
                    </a:lnTo>
                    <a:lnTo>
                      <a:pt x="24" y="292"/>
                    </a:lnTo>
                    <a:lnTo>
                      <a:pt x="2" y="270"/>
                    </a:lnTo>
                    <a:lnTo>
                      <a:pt x="22" y="264"/>
                    </a:lnTo>
                    <a:lnTo>
                      <a:pt x="54" y="286"/>
                    </a:lnTo>
                    <a:lnTo>
                      <a:pt x="126" y="286"/>
                    </a:lnTo>
                    <a:lnTo>
                      <a:pt x="148" y="276"/>
                    </a:lnTo>
                    <a:lnTo>
                      <a:pt x="150" y="260"/>
                    </a:lnTo>
                    <a:lnTo>
                      <a:pt x="137" y="252"/>
                    </a:lnTo>
                    <a:lnTo>
                      <a:pt x="152" y="242"/>
                    </a:lnTo>
                    <a:lnTo>
                      <a:pt x="170" y="250"/>
                    </a:lnTo>
                    <a:lnTo>
                      <a:pt x="192" y="260"/>
                    </a:lnTo>
                    <a:lnTo>
                      <a:pt x="218" y="256"/>
                    </a:lnTo>
                    <a:lnTo>
                      <a:pt x="242" y="246"/>
                    </a:lnTo>
                    <a:lnTo>
                      <a:pt x="277" y="240"/>
                    </a:lnTo>
                    <a:lnTo>
                      <a:pt x="377" y="206"/>
                    </a:lnTo>
                    <a:lnTo>
                      <a:pt x="433" y="180"/>
                    </a:lnTo>
                    <a:lnTo>
                      <a:pt x="444" y="172"/>
                    </a:lnTo>
                    <a:lnTo>
                      <a:pt x="399" y="158"/>
                    </a:lnTo>
                    <a:lnTo>
                      <a:pt x="429" y="120"/>
                    </a:lnTo>
                    <a:lnTo>
                      <a:pt x="475" y="126"/>
                    </a:lnTo>
                    <a:lnTo>
                      <a:pt x="516" y="122"/>
                    </a:lnTo>
                    <a:lnTo>
                      <a:pt x="514" y="100"/>
                    </a:lnTo>
                    <a:lnTo>
                      <a:pt x="451" y="106"/>
                    </a:lnTo>
                    <a:lnTo>
                      <a:pt x="433" y="102"/>
                    </a:lnTo>
                    <a:lnTo>
                      <a:pt x="412" y="94"/>
                    </a:lnTo>
                    <a:cubicBezTo>
                      <a:pt x="418" y="83"/>
                      <a:pt x="414" y="84"/>
                      <a:pt x="420" y="84"/>
                    </a:cubicBezTo>
                    <a:lnTo>
                      <a:pt x="457" y="98"/>
                    </a:lnTo>
                    <a:lnTo>
                      <a:pt x="512" y="90"/>
                    </a:lnTo>
                    <a:lnTo>
                      <a:pt x="512" y="74"/>
                    </a:lnTo>
                    <a:lnTo>
                      <a:pt x="464" y="82"/>
                    </a:lnTo>
                    <a:lnTo>
                      <a:pt x="438" y="78"/>
                    </a:lnTo>
                    <a:cubicBezTo>
                      <a:pt x="431" y="75"/>
                      <a:pt x="418" y="70"/>
                      <a:pt x="418" y="70"/>
                    </a:cubicBezTo>
                    <a:lnTo>
                      <a:pt x="427" y="60"/>
                    </a:lnTo>
                    <a:lnTo>
                      <a:pt x="462" y="72"/>
                    </a:lnTo>
                    <a:lnTo>
                      <a:pt x="494" y="68"/>
                    </a:lnTo>
                    <a:lnTo>
                      <a:pt x="525" y="66"/>
                    </a:lnTo>
                    <a:lnTo>
                      <a:pt x="527" y="122"/>
                    </a:lnTo>
                    <a:lnTo>
                      <a:pt x="558" y="118"/>
                    </a:lnTo>
                    <a:lnTo>
                      <a:pt x="555" y="62"/>
                    </a:lnTo>
                    <a:lnTo>
                      <a:pt x="568" y="58"/>
                    </a:lnTo>
                    <a:lnTo>
                      <a:pt x="571" y="114"/>
                    </a:lnTo>
                    <a:lnTo>
                      <a:pt x="584" y="110"/>
                    </a:lnTo>
                    <a:lnTo>
                      <a:pt x="584" y="54"/>
                    </a:lnTo>
                    <a:lnTo>
                      <a:pt x="597" y="52"/>
                    </a:lnTo>
                    <a:lnTo>
                      <a:pt x="597" y="110"/>
                    </a:lnTo>
                    <a:lnTo>
                      <a:pt x="616" y="102"/>
                    </a:lnTo>
                    <a:lnTo>
                      <a:pt x="614" y="20"/>
                    </a:lnTo>
                    <a:lnTo>
                      <a:pt x="989" y="0"/>
                    </a:lnTo>
                    <a:lnTo>
                      <a:pt x="1143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7840" y="6322680"/>
                <a:ext cx="214560" cy="104760"/>
              </a:xfrm>
              <a:custGeom>
                <a:avLst/>
                <a:gdLst/>
                <a:ahLst/>
                <a:rect l="l" t="t" r="r" b="b"/>
                <a:pathLst>
                  <a:path w="204" h="110">
                    <a:moveTo>
                      <a:pt x="190" y="0"/>
                    </a:moveTo>
                    <a:lnTo>
                      <a:pt x="110" y="16"/>
                    </a:lnTo>
                    <a:lnTo>
                      <a:pt x="112" y="22"/>
                    </a:lnTo>
                    <a:lnTo>
                      <a:pt x="172" y="14"/>
                    </a:lnTo>
                    <a:lnTo>
                      <a:pt x="170" y="26"/>
                    </a:lnTo>
                    <a:lnTo>
                      <a:pt x="110" y="38"/>
                    </a:lnTo>
                    <a:lnTo>
                      <a:pt x="112" y="50"/>
                    </a:lnTo>
                    <a:lnTo>
                      <a:pt x="174" y="34"/>
                    </a:lnTo>
                    <a:lnTo>
                      <a:pt x="178" y="80"/>
                    </a:lnTo>
                    <a:lnTo>
                      <a:pt x="120" y="84"/>
                    </a:lnTo>
                    <a:lnTo>
                      <a:pt x="74" y="44"/>
                    </a:lnTo>
                    <a:lnTo>
                      <a:pt x="74" y="56"/>
                    </a:lnTo>
                    <a:lnTo>
                      <a:pt x="110" y="86"/>
                    </a:lnTo>
                    <a:lnTo>
                      <a:pt x="46" y="94"/>
                    </a:lnTo>
                    <a:lnTo>
                      <a:pt x="46" y="30"/>
                    </a:lnTo>
                    <a:cubicBezTo>
                      <a:pt x="29" y="32"/>
                      <a:pt x="30" y="27"/>
                      <a:pt x="30" y="34"/>
                    </a:cubicBezTo>
                    <a:lnTo>
                      <a:pt x="34" y="94"/>
                    </a:lnTo>
                    <a:lnTo>
                      <a:pt x="12" y="8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4" y="92"/>
                    </a:lnTo>
                    <a:lnTo>
                      <a:pt x="70" y="110"/>
                    </a:lnTo>
                    <a:lnTo>
                      <a:pt x="182" y="98"/>
                    </a:lnTo>
                    <a:lnTo>
                      <a:pt x="204" y="7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935200" y="6280920"/>
                <a:ext cx="970200" cy="577080"/>
              </a:xfrm>
              <a:custGeom>
                <a:avLst/>
                <a:gdLst/>
                <a:ahLst/>
                <a:rect l="l" t="t" r="r" b="b"/>
                <a:pathLst>
                  <a:path w="1004" h="606">
                    <a:moveTo>
                      <a:pt x="315" y="22"/>
                    </a:moveTo>
                    <a:lnTo>
                      <a:pt x="487" y="28"/>
                    </a:lnTo>
                    <a:lnTo>
                      <a:pt x="518" y="18"/>
                    </a:lnTo>
                    <a:lnTo>
                      <a:pt x="487" y="36"/>
                    </a:lnTo>
                    <a:lnTo>
                      <a:pt x="313" y="36"/>
                    </a:lnTo>
                    <a:lnTo>
                      <a:pt x="315" y="56"/>
                    </a:lnTo>
                    <a:lnTo>
                      <a:pt x="487" y="52"/>
                    </a:lnTo>
                    <a:lnTo>
                      <a:pt x="520" y="42"/>
                    </a:lnTo>
                    <a:lnTo>
                      <a:pt x="487" y="64"/>
                    </a:lnTo>
                    <a:lnTo>
                      <a:pt x="317" y="66"/>
                    </a:lnTo>
                    <a:lnTo>
                      <a:pt x="333" y="78"/>
                    </a:lnTo>
                    <a:lnTo>
                      <a:pt x="392" y="88"/>
                    </a:lnTo>
                    <a:lnTo>
                      <a:pt x="477" y="84"/>
                    </a:lnTo>
                    <a:lnTo>
                      <a:pt x="514" y="82"/>
                    </a:lnTo>
                    <a:lnTo>
                      <a:pt x="516" y="102"/>
                    </a:lnTo>
                    <a:lnTo>
                      <a:pt x="535" y="102"/>
                    </a:lnTo>
                    <a:lnTo>
                      <a:pt x="540" y="120"/>
                    </a:lnTo>
                    <a:lnTo>
                      <a:pt x="518" y="130"/>
                    </a:lnTo>
                    <a:lnTo>
                      <a:pt x="527" y="148"/>
                    </a:lnTo>
                    <a:lnTo>
                      <a:pt x="601" y="182"/>
                    </a:lnTo>
                    <a:lnTo>
                      <a:pt x="701" y="202"/>
                    </a:lnTo>
                    <a:lnTo>
                      <a:pt x="780" y="206"/>
                    </a:lnTo>
                    <a:lnTo>
                      <a:pt x="817" y="196"/>
                    </a:lnTo>
                    <a:lnTo>
                      <a:pt x="845" y="186"/>
                    </a:lnTo>
                    <a:lnTo>
                      <a:pt x="856" y="194"/>
                    </a:lnTo>
                    <a:lnTo>
                      <a:pt x="841" y="210"/>
                    </a:lnTo>
                    <a:lnTo>
                      <a:pt x="843" y="228"/>
                    </a:lnTo>
                    <a:lnTo>
                      <a:pt x="865" y="240"/>
                    </a:lnTo>
                    <a:lnTo>
                      <a:pt x="921" y="236"/>
                    </a:lnTo>
                    <a:lnTo>
                      <a:pt x="969" y="224"/>
                    </a:lnTo>
                    <a:lnTo>
                      <a:pt x="991" y="204"/>
                    </a:lnTo>
                    <a:lnTo>
                      <a:pt x="1000" y="214"/>
                    </a:lnTo>
                    <a:lnTo>
                      <a:pt x="984" y="232"/>
                    </a:lnTo>
                    <a:lnTo>
                      <a:pt x="993" y="248"/>
                    </a:lnTo>
                    <a:lnTo>
                      <a:pt x="982" y="260"/>
                    </a:lnTo>
                    <a:lnTo>
                      <a:pt x="997" y="262"/>
                    </a:lnTo>
                    <a:lnTo>
                      <a:pt x="1004" y="274"/>
                    </a:lnTo>
                    <a:lnTo>
                      <a:pt x="993" y="282"/>
                    </a:lnTo>
                    <a:lnTo>
                      <a:pt x="941" y="328"/>
                    </a:lnTo>
                    <a:lnTo>
                      <a:pt x="954" y="342"/>
                    </a:lnTo>
                    <a:lnTo>
                      <a:pt x="928" y="358"/>
                    </a:lnTo>
                    <a:lnTo>
                      <a:pt x="910" y="358"/>
                    </a:lnTo>
                    <a:lnTo>
                      <a:pt x="871" y="378"/>
                    </a:lnTo>
                    <a:lnTo>
                      <a:pt x="886" y="414"/>
                    </a:lnTo>
                    <a:lnTo>
                      <a:pt x="882" y="442"/>
                    </a:lnTo>
                    <a:lnTo>
                      <a:pt x="869" y="430"/>
                    </a:lnTo>
                    <a:lnTo>
                      <a:pt x="869" y="450"/>
                    </a:lnTo>
                    <a:lnTo>
                      <a:pt x="882" y="472"/>
                    </a:lnTo>
                    <a:lnTo>
                      <a:pt x="851" y="472"/>
                    </a:lnTo>
                    <a:lnTo>
                      <a:pt x="862" y="452"/>
                    </a:lnTo>
                    <a:lnTo>
                      <a:pt x="865" y="428"/>
                    </a:lnTo>
                    <a:lnTo>
                      <a:pt x="847" y="440"/>
                    </a:lnTo>
                    <a:lnTo>
                      <a:pt x="851" y="398"/>
                    </a:lnTo>
                    <a:lnTo>
                      <a:pt x="860" y="380"/>
                    </a:lnTo>
                    <a:lnTo>
                      <a:pt x="756" y="396"/>
                    </a:lnTo>
                    <a:lnTo>
                      <a:pt x="688" y="398"/>
                    </a:lnTo>
                    <a:lnTo>
                      <a:pt x="708" y="418"/>
                    </a:lnTo>
                    <a:lnTo>
                      <a:pt x="710" y="430"/>
                    </a:lnTo>
                    <a:lnTo>
                      <a:pt x="690" y="442"/>
                    </a:lnTo>
                    <a:lnTo>
                      <a:pt x="660" y="436"/>
                    </a:lnTo>
                    <a:lnTo>
                      <a:pt x="588" y="406"/>
                    </a:lnTo>
                    <a:lnTo>
                      <a:pt x="570" y="400"/>
                    </a:lnTo>
                    <a:lnTo>
                      <a:pt x="548" y="424"/>
                    </a:lnTo>
                    <a:lnTo>
                      <a:pt x="616" y="444"/>
                    </a:lnTo>
                    <a:lnTo>
                      <a:pt x="649" y="462"/>
                    </a:lnTo>
                    <a:lnTo>
                      <a:pt x="647" y="476"/>
                    </a:lnTo>
                    <a:lnTo>
                      <a:pt x="629" y="494"/>
                    </a:lnTo>
                    <a:lnTo>
                      <a:pt x="575" y="470"/>
                    </a:lnTo>
                    <a:lnTo>
                      <a:pt x="553" y="482"/>
                    </a:lnTo>
                    <a:lnTo>
                      <a:pt x="538" y="480"/>
                    </a:lnTo>
                    <a:lnTo>
                      <a:pt x="496" y="462"/>
                    </a:lnTo>
                    <a:lnTo>
                      <a:pt x="487" y="478"/>
                    </a:lnTo>
                    <a:lnTo>
                      <a:pt x="431" y="476"/>
                    </a:lnTo>
                    <a:lnTo>
                      <a:pt x="409" y="512"/>
                    </a:lnTo>
                    <a:lnTo>
                      <a:pt x="365" y="508"/>
                    </a:lnTo>
                    <a:lnTo>
                      <a:pt x="357" y="520"/>
                    </a:lnTo>
                    <a:lnTo>
                      <a:pt x="370" y="534"/>
                    </a:lnTo>
                    <a:lnTo>
                      <a:pt x="374" y="550"/>
                    </a:lnTo>
                    <a:lnTo>
                      <a:pt x="342" y="606"/>
                    </a:lnTo>
                    <a:lnTo>
                      <a:pt x="0" y="606"/>
                    </a:lnTo>
                    <a:lnTo>
                      <a:pt x="8" y="0"/>
                    </a:lnTo>
                    <a:lnTo>
                      <a:pt x="296" y="8"/>
                    </a:lnTo>
                    <a:lnTo>
                      <a:pt x="315" y="2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258840" y="6307560"/>
                <a:ext cx="155520" cy="87480"/>
              </a:xfrm>
              <a:custGeom>
                <a:avLst/>
                <a:gdLst/>
                <a:ahLst/>
                <a:rect l="l" t="t" r="r" b="b"/>
                <a:pathLst>
                  <a:path w="148" h="92">
                    <a:moveTo>
                      <a:pt x="0" y="82"/>
                    </a:moveTo>
                    <a:lnTo>
                      <a:pt x="4" y="2"/>
                    </a:lnTo>
                    <a:lnTo>
                      <a:pt x="18" y="0"/>
                    </a:lnTo>
                    <a:lnTo>
                      <a:pt x="12" y="74"/>
                    </a:lnTo>
                    <a:lnTo>
                      <a:pt x="44" y="78"/>
                    </a:lnTo>
                    <a:lnTo>
                      <a:pt x="46" y="2"/>
                    </a:lnTo>
                    <a:lnTo>
                      <a:pt x="58" y="2"/>
                    </a:lnTo>
                    <a:lnTo>
                      <a:pt x="56" y="72"/>
                    </a:lnTo>
                    <a:lnTo>
                      <a:pt x="94" y="70"/>
                    </a:lnTo>
                    <a:lnTo>
                      <a:pt x="92" y="2"/>
                    </a:lnTo>
                    <a:lnTo>
                      <a:pt x="106" y="4"/>
                    </a:lnTo>
                    <a:lnTo>
                      <a:pt x="104" y="68"/>
                    </a:lnTo>
                    <a:lnTo>
                      <a:pt x="136" y="64"/>
                    </a:lnTo>
                    <a:lnTo>
                      <a:pt x="128" y="0"/>
                    </a:lnTo>
                    <a:lnTo>
                      <a:pt x="142" y="2"/>
                    </a:lnTo>
                    <a:lnTo>
                      <a:pt x="148" y="70"/>
                    </a:lnTo>
                    <a:lnTo>
                      <a:pt x="60" y="88"/>
                    </a:lnTo>
                    <a:lnTo>
                      <a:pt x="8" y="9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6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799-72F2-472C-A2D4-D772446F7843}" type="slidenum"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2247840"/>
            <a:ext cx="9905760" cy="4609800"/>
            <a:chOff x="0" y="2247840"/>
            <a:chExt cx="9905760" cy="4609800"/>
          </a:xfrm>
        </p:grpSpPr>
        <p:sp>
          <p:nvSpPr>
            <p:cNvPr id="75" name=""/>
            <p:cNvSpPr/>
            <p:nvPr/>
          </p:nvSpPr>
          <p:spPr>
            <a:xfrm>
              <a:off x="0" y="5051520"/>
              <a:ext cx="9905760" cy="1800000"/>
            </a:xfrm>
            <a:custGeom>
              <a:avLst/>
              <a:gdLst/>
              <a:ahLst/>
              <a:rect l="l" t="t" r="r" b="b"/>
              <a:pathLst>
                <a:path w="4312" h="1232">
                  <a:moveTo>
                    <a:pt x="4312" y="616"/>
                  </a:moveTo>
                  <a:lnTo>
                    <a:pt x="4312" y="1232"/>
                  </a:lnTo>
                  <a:lnTo>
                    <a:pt x="0" y="1232"/>
                  </a:lnTo>
                  <a:lnTo>
                    <a:pt x="0" y="0"/>
                  </a:lnTo>
                  <a:cubicBezTo>
                    <a:pt x="50" y="15"/>
                    <a:pt x="103" y="21"/>
                    <a:pt x="147" y="48"/>
                  </a:cubicBezTo>
                  <a:cubicBezTo>
                    <a:pt x="168" y="76"/>
                    <a:pt x="168" y="93"/>
                    <a:pt x="200" y="112"/>
                  </a:cubicBezTo>
                  <a:cubicBezTo>
                    <a:pt x="213" y="149"/>
                    <a:pt x="226" y="139"/>
                    <a:pt x="260" y="160"/>
                  </a:cubicBezTo>
                  <a:cubicBezTo>
                    <a:pt x="317" y="143"/>
                    <a:pt x="367" y="132"/>
                    <a:pt x="425" y="120"/>
                  </a:cubicBezTo>
                  <a:cubicBezTo>
                    <a:pt x="454" y="114"/>
                    <a:pt x="475" y="97"/>
                    <a:pt x="503" y="88"/>
                  </a:cubicBezTo>
                  <a:cubicBezTo>
                    <a:pt x="540" y="99"/>
                    <a:pt x="616" y="112"/>
                    <a:pt x="616" y="112"/>
                  </a:cubicBezTo>
                  <a:cubicBezTo>
                    <a:pt x="665" y="142"/>
                    <a:pt x="643" y="169"/>
                    <a:pt x="677" y="200"/>
                  </a:cubicBezTo>
                  <a:cubicBezTo>
                    <a:pt x="684" y="207"/>
                    <a:pt x="695" y="210"/>
                    <a:pt x="703" y="216"/>
                  </a:cubicBezTo>
                  <a:cubicBezTo>
                    <a:pt x="721" y="231"/>
                    <a:pt x="755" y="264"/>
                    <a:pt x="755" y="264"/>
                  </a:cubicBezTo>
                  <a:cubicBezTo>
                    <a:pt x="801" y="253"/>
                    <a:pt x="838" y="248"/>
                    <a:pt x="868" y="288"/>
                  </a:cubicBezTo>
                  <a:cubicBezTo>
                    <a:pt x="859" y="293"/>
                    <a:pt x="846" y="295"/>
                    <a:pt x="842" y="304"/>
                  </a:cubicBezTo>
                  <a:cubicBezTo>
                    <a:pt x="838" y="312"/>
                    <a:pt x="854" y="320"/>
                    <a:pt x="850" y="328"/>
                  </a:cubicBezTo>
                  <a:cubicBezTo>
                    <a:pt x="846" y="337"/>
                    <a:pt x="833" y="339"/>
                    <a:pt x="824" y="344"/>
                  </a:cubicBezTo>
                  <a:cubicBezTo>
                    <a:pt x="843" y="394"/>
                    <a:pt x="875" y="408"/>
                    <a:pt x="928" y="424"/>
                  </a:cubicBezTo>
                  <a:cubicBezTo>
                    <a:pt x="960" y="414"/>
                    <a:pt x="983" y="400"/>
                    <a:pt x="1015" y="392"/>
                  </a:cubicBezTo>
                  <a:cubicBezTo>
                    <a:pt x="1068" y="402"/>
                    <a:pt x="1107" y="423"/>
                    <a:pt x="1163" y="432"/>
                  </a:cubicBezTo>
                  <a:cubicBezTo>
                    <a:pt x="1197" y="453"/>
                    <a:pt x="1232" y="475"/>
                    <a:pt x="1267" y="496"/>
                  </a:cubicBezTo>
                  <a:cubicBezTo>
                    <a:pt x="1297" y="515"/>
                    <a:pt x="1332" y="551"/>
                    <a:pt x="1371" y="560"/>
                  </a:cubicBezTo>
                  <a:cubicBezTo>
                    <a:pt x="1396" y="566"/>
                    <a:pt x="1423" y="565"/>
                    <a:pt x="1449" y="568"/>
                  </a:cubicBezTo>
                  <a:cubicBezTo>
                    <a:pt x="1516" y="583"/>
                    <a:pt x="1592" y="572"/>
                    <a:pt x="1657" y="552"/>
                  </a:cubicBezTo>
                  <a:cubicBezTo>
                    <a:pt x="1674" y="555"/>
                    <a:pt x="1694" y="552"/>
                    <a:pt x="1709" y="560"/>
                  </a:cubicBezTo>
                  <a:cubicBezTo>
                    <a:pt x="1717" y="564"/>
                    <a:pt x="1712" y="577"/>
                    <a:pt x="1718" y="584"/>
                  </a:cubicBezTo>
                  <a:cubicBezTo>
                    <a:pt x="1733" y="601"/>
                    <a:pt x="1758" y="603"/>
                    <a:pt x="1779" y="608"/>
                  </a:cubicBezTo>
                  <a:cubicBezTo>
                    <a:pt x="1795" y="623"/>
                    <a:pt x="1817" y="632"/>
                    <a:pt x="1831" y="648"/>
                  </a:cubicBezTo>
                  <a:cubicBezTo>
                    <a:pt x="1840" y="659"/>
                    <a:pt x="1847" y="719"/>
                    <a:pt x="1848" y="720"/>
                  </a:cubicBezTo>
                  <a:cubicBezTo>
                    <a:pt x="1855" y="732"/>
                    <a:pt x="1888" y="741"/>
                    <a:pt x="1900" y="744"/>
                  </a:cubicBezTo>
                  <a:cubicBezTo>
                    <a:pt x="1953" y="758"/>
                    <a:pt x="1991" y="777"/>
                    <a:pt x="2039" y="792"/>
                  </a:cubicBezTo>
                  <a:cubicBezTo>
                    <a:pt x="2109" y="776"/>
                    <a:pt x="2103" y="770"/>
                    <a:pt x="2160" y="752"/>
                  </a:cubicBezTo>
                  <a:cubicBezTo>
                    <a:pt x="2245" y="763"/>
                    <a:pt x="2332" y="796"/>
                    <a:pt x="2403" y="840"/>
                  </a:cubicBezTo>
                  <a:cubicBezTo>
                    <a:pt x="2476" y="823"/>
                    <a:pt x="2549" y="806"/>
                    <a:pt x="2620" y="784"/>
                  </a:cubicBezTo>
                  <a:cubicBezTo>
                    <a:pt x="2653" y="774"/>
                    <a:pt x="2667" y="741"/>
                    <a:pt x="2698" y="728"/>
                  </a:cubicBezTo>
                  <a:cubicBezTo>
                    <a:pt x="2754" y="705"/>
                    <a:pt x="2795" y="702"/>
                    <a:pt x="2854" y="696"/>
                  </a:cubicBezTo>
                  <a:cubicBezTo>
                    <a:pt x="2925" y="680"/>
                    <a:pt x="2991" y="653"/>
                    <a:pt x="3063" y="640"/>
                  </a:cubicBezTo>
                  <a:cubicBezTo>
                    <a:pt x="3083" y="643"/>
                    <a:pt x="3104" y="641"/>
                    <a:pt x="3123" y="648"/>
                  </a:cubicBezTo>
                  <a:cubicBezTo>
                    <a:pt x="3135" y="652"/>
                    <a:pt x="3140" y="666"/>
                    <a:pt x="3149" y="672"/>
                  </a:cubicBezTo>
                  <a:cubicBezTo>
                    <a:pt x="3157" y="677"/>
                    <a:pt x="3167" y="677"/>
                    <a:pt x="3175" y="680"/>
                  </a:cubicBezTo>
                  <a:cubicBezTo>
                    <a:pt x="3221" y="666"/>
                    <a:pt x="3265" y="673"/>
                    <a:pt x="3306" y="648"/>
                  </a:cubicBezTo>
                  <a:cubicBezTo>
                    <a:pt x="3415" y="682"/>
                    <a:pt x="3532" y="686"/>
                    <a:pt x="3644" y="712"/>
                  </a:cubicBezTo>
                  <a:cubicBezTo>
                    <a:pt x="3666" y="742"/>
                    <a:pt x="3675" y="774"/>
                    <a:pt x="3687" y="808"/>
                  </a:cubicBezTo>
                  <a:cubicBezTo>
                    <a:pt x="3691" y="816"/>
                    <a:pt x="3687" y="829"/>
                    <a:pt x="3696" y="832"/>
                  </a:cubicBezTo>
                  <a:cubicBezTo>
                    <a:pt x="3713" y="837"/>
                    <a:pt x="3748" y="848"/>
                    <a:pt x="3748" y="848"/>
                  </a:cubicBezTo>
                  <a:cubicBezTo>
                    <a:pt x="3798" y="833"/>
                    <a:pt x="3786" y="867"/>
                    <a:pt x="3817" y="824"/>
                  </a:cubicBezTo>
                  <a:cubicBezTo>
                    <a:pt x="3806" y="780"/>
                    <a:pt x="3809" y="760"/>
                    <a:pt x="3843" y="728"/>
                  </a:cubicBezTo>
                  <a:cubicBezTo>
                    <a:pt x="3847" y="715"/>
                    <a:pt x="3841" y="698"/>
                    <a:pt x="3852" y="688"/>
                  </a:cubicBezTo>
                  <a:cubicBezTo>
                    <a:pt x="3865" y="676"/>
                    <a:pt x="3904" y="672"/>
                    <a:pt x="3904" y="672"/>
                  </a:cubicBezTo>
                  <a:cubicBezTo>
                    <a:pt x="3932" y="681"/>
                    <a:pt x="3982" y="712"/>
                    <a:pt x="3982" y="712"/>
                  </a:cubicBezTo>
                  <a:cubicBezTo>
                    <a:pt x="3988" y="728"/>
                    <a:pt x="3996" y="743"/>
                    <a:pt x="4000" y="760"/>
                  </a:cubicBezTo>
                  <a:cubicBezTo>
                    <a:pt x="4003" y="773"/>
                    <a:pt x="4001" y="788"/>
                    <a:pt x="4008" y="800"/>
                  </a:cubicBezTo>
                  <a:cubicBezTo>
                    <a:pt x="4014" y="808"/>
                    <a:pt x="4026" y="811"/>
                    <a:pt x="4034" y="816"/>
                  </a:cubicBezTo>
                  <a:cubicBezTo>
                    <a:pt x="4072" y="804"/>
                    <a:pt x="4102" y="787"/>
                    <a:pt x="4138" y="776"/>
                  </a:cubicBezTo>
                  <a:cubicBezTo>
                    <a:pt x="4172" y="730"/>
                    <a:pt x="4159" y="719"/>
                    <a:pt x="4225" y="704"/>
                  </a:cubicBezTo>
                  <a:cubicBezTo>
                    <a:pt x="4246" y="675"/>
                    <a:pt x="4265" y="677"/>
                    <a:pt x="4286" y="648"/>
                  </a:cubicBezTo>
                  <a:cubicBezTo>
                    <a:pt x="4277" y="625"/>
                    <a:pt x="4312" y="616"/>
                    <a:pt x="4312" y="616"/>
                  </a:cubicBezTo>
                  <a:close/>
                </a:path>
              </a:pathLst>
            </a:cu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047720" y="2247840"/>
              <a:ext cx="2740680" cy="4609800"/>
              <a:chOff x="7047720" y="2247840"/>
              <a:chExt cx="2740680" cy="46098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7273080" y="2247840"/>
                <a:ext cx="2245320" cy="2451600"/>
                <a:chOff x="7273080" y="2247840"/>
                <a:chExt cx="2245320" cy="2451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320680" y="2322720"/>
                  <a:ext cx="60480" cy="734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17360" y="2247840"/>
                  <a:ext cx="290160" cy="1544040"/>
                </a:xfrm>
                <a:custGeom>
                  <a:avLst/>
                  <a:gdLst/>
                  <a:ahLst/>
                  <a:rect l="l" t="t" r="r" b="b"/>
                  <a:pathLst>
                    <a:path w="225" h="1215">
                      <a:moveTo>
                        <a:pt x="39" y="1146"/>
                      </a:moveTo>
                      <a:lnTo>
                        <a:pt x="87" y="1092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38" y="1095"/>
                      </a:lnTo>
                      <a:lnTo>
                        <a:pt x="183" y="1146"/>
                      </a:lnTo>
                      <a:lnTo>
                        <a:pt x="225" y="1146"/>
                      </a:lnTo>
                      <a:lnTo>
                        <a:pt x="222" y="1212"/>
                      </a:lnTo>
                      <a:lnTo>
                        <a:pt x="0" y="1215"/>
                      </a:lnTo>
                      <a:lnTo>
                        <a:pt x="0" y="1149"/>
                      </a:lnTo>
                      <a:lnTo>
                        <a:pt x="39" y="1146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20680" y="2418120"/>
                  <a:ext cx="60480" cy="734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304120" y="2754720"/>
                  <a:ext cx="11196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304120" y="2838600"/>
                  <a:ext cx="11196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304120" y="2922840"/>
                  <a:ext cx="111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304120" y="3006720"/>
                  <a:ext cx="111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91160" y="3265560"/>
                  <a:ext cx="138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97640" y="3181680"/>
                  <a:ext cx="12744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96200" y="3090600"/>
                  <a:ext cx="12780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91160" y="3349440"/>
                  <a:ext cx="1389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87200" y="3437280"/>
                  <a:ext cx="14688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264160" y="3521160"/>
                  <a:ext cx="197280" cy="118440"/>
                </a:xfrm>
                <a:custGeom>
                  <a:avLst/>
                  <a:gdLst/>
                  <a:ahLst/>
                  <a:rect l="l" t="t" r="r" b="b"/>
                  <a:pathLst>
                    <a:path w="153" h="93">
                      <a:moveTo>
                        <a:pt x="69" y="93"/>
                      </a:moveTo>
                      <a:lnTo>
                        <a:pt x="30" y="75"/>
                      </a:lnTo>
                      <a:lnTo>
                        <a:pt x="12" y="48"/>
                      </a:lnTo>
                      <a:lnTo>
                        <a:pt x="0" y="9"/>
                      </a:lnTo>
                      <a:lnTo>
                        <a:pt x="24" y="30"/>
                      </a:lnTo>
                      <a:lnTo>
                        <a:pt x="39" y="3"/>
                      </a:lnTo>
                      <a:lnTo>
                        <a:pt x="60" y="27"/>
                      </a:lnTo>
                      <a:lnTo>
                        <a:pt x="93" y="27"/>
                      </a:lnTo>
                      <a:lnTo>
                        <a:pt x="114" y="0"/>
                      </a:lnTo>
                      <a:lnTo>
                        <a:pt x="120" y="27"/>
                      </a:lnTo>
                      <a:lnTo>
                        <a:pt x="153" y="9"/>
                      </a:lnTo>
                      <a:lnTo>
                        <a:pt x="123" y="81"/>
                      </a:lnTo>
                      <a:lnTo>
                        <a:pt x="69" y="93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273080" y="3784320"/>
                  <a:ext cx="2245320" cy="915120"/>
                </a:xfrm>
                <a:custGeom>
                  <a:avLst/>
                  <a:gdLst/>
                  <a:ahLst/>
                  <a:rect l="l" t="t" r="r" b="b"/>
                  <a:pathLst>
                    <a:path w="1740" h="720">
                      <a:moveTo>
                        <a:pt x="954" y="0"/>
                      </a:moveTo>
                      <a:lnTo>
                        <a:pt x="1086" y="105"/>
                      </a:lnTo>
                      <a:lnTo>
                        <a:pt x="1206" y="180"/>
                      </a:lnTo>
                      <a:lnTo>
                        <a:pt x="1353" y="252"/>
                      </a:lnTo>
                      <a:lnTo>
                        <a:pt x="1467" y="291"/>
                      </a:lnTo>
                      <a:lnTo>
                        <a:pt x="1521" y="303"/>
                      </a:lnTo>
                      <a:lnTo>
                        <a:pt x="1581" y="294"/>
                      </a:lnTo>
                      <a:lnTo>
                        <a:pt x="1563" y="318"/>
                      </a:lnTo>
                      <a:lnTo>
                        <a:pt x="1572" y="342"/>
                      </a:lnTo>
                      <a:lnTo>
                        <a:pt x="1620" y="357"/>
                      </a:lnTo>
                      <a:lnTo>
                        <a:pt x="1680" y="354"/>
                      </a:lnTo>
                      <a:lnTo>
                        <a:pt x="1728" y="324"/>
                      </a:lnTo>
                      <a:lnTo>
                        <a:pt x="1740" y="339"/>
                      </a:lnTo>
                      <a:lnTo>
                        <a:pt x="1719" y="351"/>
                      </a:lnTo>
                      <a:lnTo>
                        <a:pt x="1710" y="393"/>
                      </a:lnTo>
                      <a:lnTo>
                        <a:pt x="1734" y="378"/>
                      </a:lnTo>
                      <a:lnTo>
                        <a:pt x="1707" y="414"/>
                      </a:lnTo>
                      <a:lnTo>
                        <a:pt x="1686" y="441"/>
                      </a:lnTo>
                      <a:lnTo>
                        <a:pt x="1698" y="456"/>
                      </a:lnTo>
                      <a:lnTo>
                        <a:pt x="1680" y="468"/>
                      </a:lnTo>
                      <a:lnTo>
                        <a:pt x="1668" y="486"/>
                      </a:lnTo>
                      <a:lnTo>
                        <a:pt x="1650" y="480"/>
                      </a:lnTo>
                      <a:lnTo>
                        <a:pt x="1614" y="510"/>
                      </a:lnTo>
                      <a:lnTo>
                        <a:pt x="1632" y="546"/>
                      </a:lnTo>
                      <a:lnTo>
                        <a:pt x="1632" y="579"/>
                      </a:lnTo>
                      <a:lnTo>
                        <a:pt x="1617" y="561"/>
                      </a:lnTo>
                      <a:lnTo>
                        <a:pt x="1617" y="585"/>
                      </a:lnTo>
                      <a:lnTo>
                        <a:pt x="1632" y="609"/>
                      </a:lnTo>
                      <a:lnTo>
                        <a:pt x="1605" y="609"/>
                      </a:lnTo>
                      <a:lnTo>
                        <a:pt x="1614" y="585"/>
                      </a:lnTo>
                      <a:lnTo>
                        <a:pt x="1614" y="561"/>
                      </a:lnTo>
                      <a:lnTo>
                        <a:pt x="1602" y="576"/>
                      </a:lnTo>
                      <a:lnTo>
                        <a:pt x="1608" y="516"/>
                      </a:lnTo>
                      <a:lnTo>
                        <a:pt x="1569" y="540"/>
                      </a:lnTo>
                      <a:lnTo>
                        <a:pt x="1518" y="558"/>
                      </a:lnTo>
                      <a:lnTo>
                        <a:pt x="1458" y="582"/>
                      </a:lnTo>
                      <a:lnTo>
                        <a:pt x="1407" y="597"/>
                      </a:lnTo>
                      <a:lnTo>
                        <a:pt x="1416" y="618"/>
                      </a:lnTo>
                      <a:lnTo>
                        <a:pt x="1395" y="627"/>
                      </a:lnTo>
                      <a:lnTo>
                        <a:pt x="1377" y="603"/>
                      </a:lnTo>
                      <a:lnTo>
                        <a:pt x="1347" y="606"/>
                      </a:lnTo>
                      <a:lnTo>
                        <a:pt x="1353" y="624"/>
                      </a:lnTo>
                      <a:lnTo>
                        <a:pt x="1335" y="630"/>
                      </a:lnTo>
                      <a:lnTo>
                        <a:pt x="1317" y="615"/>
                      </a:lnTo>
                      <a:lnTo>
                        <a:pt x="1311" y="639"/>
                      </a:lnTo>
                      <a:lnTo>
                        <a:pt x="1263" y="615"/>
                      </a:lnTo>
                      <a:lnTo>
                        <a:pt x="1263" y="642"/>
                      </a:lnTo>
                      <a:lnTo>
                        <a:pt x="1245" y="651"/>
                      </a:lnTo>
                      <a:lnTo>
                        <a:pt x="1218" y="633"/>
                      </a:lnTo>
                      <a:lnTo>
                        <a:pt x="1188" y="693"/>
                      </a:lnTo>
                      <a:lnTo>
                        <a:pt x="1191" y="720"/>
                      </a:lnTo>
                      <a:lnTo>
                        <a:pt x="504" y="717"/>
                      </a:lnTo>
                      <a:lnTo>
                        <a:pt x="498" y="687"/>
                      </a:lnTo>
                      <a:lnTo>
                        <a:pt x="471" y="690"/>
                      </a:lnTo>
                      <a:lnTo>
                        <a:pt x="462" y="663"/>
                      </a:lnTo>
                      <a:lnTo>
                        <a:pt x="417" y="660"/>
                      </a:lnTo>
                      <a:lnTo>
                        <a:pt x="411" y="642"/>
                      </a:lnTo>
                      <a:lnTo>
                        <a:pt x="333" y="681"/>
                      </a:lnTo>
                      <a:lnTo>
                        <a:pt x="306" y="663"/>
                      </a:lnTo>
                      <a:lnTo>
                        <a:pt x="366" y="621"/>
                      </a:lnTo>
                      <a:lnTo>
                        <a:pt x="345" y="615"/>
                      </a:lnTo>
                      <a:lnTo>
                        <a:pt x="258" y="657"/>
                      </a:lnTo>
                      <a:lnTo>
                        <a:pt x="237" y="642"/>
                      </a:lnTo>
                      <a:lnTo>
                        <a:pt x="279" y="603"/>
                      </a:lnTo>
                      <a:lnTo>
                        <a:pt x="120" y="606"/>
                      </a:lnTo>
                      <a:lnTo>
                        <a:pt x="123" y="660"/>
                      </a:lnTo>
                      <a:lnTo>
                        <a:pt x="102" y="657"/>
                      </a:lnTo>
                      <a:lnTo>
                        <a:pt x="81" y="699"/>
                      </a:lnTo>
                      <a:lnTo>
                        <a:pt x="117" y="702"/>
                      </a:lnTo>
                      <a:lnTo>
                        <a:pt x="87" y="651"/>
                      </a:lnTo>
                      <a:lnTo>
                        <a:pt x="105" y="603"/>
                      </a:lnTo>
                      <a:lnTo>
                        <a:pt x="81" y="603"/>
                      </a:lnTo>
                      <a:lnTo>
                        <a:pt x="36" y="579"/>
                      </a:lnTo>
                      <a:lnTo>
                        <a:pt x="12" y="513"/>
                      </a:lnTo>
                      <a:lnTo>
                        <a:pt x="0" y="480"/>
                      </a:lnTo>
                      <a:lnTo>
                        <a:pt x="87" y="474"/>
                      </a:lnTo>
                      <a:lnTo>
                        <a:pt x="162" y="444"/>
                      </a:lnTo>
                      <a:lnTo>
                        <a:pt x="144" y="414"/>
                      </a:lnTo>
                      <a:lnTo>
                        <a:pt x="192" y="417"/>
                      </a:lnTo>
                      <a:lnTo>
                        <a:pt x="252" y="378"/>
                      </a:lnTo>
                      <a:lnTo>
                        <a:pt x="246" y="330"/>
                      </a:lnTo>
                      <a:lnTo>
                        <a:pt x="258" y="318"/>
                      </a:lnTo>
                      <a:lnTo>
                        <a:pt x="270" y="342"/>
                      </a:lnTo>
                      <a:lnTo>
                        <a:pt x="306" y="348"/>
                      </a:lnTo>
                      <a:lnTo>
                        <a:pt x="372" y="312"/>
                      </a:lnTo>
                      <a:lnTo>
                        <a:pt x="360" y="300"/>
                      </a:lnTo>
                      <a:lnTo>
                        <a:pt x="363" y="285"/>
                      </a:lnTo>
                      <a:lnTo>
                        <a:pt x="393" y="297"/>
                      </a:lnTo>
                      <a:lnTo>
                        <a:pt x="597" y="135"/>
                      </a:lnTo>
                      <a:lnTo>
                        <a:pt x="723" y="3"/>
                      </a:lnTo>
                      <a:lnTo>
                        <a:pt x="954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 flipH="1">
                <a:off x="8291520" y="2528280"/>
                <a:ext cx="59040" cy="22104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355960" y="2528280"/>
                <a:ext cx="59400" cy="22104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4" y="174"/>
                    </a:moveTo>
                    <a:lnTo>
                      <a:pt x="40" y="158"/>
                    </a:lnTo>
                    <a:lnTo>
                      <a:pt x="46" y="138"/>
                    </a:lnTo>
                    <a:lnTo>
                      <a:pt x="42" y="26"/>
                    </a:lnTo>
                    <a:lnTo>
                      <a:pt x="32" y="1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22" y="26"/>
                    </a:lnTo>
                    <a:lnTo>
                      <a:pt x="0" y="40"/>
                    </a:lnTo>
                    <a:lnTo>
                      <a:pt x="24" y="32"/>
                    </a:lnTo>
                    <a:lnTo>
                      <a:pt x="24" y="46"/>
                    </a:lnTo>
                    <a:lnTo>
                      <a:pt x="0" y="58"/>
                    </a:lnTo>
                    <a:lnTo>
                      <a:pt x="28" y="54"/>
                    </a:lnTo>
                    <a:lnTo>
                      <a:pt x="2" y="74"/>
                    </a:lnTo>
                    <a:lnTo>
                      <a:pt x="28" y="66"/>
                    </a:lnTo>
                    <a:lnTo>
                      <a:pt x="30" y="78"/>
                    </a:lnTo>
                    <a:lnTo>
                      <a:pt x="2" y="90"/>
                    </a:lnTo>
                    <a:lnTo>
                      <a:pt x="30" y="84"/>
                    </a:lnTo>
                    <a:lnTo>
                      <a:pt x="2" y="106"/>
                    </a:lnTo>
                    <a:lnTo>
                      <a:pt x="30" y="98"/>
                    </a:lnTo>
                    <a:lnTo>
                      <a:pt x="6" y="120"/>
                    </a:lnTo>
                    <a:lnTo>
                      <a:pt x="30" y="116"/>
                    </a:lnTo>
                    <a:lnTo>
                      <a:pt x="6" y="136"/>
                    </a:lnTo>
                    <a:lnTo>
                      <a:pt x="32" y="132"/>
                    </a:lnTo>
                    <a:lnTo>
                      <a:pt x="26" y="144"/>
                    </a:lnTo>
                    <a:lnTo>
                      <a:pt x="6" y="156"/>
                    </a:lnTo>
                    <a:lnTo>
                      <a:pt x="4" y="174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65600" y="4686840"/>
                <a:ext cx="1326600" cy="724320"/>
              </a:xfrm>
              <a:custGeom>
                <a:avLst/>
                <a:gdLst/>
                <a:ahLst/>
                <a:rect l="l" t="t" r="r" b="b"/>
                <a:pathLst>
                  <a:path w="1028" h="570">
                    <a:moveTo>
                      <a:pt x="408" y="8"/>
                    </a:moveTo>
                    <a:lnTo>
                      <a:pt x="574" y="12"/>
                    </a:lnTo>
                    <a:lnTo>
                      <a:pt x="592" y="0"/>
                    </a:lnTo>
                    <a:lnTo>
                      <a:pt x="602" y="6"/>
                    </a:lnTo>
                    <a:lnTo>
                      <a:pt x="576" y="20"/>
                    </a:lnTo>
                    <a:lnTo>
                      <a:pt x="426" y="20"/>
                    </a:lnTo>
                    <a:lnTo>
                      <a:pt x="430" y="38"/>
                    </a:lnTo>
                    <a:lnTo>
                      <a:pt x="570" y="36"/>
                    </a:lnTo>
                    <a:lnTo>
                      <a:pt x="596" y="24"/>
                    </a:lnTo>
                    <a:lnTo>
                      <a:pt x="596" y="36"/>
                    </a:lnTo>
                    <a:lnTo>
                      <a:pt x="570" y="48"/>
                    </a:lnTo>
                    <a:lnTo>
                      <a:pt x="434" y="48"/>
                    </a:lnTo>
                    <a:lnTo>
                      <a:pt x="452" y="64"/>
                    </a:lnTo>
                    <a:lnTo>
                      <a:pt x="584" y="64"/>
                    </a:lnTo>
                    <a:lnTo>
                      <a:pt x="592" y="74"/>
                    </a:lnTo>
                    <a:lnTo>
                      <a:pt x="602" y="80"/>
                    </a:lnTo>
                    <a:lnTo>
                      <a:pt x="610" y="96"/>
                    </a:lnTo>
                    <a:lnTo>
                      <a:pt x="584" y="96"/>
                    </a:lnTo>
                    <a:lnTo>
                      <a:pt x="580" y="108"/>
                    </a:lnTo>
                    <a:lnTo>
                      <a:pt x="594" y="110"/>
                    </a:lnTo>
                    <a:lnTo>
                      <a:pt x="594" y="130"/>
                    </a:lnTo>
                    <a:lnTo>
                      <a:pt x="742" y="178"/>
                    </a:lnTo>
                    <a:lnTo>
                      <a:pt x="792" y="182"/>
                    </a:lnTo>
                    <a:lnTo>
                      <a:pt x="834" y="174"/>
                    </a:lnTo>
                    <a:lnTo>
                      <a:pt x="882" y="158"/>
                    </a:lnTo>
                    <a:lnTo>
                      <a:pt x="888" y="168"/>
                    </a:lnTo>
                    <a:lnTo>
                      <a:pt x="874" y="176"/>
                    </a:lnTo>
                    <a:lnTo>
                      <a:pt x="882" y="192"/>
                    </a:lnTo>
                    <a:lnTo>
                      <a:pt x="878" y="206"/>
                    </a:lnTo>
                    <a:lnTo>
                      <a:pt x="932" y="204"/>
                    </a:lnTo>
                    <a:lnTo>
                      <a:pt x="982" y="190"/>
                    </a:lnTo>
                    <a:lnTo>
                      <a:pt x="1018" y="172"/>
                    </a:lnTo>
                    <a:lnTo>
                      <a:pt x="1028" y="182"/>
                    </a:lnTo>
                    <a:lnTo>
                      <a:pt x="1006" y="196"/>
                    </a:lnTo>
                    <a:lnTo>
                      <a:pt x="1012" y="206"/>
                    </a:lnTo>
                    <a:lnTo>
                      <a:pt x="996" y="228"/>
                    </a:lnTo>
                    <a:lnTo>
                      <a:pt x="1020" y="220"/>
                    </a:lnTo>
                    <a:lnTo>
                      <a:pt x="1010" y="242"/>
                    </a:lnTo>
                    <a:lnTo>
                      <a:pt x="1016" y="252"/>
                    </a:lnTo>
                    <a:lnTo>
                      <a:pt x="1004" y="264"/>
                    </a:lnTo>
                    <a:lnTo>
                      <a:pt x="966" y="282"/>
                    </a:lnTo>
                    <a:lnTo>
                      <a:pt x="976" y="298"/>
                    </a:lnTo>
                    <a:lnTo>
                      <a:pt x="994" y="298"/>
                    </a:lnTo>
                    <a:lnTo>
                      <a:pt x="968" y="316"/>
                    </a:lnTo>
                    <a:lnTo>
                      <a:pt x="962" y="332"/>
                    </a:lnTo>
                    <a:lnTo>
                      <a:pt x="948" y="334"/>
                    </a:lnTo>
                    <a:lnTo>
                      <a:pt x="934" y="326"/>
                    </a:lnTo>
                    <a:lnTo>
                      <a:pt x="908" y="348"/>
                    </a:lnTo>
                    <a:lnTo>
                      <a:pt x="920" y="372"/>
                    </a:lnTo>
                    <a:lnTo>
                      <a:pt x="924" y="410"/>
                    </a:lnTo>
                    <a:lnTo>
                      <a:pt x="906" y="398"/>
                    </a:lnTo>
                    <a:lnTo>
                      <a:pt x="906" y="412"/>
                    </a:lnTo>
                    <a:lnTo>
                      <a:pt x="918" y="422"/>
                    </a:lnTo>
                    <a:lnTo>
                      <a:pt x="916" y="434"/>
                    </a:lnTo>
                    <a:lnTo>
                      <a:pt x="892" y="434"/>
                    </a:lnTo>
                    <a:lnTo>
                      <a:pt x="890" y="420"/>
                    </a:lnTo>
                    <a:lnTo>
                      <a:pt x="900" y="400"/>
                    </a:lnTo>
                    <a:lnTo>
                      <a:pt x="886" y="406"/>
                    </a:lnTo>
                    <a:lnTo>
                      <a:pt x="892" y="358"/>
                    </a:lnTo>
                    <a:lnTo>
                      <a:pt x="850" y="372"/>
                    </a:lnTo>
                    <a:lnTo>
                      <a:pt x="804" y="384"/>
                    </a:lnTo>
                    <a:lnTo>
                      <a:pt x="756" y="388"/>
                    </a:lnTo>
                    <a:lnTo>
                      <a:pt x="754" y="412"/>
                    </a:lnTo>
                    <a:lnTo>
                      <a:pt x="734" y="408"/>
                    </a:lnTo>
                    <a:lnTo>
                      <a:pt x="696" y="390"/>
                    </a:lnTo>
                    <a:lnTo>
                      <a:pt x="654" y="414"/>
                    </a:lnTo>
                    <a:lnTo>
                      <a:pt x="698" y="438"/>
                    </a:lnTo>
                    <a:lnTo>
                      <a:pt x="694" y="456"/>
                    </a:lnTo>
                    <a:lnTo>
                      <a:pt x="684" y="462"/>
                    </a:lnTo>
                    <a:lnTo>
                      <a:pt x="640" y="438"/>
                    </a:lnTo>
                    <a:lnTo>
                      <a:pt x="620" y="468"/>
                    </a:lnTo>
                    <a:lnTo>
                      <a:pt x="592" y="442"/>
                    </a:lnTo>
                    <a:lnTo>
                      <a:pt x="574" y="468"/>
                    </a:lnTo>
                    <a:lnTo>
                      <a:pt x="540" y="444"/>
                    </a:lnTo>
                    <a:lnTo>
                      <a:pt x="520" y="476"/>
                    </a:lnTo>
                    <a:lnTo>
                      <a:pt x="498" y="486"/>
                    </a:lnTo>
                    <a:lnTo>
                      <a:pt x="466" y="482"/>
                    </a:lnTo>
                    <a:lnTo>
                      <a:pt x="462" y="502"/>
                    </a:lnTo>
                    <a:lnTo>
                      <a:pt x="486" y="514"/>
                    </a:lnTo>
                    <a:lnTo>
                      <a:pt x="480" y="532"/>
                    </a:lnTo>
                    <a:lnTo>
                      <a:pt x="460" y="540"/>
                    </a:lnTo>
                    <a:lnTo>
                      <a:pt x="464" y="570"/>
                    </a:lnTo>
                    <a:lnTo>
                      <a:pt x="0" y="562"/>
                    </a:lnTo>
                    <a:lnTo>
                      <a:pt x="138" y="0"/>
                    </a:lnTo>
                    <a:lnTo>
                      <a:pt x="408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1160" y="4701960"/>
                <a:ext cx="182880" cy="114120"/>
              </a:xfrm>
              <a:custGeom>
                <a:avLst/>
                <a:gdLst/>
                <a:ahLst/>
                <a:rect l="l" t="t" r="r" b="b"/>
                <a:pathLst>
                  <a:path w="142" h="90">
                    <a:moveTo>
                      <a:pt x="0" y="90"/>
                    </a:moveTo>
                    <a:lnTo>
                      <a:pt x="2" y="4"/>
                    </a:lnTo>
                    <a:lnTo>
                      <a:pt x="14" y="2"/>
                    </a:lnTo>
                    <a:lnTo>
                      <a:pt x="12" y="74"/>
                    </a:lnTo>
                    <a:lnTo>
                      <a:pt x="40" y="68"/>
                    </a:lnTo>
                    <a:lnTo>
                      <a:pt x="34" y="2"/>
                    </a:lnTo>
                    <a:lnTo>
                      <a:pt x="50" y="4"/>
                    </a:lnTo>
                    <a:lnTo>
                      <a:pt x="52" y="70"/>
                    </a:lnTo>
                    <a:lnTo>
                      <a:pt x="90" y="28"/>
                    </a:lnTo>
                    <a:lnTo>
                      <a:pt x="104" y="28"/>
                    </a:lnTo>
                    <a:lnTo>
                      <a:pt x="72" y="64"/>
                    </a:lnTo>
                    <a:lnTo>
                      <a:pt x="102" y="62"/>
                    </a:lnTo>
                    <a:lnTo>
                      <a:pt x="92" y="0"/>
                    </a:lnTo>
                    <a:lnTo>
                      <a:pt x="106" y="2"/>
                    </a:lnTo>
                    <a:lnTo>
                      <a:pt x="112" y="60"/>
                    </a:lnTo>
                    <a:lnTo>
                      <a:pt x="128" y="62"/>
                    </a:lnTo>
                    <a:lnTo>
                      <a:pt x="124" y="16"/>
                    </a:lnTo>
                    <a:lnTo>
                      <a:pt x="114" y="28"/>
                    </a:lnTo>
                    <a:lnTo>
                      <a:pt x="120" y="4"/>
                    </a:lnTo>
                    <a:lnTo>
                      <a:pt x="136" y="0"/>
                    </a:lnTo>
                    <a:lnTo>
                      <a:pt x="142" y="60"/>
                    </a:lnTo>
                    <a:lnTo>
                      <a:pt x="116" y="7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07200" y="4671360"/>
                <a:ext cx="1277640" cy="747360"/>
              </a:xfrm>
              <a:custGeom>
                <a:avLst/>
                <a:gdLst/>
                <a:ahLst/>
                <a:rect l="l" t="t" r="r" b="b"/>
                <a:pathLst>
                  <a:path w="990" h="588">
                    <a:moveTo>
                      <a:pt x="844" y="532"/>
                    </a:moveTo>
                    <a:lnTo>
                      <a:pt x="990" y="0"/>
                    </a:lnTo>
                    <a:lnTo>
                      <a:pt x="554" y="10"/>
                    </a:lnTo>
                    <a:lnTo>
                      <a:pt x="534" y="38"/>
                    </a:lnTo>
                    <a:lnTo>
                      <a:pt x="506" y="50"/>
                    </a:lnTo>
                    <a:lnTo>
                      <a:pt x="506" y="62"/>
                    </a:lnTo>
                    <a:lnTo>
                      <a:pt x="550" y="38"/>
                    </a:lnTo>
                    <a:lnTo>
                      <a:pt x="548" y="58"/>
                    </a:lnTo>
                    <a:lnTo>
                      <a:pt x="506" y="74"/>
                    </a:lnTo>
                    <a:lnTo>
                      <a:pt x="508" y="86"/>
                    </a:lnTo>
                    <a:lnTo>
                      <a:pt x="550" y="64"/>
                    </a:lnTo>
                    <a:lnTo>
                      <a:pt x="552" y="86"/>
                    </a:lnTo>
                    <a:lnTo>
                      <a:pt x="506" y="104"/>
                    </a:lnTo>
                    <a:lnTo>
                      <a:pt x="482" y="112"/>
                    </a:lnTo>
                    <a:lnTo>
                      <a:pt x="480" y="72"/>
                    </a:lnTo>
                    <a:lnTo>
                      <a:pt x="414" y="90"/>
                    </a:lnTo>
                    <a:lnTo>
                      <a:pt x="394" y="84"/>
                    </a:lnTo>
                    <a:lnTo>
                      <a:pt x="410" y="102"/>
                    </a:lnTo>
                    <a:lnTo>
                      <a:pt x="472" y="84"/>
                    </a:lnTo>
                    <a:lnTo>
                      <a:pt x="410" y="116"/>
                    </a:lnTo>
                    <a:lnTo>
                      <a:pt x="390" y="110"/>
                    </a:lnTo>
                    <a:lnTo>
                      <a:pt x="384" y="122"/>
                    </a:lnTo>
                    <a:lnTo>
                      <a:pt x="404" y="128"/>
                    </a:lnTo>
                    <a:lnTo>
                      <a:pt x="472" y="98"/>
                    </a:lnTo>
                    <a:lnTo>
                      <a:pt x="472" y="122"/>
                    </a:lnTo>
                    <a:lnTo>
                      <a:pt x="406" y="144"/>
                    </a:lnTo>
                    <a:lnTo>
                      <a:pt x="402" y="160"/>
                    </a:lnTo>
                    <a:lnTo>
                      <a:pt x="390" y="160"/>
                    </a:lnTo>
                    <a:lnTo>
                      <a:pt x="402" y="172"/>
                    </a:lnTo>
                    <a:lnTo>
                      <a:pt x="396" y="200"/>
                    </a:lnTo>
                    <a:lnTo>
                      <a:pt x="382" y="202"/>
                    </a:lnTo>
                    <a:lnTo>
                      <a:pt x="374" y="182"/>
                    </a:lnTo>
                    <a:lnTo>
                      <a:pt x="364" y="190"/>
                    </a:lnTo>
                    <a:lnTo>
                      <a:pt x="364" y="216"/>
                    </a:lnTo>
                    <a:lnTo>
                      <a:pt x="352" y="226"/>
                    </a:lnTo>
                    <a:lnTo>
                      <a:pt x="322" y="234"/>
                    </a:lnTo>
                    <a:lnTo>
                      <a:pt x="300" y="218"/>
                    </a:lnTo>
                    <a:lnTo>
                      <a:pt x="290" y="196"/>
                    </a:lnTo>
                    <a:lnTo>
                      <a:pt x="276" y="198"/>
                    </a:lnTo>
                    <a:lnTo>
                      <a:pt x="280" y="216"/>
                    </a:lnTo>
                    <a:lnTo>
                      <a:pt x="268" y="238"/>
                    </a:lnTo>
                    <a:lnTo>
                      <a:pt x="270" y="252"/>
                    </a:lnTo>
                    <a:lnTo>
                      <a:pt x="222" y="278"/>
                    </a:lnTo>
                    <a:lnTo>
                      <a:pt x="184" y="280"/>
                    </a:lnTo>
                    <a:lnTo>
                      <a:pt x="156" y="274"/>
                    </a:lnTo>
                    <a:lnTo>
                      <a:pt x="130" y="258"/>
                    </a:lnTo>
                    <a:lnTo>
                      <a:pt x="120" y="268"/>
                    </a:lnTo>
                    <a:lnTo>
                      <a:pt x="144" y="288"/>
                    </a:lnTo>
                    <a:lnTo>
                      <a:pt x="112" y="304"/>
                    </a:lnTo>
                    <a:lnTo>
                      <a:pt x="66" y="308"/>
                    </a:lnTo>
                    <a:lnTo>
                      <a:pt x="34" y="298"/>
                    </a:lnTo>
                    <a:lnTo>
                      <a:pt x="18" y="286"/>
                    </a:lnTo>
                    <a:lnTo>
                      <a:pt x="8" y="296"/>
                    </a:lnTo>
                    <a:lnTo>
                      <a:pt x="24" y="310"/>
                    </a:lnTo>
                    <a:lnTo>
                      <a:pt x="26" y="332"/>
                    </a:lnTo>
                    <a:lnTo>
                      <a:pt x="18" y="342"/>
                    </a:lnTo>
                    <a:lnTo>
                      <a:pt x="6" y="334"/>
                    </a:lnTo>
                    <a:lnTo>
                      <a:pt x="0" y="348"/>
                    </a:lnTo>
                    <a:lnTo>
                      <a:pt x="20" y="364"/>
                    </a:lnTo>
                    <a:lnTo>
                      <a:pt x="52" y="374"/>
                    </a:lnTo>
                    <a:lnTo>
                      <a:pt x="66" y="382"/>
                    </a:lnTo>
                    <a:lnTo>
                      <a:pt x="60" y="394"/>
                    </a:lnTo>
                    <a:lnTo>
                      <a:pt x="38" y="392"/>
                    </a:lnTo>
                    <a:lnTo>
                      <a:pt x="36" y="406"/>
                    </a:lnTo>
                    <a:lnTo>
                      <a:pt x="62" y="410"/>
                    </a:lnTo>
                    <a:lnTo>
                      <a:pt x="76" y="426"/>
                    </a:lnTo>
                    <a:lnTo>
                      <a:pt x="104" y="422"/>
                    </a:lnTo>
                    <a:lnTo>
                      <a:pt x="104" y="440"/>
                    </a:lnTo>
                    <a:lnTo>
                      <a:pt x="94" y="460"/>
                    </a:lnTo>
                    <a:lnTo>
                      <a:pt x="94" y="488"/>
                    </a:lnTo>
                    <a:lnTo>
                      <a:pt x="110" y="482"/>
                    </a:lnTo>
                    <a:lnTo>
                      <a:pt x="110" y="498"/>
                    </a:lnTo>
                    <a:lnTo>
                      <a:pt x="96" y="514"/>
                    </a:lnTo>
                    <a:lnTo>
                      <a:pt x="118" y="518"/>
                    </a:lnTo>
                    <a:lnTo>
                      <a:pt x="124" y="506"/>
                    </a:lnTo>
                    <a:lnTo>
                      <a:pt x="116" y="476"/>
                    </a:lnTo>
                    <a:lnTo>
                      <a:pt x="134" y="486"/>
                    </a:lnTo>
                    <a:lnTo>
                      <a:pt x="130" y="448"/>
                    </a:lnTo>
                    <a:lnTo>
                      <a:pt x="118" y="432"/>
                    </a:lnTo>
                    <a:lnTo>
                      <a:pt x="180" y="426"/>
                    </a:lnTo>
                    <a:lnTo>
                      <a:pt x="188" y="442"/>
                    </a:lnTo>
                    <a:lnTo>
                      <a:pt x="212" y="440"/>
                    </a:lnTo>
                    <a:lnTo>
                      <a:pt x="208" y="422"/>
                    </a:lnTo>
                    <a:lnTo>
                      <a:pt x="222" y="424"/>
                    </a:lnTo>
                    <a:lnTo>
                      <a:pt x="228" y="442"/>
                    </a:lnTo>
                    <a:lnTo>
                      <a:pt x="246" y="442"/>
                    </a:lnTo>
                    <a:lnTo>
                      <a:pt x="244" y="426"/>
                    </a:lnTo>
                    <a:lnTo>
                      <a:pt x="260" y="434"/>
                    </a:lnTo>
                    <a:lnTo>
                      <a:pt x="288" y="428"/>
                    </a:lnTo>
                    <a:lnTo>
                      <a:pt x="244" y="462"/>
                    </a:lnTo>
                    <a:lnTo>
                      <a:pt x="266" y="492"/>
                    </a:lnTo>
                    <a:lnTo>
                      <a:pt x="350" y="444"/>
                    </a:lnTo>
                    <a:lnTo>
                      <a:pt x="368" y="452"/>
                    </a:lnTo>
                    <a:lnTo>
                      <a:pt x="344" y="472"/>
                    </a:lnTo>
                    <a:lnTo>
                      <a:pt x="300" y="502"/>
                    </a:lnTo>
                    <a:lnTo>
                      <a:pt x="330" y="528"/>
                    </a:lnTo>
                    <a:lnTo>
                      <a:pt x="370" y="502"/>
                    </a:lnTo>
                    <a:lnTo>
                      <a:pt x="414" y="474"/>
                    </a:lnTo>
                    <a:lnTo>
                      <a:pt x="426" y="508"/>
                    </a:lnTo>
                    <a:lnTo>
                      <a:pt x="480" y="502"/>
                    </a:lnTo>
                    <a:lnTo>
                      <a:pt x="476" y="524"/>
                    </a:lnTo>
                    <a:lnTo>
                      <a:pt x="526" y="528"/>
                    </a:lnTo>
                    <a:lnTo>
                      <a:pt x="516" y="542"/>
                    </a:lnTo>
                    <a:lnTo>
                      <a:pt x="494" y="556"/>
                    </a:lnTo>
                    <a:lnTo>
                      <a:pt x="512" y="582"/>
                    </a:lnTo>
                    <a:lnTo>
                      <a:pt x="528" y="588"/>
                    </a:lnTo>
                    <a:lnTo>
                      <a:pt x="836" y="568"/>
                    </a:lnTo>
                    <a:lnTo>
                      <a:pt x="844" y="53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35320" y="4719960"/>
                <a:ext cx="166320" cy="167760"/>
              </a:xfrm>
              <a:custGeom>
                <a:avLst/>
                <a:gdLst/>
                <a:ahLst/>
                <a:rect l="l" t="t" r="r" b="b"/>
                <a:pathLst>
                  <a:path w="129" h="132">
                    <a:moveTo>
                      <a:pt x="129" y="78"/>
                    </a:moveTo>
                    <a:lnTo>
                      <a:pt x="127" y="0"/>
                    </a:lnTo>
                    <a:lnTo>
                      <a:pt x="119" y="4"/>
                    </a:lnTo>
                    <a:lnTo>
                      <a:pt x="119" y="66"/>
                    </a:lnTo>
                    <a:lnTo>
                      <a:pt x="107" y="72"/>
                    </a:lnTo>
                    <a:lnTo>
                      <a:pt x="109" y="10"/>
                    </a:lnTo>
                    <a:lnTo>
                      <a:pt x="97" y="14"/>
                    </a:lnTo>
                    <a:lnTo>
                      <a:pt x="99" y="88"/>
                    </a:lnTo>
                    <a:lnTo>
                      <a:pt x="47" y="108"/>
                    </a:lnTo>
                    <a:lnTo>
                      <a:pt x="41" y="46"/>
                    </a:lnTo>
                    <a:lnTo>
                      <a:pt x="33" y="48"/>
                    </a:lnTo>
                    <a:lnTo>
                      <a:pt x="33" y="104"/>
                    </a:lnTo>
                    <a:lnTo>
                      <a:pt x="15" y="110"/>
                    </a:lnTo>
                    <a:lnTo>
                      <a:pt x="15" y="52"/>
                    </a:lnTo>
                    <a:cubicBezTo>
                      <a:pt x="0" y="56"/>
                      <a:pt x="1" y="51"/>
                      <a:pt x="1" y="58"/>
                    </a:cubicBezTo>
                    <a:lnTo>
                      <a:pt x="7" y="132"/>
                    </a:lnTo>
                    <a:lnTo>
                      <a:pt x="129" y="7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155720" y="5378400"/>
                <a:ext cx="2516400" cy="767880"/>
                <a:chOff x="7155720" y="5378400"/>
                <a:chExt cx="2516400" cy="7678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155720" y="5378400"/>
                  <a:ext cx="1362600" cy="767880"/>
                </a:xfrm>
                <a:custGeom>
                  <a:avLst/>
                  <a:gdLst/>
                  <a:ahLst/>
                  <a:rect l="l" t="t" r="r" b="b"/>
                  <a:pathLst>
                    <a:path w="1056" h="604">
                      <a:moveTo>
                        <a:pt x="1050" y="8"/>
                      </a:moveTo>
                      <a:lnTo>
                        <a:pt x="1056" y="590"/>
                      </a:lnTo>
                      <a:lnTo>
                        <a:pt x="526" y="604"/>
                      </a:lnTo>
                      <a:lnTo>
                        <a:pt x="512" y="584"/>
                      </a:lnTo>
                      <a:lnTo>
                        <a:pt x="526" y="574"/>
                      </a:lnTo>
                      <a:lnTo>
                        <a:pt x="510" y="566"/>
                      </a:lnTo>
                      <a:lnTo>
                        <a:pt x="510" y="548"/>
                      </a:lnTo>
                      <a:lnTo>
                        <a:pt x="532" y="532"/>
                      </a:lnTo>
                      <a:lnTo>
                        <a:pt x="530" y="520"/>
                      </a:lnTo>
                      <a:lnTo>
                        <a:pt x="490" y="528"/>
                      </a:lnTo>
                      <a:lnTo>
                        <a:pt x="486" y="514"/>
                      </a:lnTo>
                      <a:lnTo>
                        <a:pt x="470" y="514"/>
                      </a:lnTo>
                      <a:lnTo>
                        <a:pt x="474" y="496"/>
                      </a:lnTo>
                      <a:lnTo>
                        <a:pt x="462" y="492"/>
                      </a:lnTo>
                      <a:lnTo>
                        <a:pt x="436" y="508"/>
                      </a:lnTo>
                      <a:lnTo>
                        <a:pt x="430" y="496"/>
                      </a:lnTo>
                      <a:lnTo>
                        <a:pt x="408" y="504"/>
                      </a:lnTo>
                      <a:lnTo>
                        <a:pt x="400" y="516"/>
                      </a:lnTo>
                      <a:lnTo>
                        <a:pt x="388" y="514"/>
                      </a:lnTo>
                      <a:lnTo>
                        <a:pt x="382" y="504"/>
                      </a:lnTo>
                      <a:lnTo>
                        <a:pt x="370" y="506"/>
                      </a:lnTo>
                      <a:lnTo>
                        <a:pt x="312" y="520"/>
                      </a:lnTo>
                      <a:lnTo>
                        <a:pt x="296" y="494"/>
                      </a:lnTo>
                      <a:lnTo>
                        <a:pt x="348" y="462"/>
                      </a:lnTo>
                      <a:lnTo>
                        <a:pt x="340" y="444"/>
                      </a:lnTo>
                      <a:lnTo>
                        <a:pt x="322" y="448"/>
                      </a:lnTo>
                      <a:lnTo>
                        <a:pt x="264" y="470"/>
                      </a:lnTo>
                      <a:lnTo>
                        <a:pt x="250" y="468"/>
                      </a:lnTo>
                      <a:lnTo>
                        <a:pt x="236" y="448"/>
                      </a:lnTo>
                      <a:lnTo>
                        <a:pt x="242" y="438"/>
                      </a:lnTo>
                      <a:lnTo>
                        <a:pt x="260" y="430"/>
                      </a:lnTo>
                      <a:lnTo>
                        <a:pt x="282" y="422"/>
                      </a:lnTo>
                      <a:lnTo>
                        <a:pt x="246" y="428"/>
                      </a:lnTo>
                      <a:lnTo>
                        <a:pt x="220" y="428"/>
                      </a:lnTo>
                      <a:lnTo>
                        <a:pt x="180" y="432"/>
                      </a:lnTo>
                      <a:lnTo>
                        <a:pt x="162" y="422"/>
                      </a:lnTo>
                      <a:lnTo>
                        <a:pt x="120" y="422"/>
                      </a:lnTo>
                      <a:lnTo>
                        <a:pt x="114" y="444"/>
                      </a:lnTo>
                      <a:lnTo>
                        <a:pt x="122" y="458"/>
                      </a:lnTo>
                      <a:lnTo>
                        <a:pt x="126" y="484"/>
                      </a:lnTo>
                      <a:lnTo>
                        <a:pt x="110" y="478"/>
                      </a:lnTo>
                      <a:lnTo>
                        <a:pt x="112" y="490"/>
                      </a:lnTo>
                      <a:lnTo>
                        <a:pt x="124" y="508"/>
                      </a:lnTo>
                      <a:lnTo>
                        <a:pt x="106" y="512"/>
                      </a:lnTo>
                      <a:lnTo>
                        <a:pt x="94" y="502"/>
                      </a:lnTo>
                      <a:lnTo>
                        <a:pt x="104" y="480"/>
                      </a:lnTo>
                      <a:lnTo>
                        <a:pt x="92" y="482"/>
                      </a:lnTo>
                      <a:lnTo>
                        <a:pt x="96" y="440"/>
                      </a:lnTo>
                      <a:lnTo>
                        <a:pt x="106" y="420"/>
                      </a:lnTo>
                      <a:lnTo>
                        <a:pt x="76" y="418"/>
                      </a:lnTo>
                      <a:lnTo>
                        <a:pt x="58" y="404"/>
                      </a:lnTo>
                      <a:lnTo>
                        <a:pt x="38" y="390"/>
                      </a:lnTo>
                      <a:lnTo>
                        <a:pt x="34" y="378"/>
                      </a:lnTo>
                      <a:lnTo>
                        <a:pt x="50" y="374"/>
                      </a:lnTo>
                      <a:lnTo>
                        <a:pt x="32" y="334"/>
                      </a:lnTo>
                      <a:lnTo>
                        <a:pt x="20" y="324"/>
                      </a:lnTo>
                      <a:lnTo>
                        <a:pt x="0" y="318"/>
                      </a:lnTo>
                      <a:lnTo>
                        <a:pt x="8" y="308"/>
                      </a:lnTo>
                      <a:lnTo>
                        <a:pt x="22" y="292"/>
                      </a:lnTo>
                      <a:lnTo>
                        <a:pt x="2" y="270"/>
                      </a:lnTo>
                      <a:lnTo>
                        <a:pt x="20" y="264"/>
                      </a:lnTo>
                      <a:lnTo>
                        <a:pt x="50" y="286"/>
                      </a:lnTo>
                      <a:lnTo>
                        <a:pt x="116" y="286"/>
                      </a:lnTo>
                      <a:lnTo>
                        <a:pt x="136" y="276"/>
                      </a:lnTo>
                      <a:lnTo>
                        <a:pt x="138" y="260"/>
                      </a:lnTo>
                      <a:lnTo>
                        <a:pt x="126" y="252"/>
                      </a:lnTo>
                      <a:lnTo>
                        <a:pt x="140" y="242"/>
                      </a:lnTo>
                      <a:lnTo>
                        <a:pt x="156" y="250"/>
                      </a:lnTo>
                      <a:lnTo>
                        <a:pt x="176" y="260"/>
                      </a:lnTo>
                      <a:lnTo>
                        <a:pt x="200" y="256"/>
                      </a:lnTo>
                      <a:lnTo>
                        <a:pt x="222" y="246"/>
                      </a:lnTo>
                      <a:lnTo>
                        <a:pt x="254" y="240"/>
                      </a:lnTo>
                      <a:lnTo>
                        <a:pt x="346" y="206"/>
                      </a:lnTo>
                      <a:lnTo>
                        <a:pt x="398" y="180"/>
                      </a:lnTo>
                      <a:lnTo>
                        <a:pt x="408" y="172"/>
                      </a:lnTo>
                      <a:lnTo>
                        <a:pt x="366" y="158"/>
                      </a:lnTo>
                      <a:lnTo>
                        <a:pt x="394" y="120"/>
                      </a:lnTo>
                      <a:lnTo>
                        <a:pt x="436" y="126"/>
                      </a:lnTo>
                      <a:lnTo>
                        <a:pt x="474" y="122"/>
                      </a:lnTo>
                      <a:lnTo>
                        <a:pt x="472" y="100"/>
                      </a:lnTo>
                      <a:lnTo>
                        <a:pt x="414" y="106"/>
                      </a:lnTo>
                      <a:lnTo>
                        <a:pt x="398" y="102"/>
                      </a:lnTo>
                      <a:lnTo>
                        <a:pt x="378" y="94"/>
                      </a:lnTo>
                      <a:cubicBezTo>
                        <a:pt x="384" y="83"/>
                        <a:pt x="380" y="84"/>
                        <a:pt x="386" y="84"/>
                      </a:cubicBezTo>
                      <a:lnTo>
                        <a:pt x="420" y="98"/>
                      </a:lnTo>
                      <a:lnTo>
                        <a:pt x="470" y="90"/>
                      </a:lnTo>
                      <a:lnTo>
                        <a:pt x="470" y="74"/>
                      </a:lnTo>
                      <a:lnTo>
                        <a:pt x="426" y="82"/>
                      </a:lnTo>
                      <a:lnTo>
                        <a:pt x="402" y="78"/>
                      </a:lnTo>
                      <a:cubicBezTo>
                        <a:pt x="396" y="75"/>
                        <a:pt x="384" y="70"/>
                        <a:pt x="384" y="70"/>
                      </a:cubicBezTo>
                      <a:lnTo>
                        <a:pt x="392" y="60"/>
                      </a:lnTo>
                      <a:lnTo>
                        <a:pt x="424" y="72"/>
                      </a:lnTo>
                      <a:lnTo>
                        <a:pt x="454" y="68"/>
                      </a:lnTo>
                      <a:lnTo>
                        <a:pt x="482" y="66"/>
                      </a:lnTo>
                      <a:lnTo>
                        <a:pt x="484" y="122"/>
                      </a:lnTo>
                      <a:lnTo>
                        <a:pt x="512" y="118"/>
                      </a:lnTo>
                      <a:lnTo>
                        <a:pt x="510" y="62"/>
                      </a:lnTo>
                      <a:lnTo>
                        <a:pt x="522" y="58"/>
                      </a:lnTo>
                      <a:lnTo>
                        <a:pt x="524" y="114"/>
                      </a:lnTo>
                      <a:lnTo>
                        <a:pt x="536" y="110"/>
                      </a:lnTo>
                      <a:lnTo>
                        <a:pt x="536" y="54"/>
                      </a:lnTo>
                      <a:lnTo>
                        <a:pt x="548" y="52"/>
                      </a:lnTo>
                      <a:lnTo>
                        <a:pt x="548" y="110"/>
                      </a:lnTo>
                      <a:lnTo>
                        <a:pt x="566" y="102"/>
                      </a:lnTo>
                      <a:lnTo>
                        <a:pt x="564" y="20"/>
                      </a:lnTo>
                      <a:lnTo>
                        <a:pt x="908" y="0"/>
                      </a:lnTo>
                      <a:lnTo>
                        <a:pt x="1050" y="8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677000" y="5434200"/>
                  <a:ext cx="262800" cy="139680"/>
                </a:xfrm>
                <a:custGeom>
                  <a:avLst/>
                  <a:gdLst/>
                  <a:ahLst/>
                  <a:rect l="l" t="t" r="r" b="b"/>
                  <a:pathLst>
                    <a:path w="204" h="110">
                      <a:moveTo>
                        <a:pt x="190" y="0"/>
                      </a:moveTo>
                      <a:lnTo>
                        <a:pt x="110" y="16"/>
                      </a:lnTo>
                      <a:lnTo>
                        <a:pt x="112" y="22"/>
                      </a:lnTo>
                      <a:lnTo>
                        <a:pt x="172" y="14"/>
                      </a:lnTo>
                      <a:lnTo>
                        <a:pt x="170" y="26"/>
                      </a:lnTo>
                      <a:lnTo>
                        <a:pt x="110" y="38"/>
                      </a:lnTo>
                      <a:lnTo>
                        <a:pt x="112" y="50"/>
                      </a:lnTo>
                      <a:lnTo>
                        <a:pt x="174" y="34"/>
                      </a:lnTo>
                      <a:lnTo>
                        <a:pt x="178" y="80"/>
                      </a:lnTo>
                      <a:lnTo>
                        <a:pt x="120" y="84"/>
                      </a:lnTo>
                      <a:lnTo>
                        <a:pt x="74" y="44"/>
                      </a:lnTo>
                      <a:lnTo>
                        <a:pt x="74" y="56"/>
                      </a:lnTo>
                      <a:lnTo>
                        <a:pt x="110" y="86"/>
                      </a:lnTo>
                      <a:lnTo>
                        <a:pt x="46" y="94"/>
                      </a:lnTo>
                      <a:lnTo>
                        <a:pt x="46" y="30"/>
                      </a:lnTo>
                      <a:cubicBezTo>
                        <a:pt x="29" y="32"/>
                        <a:pt x="30" y="27"/>
                        <a:pt x="30" y="34"/>
                      </a:cubicBezTo>
                      <a:lnTo>
                        <a:pt x="34" y="94"/>
                      </a:lnTo>
                      <a:lnTo>
                        <a:pt x="12" y="88"/>
                      </a:lnTo>
                      <a:lnTo>
                        <a:pt x="12" y="32"/>
                      </a:lnTo>
                      <a:lnTo>
                        <a:pt x="0" y="28"/>
                      </a:lnTo>
                      <a:lnTo>
                        <a:pt x="4" y="92"/>
                      </a:lnTo>
                      <a:lnTo>
                        <a:pt x="70" y="110"/>
                      </a:lnTo>
                      <a:lnTo>
                        <a:pt x="182" y="98"/>
                      </a:lnTo>
                      <a:lnTo>
                        <a:pt x="204" y="72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492760" y="5378400"/>
                  <a:ext cx="1179360" cy="741960"/>
                </a:xfrm>
                <a:custGeom>
                  <a:avLst/>
                  <a:gdLst/>
                  <a:ahLst/>
                  <a:rect l="l" t="t" r="r" b="b"/>
                  <a:pathLst>
                    <a:path w="914" h="584">
                      <a:moveTo>
                        <a:pt x="282" y="22"/>
                      </a:moveTo>
                      <a:lnTo>
                        <a:pt x="440" y="28"/>
                      </a:lnTo>
                      <a:lnTo>
                        <a:pt x="468" y="18"/>
                      </a:lnTo>
                      <a:lnTo>
                        <a:pt x="440" y="36"/>
                      </a:lnTo>
                      <a:lnTo>
                        <a:pt x="280" y="36"/>
                      </a:lnTo>
                      <a:lnTo>
                        <a:pt x="282" y="56"/>
                      </a:lnTo>
                      <a:lnTo>
                        <a:pt x="440" y="52"/>
                      </a:lnTo>
                      <a:lnTo>
                        <a:pt x="470" y="42"/>
                      </a:lnTo>
                      <a:lnTo>
                        <a:pt x="440" y="64"/>
                      </a:lnTo>
                      <a:lnTo>
                        <a:pt x="284" y="66"/>
                      </a:lnTo>
                      <a:lnTo>
                        <a:pt x="298" y="78"/>
                      </a:lnTo>
                      <a:lnTo>
                        <a:pt x="352" y="88"/>
                      </a:lnTo>
                      <a:lnTo>
                        <a:pt x="430" y="84"/>
                      </a:lnTo>
                      <a:lnTo>
                        <a:pt x="464" y="82"/>
                      </a:lnTo>
                      <a:lnTo>
                        <a:pt x="466" y="102"/>
                      </a:lnTo>
                      <a:lnTo>
                        <a:pt x="484" y="102"/>
                      </a:lnTo>
                      <a:lnTo>
                        <a:pt x="488" y="120"/>
                      </a:lnTo>
                      <a:lnTo>
                        <a:pt x="468" y="130"/>
                      </a:lnTo>
                      <a:lnTo>
                        <a:pt x="476" y="148"/>
                      </a:lnTo>
                      <a:lnTo>
                        <a:pt x="544" y="182"/>
                      </a:lnTo>
                      <a:lnTo>
                        <a:pt x="636" y="202"/>
                      </a:lnTo>
                      <a:lnTo>
                        <a:pt x="708" y="206"/>
                      </a:lnTo>
                      <a:lnTo>
                        <a:pt x="742" y="196"/>
                      </a:lnTo>
                      <a:lnTo>
                        <a:pt x="768" y="186"/>
                      </a:lnTo>
                      <a:lnTo>
                        <a:pt x="778" y="194"/>
                      </a:lnTo>
                      <a:lnTo>
                        <a:pt x="764" y="210"/>
                      </a:lnTo>
                      <a:lnTo>
                        <a:pt x="766" y="228"/>
                      </a:lnTo>
                      <a:lnTo>
                        <a:pt x="786" y="240"/>
                      </a:lnTo>
                      <a:lnTo>
                        <a:pt x="838" y="236"/>
                      </a:lnTo>
                      <a:lnTo>
                        <a:pt x="882" y="224"/>
                      </a:lnTo>
                      <a:lnTo>
                        <a:pt x="902" y="204"/>
                      </a:lnTo>
                      <a:lnTo>
                        <a:pt x="910" y="214"/>
                      </a:lnTo>
                      <a:lnTo>
                        <a:pt x="896" y="232"/>
                      </a:lnTo>
                      <a:lnTo>
                        <a:pt x="904" y="248"/>
                      </a:lnTo>
                      <a:lnTo>
                        <a:pt x="894" y="260"/>
                      </a:lnTo>
                      <a:lnTo>
                        <a:pt x="908" y="262"/>
                      </a:lnTo>
                      <a:lnTo>
                        <a:pt x="914" y="274"/>
                      </a:lnTo>
                      <a:lnTo>
                        <a:pt x="904" y="282"/>
                      </a:lnTo>
                      <a:lnTo>
                        <a:pt x="856" y="328"/>
                      </a:lnTo>
                      <a:lnTo>
                        <a:pt x="868" y="342"/>
                      </a:lnTo>
                      <a:lnTo>
                        <a:pt x="844" y="358"/>
                      </a:lnTo>
                      <a:lnTo>
                        <a:pt x="828" y="358"/>
                      </a:lnTo>
                      <a:lnTo>
                        <a:pt x="792" y="378"/>
                      </a:lnTo>
                      <a:lnTo>
                        <a:pt x="806" y="414"/>
                      </a:lnTo>
                      <a:lnTo>
                        <a:pt x="802" y="442"/>
                      </a:lnTo>
                      <a:lnTo>
                        <a:pt x="790" y="430"/>
                      </a:lnTo>
                      <a:lnTo>
                        <a:pt x="790" y="450"/>
                      </a:lnTo>
                      <a:lnTo>
                        <a:pt x="802" y="472"/>
                      </a:lnTo>
                      <a:lnTo>
                        <a:pt x="774" y="472"/>
                      </a:lnTo>
                      <a:lnTo>
                        <a:pt x="784" y="452"/>
                      </a:lnTo>
                      <a:lnTo>
                        <a:pt x="786" y="428"/>
                      </a:lnTo>
                      <a:lnTo>
                        <a:pt x="770" y="440"/>
                      </a:lnTo>
                      <a:lnTo>
                        <a:pt x="774" y="398"/>
                      </a:lnTo>
                      <a:lnTo>
                        <a:pt x="782" y="380"/>
                      </a:lnTo>
                      <a:lnTo>
                        <a:pt x="686" y="396"/>
                      </a:lnTo>
                      <a:lnTo>
                        <a:pt x="624" y="398"/>
                      </a:lnTo>
                      <a:lnTo>
                        <a:pt x="642" y="418"/>
                      </a:lnTo>
                      <a:lnTo>
                        <a:pt x="644" y="430"/>
                      </a:lnTo>
                      <a:lnTo>
                        <a:pt x="626" y="442"/>
                      </a:lnTo>
                      <a:lnTo>
                        <a:pt x="598" y="436"/>
                      </a:lnTo>
                      <a:lnTo>
                        <a:pt x="532" y="406"/>
                      </a:lnTo>
                      <a:lnTo>
                        <a:pt x="516" y="400"/>
                      </a:lnTo>
                      <a:lnTo>
                        <a:pt x="496" y="424"/>
                      </a:lnTo>
                      <a:lnTo>
                        <a:pt x="558" y="444"/>
                      </a:lnTo>
                      <a:lnTo>
                        <a:pt x="588" y="462"/>
                      </a:lnTo>
                      <a:lnTo>
                        <a:pt x="586" y="476"/>
                      </a:lnTo>
                      <a:lnTo>
                        <a:pt x="570" y="494"/>
                      </a:lnTo>
                      <a:lnTo>
                        <a:pt x="520" y="470"/>
                      </a:lnTo>
                      <a:lnTo>
                        <a:pt x="500" y="482"/>
                      </a:lnTo>
                      <a:lnTo>
                        <a:pt x="486" y="480"/>
                      </a:lnTo>
                      <a:lnTo>
                        <a:pt x="448" y="462"/>
                      </a:lnTo>
                      <a:lnTo>
                        <a:pt x="440" y="478"/>
                      </a:lnTo>
                      <a:lnTo>
                        <a:pt x="388" y="476"/>
                      </a:lnTo>
                      <a:lnTo>
                        <a:pt x="368" y="512"/>
                      </a:lnTo>
                      <a:lnTo>
                        <a:pt x="328" y="508"/>
                      </a:lnTo>
                      <a:lnTo>
                        <a:pt x="320" y="520"/>
                      </a:lnTo>
                      <a:lnTo>
                        <a:pt x="332" y="534"/>
                      </a:lnTo>
                      <a:lnTo>
                        <a:pt x="336" y="550"/>
                      </a:lnTo>
                      <a:lnTo>
                        <a:pt x="308" y="580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264" y="8"/>
                      </a:lnTo>
                      <a:lnTo>
                        <a:pt x="282" y="2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879400" y="5414040"/>
                  <a:ext cx="190800" cy="116640"/>
                </a:xfrm>
                <a:custGeom>
                  <a:avLst/>
                  <a:gdLst/>
                  <a:ahLst/>
                  <a:rect l="l" t="t" r="r" b="b"/>
                  <a:pathLst>
                    <a:path w="148" h="92">
                      <a:moveTo>
                        <a:pt x="0" y="82"/>
                      </a:moveTo>
                      <a:lnTo>
                        <a:pt x="4" y="2"/>
                      </a:lnTo>
                      <a:lnTo>
                        <a:pt x="18" y="0"/>
                      </a:lnTo>
                      <a:lnTo>
                        <a:pt x="12" y="74"/>
                      </a:lnTo>
                      <a:lnTo>
                        <a:pt x="44" y="78"/>
                      </a:lnTo>
                      <a:lnTo>
                        <a:pt x="46" y="2"/>
                      </a:lnTo>
                      <a:lnTo>
                        <a:pt x="58" y="2"/>
                      </a:lnTo>
                      <a:lnTo>
                        <a:pt x="56" y="72"/>
                      </a:lnTo>
                      <a:lnTo>
                        <a:pt x="94" y="70"/>
                      </a:lnTo>
                      <a:lnTo>
                        <a:pt x="92" y="2"/>
                      </a:lnTo>
                      <a:lnTo>
                        <a:pt x="106" y="4"/>
                      </a:lnTo>
                      <a:lnTo>
                        <a:pt x="104" y="68"/>
                      </a:lnTo>
                      <a:lnTo>
                        <a:pt x="136" y="64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48" y="70"/>
                      </a:lnTo>
                      <a:lnTo>
                        <a:pt x="60" y="88"/>
                      </a:lnTo>
                      <a:lnTo>
                        <a:pt x="8" y="9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7047720" y="6087600"/>
                <a:ext cx="1491480" cy="767520"/>
              </a:xfrm>
              <a:custGeom>
                <a:avLst/>
                <a:gdLst/>
                <a:ahLst/>
                <a:rect l="l" t="t" r="r" b="b"/>
                <a:pathLst>
                  <a:path w="1156" h="604">
                    <a:moveTo>
                      <a:pt x="1143" y="8"/>
                    </a:moveTo>
                    <a:lnTo>
                      <a:pt x="1156" y="600"/>
                    </a:lnTo>
                    <a:lnTo>
                      <a:pt x="573" y="604"/>
                    </a:lnTo>
                    <a:lnTo>
                      <a:pt x="558" y="584"/>
                    </a:lnTo>
                    <a:lnTo>
                      <a:pt x="573" y="574"/>
                    </a:lnTo>
                    <a:lnTo>
                      <a:pt x="555" y="566"/>
                    </a:lnTo>
                    <a:lnTo>
                      <a:pt x="555" y="548"/>
                    </a:lnTo>
                    <a:lnTo>
                      <a:pt x="579" y="532"/>
                    </a:lnTo>
                    <a:lnTo>
                      <a:pt x="577" y="520"/>
                    </a:lnTo>
                    <a:lnTo>
                      <a:pt x="534" y="528"/>
                    </a:lnTo>
                    <a:lnTo>
                      <a:pt x="529" y="514"/>
                    </a:lnTo>
                    <a:lnTo>
                      <a:pt x="512" y="514"/>
                    </a:lnTo>
                    <a:lnTo>
                      <a:pt x="516" y="496"/>
                    </a:lnTo>
                    <a:lnTo>
                      <a:pt x="503" y="492"/>
                    </a:lnTo>
                    <a:lnTo>
                      <a:pt x="475" y="508"/>
                    </a:lnTo>
                    <a:lnTo>
                      <a:pt x="468" y="496"/>
                    </a:lnTo>
                    <a:lnTo>
                      <a:pt x="444" y="504"/>
                    </a:lnTo>
                    <a:lnTo>
                      <a:pt x="436" y="516"/>
                    </a:lnTo>
                    <a:lnTo>
                      <a:pt x="423" y="514"/>
                    </a:lnTo>
                    <a:lnTo>
                      <a:pt x="416" y="504"/>
                    </a:lnTo>
                    <a:lnTo>
                      <a:pt x="403" y="506"/>
                    </a:lnTo>
                    <a:lnTo>
                      <a:pt x="340" y="520"/>
                    </a:lnTo>
                    <a:lnTo>
                      <a:pt x="322" y="494"/>
                    </a:lnTo>
                    <a:lnTo>
                      <a:pt x="379" y="462"/>
                    </a:lnTo>
                    <a:lnTo>
                      <a:pt x="370" y="444"/>
                    </a:lnTo>
                    <a:lnTo>
                      <a:pt x="351" y="448"/>
                    </a:lnTo>
                    <a:lnTo>
                      <a:pt x="288" y="470"/>
                    </a:lnTo>
                    <a:lnTo>
                      <a:pt x="272" y="468"/>
                    </a:lnTo>
                    <a:lnTo>
                      <a:pt x="257" y="448"/>
                    </a:lnTo>
                    <a:lnTo>
                      <a:pt x="264" y="438"/>
                    </a:lnTo>
                    <a:lnTo>
                      <a:pt x="283" y="430"/>
                    </a:lnTo>
                    <a:lnTo>
                      <a:pt x="307" y="422"/>
                    </a:lnTo>
                    <a:lnTo>
                      <a:pt x="268" y="428"/>
                    </a:lnTo>
                    <a:lnTo>
                      <a:pt x="240" y="428"/>
                    </a:lnTo>
                    <a:lnTo>
                      <a:pt x="196" y="432"/>
                    </a:lnTo>
                    <a:lnTo>
                      <a:pt x="176" y="422"/>
                    </a:lnTo>
                    <a:lnTo>
                      <a:pt x="131" y="422"/>
                    </a:lnTo>
                    <a:lnTo>
                      <a:pt x="124" y="444"/>
                    </a:lnTo>
                    <a:lnTo>
                      <a:pt x="133" y="458"/>
                    </a:lnTo>
                    <a:lnTo>
                      <a:pt x="137" y="484"/>
                    </a:lnTo>
                    <a:lnTo>
                      <a:pt x="120" y="478"/>
                    </a:lnTo>
                    <a:lnTo>
                      <a:pt x="122" y="490"/>
                    </a:lnTo>
                    <a:lnTo>
                      <a:pt x="135" y="508"/>
                    </a:lnTo>
                    <a:lnTo>
                      <a:pt x="115" y="512"/>
                    </a:lnTo>
                    <a:lnTo>
                      <a:pt x="102" y="502"/>
                    </a:lnTo>
                    <a:lnTo>
                      <a:pt x="113" y="480"/>
                    </a:lnTo>
                    <a:lnTo>
                      <a:pt x="100" y="482"/>
                    </a:lnTo>
                    <a:lnTo>
                      <a:pt x="105" y="440"/>
                    </a:lnTo>
                    <a:lnTo>
                      <a:pt x="115" y="420"/>
                    </a:lnTo>
                    <a:lnTo>
                      <a:pt x="83" y="418"/>
                    </a:lnTo>
                    <a:lnTo>
                      <a:pt x="63" y="404"/>
                    </a:lnTo>
                    <a:lnTo>
                      <a:pt x="41" y="390"/>
                    </a:lnTo>
                    <a:lnTo>
                      <a:pt x="37" y="378"/>
                    </a:lnTo>
                    <a:lnTo>
                      <a:pt x="54" y="374"/>
                    </a:lnTo>
                    <a:lnTo>
                      <a:pt x="35" y="334"/>
                    </a:lnTo>
                    <a:lnTo>
                      <a:pt x="22" y="324"/>
                    </a:lnTo>
                    <a:lnTo>
                      <a:pt x="0" y="318"/>
                    </a:lnTo>
                    <a:lnTo>
                      <a:pt x="9" y="308"/>
                    </a:lnTo>
                    <a:lnTo>
                      <a:pt x="24" y="292"/>
                    </a:lnTo>
                    <a:lnTo>
                      <a:pt x="2" y="270"/>
                    </a:lnTo>
                    <a:lnTo>
                      <a:pt x="22" y="264"/>
                    </a:lnTo>
                    <a:lnTo>
                      <a:pt x="54" y="286"/>
                    </a:lnTo>
                    <a:lnTo>
                      <a:pt x="126" y="286"/>
                    </a:lnTo>
                    <a:lnTo>
                      <a:pt x="148" y="276"/>
                    </a:lnTo>
                    <a:lnTo>
                      <a:pt x="150" y="260"/>
                    </a:lnTo>
                    <a:lnTo>
                      <a:pt x="137" y="252"/>
                    </a:lnTo>
                    <a:lnTo>
                      <a:pt x="152" y="242"/>
                    </a:lnTo>
                    <a:lnTo>
                      <a:pt x="170" y="250"/>
                    </a:lnTo>
                    <a:lnTo>
                      <a:pt x="192" y="260"/>
                    </a:lnTo>
                    <a:lnTo>
                      <a:pt x="218" y="256"/>
                    </a:lnTo>
                    <a:lnTo>
                      <a:pt x="242" y="246"/>
                    </a:lnTo>
                    <a:lnTo>
                      <a:pt x="277" y="240"/>
                    </a:lnTo>
                    <a:lnTo>
                      <a:pt x="377" y="206"/>
                    </a:lnTo>
                    <a:lnTo>
                      <a:pt x="433" y="180"/>
                    </a:lnTo>
                    <a:lnTo>
                      <a:pt x="444" y="172"/>
                    </a:lnTo>
                    <a:lnTo>
                      <a:pt x="399" y="158"/>
                    </a:lnTo>
                    <a:lnTo>
                      <a:pt x="429" y="120"/>
                    </a:lnTo>
                    <a:lnTo>
                      <a:pt x="475" y="126"/>
                    </a:lnTo>
                    <a:lnTo>
                      <a:pt x="516" y="122"/>
                    </a:lnTo>
                    <a:lnTo>
                      <a:pt x="514" y="100"/>
                    </a:lnTo>
                    <a:lnTo>
                      <a:pt x="451" y="106"/>
                    </a:lnTo>
                    <a:lnTo>
                      <a:pt x="433" y="102"/>
                    </a:lnTo>
                    <a:lnTo>
                      <a:pt x="412" y="94"/>
                    </a:lnTo>
                    <a:cubicBezTo>
                      <a:pt x="418" y="83"/>
                      <a:pt x="414" y="84"/>
                      <a:pt x="420" y="84"/>
                    </a:cubicBezTo>
                    <a:lnTo>
                      <a:pt x="457" y="98"/>
                    </a:lnTo>
                    <a:lnTo>
                      <a:pt x="512" y="90"/>
                    </a:lnTo>
                    <a:lnTo>
                      <a:pt x="512" y="74"/>
                    </a:lnTo>
                    <a:lnTo>
                      <a:pt x="464" y="82"/>
                    </a:lnTo>
                    <a:lnTo>
                      <a:pt x="438" y="78"/>
                    </a:lnTo>
                    <a:cubicBezTo>
                      <a:pt x="431" y="75"/>
                      <a:pt x="418" y="70"/>
                      <a:pt x="418" y="70"/>
                    </a:cubicBezTo>
                    <a:lnTo>
                      <a:pt x="427" y="60"/>
                    </a:lnTo>
                    <a:lnTo>
                      <a:pt x="462" y="72"/>
                    </a:lnTo>
                    <a:lnTo>
                      <a:pt x="494" y="68"/>
                    </a:lnTo>
                    <a:lnTo>
                      <a:pt x="525" y="66"/>
                    </a:lnTo>
                    <a:lnTo>
                      <a:pt x="527" y="122"/>
                    </a:lnTo>
                    <a:lnTo>
                      <a:pt x="558" y="118"/>
                    </a:lnTo>
                    <a:lnTo>
                      <a:pt x="555" y="62"/>
                    </a:lnTo>
                    <a:lnTo>
                      <a:pt x="568" y="58"/>
                    </a:lnTo>
                    <a:lnTo>
                      <a:pt x="571" y="114"/>
                    </a:lnTo>
                    <a:lnTo>
                      <a:pt x="584" y="110"/>
                    </a:lnTo>
                    <a:lnTo>
                      <a:pt x="584" y="54"/>
                    </a:lnTo>
                    <a:lnTo>
                      <a:pt x="597" y="52"/>
                    </a:lnTo>
                    <a:lnTo>
                      <a:pt x="597" y="110"/>
                    </a:lnTo>
                    <a:lnTo>
                      <a:pt x="616" y="102"/>
                    </a:lnTo>
                    <a:lnTo>
                      <a:pt x="614" y="20"/>
                    </a:lnTo>
                    <a:lnTo>
                      <a:pt x="989" y="0"/>
                    </a:lnTo>
                    <a:lnTo>
                      <a:pt x="1143" y="8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5440" y="6143760"/>
                <a:ext cx="286200" cy="139680"/>
              </a:xfrm>
              <a:custGeom>
                <a:avLst/>
                <a:gdLst/>
                <a:ahLst/>
                <a:rect l="l" t="t" r="r" b="b"/>
                <a:pathLst>
                  <a:path w="204" h="110">
                    <a:moveTo>
                      <a:pt x="190" y="0"/>
                    </a:moveTo>
                    <a:lnTo>
                      <a:pt x="110" y="16"/>
                    </a:lnTo>
                    <a:lnTo>
                      <a:pt x="112" y="22"/>
                    </a:lnTo>
                    <a:lnTo>
                      <a:pt x="172" y="14"/>
                    </a:lnTo>
                    <a:lnTo>
                      <a:pt x="170" y="26"/>
                    </a:lnTo>
                    <a:lnTo>
                      <a:pt x="110" y="38"/>
                    </a:lnTo>
                    <a:lnTo>
                      <a:pt x="112" y="50"/>
                    </a:lnTo>
                    <a:lnTo>
                      <a:pt x="174" y="34"/>
                    </a:lnTo>
                    <a:lnTo>
                      <a:pt x="178" y="80"/>
                    </a:lnTo>
                    <a:lnTo>
                      <a:pt x="120" y="84"/>
                    </a:lnTo>
                    <a:lnTo>
                      <a:pt x="74" y="44"/>
                    </a:lnTo>
                    <a:lnTo>
                      <a:pt x="74" y="56"/>
                    </a:lnTo>
                    <a:lnTo>
                      <a:pt x="110" y="86"/>
                    </a:lnTo>
                    <a:lnTo>
                      <a:pt x="46" y="94"/>
                    </a:lnTo>
                    <a:lnTo>
                      <a:pt x="46" y="30"/>
                    </a:lnTo>
                    <a:cubicBezTo>
                      <a:pt x="29" y="32"/>
                      <a:pt x="30" y="27"/>
                      <a:pt x="30" y="34"/>
                    </a:cubicBezTo>
                    <a:lnTo>
                      <a:pt x="34" y="94"/>
                    </a:lnTo>
                    <a:lnTo>
                      <a:pt x="12" y="8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4" y="92"/>
                    </a:lnTo>
                    <a:lnTo>
                      <a:pt x="70" y="110"/>
                    </a:lnTo>
                    <a:lnTo>
                      <a:pt x="182" y="98"/>
                    </a:lnTo>
                    <a:lnTo>
                      <a:pt x="204" y="72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93120" y="6087600"/>
                <a:ext cx="1295280" cy="770040"/>
              </a:xfrm>
              <a:custGeom>
                <a:avLst/>
                <a:gdLst/>
                <a:ahLst/>
                <a:rect l="l" t="t" r="r" b="b"/>
                <a:pathLst>
                  <a:path w="1004" h="606">
                    <a:moveTo>
                      <a:pt x="315" y="22"/>
                    </a:moveTo>
                    <a:lnTo>
                      <a:pt x="487" y="28"/>
                    </a:lnTo>
                    <a:lnTo>
                      <a:pt x="518" y="18"/>
                    </a:lnTo>
                    <a:lnTo>
                      <a:pt x="487" y="36"/>
                    </a:lnTo>
                    <a:lnTo>
                      <a:pt x="313" y="36"/>
                    </a:lnTo>
                    <a:lnTo>
                      <a:pt x="315" y="56"/>
                    </a:lnTo>
                    <a:lnTo>
                      <a:pt x="487" y="52"/>
                    </a:lnTo>
                    <a:lnTo>
                      <a:pt x="520" y="42"/>
                    </a:lnTo>
                    <a:lnTo>
                      <a:pt x="487" y="64"/>
                    </a:lnTo>
                    <a:lnTo>
                      <a:pt x="317" y="66"/>
                    </a:lnTo>
                    <a:lnTo>
                      <a:pt x="333" y="78"/>
                    </a:lnTo>
                    <a:lnTo>
                      <a:pt x="392" y="88"/>
                    </a:lnTo>
                    <a:lnTo>
                      <a:pt x="477" y="84"/>
                    </a:lnTo>
                    <a:lnTo>
                      <a:pt x="514" y="82"/>
                    </a:lnTo>
                    <a:lnTo>
                      <a:pt x="516" y="102"/>
                    </a:lnTo>
                    <a:lnTo>
                      <a:pt x="535" y="102"/>
                    </a:lnTo>
                    <a:lnTo>
                      <a:pt x="540" y="120"/>
                    </a:lnTo>
                    <a:lnTo>
                      <a:pt x="518" y="130"/>
                    </a:lnTo>
                    <a:lnTo>
                      <a:pt x="527" y="148"/>
                    </a:lnTo>
                    <a:lnTo>
                      <a:pt x="601" y="182"/>
                    </a:lnTo>
                    <a:lnTo>
                      <a:pt x="701" y="202"/>
                    </a:lnTo>
                    <a:lnTo>
                      <a:pt x="780" y="206"/>
                    </a:lnTo>
                    <a:lnTo>
                      <a:pt x="817" y="196"/>
                    </a:lnTo>
                    <a:lnTo>
                      <a:pt x="845" y="186"/>
                    </a:lnTo>
                    <a:lnTo>
                      <a:pt x="856" y="194"/>
                    </a:lnTo>
                    <a:lnTo>
                      <a:pt x="841" y="210"/>
                    </a:lnTo>
                    <a:lnTo>
                      <a:pt x="843" y="228"/>
                    </a:lnTo>
                    <a:lnTo>
                      <a:pt x="865" y="240"/>
                    </a:lnTo>
                    <a:lnTo>
                      <a:pt x="921" y="236"/>
                    </a:lnTo>
                    <a:lnTo>
                      <a:pt x="969" y="224"/>
                    </a:lnTo>
                    <a:lnTo>
                      <a:pt x="991" y="204"/>
                    </a:lnTo>
                    <a:lnTo>
                      <a:pt x="1000" y="214"/>
                    </a:lnTo>
                    <a:lnTo>
                      <a:pt x="984" y="232"/>
                    </a:lnTo>
                    <a:lnTo>
                      <a:pt x="993" y="248"/>
                    </a:lnTo>
                    <a:lnTo>
                      <a:pt x="982" y="260"/>
                    </a:lnTo>
                    <a:lnTo>
                      <a:pt x="997" y="262"/>
                    </a:lnTo>
                    <a:lnTo>
                      <a:pt x="1004" y="274"/>
                    </a:lnTo>
                    <a:lnTo>
                      <a:pt x="993" y="282"/>
                    </a:lnTo>
                    <a:lnTo>
                      <a:pt x="941" y="328"/>
                    </a:lnTo>
                    <a:lnTo>
                      <a:pt x="954" y="342"/>
                    </a:lnTo>
                    <a:lnTo>
                      <a:pt x="928" y="358"/>
                    </a:lnTo>
                    <a:lnTo>
                      <a:pt x="910" y="358"/>
                    </a:lnTo>
                    <a:lnTo>
                      <a:pt x="871" y="378"/>
                    </a:lnTo>
                    <a:lnTo>
                      <a:pt x="886" y="414"/>
                    </a:lnTo>
                    <a:lnTo>
                      <a:pt x="882" y="442"/>
                    </a:lnTo>
                    <a:lnTo>
                      <a:pt x="869" y="430"/>
                    </a:lnTo>
                    <a:lnTo>
                      <a:pt x="869" y="450"/>
                    </a:lnTo>
                    <a:lnTo>
                      <a:pt x="882" y="472"/>
                    </a:lnTo>
                    <a:lnTo>
                      <a:pt x="851" y="472"/>
                    </a:lnTo>
                    <a:lnTo>
                      <a:pt x="862" y="452"/>
                    </a:lnTo>
                    <a:lnTo>
                      <a:pt x="865" y="428"/>
                    </a:lnTo>
                    <a:lnTo>
                      <a:pt x="847" y="440"/>
                    </a:lnTo>
                    <a:lnTo>
                      <a:pt x="851" y="398"/>
                    </a:lnTo>
                    <a:lnTo>
                      <a:pt x="860" y="380"/>
                    </a:lnTo>
                    <a:lnTo>
                      <a:pt x="756" y="396"/>
                    </a:lnTo>
                    <a:lnTo>
                      <a:pt x="688" y="398"/>
                    </a:lnTo>
                    <a:lnTo>
                      <a:pt x="708" y="418"/>
                    </a:lnTo>
                    <a:lnTo>
                      <a:pt x="710" y="430"/>
                    </a:lnTo>
                    <a:lnTo>
                      <a:pt x="690" y="442"/>
                    </a:lnTo>
                    <a:lnTo>
                      <a:pt x="660" y="436"/>
                    </a:lnTo>
                    <a:lnTo>
                      <a:pt x="588" y="406"/>
                    </a:lnTo>
                    <a:lnTo>
                      <a:pt x="570" y="400"/>
                    </a:lnTo>
                    <a:lnTo>
                      <a:pt x="548" y="424"/>
                    </a:lnTo>
                    <a:lnTo>
                      <a:pt x="616" y="444"/>
                    </a:lnTo>
                    <a:lnTo>
                      <a:pt x="649" y="462"/>
                    </a:lnTo>
                    <a:lnTo>
                      <a:pt x="647" y="476"/>
                    </a:lnTo>
                    <a:lnTo>
                      <a:pt x="629" y="494"/>
                    </a:lnTo>
                    <a:lnTo>
                      <a:pt x="575" y="470"/>
                    </a:lnTo>
                    <a:lnTo>
                      <a:pt x="553" y="482"/>
                    </a:lnTo>
                    <a:lnTo>
                      <a:pt x="538" y="480"/>
                    </a:lnTo>
                    <a:lnTo>
                      <a:pt x="496" y="462"/>
                    </a:lnTo>
                    <a:lnTo>
                      <a:pt x="487" y="478"/>
                    </a:lnTo>
                    <a:lnTo>
                      <a:pt x="431" y="476"/>
                    </a:lnTo>
                    <a:lnTo>
                      <a:pt x="409" y="512"/>
                    </a:lnTo>
                    <a:lnTo>
                      <a:pt x="365" y="508"/>
                    </a:lnTo>
                    <a:lnTo>
                      <a:pt x="357" y="520"/>
                    </a:lnTo>
                    <a:lnTo>
                      <a:pt x="370" y="534"/>
                    </a:lnTo>
                    <a:lnTo>
                      <a:pt x="374" y="550"/>
                    </a:lnTo>
                    <a:lnTo>
                      <a:pt x="342" y="606"/>
                    </a:lnTo>
                    <a:lnTo>
                      <a:pt x="0" y="606"/>
                    </a:lnTo>
                    <a:lnTo>
                      <a:pt x="8" y="0"/>
                    </a:lnTo>
                    <a:lnTo>
                      <a:pt x="296" y="8"/>
                    </a:lnTo>
                    <a:lnTo>
                      <a:pt x="315" y="2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25120" y="6123240"/>
                <a:ext cx="207720" cy="117000"/>
              </a:xfrm>
              <a:custGeom>
                <a:avLst/>
                <a:gdLst/>
                <a:ahLst/>
                <a:rect l="l" t="t" r="r" b="b"/>
                <a:pathLst>
                  <a:path w="148" h="92">
                    <a:moveTo>
                      <a:pt x="0" y="82"/>
                    </a:moveTo>
                    <a:lnTo>
                      <a:pt x="4" y="2"/>
                    </a:lnTo>
                    <a:lnTo>
                      <a:pt x="18" y="0"/>
                    </a:lnTo>
                    <a:lnTo>
                      <a:pt x="12" y="74"/>
                    </a:lnTo>
                    <a:lnTo>
                      <a:pt x="44" y="78"/>
                    </a:lnTo>
                    <a:lnTo>
                      <a:pt x="46" y="2"/>
                    </a:lnTo>
                    <a:lnTo>
                      <a:pt x="58" y="2"/>
                    </a:lnTo>
                    <a:lnTo>
                      <a:pt x="56" y="72"/>
                    </a:lnTo>
                    <a:lnTo>
                      <a:pt x="94" y="70"/>
                    </a:lnTo>
                    <a:lnTo>
                      <a:pt x="92" y="2"/>
                    </a:lnTo>
                    <a:lnTo>
                      <a:pt x="106" y="4"/>
                    </a:lnTo>
                    <a:lnTo>
                      <a:pt x="104" y="68"/>
                    </a:lnTo>
                    <a:lnTo>
                      <a:pt x="136" y="64"/>
                    </a:lnTo>
                    <a:lnTo>
                      <a:pt x="128" y="0"/>
                    </a:lnTo>
                    <a:lnTo>
                      <a:pt x="142" y="2"/>
                    </a:lnTo>
                    <a:lnTo>
                      <a:pt x="148" y="70"/>
                    </a:lnTo>
                    <a:lnTo>
                      <a:pt x="60" y="88"/>
                    </a:lnTo>
                    <a:lnTo>
                      <a:pt x="8" y="9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36D-D3AB-4B4A-B91E-2B40DF285D4E}" type="slidenum"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10000"/>
                </a:solidFill>
                <a:uFillTx/>
                <a:latin typeface="Century"/>
              </a:rPr>
              <a:t>Main Subj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39320" y="1649160"/>
            <a:ext cx="84484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Simulation is one of the most powerful tool to solve our problem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To establish an appropriate simulation environment is essential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Century"/>
              </a:rPr>
              <a:t>But  </a:t>
            </a:r>
            <a:r>
              <a:rPr b="1" i="1" lang="zh-CN" sz="2400" spc="-1" strike="noStrike">
                <a:solidFill>
                  <a:srgbClr val="ff3300"/>
                </a:solidFill>
                <a:latin typeface="Century"/>
              </a:rPr>
              <a:t>・ ・ ・ ・ ・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000"/>
                </a:solidFill>
                <a:latin typeface="Century"/>
              </a:rPr>
              <a:t>１</a:t>
            </a: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. What to choose as the major simulation model?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      </a:t>
            </a:r>
            <a:r>
              <a:rPr b="1" i="1" lang="en-US" sz="2000" spc="-1" strike="noStrike">
                <a:solidFill>
                  <a:srgbClr val="010000"/>
                </a:solidFill>
                <a:latin typeface="Century"/>
              </a:rPr>
              <a:t>IBIS , IMIC , SPICE or  X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What to do with the non-semiconductor device model?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     </a:t>
            </a:r>
            <a:r>
              <a:rPr b="1" i="1" lang="en-US" sz="2000" spc="-1" strike="noStrike">
                <a:solidFill>
                  <a:srgbClr val="010000"/>
                </a:solidFill>
                <a:latin typeface="Century"/>
              </a:rPr>
              <a:t>Package , Connector , Capacitor ,Filter etc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2. When and how to make the model(s) available?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     </a:t>
            </a:r>
            <a:r>
              <a:rPr b="1" i="1" lang="en-US" sz="2000" spc="-1" strike="noStrike">
                <a:solidFill>
                  <a:srgbClr val="010000"/>
                </a:solidFill>
                <a:latin typeface="Century"/>
              </a:rPr>
              <a:t>Public or NDA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    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3. How to judge the model accuracy?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Century"/>
              </a:rPr>
              <a:t>         </a:t>
            </a:r>
            <a:r>
              <a:rPr b="1" i="1" lang="en-US" sz="2000" spc="-1" strike="noStrike">
                <a:solidFill>
                  <a:srgbClr val="010000"/>
                </a:solidFill>
                <a:latin typeface="Century"/>
              </a:rPr>
              <a:t>Limitation  or CAD function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5480" y="380880"/>
            <a:ext cx="8337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3 Discrete Power Semiconductors :Current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3160" y="2895480"/>
            <a:ext cx="808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ower diode models on Web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73160" y="2438280"/>
            <a:ext cx="808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roviding SPICE model to individual custome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343400"/>
            <a:ext cx="858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Accurate models for power diodes and MOS needs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more complex network description for device and parasitic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7920" y="1905120"/>
            <a:ext cx="330228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roviding Model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7920" y="3695760"/>
            <a:ext cx="330228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urrent Statu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5181480"/>
            <a:ext cx="850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Simple Power Transistor/Diode may be modeled in IBIS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by killing most of the elements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82760" y="380880"/>
            <a:ext cx="8832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Times New Roman"/>
              </a:rPr>
              <a:t>3.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3 Discrete Power Semiconductors :Future Model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33400" y="1905120"/>
            <a:ext cx="21463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905120"/>
            <a:ext cx="27241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IMI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(Table_SPICE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32040" y="5181480"/>
            <a:ext cx="2724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AHD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2819520"/>
            <a:ext cx="1486080" cy="45720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25680" y="2819520"/>
            <a:ext cx="1320840" cy="45720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35680" y="4724280"/>
            <a:ext cx="0" cy="457200"/>
          </a:xfrm>
          <a:prstGeom prst="line">
            <a:avLst/>
          </a:prstGeom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98640" y="3200400"/>
            <a:ext cx="635652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andidates of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ower Semiconductor Mode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77760" y="1752480"/>
            <a:ext cx="7994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1. Most important issue for users is to get new device models timely. 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Time to market is most important for set maker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2.  Simulation becomes important to reduce prototyping and cost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Selection of components will be done by simulation with model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3.  Models of new devices to be used in the end products may be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obtained only through co-development between users and provider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4.  Users should tell model provides the required level of accuracy. 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The  time to get models depends on it.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609480"/>
            <a:ext cx="8668080" cy="130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Result of 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Discussions between Model Providers and Users (1)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54080" y="1542960"/>
            <a:ext cx="7804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5.  Required level of simulation model accuracy or information are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different from engineers or application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6.  Effect of parasitic on discrete component models is important.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Isolated component models may not show the real.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7.  Socket models are also needed for set maker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8.  Crystal and passive oscillator models are required for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system design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240" y="609480"/>
            <a:ext cx="8668080" cy="12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Result of 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Discussions between Model Providers and Users (2)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39960" y="1614600"/>
            <a:ext cx="8584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9.  Set makers should detail the conditions of use to component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10.  Models should have the effect of temperature and aging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11.  Models should protect proprietary information.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</a:rPr>
              <a:t>12.  Network description may be only way to improve accuracy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240" y="609480"/>
            <a:ext cx="8668080" cy="12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Result of 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entury"/>
              </a:rPr>
              <a:t>Discussions between Model Providers and Users (3)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35200" y="1960560"/>
            <a:ext cx="71438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1.  Interviews  IC makers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2.  Interviews more components such as crystal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oscillators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3.  Write reports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533520"/>
            <a:ext cx="8337600" cy="89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Century"/>
              </a:rPr>
              <a:t>Future activity Plan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84520" y="1707840"/>
            <a:ext cx="89499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1. Most important issue for users is to get new device models timely.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Any data format (IBIS,IMIC,SPICE,etc) is acceptable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Just in time in design proces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Create  distribution channel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2. Efforts must be made to expedite format standardization,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as well as to expand the range of application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from semiconductor devices to non- semiconductor device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3. To be supported  by EDA tools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CAD  and Checking tool of  model quality 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Easy to use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4. Standardization is required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Relationship or migration with  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IBIS and  IMIC, IEC TC93/wg6  Positively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36840" y="420840"/>
            <a:ext cx="697068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Century"/>
              </a:rPr>
              <a:t>                 </a:t>
            </a:r>
            <a:r>
              <a:rPr b="1" lang="en-US" sz="3600" spc="-1" strike="noStrike">
                <a:solidFill>
                  <a:srgbClr val="010000"/>
                </a:solidFill>
                <a:latin typeface="Century"/>
              </a:rPr>
              <a:t>Conclusion</a:t>
            </a:r>
            <a:r>
              <a:rPr b="1" lang="en-US" sz="3200" spc="-1" strike="noStrike">
                <a:solidFill>
                  <a:srgbClr val="010000"/>
                </a:solidFill>
                <a:latin typeface="Century"/>
              </a:rPr>
              <a:t>  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Century"/>
              </a:rPr>
              <a:t>         </a:t>
            </a:r>
            <a:r>
              <a:rPr b="1" lang="zh-CN" sz="3200" spc="-1" strike="noStrike">
                <a:solidFill>
                  <a:srgbClr val="010000"/>
                </a:solidFill>
                <a:latin typeface="Century"/>
              </a:rPr>
              <a:t>ー</a:t>
            </a:r>
            <a:r>
              <a:rPr b="1" lang="en-US" sz="3200" spc="-1" strike="noStrike">
                <a:solidFill>
                  <a:srgbClr val="010000"/>
                </a:solidFill>
                <a:latin typeface="Century"/>
              </a:rPr>
              <a:t>To Take a Step Forward </a:t>
            </a:r>
            <a:r>
              <a:rPr b="1" lang="zh-CN" sz="3200" spc="-1" strike="noStrike">
                <a:solidFill>
                  <a:srgbClr val="010000"/>
                </a:solidFill>
                <a:latin typeface="Century"/>
              </a:rPr>
              <a:t>ー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214800" y="3430440"/>
          <a:ext cx="360036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3430440"/>
                    <a:ext cx="36003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977360" y="5745600"/>
            <a:ext cx="241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99"/>
                </a:solidFill>
                <a:latin typeface="Century"/>
              </a:rPr>
              <a:t>Copy from Nikkei BP June14  1999(No745)</a:t>
            </a:r>
            <a:endParaRPr b="0" lang="en-US" sz="9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0" y="638280"/>
            <a:ext cx="336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Century"/>
              </a:rPr>
              <a:t>Thank you 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Century"/>
              </a:rPr>
              <a:t>for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Century"/>
              </a:rPr>
              <a:t> </a:t>
            </a:r>
            <a:r>
              <a:rPr b="0" lang="en-US" sz="3600" spc="-1" strike="noStrike" u="sng">
                <a:solidFill>
                  <a:srgbClr val="eeeeee"/>
                </a:solidFill>
                <a:uFillTx/>
                <a:latin typeface="Century"/>
              </a:rPr>
              <a:t>your attention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76880" y="26395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Century"/>
              </a:rPr>
              <a:t>We should know well more detail  about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Century"/>
              </a:rPr>
              <a:t>IBIS and IMIC and also EMI problems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27000" y="743040"/>
            <a:ext cx="808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10000"/>
                </a:solidFill>
                <a:uFillTx/>
                <a:latin typeface="Times New Roman"/>
              </a:rPr>
              <a:t>Content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0840" y="4419720"/>
            <a:ext cx="759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1720" y="1585800"/>
            <a:ext cx="7677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99"/>
                </a:solidFill>
                <a:latin typeface="Century"/>
              </a:rPr>
              <a:t>1. Introduction of ECALS-2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99"/>
                </a:solidFill>
                <a:latin typeface="Century"/>
              </a:rPr>
              <a:t>2. Status of Consumer Electronics Desig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3. Discussion meeting between Users and  Provide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    </a:t>
            </a: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Non-IC EMC/EMI  model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3.1 Passive Component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3.2 Connecto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         </a:t>
            </a: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3.3 Discrete Semiconductor Device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63de8"/>
                </a:solidFill>
                <a:latin typeface="Century"/>
              </a:rPr>
              <a:t>4. Conclus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57160" y="339084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133720"/>
            <a:ext cx="2438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67120"/>
            <a:ext cx="4190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62080" y="533520"/>
            <a:ext cx="7696080" cy="799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472b"/>
                </a:solidFill>
                <a:latin typeface="Times New Roman"/>
              </a:rPr>
              <a:t>3. Discussions Meeting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8480" y="1339200"/>
            <a:ext cx="4154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10000"/>
                </a:solidFill>
                <a:uFillTx/>
                <a:latin typeface="Century"/>
              </a:rPr>
              <a:t>1st Meeting on March 18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Model User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Fujitsu (1)        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Matsushita (5)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Sony (2)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Model Provider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 </a:t>
            </a: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Passive Component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Murata (3)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TDK (1)</a:t>
            </a:r>
            <a:r>
              <a:rPr b="1" lang="ja-JP" sz="1800" spc="-1" strike="noStrike">
                <a:solidFill>
                  <a:srgbClr val="57472b"/>
                </a:solidFill>
                <a:latin typeface="Century"/>
              </a:rPr>
              <a:t>                                 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Connector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Honda Communications (1)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 </a:t>
            </a: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Discrete Power Semiconductor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Shindengen (1)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63de8"/>
                </a:solidFill>
                <a:latin typeface="Century"/>
              </a:rPr>
              <a:t>Advisor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7472b"/>
                </a:solidFill>
                <a:latin typeface="Century"/>
              </a:rPr>
              <a:t>    </a:t>
            </a:r>
            <a:r>
              <a:rPr b="1" lang="ja-JP" sz="1800" spc="-1" strike="noStrike">
                <a:solidFill>
                  <a:srgbClr val="010000"/>
                </a:solidFill>
                <a:latin typeface="Century"/>
              </a:rPr>
              <a:t>Applied Simulation Technology(1)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3300"/>
                </a:solidFill>
                <a:latin typeface="Century"/>
              </a:rPr>
              <a:t>Total  15 members</a:t>
            </a:r>
            <a:r>
              <a:rPr b="1" lang="ja-JP" sz="1800" spc="-1" strike="noStrike">
                <a:solidFill>
                  <a:srgbClr val="57472b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105000"/>
            <a:ext cx="7620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1467000"/>
            <a:ext cx="451512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Century"/>
              </a:rPr>
              <a:t>Items to be investigated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Century"/>
              </a:rPr>
              <a:t>Hard to get model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entury"/>
              </a:rPr>
              <a:t>  </a:t>
            </a:r>
            <a:r>
              <a:rPr b="1" lang="en-US" sz="900" spc="-1" strike="noStrike">
                <a:solidFill>
                  <a:srgbClr val="010000"/>
                </a:solidFill>
                <a:latin typeface="Century"/>
              </a:rPr>
              <a:t>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What makes getting models hard? 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Possibility of collaboration by model users  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and  provider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Century"/>
              </a:rPr>
              <a:t>Quality of  models depends on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Accuracy 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Purpose  (SI, PI or EMI)</a:t>
            </a:r>
            <a:r>
              <a:rPr b="1" lang="zh-CN" sz="1600" spc="-1" strike="noStrike">
                <a:solidFill>
                  <a:srgbClr val="010000"/>
                </a:solidFill>
                <a:latin typeface="Century"/>
              </a:rPr>
              <a:t>　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</a:t>
            </a:r>
            <a:r>
              <a:rPr b="1" lang="zh-CN" sz="1600" spc="-1" strike="noStrike">
                <a:solidFill>
                  <a:srgbClr val="010000"/>
                </a:solidFill>
                <a:latin typeface="Century"/>
              </a:rPr>
              <a:t>　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Frequency Range</a:t>
            </a:r>
            <a:r>
              <a:rPr b="1" lang="zh-CN" sz="1600" spc="-1" strike="noStrike">
                <a:solidFill>
                  <a:srgbClr val="010000"/>
                </a:solidFill>
                <a:latin typeface="Century"/>
              </a:rPr>
              <a:t>　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  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Various End-Systems 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10000"/>
                </a:solidFill>
                <a:latin typeface="Century"/>
              </a:rPr>
              <a:t>　  </a:t>
            </a:r>
            <a:r>
              <a:rPr b="1" lang="en-US" sz="1600" spc="-1" strike="noStrike">
                <a:solidFill>
                  <a:srgbClr val="010000"/>
                </a:solidFill>
                <a:latin typeface="Century"/>
              </a:rPr>
              <a:t>Time to get models</a:t>
            </a:r>
            <a:endParaRPr b="0" lang="en-US" sz="16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419040"/>
            <a:ext cx="8229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1. Passive Components : Current Modeling Method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095560"/>
            <a:ext cx="251460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381560"/>
            <a:ext cx="251460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odel Releas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293364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Vector Network Analyzer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S-parameters (Frequency Dependent)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6194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Hard to accurately measure intrinsic characteristic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(Measurement contains parasitic effects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991040"/>
            <a:ext cx="647676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rrelated S-parameter Models on Web and CD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23920" y="361800"/>
            <a:ext cx="76960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57472b"/>
                </a:solidFill>
                <a:latin typeface="Times New Roman"/>
              </a:rPr>
              <a:t>3. Non-IC EMC/EMI Model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1 Passive Components</a:t>
            </a:r>
            <a:r>
              <a:rPr b="0" lang="ja-JP" sz="2400" spc="-1" strike="noStrike">
                <a:solidFill>
                  <a:srgbClr val="57472b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: Needs &amp; Problem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76200" y="20383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Two application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09720" y="2647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10000"/>
                </a:solidFill>
                <a:latin typeface="Times New Roman"/>
              </a:rPr>
              <a:t>3D-field solver in frequency domain with linear device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3400" y="3257640"/>
            <a:ext cx="624852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Method of curve fitting in frequency domain with knowhows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0" y="234324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ja-JP" sz="1800" spc="-1" strike="noStrike">
                <a:solidFill>
                  <a:srgbClr val="010000"/>
                </a:solidFill>
                <a:latin typeface="Times New Roman"/>
              </a:rPr>
              <a:t>SI/PI/EMI simulation with nonlinear devices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76200" y="302904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Start providing SPICE Model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33400" y="3562200"/>
            <a:ext cx="655344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PICE LCRK Network model  contains proprietary information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40957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Models for EMI needs beyond 1GHz bandwidth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76200" y="462924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Interaction between components and PCB is importa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76200" y="508644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Expensive and time consuming modeling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33400" y="5467320"/>
            <a:ext cx="381024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Time and cost depend on required accuracy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5480" y="380880"/>
            <a:ext cx="8337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1 Passive Components : Requirements</a:t>
            </a:r>
            <a:r>
              <a:rPr b="0" lang="ja-JP" sz="2400" spc="-1" strike="noStrike">
                <a:solidFill>
                  <a:srgbClr val="5747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38400" y="2343240"/>
            <a:ext cx="7511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ore accurate model at higher frequencies need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to be described by more than 8-10 SPICE elements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Some EMI filter has more than two terminals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Array passive components need coupling effect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Parasitic effect with PCB becomes important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5480" y="380880"/>
            <a:ext cx="8337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1 Passive Components : IBIS vs IMIC</a:t>
            </a:r>
            <a:r>
              <a:rPr b="0" lang="ja-JP" sz="2400" spc="-1" strike="noStrike">
                <a:solidFill>
                  <a:srgbClr val="5747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7920" y="1981080"/>
            <a:ext cx="140364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01920" y="2209680"/>
            <a:ext cx="6273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IBIS 3.1 model is too simple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Can’t cover more than three terminal devices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Need network description and mutual inductance.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62040" y="4762440"/>
            <a:ext cx="70992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PICE model is convenient to time domain simulation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PICE LCRK Network model can improve accuracy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PICE models must be provided to individual customers, 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because network description contains proprietary information.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pic>
        <p:nvPicPr>
          <p:cNvPr id="182" name="TDK3" descr=""/>
          <p:cNvPicPr/>
          <p:nvPr/>
        </p:nvPicPr>
        <p:blipFill>
          <a:blip r:embed="rId1"/>
          <a:stretch/>
        </p:blipFill>
        <p:spPr>
          <a:xfrm>
            <a:off x="1238400" y="2819520"/>
            <a:ext cx="1815840" cy="973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7920" y="3962520"/>
            <a:ext cx="140364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IMIC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5480" y="380880"/>
            <a:ext cx="8337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2 Connectors : Current Modeling Method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7920" y="2514600"/>
            <a:ext cx="388008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odeling by Simulation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55600" y="3200400"/>
            <a:ext cx="800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ake Model using filed solver and circuit simulato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from structure data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334120"/>
            <a:ext cx="8337600" cy="761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10000"/>
                </a:solidFill>
                <a:latin typeface="Times New Roman"/>
              </a:rPr>
              <a:t>Checking  models by measu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7920" y="4800600"/>
            <a:ext cx="445788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hecking by Measurement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3160" y="1752480"/>
            <a:ext cx="726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00"/>
                </a:solidFill>
                <a:uFillTx/>
                <a:latin typeface="Times New Roman"/>
              </a:rPr>
              <a:t>Providing SPICE Model to individual custome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55600" y="3886200"/>
            <a:ext cx="784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Small pin model and full pin model.  (model size)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5480" y="380880"/>
            <a:ext cx="833760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10000"/>
                </a:solidFill>
                <a:latin typeface="Times New Roman"/>
              </a:rPr>
              <a:t>3. Non-IC EMC/EMI Models</a:t>
            </a:r>
            <a:endParaRPr b="0" lang="en-US" sz="3600" spc="-1" strike="noStrike">
              <a:solidFill>
                <a:srgbClr val="5747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Times New Roman"/>
              </a:rPr>
              <a:t>3.2 Connectors : Problems</a:t>
            </a:r>
            <a:endParaRPr b="0" lang="en-US" sz="2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040" y="2133720"/>
            <a:ext cx="3879720" cy="6094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Shielded Connectors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743200"/>
            <a:ext cx="808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How to make a connector model with shield enclosur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7920" y="3200400"/>
            <a:ext cx="83376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Ground/Shield model depends on mounted on PCB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040" y="4038480"/>
            <a:ext cx="189864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574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495680"/>
            <a:ext cx="83376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odeling time and cost depend on required accuracy.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5105520"/>
            <a:ext cx="8337600" cy="761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Model depends on other factors such as PCB ground. 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Copyright. 1999.ECALS-2 and EAIJ All Rights Reserved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5T21:31:08Z</dcterms:created>
  <dc:creator/>
  <dc:description/>
  <dc:language>en-US</dc:language>
  <cp:lastModifiedBy>AI</cp:lastModifiedBy>
  <cp:lastPrinted>1999-06-18T20:03:10Z</cp:lastPrinted>
  <dcterms:modified xsi:type="dcterms:W3CDTF">1999-06-30T15:15:24Z</dcterms:modified>
  <cp:revision>208</cp:revision>
  <dc:subject/>
  <dc:title>松下ＣＡＬＳ検討委員会</dc:title>
</cp:coreProperties>
</file>