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450-82F5-4E10-AB4F-DF603D80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DDD-BFDA-4F91-A299-4DFD0B52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5ED-938E-4780-ABD8-39EB7F4C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6BC-FC64-4790-A4B9-8862214E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EA14-FD1C-4FFC-83DD-3F9F550B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69D9-0312-4B67-A41F-2147E0A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9C8D-7784-4B2F-9AE6-2F624B6E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AF43-70BD-4482-AE1C-F66F456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8854-219E-4290-A317-5AB8D92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9DD1-BF0D-452C-9F64-786F5A9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237D-0CCD-4109-953D-9F3BFC3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0E9-FE9B-4C60-8516-8F68B3E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896C-FFC2-473D-B57E-D4E20C0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818C-7A3F-4ACA-91E5-56DA9A3B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0013-5364-42C2-88B0-59D28E03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064B-AD75-4818-977B-FC9D70C3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7938-F9A5-4B28-AFE1-6C1E6888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597-C9E3-4C13-BD61-42FBC2E4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9E3-C060-4C36-860A-ADB447A9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623-8A7C-414A-AE02-D8EC9D91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69B-434F-477E-AD99-F37F867E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30B-2358-4EC9-B760-F95A9D44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47A-8CFD-4778-A3DA-AE44ED7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36C-5CBD-433B-8251-CD20325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403440"/>
            <a:ext cx="9905760" cy="3454560"/>
            <a:chOff x="0" y="3403440"/>
            <a:chExt cx="9905760" cy="3454560"/>
          </a:xfrm>
        </p:grpSpPr>
        <p:sp>
          <p:nvSpPr>
            <p:cNvPr id="1" name=""/>
            <p:cNvSpPr/>
            <p:nvPr/>
          </p:nvSpPr>
          <p:spPr>
            <a:xfrm>
              <a:off x="0" y="5051520"/>
              <a:ext cx="9905760" cy="1800000"/>
            </a:xfrm>
            <a:custGeom>
              <a:avLst/>
              <a:gdLst/>
              <a:ahLst/>
              <a:rect l="l" t="t" r="r" b="b"/>
              <a:pathLst>
                <a:path w="4312" h="1232">
                  <a:moveTo>
                    <a:pt x="4312" y="616"/>
                  </a:moveTo>
                  <a:lnTo>
                    <a:pt x="4312" y="1232"/>
                  </a:lnTo>
                  <a:lnTo>
                    <a:pt x="0" y="1232"/>
                  </a:lnTo>
                  <a:lnTo>
                    <a:pt x="0" y="0"/>
                  </a:lnTo>
                  <a:cubicBezTo>
                    <a:pt x="50" y="15"/>
                    <a:pt x="103" y="21"/>
                    <a:pt x="147" y="48"/>
                  </a:cubicBezTo>
                  <a:cubicBezTo>
                    <a:pt x="168" y="76"/>
                    <a:pt x="168" y="93"/>
                    <a:pt x="200" y="112"/>
                  </a:cubicBezTo>
                  <a:cubicBezTo>
                    <a:pt x="213" y="149"/>
                    <a:pt x="226" y="139"/>
                    <a:pt x="260" y="160"/>
                  </a:cubicBezTo>
                  <a:cubicBezTo>
                    <a:pt x="317" y="143"/>
                    <a:pt x="367" y="132"/>
                    <a:pt x="425" y="120"/>
                  </a:cubicBezTo>
                  <a:cubicBezTo>
                    <a:pt x="454" y="114"/>
                    <a:pt x="475" y="97"/>
                    <a:pt x="503" y="88"/>
                  </a:cubicBezTo>
                  <a:cubicBezTo>
                    <a:pt x="540" y="99"/>
                    <a:pt x="616" y="112"/>
                    <a:pt x="616" y="112"/>
                  </a:cubicBezTo>
                  <a:cubicBezTo>
                    <a:pt x="665" y="142"/>
                    <a:pt x="643" y="169"/>
                    <a:pt x="677" y="200"/>
                  </a:cubicBezTo>
                  <a:cubicBezTo>
                    <a:pt x="684" y="207"/>
                    <a:pt x="695" y="210"/>
                    <a:pt x="703" y="216"/>
                  </a:cubicBezTo>
                  <a:cubicBezTo>
                    <a:pt x="721" y="231"/>
                    <a:pt x="755" y="264"/>
                    <a:pt x="755" y="264"/>
                  </a:cubicBezTo>
                  <a:cubicBezTo>
                    <a:pt x="801" y="253"/>
                    <a:pt x="838" y="248"/>
                    <a:pt x="868" y="288"/>
                  </a:cubicBezTo>
                  <a:cubicBezTo>
                    <a:pt x="859" y="293"/>
                    <a:pt x="846" y="295"/>
                    <a:pt x="842" y="304"/>
                  </a:cubicBezTo>
                  <a:cubicBezTo>
                    <a:pt x="838" y="312"/>
                    <a:pt x="854" y="320"/>
                    <a:pt x="850" y="328"/>
                  </a:cubicBezTo>
                  <a:cubicBezTo>
                    <a:pt x="846" y="337"/>
                    <a:pt x="833" y="339"/>
                    <a:pt x="824" y="344"/>
                  </a:cubicBezTo>
                  <a:cubicBezTo>
                    <a:pt x="843" y="394"/>
                    <a:pt x="875" y="408"/>
                    <a:pt x="928" y="424"/>
                  </a:cubicBezTo>
                  <a:cubicBezTo>
                    <a:pt x="960" y="414"/>
                    <a:pt x="983" y="400"/>
                    <a:pt x="1015" y="392"/>
                  </a:cubicBezTo>
                  <a:cubicBezTo>
                    <a:pt x="1068" y="402"/>
                    <a:pt x="1107" y="423"/>
                    <a:pt x="1163" y="432"/>
                  </a:cubicBezTo>
                  <a:cubicBezTo>
                    <a:pt x="1197" y="453"/>
                    <a:pt x="1232" y="475"/>
                    <a:pt x="1267" y="496"/>
                  </a:cubicBezTo>
                  <a:cubicBezTo>
                    <a:pt x="1297" y="515"/>
                    <a:pt x="1332" y="551"/>
                    <a:pt x="1371" y="560"/>
                  </a:cubicBezTo>
                  <a:cubicBezTo>
                    <a:pt x="1396" y="566"/>
                    <a:pt x="1423" y="565"/>
                    <a:pt x="1449" y="568"/>
                  </a:cubicBezTo>
                  <a:cubicBezTo>
                    <a:pt x="1516" y="583"/>
                    <a:pt x="1592" y="572"/>
                    <a:pt x="1657" y="552"/>
                  </a:cubicBezTo>
                  <a:cubicBezTo>
                    <a:pt x="1674" y="555"/>
                    <a:pt x="1694" y="552"/>
                    <a:pt x="1709" y="560"/>
                  </a:cubicBezTo>
                  <a:cubicBezTo>
                    <a:pt x="1717" y="564"/>
                    <a:pt x="1712" y="577"/>
                    <a:pt x="1718" y="584"/>
                  </a:cubicBezTo>
                  <a:cubicBezTo>
                    <a:pt x="1733" y="601"/>
                    <a:pt x="1758" y="603"/>
                    <a:pt x="1779" y="608"/>
                  </a:cubicBezTo>
                  <a:cubicBezTo>
                    <a:pt x="1795" y="623"/>
                    <a:pt x="1817" y="632"/>
                    <a:pt x="1831" y="648"/>
                  </a:cubicBezTo>
                  <a:cubicBezTo>
                    <a:pt x="1840" y="659"/>
                    <a:pt x="1847" y="719"/>
                    <a:pt x="1848" y="720"/>
                  </a:cubicBezTo>
                  <a:cubicBezTo>
                    <a:pt x="1855" y="732"/>
                    <a:pt x="1888" y="741"/>
                    <a:pt x="1900" y="744"/>
                  </a:cubicBezTo>
                  <a:cubicBezTo>
                    <a:pt x="1953" y="758"/>
                    <a:pt x="1991" y="777"/>
                    <a:pt x="2039" y="792"/>
                  </a:cubicBezTo>
                  <a:cubicBezTo>
                    <a:pt x="2109" y="776"/>
                    <a:pt x="2103" y="770"/>
                    <a:pt x="2160" y="752"/>
                  </a:cubicBezTo>
                  <a:cubicBezTo>
                    <a:pt x="2245" y="763"/>
                    <a:pt x="2332" y="796"/>
                    <a:pt x="2403" y="840"/>
                  </a:cubicBezTo>
                  <a:cubicBezTo>
                    <a:pt x="2476" y="823"/>
                    <a:pt x="2549" y="806"/>
                    <a:pt x="2620" y="784"/>
                  </a:cubicBezTo>
                  <a:cubicBezTo>
                    <a:pt x="2653" y="774"/>
                    <a:pt x="2667" y="741"/>
                    <a:pt x="2698" y="728"/>
                  </a:cubicBezTo>
                  <a:cubicBezTo>
                    <a:pt x="2754" y="705"/>
                    <a:pt x="2795" y="702"/>
                    <a:pt x="2854" y="696"/>
                  </a:cubicBezTo>
                  <a:cubicBezTo>
                    <a:pt x="2925" y="680"/>
                    <a:pt x="2991" y="653"/>
                    <a:pt x="3063" y="640"/>
                  </a:cubicBezTo>
                  <a:cubicBezTo>
                    <a:pt x="3083" y="643"/>
                    <a:pt x="3104" y="641"/>
                    <a:pt x="3123" y="648"/>
                  </a:cubicBezTo>
                  <a:cubicBezTo>
                    <a:pt x="3135" y="652"/>
                    <a:pt x="3140" y="666"/>
                    <a:pt x="3149" y="672"/>
                  </a:cubicBezTo>
                  <a:cubicBezTo>
                    <a:pt x="3157" y="677"/>
                    <a:pt x="3167" y="677"/>
                    <a:pt x="3175" y="680"/>
                  </a:cubicBezTo>
                  <a:cubicBezTo>
                    <a:pt x="3221" y="666"/>
                    <a:pt x="3265" y="673"/>
                    <a:pt x="3306" y="648"/>
                  </a:cubicBezTo>
                  <a:cubicBezTo>
                    <a:pt x="3415" y="682"/>
                    <a:pt x="3532" y="686"/>
                    <a:pt x="3644" y="712"/>
                  </a:cubicBezTo>
                  <a:cubicBezTo>
                    <a:pt x="3666" y="742"/>
                    <a:pt x="3675" y="774"/>
                    <a:pt x="3687" y="808"/>
                  </a:cubicBezTo>
                  <a:cubicBezTo>
                    <a:pt x="3691" y="816"/>
                    <a:pt x="3687" y="829"/>
                    <a:pt x="3696" y="832"/>
                  </a:cubicBezTo>
                  <a:cubicBezTo>
                    <a:pt x="3713" y="837"/>
                    <a:pt x="3748" y="848"/>
                    <a:pt x="3748" y="848"/>
                  </a:cubicBezTo>
                  <a:cubicBezTo>
                    <a:pt x="3798" y="833"/>
                    <a:pt x="3786" y="867"/>
                    <a:pt x="3817" y="824"/>
                  </a:cubicBezTo>
                  <a:cubicBezTo>
                    <a:pt x="3806" y="780"/>
                    <a:pt x="3809" y="760"/>
                    <a:pt x="3843" y="728"/>
                  </a:cubicBezTo>
                  <a:cubicBezTo>
                    <a:pt x="3847" y="715"/>
                    <a:pt x="3841" y="698"/>
                    <a:pt x="3852" y="688"/>
                  </a:cubicBezTo>
                  <a:cubicBezTo>
                    <a:pt x="3865" y="676"/>
                    <a:pt x="3904" y="672"/>
                    <a:pt x="3904" y="672"/>
                  </a:cubicBezTo>
                  <a:cubicBezTo>
                    <a:pt x="3932" y="681"/>
                    <a:pt x="3982" y="712"/>
                    <a:pt x="3982" y="712"/>
                  </a:cubicBezTo>
                  <a:cubicBezTo>
                    <a:pt x="3988" y="728"/>
                    <a:pt x="3996" y="743"/>
                    <a:pt x="4000" y="760"/>
                  </a:cubicBezTo>
                  <a:cubicBezTo>
                    <a:pt x="4003" y="773"/>
                    <a:pt x="4001" y="788"/>
                    <a:pt x="4008" y="800"/>
                  </a:cubicBezTo>
                  <a:cubicBezTo>
                    <a:pt x="4014" y="808"/>
                    <a:pt x="4026" y="811"/>
                    <a:pt x="4034" y="816"/>
                  </a:cubicBezTo>
                  <a:cubicBezTo>
                    <a:pt x="4072" y="804"/>
                    <a:pt x="4102" y="787"/>
                    <a:pt x="4138" y="776"/>
                  </a:cubicBezTo>
                  <a:cubicBezTo>
                    <a:pt x="4172" y="730"/>
                    <a:pt x="4159" y="719"/>
                    <a:pt x="4225" y="704"/>
                  </a:cubicBezTo>
                  <a:cubicBezTo>
                    <a:pt x="4246" y="675"/>
                    <a:pt x="4265" y="677"/>
                    <a:pt x="4286" y="648"/>
                  </a:cubicBezTo>
                  <a:cubicBezTo>
                    <a:pt x="4277" y="625"/>
                    <a:pt x="4312" y="616"/>
                    <a:pt x="4312" y="616"/>
                  </a:cubicBezTo>
                  <a:close/>
                </a:path>
              </a:pathLst>
            </a:custGeom>
            <a:gradFill rotWithShape="0">
              <a:gsLst>
                <a:gs pos="0">
                  <a:srgbClr val="d8b38e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852680" y="3403440"/>
              <a:ext cx="2052720" cy="3454560"/>
              <a:chOff x="7852680" y="3403440"/>
              <a:chExt cx="2052720" cy="34545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8021520" y="3403440"/>
                <a:ext cx="1681920" cy="1836720"/>
                <a:chOff x="8021520" y="3403440"/>
                <a:chExt cx="1681920" cy="1836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8806320" y="3459240"/>
                  <a:ext cx="45360" cy="550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8728920" y="3403440"/>
                  <a:ext cx="217440" cy="1157040"/>
                </a:xfrm>
                <a:custGeom>
                  <a:avLst/>
                  <a:gdLst/>
                  <a:ahLst/>
                  <a:rect l="l" t="t" r="r" b="b"/>
                  <a:pathLst>
                    <a:path w="225" h="1215">
                      <a:moveTo>
                        <a:pt x="39" y="1146"/>
                      </a:moveTo>
                      <a:lnTo>
                        <a:pt x="87" y="1092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38" y="1095"/>
                      </a:lnTo>
                      <a:lnTo>
                        <a:pt x="183" y="1146"/>
                      </a:lnTo>
                      <a:lnTo>
                        <a:pt x="225" y="1146"/>
                      </a:lnTo>
                      <a:lnTo>
                        <a:pt x="222" y="1212"/>
                      </a:lnTo>
                      <a:lnTo>
                        <a:pt x="0" y="1215"/>
                      </a:lnTo>
                      <a:lnTo>
                        <a:pt x="0" y="1149"/>
                      </a:lnTo>
                      <a:lnTo>
                        <a:pt x="39" y="1146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806320" y="3530880"/>
                  <a:ext cx="45360" cy="550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793720" y="378324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793720" y="384588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793720" y="390924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8793720" y="397188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784360" y="4166280"/>
                  <a:ext cx="10404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789040" y="4103280"/>
                  <a:ext cx="9540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787960" y="4034880"/>
                  <a:ext cx="9576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784360" y="4228920"/>
                  <a:ext cx="10404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781120" y="4294800"/>
                  <a:ext cx="11016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763840" y="4357440"/>
                  <a:ext cx="147960" cy="88560"/>
                </a:xfrm>
                <a:custGeom>
                  <a:avLst/>
                  <a:gdLst/>
                  <a:ahLst/>
                  <a:rect l="l" t="t" r="r" b="b"/>
                  <a:pathLst>
                    <a:path w="153" h="93">
                      <a:moveTo>
                        <a:pt x="69" y="93"/>
                      </a:moveTo>
                      <a:lnTo>
                        <a:pt x="30" y="75"/>
                      </a:lnTo>
                      <a:lnTo>
                        <a:pt x="12" y="48"/>
                      </a:lnTo>
                      <a:lnTo>
                        <a:pt x="0" y="9"/>
                      </a:lnTo>
                      <a:lnTo>
                        <a:pt x="24" y="30"/>
                      </a:lnTo>
                      <a:lnTo>
                        <a:pt x="39" y="3"/>
                      </a:lnTo>
                      <a:lnTo>
                        <a:pt x="60" y="27"/>
                      </a:lnTo>
                      <a:lnTo>
                        <a:pt x="93" y="27"/>
                      </a:lnTo>
                      <a:lnTo>
                        <a:pt x="114" y="0"/>
                      </a:lnTo>
                      <a:lnTo>
                        <a:pt x="120" y="27"/>
                      </a:lnTo>
                      <a:lnTo>
                        <a:pt x="153" y="9"/>
                      </a:lnTo>
                      <a:lnTo>
                        <a:pt x="123" y="81"/>
                      </a:lnTo>
                      <a:lnTo>
                        <a:pt x="69" y="93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021520" y="4554720"/>
                  <a:ext cx="1681920" cy="685440"/>
                </a:xfrm>
                <a:custGeom>
                  <a:avLst/>
                  <a:gdLst/>
                  <a:ahLst/>
                  <a:rect l="l" t="t" r="r" b="b"/>
                  <a:pathLst>
                    <a:path w="1740" h="720">
                      <a:moveTo>
                        <a:pt x="954" y="0"/>
                      </a:moveTo>
                      <a:lnTo>
                        <a:pt x="1086" y="105"/>
                      </a:lnTo>
                      <a:lnTo>
                        <a:pt x="1206" y="180"/>
                      </a:lnTo>
                      <a:lnTo>
                        <a:pt x="1353" y="252"/>
                      </a:lnTo>
                      <a:lnTo>
                        <a:pt x="1467" y="291"/>
                      </a:lnTo>
                      <a:lnTo>
                        <a:pt x="1521" y="303"/>
                      </a:lnTo>
                      <a:lnTo>
                        <a:pt x="1581" y="294"/>
                      </a:lnTo>
                      <a:lnTo>
                        <a:pt x="1563" y="318"/>
                      </a:lnTo>
                      <a:lnTo>
                        <a:pt x="1572" y="342"/>
                      </a:lnTo>
                      <a:lnTo>
                        <a:pt x="1620" y="357"/>
                      </a:lnTo>
                      <a:lnTo>
                        <a:pt x="1680" y="354"/>
                      </a:lnTo>
                      <a:lnTo>
                        <a:pt x="1728" y="324"/>
                      </a:lnTo>
                      <a:lnTo>
                        <a:pt x="1740" y="339"/>
                      </a:lnTo>
                      <a:lnTo>
                        <a:pt x="1719" y="351"/>
                      </a:lnTo>
                      <a:lnTo>
                        <a:pt x="1710" y="393"/>
                      </a:lnTo>
                      <a:lnTo>
                        <a:pt x="1734" y="378"/>
                      </a:lnTo>
                      <a:lnTo>
                        <a:pt x="1707" y="414"/>
                      </a:lnTo>
                      <a:lnTo>
                        <a:pt x="1686" y="441"/>
                      </a:lnTo>
                      <a:lnTo>
                        <a:pt x="1698" y="456"/>
                      </a:lnTo>
                      <a:lnTo>
                        <a:pt x="1680" y="468"/>
                      </a:lnTo>
                      <a:lnTo>
                        <a:pt x="1668" y="486"/>
                      </a:lnTo>
                      <a:lnTo>
                        <a:pt x="1650" y="480"/>
                      </a:lnTo>
                      <a:lnTo>
                        <a:pt x="1614" y="510"/>
                      </a:lnTo>
                      <a:lnTo>
                        <a:pt x="1632" y="546"/>
                      </a:lnTo>
                      <a:lnTo>
                        <a:pt x="1632" y="579"/>
                      </a:lnTo>
                      <a:lnTo>
                        <a:pt x="1617" y="561"/>
                      </a:lnTo>
                      <a:lnTo>
                        <a:pt x="1617" y="585"/>
                      </a:lnTo>
                      <a:lnTo>
                        <a:pt x="1632" y="609"/>
                      </a:lnTo>
                      <a:lnTo>
                        <a:pt x="1605" y="609"/>
                      </a:lnTo>
                      <a:lnTo>
                        <a:pt x="1614" y="585"/>
                      </a:lnTo>
                      <a:lnTo>
                        <a:pt x="1614" y="561"/>
                      </a:lnTo>
                      <a:lnTo>
                        <a:pt x="1602" y="576"/>
                      </a:lnTo>
                      <a:lnTo>
                        <a:pt x="1608" y="516"/>
                      </a:lnTo>
                      <a:lnTo>
                        <a:pt x="1569" y="540"/>
                      </a:lnTo>
                      <a:lnTo>
                        <a:pt x="1518" y="558"/>
                      </a:lnTo>
                      <a:lnTo>
                        <a:pt x="1458" y="582"/>
                      </a:lnTo>
                      <a:lnTo>
                        <a:pt x="1407" y="597"/>
                      </a:lnTo>
                      <a:lnTo>
                        <a:pt x="1416" y="618"/>
                      </a:lnTo>
                      <a:lnTo>
                        <a:pt x="1395" y="627"/>
                      </a:lnTo>
                      <a:lnTo>
                        <a:pt x="1377" y="603"/>
                      </a:lnTo>
                      <a:lnTo>
                        <a:pt x="1347" y="606"/>
                      </a:lnTo>
                      <a:lnTo>
                        <a:pt x="1353" y="624"/>
                      </a:lnTo>
                      <a:lnTo>
                        <a:pt x="1335" y="630"/>
                      </a:lnTo>
                      <a:lnTo>
                        <a:pt x="1317" y="615"/>
                      </a:lnTo>
                      <a:lnTo>
                        <a:pt x="1311" y="639"/>
                      </a:lnTo>
                      <a:lnTo>
                        <a:pt x="1263" y="615"/>
                      </a:lnTo>
                      <a:lnTo>
                        <a:pt x="1263" y="642"/>
                      </a:lnTo>
                      <a:lnTo>
                        <a:pt x="1245" y="651"/>
                      </a:lnTo>
                      <a:lnTo>
                        <a:pt x="1218" y="633"/>
                      </a:lnTo>
                      <a:lnTo>
                        <a:pt x="1188" y="693"/>
                      </a:lnTo>
                      <a:lnTo>
                        <a:pt x="1191" y="720"/>
                      </a:lnTo>
                      <a:lnTo>
                        <a:pt x="504" y="717"/>
                      </a:lnTo>
                      <a:lnTo>
                        <a:pt x="498" y="687"/>
                      </a:lnTo>
                      <a:lnTo>
                        <a:pt x="471" y="690"/>
                      </a:lnTo>
                      <a:lnTo>
                        <a:pt x="462" y="663"/>
                      </a:lnTo>
                      <a:lnTo>
                        <a:pt x="417" y="660"/>
                      </a:lnTo>
                      <a:lnTo>
                        <a:pt x="411" y="642"/>
                      </a:lnTo>
                      <a:lnTo>
                        <a:pt x="333" y="681"/>
                      </a:lnTo>
                      <a:lnTo>
                        <a:pt x="306" y="663"/>
                      </a:lnTo>
                      <a:lnTo>
                        <a:pt x="366" y="621"/>
                      </a:lnTo>
                      <a:lnTo>
                        <a:pt x="345" y="615"/>
                      </a:lnTo>
                      <a:lnTo>
                        <a:pt x="258" y="657"/>
                      </a:lnTo>
                      <a:lnTo>
                        <a:pt x="237" y="642"/>
                      </a:lnTo>
                      <a:lnTo>
                        <a:pt x="279" y="603"/>
                      </a:lnTo>
                      <a:lnTo>
                        <a:pt x="120" y="606"/>
                      </a:lnTo>
                      <a:lnTo>
                        <a:pt x="123" y="660"/>
                      </a:lnTo>
                      <a:lnTo>
                        <a:pt x="102" y="657"/>
                      </a:lnTo>
                      <a:lnTo>
                        <a:pt x="81" y="699"/>
                      </a:lnTo>
                      <a:lnTo>
                        <a:pt x="117" y="702"/>
                      </a:lnTo>
                      <a:lnTo>
                        <a:pt x="87" y="651"/>
                      </a:lnTo>
                      <a:lnTo>
                        <a:pt x="105" y="603"/>
                      </a:lnTo>
                      <a:lnTo>
                        <a:pt x="81" y="603"/>
                      </a:lnTo>
                      <a:lnTo>
                        <a:pt x="36" y="579"/>
                      </a:lnTo>
                      <a:lnTo>
                        <a:pt x="12" y="513"/>
                      </a:lnTo>
                      <a:lnTo>
                        <a:pt x="0" y="480"/>
                      </a:lnTo>
                      <a:lnTo>
                        <a:pt x="87" y="474"/>
                      </a:lnTo>
                      <a:lnTo>
                        <a:pt x="162" y="444"/>
                      </a:lnTo>
                      <a:lnTo>
                        <a:pt x="144" y="414"/>
                      </a:lnTo>
                      <a:lnTo>
                        <a:pt x="192" y="417"/>
                      </a:lnTo>
                      <a:lnTo>
                        <a:pt x="252" y="378"/>
                      </a:lnTo>
                      <a:lnTo>
                        <a:pt x="246" y="330"/>
                      </a:lnTo>
                      <a:lnTo>
                        <a:pt x="258" y="318"/>
                      </a:lnTo>
                      <a:lnTo>
                        <a:pt x="270" y="342"/>
                      </a:lnTo>
                      <a:lnTo>
                        <a:pt x="306" y="348"/>
                      </a:lnTo>
                      <a:lnTo>
                        <a:pt x="372" y="312"/>
                      </a:lnTo>
                      <a:lnTo>
                        <a:pt x="360" y="300"/>
                      </a:lnTo>
                      <a:lnTo>
                        <a:pt x="363" y="285"/>
                      </a:lnTo>
                      <a:lnTo>
                        <a:pt x="393" y="297"/>
                      </a:lnTo>
                      <a:lnTo>
                        <a:pt x="597" y="135"/>
                      </a:lnTo>
                      <a:lnTo>
                        <a:pt x="723" y="3"/>
                      </a:lnTo>
                      <a:lnTo>
                        <a:pt x="954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>
                <a:off x="8783640" y="3613680"/>
                <a:ext cx="44280" cy="1656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832600" y="3613680"/>
                <a:ext cx="44280" cy="1656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764920" y="5231160"/>
                <a:ext cx="993600" cy="542880"/>
              </a:xfrm>
              <a:custGeom>
                <a:avLst/>
                <a:gdLst/>
                <a:ahLst/>
                <a:rect l="l" t="t" r="r" b="b"/>
                <a:pathLst>
                  <a:path w="1028" h="570">
                    <a:moveTo>
                      <a:pt x="408" y="8"/>
                    </a:moveTo>
                    <a:lnTo>
                      <a:pt x="574" y="12"/>
                    </a:lnTo>
                    <a:lnTo>
                      <a:pt x="592" y="0"/>
                    </a:lnTo>
                    <a:lnTo>
                      <a:pt x="602" y="6"/>
                    </a:lnTo>
                    <a:lnTo>
                      <a:pt x="576" y="20"/>
                    </a:lnTo>
                    <a:lnTo>
                      <a:pt x="426" y="20"/>
                    </a:lnTo>
                    <a:lnTo>
                      <a:pt x="430" y="38"/>
                    </a:lnTo>
                    <a:lnTo>
                      <a:pt x="570" y="36"/>
                    </a:lnTo>
                    <a:lnTo>
                      <a:pt x="596" y="24"/>
                    </a:lnTo>
                    <a:lnTo>
                      <a:pt x="596" y="36"/>
                    </a:lnTo>
                    <a:lnTo>
                      <a:pt x="570" y="48"/>
                    </a:lnTo>
                    <a:lnTo>
                      <a:pt x="434" y="48"/>
                    </a:lnTo>
                    <a:lnTo>
                      <a:pt x="452" y="64"/>
                    </a:lnTo>
                    <a:lnTo>
                      <a:pt x="584" y="64"/>
                    </a:lnTo>
                    <a:lnTo>
                      <a:pt x="592" y="74"/>
                    </a:lnTo>
                    <a:lnTo>
                      <a:pt x="602" y="80"/>
                    </a:lnTo>
                    <a:lnTo>
                      <a:pt x="610" y="96"/>
                    </a:lnTo>
                    <a:lnTo>
                      <a:pt x="584" y="96"/>
                    </a:lnTo>
                    <a:lnTo>
                      <a:pt x="580" y="108"/>
                    </a:lnTo>
                    <a:lnTo>
                      <a:pt x="594" y="110"/>
                    </a:lnTo>
                    <a:lnTo>
                      <a:pt x="594" y="130"/>
                    </a:lnTo>
                    <a:lnTo>
                      <a:pt x="742" y="178"/>
                    </a:lnTo>
                    <a:lnTo>
                      <a:pt x="792" y="182"/>
                    </a:lnTo>
                    <a:lnTo>
                      <a:pt x="834" y="174"/>
                    </a:lnTo>
                    <a:lnTo>
                      <a:pt x="882" y="158"/>
                    </a:lnTo>
                    <a:lnTo>
                      <a:pt x="888" y="168"/>
                    </a:lnTo>
                    <a:lnTo>
                      <a:pt x="874" y="176"/>
                    </a:lnTo>
                    <a:lnTo>
                      <a:pt x="882" y="192"/>
                    </a:lnTo>
                    <a:lnTo>
                      <a:pt x="878" y="206"/>
                    </a:lnTo>
                    <a:lnTo>
                      <a:pt x="932" y="204"/>
                    </a:lnTo>
                    <a:lnTo>
                      <a:pt x="982" y="190"/>
                    </a:lnTo>
                    <a:lnTo>
                      <a:pt x="1018" y="172"/>
                    </a:lnTo>
                    <a:lnTo>
                      <a:pt x="1028" y="182"/>
                    </a:lnTo>
                    <a:lnTo>
                      <a:pt x="1006" y="196"/>
                    </a:lnTo>
                    <a:lnTo>
                      <a:pt x="1012" y="206"/>
                    </a:lnTo>
                    <a:lnTo>
                      <a:pt x="996" y="228"/>
                    </a:lnTo>
                    <a:lnTo>
                      <a:pt x="1020" y="220"/>
                    </a:lnTo>
                    <a:lnTo>
                      <a:pt x="1010" y="242"/>
                    </a:lnTo>
                    <a:lnTo>
                      <a:pt x="1016" y="252"/>
                    </a:lnTo>
                    <a:lnTo>
                      <a:pt x="1004" y="264"/>
                    </a:lnTo>
                    <a:lnTo>
                      <a:pt x="966" y="282"/>
                    </a:lnTo>
                    <a:lnTo>
                      <a:pt x="976" y="298"/>
                    </a:lnTo>
                    <a:lnTo>
                      <a:pt x="994" y="298"/>
                    </a:lnTo>
                    <a:lnTo>
                      <a:pt x="968" y="316"/>
                    </a:lnTo>
                    <a:lnTo>
                      <a:pt x="962" y="332"/>
                    </a:lnTo>
                    <a:lnTo>
                      <a:pt x="948" y="334"/>
                    </a:lnTo>
                    <a:lnTo>
                      <a:pt x="934" y="326"/>
                    </a:lnTo>
                    <a:lnTo>
                      <a:pt x="908" y="348"/>
                    </a:lnTo>
                    <a:lnTo>
                      <a:pt x="920" y="372"/>
                    </a:lnTo>
                    <a:lnTo>
                      <a:pt x="924" y="410"/>
                    </a:lnTo>
                    <a:lnTo>
                      <a:pt x="906" y="398"/>
                    </a:lnTo>
                    <a:lnTo>
                      <a:pt x="906" y="412"/>
                    </a:lnTo>
                    <a:lnTo>
                      <a:pt x="918" y="422"/>
                    </a:lnTo>
                    <a:lnTo>
                      <a:pt x="916" y="434"/>
                    </a:lnTo>
                    <a:lnTo>
                      <a:pt x="892" y="434"/>
                    </a:lnTo>
                    <a:lnTo>
                      <a:pt x="890" y="420"/>
                    </a:lnTo>
                    <a:lnTo>
                      <a:pt x="900" y="400"/>
                    </a:lnTo>
                    <a:lnTo>
                      <a:pt x="886" y="406"/>
                    </a:lnTo>
                    <a:lnTo>
                      <a:pt x="892" y="358"/>
                    </a:lnTo>
                    <a:lnTo>
                      <a:pt x="850" y="372"/>
                    </a:lnTo>
                    <a:lnTo>
                      <a:pt x="804" y="384"/>
                    </a:lnTo>
                    <a:lnTo>
                      <a:pt x="756" y="388"/>
                    </a:lnTo>
                    <a:lnTo>
                      <a:pt x="754" y="412"/>
                    </a:lnTo>
                    <a:lnTo>
                      <a:pt x="734" y="408"/>
                    </a:lnTo>
                    <a:lnTo>
                      <a:pt x="696" y="390"/>
                    </a:lnTo>
                    <a:lnTo>
                      <a:pt x="654" y="414"/>
                    </a:lnTo>
                    <a:lnTo>
                      <a:pt x="698" y="438"/>
                    </a:lnTo>
                    <a:lnTo>
                      <a:pt x="694" y="456"/>
                    </a:lnTo>
                    <a:lnTo>
                      <a:pt x="684" y="462"/>
                    </a:lnTo>
                    <a:lnTo>
                      <a:pt x="640" y="438"/>
                    </a:lnTo>
                    <a:lnTo>
                      <a:pt x="620" y="468"/>
                    </a:lnTo>
                    <a:lnTo>
                      <a:pt x="592" y="442"/>
                    </a:lnTo>
                    <a:lnTo>
                      <a:pt x="574" y="468"/>
                    </a:lnTo>
                    <a:lnTo>
                      <a:pt x="540" y="444"/>
                    </a:lnTo>
                    <a:lnTo>
                      <a:pt x="520" y="476"/>
                    </a:lnTo>
                    <a:lnTo>
                      <a:pt x="498" y="486"/>
                    </a:lnTo>
                    <a:lnTo>
                      <a:pt x="466" y="482"/>
                    </a:lnTo>
                    <a:lnTo>
                      <a:pt x="462" y="502"/>
                    </a:lnTo>
                    <a:lnTo>
                      <a:pt x="486" y="514"/>
                    </a:lnTo>
                    <a:lnTo>
                      <a:pt x="480" y="532"/>
                    </a:lnTo>
                    <a:lnTo>
                      <a:pt x="460" y="540"/>
                    </a:lnTo>
                    <a:lnTo>
                      <a:pt x="464" y="570"/>
                    </a:lnTo>
                    <a:lnTo>
                      <a:pt x="0" y="562"/>
                    </a:lnTo>
                    <a:lnTo>
                      <a:pt x="138" y="0"/>
                    </a:lnTo>
                    <a:lnTo>
                      <a:pt x="408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188280" y="5242680"/>
                <a:ext cx="137160" cy="85680"/>
              </a:xfrm>
              <a:custGeom>
                <a:avLst/>
                <a:gdLst/>
                <a:ahLst/>
                <a:rect l="l" t="t" r="r" b="b"/>
                <a:pathLst>
                  <a:path w="142" h="90">
                    <a:moveTo>
                      <a:pt x="0" y="90"/>
                    </a:moveTo>
                    <a:lnTo>
                      <a:pt x="2" y="4"/>
                    </a:lnTo>
                    <a:lnTo>
                      <a:pt x="14" y="2"/>
                    </a:lnTo>
                    <a:lnTo>
                      <a:pt x="12" y="74"/>
                    </a:lnTo>
                    <a:lnTo>
                      <a:pt x="40" y="68"/>
                    </a:lnTo>
                    <a:lnTo>
                      <a:pt x="34" y="2"/>
                    </a:lnTo>
                    <a:lnTo>
                      <a:pt x="50" y="4"/>
                    </a:lnTo>
                    <a:lnTo>
                      <a:pt x="52" y="70"/>
                    </a:lnTo>
                    <a:lnTo>
                      <a:pt x="90" y="28"/>
                    </a:lnTo>
                    <a:lnTo>
                      <a:pt x="104" y="28"/>
                    </a:lnTo>
                    <a:lnTo>
                      <a:pt x="72" y="64"/>
                    </a:lnTo>
                    <a:lnTo>
                      <a:pt x="102" y="62"/>
                    </a:lnTo>
                    <a:lnTo>
                      <a:pt x="92" y="0"/>
                    </a:lnTo>
                    <a:lnTo>
                      <a:pt x="106" y="2"/>
                    </a:lnTo>
                    <a:lnTo>
                      <a:pt x="112" y="60"/>
                    </a:lnTo>
                    <a:lnTo>
                      <a:pt x="128" y="62"/>
                    </a:lnTo>
                    <a:lnTo>
                      <a:pt x="124" y="16"/>
                    </a:lnTo>
                    <a:lnTo>
                      <a:pt x="114" y="28"/>
                    </a:lnTo>
                    <a:lnTo>
                      <a:pt x="120" y="4"/>
                    </a:lnTo>
                    <a:lnTo>
                      <a:pt x="136" y="0"/>
                    </a:lnTo>
                    <a:lnTo>
                      <a:pt x="142" y="60"/>
                    </a:lnTo>
                    <a:lnTo>
                      <a:pt x="116" y="7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972200" y="5219640"/>
                <a:ext cx="956880" cy="559800"/>
              </a:xfrm>
              <a:custGeom>
                <a:avLst/>
                <a:gdLst/>
                <a:ahLst/>
                <a:rect l="l" t="t" r="r" b="b"/>
                <a:pathLst>
                  <a:path w="990" h="588">
                    <a:moveTo>
                      <a:pt x="844" y="532"/>
                    </a:moveTo>
                    <a:lnTo>
                      <a:pt x="990" y="0"/>
                    </a:lnTo>
                    <a:lnTo>
                      <a:pt x="554" y="10"/>
                    </a:lnTo>
                    <a:lnTo>
                      <a:pt x="534" y="38"/>
                    </a:lnTo>
                    <a:lnTo>
                      <a:pt x="506" y="50"/>
                    </a:lnTo>
                    <a:lnTo>
                      <a:pt x="506" y="62"/>
                    </a:lnTo>
                    <a:lnTo>
                      <a:pt x="550" y="38"/>
                    </a:lnTo>
                    <a:lnTo>
                      <a:pt x="548" y="58"/>
                    </a:lnTo>
                    <a:lnTo>
                      <a:pt x="506" y="74"/>
                    </a:lnTo>
                    <a:lnTo>
                      <a:pt x="508" y="86"/>
                    </a:lnTo>
                    <a:lnTo>
                      <a:pt x="550" y="64"/>
                    </a:lnTo>
                    <a:lnTo>
                      <a:pt x="552" y="86"/>
                    </a:lnTo>
                    <a:lnTo>
                      <a:pt x="506" y="104"/>
                    </a:lnTo>
                    <a:lnTo>
                      <a:pt x="482" y="112"/>
                    </a:lnTo>
                    <a:lnTo>
                      <a:pt x="480" y="72"/>
                    </a:lnTo>
                    <a:lnTo>
                      <a:pt x="414" y="90"/>
                    </a:lnTo>
                    <a:lnTo>
                      <a:pt x="394" y="84"/>
                    </a:lnTo>
                    <a:lnTo>
                      <a:pt x="410" y="102"/>
                    </a:lnTo>
                    <a:lnTo>
                      <a:pt x="472" y="84"/>
                    </a:lnTo>
                    <a:lnTo>
                      <a:pt x="410" y="116"/>
                    </a:lnTo>
                    <a:lnTo>
                      <a:pt x="390" y="110"/>
                    </a:lnTo>
                    <a:lnTo>
                      <a:pt x="384" y="122"/>
                    </a:lnTo>
                    <a:lnTo>
                      <a:pt x="404" y="128"/>
                    </a:lnTo>
                    <a:lnTo>
                      <a:pt x="472" y="98"/>
                    </a:lnTo>
                    <a:lnTo>
                      <a:pt x="472" y="122"/>
                    </a:lnTo>
                    <a:lnTo>
                      <a:pt x="406" y="144"/>
                    </a:lnTo>
                    <a:lnTo>
                      <a:pt x="402" y="160"/>
                    </a:lnTo>
                    <a:lnTo>
                      <a:pt x="390" y="160"/>
                    </a:lnTo>
                    <a:lnTo>
                      <a:pt x="402" y="172"/>
                    </a:lnTo>
                    <a:lnTo>
                      <a:pt x="396" y="200"/>
                    </a:lnTo>
                    <a:lnTo>
                      <a:pt x="382" y="202"/>
                    </a:lnTo>
                    <a:lnTo>
                      <a:pt x="374" y="182"/>
                    </a:lnTo>
                    <a:lnTo>
                      <a:pt x="364" y="190"/>
                    </a:lnTo>
                    <a:lnTo>
                      <a:pt x="364" y="216"/>
                    </a:lnTo>
                    <a:lnTo>
                      <a:pt x="352" y="226"/>
                    </a:lnTo>
                    <a:lnTo>
                      <a:pt x="322" y="234"/>
                    </a:lnTo>
                    <a:lnTo>
                      <a:pt x="300" y="218"/>
                    </a:lnTo>
                    <a:lnTo>
                      <a:pt x="290" y="196"/>
                    </a:lnTo>
                    <a:lnTo>
                      <a:pt x="276" y="198"/>
                    </a:lnTo>
                    <a:lnTo>
                      <a:pt x="280" y="216"/>
                    </a:lnTo>
                    <a:lnTo>
                      <a:pt x="268" y="238"/>
                    </a:lnTo>
                    <a:lnTo>
                      <a:pt x="270" y="252"/>
                    </a:lnTo>
                    <a:lnTo>
                      <a:pt x="222" y="278"/>
                    </a:lnTo>
                    <a:lnTo>
                      <a:pt x="184" y="280"/>
                    </a:lnTo>
                    <a:lnTo>
                      <a:pt x="156" y="274"/>
                    </a:lnTo>
                    <a:lnTo>
                      <a:pt x="130" y="258"/>
                    </a:lnTo>
                    <a:lnTo>
                      <a:pt x="120" y="268"/>
                    </a:lnTo>
                    <a:lnTo>
                      <a:pt x="144" y="288"/>
                    </a:lnTo>
                    <a:lnTo>
                      <a:pt x="112" y="304"/>
                    </a:lnTo>
                    <a:lnTo>
                      <a:pt x="66" y="308"/>
                    </a:lnTo>
                    <a:lnTo>
                      <a:pt x="34" y="298"/>
                    </a:lnTo>
                    <a:lnTo>
                      <a:pt x="18" y="286"/>
                    </a:lnTo>
                    <a:lnTo>
                      <a:pt x="8" y="296"/>
                    </a:lnTo>
                    <a:lnTo>
                      <a:pt x="24" y="310"/>
                    </a:lnTo>
                    <a:lnTo>
                      <a:pt x="26" y="332"/>
                    </a:lnTo>
                    <a:lnTo>
                      <a:pt x="18" y="342"/>
                    </a:lnTo>
                    <a:lnTo>
                      <a:pt x="6" y="334"/>
                    </a:lnTo>
                    <a:lnTo>
                      <a:pt x="0" y="348"/>
                    </a:lnTo>
                    <a:lnTo>
                      <a:pt x="20" y="364"/>
                    </a:lnTo>
                    <a:lnTo>
                      <a:pt x="52" y="374"/>
                    </a:lnTo>
                    <a:lnTo>
                      <a:pt x="66" y="382"/>
                    </a:lnTo>
                    <a:lnTo>
                      <a:pt x="60" y="394"/>
                    </a:lnTo>
                    <a:lnTo>
                      <a:pt x="38" y="392"/>
                    </a:lnTo>
                    <a:lnTo>
                      <a:pt x="36" y="406"/>
                    </a:lnTo>
                    <a:lnTo>
                      <a:pt x="62" y="410"/>
                    </a:lnTo>
                    <a:lnTo>
                      <a:pt x="76" y="426"/>
                    </a:lnTo>
                    <a:lnTo>
                      <a:pt x="104" y="422"/>
                    </a:lnTo>
                    <a:lnTo>
                      <a:pt x="104" y="440"/>
                    </a:lnTo>
                    <a:lnTo>
                      <a:pt x="94" y="460"/>
                    </a:lnTo>
                    <a:lnTo>
                      <a:pt x="94" y="488"/>
                    </a:lnTo>
                    <a:lnTo>
                      <a:pt x="110" y="482"/>
                    </a:lnTo>
                    <a:lnTo>
                      <a:pt x="110" y="498"/>
                    </a:lnTo>
                    <a:lnTo>
                      <a:pt x="96" y="514"/>
                    </a:lnTo>
                    <a:lnTo>
                      <a:pt x="118" y="518"/>
                    </a:lnTo>
                    <a:lnTo>
                      <a:pt x="124" y="506"/>
                    </a:lnTo>
                    <a:lnTo>
                      <a:pt x="116" y="476"/>
                    </a:lnTo>
                    <a:lnTo>
                      <a:pt x="134" y="486"/>
                    </a:lnTo>
                    <a:lnTo>
                      <a:pt x="130" y="448"/>
                    </a:lnTo>
                    <a:lnTo>
                      <a:pt x="118" y="432"/>
                    </a:lnTo>
                    <a:lnTo>
                      <a:pt x="180" y="426"/>
                    </a:lnTo>
                    <a:lnTo>
                      <a:pt x="188" y="442"/>
                    </a:lnTo>
                    <a:lnTo>
                      <a:pt x="212" y="440"/>
                    </a:lnTo>
                    <a:lnTo>
                      <a:pt x="208" y="422"/>
                    </a:lnTo>
                    <a:lnTo>
                      <a:pt x="222" y="424"/>
                    </a:lnTo>
                    <a:lnTo>
                      <a:pt x="228" y="442"/>
                    </a:lnTo>
                    <a:lnTo>
                      <a:pt x="246" y="442"/>
                    </a:lnTo>
                    <a:lnTo>
                      <a:pt x="244" y="426"/>
                    </a:lnTo>
                    <a:lnTo>
                      <a:pt x="260" y="434"/>
                    </a:lnTo>
                    <a:lnTo>
                      <a:pt x="288" y="428"/>
                    </a:lnTo>
                    <a:lnTo>
                      <a:pt x="244" y="462"/>
                    </a:lnTo>
                    <a:lnTo>
                      <a:pt x="266" y="492"/>
                    </a:lnTo>
                    <a:lnTo>
                      <a:pt x="350" y="444"/>
                    </a:lnTo>
                    <a:lnTo>
                      <a:pt x="368" y="452"/>
                    </a:lnTo>
                    <a:lnTo>
                      <a:pt x="344" y="472"/>
                    </a:lnTo>
                    <a:lnTo>
                      <a:pt x="300" y="502"/>
                    </a:lnTo>
                    <a:lnTo>
                      <a:pt x="330" y="528"/>
                    </a:lnTo>
                    <a:lnTo>
                      <a:pt x="370" y="502"/>
                    </a:lnTo>
                    <a:lnTo>
                      <a:pt x="414" y="474"/>
                    </a:lnTo>
                    <a:lnTo>
                      <a:pt x="426" y="508"/>
                    </a:lnTo>
                    <a:lnTo>
                      <a:pt x="480" y="502"/>
                    </a:lnTo>
                    <a:lnTo>
                      <a:pt x="476" y="524"/>
                    </a:lnTo>
                    <a:lnTo>
                      <a:pt x="526" y="528"/>
                    </a:lnTo>
                    <a:lnTo>
                      <a:pt x="516" y="542"/>
                    </a:lnTo>
                    <a:lnTo>
                      <a:pt x="494" y="556"/>
                    </a:lnTo>
                    <a:lnTo>
                      <a:pt x="512" y="582"/>
                    </a:lnTo>
                    <a:lnTo>
                      <a:pt x="528" y="588"/>
                    </a:lnTo>
                    <a:lnTo>
                      <a:pt x="836" y="568"/>
                    </a:lnTo>
                    <a:lnTo>
                      <a:pt x="844" y="53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367840" y="5256000"/>
                <a:ext cx="124560" cy="12564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129" y="78"/>
                    </a:moveTo>
                    <a:lnTo>
                      <a:pt x="127" y="0"/>
                    </a:lnTo>
                    <a:lnTo>
                      <a:pt x="119" y="4"/>
                    </a:lnTo>
                    <a:lnTo>
                      <a:pt x="119" y="66"/>
                    </a:lnTo>
                    <a:lnTo>
                      <a:pt x="107" y="72"/>
                    </a:lnTo>
                    <a:lnTo>
                      <a:pt x="109" y="10"/>
                    </a:lnTo>
                    <a:lnTo>
                      <a:pt x="97" y="14"/>
                    </a:lnTo>
                    <a:lnTo>
                      <a:pt x="99" y="88"/>
                    </a:lnTo>
                    <a:lnTo>
                      <a:pt x="47" y="108"/>
                    </a:lnTo>
                    <a:lnTo>
                      <a:pt x="41" y="46"/>
                    </a:lnTo>
                    <a:lnTo>
                      <a:pt x="33" y="48"/>
                    </a:lnTo>
                    <a:lnTo>
                      <a:pt x="33" y="104"/>
                    </a:lnTo>
                    <a:lnTo>
                      <a:pt x="15" y="110"/>
                    </a:lnTo>
                    <a:lnTo>
                      <a:pt x="15" y="52"/>
                    </a:lnTo>
                    <a:cubicBezTo>
                      <a:pt x="0" y="56"/>
                      <a:pt x="1" y="51"/>
                      <a:pt x="1" y="58"/>
                    </a:cubicBezTo>
                    <a:lnTo>
                      <a:pt x="7" y="132"/>
                    </a:lnTo>
                    <a:lnTo>
                      <a:pt x="129" y="7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grpSp>
            <p:nvGrpSpPr>
              <p:cNvPr id="24" name=""/>
              <p:cNvGrpSpPr/>
              <p:nvPr/>
            </p:nvGrpSpPr>
            <p:grpSpPr>
              <a:xfrm>
                <a:off x="7933680" y="5749200"/>
                <a:ext cx="1884960" cy="575280"/>
                <a:chOff x="7933680" y="5749200"/>
                <a:chExt cx="1884960" cy="57528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33680" y="5749200"/>
                  <a:ext cx="1020600" cy="575280"/>
                </a:xfrm>
                <a:custGeom>
                  <a:avLst/>
                  <a:gdLst/>
                  <a:ahLst/>
                  <a:rect l="l" t="t" r="r" b="b"/>
                  <a:pathLst>
                    <a:path w="1056" h="604">
                      <a:moveTo>
                        <a:pt x="1050" y="8"/>
                      </a:moveTo>
                      <a:lnTo>
                        <a:pt x="1056" y="590"/>
                      </a:lnTo>
                      <a:lnTo>
                        <a:pt x="526" y="604"/>
                      </a:lnTo>
                      <a:lnTo>
                        <a:pt x="512" y="584"/>
                      </a:lnTo>
                      <a:lnTo>
                        <a:pt x="526" y="574"/>
                      </a:lnTo>
                      <a:lnTo>
                        <a:pt x="510" y="566"/>
                      </a:lnTo>
                      <a:lnTo>
                        <a:pt x="510" y="548"/>
                      </a:lnTo>
                      <a:lnTo>
                        <a:pt x="532" y="532"/>
                      </a:lnTo>
                      <a:lnTo>
                        <a:pt x="530" y="520"/>
                      </a:lnTo>
                      <a:lnTo>
                        <a:pt x="490" y="528"/>
                      </a:lnTo>
                      <a:lnTo>
                        <a:pt x="486" y="514"/>
                      </a:lnTo>
                      <a:lnTo>
                        <a:pt x="470" y="514"/>
                      </a:lnTo>
                      <a:lnTo>
                        <a:pt x="474" y="496"/>
                      </a:lnTo>
                      <a:lnTo>
                        <a:pt x="462" y="492"/>
                      </a:lnTo>
                      <a:lnTo>
                        <a:pt x="436" y="508"/>
                      </a:lnTo>
                      <a:lnTo>
                        <a:pt x="430" y="496"/>
                      </a:lnTo>
                      <a:lnTo>
                        <a:pt x="408" y="504"/>
                      </a:lnTo>
                      <a:lnTo>
                        <a:pt x="400" y="516"/>
                      </a:lnTo>
                      <a:lnTo>
                        <a:pt x="388" y="514"/>
                      </a:lnTo>
                      <a:lnTo>
                        <a:pt x="382" y="504"/>
                      </a:lnTo>
                      <a:lnTo>
                        <a:pt x="370" y="506"/>
                      </a:lnTo>
                      <a:lnTo>
                        <a:pt x="312" y="520"/>
                      </a:lnTo>
                      <a:lnTo>
                        <a:pt x="296" y="494"/>
                      </a:lnTo>
                      <a:lnTo>
                        <a:pt x="348" y="462"/>
                      </a:lnTo>
                      <a:lnTo>
                        <a:pt x="340" y="444"/>
                      </a:lnTo>
                      <a:lnTo>
                        <a:pt x="322" y="448"/>
                      </a:lnTo>
                      <a:lnTo>
                        <a:pt x="264" y="470"/>
                      </a:lnTo>
                      <a:lnTo>
                        <a:pt x="250" y="468"/>
                      </a:lnTo>
                      <a:lnTo>
                        <a:pt x="236" y="448"/>
                      </a:lnTo>
                      <a:lnTo>
                        <a:pt x="242" y="438"/>
                      </a:lnTo>
                      <a:lnTo>
                        <a:pt x="260" y="430"/>
                      </a:lnTo>
                      <a:lnTo>
                        <a:pt x="282" y="422"/>
                      </a:lnTo>
                      <a:lnTo>
                        <a:pt x="246" y="428"/>
                      </a:lnTo>
                      <a:lnTo>
                        <a:pt x="220" y="428"/>
                      </a:lnTo>
                      <a:lnTo>
                        <a:pt x="180" y="432"/>
                      </a:lnTo>
                      <a:lnTo>
                        <a:pt x="162" y="422"/>
                      </a:lnTo>
                      <a:lnTo>
                        <a:pt x="120" y="422"/>
                      </a:lnTo>
                      <a:lnTo>
                        <a:pt x="114" y="444"/>
                      </a:lnTo>
                      <a:lnTo>
                        <a:pt x="122" y="458"/>
                      </a:lnTo>
                      <a:lnTo>
                        <a:pt x="126" y="484"/>
                      </a:lnTo>
                      <a:lnTo>
                        <a:pt x="110" y="478"/>
                      </a:lnTo>
                      <a:lnTo>
                        <a:pt x="112" y="490"/>
                      </a:lnTo>
                      <a:lnTo>
                        <a:pt x="124" y="508"/>
                      </a:lnTo>
                      <a:lnTo>
                        <a:pt x="106" y="512"/>
                      </a:lnTo>
                      <a:lnTo>
                        <a:pt x="94" y="502"/>
                      </a:lnTo>
                      <a:lnTo>
                        <a:pt x="104" y="480"/>
                      </a:lnTo>
                      <a:lnTo>
                        <a:pt x="92" y="482"/>
                      </a:lnTo>
                      <a:lnTo>
                        <a:pt x="96" y="440"/>
                      </a:lnTo>
                      <a:lnTo>
                        <a:pt x="106" y="420"/>
                      </a:lnTo>
                      <a:lnTo>
                        <a:pt x="76" y="418"/>
                      </a:lnTo>
                      <a:lnTo>
                        <a:pt x="58" y="404"/>
                      </a:lnTo>
                      <a:lnTo>
                        <a:pt x="38" y="390"/>
                      </a:lnTo>
                      <a:lnTo>
                        <a:pt x="34" y="378"/>
                      </a:lnTo>
                      <a:lnTo>
                        <a:pt x="50" y="374"/>
                      </a:lnTo>
                      <a:lnTo>
                        <a:pt x="32" y="334"/>
                      </a:lnTo>
                      <a:lnTo>
                        <a:pt x="20" y="324"/>
                      </a:lnTo>
                      <a:lnTo>
                        <a:pt x="0" y="318"/>
                      </a:lnTo>
                      <a:lnTo>
                        <a:pt x="8" y="308"/>
                      </a:lnTo>
                      <a:lnTo>
                        <a:pt x="22" y="292"/>
                      </a:lnTo>
                      <a:lnTo>
                        <a:pt x="2" y="270"/>
                      </a:lnTo>
                      <a:lnTo>
                        <a:pt x="20" y="264"/>
                      </a:lnTo>
                      <a:lnTo>
                        <a:pt x="50" y="286"/>
                      </a:lnTo>
                      <a:lnTo>
                        <a:pt x="116" y="286"/>
                      </a:lnTo>
                      <a:lnTo>
                        <a:pt x="136" y="276"/>
                      </a:lnTo>
                      <a:lnTo>
                        <a:pt x="138" y="260"/>
                      </a:lnTo>
                      <a:lnTo>
                        <a:pt x="126" y="252"/>
                      </a:lnTo>
                      <a:lnTo>
                        <a:pt x="140" y="242"/>
                      </a:lnTo>
                      <a:lnTo>
                        <a:pt x="156" y="250"/>
                      </a:lnTo>
                      <a:lnTo>
                        <a:pt x="176" y="260"/>
                      </a:lnTo>
                      <a:lnTo>
                        <a:pt x="200" y="256"/>
                      </a:lnTo>
                      <a:lnTo>
                        <a:pt x="222" y="246"/>
                      </a:lnTo>
                      <a:lnTo>
                        <a:pt x="254" y="240"/>
                      </a:lnTo>
                      <a:lnTo>
                        <a:pt x="346" y="206"/>
                      </a:lnTo>
                      <a:lnTo>
                        <a:pt x="398" y="180"/>
                      </a:lnTo>
                      <a:lnTo>
                        <a:pt x="408" y="172"/>
                      </a:lnTo>
                      <a:lnTo>
                        <a:pt x="366" y="158"/>
                      </a:lnTo>
                      <a:lnTo>
                        <a:pt x="394" y="120"/>
                      </a:lnTo>
                      <a:lnTo>
                        <a:pt x="436" y="126"/>
                      </a:lnTo>
                      <a:lnTo>
                        <a:pt x="474" y="122"/>
                      </a:lnTo>
                      <a:lnTo>
                        <a:pt x="472" y="100"/>
                      </a:lnTo>
                      <a:lnTo>
                        <a:pt x="414" y="106"/>
                      </a:lnTo>
                      <a:lnTo>
                        <a:pt x="398" y="102"/>
                      </a:lnTo>
                      <a:lnTo>
                        <a:pt x="378" y="94"/>
                      </a:lnTo>
                      <a:cubicBezTo>
                        <a:pt x="384" y="83"/>
                        <a:pt x="380" y="84"/>
                        <a:pt x="386" y="84"/>
                      </a:cubicBezTo>
                      <a:lnTo>
                        <a:pt x="420" y="98"/>
                      </a:lnTo>
                      <a:lnTo>
                        <a:pt x="470" y="90"/>
                      </a:lnTo>
                      <a:lnTo>
                        <a:pt x="470" y="74"/>
                      </a:lnTo>
                      <a:lnTo>
                        <a:pt x="426" y="82"/>
                      </a:lnTo>
                      <a:lnTo>
                        <a:pt x="402" y="78"/>
                      </a:lnTo>
                      <a:cubicBezTo>
                        <a:pt x="396" y="75"/>
                        <a:pt x="384" y="70"/>
                        <a:pt x="384" y="70"/>
                      </a:cubicBezTo>
                      <a:lnTo>
                        <a:pt x="392" y="60"/>
                      </a:lnTo>
                      <a:lnTo>
                        <a:pt x="424" y="72"/>
                      </a:lnTo>
                      <a:lnTo>
                        <a:pt x="454" y="68"/>
                      </a:lnTo>
                      <a:lnTo>
                        <a:pt x="482" y="66"/>
                      </a:lnTo>
                      <a:lnTo>
                        <a:pt x="484" y="122"/>
                      </a:lnTo>
                      <a:lnTo>
                        <a:pt x="512" y="118"/>
                      </a:lnTo>
                      <a:lnTo>
                        <a:pt x="510" y="62"/>
                      </a:lnTo>
                      <a:lnTo>
                        <a:pt x="522" y="58"/>
                      </a:lnTo>
                      <a:lnTo>
                        <a:pt x="524" y="114"/>
                      </a:lnTo>
                      <a:lnTo>
                        <a:pt x="536" y="110"/>
                      </a:lnTo>
                      <a:lnTo>
                        <a:pt x="536" y="54"/>
                      </a:lnTo>
                      <a:lnTo>
                        <a:pt x="548" y="52"/>
                      </a:lnTo>
                      <a:lnTo>
                        <a:pt x="548" y="110"/>
                      </a:lnTo>
                      <a:lnTo>
                        <a:pt x="566" y="102"/>
                      </a:lnTo>
                      <a:lnTo>
                        <a:pt x="564" y="20"/>
                      </a:lnTo>
                      <a:lnTo>
                        <a:pt x="908" y="0"/>
                      </a:lnTo>
                      <a:lnTo>
                        <a:pt x="1050" y="8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324280" y="5790960"/>
                  <a:ext cx="196920" cy="104760"/>
                </a:xfrm>
                <a:custGeom>
                  <a:avLst/>
                  <a:gdLst/>
                  <a:ahLst/>
                  <a:rect l="l" t="t" r="r" b="b"/>
                  <a:pathLst>
                    <a:path w="204" h="110">
                      <a:moveTo>
                        <a:pt x="190" y="0"/>
                      </a:moveTo>
                      <a:lnTo>
                        <a:pt x="110" y="16"/>
                      </a:lnTo>
                      <a:lnTo>
                        <a:pt x="112" y="22"/>
                      </a:lnTo>
                      <a:lnTo>
                        <a:pt x="172" y="14"/>
                      </a:lnTo>
                      <a:lnTo>
                        <a:pt x="170" y="26"/>
                      </a:lnTo>
                      <a:lnTo>
                        <a:pt x="110" y="38"/>
                      </a:lnTo>
                      <a:lnTo>
                        <a:pt x="112" y="50"/>
                      </a:lnTo>
                      <a:lnTo>
                        <a:pt x="174" y="34"/>
                      </a:lnTo>
                      <a:lnTo>
                        <a:pt x="178" y="80"/>
                      </a:lnTo>
                      <a:lnTo>
                        <a:pt x="120" y="84"/>
                      </a:lnTo>
                      <a:lnTo>
                        <a:pt x="74" y="44"/>
                      </a:lnTo>
                      <a:lnTo>
                        <a:pt x="74" y="56"/>
                      </a:lnTo>
                      <a:lnTo>
                        <a:pt x="110" y="86"/>
                      </a:lnTo>
                      <a:lnTo>
                        <a:pt x="46" y="94"/>
                      </a:lnTo>
                      <a:lnTo>
                        <a:pt x="46" y="30"/>
                      </a:lnTo>
                      <a:cubicBezTo>
                        <a:pt x="29" y="32"/>
                        <a:pt x="30" y="27"/>
                        <a:pt x="30" y="34"/>
                      </a:cubicBezTo>
                      <a:lnTo>
                        <a:pt x="34" y="94"/>
                      </a:lnTo>
                      <a:lnTo>
                        <a:pt x="12" y="88"/>
                      </a:lnTo>
                      <a:lnTo>
                        <a:pt x="12" y="32"/>
                      </a:lnTo>
                      <a:lnTo>
                        <a:pt x="0" y="28"/>
                      </a:lnTo>
                      <a:lnTo>
                        <a:pt x="4" y="92"/>
                      </a:lnTo>
                      <a:lnTo>
                        <a:pt x="70" y="110"/>
                      </a:lnTo>
                      <a:lnTo>
                        <a:pt x="182" y="98"/>
                      </a:lnTo>
                      <a:lnTo>
                        <a:pt x="204" y="72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935200" y="5749200"/>
                  <a:ext cx="883440" cy="556200"/>
                </a:xfrm>
                <a:custGeom>
                  <a:avLst/>
                  <a:gdLst/>
                  <a:ahLst/>
                  <a:rect l="l" t="t" r="r" b="b"/>
                  <a:pathLst>
                    <a:path w="914" h="584">
                      <a:moveTo>
                        <a:pt x="282" y="22"/>
                      </a:moveTo>
                      <a:lnTo>
                        <a:pt x="440" y="28"/>
                      </a:lnTo>
                      <a:lnTo>
                        <a:pt x="468" y="18"/>
                      </a:lnTo>
                      <a:lnTo>
                        <a:pt x="440" y="36"/>
                      </a:lnTo>
                      <a:lnTo>
                        <a:pt x="280" y="36"/>
                      </a:lnTo>
                      <a:lnTo>
                        <a:pt x="282" y="56"/>
                      </a:lnTo>
                      <a:lnTo>
                        <a:pt x="440" y="52"/>
                      </a:lnTo>
                      <a:lnTo>
                        <a:pt x="470" y="42"/>
                      </a:lnTo>
                      <a:lnTo>
                        <a:pt x="440" y="64"/>
                      </a:lnTo>
                      <a:lnTo>
                        <a:pt x="284" y="66"/>
                      </a:lnTo>
                      <a:lnTo>
                        <a:pt x="298" y="78"/>
                      </a:lnTo>
                      <a:lnTo>
                        <a:pt x="352" y="88"/>
                      </a:lnTo>
                      <a:lnTo>
                        <a:pt x="430" y="84"/>
                      </a:lnTo>
                      <a:lnTo>
                        <a:pt x="464" y="82"/>
                      </a:lnTo>
                      <a:lnTo>
                        <a:pt x="466" y="102"/>
                      </a:lnTo>
                      <a:lnTo>
                        <a:pt x="484" y="102"/>
                      </a:lnTo>
                      <a:lnTo>
                        <a:pt x="488" y="120"/>
                      </a:lnTo>
                      <a:lnTo>
                        <a:pt x="468" y="130"/>
                      </a:lnTo>
                      <a:lnTo>
                        <a:pt x="476" y="148"/>
                      </a:lnTo>
                      <a:lnTo>
                        <a:pt x="544" y="182"/>
                      </a:lnTo>
                      <a:lnTo>
                        <a:pt x="636" y="202"/>
                      </a:lnTo>
                      <a:lnTo>
                        <a:pt x="708" y="206"/>
                      </a:lnTo>
                      <a:lnTo>
                        <a:pt x="742" y="196"/>
                      </a:lnTo>
                      <a:lnTo>
                        <a:pt x="768" y="186"/>
                      </a:lnTo>
                      <a:lnTo>
                        <a:pt x="778" y="194"/>
                      </a:lnTo>
                      <a:lnTo>
                        <a:pt x="764" y="210"/>
                      </a:lnTo>
                      <a:lnTo>
                        <a:pt x="766" y="228"/>
                      </a:lnTo>
                      <a:lnTo>
                        <a:pt x="786" y="240"/>
                      </a:lnTo>
                      <a:lnTo>
                        <a:pt x="838" y="236"/>
                      </a:lnTo>
                      <a:lnTo>
                        <a:pt x="882" y="224"/>
                      </a:lnTo>
                      <a:lnTo>
                        <a:pt x="902" y="204"/>
                      </a:lnTo>
                      <a:lnTo>
                        <a:pt x="910" y="214"/>
                      </a:lnTo>
                      <a:lnTo>
                        <a:pt x="896" y="232"/>
                      </a:lnTo>
                      <a:lnTo>
                        <a:pt x="904" y="248"/>
                      </a:lnTo>
                      <a:lnTo>
                        <a:pt x="894" y="260"/>
                      </a:lnTo>
                      <a:lnTo>
                        <a:pt x="908" y="262"/>
                      </a:lnTo>
                      <a:lnTo>
                        <a:pt x="914" y="274"/>
                      </a:lnTo>
                      <a:lnTo>
                        <a:pt x="904" y="282"/>
                      </a:lnTo>
                      <a:lnTo>
                        <a:pt x="856" y="328"/>
                      </a:lnTo>
                      <a:lnTo>
                        <a:pt x="868" y="342"/>
                      </a:lnTo>
                      <a:lnTo>
                        <a:pt x="844" y="358"/>
                      </a:lnTo>
                      <a:lnTo>
                        <a:pt x="828" y="358"/>
                      </a:lnTo>
                      <a:lnTo>
                        <a:pt x="792" y="378"/>
                      </a:lnTo>
                      <a:lnTo>
                        <a:pt x="806" y="414"/>
                      </a:lnTo>
                      <a:lnTo>
                        <a:pt x="802" y="442"/>
                      </a:lnTo>
                      <a:lnTo>
                        <a:pt x="790" y="430"/>
                      </a:lnTo>
                      <a:lnTo>
                        <a:pt x="790" y="450"/>
                      </a:lnTo>
                      <a:lnTo>
                        <a:pt x="802" y="472"/>
                      </a:lnTo>
                      <a:lnTo>
                        <a:pt x="774" y="472"/>
                      </a:lnTo>
                      <a:lnTo>
                        <a:pt x="784" y="452"/>
                      </a:lnTo>
                      <a:lnTo>
                        <a:pt x="786" y="428"/>
                      </a:lnTo>
                      <a:lnTo>
                        <a:pt x="770" y="440"/>
                      </a:lnTo>
                      <a:lnTo>
                        <a:pt x="774" y="398"/>
                      </a:lnTo>
                      <a:lnTo>
                        <a:pt x="782" y="380"/>
                      </a:lnTo>
                      <a:lnTo>
                        <a:pt x="686" y="396"/>
                      </a:lnTo>
                      <a:lnTo>
                        <a:pt x="624" y="398"/>
                      </a:lnTo>
                      <a:lnTo>
                        <a:pt x="642" y="418"/>
                      </a:lnTo>
                      <a:lnTo>
                        <a:pt x="644" y="430"/>
                      </a:lnTo>
                      <a:lnTo>
                        <a:pt x="626" y="442"/>
                      </a:lnTo>
                      <a:lnTo>
                        <a:pt x="598" y="436"/>
                      </a:lnTo>
                      <a:lnTo>
                        <a:pt x="532" y="406"/>
                      </a:lnTo>
                      <a:lnTo>
                        <a:pt x="516" y="400"/>
                      </a:lnTo>
                      <a:lnTo>
                        <a:pt x="496" y="424"/>
                      </a:lnTo>
                      <a:lnTo>
                        <a:pt x="558" y="444"/>
                      </a:lnTo>
                      <a:lnTo>
                        <a:pt x="588" y="462"/>
                      </a:lnTo>
                      <a:lnTo>
                        <a:pt x="586" y="476"/>
                      </a:lnTo>
                      <a:lnTo>
                        <a:pt x="570" y="494"/>
                      </a:lnTo>
                      <a:lnTo>
                        <a:pt x="520" y="470"/>
                      </a:lnTo>
                      <a:lnTo>
                        <a:pt x="500" y="482"/>
                      </a:lnTo>
                      <a:lnTo>
                        <a:pt x="486" y="480"/>
                      </a:lnTo>
                      <a:lnTo>
                        <a:pt x="448" y="462"/>
                      </a:lnTo>
                      <a:lnTo>
                        <a:pt x="440" y="478"/>
                      </a:lnTo>
                      <a:lnTo>
                        <a:pt x="388" y="476"/>
                      </a:lnTo>
                      <a:lnTo>
                        <a:pt x="368" y="512"/>
                      </a:lnTo>
                      <a:lnTo>
                        <a:pt x="328" y="508"/>
                      </a:lnTo>
                      <a:lnTo>
                        <a:pt x="320" y="520"/>
                      </a:lnTo>
                      <a:lnTo>
                        <a:pt x="332" y="534"/>
                      </a:lnTo>
                      <a:lnTo>
                        <a:pt x="336" y="550"/>
                      </a:lnTo>
                      <a:lnTo>
                        <a:pt x="308" y="580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264" y="8"/>
                      </a:lnTo>
                      <a:lnTo>
                        <a:pt x="282" y="2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225000" y="5775840"/>
                  <a:ext cx="142920" cy="87480"/>
                </a:xfrm>
                <a:custGeom>
                  <a:avLst/>
                  <a:gdLst/>
                  <a:ahLst/>
                  <a:rect l="l" t="t" r="r" b="b"/>
                  <a:pathLst>
                    <a:path w="148" h="92">
                      <a:moveTo>
                        <a:pt x="0" y="82"/>
                      </a:moveTo>
                      <a:lnTo>
                        <a:pt x="4" y="2"/>
                      </a:lnTo>
                      <a:lnTo>
                        <a:pt x="18" y="0"/>
                      </a:lnTo>
                      <a:lnTo>
                        <a:pt x="12" y="74"/>
                      </a:lnTo>
                      <a:lnTo>
                        <a:pt x="44" y="78"/>
                      </a:lnTo>
                      <a:lnTo>
                        <a:pt x="46" y="2"/>
                      </a:lnTo>
                      <a:lnTo>
                        <a:pt x="58" y="2"/>
                      </a:lnTo>
                      <a:lnTo>
                        <a:pt x="56" y="72"/>
                      </a:lnTo>
                      <a:lnTo>
                        <a:pt x="94" y="70"/>
                      </a:lnTo>
                      <a:lnTo>
                        <a:pt x="92" y="2"/>
                      </a:lnTo>
                      <a:lnTo>
                        <a:pt x="106" y="4"/>
                      </a:lnTo>
                      <a:lnTo>
                        <a:pt x="104" y="68"/>
                      </a:lnTo>
                      <a:lnTo>
                        <a:pt x="136" y="64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48" y="70"/>
                      </a:lnTo>
                      <a:lnTo>
                        <a:pt x="60" y="88"/>
                      </a:lnTo>
                      <a:lnTo>
                        <a:pt x="8" y="9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7852680" y="6280920"/>
                <a:ext cx="1117080" cy="574920"/>
              </a:xfrm>
              <a:custGeom>
                <a:avLst/>
                <a:gdLst/>
                <a:ahLst/>
                <a:rect l="l" t="t" r="r" b="b"/>
                <a:pathLst>
                  <a:path w="1156" h="604">
                    <a:moveTo>
                      <a:pt x="1143" y="8"/>
                    </a:moveTo>
                    <a:lnTo>
                      <a:pt x="1156" y="600"/>
                    </a:lnTo>
                    <a:lnTo>
                      <a:pt x="573" y="604"/>
                    </a:lnTo>
                    <a:lnTo>
                      <a:pt x="558" y="584"/>
                    </a:lnTo>
                    <a:lnTo>
                      <a:pt x="573" y="574"/>
                    </a:lnTo>
                    <a:lnTo>
                      <a:pt x="555" y="566"/>
                    </a:lnTo>
                    <a:lnTo>
                      <a:pt x="555" y="548"/>
                    </a:lnTo>
                    <a:lnTo>
                      <a:pt x="579" y="532"/>
                    </a:lnTo>
                    <a:lnTo>
                      <a:pt x="577" y="520"/>
                    </a:lnTo>
                    <a:lnTo>
                      <a:pt x="534" y="528"/>
                    </a:lnTo>
                    <a:lnTo>
                      <a:pt x="529" y="514"/>
                    </a:lnTo>
                    <a:lnTo>
                      <a:pt x="512" y="514"/>
                    </a:lnTo>
                    <a:lnTo>
                      <a:pt x="516" y="496"/>
                    </a:lnTo>
                    <a:lnTo>
                      <a:pt x="503" y="492"/>
                    </a:lnTo>
                    <a:lnTo>
                      <a:pt x="475" y="508"/>
                    </a:lnTo>
                    <a:lnTo>
                      <a:pt x="468" y="496"/>
                    </a:lnTo>
                    <a:lnTo>
                      <a:pt x="444" y="504"/>
                    </a:lnTo>
                    <a:lnTo>
                      <a:pt x="436" y="516"/>
                    </a:lnTo>
                    <a:lnTo>
                      <a:pt x="423" y="514"/>
                    </a:lnTo>
                    <a:lnTo>
                      <a:pt x="416" y="504"/>
                    </a:lnTo>
                    <a:lnTo>
                      <a:pt x="403" y="506"/>
                    </a:lnTo>
                    <a:lnTo>
                      <a:pt x="340" y="520"/>
                    </a:lnTo>
                    <a:lnTo>
                      <a:pt x="322" y="494"/>
                    </a:lnTo>
                    <a:lnTo>
                      <a:pt x="379" y="462"/>
                    </a:lnTo>
                    <a:lnTo>
                      <a:pt x="370" y="444"/>
                    </a:lnTo>
                    <a:lnTo>
                      <a:pt x="351" y="448"/>
                    </a:lnTo>
                    <a:lnTo>
                      <a:pt x="288" y="470"/>
                    </a:lnTo>
                    <a:lnTo>
                      <a:pt x="272" y="468"/>
                    </a:lnTo>
                    <a:lnTo>
                      <a:pt x="257" y="448"/>
                    </a:lnTo>
                    <a:lnTo>
                      <a:pt x="264" y="438"/>
                    </a:lnTo>
                    <a:lnTo>
                      <a:pt x="283" y="430"/>
                    </a:lnTo>
                    <a:lnTo>
                      <a:pt x="307" y="422"/>
                    </a:lnTo>
                    <a:lnTo>
                      <a:pt x="268" y="428"/>
                    </a:lnTo>
                    <a:lnTo>
                      <a:pt x="240" y="428"/>
                    </a:lnTo>
                    <a:lnTo>
                      <a:pt x="196" y="432"/>
                    </a:lnTo>
                    <a:lnTo>
                      <a:pt x="176" y="422"/>
                    </a:lnTo>
                    <a:lnTo>
                      <a:pt x="131" y="422"/>
                    </a:lnTo>
                    <a:lnTo>
                      <a:pt x="124" y="444"/>
                    </a:lnTo>
                    <a:lnTo>
                      <a:pt x="133" y="458"/>
                    </a:lnTo>
                    <a:lnTo>
                      <a:pt x="137" y="484"/>
                    </a:lnTo>
                    <a:lnTo>
                      <a:pt x="120" y="478"/>
                    </a:lnTo>
                    <a:lnTo>
                      <a:pt x="122" y="490"/>
                    </a:lnTo>
                    <a:lnTo>
                      <a:pt x="135" y="508"/>
                    </a:lnTo>
                    <a:lnTo>
                      <a:pt x="115" y="512"/>
                    </a:lnTo>
                    <a:lnTo>
                      <a:pt x="102" y="502"/>
                    </a:lnTo>
                    <a:lnTo>
                      <a:pt x="113" y="480"/>
                    </a:lnTo>
                    <a:lnTo>
                      <a:pt x="100" y="482"/>
                    </a:lnTo>
                    <a:lnTo>
                      <a:pt x="105" y="440"/>
                    </a:lnTo>
                    <a:lnTo>
                      <a:pt x="115" y="420"/>
                    </a:lnTo>
                    <a:lnTo>
                      <a:pt x="83" y="418"/>
                    </a:lnTo>
                    <a:lnTo>
                      <a:pt x="63" y="404"/>
                    </a:lnTo>
                    <a:lnTo>
                      <a:pt x="41" y="390"/>
                    </a:lnTo>
                    <a:lnTo>
                      <a:pt x="37" y="378"/>
                    </a:lnTo>
                    <a:lnTo>
                      <a:pt x="54" y="374"/>
                    </a:lnTo>
                    <a:lnTo>
                      <a:pt x="35" y="334"/>
                    </a:lnTo>
                    <a:lnTo>
                      <a:pt x="22" y="324"/>
                    </a:lnTo>
                    <a:lnTo>
                      <a:pt x="0" y="318"/>
                    </a:lnTo>
                    <a:lnTo>
                      <a:pt x="9" y="308"/>
                    </a:lnTo>
                    <a:lnTo>
                      <a:pt x="24" y="292"/>
                    </a:lnTo>
                    <a:lnTo>
                      <a:pt x="2" y="270"/>
                    </a:lnTo>
                    <a:lnTo>
                      <a:pt x="22" y="264"/>
                    </a:lnTo>
                    <a:lnTo>
                      <a:pt x="54" y="286"/>
                    </a:lnTo>
                    <a:lnTo>
                      <a:pt x="126" y="286"/>
                    </a:lnTo>
                    <a:lnTo>
                      <a:pt x="148" y="276"/>
                    </a:lnTo>
                    <a:lnTo>
                      <a:pt x="150" y="260"/>
                    </a:lnTo>
                    <a:lnTo>
                      <a:pt x="137" y="252"/>
                    </a:lnTo>
                    <a:lnTo>
                      <a:pt x="152" y="242"/>
                    </a:lnTo>
                    <a:lnTo>
                      <a:pt x="170" y="250"/>
                    </a:lnTo>
                    <a:lnTo>
                      <a:pt x="192" y="260"/>
                    </a:lnTo>
                    <a:lnTo>
                      <a:pt x="218" y="256"/>
                    </a:lnTo>
                    <a:lnTo>
                      <a:pt x="242" y="246"/>
                    </a:lnTo>
                    <a:lnTo>
                      <a:pt x="277" y="240"/>
                    </a:lnTo>
                    <a:lnTo>
                      <a:pt x="377" y="206"/>
                    </a:lnTo>
                    <a:lnTo>
                      <a:pt x="433" y="180"/>
                    </a:lnTo>
                    <a:lnTo>
                      <a:pt x="444" y="172"/>
                    </a:lnTo>
                    <a:lnTo>
                      <a:pt x="399" y="158"/>
                    </a:lnTo>
                    <a:lnTo>
                      <a:pt x="429" y="120"/>
                    </a:lnTo>
                    <a:lnTo>
                      <a:pt x="475" y="126"/>
                    </a:lnTo>
                    <a:lnTo>
                      <a:pt x="516" y="122"/>
                    </a:lnTo>
                    <a:lnTo>
                      <a:pt x="514" y="100"/>
                    </a:lnTo>
                    <a:lnTo>
                      <a:pt x="451" y="106"/>
                    </a:lnTo>
                    <a:lnTo>
                      <a:pt x="433" y="102"/>
                    </a:lnTo>
                    <a:lnTo>
                      <a:pt x="412" y="94"/>
                    </a:lnTo>
                    <a:cubicBezTo>
                      <a:pt x="418" y="83"/>
                      <a:pt x="414" y="84"/>
                      <a:pt x="420" y="84"/>
                    </a:cubicBezTo>
                    <a:lnTo>
                      <a:pt x="457" y="98"/>
                    </a:lnTo>
                    <a:lnTo>
                      <a:pt x="512" y="90"/>
                    </a:lnTo>
                    <a:lnTo>
                      <a:pt x="512" y="74"/>
                    </a:lnTo>
                    <a:lnTo>
                      <a:pt x="464" y="82"/>
                    </a:lnTo>
                    <a:lnTo>
                      <a:pt x="438" y="78"/>
                    </a:lnTo>
                    <a:cubicBezTo>
                      <a:pt x="431" y="75"/>
                      <a:pt x="418" y="70"/>
                      <a:pt x="418" y="70"/>
                    </a:cubicBezTo>
                    <a:lnTo>
                      <a:pt x="427" y="60"/>
                    </a:lnTo>
                    <a:lnTo>
                      <a:pt x="462" y="72"/>
                    </a:lnTo>
                    <a:lnTo>
                      <a:pt x="494" y="68"/>
                    </a:lnTo>
                    <a:lnTo>
                      <a:pt x="525" y="66"/>
                    </a:lnTo>
                    <a:lnTo>
                      <a:pt x="527" y="122"/>
                    </a:lnTo>
                    <a:lnTo>
                      <a:pt x="558" y="118"/>
                    </a:lnTo>
                    <a:lnTo>
                      <a:pt x="555" y="62"/>
                    </a:lnTo>
                    <a:lnTo>
                      <a:pt x="568" y="58"/>
                    </a:lnTo>
                    <a:lnTo>
                      <a:pt x="571" y="114"/>
                    </a:lnTo>
                    <a:lnTo>
                      <a:pt x="584" y="110"/>
                    </a:lnTo>
                    <a:lnTo>
                      <a:pt x="584" y="54"/>
                    </a:lnTo>
                    <a:lnTo>
                      <a:pt x="597" y="52"/>
                    </a:lnTo>
                    <a:lnTo>
                      <a:pt x="597" y="110"/>
                    </a:lnTo>
                    <a:lnTo>
                      <a:pt x="616" y="102"/>
                    </a:lnTo>
                    <a:lnTo>
                      <a:pt x="614" y="20"/>
                    </a:lnTo>
                    <a:lnTo>
                      <a:pt x="989" y="0"/>
                    </a:lnTo>
                    <a:lnTo>
                      <a:pt x="1143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7840" y="6322680"/>
                <a:ext cx="214560" cy="104760"/>
              </a:xfrm>
              <a:custGeom>
                <a:avLst/>
                <a:gdLst/>
                <a:ahLst/>
                <a:rect l="l" t="t" r="r" b="b"/>
                <a:pathLst>
                  <a:path w="204" h="110">
                    <a:moveTo>
                      <a:pt x="190" y="0"/>
                    </a:moveTo>
                    <a:lnTo>
                      <a:pt x="110" y="16"/>
                    </a:lnTo>
                    <a:lnTo>
                      <a:pt x="112" y="22"/>
                    </a:lnTo>
                    <a:lnTo>
                      <a:pt x="172" y="14"/>
                    </a:lnTo>
                    <a:lnTo>
                      <a:pt x="170" y="26"/>
                    </a:lnTo>
                    <a:lnTo>
                      <a:pt x="110" y="38"/>
                    </a:lnTo>
                    <a:lnTo>
                      <a:pt x="112" y="50"/>
                    </a:lnTo>
                    <a:lnTo>
                      <a:pt x="174" y="34"/>
                    </a:lnTo>
                    <a:lnTo>
                      <a:pt x="178" y="80"/>
                    </a:lnTo>
                    <a:lnTo>
                      <a:pt x="120" y="84"/>
                    </a:lnTo>
                    <a:lnTo>
                      <a:pt x="74" y="44"/>
                    </a:lnTo>
                    <a:lnTo>
                      <a:pt x="74" y="56"/>
                    </a:lnTo>
                    <a:lnTo>
                      <a:pt x="110" y="86"/>
                    </a:lnTo>
                    <a:lnTo>
                      <a:pt x="46" y="94"/>
                    </a:lnTo>
                    <a:lnTo>
                      <a:pt x="46" y="30"/>
                    </a:lnTo>
                    <a:cubicBezTo>
                      <a:pt x="29" y="32"/>
                      <a:pt x="30" y="27"/>
                      <a:pt x="30" y="34"/>
                    </a:cubicBezTo>
                    <a:lnTo>
                      <a:pt x="34" y="94"/>
                    </a:lnTo>
                    <a:lnTo>
                      <a:pt x="12" y="8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4" y="92"/>
                    </a:lnTo>
                    <a:lnTo>
                      <a:pt x="70" y="110"/>
                    </a:lnTo>
                    <a:lnTo>
                      <a:pt x="182" y="98"/>
                    </a:lnTo>
                    <a:lnTo>
                      <a:pt x="204" y="72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935200" y="6280920"/>
                <a:ext cx="970200" cy="577080"/>
              </a:xfrm>
              <a:custGeom>
                <a:avLst/>
                <a:gdLst/>
                <a:ahLst/>
                <a:rect l="l" t="t" r="r" b="b"/>
                <a:pathLst>
                  <a:path w="1004" h="606">
                    <a:moveTo>
                      <a:pt x="315" y="22"/>
                    </a:moveTo>
                    <a:lnTo>
                      <a:pt x="487" y="28"/>
                    </a:lnTo>
                    <a:lnTo>
                      <a:pt x="518" y="18"/>
                    </a:lnTo>
                    <a:lnTo>
                      <a:pt x="487" y="36"/>
                    </a:lnTo>
                    <a:lnTo>
                      <a:pt x="313" y="36"/>
                    </a:lnTo>
                    <a:lnTo>
                      <a:pt x="315" y="56"/>
                    </a:lnTo>
                    <a:lnTo>
                      <a:pt x="487" y="52"/>
                    </a:lnTo>
                    <a:lnTo>
                      <a:pt x="520" y="42"/>
                    </a:lnTo>
                    <a:lnTo>
                      <a:pt x="487" y="64"/>
                    </a:lnTo>
                    <a:lnTo>
                      <a:pt x="317" y="66"/>
                    </a:lnTo>
                    <a:lnTo>
                      <a:pt x="333" y="78"/>
                    </a:lnTo>
                    <a:lnTo>
                      <a:pt x="392" y="88"/>
                    </a:lnTo>
                    <a:lnTo>
                      <a:pt x="477" y="84"/>
                    </a:lnTo>
                    <a:lnTo>
                      <a:pt x="514" y="82"/>
                    </a:lnTo>
                    <a:lnTo>
                      <a:pt x="516" y="102"/>
                    </a:lnTo>
                    <a:lnTo>
                      <a:pt x="535" y="102"/>
                    </a:lnTo>
                    <a:lnTo>
                      <a:pt x="540" y="120"/>
                    </a:lnTo>
                    <a:lnTo>
                      <a:pt x="518" y="130"/>
                    </a:lnTo>
                    <a:lnTo>
                      <a:pt x="527" y="148"/>
                    </a:lnTo>
                    <a:lnTo>
                      <a:pt x="601" y="182"/>
                    </a:lnTo>
                    <a:lnTo>
                      <a:pt x="701" y="202"/>
                    </a:lnTo>
                    <a:lnTo>
                      <a:pt x="780" y="206"/>
                    </a:lnTo>
                    <a:lnTo>
                      <a:pt x="817" y="196"/>
                    </a:lnTo>
                    <a:lnTo>
                      <a:pt x="845" y="186"/>
                    </a:lnTo>
                    <a:lnTo>
                      <a:pt x="856" y="194"/>
                    </a:lnTo>
                    <a:lnTo>
                      <a:pt x="841" y="210"/>
                    </a:lnTo>
                    <a:lnTo>
                      <a:pt x="843" y="228"/>
                    </a:lnTo>
                    <a:lnTo>
                      <a:pt x="865" y="240"/>
                    </a:lnTo>
                    <a:lnTo>
                      <a:pt x="921" y="236"/>
                    </a:lnTo>
                    <a:lnTo>
                      <a:pt x="969" y="224"/>
                    </a:lnTo>
                    <a:lnTo>
                      <a:pt x="991" y="204"/>
                    </a:lnTo>
                    <a:lnTo>
                      <a:pt x="1000" y="214"/>
                    </a:lnTo>
                    <a:lnTo>
                      <a:pt x="984" y="232"/>
                    </a:lnTo>
                    <a:lnTo>
                      <a:pt x="993" y="248"/>
                    </a:lnTo>
                    <a:lnTo>
                      <a:pt x="982" y="260"/>
                    </a:lnTo>
                    <a:lnTo>
                      <a:pt x="997" y="262"/>
                    </a:lnTo>
                    <a:lnTo>
                      <a:pt x="1004" y="274"/>
                    </a:lnTo>
                    <a:lnTo>
                      <a:pt x="993" y="282"/>
                    </a:lnTo>
                    <a:lnTo>
                      <a:pt x="941" y="328"/>
                    </a:lnTo>
                    <a:lnTo>
                      <a:pt x="954" y="342"/>
                    </a:lnTo>
                    <a:lnTo>
                      <a:pt x="928" y="358"/>
                    </a:lnTo>
                    <a:lnTo>
                      <a:pt x="910" y="358"/>
                    </a:lnTo>
                    <a:lnTo>
                      <a:pt x="871" y="378"/>
                    </a:lnTo>
                    <a:lnTo>
                      <a:pt x="886" y="414"/>
                    </a:lnTo>
                    <a:lnTo>
                      <a:pt x="882" y="442"/>
                    </a:lnTo>
                    <a:lnTo>
                      <a:pt x="869" y="430"/>
                    </a:lnTo>
                    <a:lnTo>
                      <a:pt x="869" y="450"/>
                    </a:lnTo>
                    <a:lnTo>
                      <a:pt x="882" y="472"/>
                    </a:lnTo>
                    <a:lnTo>
                      <a:pt x="851" y="472"/>
                    </a:lnTo>
                    <a:lnTo>
                      <a:pt x="862" y="452"/>
                    </a:lnTo>
                    <a:lnTo>
                      <a:pt x="865" y="428"/>
                    </a:lnTo>
                    <a:lnTo>
                      <a:pt x="847" y="440"/>
                    </a:lnTo>
                    <a:lnTo>
                      <a:pt x="851" y="398"/>
                    </a:lnTo>
                    <a:lnTo>
                      <a:pt x="860" y="380"/>
                    </a:lnTo>
                    <a:lnTo>
                      <a:pt x="756" y="396"/>
                    </a:lnTo>
                    <a:lnTo>
                      <a:pt x="688" y="398"/>
                    </a:lnTo>
                    <a:lnTo>
                      <a:pt x="708" y="418"/>
                    </a:lnTo>
                    <a:lnTo>
                      <a:pt x="710" y="430"/>
                    </a:lnTo>
                    <a:lnTo>
                      <a:pt x="690" y="442"/>
                    </a:lnTo>
                    <a:lnTo>
                      <a:pt x="660" y="436"/>
                    </a:lnTo>
                    <a:lnTo>
                      <a:pt x="588" y="406"/>
                    </a:lnTo>
                    <a:lnTo>
                      <a:pt x="570" y="400"/>
                    </a:lnTo>
                    <a:lnTo>
                      <a:pt x="548" y="424"/>
                    </a:lnTo>
                    <a:lnTo>
                      <a:pt x="616" y="444"/>
                    </a:lnTo>
                    <a:lnTo>
                      <a:pt x="649" y="462"/>
                    </a:lnTo>
                    <a:lnTo>
                      <a:pt x="647" y="476"/>
                    </a:lnTo>
                    <a:lnTo>
                      <a:pt x="629" y="494"/>
                    </a:lnTo>
                    <a:lnTo>
                      <a:pt x="575" y="470"/>
                    </a:lnTo>
                    <a:lnTo>
                      <a:pt x="553" y="482"/>
                    </a:lnTo>
                    <a:lnTo>
                      <a:pt x="538" y="480"/>
                    </a:lnTo>
                    <a:lnTo>
                      <a:pt x="496" y="462"/>
                    </a:lnTo>
                    <a:lnTo>
                      <a:pt x="487" y="478"/>
                    </a:lnTo>
                    <a:lnTo>
                      <a:pt x="431" y="476"/>
                    </a:lnTo>
                    <a:lnTo>
                      <a:pt x="409" y="512"/>
                    </a:lnTo>
                    <a:lnTo>
                      <a:pt x="365" y="508"/>
                    </a:lnTo>
                    <a:lnTo>
                      <a:pt x="357" y="520"/>
                    </a:lnTo>
                    <a:lnTo>
                      <a:pt x="370" y="534"/>
                    </a:lnTo>
                    <a:lnTo>
                      <a:pt x="374" y="550"/>
                    </a:lnTo>
                    <a:lnTo>
                      <a:pt x="342" y="606"/>
                    </a:lnTo>
                    <a:lnTo>
                      <a:pt x="0" y="606"/>
                    </a:lnTo>
                    <a:lnTo>
                      <a:pt x="8" y="0"/>
                    </a:lnTo>
                    <a:lnTo>
                      <a:pt x="296" y="8"/>
                    </a:lnTo>
                    <a:lnTo>
                      <a:pt x="315" y="2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258840" y="6307560"/>
                <a:ext cx="155520" cy="87480"/>
              </a:xfrm>
              <a:custGeom>
                <a:avLst/>
                <a:gdLst/>
                <a:ahLst/>
                <a:rect l="l" t="t" r="r" b="b"/>
                <a:pathLst>
                  <a:path w="148" h="92">
                    <a:moveTo>
                      <a:pt x="0" y="82"/>
                    </a:moveTo>
                    <a:lnTo>
                      <a:pt x="4" y="2"/>
                    </a:lnTo>
                    <a:lnTo>
                      <a:pt x="18" y="0"/>
                    </a:lnTo>
                    <a:lnTo>
                      <a:pt x="12" y="74"/>
                    </a:lnTo>
                    <a:lnTo>
                      <a:pt x="44" y="78"/>
                    </a:lnTo>
                    <a:lnTo>
                      <a:pt x="46" y="2"/>
                    </a:lnTo>
                    <a:lnTo>
                      <a:pt x="58" y="2"/>
                    </a:lnTo>
                    <a:lnTo>
                      <a:pt x="56" y="72"/>
                    </a:lnTo>
                    <a:lnTo>
                      <a:pt x="94" y="70"/>
                    </a:lnTo>
                    <a:lnTo>
                      <a:pt x="92" y="2"/>
                    </a:lnTo>
                    <a:lnTo>
                      <a:pt x="106" y="4"/>
                    </a:lnTo>
                    <a:lnTo>
                      <a:pt x="104" y="68"/>
                    </a:lnTo>
                    <a:lnTo>
                      <a:pt x="136" y="64"/>
                    </a:lnTo>
                    <a:lnTo>
                      <a:pt x="128" y="0"/>
                    </a:lnTo>
                    <a:lnTo>
                      <a:pt x="142" y="2"/>
                    </a:lnTo>
                    <a:lnTo>
                      <a:pt x="148" y="70"/>
                    </a:lnTo>
                    <a:lnTo>
                      <a:pt x="60" y="88"/>
                    </a:lnTo>
                    <a:lnTo>
                      <a:pt x="8" y="9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6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6D82-D002-44F5-8908-EE65DEE28F4A}" type="slidenum"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2247840"/>
            <a:ext cx="9905760" cy="4609800"/>
            <a:chOff x="0" y="2247840"/>
            <a:chExt cx="9905760" cy="4609800"/>
          </a:xfrm>
        </p:grpSpPr>
        <p:sp>
          <p:nvSpPr>
            <p:cNvPr id="75" name=""/>
            <p:cNvSpPr/>
            <p:nvPr/>
          </p:nvSpPr>
          <p:spPr>
            <a:xfrm>
              <a:off x="0" y="5051520"/>
              <a:ext cx="9905760" cy="1800000"/>
            </a:xfrm>
            <a:custGeom>
              <a:avLst/>
              <a:gdLst/>
              <a:ahLst/>
              <a:rect l="l" t="t" r="r" b="b"/>
              <a:pathLst>
                <a:path w="4312" h="1232">
                  <a:moveTo>
                    <a:pt x="4312" y="616"/>
                  </a:moveTo>
                  <a:lnTo>
                    <a:pt x="4312" y="1232"/>
                  </a:lnTo>
                  <a:lnTo>
                    <a:pt x="0" y="1232"/>
                  </a:lnTo>
                  <a:lnTo>
                    <a:pt x="0" y="0"/>
                  </a:lnTo>
                  <a:cubicBezTo>
                    <a:pt x="50" y="15"/>
                    <a:pt x="103" y="21"/>
                    <a:pt x="147" y="48"/>
                  </a:cubicBezTo>
                  <a:cubicBezTo>
                    <a:pt x="168" y="76"/>
                    <a:pt x="168" y="93"/>
                    <a:pt x="200" y="112"/>
                  </a:cubicBezTo>
                  <a:cubicBezTo>
                    <a:pt x="213" y="149"/>
                    <a:pt x="226" y="139"/>
                    <a:pt x="260" y="160"/>
                  </a:cubicBezTo>
                  <a:cubicBezTo>
                    <a:pt x="317" y="143"/>
                    <a:pt x="367" y="132"/>
                    <a:pt x="425" y="120"/>
                  </a:cubicBezTo>
                  <a:cubicBezTo>
                    <a:pt x="454" y="114"/>
                    <a:pt x="475" y="97"/>
                    <a:pt x="503" y="88"/>
                  </a:cubicBezTo>
                  <a:cubicBezTo>
                    <a:pt x="540" y="99"/>
                    <a:pt x="616" y="112"/>
                    <a:pt x="616" y="112"/>
                  </a:cubicBezTo>
                  <a:cubicBezTo>
                    <a:pt x="665" y="142"/>
                    <a:pt x="643" y="169"/>
                    <a:pt x="677" y="200"/>
                  </a:cubicBezTo>
                  <a:cubicBezTo>
                    <a:pt x="684" y="207"/>
                    <a:pt x="695" y="210"/>
                    <a:pt x="703" y="216"/>
                  </a:cubicBezTo>
                  <a:cubicBezTo>
                    <a:pt x="721" y="231"/>
                    <a:pt x="755" y="264"/>
                    <a:pt x="755" y="264"/>
                  </a:cubicBezTo>
                  <a:cubicBezTo>
                    <a:pt x="801" y="253"/>
                    <a:pt x="838" y="248"/>
                    <a:pt x="868" y="288"/>
                  </a:cubicBezTo>
                  <a:cubicBezTo>
                    <a:pt x="859" y="293"/>
                    <a:pt x="846" y="295"/>
                    <a:pt x="842" y="304"/>
                  </a:cubicBezTo>
                  <a:cubicBezTo>
                    <a:pt x="838" y="312"/>
                    <a:pt x="854" y="320"/>
                    <a:pt x="850" y="328"/>
                  </a:cubicBezTo>
                  <a:cubicBezTo>
                    <a:pt x="846" y="337"/>
                    <a:pt x="833" y="339"/>
                    <a:pt x="824" y="344"/>
                  </a:cubicBezTo>
                  <a:cubicBezTo>
                    <a:pt x="843" y="394"/>
                    <a:pt x="875" y="408"/>
                    <a:pt x="928" y="424"/>
                  </a:cubicBezTo>
                  <a:cubicBezTo>
                    <a:pt x="960" y="414"/>
                    <a:pt x="983" y="400"/>
                    <a:pt x="1015" y="392"/>
                  </a:cubicBezTo>
                  <a:cubicBezTo>
                    <a:pt x="1068" y="402"/>
                    <a:pt x="1107" y="423"/>
                    <a:pt x="1163" y="432"/>
                  </a:cubicBezTo>
                  <a:cubicBezTo>
                    <a:pt x="1197" y="453"/>
                    <a:pt x="1232" y="475"/>
                    <a:pt x="1267" y="496"/>
                  </a:cubicBezTo>
                  <a:cubicBezTo>
                    <a:pt x="1297" y="515"/>
                    <a:pt x="1332" y="551"/>
                    <a:pt x="1371" y="560"/>
                  </a:cubicBezTo>
                  <a:cubicBezTo>
                    <a:pt x="1396" y="566"/>
                    <a:pt x="1423" y="565"/>
                    <a:pt x="1449" y="568"/>
                  </a:cubicBezTo>
                  <a:cubicBezTo>
                    <a:pt x="1516" y="583"/>
                    <a:pt x="1592" y="572"/>
                    <a:pt x="1657" y="552"/>
                  </a:cubicBezTo>
                  <a:cubicBezTo>
                    <a:pt x="1674" y="555"/>
                    <a:pt x="1694" y="552"/>
                    <a:pt x="1709" y="560"/>
                  </a:cubicBezTo>
                  <a:cubicBezTo>
                    <a:pt x="1717" y="564"/>
                    <a:pt x="1712" y="577"/>
                    <a:pt x="1718" y="584"/>
                  </a:cubicBezTo>
                  <a:cubicBezTo>
                    <a:pt x="1733" y="601"/>
                    <a:pt x="1758" y="603"/>
                    <a:pt x="1779" y="608"/>
                  </a:cubicBezTo>
                  <a:cubicBezTo>
                    <a:pt x="1795" y="623"/>
                    <a:pt x="1817" y="632"/>
                    <a:pt x="1831" y="648"/>
                  </a:cubicBezTo>
                  <a:cubicBezTo>
                    <a:pt x="1840" y="659"/>
                    <a:pt x="1847" y="719"/>
                    <a:pt x="1848" y="720"/>
                  </a:cubicBezTo>
                  <a:cubicBezTo>
                    <a:pt x="1855" y="732"/>
                    <a:pt x="1888" y="741"/>
                    <a:pt x="1900" y="744"/>
                  </a:cubicBezTo>
                  <a:cubicBezTo>
                    <a:pt x="1953" y="758"/>
                    <a:pt x="1991" y="777"/>
                    <a:pt x="2039" y="792"/>
                  </a:cubicBezTo>
                  <a:cubicBezTo>
                    <a:pt x="2109" y="776"/>
                    <a:pt x="2103" y="770"/>
                    <a:pt x="2160" y="752"/>
                  </a:cubicBezTo>
                  <a:cubicBezTo>
                    <a:pt x="2245" y="763"/>
                    <a:pt x="2332" y="796"/>
                    <a:pt x="2403" y="840"/>
                  </a:cubicBezTo>
                  <a:cubicBezTo>
                    <a:pt x="2476" y="823"/>
                    <a:pt x="2549" y="806"/>
                    <a:pt x="2620" y="784"/>
                  </a:cubicBezTo>
                  <a:cubicBezTo>
                    <a:pt x="2653" y="774"/>
                    <a:pt x="2667" y="741"/>
                    <a:pt x="2698" y="728"/>
                  </a:cubicBezTo>
                  <a:cubicBezTo>
                    <a:pt x="2754" y="705"/>
                    <a:pt x="2795" y="702"/>
                    <a:pt x="2854" y="696"/>
                  </a:cubicBezTo>
                  <a:cubicBezTo>
                    <a:pt x="2925" y="680"/>
                    <a:pt x="2991" y="653"/>
                    <a:pt x="3063" y="640"/>
                  </a:cubicBezTo>
                  <a:cubicBezTo>
                    <a:pt x="3083" y="643"/>
                    <a:pt x="3104" y="641"/>
                    <a:pt x="3123" y="648"/>
                  </a:cubicBezTo>
                  <a:cubicBezTo>
                    <a:pt x="3135" y="652"/>
                    <a:pt x="3140" y="666"/>
                    <a:pt x="3149" y="672"/>
                  </a:cubicBezTo>
                  <a:cubicBezTo>
                    <a:pt x="3157" y="677"/>
                    <a:pt x="3167" y="677"/>
                    <a:pt x="3175" y="680"/>
                  </a:cubicBezTo>
                  <a:cubicBezTo>
                    <a:pt x="3221" y="666"/>
                    <a:pt x="3265" y="673"/>
                    <a:pt x="3306" y="648"/>
                  </a:cubicBezTo>
                  <a:cubicBezTo>
                    <a:pt x="3415" y="682"/>
                    <a:pt x="3532" y="686"/>
                    <a:pt x="3644" y="712"/>
                  </a:cubicBezTo>
                  <a:cubicBezTo>
                    <a:pt x="3666" y="742"/>
                    <a:pt x="3675" y="774"/>
                    <a:pt x="3687" y="808"/>
                  </a:cubicBezTo>
                  <a:cubicBezTo>
                    <a:pt x="3691" y="816"/>
                    <a:pt x="3687" y="829"/>
                    <a:pt x="3696" y="832"/>
                  </a:cubicBezTo>
                  <a:cubicBezTo>
                    <a:pt x="3713" y="837"/>
                    <a:pt x="3748" y="848"/>
                    <a:pt x="3748" y="848"/>
                  </a:cubicBezTo>
                  <a:cubicBezTo>
                    <a:pt x="3798" y="833"/>
                    <a:pt x="3786" y="867"/>
                    <a:pt x="3817" y="824"/>
                  </a:cubicBezTo>
                  <a:cubicBezTo>
                    <a:pt x="3806" y="780"/>
                    <a:pt x="3809" y="760"/>
                    <a:pt x="3843" y="728"/>
                  </a:cubicBezTo>
                  <a:cubicBezTo>
                    <a:pt x="3847" y="715"/>
                    <a:pt x="3841" y="698"/>
                    <a:pt x="3852" y="688"/>
                  </a:cubicBezTo>
                  <a:cubicBezTo>
                    <a:pt x="3865" y="676"/>
                    <a:pt x="3904" y="672"/>
                    <a:pt x="3904" y="672"/>
                  </a:cubicBezTo>
                  <a:cubicBezTo>
                    <a:pt x="3932" y="681"/>
                    <a:pt x="3982" y="712"/>
                    <a:pt x="3982" y="712"/>
                  </a:cubicBezTo>
                  <a:cubicBezTo>
                    <a:pt x="3988" y="728"/>
                    <a:pt x="3996" y="743"/>
                    <a:pt x="4000" y="760"/>
                  </a:cubicBezTo>
                  <a:cubicBezTo>
                    <a:pt x="4003" y="773"/>
                    <a:pt x="4001" y="788"/>
                    <a:pt x="4008" y="800"/>
                  </a:cubicBezTo>
                  <a:cubicBezTo>
                    <a:pt x="4014" y="808"/>
                    <a:pt x="4026" y="811"/>
                    <a:pt x="4034" y="816"/>
                  </a:cubicBezTo>
                  <a:cubicBezTo>
                    <a:pt x="4072" y="804"/>
                    <a:pt x="4102" y="787"/>
                    <a:pt x="4138" y="776"/>
                  </a:cubicBezTo>
                  <a:cubicBezTo>
                    <a:pt x="4172" y="730"/>
                    <a:pt x="4159" y="719"/>
                    <a:pt x="4225" y="704"/>
                  </a:cubicBezTo>
                  <a:cubicBezTo>
                    <a:pt x="4246" y="675"/>
                    <a:pt x="4265" y="677"/>
                    <a:pt x="4286" y="648"/>
                  </a:cubicBezTo>
                  <a:cubicBezTo>
                    <a:pt x="4277" y="625"/>
                    <a:pt x="4312" y="616"/>
                    <a:pt x="4312" y="616"/>
                  </a:cubicBezTo>
                  <a:close/>
                </a:path>
              </a:pathLst>
            </a:custGeom>
            <a:gradFill rotWithShape="0">
              <a:gsLst>
                <a:gs pos="0">
                  <a:srgbClr val="d8b38e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047720" y="2247840"/>
              <a:ext cx="2740680" cy="4609800"/>
              <a:chOff x="7047720" y="2247840"/>
              <a:chExt cx="2740680" cy="460980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7273080" y="2247840"/>
                <a:ext cx="2245320" cy="2451600"/>
                <a:chOff x="7273080" y="2247840"/>
                <a:chExt cx="2245320" cy="2451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8320680" y="2322720"/>
                  <a:ext cx="60480" cy="734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217360" y="2247840"/>
                  <a:ext cx="290160" cy="1544040"/>
                </a:xfrm>
                <a:custGeom>
                  <a:avLst/>
                  <a:gdLst/>
                  <a:ahLst/>
                  <a:rect l="l" t="t" r="r" b="b"/>
                  <a:pathLst>
                    <a:path w="225" h="1215">
                      <a:moveTo>
                        <a:pt x="39" y="1146"/>
                      </a:moveTo>
                      <a:lnTo>
                        <a:pt x="87" y="1092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38" y="1095"/>
                      </a:lnTo>
                      <a:lnTo>
                        <a:pt x="183" y="1146"/>
                      </a:lnTo>
                      <a:lnTo>
                        <a:pt x="225" y="1146"/>
                      </a:lnTo>
                      <a:lnTo>
                        <a:pt x="222" y="1212"/>
                      </a:lnTo>
                      <a:lnTo>
                        <a:pt x="0" y="1215"/>
                      </a:lnTo>
                      <a:lnTo>
                        <a:pt x="0" y="1149"/>
                      </a:lnTo>
                      <a:lnTo>
                        <a:pt x="39" y="1146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320680" y="2418120"/>
                  <a:ext cx="60480" cy="734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304120" y="2754720"/>
                  <a:ext cx="111960" cy="597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304120" y="2838600"/>
                  <a:ext cx="111960" cy="597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304120" y="2922840"/>
                  <a:ext cx="111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304120" y="3006720"/>
                  <a:ext cx="111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91160" y="3265560"/>
                  <a:ext cx="138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97640" y="3181680"/>
                  <a:ext cx="12744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96200" y="3090600"/>
                  <a:ext cx="12780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291160" y="3349440"/>
                  <a:ext cx="138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87200" y="3437280"/>
                  <a:ext cx="146880" cy="597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264160" y="3521160"/>
                  <a:ext cx="197280" cy="118440"/>
                </a:xfrm>
                <a:custGeom>
                  <a:avLst/>
                  <a:gdLst/>
                  <a:ahLst/>
                  <a:rect l="l" t="t" r="r" b="b"/>
                  <a:pathLst>
                    <a:path w="153" h="93">
                      <a:moveTo>
                        <a:pt x="69" y="93"/>
                      </a:moveTo>
                      <a:lnTo>
                        <a:pt x="30" y="75"/>
                      </a:lnTo>
                      <a:lnTo>
                        <a:pt x="12" y="48"/>
                      </a:lnTo>
                      <a:lnTo>
                        <a:pt x="0" y="9"/>
                      </a:lnTo>
                      <a:lnTo>
                        <a:pt x="24" y="30"/>
                      </a:lnTo>
                      <a:lnTo>
                        <a:pt x="39" y="3"/>
                      </a:lnTo>
                      <a:lnTo>
                        <a:pt x="60" y="27"/>
                      </a:lnTo>
                      <a:lnTo>
                        <a:pt x="93" y="27"/>
                      </a:lnTo>
                      <a:lnTo>
                        <a:pt x="114" y="0"/>
                      </a:lnTo>
                      <a:lnTo>
                        <a:pt x="120" y="27"/>
                      </a:lnTo>
                      <a:lnTo>
                        <a:pt x="153" y="9"/>
                      </a:lnTo>
                      <a:lnTo>
                        <a:pt x="123" y="81"/>
                      </a:lnTo>
                      <a:lnTo>
                        <a:pt x="69" y="93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273080" y="3784320"/>
                  <a:ext cx="2245320" cy="915120"/>
                </a:xfrm>
                <a:custGeom>
                  <a:avLst/>
                  <a:gdLst/>
                  <a:ahLst/>
                  <a:rect l="l" t="t" r="r" b="b"/>
                  <a:pathLst>
                    <a:path w="1740" h="720">
                      <a:moveTo>
                        <a:pt x="954" y="0"/>
                      </a:moveTo>
                      <a:lnTo>
                        <a:pt x="1086" y="105"/>
                      </a:lnTo>
                      <a:lnTo>
                        <a:pt x="1206" y="180"/>
                      </a:lnTo>
                      <a:lnTo>
                        <a:pt x="1353" y="252"/>
                      </a:lnTo>
                      <a:lnTo>
                        <a:pt x="1467" y="291"/>
                      </a:lnTo>
                      <a:lnTo>
                        <a:pt x="1521" y="303"/>
                      </a:lnTo>
                      <a:lnTo>
                        <a:pt x="1581" y="294"/>
                      </a:lnTo>
                      <a:lnTo>
                        <a:pt x="1563" y="318"/>
                      </a:lnTo>
                      <a:lnTo>
                        <a:pt x="1572" y="342"/>
                      </a:lnTo>
                      <a:lnTo>
                        <a:pt x="1620" y="357"/>
                      </a:lnTo>
                      <a:lnTo>
                        <a:pt x="1680" y="354"/>
                      </a:lnTo>
                      <a:lnTo>
                        <a:pt x="1728" y="324"/>
                      </a:lnTo>
                      <a:lnTo>
                        <a:pt x="1740" y="339"/>
                      </a:lnTo>
                      <a:lnTo>
                        <a:pt x="1719" y="351"/>
                      </a:lnTo>
                      <a:lnTo>
                        <a:pt x="1710" y="393"/>
                      </a:lnTo>
                      <a:lnTo>
                        <a:pt x="1734" y="378"/>
                      </a:lnTo>
                      <a:lnTo>
                        <a:pt x="1707" y="414"/>
                      </a:lnTo>
                      <a:lnTo>
                        <a:pt x="1686" y="441"/>
                      </a:lnTo>
                      <a:lnTo>
                        <a:pt x="1698" y="456"/>
                      </a:lnTo>
                      <a:lnTo>
                        <a:pt x="1680" y="468"/>
                      </a:lnTo>
                      <a:lnTo>
                        <a:pt x="1668" y="486"/>
                      </a:lnTo>
                      <a:lnTo>
                        <a:pt x="1650" y="480"/>
                      </a:lnTo>
                      <a:lnTo>
                        <a:pt x="1614" y="510"/>
                      </a:lnTo>
                      <a:lnTo>
                        <a:pt x="1632" y="546"/>
                      </a:lnTo>
                      <a:lnTo>
                        <a:pt x="1632" y="579"/>
                      </a:lnTo>
                      <a:lnTo>
                        <a:pt x="1617" y="561"/>
                      </a:lnTo>
                      <a:lnTo>
                        <a:pt x="1617" y="585"/>
                      </a:lnTo>
                      <a:lnTo>
                        <a:pt x="1632" y="609"/>
                      </a:lnTo>
                      <a:lnTo>
                        <a:pt x="1605" y="609"/>
                      </a:lnTo>
                      <a:lnTo>
                        <a:pt x="1614" y="585"/>
                      </a:lnTo>
                      <a:lnTo>
                        <a:pt x="1614" y="561"/>
                      </a:lnTo>
                      <a:lnTo>
                        <a:pt x="1602" y="576"/>
                      </a:lnTo>
                      <a:lnTo>
                        <a:pt x="1608" y="516"/>
                      </a:lnTo>
                      <a:lnTo>
                        <a:pt x="1569" y="540"/>
                      </a:lnTo>
                      <a:lnTo>
                        <a:pt x="1518" y="558"/>
                      </a:lnTo>
                      <a:lnTo>
                        <a:pt x="1458" y="582"/>
                      </a:lnTo>
                      <a:lnTo>
                        <a:pt x="1407" y="597"/>
                      </a:lnTo>
                      <a:lnTo>
                        <a:pt x="1416" y="618"/>
                      </a:lnTo>
                      <a:lnTo>
                        <a:pt x="1395" y="627"/>
                      </a:lnTo>
                      <a:lnTo>
                        <a:pt x="1377" y="603"/>
                      </a:lnTo>
                      <a:lnTo>
                        <a:pt x="1347" y="606"/>
                      </a:lnTo>
                      <a:lnTo>
                        <a:pt x="1353" y="624"/>
                      </a:lnTo>
                      <a:lnTo>
                        <a:pt x="1335" y="630"/>
                      </a:lnTo>
                      <a:lnTo>
                        <a:pt x="1317" y="615"/>
                      </a:lnTo>
                      <a:lnTo>
                        <a:pt x="1311" y="639"/>
                      </a:lnTo>
                      <a:lnTo>
                        <a:pt x="1263" y="615"/>
                      </a:lnTo>
                      <a:lnTo>
                        <a:pt x="1263" y="642"/>
                      </a:lnTo>
                      <a:lnTo>
                        <a:pt x="1245" y="651"/>
                      </a:lnTo>
                      <a:lnTo>
                        <a:pt x="1218" y="633"/>
                      </a:lnTo>
                      <a:lnTo>
                        <a:pt x="1188" y="693"/>
                      </a:lnTo>
                      <a:lnTo>
                        <a:pt x="1191" y="720"/>
                      </a:lnTo>
                      <a:lnTo>
                        <a:pt x="504" y="717"/>
                      </a:lnTo>
                      <a:lnTo>
                        <a:pt x="498" y="687"/>
                      </a:lnTo>
                      <a:lnTo>
                        <a:pt x="471" y="690"/>
                      </a:lnTo>
                      <a:lnTo>
                        <a:pt x="462" y="663"/>
                      </a:lnTo>
                      <a:lnTo>
                        <a:pt x="417" y="660"/>
                      </a:lnTo>
                      <a:lnTo>
                        <a:pt x="411" y="642"/>
                      </a:lnTo>
                      <a:lnTo>
                        <a:pt x="333" y="681"/>
                      </a:lnTo>
                      <a:lnTo>
                        <a:pt x="306" y="663"/>
                      </a:lnTo>
                      <a:lnTo>
                        <a:pt x="366" y="621"/>
                      </a:lnTo>
                      <a:lnTo>
                        <a:pt x="345" y="615"/>
                      </a:lnTo>
                      <a:lnTo>
                        <a:pt x="258" y="657"/>
                      </a:lnTo>
                      <a:lnTo>
                        <a:pt x="237" y="642"/>
                      </a:lnTo>
                      <a:lnTo>
                        <a:pt x="279" y="603"/>
                      </a:lnTo>
                      <a:lnTo>
                        <a:pt x="120" y="606"/>
                      </a:lnTo>
                      <a:lnTo>
                        <a:pt x="123" y="660"/>
                      </a:lnTo>
                      <a:lnTo>
                        <a:pt x="102" y="657"/>
                      </a:lnTo>
                      <a:lnTo>
                        <a:pt x="81" y="699"/>
                      </a:lnTo>
                      <a:lnTo>
                        <a:pt x="117" y="702"/>
                      </a:lnTo>
                      <a:lnTo>
                        <a:pt x="87" y="651"/>
                      </a:lnTo>
                      <a:lnTo>
                        <a:pt x="105" y="603"/>
                      </a:lnTo>
                      <a:lnTo>
                        <a:pt x="81" y="603"/>
                      </a:lnTo>
                      <a:lnTo>
                        <a:pt x="36" y="579"/>
                      </a:lnTo>
                      <a:lnTo>
                        <a:pt x="12" y="513"/>
                      </a:lnTo>
                      <a:lnTo>
                        <a:pt x="0" y="480"/>
                      </a:lnTo>
                      <a:lnTo>
                        <a:pt x="87" y="474"/>
                      </a:lnTo>
                      <a:lnTo>
                        <a:pt x="162" y="444"/>
                      </a:lnTo>
                      <a:lnTo>
                        <a:pt x="144" y="414"/>
                      </a:lnTo>
                      <a:lnTo>
                        <a:pt x="192" y="417"/>
                      </a:lnTo>
                      <a:lnTo>
                        <a:pt x="252" y="378"/>
                      </a:lnTo>
                      <a:lnTo>
                        <a:pt x="246" y="330"/>
                      </a:lnTo>
                      <a:lnTo>
                        <a:pt x="258" y="318"/>
                      </a:lnTo>
                      <a:lnTo>
                        <a:pt x="270" y="342"/>
                      </a:lnTo>
                      <a:lnTo>
                        <a:pt x="306" y="348"/>
                      </a:lnTo>
                      <a:lnTo>
                        <a:pt x="372" y="312"/>
                      </a:lnTo>
                      <a:lnTo>
                        <a:pt x="360" y="300"/>
                      </a:lnTo>
                      <a:lnTo>
                        <a:pt x="363" y="285"/>
                      </a:lnTo>
                      <a:lnTo>
                        <a:pt x="393" y="297"/>
                      </a:lnTo>
                      <a:lnTo>
                        <a:pt x="597" y="135"/>
                      </a:lnTo>
                      <a:lnTo>
                        <a:pt x="723" y="3"/>
                      </a:lnTo>
                      <a:lnTo>
                        <a:pt x="954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 flipH="1">
                <a:off x="8291520" y="2528280"/>
                <a:ext cx="59040" cy="22104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355960" y="2528280"/>
                <a:ext cx="59400" cy="22104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65600" y="4686840"/>
                <a:ext cx="1326600" cy="724320"/>
              </a:xfrm>
              <a:custGeom>
                <a:avLst/>
                <a:gdLst/>
                <a:ahLst/>
                <a:rect l="l" t="t" r="r" b="b"/>
                <a:pathLst>
                  <a:path w="1028" h="570">
                    <a:moveTo>
                      <a:pt x="408" y="8"/>
                    </a:moveTo>
                    <a:lnTo>
                      <a:pt x="574" y="12"/>
                    </a:lnTo>
                    <a:lnTo>
                      <a:pt x="592" y="0"/>
                    </a:lnTo>
                    <a:lnTo>
                      <a:pt x="602" y="6"/>
                    </a:lnTo>
                    <a:lnTo>
                      <a:pt x="576" y="20"/>
                    </a:lnTo>
                    <a:lnTo>
                      <a:pt x="426" y="20"/>
                    </a:lnTo>
                    <a:lnTo>
                      <a:pt x="430" y="38"/>
                    </a:lnTo>
                    <a:lnTo>
                      <a:pt x="570" y="36"/>
                    </a:lnTo>
                    <a:lnTo>
                      <a:pt x="596" y="24"/>
                    </a:lnTo>
                    <a:lnTo>
                      <a:pt x="596" y="36"/>
                    </a:lnTo>
                    <a:lnTo>
                      <a:pt x="570" y="48"/>
                    </a:lnTo>
                    <a:lnTo>
                      <a:pt x="434" y="48"/>
                    </a:lnTo>
                    <a:lnTo>
                      <a:pt x="452" y="64"/>
                    </a:lnTo>
                    <a:lnTo>
                      <a:pt x="584" y="64"/>
                    </a:lnTo>
                    <a:lnTo>
                      <a:pt x="592" y="74"/>
                    </a:lnTo>
                    <a:lnTo>
                      <a:pt x="602" y="80"/>
                    </a:lnTo>
                    <a:lnTo>
                      <a:pt x="610" y="96"/>
                    </a:lnTo>
                    <a:lnTo>
                      <a:pt x="584" y="96"/>
                    </a:lnTo>
                    <a:lnTo>
                      <a:pt x="580" y="108"/>
                    </a:lnTo>
                    <a:lnTo>
                      <a:pt x="594" y="110"/>
                    </a:lnTo>
                    <a:lnTo>
                      <a:pt x="594" y="130"/>
                    </a:lnTo>
                    <a:lnTo>
                      <a:pt x="742" y="178"/>
                    </a:lnTo>
                    <a:lnTo>
                      <a:pt x="792" y="182"/>
                    </a:lnTo>
                    <a:lnTo>
                      <a:pt x="834" y="174"/>
                    </a:lnTo>
                    <a:lnTo>
                      <a:pt x="882" y="158"/>
                    </a:lnTo>
                    <a:lnTo>
                      <a:pt x="888" y="168"/>
                    </a:lnTo>
                    <a:lnTo>
                      <a:pt x="874" y="176"/>
                    </a:lnTo>
                    <a:lnTo>
                      <a:pt x="882" y="192"/>
                    </a:lnTo>
                    <a:lnTo>
                      <a:pt x="878" y="206"/>
                    </a:lnTo>
                    <a:lnTo>
                      <a:pt x="932" y="204"/>
                    </a:lnTo>
                    <a:lnTo>
                      <a:pt x="982" y="190"/>
                    </a:lnTo>
                    <a:lnTo>
                      <a:pt x="1018" y="172"/>
                    </a:lnTo>
                    <a:lnTo>
                      <a:pt x="1028" y="182"/>
                    </a:lnTo>
                    <a:lnTo>
                      <a:pt x="1006" y="196"/>
                    </a:lnTo>
                    <a:lnTo>
                      <a:pt x="1012" y="206"/>
                    </a:lnTo>
                    <a:lnTo>
                      <a:pt x="996" y="228"/>
                    </a:lnTo>
                    <a:lnTo>
                      <a:pt x="1020" y="220"/>
                    </a:lnTo>
                    <a:lnTo>
                      <a:pt x="1010" y="242"/>
                    </a:lnTo>
                    <a:lnTo>
                      <a:pt x="1016" y="252"/>
                    </a:lnTo>
                    <a:lnTo>
                      <a:pt x="1004" y="264"/>
                    </a:lnTo>
                    <a:lnTo>
                      <a:pt x="966" y="282"/>
                    </a:lnTo>
                    <a:lnTo>
                      <a:pt x="976" y="298"/>
                    </a:lnTo>
                    <a:lnTo>
                      <a:pt x="994" y="298"/>
                    </a:lnTo>
                    <a:lnTo>
                      <a:pt x="968" y="316"/>
                    </a:lnTo>
                    <a:lnTo>
                      <a:pt x="962" y="332"/>
                    </a:lnTo>
                    <a:lnTo>
                      <a:pt x="948" y="334"/>
                    </a:lnTo>
                    <a:lnTo>
                      <a:pt x="934" y="326"/>
                    </a:lnTo>
                    <a:lnTo>
                      <a:pt x="908" y="348"/>
                    </a:lnTo>
                    <a:lnTo>
                      <a:pt x="920" y="372"/>
                    </a:lnTo>
                    <a:lnTo>
                      <a:pt x="924" y="410"/>
                    </a:lnTo>
                    <a:lnTo>
                      <a:pt x="906" y="398"/>
                    </a:lnTo>
                    <a:lnTo>
                      <a:pt x="906" y="412"/>
                    </a:lnTo>
                    <a:lnTo>
                      <a:pt x="918" y="422"/>
                    </a:lnTo>
                    <a:lnTo>
                      <a:pt x="916" y="434"/>
                    </a:lnTo>
                    <a:lnTo>
                      <a:pt x="892" y="434"/>
                    </a:lnTo>
                    <a:lnTo>
                      <a:pt x="890" y="420"/>
                    </a:lnTo>
                    <a:lnTo>
                      <a:pt x="900" y="400"/>
                    </a:lnTo>
                    <a:lnTo>
                      <a:pt x="886" y="406"/>
                    </a:lnTo>
                    <a:lnTo>
                      <a:pt x="892" y="358"/>
                    </a:lnTo>
                    <a:lnTo>
                      <a:pt x="850" y="372"/>
                    </a:lnTo>
                    <a:lnTo>
                      <a:pt x="804" y="384"/>
                    </a:lnTo>
                    <a:lnTo>
                      <a:pt x="756" y="388"/>
                    </a:lnTo>
                    <a:lnTo>
                      <a:pt x="754" y="412"/>
                    </a:lnTo>
                    <a:lnTo>
                      <a:pt x="734" y="408"/>
                    </a:lnTo>
                    <a:lnTo>
                      <a:pt x="696" y="390"/>
                    </a:lnTo>
                    <a:lnTo>
                      <a:pt x="654" y="414"/>
                    </a:lnTo>
                    <a:lnTo>
                      <a:pt x="698" y="438"/>
                    </a:lnTo>
                    <a:lnTo>
                      <a:pt x="694" y="456"/>
                    </a:lnTo>
                    <a:lnTo>
                      <a:pt x="684" y="462"/>
                    </a:lnTo>
                    <a:lnTo>
                      <a:pt x="640" y="438"/>
                    </a:lnTo>
                    <a:lnTo>
                      <a:pt x="620" y="468"/>
                    </a:lnTo>
                    <a:lnTo>
                      <a:pt x="592" y="442"/>
                    </a:lnTo>
                    <a:lnTo>
                      <a:pt x="574" y="468"/>
                    </a:lnTo>
                    <a:lnTo>
                      <a:pt x="540" y="444"/>
                    </a:lnTo>
                    <a:lnTo>
                      <a:pt x="520" y="476"/>
                    </a:lnTo>
                    <a:lnTo>
                      <a:pt x="498" y="486"/>
                    </a:lnTo>
                    <a:lnTo>
                      <a:pt x="466" y="482"/>
                    </a:lnTo>
                    <a:lnTo>
                      <a:pt x="462" y="502"/>
                    </a:lnTo>
                    <a:lnTo>
                      <a:pt x="486" y="514"/>
                    </a:lnTo>
                    <a:lnTo>
                      <a:pt x="480" y="532"/>
                    </a:lnTo>
                    <a:lnTo>
                      <a:pt x="460" y="540"/>
                    </a:lnTo>
                    <a:lnTo>
                      <a:pt x="464" y="570"/>
                    </a:lnTo>
                    <a:lnTo>
                      <a:pt x="0" y="562"/>
                    </a:lnTo>
                    <a:lnTo>
                      <a:pt x="138" y="0"/>
                    </a:lnTo>
                    <a:lnTo>
                      <a:pt x="408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1160" y="4701960"/>
                <a:ext cx="182880" cy="114120"/>
              </a:xfrm>
              <a:custGeom>
                <a:avLst/>
                <a:gdLst/>
                <a:ahLst/>
                <a:rect l="l" t="t" r="r" b="b"/>
                <a:pathLst>
                  <a:path w="142" h="90">
                    <a:moveTo>
                      <a:pt x="0" y="90"/>
                    </a:moveTo>
                    <a:lnTo>
                      <a:pt x="2" y="4"/>
                    </a:lnTo>
                    <a:lnTo>
                      <a:pt x="14" y="2"/>
                    </a:lnTo>
                    <a:lnTo>
                      <a:pt x="12" y="74"/>
                    </a:lnTo>
                    <a:lnTo>
                      <a:pt x="40" y="68"/>
                    </a:lnTo>
                    <a:lnTo>
                      <a:pt x="34" y="2"/>
                    </a:lnTo>
                    <a:lnTo>
                      <a:pt x="50" y="4"/>
                    </a:lnTo>
                    <a:lnTo>
                      <a:pt x="52" y="70"/>
                    </a:lnTo>
                    <a:lnTo>
                      <a:pt x="90" y="28"/>
                    </a:lnTo>
                    <a:lnTo>
                      <a:pt x="104" y="28"/>
                    </a:lnTo>
                    <a:lnTo>
                      <a:pt x="72" y="64"/>
                    </a:lnTo>
                    <a:lnTo>
                      <a:pt x="102" y="62"/>
                    </a:lnTo>
                    <a:lnTo>
                      <a:pt x="92" y="0"/>
                    </a:lnTo>
                    <a:lnTo>
                      <a:pt x="106" y="2"/>
                    </a:lnTo>
                    <a:lnTo>
                      <a:pt x="112" y="60"/>
                    </a:lnTo>
                    <a:lnTo>
                      <a:pt x="128" y="62"/>
                    </a:lnTo>
                    <a:lnTo>
                      <a:pt x="124" y="16"/>
                    </a:lnTo>
                    <a:lnTo>
                      <a:pt x="114" y="28"/>
                    </a:lnTo>
                    <a:lnTo>
                      <a:pt x="120" y="4"/>
                    </a:lnTo>
                    <a:lnTo>
                      <a:pt x="136" y="0"/>
                    </a:lnTo>
                    <a:lnTo>
                      <a:pt x="142" y="60"/>
                    </a:lnTo>
                    <a:lnTo>
                      <a:pt x="116" y="7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07200" y="4671360"/>
                <a:ext cx="1277640" cy="747360"/>
              </a:xfrm>
              <a:custGeom>
                <a:avLst/>
                <a:gdLst/>
                <a:ahLst/>
                <a:rect l="l" t="t" r="r" b="b"/>
                <a:pathLst>
                  <a:path w="990" h="588">
                    <a:moveTo>
                      <a:pt x="844" y="532"/>
                    </a:moveTo>
                    <a:lnTo>
                      <a:pt x="990" y="0"/>
                    </a:lnTo>
                    <a:lnTo>
                      <a:pt x="554" y="10"/>
                    </a:lnTo>
                    <a:lnTo>
                      <a:pt x="534" y="38"/>
                    </a:lnTo>
                    <a:lnTo>
                      <a:pt x="506" y="50"/>
                    </a:lnTo>
                    <a:lnTo>
                      <a:pt x="506" y="62"/>
                    </a:lnTo>
                    <a:lnTo>
                      <a:pt x="550" y="38"/>
                    </a:lnTo>
                    <a:lnTo>
                      <a:pt x="548" y="58"/>
                    </a:lnTo>
                    <a:lnTo>
                      <a:pt x="506" y="74"/>
                    </a:lnTo>
                    <a:lnTo>
                      <a:pt x="508" y="86"/>
                    </a:lnTo>
                    <a:lnTo>
                      <a:pt x="550" y="64"/>
                    </a:lnTo>
                    <a:lnTo>
                      <a:pt x="552" y="86"/>
                    </a:lnTo>
                    <a:lnTo>
                      <a:pt x="506" y="104"/>
                    </a:lnTo>
                    <a:lnTo>
                      <a:pt x="482" y="112"/>
                    </a:lnTo>
                    <a:lnTo>
                      <a:pt x="480" y="72"/>
                    </a:lnTo>
                    <a:lnTo>
                      <a:pt x="414" y="90"/>
                    </a:lnTo>
                    <a:lnTo>
                      <a:pt x="394" y="84"/>
                    </a:lnTo>
                    <a:lnTo>
                      <a:pt x="410" y="102"/>
                    </a:lnTo>
                    <a:lnTo>
                      <a:pt x="472" y="84"/>
                    </a:lnTo>
                    <a:lnTo>
                      <a:pt x="410" y="116"/>
                    </a:lnTo>
                    <a:lnTo>
                      <a:pt x="390" y="110"/>
                    </a:lnTo>
                    <a:lnTo>
                      <a:pt x="384" y="122"/>
                    </a:lnTo>
                    <a:lnTo>
                      <a:pt x="404" y="128"/>
                    </a:lnTo>
                    <a:lnTo>
                      <a:pt x="472" y="98"/>
                    </a:lnTo>
                    <a:lnTo>
                      <a:pt x="472" y="122"/>
                    </a:lnTo>
                    <a:lnTo>
                      <a:pt x="406" y="144"/>
                    </a:lnTo>
                    <a:lnTo>
                      <a:pt x="402" y="160"/>
                    </a:lnTo>
                    <a:lnTo>
                      <a:pt x="390" y="160"/>
                    </a:lnTo>
                    <a:lnTo>
                      <a:pt x="402" y="172"/>
                    </a:lnTo>
                    <a:lnTo>
                      <a:pt x="396" y="200"/>
                    </a:lnTo>
                    <a:lnTo>
                      <a:pt x="382" y="202"/>
                    </a:lnTo>
                    <a:lnTo>
                      <a:pt x="374" y="182"/>
                    </a:lnTo>
                    <a:lnTo>
                      <a:pt x="364" y="190"/>
                    </a:lnTo>
                    <a:lnTo>
                      <a:pt x="364" y="216"/>
                    </a:lnTo>
                    <a:lnTo>
                      <a:pt x="352" y="226"/>
                    </a:lnTo>
                    <a:lnTo>
                      <a:pt x="322" y="234"/>
                    </a:lnTo>
                    <a:lnTo>
                      <a:pt x="300" y="218"/>
                    </a:lnTo>
                    <a:lnTo>
                      <a:pt x="290" y="196"/>
                    </a:lnTo>
                    <a:lnTo>
                      <a:pt x="276" y="198"/>
                    </a:lnTo>
                    <a:lnTo>
                      <a:pt x="280" y="216"/>
                    </a:lnTo>
                    <a:lnTo>
                      <a:pt x="268" y="238"/>
                    </a:lnTo>
                    <a:lnTo>
                      <a:pt x="270" y="252"/>
                    </a:lnTo>
                    <a:lnTo>
                      <a:pt x="222" y="278"/>
                    </a:lnTo>
                    <a:lnTo>
                      <a:pt x="184" y="280"/>
                    </a:lnTo>
                    <a:lnTo>
                      <a:pt x="156" y="274"/>
                    </a:lnTo>
                    <a:lnTo>
                      <a:pt x="130" y="258"/>
                    </a:lnTo>
                    <a:lnTo>
                      <a:pt x="120" y="268"/>
                    </a:lnTo>
                    <a:lnTo>
                      <a:pt x="144" y="288"/>
                    </a:lnTo>
                    <a:lnTo>
                      <a:pt x="112" y="304"/>
                    </a:lnTo>
                    <a:lnTo>
                      <a:pt x="66" y="308"/>
                    </a:lnTo>
                    <a:lnTo>
                      <a:pt x="34" y="298"/>
                    </a:lnTo>
                    <a:lnTo>
                      <a:pt x="18" y="286"/>
                    </a:lnTo>
                    <a:lnTo>
                      <a:pt x="8" y="296"/>
                    </a:lnTo>
                    <a:lnTo>
                      <a:pt x="24" y="310"/>
                    </a:lnTo>
                    <a:lnTo>
                      <a:pt x="26" y="332"/>
                    </a:lnTo>
                    <a:lnTo>
                      <a:pt x="18" y="342"/>
                    </a:lnTo>
                    <a:lnTo>
                      <a:pt x="6" y="334"/>
                    </a:lnTo>
                    <a:lnTo>
                      <a:pt x="0" y="348"/>
                    </a:lnTo>
                    <a:lnTo>
                      <a:pt x="20" y="364"/>
                    </a:lnTo>
                    <a:lnTo>
                      <a:pt x="52" y="374"/>
                    </a:lnTo>
                    <a:lnTo>
                      <a:pt x="66" y="382"/>
                    </a:lnTo>
                    <a:lnTo>
                      <a:pt x="60" y="394"/>
                    </a:lnTo>
                    <a:lnTo>
                      <a:pt x="38" y="392"/>
                    </a:lnTo>
                    <a:lnTo>
                      <a:pt x="36" y="406"/>
                    </a:lnTo>
                    <a:lnTo>
                      <a:pt x="62" y="410"/>
                    </a:lnTo>
                    <a:lnTo>
                      <a:pt x="76" y="426"/>
                    </a:lnTo>
                    <a:lnTo>
                      <a:pt x="104" y="422"/>
                    </a:lnTo>
                    <a:lnTo>
                      <a:pt x="104" y="440"/>
                    </a:lnTo>
                    <a:lnTo>
                      <a:pt x="94" y="460"/>
                    </a:lnTo>
                    <a:lnTo>
                      <a:pt x="94" y="488"/>
                    </a:lnTo>
                    <a:lnTo>
                      <a:pt x="110" y="482"/>
                    </a:lnTo>
                    <a:lnTo>
                      <a:pt x="110" y="498"/>
                    </a:lnTo>
                    <a:lnTo>
                      <a:pt x="96" y="514"/>
                    </a:lnTo>
                    <a:lnTo>
                      <a:pt x="118" y="518"/>
                    </a:lnTo>
                    <a:lnTo>
                      <a:pt x="124" y="506"/>
                    </a:lnTo>
                    <a:lnTo>
                      <a:pt x="116" y="476"/>
                    </a:lnTo>
                    <a:lnTo>
                      <a:pt x="134" y="486"/>
                    </a:lnTo>
                    <a:lnTo>
                      <a:pt x="130" y="448"/>
                    </a:lnTo>
                    <a:lnTo>
                      <a:pt x="118" y="432"/>
                    </a:lnTo>
                    <a:lnTo>
                      <a:pt x="180" y="426"/>
                    </a:lnTo>
                    <a:lnTo>
                      <a:pt x="188" y="442"/>
                    </a:lnTo>
                    <a:lnTo>
                      <a:pt x="212" y="440"/>
                    </a:lnTo>
                    <a:lnTo>
                      <a:pt x="208" y="422"/>
                    </a:lnTo>
                    <a:lnTo>
                      <a:pt x="222" y="424"/>
                    </a:lnTo>
                    <a:lnTo>
                      <a:pt x="228" y="442"/>
                    </a:lnTo>
                    <a:lnTo>
                      <a:pt x="246" y="442"/>
                    </a:lnTo>
                    <a:lnTo>
                      <a:pt x="244" y="426"/>
                    </a:lnTo>
                    <a:lnTo>
                      <a:pt x="260" y="434"/>
                    </a:lnTo>
                    <a:lnTo>
                      <a:pt x="288" y="428"/>
                    </a:lnTo>
                    <a:lnTo>
                      <a:pt x="244" y="462"/>
                    </a:lnTo>
                    <a:lnTo>
                      <a:pt x="266" y="492"/>
                    </a:lnTo>
                    <a:lnTo>
                      <a:pt x="350" y="444"/>
                    </a:lnTo>
                    <a:lnTo>
                      <a:pt x="368" y="452"/>
                    </a:lnTo>
                    <a:lnTo>
                      <a:pt x="344" y="472"/>
                    </a:lnTo>
                    <a:lnTo>
                      <a:pt x="300" y="502"/>
                    </a:lnTo>
                    <a:lnTo>
                      <a:pt x="330" y="528"/>
                    </a:lnTo>
                    <a:lnTo>
                      <a:pt x="370" y="502"/>
                    </a:lnTo>
                    <a:lnTo>
                      <a:pt x="414" y="474"/>
                    </a:lnTo>
                    <a:lnTo>
                      <a:pt x="426" y="508"/>
                    </a:lnTo>
                    <a:lnTo>
                      <a:pt x="480" y="502"/>
                    </a:lnTo>
                    <a:lnTo>
                      <a:pt x="476" y="524"/>
                    </a:lnTo>
                    <a:lnTo>
                      <a:pt x="526" y="528"/>
                    </a:lnTo>
                    <a:lnTo>
                      <a:pt x="516" y="542"/>
                    </a:lnTo>
                    <a:lnTo>
                      <a:pt x="494" y="556"/>
                    </a:lnTo>
                    <a:lnTo>
                      <a:pt x="512" y="582"/>
                    </a:lnTo>
                    <a:lnTo>
                      <a:pt x="528" y="588"/>
                    </a:lnTo>
                    <a:lnTo>
                      <a:pt x="836" y="568"/>
                    </a:lnTo>
                    <a:lnTo>
                      <a:pt x="844" y="53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35320" y="4719960"/>
                <a:ext cx="166320" cy="16776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129" y="78"/>
                    </a:moveTo>
                    <a:lnTo>
                      <a:pt x="127" y="0"/>
                    </a:lnTo>
                    <a:lnTo>
                      <a:pt x="119" y="4"/>
                    </a:lnTo>
                    <a:lnTo>
                      <a:pt x="119" y="66"/>
                    </a:lnTo>
                    <a:lnTo>
                      <a:pt x="107" y="72"/>
                    </a:lnTo>
                    <a:lnTo>
                      <a:pt x="109" y="10"/>
                    </a:lnTo>
                    <a:lnTo>
                      <a:pt x="97" y="14"/>
                    </a:lnTo>
                    <a:lnTo>
                      <a:pt x="99" y="88"/>
                    </a:lnTo>
                    <a:lnTo>
                      <a:pt x="47" y="108"/>
                    </a:lnTo>
                    <a:lnTo>
                      <a:pt x="41" y="46"/>
                    </a:lnTo>
                    <a:lnTo>
                      <a:pt x="33" y="48"/>
                    </a:lnTo>
                    <a:lnTo>
                      <a:pt x="33" y="104"/>
                    </a:lnTo>
                    <a:lnTo>
                      <a:pt x="15" y="110"/>
                    </a:lnTo>
                    <a:lnTo>
                      <a:pt x="15" y="52"/>
                    </a:lnTo>
                    <a:cubicBezTo>
                      <a:pt x="0" y="56"/>
                      <a:pt x="1" y="51"/>
                      <a:pt x="1" y="58"/>
                    </a:cubicBezTo>
                    <a:lnTo>
                      <a:pt x="7" y="132"/>
                    </a:lnTo>
                    <a:lnTo>
                      <a:pt x="129" y="7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7155720" y="5378400"/>
                <a:ext cx="2516400" cy="767880"/>
                <a:chOff x="7155720" y="5378400"/>
                <a:chExt cx="2516400" cy="7678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7155720" y="5378400"/>
                  <a:ext cx="1362600" cy="767880"/>
                </a:xfrm>
                <a:custGeom>
                  <a:avLst/>
                  <a:gdLst/>
                  <a:ahLst/>
                  <a:rect l="l" t="t" r="r" b="b"/>
                  <a:pathLst>
                    <a:path w="1056" h="604">
                      <a:moveTo>
                        <a:pt x="1050" y="8"/>
                      </a:moveTo>
                      <a:lnTo>
                        <a:pt x="1056" y="590"/>
                      </a:lnTo>
                      <a:lnTo>
                        <a:pt x="526" y="604"/>
                      </a:lnTo>
                      <a:lnTo>
                        <a:pt x="512" y="584"/>
                      </a:lnTo>
                      <a:lnTo>
                        <a:pt x="526" y="574"/>
                      </a:lnTo>
                      <a:lnTo>
                        <a:pt x="510" y="566"/>
                      </a:lnTo>
                      <a:lnTo>
                        <a:pt x="510" y="548"/>
                      </a:lnTo>
                      <a:lnTo>
                        <a:pt x="532" y="532"/>
                      </a:lnTo>
                      <a:lnTo>
                        <a:pt x="530" y="520"/>
                      </a:lnTo>
                      <a:lnTo>
                        <a:pt x="490" y="528"/>
                      </a:lnTo>
                      <a:lnTo>
                        <a:pt x="486" y="514"/>
                      </a:lnTo>
                      <a:lnTo>
                        <a:pt x="470" y="514"/>
                      </a:lnTo>
                      <a:lnTo>
                        <a:pt x="474" y="496"/>
                      </a:lnTo>
                      <a:lnTo>
                        <a:pt x="462" y="492"/>
                      </a:lnTo>
                      <a:lnTo>
                        <a:pt x="436" y="508"/>
                      </a:lnTo>
                      <a:lnTo>
                        <a:pt x="430" y="496"/>
                      </a:lnTo>
                      <a:lnTo>
                        <a:pt x="408" y="504"/>
                      </a:lnTo>
                      <a:lnTo>
                        <a:pt x="400" y="516"/>
                      </a:lnTo>
                      <a:lnTo>
                        <a:pt x="388" y="514"/>
                      </a:lnTo>
                      <a:lnTo>
                        <a:pt x="382" y="504"/>
                      </a:lnTo>
                      <a:lnTo>
                        <a:pt x="370" y="506"/>
                      </a:lnTo>
                      <a:lnTo>
                        <a:pt x="312" y="520"/>
                      </a:lnTo>
                      <a:lnTo>
                        <a:pt x="296" y="494"/>
                      </a:lnTo>
                      <a:lnTo>
                        <a:pt x="348" y="462"/>
                      </a:lnTo>
                      <a:lnTo>
                        <a:pt x="340" y="444"/>
                      </a:lnTo>
                      <a:lnTo>
                        <a:pt x="322" y="448"/>
                      </a:lnTo>
                      <a:lnTo>
                        <a:pt x="264" y="470"/>
                      </a:lnTo>
                      <a:lnTo>
                        <a:pt x="250" y="468"/>
                      </a:lnTo>
                      <a:lnTo>
                        <a:pt x="236" y="448"/>
                      </a:lnTo>
                      <a:lnTo>
                        <a:pt x="242" y="438"/>
                      </a:lnTo>
                      <a:lnTo>
                        <a:pt x="260" y="430"/>
                      </a:lnTo>
                      <a:lnTo>
                        <a:pt x="282" y="422"/>
                      </a:lnTo>
                      <a:lnTo>
                        <a:pt x="246" y="428"/>
                      </a:lnTo>
                      <a:lnTo>
                        <a:pt x="220" y="428"/>
                      </a:lnTo>
                      <a:lnTo>
                        <a:pt x="180" y="432"/>
                      </a:lnTo>
                      <a:lnTo>
                        <a:pt x="162" y="422"/>
                      </a:lnTo>
                      <a:lnTo>
                        <a:pt x="120" y="422"/>
                      </a:lnTo>
                      <a:lnTo>
                        <a:pt x="114" y="444"/>
                      </a:lnTo>
                      <a:lnTo>
                        <a:pt x="122" y="458"/>
                      </a:lnTo>
                      <a:lnTo>
                        <a:pt x="126" y="484"/>
                      </a:lnTo>
                      <a:lnTo>
                        <a:pt x="110" y="478"/>
                      </a:lnTo>
                      <a:lnTo>
                        <a:pt x="112" y="490"/>
                      </a:lnTo>
                      <a:lnTo>
                        <a:pt x="124" y="508"/>
                      </a:lnTo>
                      <a:lnTo>
                        <a:pt x="106" y="512"/>
                      </a:lnTo>
                      <a:lnTo>
                        <a:pt x="94" y="502"/>
                      </a:lnTo>
                      <a:lnTo>
                        <a:pt x="104" y="480"/>
                      </a:lnTo>
                      <a:lnTo>
                        <a:pt x="92" y="482"/>
                      </a:lnTo>
                      <a:lnTo>
                        <a:pt x="96" y="440"/>
                      </a:lnTo>
                      <a:lnTo>
                        <a:pt x="106" y="420"/>
                      </a:lnTo>
                      <a:lnTo>
                        <a:pt x="76" y="418"/>
                      </a:lnTo>
                      <a:lnTo>
                        <a:pt x="58" y="404"/>
                      </a:lnTo>
                      <a:lnTo>
                        <a:pt x="38" y="390"/>
                      </a:lnTo>
                      <a:lnTo>
                        <a:pt x="34" y="378"/>
                      </a:lnTo>
                      <a:lnTo>
                        <a:pt x="50" y="374"/>
                      </a:lnTo>
                      <a:lnTo>
                        <a:pt x="32" y="334"/>
                      </a:lnTo>
                      <a:lnTo>
                        <a:pt x="20" y="324"/>
                      </a:lnTo>
                      <a:lnTo>
                        <a:pt x="0" y="318"/>
                      </a:lnTo>
                      <a:lnTo>
                        <a:pt x="8" y="308"/>
                      </a:lnTo>
                      <a:lnTo>
                        <a:pt x="22" y="292"/>
                      </a:lnTo>
                      <a:lnTo>
                        <a:pt x="2" y="270"/>
                      </a:lnTo>
                      <a:lnTo>
                        <a:pt x="20" y="264"/>
                      </a:lnTo>
                      <a:lnTo>
                        <a:pt x="50" y="286"/>
                      </a:lnTo>
                      <a:lnTo>
                        <a:pt x="116" y="286"/>
                      </a:lnTo>
                      <a:lnTo>
                        <a:pt x="136" y="276"/>
                      </a:lnTo>
                      <a:lnTo>
                        <a:pt x="138" y="260"/>
                      </a:lnTo>
                      <a:lnTo>
                        <a:pt x="126" y="252"/>
                      </a:lnTo>
                      <a:lnTo>
                        <a:pt x="140" y="242"/>
                      </a:lnTo>
                      <a:lnTo>
                        <a:pt x="156" y="250"/>
                      </a:lnTo>
                      <a:lnTo>
                        <a:pt x="176" y="260"/>
                      </a:lnTo>
                      <a:lnTo>
                        <a:pt x="200" y="256"/>
                      </a:lnTo>
                      <a:lnTo>
                        <a:pt x="222" y="246"/>
                      </a:lnTo>
                      <a:lnTo>
                        <a:pt x="254" y="240"/>
                      </a:lnTo>
                      <a:lnTo>
                        <a:pt x="346" y="206"/>
                      </a:lnTo>
                      <a:lnTo>
                        <a:pt x="398" y="180"/>
                      </a:lnTo>
                      <a:lnTo>
                        <a:pt x="408" y="172"/>
                      </a:lnTo>
                      <a:lnTo>
                        <a:pt x="366" y="158"/>
                      </a:lnTo>
                      <a:lnTo>
                        <a:pt x="394" y="120"/>
                      </a:lnTo>
                      <a:lnTo>
                        <a:pt x="436" y="126"/>
                      </a:lnTo>
                      <a:lnTo>
                        <a:pt x="474" y="122"/>
                      </a:lnTo>
                      <a:lnTo>
                        <a:pt x="472" y="100"/>
                      </a:lnTo>
                      <a:lnTo>
                        <a:pt x="414" y="106"/>
                      </a:lnTo>
                      <a:lnTo>
                        <a:pt x="398" y="102"/>
                      </a:lnTo>
                      <a:lnTo>
                        <a:pt x="378" y="94"/>
                      </a:lnTo>
                      <a:cubicBezTo>
                        <a:pt x="384" y="83"/>
                        <a:pt x="380" y="84"/>
                        <a:pt x="386" y="84"/>
                      </a:cubicBezTo>
                      <a:lnTo>
                        <a:pt x="420" y="98"/>
                      </a:lnTo>
                      <a:lnTo>
                        <a:pt x="470" y="90"/>
                      </a:lnTo>
                      <a:lnTo>
                        <a:pt x="470" y="74"/>
                      </a:lnTo>
                      <a:lnTo>
                        <a:pt x="426" y="82"/>
                      </a:lnTo>
                      <a:lnTo>
                        <a:pt x="402" y="78"/>
                      </a:lnTo>
                      <a:cubicBezTo>
                        <a:pt x="396" y="75"/>
                        <a:pt x="384" y="70"/>
                        <a:pt x="384" y="70"/>
                      </a:cubicBezTo>
                      <a:lnTo>
                        <a:pt x="392" y="60"/>
                      </a:lnTo>
                      <a:lnTo>
                        <a:pt x="424" y="72"/>
                      </a:lnTo>
                      <a:lnTo>
                        <a:pt x="454" y="68"/>
                      </a:lnTo>
                      <a:lnTo>
                        <a:pt x="482" y="66"/>
                      </a:lnTo>
                      <a:lnTo>
                        <a:pt x="484" y="122"/>
                      </a:lnTo>
                      <a:lnTo>
                        <a:pt x="512" y="118"/>
                      </a:lnTo>
                      <a:lnTo>
                        <a:pt x="510" y="62"/>
                      </a:lnTo>
                      <a:lnTo>
                        <a:pt x="522" y="58"/>
                      </a:lnTo>
                      <a:lnTo>
                        <a:pt x="524" y="114"/>
                      </a:lnTo>
                      <a:lnTo>
                        <a:pt x="536" y="110"/>
                      </a:lnTo>
                      <a:lnTo>
                        <a:pt x="536" y="54"/>
                      </a:lnTo>
                      <a:lnTo>
                        <a:pt x="548" y="52"/>
                      </a:lnTo>
                      <a:lnTo>
                        <a:pt x="548" y="110"/>
                      </a:lnTo>
                      <a:lnTo>
                        <a:pt x="566" y="102"/>
                      </a:lnTo>
                      <a:lnTo>
                        <a:pt x="564" y="20"/>
                      </a:lnTo>
                      <a:lnTo>
                        <a:pt x="908" y="0"/>
                      </a:lnTo>
                      <a:lnTo>
                        <a:pt x="1050" y="8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677000" y="5434200"/>
                  <a:ext cx="262800" cy="139680"/>
                </a:xfrm>
                <a:custGeom>
                  <a:avLst/>
                  <a:gdLst/>
                  <a:ahLst/>
                  <a:rect l="l" t="t" r="r" b="b"/>
                  <a:pathLst>
                    <a:path w="204" h="110">
                      <a:moveTo>
                        <a:pt x="190" y="0"/>
                      </a:moveTo>
                      <a:lnTo>
                        <a:pt x="110" y="16"/>
                      </a:lnTo>
                      <a:lnTo>
                        <a:pt x="112" y="22"/>
                      </a:lnTo>
                      <a:lnTo>
                        <a:pt x="172" y="14"/>
                      </a:lnTo>
                      <a:lnTo>
                        <a:pt x="170" y="26"/>
                      </a:lnTo>
                      <a:lnTo>
                        <a:pt x="110" y="38"/>
                      </a:lnTo>
                      <a:lnTo>
                        <a:pt x="112" y="50"/>
                      </a:lnTo>
                      <a:lnTo>
                        <a:pt x="174" y="34"/>
                      </a:lnTo>
                      <a:lnTo>
                        <a:pt x="178" y="80"/>
                      </a:lnTo>
                      <a:lnTo>
                        <a:pt x="120" y="84"/>
                      </a:lnTo>
                      <a:lnTo>
                        <a:pt x="74" y="44"/>
                      </a:lnTo>
                      <a:lnTo>
                        <a:pt x="74" y="56"/>
                      </a:lnTo>
                      <a:lnTo>
                        <a:pt x="110" y="86"/>
                      </a:lnTo>
                      <a:lnTo>
                        <a:pt x="46" y="94"/>
                      </a:lnTo>
                      <a:lnTo>
                        <a:pt x="46" y="30"/>
                      </a:lnTo>
                      <a:cubicBezTo>
                        <a:pt x="29" y="32"/>
                        <a:pt x="30" y="27"/>
                        <a:pt x="30" y="34"/>
                      </a:cubicBezTo>
                      <a:lnTo>
                        <a:pt x="34" y="94"/>
                      </a:lnTo>
                      <a:lnTo>
                        <a:pt x="12" y="88"/>
                      </a:lnTo>
                      <a:lnTo>
                        <a:pt x="12" y="32"/>
                      </a:lnTo>
                      <a:lnTo>
                        <a:pt x="0" y="28"/>
                      </a:lnTo>
                      <a:lnTo>
                        <a:pt x="4" y="92"/>
                      </a:lnTo>
                      <a:lnTo>
                        <a:pt x="70" y="110"/>
                      </a:lnTo>
                      <a:lnTo>
                        <a:pt x="182" y="98"/>
                      </a:lnTo>
                      <a:lnTo>
                        <a:pt x="204" y="72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492760" y="5378400"/>
                  <a:ext cx="1179360" cy="741960"/>
                </a:xfrm>
                <a:custGeom>
                  <a:avLst/>
                  <a:gdLst/>
                  <a:ahLst/>
                  <a:rect l="l" t="t" r="r" b="b"/>
                  <a:pathLst>
                    <a:path w="914" h="584">
                      <a:moveTo>
                        <a:pt x="282" y="22"/>
                      </a:moveTo>
                      <a:lnTo>
                        <a:pt x="440" y="28"/>
                      </a:lnTo>
                      <a:lnTo>
                        <a:pt x="468" y="18"/>
                      </a:lnTo>
                      <a:lnTo>
                        <a:pt x="440" y="36"/>
                      </a:lnTo>
                      <a:lnTo>
                        <a:pt x="280" y="36"/>
                      </a:lnTo>
                      <a:lnTo>
                        <a:pt x="282" y="56"/>
                      </a:lnTo>
                      <a:lnTo>
                        <a:pt x="440" y="52"/>
                      </a:lnTo>
                      <a:lnTo>
                        <a:pt x="470" y="42"/>
                      </a:lnTo>
                      <a:lnTo>
                        <a:pt x="440" y="64"/>
                      </a:lnTo>
                      <a:lnTo>
                        <a:pt x="284" y="66"/>
                      </a:lnTo>
                      <a:lnTo>
                        <a:pt x="298" y="78"/>
                      </a:lnTo>
                      <a:lnTo>
                        <a:pt x="352" y="88"/>
                      </a:lnTo>
                      <a:lnTo>
                        <a:pt x="430" y="84"/>
                      </a:lnTo>
                      <a:lnTo>
                        <a:pt x="464" y="82"/>
                      </a:lnTo>
                      <a:lnTo>
                        <a:pt x="466" y="102"/>
                      </a:lnTo>
                      <a:lnTo>
                        <a:pt x="484" y="102"/>
                      </a:lnTo>
                      <a:lnTo>
                        <a:pt x="488" y="120"/>
                      </a:lnTo>
                      <a:lnTo>
                        <a:pt x="468" y="130"/>
                      </a:lnTo>
                      <a:lnTo>
                        <a:pt x="476" y="148"/>
                      </a:lnTo>
                      <a:lnTo>
                        <a:pt x="544" y="182"/>
                      </a:lnTo>
                      <a:lnTo>
                        <a:pt x="636" y="202"/>
                      </a:lnTo>
                      <a:lnTo>
                        <a:pt x="708" y="206"/>
                      </a:lnTo>
                      <a:lnTo>
                        <a:pt x="742" y="196"/>
                      </a:lnTo>
                      <a:lnTo>
                        <a:pt x="768" y="186"/>
                      </a:lnTo>
                      <a:lnTo>
                        <a:pt x="778" y="194"/>
                      </a:lnTo>
                      <a:lnTo>
                        <a:pt x="764" y="210"/>
                      </a:lnTo>
                      <a:lnTo>
                        <a:pt x="766" y="228"/>
                      </a:lnTo>
                      <a:lnTo>
                        <a:pt x="786" y="240"/>
                      </a:lnTo>
                      <a:lnTo>
                        <a:pt x="838" y="236"/>
                      </a:lnTo>
                      <a:lnTo>
                        <a:pt x="882" y="224"/>
                      </a:lnTo>
                      <a:lnTo>
                        <a:pt x="902" y="204"/>
                      </a:lnTo>
                      <a:lnTo>
                        <a:pt x="910" y="214"/>
                      </a:lnTo>
                      <a:lnTo>
                        <a:pt x="896" y="232"/>
                      </a:lnTo>
                      <a:lnTo>
                        <a:pt x="904" y="248"/>
                      </a:lnTo>
                      <a:lnTo>
                        <a:pt x="894" y="260"/>
                      </a:lnTo>
                      <a:lnTo>
                        <a:pt x="908" y="262"/>
                      </a:lnTo>
                      <a:lnTo>
                        <a:pt x="914" y="274"/>
                      </a:lnTo>
                      <a:lnTo>
                        <a:pt x="904" y="282"/>
                      </a:lnTo>
                      <a:lnTo>
                        <a:pt x="856" y="328"/>
                      </a:lnTo>
                      <a:lnTo>
                        <a:pt x="868" y="342"/>
                      </a:lnTo>
                      <a:lnTo>
                        <a:pt x="844" y="358"/>
                      </a:lnTo>
                      <a:lnTo>
                        <a:pt x="828" y="358"/>
                      </a:lnTo>
                      <a:lnTo>
                        <a:pt x="792" y="378"/>
                      </a:lnTo>
                      <a:lnTo>
                        <a:pt x="806" y="414"/>
                      </a:lnTo>
                      <a:lnTo>
                        <a:pt x="802" y="442"/>
                      </a:lnTo>
                      <a:lnTo>
                        <a:pt x="790" y="430"/>
                      </a:lnTo>
                      <a:lnTo>
                        <a:pt x="790" y="450"/>
                      </a:lnTo>
                      <a:lnTo>
                        <a:pt x="802" y="472"/>
                      </a:lnTo>
                      <a:lnTo>
                        <a:pt x="774" y="472"/>
                      </a:lnTo>
                      <a:lnTo>
                        <a:pt x="784" y="452"/>
                      </a:lnTo>
                      <a:lnTo>
                        <a:pt x="786" y="428"/>
                      </a:lnTo>
                      <a:lnTo>
                        <a:pt x="770" y="440"/>
                      </a:lnTo>
                      <a:lnTo>
                        <a:pt x="774" y="398"/>
                      </a:lnTo>
                      <a:lnTo>
                        <a:pt x="782" y="380"/>
                      </a:lnTo>
                      <a:lnTo>
                        <a:pt x="686" y="396"/>
                      </a:lnTo>
                      <a:lnTo>
                        <a:pt x="624" y="398"/>
                      </a:lnTo>
                      <a:lnTo>
                        <a:pt x="642" y="418"/>
                      </a:lnTo>
                      <a:lnTo>
                        <a:pt x="644" y="430"/>
                      </a:lnTo>
                      <a:lnTo>
                        <a:pt x="626" y="442"/>
                      </a:lnTo>
                      <a:lnTo>
                        <a:pt x="598" y="436"/>
                      </a:lnTo>
                      <a:lnTo>
                        <a:pt x="532" y="406"/>
                      </a:lnTo>
                      <a:lnTo>
                        <a:pt x="516" y="400"/>
                      </a:lnTo>
                      <a:lnTo>
                        <a:pt x="496" y="424"/>
                      </a:lnTo>
                      <a:lnTo>
                        <a:pt x="558" y="444"/>
                      </a:lnTo>
                      <a:lnTo>
                        <a:pt x="588" y="462"/>
                      </a:lnTo>
                      <a:lnTo>
                        <a:pt x="586" y="476"/>
                      </a:lnTo>
                      <a:lnTo>
                        <a:pt x="570" y="494"/>
                      </a:lnTo>
                      <a:lnTo>
                        <a:pt x="520" y="470"/>
                      </a:lnTo>
                      <a:lnTo>
                        <a:pt x="500" y="482"/>
                      </a:lnTo>
                      <a:lnTo>
                        <a:pt x="486" y="480"/>
                      </a:lnTo>
                      <a:lnTo>
                        <a:pt x="448" y="462"/>
                      </a:lnTo>
                      <a:lnTo>
                        <a:pt x="440" y="478"/>
                      </a:lnTo>
                      <a:lnTo>
                        <a:pt x="388" y="476"/>
                      </a:lnTo>
                      <a:lnTo>
                        <a:pt x="368" y="512"/>
                      </a:lnTo>
                      <a:lnTo>
                        <a:pt x="328" y="508"/>
                      </a:lnTo>
                      <a:lnTo>
                        <a:pt x="320" y="520"/>
                      </a:lnTo>
                      <a:lnTo>
                        <a:pt x="332" y="534"/>
                      </a:lnTo>
                      <a:lnTo>
                        <a:pt x="336" y="550"/>
                      </a:lnTo>
                      <a:lnTo>
                        <a:pt x="308" y="580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264" y="8"/>
                      </a:lnTo>
                      <a:lnTo>
                        <a:pt x="282" y="2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879400" y="5414040"/>
                  <a:ext cx="190800" cy="116640"/>
                </a:xfrm>
                <a:custGeom>
                  <a:avLst/>
                  <a:gdLst/>
                  <a:ahLst/>
                  <a:rect l="l" t="t" r="r" b="b"/>
                  <a:pathLst>
                    <a:path w="148" h="92">
                      <a:moveTo>
                        <a:pt x="0" y="82"/>
                      </a:moveTo>
                      <a:lnTo>
                        <a:pt x="4" y="2"/>
                      </a:lnTo>
                      <a:lnTo>
                        <a:pt x="18" y="0"/>
                      </a:lnTo>
                      <a:lnTo>
                        <a:pt x="12" y="74"/>
                      </a:lnTo>
                      <a:lnTo>
                        <a:pt x="44" y="78"/>
                      </a:lnTo>
                      <a:lnTo>
                        <a:pt x="46" y="2"/>
                      </a:lnTo>
                      <a:lnTo>
                        <a:pt x="58" y="2"/>
                      </a:lnTo>
                      <a:lnTo>
                        <a:pt x="56" y="72"/>
                      </a:lnTo>
                      <a:lnTo>
                        <a:pt x="94" y="70"/>
                      </a:lnTo>
                      <a:lnTo>
                        <a:pt x="92" y="2"/>
                      </a:lnTo>
                      <a:lnTo>
                        <a:pt x="106" y="4"/>
                      </a:lnTo>
                      <a:lnTo>
                        <a:pt x="104" y="68"/>
                      </a:lnTo>
                      <a:lnTo>
                        <a:pt x="136" y="64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48" y="70"/>
                      </a:lnTo>
                      <a:lnTo>
                        <a:pt x="60" y="88"/>
                      </a:lnTo>
                      <a:lnTo>
                        <a:pt x="8" y="9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7047720" y="6087600"/>
                <a:ext cx="1491480" cy="767520"/>
              </a:xfrm>
              <a:custGeom>
                <a:avLst/>
                <a:gdLst/>
                <a:ahLst/>
                <a:rect l="l" t="t" r="r" b="b"/>
                <a:pathLst>
                  <a:path w="1156" h="604">
                    <a:moveTo>
                      <a:pt x="1143" y="8"/>
                    </a:moveTo>
                    <a:lnTo>
                      <a:pt x="1156" y="600"/>
                    </a:lnTo>
                    <a:lnTo>
                      <a:pt x="573" y="604"/>
                    </a:lnTo>
                    <a:lnTo>
                      <a:pt x="558" y="584"/>
                    </a:lnTo>
                    <a:lnTo>
                      <a:pt x="573" y="574"/>
                    </a:lnTo>
                    <a:lnTo>
                      <a:pt x="555" y="566"/>
                    </a:lnTo>
                    <a:lnTo>
                      <a:pt x="555" y="548"/>
                    </a:lnTo>
                    <a:lnTo>
                      <a:pt x="579" y="532"/>
                    </a:lnTo>
                    <a:lnTo>
                      <a:pt x="577" y="520"/>
                    </a:lnTo>
                    <a:lnTo>
                      <a:pt x="534" y="528"/>
                    </a:lnTo>
                    <a:lnTo>
                      <a:pt x="529" y="514"/>
                    </a:lnTo>
                    <a:lnTo>
                      <a:pt x="512" y="514"/>
                    </a:lnTo>
                    <a:lnTo>
                      <a:pt x="516" y="496"/>
                    </a:lnTo>
                    <a:lnTo>
                      <a:pt x="503" y="492"/>
                    </a:lnTo>
                    <a:lnTo>
                      <a:pt x="475" y="508"/>
                    </a:lnTo>
                    <a:lnTo>
                      <a:pt x="468" y="496"/>
                    </a:lnTo>
                    <a:lnTo>
                      <a:pt x="444" y="504"/>
                    </a:lnTo>
                    <a:lnTo>
                      <a:pt x="436" y="516"/>
                    </a:lnTo>
                    <a:lnTo>
                      <a:pt x="423" y="514"/>
                    </a:lnTo>
                    <a:lnTo>
                      <a:pt x="416" y="504"/>
                    </a:lnTo>
                    <a:lnTo>
                      <a:pt x="403" y="506"/>
                    </a:lnTo>
                    <a:lnTo>
                      <a:pt x="340" y="520"/>
                    </a:lnTo>
                    <a:lnTo>
                      <a:pt x="322" y="494"/>
                    </a:lnTo>
                    <a:lnTo>
                      <a:pt x="379" y="462"/>
                    </a:lnTo>
                    <a:lnTo>
                      <a:pt x="370" y="444"/>
                    </a:lnTo>
                    <a:lnTo>
                      <a:pt x="351" y="448"/>
                    </a:lnTo>
                    <a:lnTo>
                      <a:pt x="288" y="470"/>
                    </a:lnTo>
                    <a:lnTo>
                      <a:pt x="272" y="468"/>
                    </a:lnTo>
                    <a:lnTo>
                      <a:pt x="257" y="448"/>
                    </a:lnTo>
                    <a:lnTo>
                      <a:pt x="264" y="438"/>
                    </a:lnTo>
                    <a:lnTo>
                      <a:pt x="283" y="430"/>
                    </a:lnTo>
                    <a:lnTo>
                      <a:pt x="307" y="422"/>
                    </a:lnTo>
                    <a:lnTo>
                      <a:pt x="268" y="428"/>
                    </a:lnTo>
                    <a:lnTo>
                      <a:pt x="240" y="428"/>
                    </a:lnTo>
                    <a:lnTo>
                      <a:pt x="196" y="432"/>
                    </a:lnTo>
                    <a:lnTo>
                      <a:pt x="176" y="422"/>
                    </a:lnTo>
                    <a:lnTo>
                      <a:pt x="131" y="422"/>
                    </a:lnTo>
                    <a:lnTo>
                      <a:pt x="124" y="444"/>
                    </a:lnTo>
                    <a:lnTo>
                      <a:pt x="133" y="458"/>
                    </a:lnTo>
                    <a:lnTo>
                      <a:pt x="137" y="484"/>
                    </a:lnTo>
                    <a:lnTo>
                      <a:pt x="120" y="478"/>
                    </a:lnTo>
                    <a:lnTo>
                      <a:pt x="122" y="490"/>
                    </a:lnTo>
                    <a:lnTo>
                      <a:pt x="135" y="508"/>
                    </a:lnTo>
                    <a:lnTo>
                      <a:pt x="115" y="512"/>
                    </a:lnTo>
                    <a:lnTo>
                      <a:pt x="102" y="502"/>
                    </a:lnTo>
                    <a:lnTo>
                      <a:pt x="113" y="480"/>
                    </a:lnTo>
                    <a:lnTo>
                      <a:pt x="100" y="482"/>
                    </a:lnTo>
                    <a:lnTo>
                      <a:pt x="105" y="440"/>
                    </a:lnTo>
                    <a:lnTo>
                      <a:pt x="115" y="420"/>
                    </a:lnTo>
                    <a:lnTo>
                      <a:pt x="83" y="418"/>
                    </a:lnTo>
                    <a:lnTo>
                      <a:pt x="63" y="404"/>
                    </a:lnTo>
                    <a:lnTo>
                      <a:pt x="41" y="390"/>
                    </a:lnTo>
                    <a:lnTo>
                      <a:pt x="37" y="378"/>
                    </a:lnTo>
                    <a:lnTo>
                      <a:pt x="54" y="374"/>
                    </a:lnTo>
                    <a:lnTo>
                      <a:pt x="35" y="334"/>
                    </a:lnTo>
                    <a:lnTo>
                      <a:pt x="22" y="324"/>
                    </a:lnTo>
                    <a:lnTo>
                      <a:pt x="0" y="318"/>
                    </a:lnTo>
                    <a:lnTo>
                      <a:pt x="9" y="308"/>
                    </a:lnTo>
                    <a:lnTo>
                      <a:pt x="24" y="292"/>
                    </a:lnTo>
                    <a:lnTo>
                      <a:pt x="2" y="270"/>
                    </a:lnTo>
                    <a:lnTo>
                      <a:pt x="22" y="264"/>
                    </a:lnTo>
                    <a:lnTo>
                      <a:pt x="54" y="286"/>
                    </a:lnTo>
                    <a:lnTo>
                      <a:pt x="126" y="286"/>
                    </a:lnTo>
                    <a:lnTo>
                      <a:pt x="148" y="276"/>
                    </a:lnTo>
                    <a:lnTo>
                      <a:pt x="150" y="260"/>
                    </a:lnTo>
                    <a:lnTo>
                      <a:pt x="137" y="252"/>
                    </a:lnTo>
                    <a:lnTo>
                      <a:pt x="152" y="242"/>
                    </a:lnTo>
                    <a:lnTo>
                      <a:pt x="170" y="250"/>
                    </a:lnTo>
                    <a:lnTo>
                      <a:pt x="192" y="260"/>
                    </a:lnTo>
                    <a:lnTo>
                      <a:pt x="218" y="256"/>
                    </a:lnTo>
                    <a:lnTo>
                      <a:pt x="242" y="246"/>
                    </a:lnTo>
                    <a:lnTo>
                      <a:pt x="277" y="240"/>
                    </a:lnTo>
                    <a:lnTo>
                      <a:pt x="377" y="206"/>
                    </a:lnTo>
                    <a:lnTo>
                      <a:pt x="433" y="180"/>
                    </a:lnTo>
                    <a:lnTo>
                      <a:pt x="444" y="172"/>
                    </a:lnTo>
                    <a:lnTo>
                      <a:pt x="399" y="158"/>
                    </a:lnTo>
                    <a:lnTo>
                      <a:pt x="429" y="120"/>
                    </a:lnTo>
                    <a:lnTo>
                      <a:pt x="475" y="126"/>
                    </a:lnTo>
                    <a:lnTo>
                      <a:pt x="516" y="122"/>
                    </a:lnTo>
                    <a:lnTo>
                      <a:pt x="514" y="100"/>
                    </a:lnTo>
                    <a:lnTo>
                      <a:pt x="451" y="106"/>
                    </a:lnTo>
                    <a:lnTo>
                      <a:pt x="433" y="102"/>
                    </a:lnTo>
                    <a:lnTo>
                      <a:pt x="412" y="94"/>
                    </a:lnTo>
                    <a:cubicBezTo>
                      <a:pt x="418" y="83"/>
                      <a:pt x="414" y="84"/>
                      <a:pt x="420" y="84"/>
                    </a:cubicBezTo>
                    <a:lnTo>
                      <a:pt x="457" y="98"/>
                    </a:lnTo>
                    <a:lnTo>
                      <a:pt x="512" y="90"/>
                    </a:lnTo>
                    <a:lnTo>
                      <a:pt x="512" y="74"/>
                    </a:lnTo>
                    <a:lnTo>
                      <a:pt x="464" y="82"/>
                    </a:lnTo>
                    <a:lnTo>
                      <a:pt x="438" y="78"/>
                    </a:lnTo>
                    <a:cubicBezTo>
                      <a:pt x="431" y="75"/>
                      <a:pt x="418" y="70"/>
                      <a:pt x="418" y="70"/>
                    </a:cubicBezTo>
                    <a:lnTo>
                      <a:pt x="427" y="60"/>
                    </a:lnTo>
                    <a:lnTo>
                      <a:pt x="462" y="72"/>
                    </a:lnTo>
                    <a:lnTo>
                      <a:pt x="494" y="68"/>
                    </a:lnTo>
                    <a:lnTo>
                      <a:pt x="525" y="66"/>
                    </a:lnTo>
                    <a:lnTo>
                      <a:pt x="527" y="122"/>
                    </a:lnTo>
                    <a:lnTo>
                      <a:pt x="558" y="118"/>
                    </a:lnTo>
                    <a:lnTo>
                      <a:pt x="555" y="62"/>
                    </a:lnTo>
                    <a:lnTo>
                      <a:pt x="568" y="58"/>
                    </a:lnTo>
                    <a:lnTo>
                      <a:pt x="571" y="114"/>
                    </a:lnTo>
                    <a:lnTo>
                      <a:pt x="584" y="110"/>
                    </a:lnTo>
                    <a:lnTo>
                      <a:pt x="584" y="54"/>
                    </a:lnTo>
                    <a:lnTo>
                      <a:pt x="597" y="52"/>
                    </a:lnTo>
                    <a:lnTo>
                      <a:pt x="597" y="110"/>
                    </a:lnTo>
                    <a:lnTo>
                      <a:pt x="616" y="102"/>
                    </a:lnTo>
                    <a:lnTo>
                      <a:pt x="614" y="20"/>
                    </a:lnTo>
                    <a:lnTo>
                      <a:pt x="989" y="0"/>
                    </a:lnTo>
                    <a:lnTo>
                      <a:pt x="1143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15440" y="6143760"/>
                <a:ext cx="286200" cy="139680"/>
              </a:xfrm>
              <a:custGeom>
                <a:avLst/>
                <a:gdLst/>
                <a:ahLst/>
                <a:rect l="l" t="t" r="r" b="b"/>
                <a:pathLst>
                  <a:path w="204" h="110">
                    <a:moveTo>
                      <a:pt x="190" y="0"/>
                    </a:moveTo>
                    <a:lnTo>
                      <a:pt x="110" y="16"/>
                    </a:lnTo>
                    <a:lnTo>
                      <a:pt x="112" y="22"/>
                    </a:lnTo>
                    <a:lnTo>
                      <a:pt x="172" y="14"/>
                    </a:lnTo>
                    <a:lnTo>
                      <a:pt x="170" y="26"/>
                    </a:lnTo>
                    <a:lnTo>
                      <a:pt x="110" y="38"/>
                    </a:lnTo>
                    <a:lnTo>
                      <a:pt x="112" y="50"/>
                    </a:lnTo>
                    <a:lnTo>
                      <a:pt x="174" y="34"/>
                    </a:lnTo>
                    <a:lnTo>
                      <a:pt x="178" y="80"/>
                    </a:lnTo>
                    <a:lnTo>
                      <a:pt x="120" y="84"/>
                    </a:lnTo>
                    <a:lnTo>
                      <a:pt x="74" y="44"/>
                    </a:lnTo>
                    <a:lnTo>
                      <a:pt x="74" y="56"/>
                    </a:lnTo>
                    <a:lnTo>
                      <a:pt x="110" y="86"/>
                    </a:lnTo>
                    <a:lnTo>
                      <a:pt x="46" y="94"/>
                    </a:lnTo>
                    <a:lnTo>
                      <a:pt x="46" y="30"/>
                    </a:lnTo>
                    <a:cubicBezTo>
                      <a:pt x="29" y="32"/>
                      <a:pt x="30" y="27"/>
                      <a:pt x="30" y="34"/>
                    </a:cubicBezTo>
                    <a:lnTo>
                      <a:pt x="34" y="94"/>
                    </a:lnTo>
                    <a:lnTo>
                      <a:pt x="12" y="8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4" y="92"/>
                    </a:lnTo>
                    <a:lnTo>
                      <a:pt x="70" y="110"/>
                    </a:lnTo>
                    <a:lnTo>
                      <a:pt x="182" y="98"/>
                    </a:lnTo>
                    <a:lnTo>
                      <a:pt x="204" y="72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93120" y="6087600"/>
                <a:ext cx="1295280" cy="770040"/>
              </a:xfrm>
              <a:custGeom>
                <a:avLst/>
                <a:gdLst/>
                <a:ahLst/>
                <a:rect l="l" t="t" r="r" b="b"/>
                <a:pathLst>
                  <a:path w="1004" h="606">
                    <a:moveTo>
                      <a:pt x="315" y="22"/>
                    </a:moveTo>
                    <a:lnTo>
                      <a:pt x="487" y="28"/>
                    </a:lnTo>
                    <a:lnTo>
                      <a:pt x="518" y="18"/>
                    </a:lnTo>
                    <a:lnTo>
                      <a:pt x="487" y="36"/>
                    </a:lnTo>
                    <a:lnTo>
                      <a:pt x="313" y="36"/>
                    </a:lnTo>
                    <a:lnTo>
                      <a:pt x="315" y="56"/>
                    </a:lnTo>
                    <a:lnTo>
                      <a:pt x="487" y="52"/>
                    </a:lnTo>
                    <a:lnTo>
                      <a:pt x="520" y="42"/>
                    </a:lnTo>
                    <a:lnTo>
                      <a:pt x="487" y="64"/>
                    </a:lnTo>
                    <a:lnTo>
                      <a:pt x="317" y="66"/>
                    </a:lnTo>
                    <a:lnTo>
                      <a:pt x="333" y="78"/>
                    </a:lnTo>
                    <a:lnTo>
                      <a:pt x="392" y="88"/>
                    </a:lnTo>
                    <a:lnTo>
                      <a:pt x="477" y="84"/>
                    </a:lnTo>
                    <a:lnTo>
                      <a:pt x="514" y="82"/>
                    </a:lnTo>
                    <a:lnTo>
                      <a:pt x="516" y="102"/>
                    </a:lnTo>
                    <a:lnTo>
                      <a:pt x="535" y="102"/>
                    </a:lnTo>
                    <a:lnTo>
                      <a:pt x="540" y="120"/>
                    </a:lnTo>
                    <a:lnTo>
                      <a:pt x="518" y="130"/>
                    </a:lnTo>
                    <a:lnTo>
                      <a:pt x="527" y="148"/>
                    </a:lnTo>
                    <a:lnTo>
                      <a:pt x="601" y="182"/>
                    </a:lnTo>
                    <a:lnTo>
                      <a:pt x="701" y="202"/>
                    </a:lnTo>
                    <a:lnTo>
                      <a:pt x="780" y="206"/>
                    </a:lnTo>
                    <a:lnTo>
                      <a:pt x="817" y="196"/>
                    </a:lnTo>
                    <a:lnTo>
                      <a:pt x="845" y="186"/>
                    </a:lnTo>
                    <a:lnTo>
                      <a:pt x="856" y="194"/>
                    </a:lnTo>
                    <a:lnTo>
                      <a:pt x="841" y="210"/>
                    </a:lnTo>
                    <a:lnTo>
                      <a:pt x="843" y="228"/>
                    </a:lnTo>
                    <a:lnTo>
                      <a:pt x="865" y="240"/>
                    </a:lnTo>
                    <a:lnTo>
                      <a:pt x="921" y="236"/>
                    </a:lnTo>
                    <a:lnTo>
                      <a:pt x="969" y="224"/>
                    </a:lnTo>
                    <a:lnTo>
                      <a:pt x="991" y="204"/>
                    </a:lnTo>
                    <a:lnTo>
                      <a:pt x="1000" y="214"/>
                    </a:lnTo>
                    <a:lnTo>
                      <a:pt x="984" y="232"/>
                    </a:lnTo>
                    <a:lnTo>
                      <a:pt x="993" y="248"/>
                    </a:lnTo>
                    <a:lnTo>
                      <a:pt x="982" y="260"/>
                    </a:lnTo>
                    <a:lnTo>
                      <a:pt x="997" y="262"/>
                    </a:lnTo>
                    <a:lnTo>
                      <a:pt x="1004" y="274"/>
                    </a:lnTo>
                    <a:lnTo>
                      <a:pt x="993" y="282"/>
                    </a:lnTo>
                    <a:lnTo>
                      <a:pt x="941" y="328"/>
                    </a:lnTo>
                    <a:lnTo>
                      <a:pt x="954" y="342"/>
                    </a:lnTo>
                    <a:lnTo>
                      <a:pt x="928" y="358"/>
                    </a:lnTo>
                    <a:lnTo>
                      <a:pt x="910" y="358"/>
                    </a:lnTo>
                    <a:lnTo>
                      <a:pt x="871" y="378"/>
                    </a:lnTo>
                    <a:lnTo>
                      <a:pt x="886" y="414"/>
                    </a:lnTo>
                    <a:lnTo>
                      <a:pt x="882" y="442"/>
                    </a:lnTo>
                    <a:lnTo>
                      <a:pt x="869" y="430"/>
                    </a:lnTo>
                    <a:lnTo>
                      <a:pt x="869" y="450"/>
                    </a:lnTo>
                    <a:lnTo>
                      <a:pt x="882" y="472"/>
                    </a:lnTo>
                    <a:lnTo>
                      <a:pt x="851" y="472"/>
                    </a:lnTo>
                    <a:lnTo>
                      <a:pt x="862" y="452"/>
                    </a:lnTo>
                    <a:lnTo>
                      <a:pt x="865" y="428"/>
                    </a:lnTo>
                    <a:lnTo>
                      <a:pt x="847" y="440"/>
                    </a:lnTo>
                    <a:lnTo>
                      <a:pt x="851" y="398"/>
                    </a:lnTo>
                    <a:lnTo>
                      <a:pt x="860" y="380"/>
                    </a:lnTo>
                    <a:lnTo>
                      <a:pt x="756" y="396"/>
                    </a:lnTo>
                    <a:lnTo>
                      <a:pt x="688" y="398"/>
                    </a:lnTo>
                    <a:lnTo>
                      <a:pt x="708" y="418"/>
                    </a:lnTo>
                    <a:lnTo>
                      <a:pt x="710" y="430"/>
                    </a:lnTo>
                    <a:lnTo>
                      <a:pt x="690" y="442"/>
                    </a:lnTo>
                    <a:lnTo>
                      <a:pt x="660" y="436"/>
                    </a:lnTo>
                    <a:lnTo>
                      <a:pt x="588" y="406"/>
                    </a:lnTo>
                    <a:lnTo>
                      <a:pt x="570" y="400"/>
                    </a:lnTo>
                    <a:lnTo>
                      <a:pt x="548" y="424"/>
                    </a:lnTo>
                    <a:lnTo>
                      <a:pt x="616" y="444"/>
                    </a:lnTo>
                    <a:lnTo>
                      <a:pt x="649" y="462"/>
                    </a:lnTo>
                    <a:lnTo>
                      <a:pt x="647" y="476"/>
                    </a:lnTo>
                    <a:lnTo>
                      <a:pt x="629" y="494"/>
                    </a:lnTo>
                    <a:lnTo>
                      <a:pt x="575" y="470"/>
                    </a:lnTo>
                    <a:lnTo>
                      <a:pt x="553" y="482"/>
                    </a:lnTo>
                    <a:lnTo>
                      <a:pt x="538" y="480"/>
                    </a:lnTo>
                    <a:lnTo>
                      <a:pt x="496" y="462"/>
                    </a:lnTo>
                    <a:lnTo>
                      <a:pt x="487" y="478"/>
                    </a:lnTo>
                    <a:lnTo>
                      <a:pt x="431" y="476"/>
                    </a:lnTo>
                    <a:lnTo>
                      <a:pt x="409" y="512"/>
                    </a:lnTo>
                    <a:lnTo>
                      <a:pt x="365" y="508"/>
                    </a:lnTo>
                    <a:lnTo>
                      <a:pt x="357" y="520"/>
                    </a:lnTo>
                    <a:lnTo>
                      <a:pt x="370" y="534"/>
                    </a:lnTo>
                    <a:lnTo>
                      <a:pt x="374" y="550"/>
                    </a:lnTo>
                    <a:lnTo>
                      <a:pt x="342" y="606"/>
                    </a:lnTo>
                    <a:lnTo>
                      <a:pt x="0" y="606"/>
                    </a:lnTo>
                    <a:lnTo>
                      <a:pt x="8" y="0"/>
                    </a:lnTo>
                    <a:lnTo>
                      <a:pt x="296" y="8"/>
                    </a:lnTo>
                    <a:lnTo>
                      <a:pt x="315" y="2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25120" y="6123240"/>
                <a:ext cx="207720" cy="117000"/>
              </a:xfrm>
              <a:custGeom>
                <a:avLst/>
                <a:gdLst/>
                <a:ahLst/>
                <a:rect l="l" t="t" r="r" b="b"/>
                <a:pathLst>
                  <a:path w="148" h="92">
                    <a:moveTo>
                      <a:pt x="0" y="82"/>
                    </a:moveTo>
                    <a:lnTo>
                      <a:pt x="4" y="2"/>
                    </a:lnTo>
                    <a:lnTo>
                      <a:pt x="18" y="0"/>
                    </a:lnTo>
                    <a:lnTo>
                      <a:pt x="12" y="74"/>
                    </a:lnTo>
                    <a:lnTo>
                      <a:pt x="44" y="78"/>
                    </a:lnTo>
                    <a:lnTo>
                      <a:pt x="46" y="2"/>
                    </a:lnTo>
                    <a:lnTo>
                      <a:pt x="58" y="2"/>
                    </a:lnTo>
                    <a:lnTo>
                      <a:pt x="56" y="72"/>
                    </a:lnTo>
                    <a:lnTo>
                      <a:pt x="94" y="70"/>
                    </a:lnTo>
                    <a:lnTo>
                      <a:pt x="92" y="2"/>
                    </a:lnTo>
                    <a:lnTo>
                      <a:pt x="106" y="4"/>
                    </a:lnTo>
                    <a:lnTo>
                      <a:pt x="104" y="68"/>
                    </a:lnTo>
                    <a:lnTo>
                      <a:pt x="136" y="64"/>
                    </a:lnTo>
                    <a:lnTo>
                      <a:pt x="128" y="0"/>
                    </a:lnTo>
                    <a:lnTo>
                      <a:pt x="142" y="2"/>
                    </a:lnTo>
                    <a:lnTo>
                      <a:pt x="148" y="70"/>
                    </a:lnTo>
                    <a:lnTo>
                      <a:pt x="60" y="88"/>
                    </a:lnTo>
                    <a:lnTo>
                      <a:pt x="8" y="9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9BA6-69A6-43BA-B593-44520FB035EC}" type="slidenum"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04960" y="4743360"/>
            <a:ext cx="858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1f190f"/>
                </a:solidFill>
                <a:uFillTx/>
                <a:latin typeface="Century"/>
              </a:rPr>
              <a:t>  </a:t>
            </a:r>
            <a:r>
              <a:rPr b="1" lang="ja-JP" sz="1800" spc="-1" strike="noStrike" u="sng">
                <a:solidFill>
                  <a:srgbClr val="1f190f"/>
                </a:solidFill>
                <a:uFillTx/>
                <a:latin typeface="Century"/>
              </a:rPr>
              <a:t>ECALS-2 &amp; EIAJ WG1/SWG12</a:t>
            </a:r>
            <a:r>
              <a:rPr b="1" lang="ja-JP" sz="2000" spc="-1" strike="noStrike">
                <a:solidFill>
                  <a:srgbClr val="1f190f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f190f"/>
                </a:solidFill>
                <a:latin typeface="Times New Roman"/>
              </a:rPr>
              <a:t>Atsuji Itoh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f190f"/>
                </a:solidFill>
                <a:latin typeface="Times New Roman"/>
              </a:rPr>
              <a:t>Matsushita Electric Industrial Co., Ltd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f190f"/>
                </a:solidFill>
                <a:latin typeface="Century"/>
              </a:rPr>
              <a:t>pan00570@pas.mei.co.jp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7920" y="14666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90f"/>
                </a:solidFill>
                <a:latin typeface="Century"/>
              </a:rPr>
              <a:t>Outline of ECALS-2 Project</a:t>
            </a:r>
            <a:br>
              <a:rPr sz="3200"/>
            </a:br>
            <a:r>
              <a:rPr b="1" lang="en-US" sz="3200" spc="-1" strike="noStrike">
                <a:solidFill>
                  <a:srgbClr val="1f190f"/>
                </a:solidFill>
                <a:latin typeface="Century"/>
              </a:rPr>
              <a:t>and </a:t>
            </a:r>
            <a:br>
              <a:rPr sz="3200"/>
            </a:br>
            <a:r>
              <a:rPr b="1" lang="en-US" sz="3200" spc="-1" strike="noStrike">
                <a:solidFill>
                  <a:srgbClr val="1f190f"/>
                </a:solidFill>
                <a:latin typeface="Century"/>
              </a:rPr>
              <a:t>Investigation on EMC/EMI </a:t>
            </a:r>
            <a:br>
              <a:rPr sz="3200"/>
            </a:br>
            <a:r>
              <a:rPr b="1" lang="en-US" sz="3200" spc="-1" strike="noStrike">
                <a:solidFill>
                  <a:srgbClr val="1f190f"/>
                </a:solidFill>
                <a:latin typeface="Century"/>
              </a:rPr>
              <a:t>Simulation Models  for Non-ICs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0240" y="533520"/>
            <a:ext cx="8585280" cy="2495520"/>
          </a:xfrm>
          <a:prstGeom prst="rect">
            <a:avLst/>
          </a:prstGeom>
          <a:noFill/>
          <a:ln w="1260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03600" y="3543480"/>
            <a:ext cx="454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90f"/>
                </a:solidFill>
                <a:latin typeface="Century"/>
              </a:rPr>
              <a:t>IBIS Summit on June 21, 1999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Members of WG1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80760" y="1788480"/>
            <a:ext cx="368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ALP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Fujitsu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Hitachi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Honda Communicatio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Hoshide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Matsushita Electric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Mitsubishi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Murata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           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33480" y="1787400"/>
            <a:ext cx="318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NEC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Sharp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Shindengen Electric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SONY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TDK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Toshiba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Rohm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Zuke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650960" y="2762280"/>
            <a:ext cx="7594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5480" y="1523880"/>
            <a:ext cx="2063880" cy="53352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Purpose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23335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Confirm Validity of IBIS and IMIC for Non-IC Component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(as Guideline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2833560"/>
            <a:ext cx="42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Suggestions to IBIS and IMIC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25480" y="3600360"/>
            <a:ext cx="2063880" cy="53352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Application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4238640"/>
            <a:ext cx="734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EMC/EMI Simulation for Digital Consumer Electronic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and Mobile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17720" y="574200"/>
            <a:ext cx="42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Activity in  SWG12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63840" y="1674720"/>
            <a:ext cx="69325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(1) Proposal for electronic component</a:t>
            </a:r>
            <a:br>
              <a:rPr sz="2400"/>
            </a:b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information standards</a:t>
            </a:r>
            <a:br>
              <a:rPr sz="2400"/>
            </a:b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(classification and parameter dictionary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(2) Proposal for sharing system (business</a:t>
            </a:r>
            <a:br>
              <a:rPr sz="2400"/>
            </a:b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process model for supply chain)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(3) Implementation of Resource Center</a:t>
            </a:r>
            <a:br>
              <a:rPr sz="2400"/>
            </a:b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activities for EC (Electronic Commerce, </a:t>
            </a:r>
            <a:br>
              <a:rPr sz="2400"/>
            </a:b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Business to Business) domai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56320" y="755640"/>
            <a:ext cx="392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Goals of ECALS-2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84720" y="60199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9360" y="4502160"/>
            <a:ext cx="4610160" cy="1739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6680" y="4883040"/>
            <a:ext cx="3565440" cy="143532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3160" y="98280"/>
            <a:ext cx="9567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7472b"/>
                </a:solidFill>
                <a:uFillTx/>
                <a:latin typeface="Century"/>
              </a:rPr>
              <a:t>Collaborative </a:t>
            </a:r>
            <a:r>
              <a:rPr b="1" lang="en-US" sz="3600" spc="-1" strike="noStrike" u="sng">
                <a:solidFill>
                  <a:srgbClr val="57472b"/>
                </a:solidFill>
                <a:uFillTx/>
                <a:latin typeface="Century"/>
              </a:rPr>
              <a:t>Business</a:t>
            </a:r>
            <a:r>
              <a:rPr b="1" lang="en-US" sz="4000" spc="-1" strike="noStrike" u="sng">
                <a:solidFill>
                  <a:srgbClr val="57472b"/>
                </a:solidFill>
                <a:uFillTx/>
                <a:latin typeface="Century"/>
              </a:rPr>
              <a:t> Process</a:t>
            </a:r>
            <a:br>
              <a:rPr sz="4000"/>
            </a:br>
            <a:r>
              <a:rPr b="1" lang="en-US" sz="3200" spc="-1" strike="noStrike">
                <a:solidFill>
                  <a:srgbClr val="57472b"/>
                </a:solidFill>
                <a:latin typeface="Century"/>
              </a:rPr>
              <a:t>- by WWW and Standardized Information -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3440" y="1390680"/>
            <a:ext cx="9161280" cy="2536920"/>
          </a:xfrm>
          <a:prstGeom prst="ellipse">
            <a:avLst/>
          </a:prstGeom>
          <a:solidFill>
            <a:srgbClr val="0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2680" y="1343160"/>
            <a:ext cx="9145440" cy="2523960"/>
          </a:xfrm>
          <a:prstGeom prst="ellipse">
            <a:avLst/>
          </a:prstGeom>
          <a:solidFill>
            <a:srgbClr val="d9eac3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98720" y="4073400"/>
            <a:ext cx="2844720" cy="701640"/>
          </a:xfrm>
          <a:prstGeom prst="ellipse">
            <a:avLst/>
          </a:prstGeom>
          <a:noFill/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6440" y="4138560"/>
            <a:ext cx="2109960" cy="50976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356920" y="4173480"/>
            <a:ext cx="2017800" cy="4748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5614920"/>
            <a:ext cx="2263680" cy="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6680" y="4724280"/>
            <a:ext cx="0" cy="9032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43120" y="5113440"/>
            <a:ext cx="257400" cy="179280"/>
          </a:xfrm>
          <a:prstGeom prst="rect">
            <a:avLst/>
          </a:prstGeom>
          <a:solidFill>
            <a:srgbClr val="ccecff"/>
          </a:solidFill>
          <a:ln w="255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40320" y="5343480"/>
            <a:ext cx="3962160" cy="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32400" y="4648320"/>
            <a:ext cx="0" cy="68580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25600" y="5602320"/>
            <a:ext cx="0" cy="1760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05600" y="5345280"/>
            <a:ext cx="516960" cy="419040"/>
            <a:chOff x="6105600" y="5345280"/>
            <a:chExt cx="516960" cy="419040"/>
          </a:xfrm>
        </p:grpSpPr>
        <p:sp>
          <p:nvSpPr>
            <p:cNvPr id="385" name=""/>
            <p:cNvSpPr/>
            <p:nvPr/>
          </p:nvSpPr>
          <p:spPr>
            <a:xfrm>
              <a:off x="6105600" y="5640480"/>
              <a:ext cx="506520" cy="123840"/>
            </a:xfrm>
            <a:prstGeom prst="ellips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05600" y="5389560"/>
              <a:ext cx="516960" cy="2937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07040" y="5345280"/>
              <a:ext cx="503640" cy="1173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043000" y="5740560"/>
            <a:ext cx="527040" cy="390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04920" y="5800680"/>
            <a:ext cx="376200" cy="27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35000" y="6176880"/>
            <a:ext cx="704880" cy="88920"/>
          </a:xfrm>
          <a:custGeom>
            <a:avLst/>
            <a:gdLst/>
            <a:ahLst/>
            <a:rect l="l" t="t" r="r" b="b"/>
            <a:pathLst>
              <a:path w="410" h="56">
                <a:moveTo>
                  <a:pt x="29" y="0"/>
                </a:moveTo>
                <a:lnTo>
                  <a:pt x="392" y="0"/>
                </a:lnTo>
                <a:lnTo>
                  <a:pt x="409" y="55"/>
                </a:lnTo>
                <a:lnTo>
                  <a:pt x="0" y="55"/>
                </a:lnTo>
                <a:lnTo>
                  <a:pt x="29" y="5"/>
                </a:lnTo>
                <a:lnTo>
                  <a:pt x="29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94040" y="6199200"/>
            <a:ext cx="585720" cy="28440"/>
          </a:xfrm>
          <a:custGeom>
            <a:avLst/>
            <a:gdLst/>
            <a:ahLst/>
            <a:rect l="l" t="t" r="r" b="b"/>
            <a:pathLst>
              <a:path w="341" h="18">
                <a:moveTo>
                  <a:pt x="17" y="0"/>
                </a:moveTo>
                <a:lnTo>
                  <a:pt x="333" y="0"/>
                </a:lnTo>
                <a:lnTo>
                  <a:pt x="340" y="17"/>
                </a:lnTo>
                <a:lnTo>
                  <a:pt x="0" y="17"/>
                </a:lnTo>
                <a:lnTo>
                  <a:pt x="14" y="2"/>
                </a:lnTo>
                <a:lnTo>
                  <a:pt x="17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8240" y="4678200"/>
            <a:ext cx="2008080" cy="1171800"/>
          </a:xfrm>
          <a:prstGeom prst="rect">
            <a:avLst/>
          </a:prstGeom>
          <a:solidFill>
            <a:srgbClr val="267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pri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ing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22680" y="5667480"/>
            <a:ext cx="2546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Business Plan,</a:t>
            </a:r>
            <a:br>
              <a:rPr sz="2000"/>
            </a:b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56080" y="3557520"/>
            <a:ext cx="3344760" cy="523800"/>
          </a:xfrm>
          <a:prstGeom prst="rect">
            <a:avLst/>
          </a:prstGeom>
          <a:solidFill>
            <a:srgbClr val="267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Database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44560" y="3230640"/>
            <a:ext cx="662040" cy="2270160"/>
          </a:xfrm>
          <a:custGeom>
            <a:avLst/>
            <a:gdLst/>
            <a:ahLst/>
            <a:rect l="l" t="t" r="r" b="b"/>
            <a:pathLst>
              <a:path w="385" h="1430">
                <a:moveTo>
                  <a:pt x="4" y="0"/>
                </a:moveTo>
                <a:lnTo>
                  <a:pt x="2" y="70"/>
                </a:lnTo>
                <a:lnTo>
                  <a:pt x="1" y="144"/>
                </a:lnTo>
                <a:lnTo>
                  <a:pt x="1" y="188"/>
                </a:lnTo>
                <a:lnTo>
                  <a:pt x="1" y="211"/>
                </a:lnTo>
                <a:lnTo>
                  <a:pt x="0" y="235"/>
                </a:lnTo>
                <a:lnTo>
                  <a:pt x="7" y="424"/>
                </a:lnTo>
                <a:lnTo>
                  <a:pt x="15" y="505"/>
                </a:lnTo>
                <a:lnTo>
                  <a:pt x="28" y="568"/>
                </a:lnTo>
                <a:lnTo>
                  <a:pt x="54" y="624"/>
                </a:lnTo>
                <a:lnTo>
                  <a:pt x="94" y="683"/>
                </a:lnTo>
                <a:lnTo>
                  <a:pt x="196" y="802"/>
                </a:lnTo>
                <a:lnTo>
                  <a:pt x="298" y="919"/>
                </a:lnTo>
                <a:lnTo>
                  <a:pt x="337" y="978"/>
                </a:lnTo>
                <a:lnTo>
                  <a:pt x="364" y="1036"/>
                </a:lnTo>
                <a:lnTo>
                  <a:pt x="379" y="1134"/>
                </a:lnTo>
                <a:lnTo>
                  <a:pt x="384" y="1265"/>
                </a:lnTo>
                <a:lnTo>
                  <a:pt x="384" y="1327"/>
                </a:lnTo>
                <a:lnTo>
                  <a:pt x="384" y="1354"/>
                </a:lnTo>
                <a:lnTo>
                  <a:pt x="384" y="1367"/>
                </a:lnTo>
                <a:lnTo>
                  <a:pt x="384" y="1379"/>
                </a:lnTo>
                <a:lnTo>
                  <a:pt x="382" y="1429"/>
                </a:lnTo>
              </a:path>
            </a:pathLst>
          </a:custGeom>
          <a:noFill/>
          <a:ln cap="rnd" w="7632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16080" y="4227480"/>
            <a:ext cx="2422800" cy="1122480"/>
          </a:xfrm>
          <a:custGeom>
            <a:avLst/>
            <a:gdLst/>
            <a:ahLst/>
            <a:rect l="l" t="t" r="r" b="b"/>
            <a:pathLst>
              <a:path w="1408" h="707">
                <a:moveTo>
                  <a:pt x="0" y="0"/>
                </a:moveTo>
                <a:lnTo>
                  <a:pt x="194" y="61"/>
                </a:lnTo>
                <a:lnTo>
                  <a:pt x="347" y="118"/>
                </a:lnTo>
                <a:lnTo>
                  <a:pt x="413" y="147"/>
                </a:lnTo>
                <a:lnTo>
                  <a:pt x="462" y="175"/>
                </a:lnTo>
                <a:lnTo>
                  <a:pt x="504" y="211"/>
                </a:lnTo>
                <a:lnTo>
                  <a:pt x="546" y="260"/>
                </a:lnTo>
                <a:lnTo>
                  <a:pt x="633" y="378"/>
                </a:lnTo>
                <a:lnTo>
                  <a:pt x="720" y="495"/>
                </a:lnTo>
                <a:lnTo>
                  <a:pt x="763" y="542"/>
                </a:lnTo>
                <a:lnTo>
                  <a:pt x="808" y="577"/>
                </a:lnTo>
                <a:lnTo>
                  <a:pt x="870" y="603"/>
                </a:lnTo>
                <a:lnTo>
                  <a:pt x="956" y="627"/>
                </a:lnTo>
                <a:lnTo>
                  <a:pt x="1155" y="669"/>
                </a:lnTo>
                <a:lnTo>
                  <a:pt x="1407" y="706"/>
                </a:lnTo>
              </a:path>
            </a:pathLst>
          </a:custGeom>
          <a:noFill/>
          <a:ln cap="rnd" w="7632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3520" y="4173480"/>
            <a:ext cx="201600" cy="184320"/>
          </a:xfrm>
          <a:custGeom>
            <a:avLst/>
            <a:gdLst/>
            <a:ahLst/>
            <a:rect l="l" t="t" r="r" b="b"/>
            <a:pathLst>
              <a:path w="117" h="116">
                <a:moveTo>
                  <a:pt x="97" y="115"/>
                </a:moveTo>
                <a:lnTo>
                  <a:pt x="87" y="114"/>
                </a:lnTo>
                <a:lnTo>
                  <a:pt x="0" y="38"/>
                </a:lnTo>
                <a:lnTo>
                  <a:pt x="116" y="0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1240" y="3808440"/>
            <a:ext cx="204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472b"/>
                </a:solidFill>
                <a:latin typeface="Arial"/>
              </a:rPr>
              <a:t>Requirement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77040" y="5388120"/>
            <a:ext cx="0" cy="18396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992920" y="4853160"/>
            <a:ext cx="705960" cy="525240"/>
            <a:chOff x="5992920" y="4853160"/>
            <a:chExt cx="705960" cy="525240"/>
          </a:xfrm>
        </p:grpSpPr>
        <p:sp>
          <p:nvSpPr>
            <p:cNvPr id="401" name=""/>
            <p:cNvSpPr/>
            <p:nvPr/>
          </p:nvSpPr>
          <p:spPr>
            <a:xfrm>
              <a:off x="6084000" y="4853160"/>
              <a:ext cx="526680" cy="390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63200" y="4913280"/>
              <a:ext cx="377280" cy="271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92920" y="5289480"/>
              <a:ext cx="705960" cy="88920"/>
            </a:xfrm>
            <a:custGeom>
              <a:avLst/>
              <a:gdLst/>
              <a:ahLst/>
              <a:rect l="l" t="t" r="r" b="b"/>
              <a:pathLst>
                <a:path w="410" h="56">
                  <a:moveTo>
                    <a:pt x="29" y="0"/>
                  </a:moveTo>
                  <a:lnTo>
                    <a:pt x="392" y="0"/>
                  </a:lnTo>
                  <a:lnTo>
                    <a:pt x="409" y="55"/>
                  </a:lnTo>
                  <a:lnTo>
                    <a:pt x="0" y="55"/>
                  </a:lnTo>
                  <a:lnTo>
                    <a:pt x="29" y="5"/>
                  </a:lnTo>
                  <a:lnTo>
                    <a:pt x="29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51240" y="5311800"/>
              <a:ext cx="587520" cy="30240"/>
            </a:xfrm>
            <a:custGeom>
              <a:avLst/>
              <a:gdLst/>
              <a:ahLst/>
              <a:rect l="l" t="t" r="r" b="b"/>
              <a:pathLst>
                <a:path w="341" h="19">
                  <a:moveTo>
                    <a:pt x="16" y="0"/>
                  </a:moveTo>
                  <a:lnTo>
                    <a:pt x="333" y="0"/>
                  </a:lnTo>
                  <a:lnTo>
                    <a:pt x="340" y="18"/>
                  </a:lnTo>
                  <a:lnTo>
                    <a:pt x="0" y="18"/>
                  </a:lnTo>
                  <a:lnTo>
                    <a:pt x="13" y="2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870600" y="5181480"/>
            <a:ext cx="2230560" cy="944640"/>
          </a:xfrm>
          <a:prstGeom prst="rect">
            <a:avLst/>
          </a:prstGeom>
          <a:solidFill>
            <a:srgbClr val="267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-wid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urement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53200" y="5237280"/>
            <a:ext cx="209520" cy="182520"/>
          </a:xfrm>
          <a:custGeom>
            <a:avLst/>
            <a:gdLst/>
            <a:ahLst/>
            <a:rect l="l" t="t" r="r" b="b"/>
            <a:pathLst>
              <a:path w="121" h="115">
                <a:moveTo>
                  <a:pt x="23" y="0"/>
                </a:moveTo>
                <a:lnTo>
                  <a:pt x="31" y="1"/>
                </a:lnTo>
                <a:lnTo>
                  <a:pt x="120" y="77"/>
                </a:lnTo>
                <a:lnTo>
                  <a:pt x="0" y="114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87480" y="2238480"/>
            <a:ext cx="650880" cy="156960"/>
          </a:xfrm>
          <a:prstGeom prst="ellipse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81360" y="1936800"/>
            <a:ext cx="660240" cy="37764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89280" y="1860480"/>
            <a:ext cx="647640" cy="1555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8520" y="3387600"/>
            <a:ext cx="6851520" cy="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839960" y="2827080"/>
            <a:ext cx="0" cy="5540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292560" y="2831760"/>
            <a:ext cx="0" cy="5540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362560" y="2836440"/>
            <a:ext cx="0" cy="5540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740640" y="2827080"/>
            <a:ext cx="0" cy="5540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8286840" y="2804760"/>
            <a:ext cx="0" cy="55404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96960" y="3394080"/>
            <a:ext cx="0" cy="720720"/>
          </a:xfrm>
          <a:prstGeom prst="line">
            <a:avLst/>
          </a:prstGeom>
          <a:ln w="507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30360" y="2155680"/>
            <a:ext cx="693720" cy="51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11360" y="2235240"/>
            <a:ext cx="498600" cy="35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87440" y="2728800"/>
            <a:ext cx="928800" cy="117720"/>
          </a:xfrm>
          <a:custGeom>
            <a:avLst/>
            <a:gdLst/>
            <a:ahLst/>
            <a:rect l="l" t="t" r="r" b="b"/>
            <a:pathLst>
              <a:path w="540" h="74">
                <a:moveTo>
                  <a:pt x="38" y="0"/>
                </a:moveTo>
                <a:lnTo>
                  <a:pt x="516" y="0"/>
                </a:lnTo>
                <a:lnTo>
                  <a:pt x="539" y="73"/>
                </a:lnTo>
                <a:lnTo>
                  <a:pt x="0" y="73"/>
                </a:lnTo>
                <a:lnTo>
                  <a:pt x="38" y="6"/>
                </a:lnTo>
                <a:lnTo>
                  <a:pt x="38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65200" y="2755800"/>
            <a:ext cx="771480" cy="42840"/>
          </a:xfrm>
          <a:custGeom>
            <a:avLst/>
            <a:gdLst/>
            <a:ahLst/>
            <a:rect l="l" t="t" r="r" b="b"/>
            <a:pathLst>
              <a:path w="449" h="27">
                <a:moveTo>
                  <a:pt x="22" y="0"/>
                </a:moveTo>
                <a:lnTo>
                  <a:pt x="439" y="0"/>
                </a:lnTo>
                <a:lnTo>
                  <a:pt x="448" y="26"/>
                </a:lnTo>
                <a:lnTo>
                  <a:pt x="0" y="26"/>
                </a:lnTo>
                <a:lnTo>
                  <a:pt x="18" y="4"/>
                </a:lnTo>
                <a:lnTo>
                  <a:pt x="22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8280" y="2171880"/>
            <a:ext cx="693720" cy="51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59280" y="2249640"/>
            <a:ext cx="496800" cy="35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2743200"/>
            <a:ext cx="928440" cy="115920"/>
          </a:xfrm>
          <a:custGeom>
            <a:avLst/>
            <a:gdLst/>
            <a:ahLst/>
            <a:rect l="l" t="t" r="r" b="b"/>
            <a:pathLst>
              <a:path w="540" h="73">
                <a:moveTo>
                  <a:pt x="39" y="0"/>
                </a:moveTo>
                <a:lnTo>
                  <a:pt x="515" y="0"/>
                </a:lnTo>
                <a:lnTo>
                  <a:pt x="539" y="72"/>
                </a:lnTo>
                <a:lnTo>
                  <a:pt x="0" y="72"/>
                </a:lnTo>
                <a:lnTo>
                  <a:pt x="39" y="6"/>
                </a:lnTo>
                <a:lnTo>
                  <a:pt x="39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13120" y="2770200"/>
            <a:ext cx="772920" cy="42840"/>
          </a:xfrm>
          <a:custGeom>
            <a:avLst/>
            <a:gdLst/>
            <a:ahLst/>
            <a:rect l="l" t="t" r="r" b="b"/>
            <a:pathLst>
              <a:path w="449" h="27">
                <a:moveTo>
                  <a:pt x="22" y="0"/>
                </a:moveTo>
                <a:lnTo>
                  <a:pt x="439" y="0"/>
                </a:lnTo>
                <a:lnTo>
                  <a:pt x="448" y="26"/>
                </a:lnTo>
                <a:lnTo>
                  <a:pt x="0" y="26"/>
                </a:lnTo>
                <a:lnTo>
                  <a:pt x="18" y="4"/>
                </a:lnTo>
                <a:lnTo>
                  <a:pt x="22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05440" y="2151000"/>
            <a:ext cx="690480" cy="51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84640" y="2230560"/>
            <a:ext cx="500040" cy="35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62520" y="2724120"/>
            <a:ext cx="927000" cy="117360"/>
          </a:xfrm>
          <a:custGeom>
            <a:avLst/>
            <a:gdLst/>
            <a:ahLst/>
            <a:rect l="l" t="t" r="r" b="b"/>
            <a:pathLst>
              <a:path w="539" h="74">
                <a:moveTo>
                  <a:pt x="38" y="0"/>
                </a:moveTo>
                <a:lnTo>
                  <a:pt x="515" y="0"/>
                </a:lnTo>
                <a:lnTo>
                  <a:pt x="538" y="73"/>
                </a:lnTo>
                <a:lnTo>
                  <a:pt x="0" y="73"/>
                </a:lnTo>
                <a:lnTo>
                  <a:pt x="38" y="6"/>
                </a:lnTo>
                <a:lnTo>
                  <a:pt x="38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37040" y="2751120"/>
            <a:ext cx="773280" cy="42840"/>
          </a:xfrm>
          <a:custGeom>
            <a:avLst/>
            <a:gdLst/>
            <a:ahLst/>
            <a:rect l="l" t="t" r="r" b="b"/>
            <a:pathLst>
              <a:path w="449" h="27">
                <a:moveTo>
                  <a:pt x="23" y="0"/>
                </a:moveTo>
                <a:lnTo>
                  <a:pt x="439" y="0"/>
                </a:lnTo>
                <a:lnTo>
                  <a:pt x="448" y="26"/>
                </a:lnTo>
                <a:lnTo>
                  <a:pt x="0" y="26"/>
                </a:lnTo>
                <a:lnTo>
                  <a:pt x="18" y="4"/>
                </a:lnTo>
                <a:lnTo>
                  <a:pt x="23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70480" y="2136600"/>
            <a:ext cx="695520" cy="51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53280" y="2214720"/>
            <a:ext cx="498240" cy="35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29360" y="2708280"/>
            <a:ext cx="927000" cy="117360"/>
          </a:xfrm>
          <a:custGeom>
            <a:avLst/>
            <a:gdLst/>
            <a:ahLst/>
            <a:rect l="l" t="t" r="r" b="b"/>
            <a:pathLst>
              <a:path w="539" h="74">
                <a:moveTo>
                  <a:pt x="38" y="0"/>
                </a:moveTo>
                <a:lnTo>
                  <a:pt x="515" y="0"/>
                </a:lnTo>
                <a:lnTo>
                  <a:pt x="538" y="73"/>
                </a:lnTo>
                <a:lnTo>
                  <a:pt x="0" y="73"/>
                </a:lnTo>
                <a:lnTo>
                  <a:pt x="38" y="6"/>
                </a:lnTo>
                <a:lnTo>
                  <a:pt x="38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05680" y="2735280"/>
            <a:ext cx="771480" cy="42840"/>
          </a:xfrm>
          <a:custGeom>
            <a:avLst/>
            <a:gdLst/>
            <a:ahLst/>
            <a:rect l="l" t="t" r="r" b="b"/>
            <a:pathLst>
              <a:path w="449" h="27">
                <a:moveTo>
                  <a:pt x="23" y="0"/>
                </a:moveTo>
                <a:lnTo>
                  <a:pt x="440" y="0"/>
                </a:lnTo>
                <a:lnTo>
                  <a:pt x="448" y="26"/>
                </a:lnTo>
                <a:lnTo>
                  <a:pt x="0" y="26"/>
                </a:lnTo>
                <a:lnTo>
                  <a:pt x="18" y="4"/>
                </a:lnTo>
                <a:lnTo>
                  <a:pt x="23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912080" y="2160720"/>
            <a:ext cx="693720" cy="51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93080" y="2238480"/>
            <a:ext cx="500040" cy="35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2400" y="2732040"/>
            <a:ext cx="923760" cy="117360"/>
          </a:xfrm>
          <a:custGeom>
            <a:avLst/>
            <a:gdLst/>
            <a:ahLst/>
            <a:rect l="l" t="t" r="r" b="b"/>
            <a:pathLst>
              <a:path w="538" h="74">
                <a:moveTo>
                  <a:pt x="38" y="0"/>
                </a:moveTo>
                <a:lnTo>
                  <a:pt x="514" y="0"/>
                </a:lnTo>
                <a:lnTo>
                  <a:pt x="537" y="73"/>
                </a:lnTo>
                <a:lnTo>
                  <a:pt x="0" y="73"/>
                </a:lnTo>
                <a:lnTo>
                  <a:pt x="38" y="6"/>
                </a:lnTo>
                <a:lnTo>
                  <a:pt x="38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46920" y="2760840"/>
            <a:ext cx="773280" cy="41040"/>
          </a:xfrm>
          <a:custGeom>
            <a:avLst/>
            <a:gdLst/>
            <a:ahLst/>
            <a:rect l="l" t="t" r="r" b="b"/>
            <a:pathLst>
              <a:path w="449" h="26">
                <a:moveTo>
                  <a:pt x="22" y="0"/>
                </a:moveTo>
                <a:lnTo>
                  <a:pt x="439" y="0"/>
                </a:lnTo>
                <a:lnTo>
                  <a:pt x="448" y="25"/>
                </a:lnTo>
                <a:lnTo>
                  <a:pt x="0" y="25"/>
                </a:lnTo>
                <a:lnTo>
                  <a:pt x="18" y="3"/>
                </a:lnTo>
                <a:lnTo>
                  <a:pt x="22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19960" y="1832040"/>
            <a:ext cx="1504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Products</a:t>
            </a:r>
            <a:br>
              <a:rPr sz="2400"/>
            </a:b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1520" y="1792440"/>
            <a:ext cx="101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9880" y="17254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Mfg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92120" y="1836720"/>
            <a:ext cx="1268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62440" y="223848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79480" y="1219320"/>
            <a:ext cx="3668760" cy="500040"/>
          </a:xfrm>
          <a:prstGeom prst="rect">
            <a:avLst/>
          </a:prstGeom>
          <a:solidFill>
            <a:srgbClr val="267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s Data Mgmt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3054240"/>
            <a:ext cx="209520" cy="17784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0" y="111"/>
                </a:moveTo>
                <a:lnTo>
                  <a:pt x="0" y="103"/>
                </a:lnTo>
                <a:lnTo>
                  <a:pt x="60" y="0"/>
                </a:lnTo>
                <a:lnTo>
                  <a:pt x="121" y="111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57320" y="2930400"/>
            <a:ext cx="1176480" cy="358920"/>
          </a:xfrm>
          <a:custGeom>
            <a:avLst/>
            <a:gdLst/>
            <a:ahLst/>
            <a:rect l="l" t="t" r="r" b="b"/>
            <a:pathLst>
              <a:path w="684" h="226">
                <a:moveTo>
                  <a:pt x="0" y="0"/>
                </a:moveTo>
                <a:lnTo>
                  <a:pt x="16" y="86"/>
                </a:lnTo>
                <a:lnTo>
                  <a:pt x="36" y="152"/>
                </a:lnTo>
                <a:lnTo>
                  <a:pt x="49" y="179"/>
                </a:lnTo>
                <a:lnTo>
                  <a:pt x="66" y="197"/>
                </a:lnTo>
                <a:lnTo>
                  <a:pt x="91" y="209"/>
                </a:lnTo>
                <a:lnTo>
                  <a:pt x="124" y="217"/>
                </a:lnTo>
                <a:lnTo>
                  <a:pt x="206" y="225"/>
                </a:lnTo>
                <a:lnTo>
                  <a:pt x="249" y="225"/>
                </a:lnTo>
                <a:lnTo>
                  <a:pt x="270" y="225"/>
                </a:lnTo>
                <a:lnTo>
                  <a:pt x="280" y="225"/>
                </a:lnTo>
                <a:lnTo>
                  <a:pt x="291" y="225"/>
                </a:lnTo>
                <a:lnTo>
                  <a:pt x="360" y="223"/>
                </a:lnTo>
                <a:lnTo>
                  <a:pt x="473" y="215"/>
                </a:lnTo>
                <a:lnTo>
                  <a:pt x="529" y="202"/>
                </a:lnTo>
                <a:lnTo>
                  <a:pt x="576" y="180"/>
                </a:lnTo>
                <a:lnTo>
                  <a:pt x="608" y="146"/>
                </a:lnTo>
                <a:lnTo>
                  <a:pt x="644" y="96"/>
                </a:lnTo>
                <a:lnTo>
                  <a:pt x="683" y="31"/>
                </a:lnTo>
              </a:path>
            </a:pathLst>
          </a:custGeom>
          <a:noFill/>
          <a:ln cap="rnd" w="7632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00240" y="2925720"/>
            <a:ext cx="198720" cy="200160"/>
          </a:xfrm>
          <a:custGeom>
            <a:avLst/>
            <a:gdLst/>
            <a:ahLst/>
            <a:rect l="l" t="t" r="r" b="b"/>
            <a:pathLst>
              <a:path w="115" h="126">
                <a:moveTo>
                  <a:pt x="0" y="53"/>
                </a:moveTo>
                <a:lnTo>
                  <a:pt x="5" y="46"/>
                </a:lnTo>
                <a:lnTo>
                  <a:pt x="114" y="0"/>
                </a:lnTo>
                <a:lnTo>
                  <a:pt x="95" y="125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1080" y="2917800"/>
            <a:ext cx="1760400" cy="376200"/>
          </a:xfrm>
          <a:custGeom>
            <a:avLst/>
            <a:gdLst/>
            <a:ahLst/>
            <a:rect l="l" t="t" r="r" b="b"/>
            <a:pathLst>
              <a:path w="1024" h="237">
                <a:moveTo>
                  <a:pt x="0" y="0"/>
                </a:moveTo>
                <a:lnTo>
                  <a:pt x="26" y="77"/>
                </a:lnTo>
                <a:lnTo>
                  <a:pt x="52" y="136"/>
                </a:lnTo>
                <a:lnTo>
                  <a:pt x="80" y="176"/>
                </a:lnTo>
                <a:lnTo>
                  <a:pt x="115" y="194"/>
                </a:lnTo>
                <a:lnTo>
                  <a:pt x="160" y="208"/>
                </a:lnTo>
                <a:lnTo>
                  <a:pt x="268" y="223"/>
                </a:lnTo>
                <a:lnTo>
                  <a:pt x="472" y="232"/>
                </a:lnTo>
                <a:lnTo>
                  <a:pt x="563" y="236"/>
                </a:lnTo>
                <a:lnTo>
                  <a:pt x="616" y="236"/>
                </a:lnTo>
                <a:lnTo>
                  <a:pt x="644" y="236"/>
                </a:lnTo>
                <a:lnTo>
                  <a:pt x="658" y="236"/>
                </a:lnTo>
                <a:lnTo>
                  <a:pt x="672" y="236"/>
                </a:lnTo>
                <a:lnTo>
                  <a:pt x="778" y="226"/>
                </a:lnTo>
                <a:lnTo>
                  <a:pt x="863" y="200"/>
                </a:lnTo>
                <a:lnTo>
                  <a:pt x="912" y="160"/>
                </a:lnTo>
                <a:lnTo>
                  <a:pt x="964" y="101"/>
                </a:lnTo>
                <a:lnTo>
                  <a:pt x="1023" y="24"/>
                </a:lnTo>
              </a:path>
            </a:pathLst>
          </a:custGeom>
          <a:noFill/>
          <a:ln cap="rnd" w="7632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41800" y="2894040"/>
            <a:ext cx="198360" cy="200160"/>
          </a:xfrm>
          <a:custGeom>
            <a:avLst/>
            <a:gdLst/>
            <a:ahLst/>
            <a:rect l="l" t="t" r="r" b="b"/>
            <a:pathLst>
              <a:path w="115" h="126">
                <a:moveTo>
                  <a:pt x="0" y="53"/>
                </a:moveTo>
                <a:lnTo>
                  <a:pt x="5" y="46"/>
                </a:lnTo>
                <a:lnTo>
                  <a:pt x="114" y="0"/>
                </a:lnTo>
                <a:lnTo>
                  <a:pt x="96" y="125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54720" y="2917800"/>
            <a:ext cx="1197000" cy="331920"/>
          </a:xfrm>
          <a:custGeom>
            <a:avLst/>
            <a:gdLst/>
            <a:ahLst/>
            <a:rect l="l" t="t" r="r" b="b"/>
            <a:pathLst>
              <a:path w="696" h="209">
                <a:moveTo>
                  <a:pt x="0" y="8"/>
                </a:moveTo>
                <a:lnTo>
                  <a:pt x="31" y="55"/>
                </a:lnTo>
                <a:lnTo>
                  <a:pt x="68" y="96"/>
                </a:lnTo>
                <a:lnTo>
                  <a:pt x="108" y="130"/>
                </a:lnTo>
                <a:lnTo>
                  <a:pt x="153" y="159"/>
                </a:lnTo>
                <a:lnTo>
                  <a:pt x="199" y="181"/>
                </a:lnTo>
                <a:lnTo>
                  <a:pt x="248" y="196"/>
                </a:lnTo>
                <a:lnTo>
                  <a:pt x="298" y="206"/>
                </a:lnTo>
                <a:lnTo>
                  <a:pt x="323" y="208"/>
                </a:lnTo>
                <a:lnTo>
                  <a:pt x="350" y="208"/>
                </a:lnTo>
                <a:lnTo>
                  <a:pt x="450" y="195"/>
                </a:lnTo>
                <a:lnTo>
                  <a:pt x="545" y="155"/>
                </a:lnTo>
                <a:lnTo>
                  <a:pt x="589" y="126"/>
                </a:lnTo>
                <a:lnTo>
                  <a:pt x="629" y="90"/>
                </a:lnTo>
                <a:lnTo>
                  <a:pt x="665" y="49"/>
                </a:lnTo>
                <a:lnTo>
                  <a:pt x="695" y="0"/>
                </a:lnTo>
              </a:path>
            </a:pathLst>
          </a:custGeom>
          <a:noFill/>
          <a:ln cap="rnd" w="7632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96200" y="2889360"/>
            <a:ext cx="196560" cy="199800"/>
          </a:xfrm>
          <a:custGeom>
            <a:avLst/>
            <a:gdLst/>
            <a:ahLst/>
            <a:rect l="l" t="t" r="r" b="b"/>
            <a:pathLst>
              <a:path w="115" h="126">
                <a:moveTo>
                  <a:pt x="0" y="53"/>
                </a:moveTo>
                <a:lnTo>
                  <a:pt x="6" y="46"/>
                </a:lnTo>
                <a:lnTo>
                  <a:pt x="114" y="0"/>
                </a:lnTo>
                <a:lnTo>
                  <a:pt x="96" y="125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85000" y="2917800"/>
            <a:ext cx="1266840" cy="382680"/>
          </a:xfrm>
          <a:custGeom>
            <a:avLst/>
            <a:gdLst/>
            <a:ahLst/>
            <a:rect l="l" t="t" r="r" b="b"/>
            <a:pathLst>
              <a:path w="737" h="241">
                <a:moveTo>
                  <a:pt x="0" y="0"/>
                </a:moveTo>
                <a:lnTo>
                  <a:pt x="30" y="56"/>
                </a:lnTo>
                <a:lnTo>
                  <a:pt x="66" y="105"/>
                </a:lnTo>
                <a:lnTo>
                  <a:pt x="108" y="146"/>
                </a:lnTo>
                <a:lnTo>
                  <a:pt x="154" y="180"/>
                </a:lnTo>
                <a:lnTo>
                  <a:pt x="204" y="206"/>
                </a:lnTo>
                <a:lnTo>
                  <a:pt x="257" y="224"/>
                </a:lnTo>
                <a:lnTo>
                  <a:pt x="312" y="236"/>
                </a:lnTo>
                <a:lnTo>
                  <a:pt x="368" y="240"/>
                </a:lnTo>
                <a:lnTo>
                  <a:pt x="478" y="225"/>
                </a:lnTo>
                <a:lnTo>
                  <a:pt x="530" y="207"/>
                </a:lnTo>
                <a:lnTo>
                  <a:pt x="581" y="180"/>
                </a:lnTo>
                <a:lnTo>
                  <a:pt x="628" y="147"/>
                </a:lnTo>
                <a:lnTo>
                  <a:pt x="670" y="106"/>
                </a:lnTo>
                <a:lnTo>
                  <a:pt x="706" y="57"/>
                </a:lnTo>
                <a:lnTo>
                  <a:pt x="736" y="0"/>
                </a:lnTo>
              </a:path>
            </a:pathLst>
          </a:custGeom>
          <a:noFill/>
          <a:ln cap="rnd" w="7632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91640" y="2911320"/>
            <a:ext cx="198360" cy="200160"/>
          </a:xfrm>
          <a:custGeom>
            <a:avLst/>
            <a:gdLst/>
            <a:ahLst/>
            <a:rect l="l" t="t" r="r" b="b"/>
            <a:pathLst>
              <a:path w="115" h="126">
                <a:moveTo>
                  <a:pt x="0" y="54"/>
                </a:moveTo>
                <a:lnTo>
                  <a:pt x="6" y="47"/>
                </a:lnTo>
                <a:lnTo>
                  <a:pt x="114" y="0"/>
                </a:lnTo>
                <a:lnTo>
                  <a:pt x="96" y="125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80000" y="2143080"/>
            <a:ext cx="1153800" cy="155520"/>
          </a:xfrm>
          <a:custGeom>
            <a:avLst/>
            <a:gdLst/>
            <a:ahLst/>
            <a:rect l="l" t="t" r="r" b="b"/>
            <a:pathLst>
              <a:path w="671" h="98">
                <a:moveTo>
                  <a:pt x="670" y="97"/>
                </a:moveTo>
                <a:lnTo>
                  <a:pt x="592" y="56"/>
                </a:lnTo>
                <a:lnTo>
                  <a:pt x="509" y="26"/>
                </a:lnTo>
                <a:lnTo>
                  <a:pt x="424" y="8"/>
                </a:lnTo>
                <a:lnTo>
                  <a:pt x="337" y="0"/>
                </a:lnTo>
                <a:lnTo>
                  <a:pt x="315" y="0"/>
                </a:lnTo>
                <a:lnTo>
                  <a:pt x="293" y="1"/>
                </a:lnTo>
                <a:lnTo>
                  <a:pt x="250" y="4"/>
                </a:lnTo>
                <a:lnTo>
                  <a:pt x="164" y="21"/>
                </a:lnTo>
                <a:lnTo>
                  <a:pt x="81" y="49"/>
                </a:lnTo>
                <a:lnTo>
                  <a:pt x="0" y="89"/>
                </a:lnTo>
              </a:path>
            </a:pathLst>
          </a:custGeom>
          <a:noFill/>
          <a:ln cap="rnd" w="7632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22760" y="2166840"/>
            <a:ext cx="216000" cy="181080"/>
          </a:xfrm>
          <a:custGeom>
            <a:avLst/>
            <a:gdLst/>
            <a:ahLst/>
            <a:rect l="l" t="t" r="r" b="b"/>
            <a:pathLst>
              <a:path w="125" h="114">
                <a:moveTo>
                  <a:pt x="124" y="109"/>
                </a:moveTo>
                <a:lnTo>
                  <a:pt x="114" y="113"/>
                </a:lnTo>
                <a:lnTo>
                  <a:pt x="0" y="92"/>
                </a:lnTo>
                <a:lnTo>
                  <a:pt x="81" y="0"/>
                </a:lnTo>
              </a:path>
            </a:pathLst>
          </a:custGeom>
          <a:noFill/>
          <a:ln cap="rnd" w="50760">
            <a:solidFill>
              <a:srgbClr val="ff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39680" y="29242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16680" y="2933640"/>
            <a:ext cx="126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01520" y="2898720"/>
            <a:ext cx="14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472b"/>
                </a:solidFill>
                <a:latin typeface="Arial"/>
              </a:rPr>
              <a:t>Enhance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14560" y="2932200"/>
            <a:ext cx="11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pec.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57120" y="1825560"/>
            <a:ext cx="1199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Parts</a:t>
            </a:r>
            <a:br>
              <a:rPr sz="2400"/>
            </a:b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92840" y="4697280"/>
            <a:ext cx="261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Procurement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6400" y="350352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472b"/>
                </a:solidFill>
                <a:latin typeface="Arial"/>
              </a:rPr>
              <a:t>Ordering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14200" y="4753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9600" y="5943600"/>
            <a:ext cx="22082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SGML,PDF,</a:t>
            </a:r>
            <a:br>
              <a:rPr sz="2000"/>
            </a:b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EDIF,STEP,</a:t>
            </a:r>
            <a:br>
              <a:rPr sz="2000"/>
            </a:b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IETM,.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34040" y="5905440"/>
            <a:ext cx="396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EDIFACT,ANSI,CII,.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47680" y="1523880"/>
            <a:ext cx="9410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1f190f"/>
                </a:solidFill>
                <a:latin typeface="Century"/>
              </a:rPr>
              <a:t>   </a:t>
            </a:r>
            <a:r>
              <a:rPr b="1" lang="ja-JP" sz="3200" spc="-1" strike="noStrike">
                <a:solidFill>
                  <a:srgbClr val="1f190f"/>
                </a:solidFill>
                <a:latin typeface="Century"/>
              </a:rPr>
              <a:t>World-wide Collaborative Working with International Standardization Committees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1400" y="415800"/>
            <a:ext cx="508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CALS is Standardizing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47880" y="2819520"/>
            <a:ext cx="7967520" cy="2058840"/>
          </a:xfrm>
          <a:custGeom>
            <a:avLst/>
            <a:gdLst/>
            <a:ahLst/>
            <a:rect l="l" t="t" r="r" b="b"/>
            <a:pathLst>
              <a:path w="4633" h="1297">
                <a:moveTo>
                  <a:pt x="0" y="0"/>
                </a:moveTo>
                <a:lnTo>
                  <a:pt x="1347" y="312"/>
                </a:lnTo>
                <a:lnTo>
                  <a:pt x="1713" y="499"/>
                </a:lnTo>
                <a:lnTo>
                  <a:pt x="2220" y="822"/>
                </a:lnTo>
                <a:lnTo>
                  <a:pt x="2501" y="1065"/>
                </a:lnTo>
                <a:lnTo>
                  <a:pt x="2068" y="1090"/>
                </a:lnTo>
                <a:lnTo>
                  <a:pt x="3189" y="1296"/>
                </a:lnTo>
                <a:lnTo>
                  <a:pt x="3880" y="1065"/>
                </a:lnTo>
                <a:lnTo>
                  <a:pt x="3500" y="1053"/>
                </a:lnTo>
                <a:lnTo>
                  <a:pt x="3738" y="670"/>
                </a:lnTo>
                <a:lnTo>
                  <a:pt x="3967" y="467"/>
                </a:lnTo>
                <a:lnTo>
                  <a:pt x="4632" y="4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8db7e"/>
              </a:gs>
              <a:gs pos="100000">
                <a:srgbClr val="b3b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74800" y="4743360"/>
            <a:ext cx="685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1f190f"/>
                </a:solidFill>
                <a:latin typeface="Century"/>
              </a:rPr>
              <a:t>   </a:t>
            </a:r>
            <a:r>
              <a:rPr b="1" lang="ja-JP" sz="3200" spc="-1" strike="noStrike">
                <a:solidFill>
                  <a:srgbClr val="1f190f"/>
                </a:solidFill>
                <a:latin typeface="Century"/>
              </a:rPr>
              <a:t>Business Process change to</a:t>
            </a:r>
            <a:br>
              <a:rPr sz="3200"/>
            </a:br>
            <a:r>
              <a:rPr b="1" lang="ja-JP" sz="3200" spc="-1" strike="noStrike">
                <a:solidFill>
                  <a:srgbClr val="1f190f"/>
                </a:solidFill>
                <a:latin typeface="Century"/>
              </a:rPr>
              <a:t>realize our Target based on</a:t>
            </a:r>
            <a:br>
              <a:rPr sz="3200"/>
            </a:br>
            <a:r>
              <a:rPr b="1" lang="ja-JP" sz="3200" spc="-1" strike="noStrike">
                <a:solidFill>
                  <a:srgbClr val="1f190f"/>
                </a:solidFill>
                <a:latin typeface="Century"/>
              </a:rPr>
              <a:t>the International Standards !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27000" y="743040"/>
            <a:ext cx="808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7472b"/>
                </a:solidFill>
                <a:uFillTx/>
                <a:latin typeface="Century"/>
              </a:rPr>
              <a:t>Contents</a:t>
            </a:r>
            <a:endParaRPr b="0" lang="en-US" sz="4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20840" y="4419720"/>
            <a:ext cx="7594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71720" y="1585800"/>
            <a:ext cx="7677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99"/>
                </a:solidFill>
                <a:latin typeface="Century"/>
              </a:rPr>
              <a:t>1. Introduction of ECALS-2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2. Status of Consumer Electronics Design</a:t>
            </a:r>
            <a:r>
              <a:rPr b="1" lang="ja-JP" sz="2400" spc="-1" strike="noStrike">
                <a:solidFill>
                  <a:srgbClr val="57472b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 Discussion meeting between Users and  Provide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Non-IC EMC/EMI  models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1 Passive Component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2 Connecto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3 Discrete Semiconductor Device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4. Conclusio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979640" y="2630520"/>
            <a:ext cx="1965240" cy="8460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892160" y="2155680"/>
            <a:ext cx="6224760" cy="3924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29160" y="2268360"/>
            <a:ext cx="716040" cy="522360"/>
          </a:xfrm>
          <a:prstGeom prst="rect">
            <a:avLst/>
          </a:prstGeom>
          <a:solidFill>
            <a:srgbClr val="66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30600" y="23716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Light</a:t>
            </a:r>
            <a:endParaRPr b="0" lang="en-US" sz="19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6160" y="4002120"/>
            <a:ext cx="716040" cy="522360"/>
          </a:xfrm>
          <a:prstGeom prst="rect">
            <a:avLst/>
          </a:prstGeom>
          <a:solidFill>
            <a:srgbClr val="66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00880" y="4043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Thin</a:t>
            </a:r>
            <a:endParaRPr b="0" lang="en-US" sz="19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33800" y="5586480"/>
            <a:ext cx="227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75160" y="5456160"/>
            <a:ext cx="1249200" cy="523800"/>
          </a:xfrm>
          <a:prstGeom prst="rect">
            <a:avLst/>
          </a:prstGeom>
          <a:solidFill>
            <a:srgbClr val="66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27280" y="556416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Networking</a:t>
            </a:r>
            <a:endParaRPr b="0" lang="en-US" sz="17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61200" y="4076640"/>
            <a:ext cx="2286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83280" y="3890880"/>
            <a:ext cx="1035360" cy="522360"/>
          </a:xfrm>
          <a:prstGeom prst="rect">
            <a:avLst/>
          </a:prstGeom>
          <a:solidFill>
            <a:srgbClr val="66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65280" y="3979800"/>
            <a:ext cx="11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fficient</a:t>
            </a:r>
            <a:endParaRPr b="0" lang="en-US" sz="1700" spc="-1" strike="noStrike">
              <a:solidFill>
                <a:srgbClr val="57472b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330280" y="4727520"/>
            <a:ext cx="879480" cy="544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6891480" y="249084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6837480" y="4618080"/>
            <a:ext cx="1023840" cy="10429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3373560" y="4727520"/>
            <a:ext cx="807840" cy="8208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265560" y="2714760"/>
            <a:ext cx="787320" cy="8031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7"/>
          <a:stretch/>
        </p:blipFill>
        <p:spPr>
          <a:xfrm>
            <a:off x="4583160" y="4505400"/>
            <a:ext cx="934920" cy="6840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8"/>
          <a:stretch/>
        </p:blipFill>
        <p:spPr>
          <a:xfrm>
            <a:off x="3276720" y="3778200"/>
            <a:ext cx="1089000" cy="7873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9"/>
          <a:stretch/>
        </p:blipFill>
        <p:spPr>
          <a:xfrm>
            <a:off x="4761000" y="2882880"/>
            <a:ext cx="914400" cy="9320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274840" y="5251320"/>
            <a:ext cx="84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43960" y="5302080"/>
            <a:ext cx="44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Battery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5530680"/>
            <a:ext cx="904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39720" y="5581800"/>
            <a:ext cx="106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igital Camera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81440" y="5140440"/>
            <a:ext cx="684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13040" y="519264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ernet FAX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16800" y="5624640"/>
            <a:ext cx="13968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85560" y="5675400"/>
            <a:ext cx="74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Refrigerator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00920" y="3441600"/>
            <a:ext cx="793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69680" y="3494160"/>
            <a:ext cx="111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Washing Machine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03840" y="3797280"/>
            <a:ext cx="682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21040" y="384984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ortable DVD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73560" y="3554280"/>
            <a:ext cx="630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40160" y="36050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Portable MD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20840" y="3441600"/>
            <a:ext cx="903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7440" y="349416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DTV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98880" y="4505400"/>
            <a:ext cx="1325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64760" y="4549680"/>
            <a:ext cx="52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Note PC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5400" y="45496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et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1160" y="45464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’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9720" y="454968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 Note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84360" y="4549680"/>
            <a:ext cx="5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」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0"/>
          <a:stretch/>
        </p:blipFill>
        <p:spPr>
          <a:xfrm>
            <a:off x="4481640" y="3274920"/>
            <a:ext cx="190440" cy="6876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4286160" y="394668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20720" y="399744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obil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1"/>
          <a:stretch/>
        </p:blipFill>
        <p:spPr>
          <a:xfrm>
            <a:off x="5958000" y="4281480"/>
            <a:ext cx="823680" cy="6094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2"/>
          <a:stretch/>
        </p:blipFill>
        <p:spPr>
          <a:xfrm>
            <a:off x="5792760" y="3106800"/>
            <a:ext cx="1081080" cy="8888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627520" y="3946680"/>
            <a:ext cx="1398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09320" y="39974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Air Conditioner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67440" y="4840200"/>
            <a:ext cx="628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34040" y="4890960"/>
            <a:ext cx="37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472b"/>
                </a:solidFill>
                <a:latin typeface="Times New Roman"/>
                <a:ea typeface="ＭＳ ゴシック"/>
              </a:rPr>
              <a:t>Video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46160" y="2379600"/>
            <a:ext cx="2583000" cy="352440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73560" y="2211480"/>
            <a:ext cx="2751120" cy="20145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21000" y="3720960"/>
            <a:ext cx="2803680" cy="229572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83320" y="2211480"/>
            <a:ext cx="2363760" cy="37479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90680" y="1312920"/>
            <a:ext cx="728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1f190f"/>
                </a:solidFill>
                <a:latin typeface="Times New Roman"/>
              </a:rPr>
              <a:t>Panasonic Concept:</a:t>
            </a:r>
            <a:r>
              <a:rPr b="0" lang="en-US" sz="2000" spc="-1" strike="noStrike">
                <a:solidFill>
                  <a:srgbClr val="1f190f"/>
                </a:solidFill>
                <a:latin typeface="Times New Roman"/>
              </a:rPr>
              <a:t>     </a:t>
            </a:r>
            <a:r>
              <a:rPr b="1" i="1" lang="en-US" sz="1900" spc="-1" strike="noStrike">
                <a:solidFill>
                  <a:srgbClr val="1f190f"/>
                </a:solidFill>
                <a:latin typeface="Times New Roman"/>
                <a:ea typeface="ＭＳ 明朝"/>
              </a:rPr>
              <a:t>4  keywords for 21 Century…</a:t>
            </a:r>
            <a:endParaRPr b="0" lang="en-US" sz="19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>
                <a:solidFill>
                  <a:srgbClr val="1f190f"/>
                </a:solidFill>
                <a:latin typeface="Times New Roman"/>
                <a:ea typeface="ＭＳ 明朝"/>
              </a:rPr>
              <a:t>    </a:t>
            </a:r>
            <a:r>
              <a:rPr b="1" i="1" lang="en-US" sz="1900" spc="-1" strike="noStrike">
                <a:solidFill>
                  <a:srgbClr val="1f190f"/>
                </a:solidFill>
                <a:latin typeface="Times New Roman"/>
                <a:ea typeface="ＭＳ 明朝"/>
              </a:rPr>
              <a:t>Ultra</a:t>
            </a:r>
            <a:r>
              <a:rPr b="1" i="1" lang="zh-CN" sz="1900" spc="-1" strike="noStrike">
                <a:solidFill>
                  <a:srgbClr val="1f190f"/>
                </a:solidFill>
                <a:latin typeface="Times New Roman"/>
                <a:ea typeface="ＭＳ 明朝"/>
              </a:rPr>
              <a:t>「 </a:t>
            </a:r>
            <a:r>
              <a:rPr b="1" i="1" lang="en-US" sz="2100" spc="-1" strike="noStrike">
                <a:solidFill>
                  <a:srgbClr val="1f190f"/>
                </a:solidFill>
                <a:latin typeface="Times New Roman"/>
                <a:ea typeface="ＭＳ 明朝"/>
              </a:rPr>
              <a:t>Light ,Thin ,Networking ,Efficient </a:t>
            </a:r>
            <a:r>
              <a:rPr b="1" i="1" lang="zh-CN" sz="1900" spc="-1" strike="noStrike">
                <a:solidFill>
                  <a:srgbClr val="1f190f"/>
                </a:solidFill>
                <a:latin typeface="Times New Roman"/>
                <a:ea typeface="ＭＳ 明朝"/>
              </a:rPr>
              <a:t>」</a:t>
            </a:r>
            <a:r>
              <a:rPr b="1" i="1" lang="en-US" sz="1900" spc="-1" strike="noStrike">
                <a:solidFill>
                  <a:srgbClr val="1f190f"/>
                </a:solidFill>
                <a:latin typeface="Times New Roman"/>
                <a:ea typeface="ＭＳ 明朝"/>
              </a:rPr>
              <a:t>Product</a:t>
            </a:r>
            <a:endParaRPr b="0" lang="en-US" sz="19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77640" y="590400"/>
            <a:ext cx="73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190f"/>
                </a:solidFill>
                <a:uFillTx/>
                <a:latin typeface="Century"/>
              </a:rPr>
              <a:t>Continuously New Product Development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8040" y="11880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entury"/>
              </a:rPr>
              <a:t>Background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00280" y="1694160"/>
            <a:ext cx="6269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90f"/>
                </a:solidFill>
                <a:latin typeface="Century"/>
              </a:rPr>
              <a:t>・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Rapid Digitalization : Consumer Electronics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                 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PC ---&gt; </a:t>
            </a:r>
            <a:r>
              <a:rPr b="1" lang="en-US" sz="1800" spc="-1" strike="noStrike">
                <a:solidFill>
                  <a:srgbClr val="1f190f"/>
                </a:solidFill>
                <a:latin typeface="Century"/>
              </a:rPr>
              <a:t>VIDEO ,AUDIO ,DTV, Mobile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 etc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90f"/>
                </a:solidFill>
                <a:latin typeface="Century"/>
              </a:rPr>
              <a:t>・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Speed  : Time to Market In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               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Shorten Design lead time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90f"/>
                </a:solidFill>
                <a:latin typeface="Century"/>
              </a:rPr>
              <a:t>・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Increase High speed and high density PCB  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                 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Build up , MCM, CSP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1657440"/>
            <a:ext cx="6419880" cy="2057400"/>
          </a:xfrm>
          <a:prstGeom prst="rect">
            <a:avLst/>
          </a:prstGeom>
          <a:noFill/>
          <a:ln w="1260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62080" y="4552920"/>
            <a:ext cx="7315200" cy="1657440"/>
          </a:xfrm>
          <a:prstGeom prst="rect">
            <a:avLst/>
          </a:prstGeom>
          <a:noFill/>
          <a:ln w="1260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38320" y="4628520"/>
            <a:ext cx="73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90f"/>
                </a:solidFill>
                <a:latin typeface="Century"/>
              </a:rPr>
              <a:t>・ 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Shorten Design lead time     </a:t>
            </a:r>
            <a:r>
              <a:rPr b="1" lang="zh-CN" sz="2400" spc="-1" strike="noStrike">
                <a:solidFill>
                  <a:srgbClr val="1f190f"/>
                </a:solidFill>
                <a:latin typeface="Century"/>
              </a:rPr>
              <a:t>（ 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1/2 </a:t>
            </a:r>
            <a:r>
              <a:rPr b="1" lang="zh-CN" sz="2400" spc="-1" strike="noStrike">
                <a:solidFill>
                  <a:srgbClr val="1f190f"/>
                </a:solidFill>
                <a:latin typeface="Century"/>
              </a:rPr>
              <a:t>）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90f"/>
                </a:solidFill>
                <a:latin typeface="Century"/>
              </a:rPr>
              <a:t>・ 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Design Process Innovation 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    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Concurrent Engineering  using Simulatio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43440" y="3790800"/>
            <a:ext cx="1638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feb9"/>
          </a:solidFill>
          <a:ln w="1260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3120" y="41407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entury"/>
              </a:rPr>
              <a:t>Challenge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25560" y="51012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f190f"/>
                </a:solidFill>
                <a:uFillTx/>
                <a:latin typeface="Century"/>
              </a:rPr>
              <a:t>Status of Consumer Electronics Design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638680" y="1204920"/>
            <a:ext cx="1447920" cy="457200"/>
          </a:xfrm>
          <a:prstGeom prst="horizontalScroll">
            <a:avLst>
              <a:gd name="adj" fmla="val 12500"/>
            </a:avLst>
          </a:prstGeom>
          <a:solidFill>
            <a:srgbClr val="eeeeee"/>
          </a:solidFill>
          <a:ln w="1260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1190520"/>
            <a:ext cx="1447920" cy="457200"/>
          </a:xfrm>
          <a:prstGeom prst="horizontalScroll">
            <a:avLst>
              <a:gd name="adj" fmla="val 12500"/>
            </a:avLst>
          </a:prstGeom>
          <a:solidFill>
            <a:srgbClr val="eeeeee"/>
          </a:solidFill>
          <a:ln w="1260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23400" y="1660680"/>
            <a:ext cx="1150920" cy="1104840"/>
          </a:xfrm>
          <a:prstGeom prst="rect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67720" y="3697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Innovate  PCB Design Proces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24400" y="1658880"/>
            <a:ext cx="2117880" cy="35712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61120" y="173664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Circuit ,Function Design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9600" y="486900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90f"/>
                </a:solidFill>
                <a:latin typeface="Times New Roman"/>
              </a:rPr>
              <a:t>Produc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9360" y="3935520"/>
            <a:ext cx="2253960" cy="583920"/>
          </a:xfrm>
          <a:prstGeom prst="diamond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03760" y="39402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EMC Measurement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65800" y="4844880"/>
            <a:ext cx="2117520" cy="35748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91440" y="2027160"/>
            <a:ext cx="0" cy="41292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91440" y="3610080"/>
            <a:ext cx="0" cy="32544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78480" y="4519440"/>
            <a:ext cx="0" cy="32544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426440" y="4238640"/>
            <a:ext cx="436320" cy="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15000" y="40021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Times New Roman"/>
              </a:rPr>
              <a:t>NG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87920" y="454644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93240" y="251316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Board Layout Design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59760" y="3287880"/>
            <a:ext cx="17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Mounting or assembly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08560" y="2451240"/>
            <a:ext cx="2117880" cy="35712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08560" y="3252960"/>
            <a:ext cx="2117880" cy="35712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91440" y="2817720"/>
            <a:ext cx="0" cy="45576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72320" y="1609560"/>
            <a:ext cx="208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Times New Roman"/>
              </a:rPr>
              <a:t>Simulation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1f190f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1f190f"/>
                </a:solidFill>
                <a:latin typeface="Times New Roman"/>
              </a:rPr>
              <a:t>Rule base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Times New Roman"/>
              </a:rPr>
              <a:t>Verification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37600" y="1863720"/>
            <a:ext cx="699840" cy="0"/>
          </a:xfrm>
          <a:prstGeom prst="line">
            <a:avLst/>
          </a:prstGeom>
          <a:ln w="9360">
            <a:solidFill>
              <a:srgbClr val="57472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29680" y="2627280"/>
            <a:ext cx="699840" cy="0"/>
          </a:xfrm>
          <a:prstGeom prst="line">
            <a:avLst/>
          </a:prstGeom>
          <a:ln w="9360">
            <a:solidFill>
              <a:srgbClr val="57472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58760" y="1652760"/>
            <a:ext cx="1930680" cy="40320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00160" y="173844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Circuit ,Function Design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91120" y="527364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90f"/>
                </a:solidFill>
                <a:latin typeface="Times New Roman"/>
              </a:rPr>
              <a:t>Produc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71640" y="4221000"/>
            <a:ext cx="2055600" cy="660600"/>
          </a:xfrm>
          <a:prstGeom prst="diamond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44520" y="42703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EMC Measurement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95480" y="5249880"/>
            <a:ext cx="1931760" cy="40320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30400" y="2068560"/>
            <a:ext cx="0" cy="46512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30400" y="3854520"/>
            <a:ext cx="0" cy="36648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21040" y="4881600"/>
            <a:ext cx="0" cy="36828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030040" y="2262240"/>
            <a:ext cx="1670040" cy="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5040" y="4564080"/>
            <a:ext cx="736560" cy="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22760" y="3585960"/>
            <a:ext cx="0" cy="99036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03680" y="2263320"/>
            <a:ext cx="0" cy="74628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58200" y="43178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190f"/>
                </a:solidFill>
                <a:latin typeface="Times New Roman"/>
              </a:rPr>
              <a:t>NG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54960" y="4954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190f"/>
                </a:solidFill>
                <a:latin typeface="Times New Roman"/>
              </a:rPr>
              <a:t>OK</a:t>
            </a:r>
            <a:endParaRPr b="0" lang="en-US" sz="10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08360" y="2583000"/>
            <a:ext cx="850320" cy="1528560"/>
            <a:chOff x="2808360" y="2583000"/>
            <a:chExt cx="850320" cy="1528560"/>
          </a:xfrm>
        </p:grpSpPr>
        <p:sp>
          <p:nvSpPr>
            <p:cNvPr id="576" name=""/>
            <p:cNvSpPr/>
            <p:nvPr/>
          </p:nvSpPr>
          <p:spPr>
            <a:xfrm>
              <a:off x="3057120" y="2583000"/>
              <a:ext cx="601560" cy="1528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08360" y="2925000"/>
              <a:ext cx="539280" cy="9907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132800">
              <a:off x="2963520" y="27795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f190f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182760" y="3009960"/>
            <a:ext cx="1038240" cy="587160"/>
          </a:xfrm>
          <a:prstGeom prst="rect">
            <a:avLst/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1320" y="3119400"/>
            <a:ext cx="86940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Times New Roman"/>
              </a:rPr>
              <a:t>Re-Design 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1f190f"/>
                </a:solidFill>
                <a:latin typeface="Times New Roman"/>
              </a:rPr>
              <a:t>for EMI  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80080" y="2600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Board Layout Design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72160" y="3498840"/>
            <a:ext cx="17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Times New Roman"/>
              </a:rPr>
              <a:t>Mounting or assembly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44720" y="2533680"/>
            <a:ext cx="1930320" cy="40320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44720" y="3451320"/>
            <a:ext cx="1930320" cy="40320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30400" y="2962440"/>
            <a:ext cx="0" cy="51264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58600" y="4732200"/>
            <a:ext cx="26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Intuition and experience base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17400" y="285444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Simulation base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34040" y="2476440"/>
            <a:ext cx="742680" cy="1809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525840" y="5159520"/>
            <a:ext cx="740880" cy="745920"/>
            <a:chOff x="3525840" y="5159520"/>
            <a:chExt cx="740880" cy="745920"/>
          </a:xfrm>
        </p:grpSpPr>
        <p:sp>
          <p:nvSpPr>
            <p:cNvPr id="590" name=""/>
            <p:cNvSpPr/>
            <p:nvPr/>
          </p:nvSpPr>
          <p:spPr>
            <a:xfrm>
              <a:off x="3525840" y="5159520"/>
              <a:ext cx="740880" cy="745920"/>
            </a:xfrm>
            <a:custGeom>
              <a:avLst/>
              <a:gdLst/>
              <a:ahLst/>
              <a:rect l="l" t="t" r="r" b="b"/>
              <a:pathLst>
                <a:path w="3019" h="3292">
                  <a:moveTo>
                    <a:pt x="1981" y="3292"/>
                  </a:moveTo>
                  <a:lnTo>
                    <a:pt x="1981" y="2990"/>
                  </a:lnTo>
                  <a:lnTo>
                    <a:pt x="1992" y="2921"/>
                  </a:lnTo>
                  <a:lnTo>
                    <a:pt x="2013" y="2848"/>
                  </a:lnTo>
                  <a:lnTo>
                    <a:pt x="2055" y="2795"/>
                  </a:lnTo>
                  <a:lnTo>
                    <a:pt x="2124" y="2768"/>
                  </a:lnTo>
                  <a:lnTo>
                    <a:pt x="2346" y="2721"/>
                  </a:lnTo>
                  <a:lnTo>
                    <a:pt x="2477" y="2694"/>
                  </a:lnTo>
                  <a:lnTo>
                    <a:pt x="2582" y="2652"/>
                  </a:lnTo>
                  <a:lnTo>
                    <a:pt x="2656" y="2616"/>
                  </a:lnTo>
                  <a:lnTo>
                    <a:pt x="2693" y="2583"/>
                  </a:lnTo>
                  <a:lnTo>
                    <a:pt x="2719" y="2536"/>
                  </a:lnTo>
                  <a:lnTo>
                    <a:pt x="2719" y="2452"/>
                  </a:lnTo>
                  <a:lnTo>
                    <a:pt x="2714" y="2347"/>
                  </a:lnTo>
                  <a:lnTo>
                    <a:pt x="2703" y="2205"/>
                  </a:lnTo>
                  <a:lnTo>
                    <a:pt x="2703" y="2082"/>
                  </a:lnTo>
                  <a:lnTo>
                    <a:pt x="2719" y="1971"/>
                  </a:lnTo>
                  <a:lnTo>
                    <a:pt x="2751" y="1903"/>
                  </a:lnTo>
                  <a:lnTo>
                    <a:pt x="2793" y="1856"/>
                  </a:lnTo>
                  <a:lnTo>
                    <a:pt x="2867" y="1825"/>
                  </a:lnTo>
                  <a:lnTo>
                    <a:pt x="2967" y="1788"/>
                  </a:lnTo>
                  <a:lnTo>
                    <a:pt x="2999" y="1761"/>
                  </a:lnTo>
                  <a:lnTo>
                    <a:pt x="3019" y="1729"/>
                  </a:lnTo>
                  <a:lnTo>
                    <a:pt x="3019" y="1682"/>
                  </a:lnTo>
                  <a:lnTo>
                    <a:pt x="2983" y="1634"/>
                  </a:lnTo>
                  <a:lnTo>
                    <a:pt x="2951" y="1597"/>
                  </a:lnTo>
                  <a:lnTo>
                    <a:pt x="2709" y="1291"/>
                  </a:lnTo>
                  <a:lnTo>
                    <a:pt x="2687" y="1265"/>
                  </a:lnTo>
                  <a:lnTo>
                    <a:pt x="2699" y="1218"/>
                  </a:lnTo>
                  <a:lnTo>
                    <a:pt x="2730" y="1172"/>
                  </a:lnTo>
                  <a:lnTo>
                    <a:pt x="2777" y="1043"/>
                  </a:lnTo>
                  <a:lnTo>
                    <a:pt x="2793" y="961"/>
                  </a:lnTo>
                  <a:lnTo>
                    <a:pt x="2793" y="835"/>
                  </a:lnTo>
                  <a:lnTo>
                    <a:pt x="2736" y="653"/>
                  </a:lnTo>
                  <a:lnTo>
                    <a:pt x="2677" y="518"/>
                  </a:lnTo>
                  <a:lnTo>
                    <a:pt x="2582" y="347"/>
                  </a:lnTo>
                  <a:lnTo>
                    <a:pt x="2492" y="242"/>
                  </a:lnTo>
                  <a:lnTo>
                    <a:pt x="2393" y="147"/>
                  </a:lnTo>
                  <a:lnTo>
                    <a:pt x="2256" y="75"/>
                  </a:lnTo>
                  <a:lnTo>
                    <a:pt x="2045" y="26"/>
                  </a:lnTo>
                  <a:lnTo>
                    <a:pt x="1844" y="4"/>
                  </a:lnTo>
                  <a:lnTo>
                    <a:pt x="1639" y="0"/>
                  </a:lnTo>
                  <a:lnTo>
                    <a:pt x="1439" y="10"/>
                  </a:lnTo>
                  <a:lnTo>
                    <a:pt x="1275" y="31"/>
                  </a:lnTo>
                  <a:lnTo>
                    <a:pt x="1117" y="63"/>
                  </a:lnTo>
                  <a:lnTo>
                    <a:pt x="938" y="131"/>
                  </a:lnTo>
                  <a:lnTo>
                    <a:pt x="764" y="221"/>
                  </a:lnTo>
                  <a:lnTo>
                    <a:pt x="547" y="369"/>
                  </a:lnTo>
                  <a:lnTo>
                    <a:pt x="448" y="448"/>
                  </a:lnTo>
                  <a:lnTo>
                    <a:pt x="358" y="538"/>
                  </a:lnTo>
                  <a:lnTo>
                    <a:pt x="258" y="653"/>
                  </a:lnTo>
                  <a:lnTo>
                    <a:pt x="163" y="796"/>
                  </a:lnTo>
                  <a:lnTo>
                    <a:pt x="69" y="975"/>
                  </a:lnTo>
                  <a:lnTo>
                    <a:pt x="21" y="1130"/>
                  </a:lnTo>
                  <a:lnTo>
                    <a:pt x="0" y="1299"/>
                  </a:lnTo>
                  <a:lnTo>
                    <a:pt x="10" y="1429"/>
                  </a:lnTo>
                  <a:lnTo>
                    <a:pt x="36" y="1560"/>
                  </a:lnTo>
                  <a:lnTo>
                    <a:pt x="95" y="1699"/>
                  </a:lnTo>
                  <a:lnTo>
                    <a:pt x="264" y="1964"/>
                  </a:lnTo>
                  <a:lnTo>
                    <a:pt x="485" y="2289"/>
                  </a:lnTo>
                  <a:lnTo>
                    <a:pt x="574" y="2452"/>
                  </a:lnTo>
                  <a:lnTo>
                    <a:pt x="611" y="2546"/>
                  </a:lnTo>
                  <a:lnTo>
                    <a:pt x="633" y="2638"/>
                  </a:lnTo>
                  <a:lnTo>
                    <a:pt x="643" y="2721"/>
                  </a:lnTo>
                  <a:lnTo>
                    <a:pt x="648" y="2800"/>
                  </a:lnTo>
                  <a:lnTo>
                    <a:pt x="654" y="2958"/>
                  </a:lnTo>
                  <a:lnTo>
                    <a:pt x="633" y="3292"/>
                  </a:lnTo>
                  <a:lnTo>
                    <a:pt x="1981" y="3292"/>
                  </a:lnTo>
                  <a:close/>
                </a:path>
              </a:pathLst>
            </a:custGeom>
            <a:solidFill>
              <a:srgbClr val="ff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3627000" y="5241600"/>
              <a:ext cx="456840" cy="291600"/>
              <a:chOff x="3627000" y="5241600"/>
              <a:chExt cx="456840" cy="2916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3845160" y="5241600"/>
                <a:ext cx="238680" cy="220320"/>
                <a:chOff x="3845160" y="5241600"/>
                <a:chExt cx="238680" cy="2203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845160" y="5241600"/>
                  <a:ext cx="238680" cy="220320"/>
                </a:xfrm>
                <a:custGeom>
                  <a:avLst/>
                  <a:gdLst/>
                  <a:ahLst/>
                  <a:rect l="l" t="t" r="r" b="b"/>
                  <a:pathLst>
                    <a:path w="974" h="973">
                      <a:moveTo>
                        <a:pt x="478" y="0"/>
                      </a:moveTo>
                      <a:lnTo>
                        <a:pt x="532" y="0"/>
                      </a:lnTo>
                      <a:lnTo>
                        <a:pt x="585" y="9"/>
                      </a:lnTo>
                      <a:lnTo>
                        <a:pt x="632" y="24"/>
                      </a:lnTo>
                      <a:lnTo>
                        <a:pt x="637" y="99"/>
                      </a:lnTo>
                      <a:lnTo>
                        <a:pt x="681" y="123"/>
                      </a:lnTo>
                      <a:lnTo>
                        <a:pt x="732" y="154"/>
                      </a:lnTo>
                      <a:lnTo>
                        <a:pt x="779" y="191"/>
                      </a:lnTo>
                      <a:lnTo>
                        <a:pt x="858" y="164"/>
                      </a:lnTo>
                      <a:lnTo>
                        <a:pt x="885" y="197"/>
                      </a:lnTo>
                      <a:lnTo>
                        <a:pt x="911" y="238"/>
                      </a:lnTo>
                      <a:lnTo>
                        <a:pt x="933" y="280"/>
                      </a:lnTo>
                      <a:lnTo>
                        <a:pt x="880" y="349"/>
                      </a:lnTo>
                      <a:lnTo>
                        <a:pt x="901" y="414"/>
                      </a:lnTo>
                      <a:lnTo>
                        <a:pt x="908" y="464"/>
                      </a:lnTo>
                      <a:lnTo>
                        <a:pt x="905" y="529"/>
                      </a:lnTo>
                      <a:lnTo>
                        <a:pt x="974" y="562"/>
                      </a:lnTo>
                      <a:lnTo>
                        <a:pt x="966" y="612"/>
                      </a:lnTo>
                      <a:lnTo>
                        <a:pt x="954" y="659"/>
                      </a:lnTo>
                      <a:lnTo>
                        <a:pt x="929" y="714"/>
                      </a:lnTo>
                      <a:lnTo>
                        <a:pt x="853" y="707"/>
                      </a:lnTo>
                      <a:lnTo>
                        <a:pt x="816" y="757"/>
                      </a:lnTo>
                      <a:lnTo>
                        <a:pt x="775" y="798"/>
                      </a:lnTo>
                      <a:lnTo>
                        <a:pt x="723" y="835"/>
                      </a:lnTo>
                      <a:lnTo>
                        <a:pt x="737" y="916"/>
                      </a:lnTo>
                      <a:lnTo>
                        <a:pt x="690" y="940"/>
                      </a:lnTo>
                      <a:lnTo>
                        <a:pt x="637" y="958"/>
                      </a:lnTo>
                      <a:lnTo>
                        <a:pt x="570" y="973"/>
                      </a:lnTo>
                      <a:lnTo>
                        <a:pt x="533" y="911"/>
                      </a:lnTo>
                      <a:lnTo>
                        <a:pt x="463" y="915"/>
                      </a:lnTo>
                      <a:lnTo>
                        <a:pt x="405" y="903"/>
                      </a:lnTo>
                      <a:lnTo>
                        <a:pt x="347" y="888"/>
                      </a:lnTo>
                      <a:lnTo>
                        <a:pt x="284" y="939"/>
                      </a:lnTo>
                      <a:lnTo>
                        <a:pt x="238" y="915"/>
                      </a:lnTo>
                      <a:lnTo>
                        <a:pt x="196" y="887"/>
                      </a:lnTo>
                      <a:lnTo>
                        <a:pt x="162" y="860"/>
                      </a:lnTo>
                      <a:lnTo>
                        <a:pt x="189" y="782"/>
                      </a:lnTo>
                      <a:lnTo>
                        <a:pt x="152" y="733"/>
                      </a:lnTo>
                      <a:lnTo>
                        <a:pt x="117" y="677"/>
                      </a:lnTo>
                      <a:lnTo>
                        <a:pt x="94" y="619"/>
                      </a:lnTo>
                      <a:lnTo>
                        <a:pt x="10" y="612"/>
                      </a:lnTo>
                      <a:lnTo>
                        <a:pt x="1" y="559"/>
                      </a:lnTo>
                      <a:lnTo>
                        <a:pt x="0" y="519"/>
                      </a:lnTo>
                      <a:lnTo>
                        <a:pt x="0" y="470"/>
                      </a:lnTo>
                      <a:lnTo>
                        <a:pt x="78" y="445"/>
                      </a:lnTo>
                      <a:lnTo>
                        <a:pt x="94" y="377"/>
                      </a:lnTo>
                      <a:lnTo>
                        <a:pt x="109" y="324"/>
                      </a:lnTo>
                      <a:lnTo>
                        <a:pt x="137" y="266"/>
                      </a:lnTo>
                      <a:lnTo>
                        <a:pt x="97" y="191"/>
                      </a:lnTo>
                      <a:lnTo>
                        <a:pt x="122" y="160"/>
                      </a:lnTo>
                      <a:lnTo>
                        <a:pt x="158" y="127"/>
                      </a:lnTo>
                      <a:lnTo>
                        <a:pt x="196" y="95"/>
                      </a:lnTo>
                      <a:lnTo>
                        <a:pt x="284" y="129"/>
                      </a:lnTo>
                      <a:lnTo>
                        <a:pt x="332" y="105"/>
                      </a:lnTo>
                      <a:lnTo>
                        <a:pt x="381" y="90"/>
                      </a:lnTo>
                      <a:lnTo>
                        <a:pt x="447" y="74"/>
                      </a:lnTo>
                      <a:lnTo>
                        <a:pt x="478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18960" y="5309640"/>
                  <a:ext cx="92520" cy="85320"/>
                </a:xfrm>
                <a:prstGeom prst="ellips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627000" y="5312880"/>
                <a:ext cx="240120" cy="220320"/>
                <a:chOff x="3627000" y="5312880"/>
                <a:chExt cx="240120" cy="2203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627000" y="5312880"/>
                  <a:ext cx="240120" cy="220320"/>
                </a:xfrm>
                <a:custGeom>
                  <a:avLst/>
                  <a:gdLst/>
                  <a:ahLst/>
                  <a:rect l="l" t="t" r="r" b="b"/>
                  <a:pathLst>
                    <a:path w="976" h="972">
                      <a:moveTo>
                        <a:pt x="496" y="972"/>
                      </a:moveTo>
                      <a:lnTo>
                        <a:pt x="443" y="972"/>
                      </a:lnTo>
                      <a:lnTo>
                        <a:pt x="390" y="964"/>
                      </a:lnTo>
                      <a:lnTo>
                        <a:pt x="343" y="949"/>
                      </a:lnTo>
                      <a:lnTo>
                        <a:pt x="338" y="874"/>
                      </a:lnTo>
                      <a:lnTo>
                        <a:pt x="294" y="850"/>
                      </a:lnTo>
                      <a:lnTo>
                        <a:pt x="242" y="819"/>
                      </a:lnTo>
                      <a:lnTo>
                        <a:pt x="195" y="782"/>
                      </a:lnTo>
                      <a:lnTo>
                        <a:pt x="116" y="809"/>
                      </a:lnTo>
                      <a:lnTo>
                        <a:pt x="90" y="776"/>
                      </a:lnTo>
                      <a:lnTo>
                        <a:pt x="63" y="735"/>
                      </a:lnTo>
                      <a:lnTo>
                        <a:pt x="41" y="693"/>
                      </a:lnTo>
                      <a:lnTo>
                        <a:pt x="96" y="624"/>
                      </a:lnTo>
                      <a:lnTo>
                        <a:pt x="74" y="559"/>
                      </a:lnTo>
                      <a:lnTo>
                        <a:pt x="68" y="508"/>
                      </a:lnTo>
                      <a:lnTo>
                        <a:pt x="69" y="443"/>
                      </a:lnTo>
                      <a:lnTo>
                        <a:pt x="0" y="411"/>
                      </a:lnTo>
                      <a:lnTo>
                        <a:pt x="9" y="361"/>
                      </a:lnTo>
                      <a:lnTo>
                        <a:pt x="22" y="313"/>
                      </a:lnTo>
                      <a:lnTo>
                        <a:pt x="46" y="259"/>
                      </a:lnTo>
                      <a:lnTo>
                        <a:pt x="121" y="266"/>
                      </a:lnTo>
                      <a:lnTo>
                        <a:pt x="158" y="216"/>
                      </a:lnTo>
                      <a:lnTo>
                        <a:pt x="199" y="174"/>
                      </a:lnTo>
                      <a:lnTo>
                        <a:pt x="251" y="137"/>
                      </a:lnTo>
                      <a:lnTo>
                        <a:pt x="238" y="56"/>
                      </a:lnTo>
                      <a:lnTo>
                        <a:pt x="285" y="31"/>
                      </a:lnTo>
                      <a:lnTo>
                        <a:pt x="338" y="14"/>
                      </a:lnTo>
                      <a:lnTo>
                        <a:pt x="404" y="0"/>
                      </a:lnTo>
                      <a:lnTo>
                        <a:pt x="441" y="62"/>
                      </a:lnTo>
                      <a:lnTo>
                        <a:pt x="511" y="58"/>
                      </a:lnTo>
                      <a:lnTo>
                        <a:pt x="570" y="68"/>
                      </a:lnTo>
                      <a:lnTo>
                        <a:pt x="627" y="84"/>
                      </a:lnTo>
                      <a:lnTo>
                        <a:pt x="691" y="34"/>
                      </a:lnTo>
                      <a:lnTo>
                        <a:pt x="737" y="58"/>
                      </a:lnTo>
                      <a:lnTo>
                        <a:pt x="778" y="86"/>
                      </a:lnTo>
                      <a:lnTo>
                        <a:pt x="812" y="112"/>
                      </a:lnTo>
                      <a:lnTo>
                        <a:pt x="785" y="189"/>
                      </a:lnTo>
                      <a:lnTo>
                        <a:pt x="822" y="239"/>
                      </a:lnTo>
                      <a:lnTo>
                        <a:pt x="858" y="296"/>
                      </a:lnTo>
                      <a:lnTo>
                        <a:pt x="880" y="353"/>
                      </a:lnTo>
                      <a:lnTo>
                        <a:pt x="964" y="361"/>
                      </a:lnTo>
                      <a:lnTo>
                        <a:pt x="973" y="414"/>
                      </a:lnTo>
                      <a:lnTo>
                        <a:pt x="976" y="454"/>
                      </a:lnTo>
                      <a:lnTo>
                        <a:pt x="976" y="503"/>
                      </a:lnTo>
                      <a:lnTo>
                        <a:pt x="896" y="528"/>
                      </a:lnTo>
                      <a:lnTo>
                        <a:pt x="880" y="596"/>
                      </a:lnTo>
                      <a:lnTo>
                        <a:pt x="865" y="649"/>
                      </a:lnTo>
                      <a:lnTo>
                        <a:pt x="837" y="707"/>
                      </a:lnTo>
                      <a:lnTo>
                        <a:pt x="877" y="782"/>
                      </a:lnTo>
                      <a:lnTo>
                        <a:pt x="852" y="813"/>
                      </a:lnTo>
                      <a:lnTo>
                        <a:pt x="817" y="845"/>
                      </a:lnTo>
                      <a:lnTo>
                        <a:pt x="778" y="878"/>
                      </a:lnTo>
                      <a:lnTo>
                        <a:pt x="691" y="844"/>
                      </a:lnTo>
                      <a:lnTo>
                        <a:pt x="641" y="866"/>
                      </a:lnTo>
                      <a:lnTo>
                        <a:pt x="594" y="882"/>
                      </a:lnTo>
                      <a:lnTo>
                        <a:pt x="527" y="899"/>
                      </a:lnTo>
                      <a:lnTo>
                        <a:pt x="496" y="97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02600" y="5380560"/>
                  <a:ext cx="92520" cy="85680"/>
                </a:xfrm>
                <a:prstGeom prst="ellips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8" name=""/>
          <p:cNvGrpSpPr/>
          <p:nvPr/>
        </p:nvGrpSpPr>
        <p:grpSpPr>
          <a:xfrm>
            <a:off x="7883640" y="3273480"/>
            <a:ext cx="1662120" cy="1591200"/>
            <a:chOff x="7883640" y="3273480"/>
            <a:chExt cx="1662120" cy="1591200"/>
          </a:xfrm>
        </p:grpSpPr>
        <p:grpSp>
          <p:nvGrpSpPr>
            <p:cNvPr id="599" name=""/>
            <p:cNvGrpSpPr/>
            <p:nvPr/>
          </p:nvGrpSpPr>
          <p:grpSpPr>
            <a:xfrm>
              <a:off x="8994960" y="3667320"/>
              <a:ext cx="427320" cy="1197360"/>
              <a:chOff x="8994960" y="3667320"/>
              <a:chExt cx="427320" cy="119736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9056160" y="3667320"/>
                <a:ext cx="233280" cy="209880"/>
                <a:chOff x="9056160" y="3667320"/>
                <a:chExt cx="233280" cy="2098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9141480" y="3749400"/>
                  <a:ext cx="77040" cy="127800"/>
                </a:xfrm>
                <a:custGeom>
                  <a:avLst/>
                  <a:gdLst/>
                  <a:ahLst/>
                  <a:rect l="l" t="t" r="r" b="b"/>
                  <a:pathLst>
                    <a:path w="194" h="344">
                      <a:moveTo>
                        <a:pt x="63" y="312"/>
                      </a:moveTo>
                      <a:lnTo>
                        <a:pt x="65" y="256"/>
                      </a:lnTo>
                      <a:lnTo>
                        <a:pt x="52" y="213"/>
                      </a:lnTo>
                      <a:lnTo>
                        <a:pt x="29" y="177"/>
                      </a:lnTo>
                      <a:lnTo>
                        <a:pt x="0" y="121"/>
                      </a:lnTo>
                      <a:lnTo>
                        <a:pt x="3" y="85"/>
                      </a:lnTo>
                      <a:lnTo>
                        <a:pt x="22" y="39"/>
                      </a:lnTo>
                      <a:lnTo>
                        <a:pt x="59" y="9"/>
                      </a:lnTo>
                      <a:lnTo>
                        <a:pt x="91" y="0"/>
                      </a:lnTo>
                      <a:lnTo>
                        <a:pt x="125" y="7"/>
                      </a:lnTo>
                      <a:lnTo>
                        <a:pt x="147" y="20"/>
                      </a:lnTo>
                      <a:lnTo>
                        <a:pt x="177" y="46"/>
                      </a:lnTo>
                      <a:lnTo>
                        <a:pt x="194" y="85"/>
                      </a:lnTo>
                      <a:lnTo>
                        <a:pt x="187" y="125"/>
                      </a:lnTo>
                      <a:lnTo>
                        <a:pt x="164" y="160"/>
                      </a:lnTo>
                      <a:lnTo>
                        <a:pt x="131" y="216"/>
                      </a:lnTo>
                      <a:lnTo>
                        <a:pt x="125" y="256"/>
                      </a:lnTo>
                      <a:lnTo>
                        <a:pt x="128" y="288"/>
                      </a:lnTo>
                      <a:lnTo>
                        <a:pt x="112" y="321"/>
                      </a:lnTo>
                      <a:lnTo>
                        <a:pt x="95" y="344"/>
                      </a:lnTo>
                      <a:lnTo>
                        <a:pt x="63" y="3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9056160" y="3741840"/>
                  <a:ext cx="57960" cy="25200"/>
                </a:xfrm>
                <a:custGeom>
                  <a:avLst/>
                  <a:gdLst/>
                  <a:ahLst/>
                  <a:rect l="l" t="t" r="r" b="b"/>
                  <a:pathLst>
                    <a:path w="142" h="66">
                      <a:moveTo>
                        <a:pt x="142" y="66"/>
                      </a:moveTo>
                      <a:lnTo>
                        <a:pt x="23" y="45"/>
                      </a:lnTo>
                      <a:lnTo>
                        <a:pt x="0" y="22"/>
                      </a:lnTo>
                      <a:lnTo>
                        <a:pt x="9" y="3"/>
                      </a:lnTo>
                      <a:lnTo>
                        <a:pt x="36" y="0"/>
                      </a:lnTo>
                      <a:lnTo>
                        <a:pt x="14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9114120" y="3677760"/>
                  <a:ext cx="25560" cy="39960"/>
                </a:xfrm>
                <a:custGeom>
                  <a:avLst/>
                  <a:gdLst/>
                  <a:ahLst/>
                  <a:rect l="l" t="t" r="r" b="b"/>
                  <a:pathLst>
                    <a:path w="62" h="109">
                      <a:moveTo>
                        <a:pt x="62" y="109"/>
                      </a:moveTo>
                      <a:lnTo>
                        <a:pt x="0" y="40"/>
                      </a:lnTo>
                      <a:lnTo>
                        <a:pt x="6" y="11"/>
                      </a:lnTo>
                      <a:lnTo>
                        <a:pt x="36" y="0"/>
                      </a:lnTo>
                      <a:lnTo>
                        <a:pt x="53" y="21"/>
                      </a:lnTo>
                      <a:lnTo>
                        <a:pt x="62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9194400" y="366732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53" h="131">
                      <a:moveTo>
                        <a:pt x="8" y="131"/>
                      </a:moveTo>
                      <a:lnTo>
                        <a:pt x="0" y="33"/>
                      </a:lnTo>
                      <a:lnTo>
                        <a:pt x="29" y="0"/>
                      </a:lnTo>
                      <a:lnTo>
                        <a:pt x="53" y="14"/>
                      </a:lnTo>
                      <a:lnTo>
                        <a:pt x="49" y="40"/>
                      </a:lnTo>
                      <a:lnTo>
                        <a:pt x="8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9237960" y="3704400"/>
                  <a:ext cx="51480" cy="29880"/>
                </a:xfrm>
                <a:custGeom>
                  <a:avLst/>
                  <a:gdLst/>
                  <a:ahLst/>
                  <a:rect l="l" t="t" r="r" b="b"/>
                  <a:pathLst>
                    <a:path w="128" h="82">
                      <a:moveTo>
                        <a:pt x="0" y="82"/>
                      </a:moveTo>
                      <a:lnTo>
                        <a:pt x="95" y="0"/>
                      </a:lnTo>
                      <a:lnTo>
                        <a:pt x="128" y="15"/>
                      </a:lnTo>
                      <a:lnTo>
                        <a:pt x="125" y="43"/>
                      </a:lnTo>
                      <a:lnTo>
                        <a:pt x="108" y="5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8994960" y="3737160"/>
                <a:ext cx="427320" cy="1127520"/>
                <a:chOff x="8994960" y="3737160"/>
                <a:chExt cx="427320" cy="11275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9072360" y="3923640"/>
                  <a:ext cx="214560" cy="196560"/>
                </a:xfrm>
                <a:custGeom>
                  <a:avLst/>
                  <a:gdLst/>
                  <a:ahLst/>
                  <a:rect l="l" t="t" r="r" b="b"/>
                  <a:pathLst>
                    <a:path w="532" h="526">
                      <a:moveTo>
                        <a:pt x="347" y="152"/>
                      </a:moveTo>
                      <a:lnTo>
                        <a:pt x="282" y="53"/>
                      </a:lnTo>
                      <a:lnTo>
                        <a:pt x="216" y="0"/>
                      </a:lnTo>
                      <a:lnTo>
                        <a:pt x="138" y="0"/>
                      </a:lnTo>
                      <a:lnTo>
                        <a:pt x="52" y="34"/>
                      </a:lnTo>
                      <a:lnTo>
                        <a:pt x="13" y="92"/>
                      </a:lnTo>
                      <a:lnTo>
                        <a:pt x="0" y="172"/>
                      </a:lnTo>
                      <a:lnTo>
                        <a:pt x="13" y="277"/>
                      </a:lnTo>
                      <a:lnTo>
                        <a:pt x="65" y="395"/>
                      </a:lnTo>
                      <a:lnTo>
                        <a:pt x="157" y="474"/>
                      </a:lnTo>
                      <a:lnTo>
                        <a:pt x="229" y="513"/>
                      </a:lnTo>
                      <a:lnTo>
                        <a:pt x="302" y="526"/>
                      </a:lnTo>
                      <a:lnTo>
                        <a:pt x="360" y="507"/>
                      </a:lnTo>
                      <a:lnTo>
                        <a:pt x="393" y="474"/>
                      </a:lnTo>
                      <a:lnTo>
                        <a:pt x="414" y="395"/>
                      </a:lnTo>
                      <a:lnTo>
                        <a:pt x="407" y="303"/>
                      </a:lnTo>
                      <a:lnTo>
                        <a:pt x="386" y="225"/>
                      </a:lnTo>
                      <a:lnTo>
                        <a:pt x="518" y="152"/>
                      </a:lnTo>
                      <a:lnTo>
                        <a:pt x="532" y="120"/>
                      </a:lnTo>
                      <a:lnTo>
                        <a:pt x="518" y="105"/>
                      </a:lnTo>
                      <a:lnTo>
                        <a:pt x="373" y="191"/>
                      </a:lnTo>
                      <a:lnTo>
                        <a:pt x="347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9227160" y="3737160"/>
                  <a:ext cx="190440" cy="438480"/>
                </a:xfrm>
                <a:custGeom>
                  <a:avLst/>
                  <a:gdLst/>
                  <a:ahLst/>
                  <a:rect l="l" t="t" r="r" b="b"/>
                  <a:pathLst>
                    <a:path w="473" h="1175">
                      <a:moveTo>
                        <a:pt x="131" y="992"/>
                      </a:moveTo>
                      <a:lnTo>
                        <a:pt x="46" y="1057"/>
                      </a:lnTo>
                      <a:lnTo>
                        <a:pt x="20" y="1077"/>
                      </a:lnTo>
                      <a:lnTo>
                        <a:pt x="0" y="1123"/>
                      </a:lnTo>
                      <a:lnTo>
                        <a:pt x="26" y="1168"/>
                      </a:lnTo>
                      <a:lnTo>
                        <a:pt x="52" y="1175"/>
                      </a:lnTo>
                      <a:lnTo>
                        <a:pt x="131" y="1149"/>
                      </a:lnTo>
                      <a:lnTo>
                        <a:pt x="250" y="1057"/>
                      </a:lnTo>
                      <a:lnTo>
                        <a:pt x="355" y="946"/>
                      </a:lnTo>
                      <a:lnTo>
                        <a:pt x="467" y="820"/>
                      </a:lnTo>
                      <a:lnTo>
                        <a:pt x="473" y="768"/>
                      </a:lnTo>
                      <a:lnTo>
                        <a:pt x="473" y="624"/>
                      </a:lnTo>
                      <a:lnTo>
                        <a:pt x="441" y="401"/>
                      </a:lnTo>
                      <a:lnTo>
                        <a:pt x="460" y="270"/>
                      </a:lnTo>
                      <a:lnTo>
                        <a:pt x="473" y="216"/>
                      </a:lnTo>
                      <a:lnTo>
                        <a:pt x="454" y="190"/>
                      </a:lnTo>
                      <a:lnTo>
                        <a:pt x="407" y="164"/>
                      </a:lnTo>
                      <a:lnTo>
                        <a:pt x="375" y="145"/>
                      </a:lnTo>
                      <a:lnTo>
                        <a:pt x="394" y="27"/>
                      </a:lnTo>
                      <a:lnTo>
                        <a:pt x="381" y="0"/>
                      </a:lnTo>
                      <a:lnTo>
                        <a:pt x="355" y="7"/>
                      </a:lnTo>
                      <a:lnTo>
                        <a:pt x="342" y="158"/>
                      </a:lnTo>
                      <a:lnTo>
                        <a:pt x="329" y="197"/>
                      </a:lnTo>
                      <a:lnTo>
                        <a:pt x="323" y="223"/>
                      </a:lnTo>
                      <a:lnTo>
                        <a:pt x="269" y="203"/>
                      </a:lnTo>
                      <a:lnTo>
                        <a:pt x="230" y="203"/>
                      </a:lnTo>
                      <a:lnTo>
                        <a:pt x="230" y="229"/>
                      </a:lnTo>
                      <a:lnTo>
                        <a:pt x="256" y="250"/>
                      </a:lnTo>
                      <a:lnTo>
                        <a:pt x="303" y="250"/>
                      </a:lnTo>
                      <a:lnTo>
                        <a:pt x="336" y="276"/>
                      </a:lnTo>
                      <a:lnTo>
                        <a:pt x="362" y="322"/>
                      </a:lnTo>
                      <a:lnTo>
                        <a:pt x="388" y="394"/>
                      </a:lnTo>
                      <a:lnTo>
                        <a:pt x="407" y="539"/>
                      </a:lnTo>
                      <a:lnTo>
                        <a:pt x="407" y="670"/>
                      </a:lnTo>
                      <a:lnTo>
                        <a:pt x="394" y="775"/>
                      </a:lnTo>
                      <a:lnTo>
                        <a:pt x="368" y="820"/>
                      </a:lnTo>
                      <a:lnTo>
                        <a:pt x="276" y="887"/>
                      </a:lnTo>
                      <a:lnTo>
                        <a:pt x="177" y="946"/>
                      </a:lnTo>
                      <a:lnTo>
                        <a:pt x="131" y="9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994960" y="4141080"/>
                  <a:ext cx="172440" cy="265320"/>
                </a:xfrm>
                <a:custGeom>
                  <a:avLst/>
                  <a:gdLst/>
                  <a:ahLst/>
                  <a:rect l="l" t="t" r="r" b="b"/>
                  <a:pathLst>
                    <a:path w="428" h="709">
                      <a:moveTo>
                        <a:pt x="428" y="19"/>
                      </a:moveTo>
                      <a:lnTo>
                        <a:pt x="381" y="0"/>
                      </a:lnTo>
                      <a:lnTo>
                        <a:pt x="282" y="6"/>
                      </a:lnTo>
                      <a:lnTo>
                        <a:pt x="196" y="73"/>
                      </a:lnTo>
                      <a:lnTo>
                        <a:pt x="71" y="210"/>
                      </a:lnTo>
                      <a:lnTo>
                        <a:pt x="6" y="322"/>
                      </a:lnTo>
                      <a:lnTo>
                        <a:pt x="0" y="361"/>
                      </a:lnTo>
                      <a:lnTo>
                        <a:pt x="32" y="434"/>
                      </a:lnTo>
                      <a:lnTo>
                        <a:pt x="104" y="466"/>
                      </a:lnTo>
                      <a:lnTo>
                        <a:pt x="196" y="505"/>
                      </a:lnTo>
                      <a:lnTo>
                        <a:pt x="269" y="525"/>
                      </a:lnTo>
                      <a:lnTo>
                        <a:pt x="302" y="558"/>
                      </a:lnTo>
                      <a:lnTo>
                        <a:pt x="282" y="604"/>
                      </a:lnTo>
                      <a:lnTo>
                        <a:pt x="230" y="657"/>
                      </a:lnTo>
                      <a:lnTo>
                        <a:pt x="164" y="664"/>
                      </a:lnTo>
                      <a:lnTo>
                        <a:pt x="118" y="643"/>
                      </a:lnTo>
                      <a:lnTo>
                        <a:pt x="91" y="664"/>
                      </a:lnTo>
                      <a:lnTo>
                        <a:pt x="97" y="690"/>
                      </a:lnTo>
                      <a:lnTo>
                        <a:pt x="151" y="709"/>
                      </a:lnTo>
                      <a:lnTo>
                        <a:pt x="230" y="709"/>
                      </a:lnTo>
                      <a:lnTo>
                        <a:pt x="302" y="690"/>
                      </a:lnTo>
                      <a:lnTo>
                        <a:pt x="342" y="664"/>
                      </a:lnTo>
                      <a:lnTo>
                        <a:pt x="368" y="617"/>
                      </a:lnTo>
                      <a:lnTo>
                        <a:pt x="381" y="565"/>
                      </a:lnTo>
                      <a:lnTo>
                        <a:pt x="348" y="518"/>
                      </a:lnTo>
                      <a:lnTo>
                        <a:pt x="269" y="486"/>
                      </a:lnTo>
                      <a:lnTo>
                        <a:pt x="177" y="460"/>
                      </a:lnTo>
                      <a:lnTo>
                        <a:pt x="97" y="414"/>
                      </a:lnTo>
                      <a:lnTo>
                        <a:pt x="78" y="374"/>
                      </a:lnTo>
                      <a:lnTo>
                        <a:pt x="91" y="303"/>
                      </a:lnTo>
                      <a:lnTo>
                        <a:pt x="151" y="210"/>
                      </a:lnTo>
                      <a:lnTo>
                        <a:pt x="224" y="157"/>
                      </a:lnTo>
                      <a:lnTo>
                        <a:pt x="335" y="118"/>
                      </a:lnTo>
                      <a:lnTo>
                        <a:pt x="428" y="99"/>
                      </a:lnTo>
                      <a:lnTo>
                        <a:pt x="428" y="45"/>
                      </a:lnTo>
                      <a:lnTo>
                        <a:pt x="42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9136800" y="4129560"/>
                  <a:ext cx="161280" cy="326520"/>
                </a:xfrm>
                <a:custGeom>
                  <a:avLst/>
                  <a:gdLst/>
                  <a:ahLst/>
                  <a:rect l="l" t="t" r="r" b="b"/>
                  <a:pathLst>
                    <a:path w="401" h="872">
                      <a:moveTo>
                        <a:pt x="349" y="275"/>
                      </a:moveTo>
                      <a:lnTo>
                        <a:pt x="309" y="111"/>
                      </a:lnTo>
                      <a:lnTo>
                        <a:pt x="263" y="32"/>
                      </a:lnTo>
                      <a:lnTo>
                        <a:pt x="164" y="0"/>
                      </a:lnTo>
                      <a:lnTo>
                        <a:pt x="65" y="12"/>
                      </a:lnTo>
                      <a:lnTo>
                        <a:pt x="20" y="98"/>
                      </a:lnTo>
                      <a:lnTo>
                        <a:pt x="26" y="203"/>
                      </a:lnTo>
                      <a:lnTo>
                        <a:pt x="52" y="374"/>
                      </a:lnTo>
                      <a:lnTo>
                        <a:pt x="52" y="524"/>
                      </a:lnTo>
                      <a:lnTo>
                        <a:pt x="20" y="655"/>
                      </a:lnTo>
                      <a:lnTo>
                        <a:pt x="0" y="728"/>
                      </a:lnTo>
                      <a:lnTo>
                        <a:pt x="13" y="793"/>
                      </a:lnTo>
                      <a:lnTo>
                        <a:pt x="59" y="827"/>
                      </a:lnTo>
                      <a:lnTo>
                        <a:pt x="119" y="859"/>
                      </a:lnTo>
                      <a:lnTo>
                        <a:pt x="177" y="872"/>
                      </a:lnTo>
                      <a:lnTo>
                        <a:pt x="250" y="872"/>
                      </a:lnTo>
                      <a:lnTo>
                        <a:pt x="336" y="806"/>
                      </a:lnTo>
                      <a:lnTo>
                        <a:pt x="401" y="668"/>
                      </a:lnTo>
                      <a:lnTo>
                        <a:pt x="394" y="544"/>
                      </a:lnTo>
                      <a:lnTo>
                        <a:pt x="355" y="400"/>
                      </a:lnTo>
                      <a:lnTo>
                        <a:pt x="349" y="2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9088560" y="4394880"/>
                  <a:ext cx="122400" cy="469800"/>
                </a:xfrm>
                <a:custGeom>
                  <a:avLst/>
                  <a:gdLst/>
                  <a:ahLst/>
                  <a:rect l="l" t="t" r="r" b="b"/>
                  <a:pathLst>
                    <a:path w="304" h="1261">
                      <a:moveTo>
                        <a:pt x="290" y="19"/>
                      </a:moveTo>
                      <a:lnTo>
                        <a:pt x="212" y="0"/>
                      </a:lnTo>
                      <a:lnTo>
                        <a:pt x="165" y="19"/>
                      </a:lnTo>
                      <a:lnTo>
                        <a:pt x="145" y="84"/>
                      </a:lnTo>
                      <a:lnTo>
                        <a:pt x="165" y="445"/>
                      </a:lnTo>
                      <a:lnTo>
                        <a:pt x="165" y="531"/>
                      </a:lnTo>
                      <a:lnTo>
                        <a:pt x="139" y="689"/>
                      </a:lnTo>
                      <a:lnTo>
                        <a:pt x="132" y="872"/>
                      </a:lnTo>
                      <a:lnTo>
                        <a:pt x="145" y="965"/>
                      </a:lnTo>
                      <a:lnTo>
                        <a:pt x="132" y="1017"/>
                      </a:lnTo>
                      <a:lnTo>
                        <a:pt x="40" y="1096"/>
                      </a:lnTo>
                      <a:lnTo>
                        <a:pt x="0" y="1194"/>
                      </a:lnTo>
                      <a:lnTo>
                        <a:pt x="8" y="1227"/>
                      </a:lnTo>
                      <a:lnTo>
                        <a:pt x="79" y="1261"/>
                      </a:lnTo>
                      <a:lnTo>
                        <a:pt x="99" y="1246"/>
                      </a:lnTo>
                      <a:lnTo>
                        <a:pt x="106" y="1188"/>
                      </a:lnTo>
                      <a:lnTo>
                        <a:pt x="126" y="1102"/>
                      </a:lnTo>
                      <a:lnTo>
                        <a:pt x="158" y="1063"/>
                      </a:lnTo>
                      <a:lnTo>
                        <a:pt x="197" y="1037"/>
                      </a:lnTo>
                      <a:lnTo>
                        <a:pt x="231" y="1004"/>
                      </a:lnTo>
                      <a:lnTo>
                        <a:pt x="238" y="978"/>
                      </a:lnTo>
                      <a:lnTo>
                        <a:pt x="218" y="945"/>
                      </a:lnTo>
                      <a:lnTo>
                        <a:pt x="197" y="926"/>
                      </a:lnTo>
                      <a:lnTo>
                        <a:pt x="184" y="846"/>
                      </a:lnTo>
                      <a:lnTo>
                        <a:pt x="197" y="681"/>
                      </a:lnTo>
                      <a:lnTo>
                        <a:pt x="244" y="492"/>
                      </a:lnTo>
                      <a:lnTo>
                        <a:pt x="290" y="340"/>
                      </a:lnTo>
                      <a:lnTo>
                        <a:pt x="304" y="157"/>
                      </a:lnTo>
                      <a:lnTo>
                        <a:pt x="29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9221040" y="4394880"/>
                  <a:ext cx="201240" cy="396720"/>
                </a:xfrm>
                <a:custGeom>
                  <a:avLst/>
                  <a:gdLst/>
                  <a:ahLst/>
                  <a:rect l="l" t="t" r="r" b="b"/>
                  <a:pathLst>
                    <a:path w="499" h="1063">
                      <a:moveTo>
                        <a:pt x="164" y="157"/>
                      </a:moveTo>
                      <a:lnTo>
                        <a:pt x="151" y="52"/>
                      </a:lnTo>
                      <a:lnTo>
                        <a:pt x="92" y="0"/>
                      </a:lnTo>
                      <a:lnTo>
                        <a:pt x="7" y="6"/>
                      </a:lnTo>
                      <a:lnTo>
                        <a:pt x="0" y="52"/>
                      </a:lnTo>
                      <a:lnTo>
                        <a:pt x="7" y="150"/>
                      </a:lnTo>
                      <a:lnTo>
                        <a:pt x="52" y="301"/>
                      </a:lnTo>
                      <a:lnTo>
                        <a:pt x="86" y="413"/>
                      </a:lnTo>
                      <a:lnTo>
                        <a:pt x="125" y="563"/>
                      </a:lnTo>
                      <a:lnTo>
                        <a:pt x="138" y="694"/>
                      </a:lnTo>
                      <a:lnTo>
                        <a:pt x="138" y="800"/>
                      </a:lnTo>
                      <a:lnTo>
                        <a:pt x="118" y="879"/>
                      </a:lnTo>
                      <a:lnTo>
                        <a:pt x="99" y="905"/>
                      </a:lnTo>
                      <a:lnTo>
                        <a:pt x="99" y="931"/>
                      </a:lnTo>
                      <a:lnTo>
                        <a:pt x="125" y="971"/>
                      </a:lnTo>
                      <a:lnTo>
                        <a:pt x="170" y="984"/>
                      </a:lnTo>
                      <a:lnTo>
                        <a:pt x="243" y="984"/>
                      </a:lnTo>
                      <a:lnTo>
                        <a:pt x="375" y="1017"/>
                      </a:lnTo>
                      <a:lnTo>
                        <a:pt x="414" y="1063"/>
                      </a:lnTo>
                      <a:lnTo>
                        <a:pt x="473" y="1036"/>
                      </a:lnTo>
                      <a:lnTo>
                        <a:pt x="499" y="971"/>
                      </a:lnTo>
                      <a:lnTo>
                        <a:pt x="473" y="945"/>
                      </a:lnTo>
                      <a:lnTo>
                        <a:pt x="362" y="931"/>
                      </a:lnTo>
                      <a:lnTo>
                        <a:pt x="237" y="931"/>
                      </a:lnTo>
                      <a:lnTo>
                        <a:pt x="183" y="924"/>
                      </a:lnTo>
                      <a:lnTo>
                        <a:pt x="170" y="885"/>
                      </a:lnTo>
                      <a:lnTo>
                        <a:pt x="183" y="813"/>
                      </a:lnTo>
                      <a:lnTo>
                        <a:pt x="191" y="688"/>
                      </a:lnTo>
                      <a:lnTo>
                        <a:pt x="177" y="550"/>
                      </a:lnTo>
                      <a:lnTo>
                        <a:pt x="157" y="367"/>
                      </a:lnTo>
                      <a:lnTo>
                        <a:pt x="164" y="209"/>
                      </a:lnTo>
                      <a:lnTo>
                        <a:pt x="16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9211320" y="3419640"/>
              <a:ext cx="33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1f190f"/>
                  </a:solidFill>
                  <a:latin typeface="Century"/>
                  <a:ea typeface="ＭＳ ゴシック"/>
                </a:rPr>
                <a:t>OK!</a:t>
              </a:r>
              <a:endParaRPr b="0" lang="en-US" sz="17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83640" y="3688200"/>
              <a:ext cx="981720" cy="677520"/>
            </a:xfrm>
            <a:custGeom>
              <a:avLst/>
              <a:gdLst/>
              <a:ahLst/>
              <a:rect l="l" t="t" r="r" b="b"/>
              <a:pathLst>
                <a:path w="607" h="454">
                  <a:moveTo>
                    <a:pt x="91" y="420"/>
                  </a:moveTo>
                  <a:lnTo>
                    <a:pt x="93" y="415"/>
                  </a:lnTo>
                  <a:lnTo>
                    <a:pt x="71" y="5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68" y="49"/>
                  </a:lnTo>
                  <a:lnTo>
                    <a:pt x="67" y="61"/>
                  </a:lnTo>
                  <a:lnTo>
                    <a:pt x="64" y="72"/>
                  </a:lnTo>
                  <a:lnTo>
                    <a:pt x="0" y="133"/>
                  </a:lnTo>
                  <a:lnTo>
                    <a:pt x="13" y="336"/>
                  </a:lnTo>
                  <a:lnTo>
                    <a:pt x="91" y="420"/>
                  </a:lnTo>
                  <a:close/>
                  <a:moveTo>
                    <a:pt x="71" y="41"/>
                  </a:moveTo>
                  <a:lnTo>
                    <a:pt x="93" y="415"/>
                  </a:lnTo>
                  <a:lnTo>
                    <a:pt x="93" y="424"/>
                  </a:lnTo>
                  <a:lnTo>
                    <a:pt x="94" y="438"/>
                  </a:lnTo>
                  <a:lnTo>
                    <a:pt x="100" y="445"/>
                  </a:lnTo>
                  <a:lnTo>
                    <a:pt x="107" y="448"/>
                  </a:lnTo>
                  <a:lnTo>
                    <a:pt x="114" y="453"/>
                  </a:lnTo>
                  <a:lnTo>
                    <a:pt x="120" y="454"/>
                  </a:lnTo>
                  <a:lnTo>
                    <a:pt x="127" y="454"/>
                  </a:lnTo>
                  <a:lnTo>
                    <a:pt x="141" y="454"/>
                  </a:lnTo>
                  <a:lnTo>
                    <a:pt x="161" y="453"/>
                  </a:lnTo>
                  <a:lnTo>
                    <a:pt x="181" y="450"/>
                  </a:lnTo>
                  <a:lnTo>
                    <a:pt x="581" y="376"/>
                  </a:lnTo>
                  <a:lnTo>
                    <a:pt x="593" y="374"/>
                  </a:lnTo>
                  <a:lnTo>
                    <a:pt x="601" y="368"/>
                  </a:lnTo>
                  <a:lnTo>
                    <a:pt x="607" y="356"/>
                  </a:lnTo>
                  <a:lnTo>
                    <a:pt x="607" y="344"/>
                  </a:lnTo>
                  <a:lnTo>
                    <a:pt x="567" y="27"/>
                  </a:lnTo>
                  <a:lnTo>
                    <a:pt x="566" y="18"/>
                  </a:lnTo>
                  <a:lnTo>
                    <a:pt x="563" y="10"/>
                  </a:lnTo>
                  <a:lnTo>
                    <a:pt x="554" y="2"/>
                  </a:lnTo>
                  <a:lnTo>
                    <a:pt x="537" y="0"/>
                  </a:lnTo>
                  <a:lnTo>
                    <a:pt x="154" y="12"/>
                  </a:lnTo>
                  <a:lnTo>
                    <a:pt x="122" y="12"/>
                  </a:lnTo>
                  <a:lnTo>
                    <a:pt x="112" y="12"/>
                  </a:lnTo>
                  <a:lnTo>
                    <a:pt x="104" y="15"/>
                  </a:lnTo>
                  <a:lnTo>
                    <a:pt x="95" y="20"/>
                  </a:lnTo>
                  <a:lnTo>
                    <a:pt x="85" y="27"/>
                  </a:lnTo>
                  <a:lnTo>
                    <a:pt x="71" y="4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94800" y="3819600"/>
              <a:ext cx="87120" cy="9540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0" y="47"/>
                  </a:moveTo>
                  <a:lnTo>
                    <a:pt x="54" y="0"/>
                  </a:lnTo>
                  <a:lnTo>
                    <a:pt x="54" y="20"/>
                  </a:lnTo>
                  <a:lnTo>
                    <a:pt x="0" y="64"/>
                  </a:lnTo>
                  <a:lnTo>
                    <a:pt x="0" y="4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40600" y="3729960"/>
              <a:ext cx="45000" cy="604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26280" y="3710520"/>
              <a:ext cx="56160" cy="649080"/>
            </a:xfrm>
            <a:custGeom>
              <a:avLst/>
              <a:gdLst/>
              <a:ahLst/>
              <a:rect l="l" t="t" r="r" b="b"/>
              <a:pathLst>
                <a:path w="35" h="435">
                  <a:moveTo>
                    <a:pt x="35" y="435"/>
                  </a:moveTo>
                  <a:lnTo>
                    <a:pt x="32" y="430"/>
                  </a:lnTo>
                  <a:lnTo>
                    <a:pt x="28" y="428"/>
                  </a:lnTo>
                  <a:lnTo>
                    <a:pt x="27" y="422"/>
                  </a:lnTo>
                  <a:lnTo>
                    <a:pt x="25" y="409"/>
                  </a:lnTo>
                  <a:lnTo>
                    <a:pt x="24" y="388"/>
                  </a:lnTo>
                  <a:lnTo>
                    <a:pt x="21" y="342"/>
                  </a:lnTo>
                  <a:lnTo>
                    <a:pt x="17" y="282"/>
                  </a:lnTo>
                  <a:lnTo>
                    <a:pt x="12" y="214"/>
                  </a:lnTo>
                  <a:lnTo>
                    <a:pt x="8" y="147"/>
                  </a:lnTo>
                  <a:lnTo>
                    <a:pt x="4" y="89"/>
                  </a:lnTo>
                  <a:lnTo>
                    <a:pt x="1" y="4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94800" y="3819600"/>
              <a:ext cx="87120" cy="9540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0" y="47"/>
                  </a:moveTo>
                  <a:lnTo>
                    <a:pt x="54" y="0"/>
                  </a:lnTo>
                  <a:lnTo>
                    <a:pt x="54" y="20"/>
                  </a:lnTo>
                  <a:lnTo>
                    <a:pt x="0" y="6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21680" y="3759840"/>
              <a:ext cx="569160" cy="466920"/>
            </a:xfrm>
            <a:custGeom>
              <a:avLst/>
              <a:gdLst/>
              <a:ahLst/>
              <a:rect l="l" t="t" r="r" b="b"/>
              <a:pathLst>
                <a:path w="352" h="313">
                  <a:moveTo>
                    <a:pt x="19" y="9"/>
                  </a:moveTo>
                  <a:lnTo>
                    <a:pt x="6" y="10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5" y="74"/>
                  </a:lnTo>
                  <a:lnTo>
                    <a:pt x="10" y="168"/>
                  </a:lnTo>
                  <a:lnTo>
                    <a:pt x="16" y="261"/>
                  </a:lnTo>
                  <a:lnTo>
                    <a:pt x="20" y="305"/>
                  </a:lnTo>
                  <a:lnTo>
                    <a:pt x="22" y="308"/>
                  </a:lnTo>
                  <a:lnTo>
                    <a:pt x="27" y="313"/>
                  </a:lnTo>
                  <a:lnTo>
                    <a:pt x="37" y="313"/>
                  </a:lnTo>
                  <a:lnTo>
                    <a:pt x="338" y="272"/>
                  </a:lnTo>
                  <a:lnTo>
                    <a:pt x="348" y="268"/>
                  </a:lnTo>
                  <a:lnTo>
                    <a:pt x="351" y="262"/>
                  </a:lnTo>
                  <a:lnTo>
                    <a:pt x="352" y="249"/>
                  </a:lnTo>
                  <a:lnTo>
                    <a:pt x="328" y="16"/>
                  </a:lnTo>
                  <a:lnTo>
                    <a:pt x="324" y="6"/>
                  </a:lnTo>
                  <a:lnTo>
                    <a:pt x="319" y="1"/>
                  </a:lnTo>
                  <a:lnTo>
                    <a:pt x="310" y="0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21680" y="3779280"/>
              <a:ext cx="530280" cy="435600"/>
            </a:xfrm>
            <a:custGeom>
              <a:avLst/>
              <a:gdLst/>
              <a:ahLst/>
              <a:rect l="l" t="t" r="r" b="b"/>
              <a:pathLst>
                <a:path w="328" h="292">
                  <a:moveTo>
                    <a:pt x="0" y="10"/>
                  </a:moveTo>
                  <a:lnTo>
                    <a:pt x="5" y="61"/>
                  </a:lnTo>
                  <a:lnTo>
                    <a:pt x="10" y="155"/>
                  </a:lnTo>
                  <a:lnTo>
                    <a:pt x="16" y="248"/>
                  </a:lnTo>
                  <a:lnTo>
                    <a:pt x="20" y="292"/>
                  </a:lnTo>
                  <a:lnTo>
                    <a:pt x="32" y="290"/>
                  </a:lnTo>
                  <a:lnTo>
                    <a:pt x="311" y="251"/>
                  </a:lnTo>
                  <a:lnTo>
                    <a:pt x="321" y="246"/>
                  </a:lnTo>
                  <a:lnTo>
                    <a:pt x="328" y="233"/>
                  </a:lnTo>
                  <a:lnTo>
                    <a:pt x="310" y="18"/>
                  </a:lnTo>
                  <a:lnTo>
                    <a:pt x="304" y="4"/>
                  </a:lnTo>
                  <a:lnTo>
                    <a:pt x="29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86120" y="3340800"/>
              <a:ext cx="30600" cy="10728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0" y="72"/>
                  </a:moveTo>
                  <a:lnTo>
                    <a:pt x="10" y="62"/>
                  </a:lnTo>
                  <a:lnTo>
                    <a:pt x="17" y="50"/>
                  </a:lnTo>
                  <a:lnTo>
                    <a:pt x="19" y="36"/>
                  </a:lnTo>
                  <a:lnTo>
                    <a:pt x="17" y="23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29600" y="3363120"/>
              <a:ext cx="774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29600" y="3425760"/>
              <a:ext cx="774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00960" y="3394080"/>
              <a:ext cx="5796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10" y="0"/>
                  </a:lnTo>
                  <a:lnTo>
                    <a:pt x="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86120" y="3343320"/>
              <a:ext cx="114480" cy="10440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35"/>
                  </a:moveTo>
                  <a:lnTo>
                    <a:pt x="64" y="47"/>
                  </a:lnTo>
                  <a:lnTo>
                    <a:pt x="52" y="58"/>
                  </a:lnTo>
                  <a:lnTo>
                    <a:pt x="36" y="65"/>
                  </a:lnTo>
                  <a:lnTo>
                    <a:pt x="19" y="70"/>
                  </a:lnTo>
                  <a:lnTo>
                    <a:pt x="0" y="70"/>
                  </a:lnTo>
                  <a:lnTo>
                    <a:pt x="10" y="60"/>
                  </a:lnTo>
                  <a:lnTo>
                    <a:pt x="17" y="47"/>
                  </a:lnTo>
                  <a:lnTo>
                    <a:pt x="19" y="34"/>
                  </a:lnTo>
                  <a:lnTo>
                    <a:pt x="17" y="21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6" y="4"/>
                  </a:lnTo>
                  <a:lnTo>
                    <a:pt x="52" y="11"/>
                  </a:lnTo>
                  <a:lnTo>
                    <a:pt x="64" y="23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86120" y="3343320"/>
              <a:ext cx="114480" cy="10440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23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52" y="4"/>
                  </a:lnTo>
                  <a:lnTo>
                    <a:pt x="63" y="13"/>
                  </a:lnTo>
                  <a:lnTo>
                    <a:pt x="70" y="23"/>
                  </a:lnTo>
                  <a:lnTo>
                    <a:pt x="71" y="34"/>
                  </a:lnTo>
                  <a:lnTo>
                    <a:pt x="70" y="47"/>
                  </a:lnTo>
                  <a:lnTo>
                    <a:pt x="63" y="57"/>
                  </a:lnTo>
                  <a:lnTo>
                    <a:pt x="52" y="65"/>
                  </a:lnTo>
                  <a:lnTo>
                    <a:pt x="37" y="70"/>
                  </a:lnTo>
                  <a:lnTo>
                    <a:pt x="23" y="7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93440" y="3315240"/>
              <a:ext cx="279720" cy="87840"/>
            </a:xfrm>
            <a:custGeom>
              <a:avLst/>
              <a:gdLst/>
              <a:ahLst/>
              <a:rect l="l" t="t" r="r" b="b"/>
              <a:pathLst>
                <a:path w="173" h="59">
                  <a:moveTo>
                    <a:pt x="0" y="33"/>
                  </a:moveTo>
                  <a:lnTo>
                    <a:pt x="32" y="33"/>
                  </a:lnTo>
                  <a:lnTo>
                    <a:pt x="39" y="0"/>
                  </a:lnTo>
                  <a:lnTo>
                    <a:pt x="57" y="59"/>
                  </a:lnTo>
                  <a:lnTo>
                    <a:pt x="77" y="0"/>
                  </a:lnTo>
                  <a:lnTo>
                    <a:pt x="96" y="59"/>
                  </a:lnTo>
                  <a:lnTo>
                    <a:pt x="116" y="0"/>
                  </a:lnTo>
                  <a:lnTo>
                    <a:pt x="129" y="59"/>
                  </a:lnTo>
                  <a:lnTo>
                    <a:pt x="141" y="33"/>
                  </a:lnTo>
                  <a:lnTo>
                    <a:pt x="173" y="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10360" y="3495600"/>
              <a:ext cx="279720" cy="87840"/>
            </a:xfrm>
            <a:custGeom>
              <a:avLst/>
              <a:gdLst/>
              <a:ahLst/>
              <a:rect l="l" t="t" r="r" b="b"/>
              <a:pathLst>
                <a:path w="173" h="59">
                  <a:moveTo>
                    <a:pt x="0" y="33"/>
                  </a:moveTo>
                  <a:lnTo>
                    <a:pt x="32" y="33"/>
                  </a:lnTo>
                  <a:lnTo>
                    <a:pt x="39" y="0"/>
                  </a:lnTo>
                  <a:lnTo>
                    <a:pt x="57" y="59"/>
                  </a:lnTo>
                  <a:lnTo>
                    <a:pt x="77" y="0"/>
                  </a:lnTo>
                  <a:lnTo>
                    <a:pt x="96" y="59"/>
                  </a:lnTo>
                  <a:lnTo>
                    <a:pt x="116" y="0"/>
                  </a:lnTo>
                  <a:lnTo>
                    <a:pt x="129" y="59"/>
                  </a:lnTo>
                  <a:lnTo>
                    <a:pt x="141" y="33"/>
                  </a:lnTo>
                  <a:lnTo>
                    <a:pt x="173" y="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35240" y="3273480"/>
              <a:ext cx="264960" cy="3056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800200" y="3395880"/>
              <a:ext cx="1148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8800200" y="3549600"/>
              <a:ext cx="1148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800200" y="3395880"/>
              <a:ext cx="1148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800200" y="3395880"/>
              <a:ext cx="1148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8800200" y="3395880"/>
              <a:ext cx="1148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800200" y="3395880"/>
              <a:ext cx="1148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420400" y="3395880"/>
              <a:ext cx="1144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20400" y="3549600"/>
              <a:ext cx="1144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20400" y="3395880"/>
              <a:ext cx="1144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420400" y="3395880"/>
              <a:ext cx="1144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420400" y="3395880"/>
              <a:ext cx="1144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20400" y="3395880"/>
              <a:ext cx="1144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47200" y="3300120"/>
              <a:ext cx="45000" cy="597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0"/>
                  </a:moveTo>
                  <a:lnTo>
                    <a:pt x="0" y="40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777880" y="3382200"/>
              <a:ext cx="1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00" spc="-1" strike="noStrike">
                  <a:solidFill>
                    <a:srgbClr val="1f190f"/>
                  </a:solidFill>
                  <a:latin typeface="Century"/>
                  <a:ea typeface="ＭＳ ゴシック"/>
                </a:rPr>
                <a:t>0</a:t>
              </a:r>
              <a:endParaRPr b="0" lang="en-US" sz="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777880" y="3535920"/>
              <a:ext cx="1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00" spc="-1" strike="noStrike">
                  <a:solidFill>
                    <a:srgbClr val="1f190f"/>
                  </a:solidFill>
                  <a:latin typeface="Century"/>
                  <a:ea typeface="ＭＳ ゴシック"/>
                </a:rPr>
                <a:t>0</a:t>
              </a:r>
              <a:endParaRPr b="0" lang="en-US" sz="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546760" y="3382200"/>
              <a:ext cx="1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00" spc="-1" strike="noStrike">
                  <a:solidFill>
                    <a:srgbClr val="1f190f"/>
                  </a:solidFill>
                  <a:latin typeface="Century"/>
                  <a:ea typeface="ＭＳ ゴシック"/>
                </a:rPr>
                <a:t>0</a:t>
              </a:r>
              <a:endParaRPr b="0" lang="en-US" sz="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546760" y="3535920"/>
              <a:ext cx="1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00" spc="-1" strike="noStrike">
                  <a:solidFill>
                    <a:srgbClr val="1f190f"/>
                  </a:solidFill>
                  <a:latin typeface="Century"/>
                  <a:ea typeface="ＭＳ ゴシック"/>
                </a:rPr>
                <a:t>0</a:t>
              </a:r>
              <a:endParaRPr b="0" lang="en-US" sz="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756640" y="3316680"/>
              <a:ext cx="1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00" spc="-1" strike="noStrike">
                  <a:solidFill>
                    <a:srgbClr val="1f190f"/>
                  </a:solidFill>
                  <a:latin typeface="Century"/>
                  <a:ea typeface="ＭＳ ゴシック"/>
                </a:rPr>
                <a:t>0</a:t>
              </a:r>
              <a:endParaRPr b="0" lang="en-US" sz="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94400" y="3519720"/>
              <a:ext cx="1800" cy="6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65320" y="3519720"/>
              <a:ext cx="1800" cy="6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5320" y="3553920"/>
              <a:ext cx="547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41120" y="3553920"/>
              <a:ext cx="52920" cy="8208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33" y="0"/>
                  </a:moveTo>
                  <a:lnTo>
                    <a:pt x="0" y="0"/>
                  </a:lnTo>
                  <a:lnTo>
                    <a:pt x="0" y="5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86040" y="3636000"/>
              <a:ext cx="1080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8186040" y="3636000"/>
              <a:ext cx="172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8221320" y="3636000"/>
              <a:ext cx="190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257320" y="3636000"/>
              <a:ext cx="172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001080" y="3358080"/>
              <a:ext cx="1800" cy="8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072000" y="3358080"/>
              <a:ext cx="1800" cy="8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72000" y="3392640"/>
              <a:ext cx="741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910000" y="3392640"/>
              <a:ext cx="903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677240" y="11898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90f"/>
                </a:solidFill>
                <a:latin typeface="Times New Roman"/>
              </a:rPr>
              <a:t>Now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73680" y="12214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90f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477120" y="5257800"/>
            <a:ext cx="1752480" cy="380880"/>
          </a:xfrm>
          <a:prstGeom prst="ellipse">
            <a:avLst/>
          </a:prstGeom>
          <a:solidFill>
            <a:srgbClr val="dadada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5257800"/>
            <a:ext cx="1752480" cy="380880"/>
          </a:xfrm>
          <a:prstGeom prst="ellipse">
            <a:avLst/>
          </a:prstGeom>
          <a:solidFill>
            <a:srgbClr val="dadada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752480" y="990720"/>
            <a:ext cx="6537600" cy="5904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37240" y="2171880"/>
            <a:ext cx="1733760" cy="30096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3124080"/>
            <a:ext cx="76212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adada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10480" y="106560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90f"/>
                </a:solidFill>
                <a:latin typeface="Century"/>
                <a:ea typeface="ＭＳ ゴシック"/>
              </a:rPr>
              <a:t>Standardization   </a:t>
            </a:r>
            <a:r>
              <a:rPr b="0" lang="en-US" sz="2000" spc="-1" strike="noStrike">
                <a:solidFill>
                  <a:srgbClr val="1f190f"/>
                </a:solidFill>
                <a:latin typeface="Century"/>
                <a:ea typeface="ＭＳ ゴシック"/>
              </a:rPr>
              <a:t>IBIS / IMIC / SPICE etc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53920" y="223956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Century"/>
                <a:ea typeface="ＭＳ ゴシック"/>
              </a:rPr>
              <a:t>EDA Tool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Century"/>
                <a:ea typeface="ＭＳ ゴシック"/>
              </a:rPr>
              <a:t>Company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62160" y="223956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Century"/>
                <a:ea typeface="ＭＳ ゴシック"/>
              </a:rPr>
              <a:t>System Design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90f"/>
                </a:solidFill>
                <a:latin typeface="Century"/>
                <a:ea typeface="ＭＳ ゴシック"/>
              </a:rPr>
              <a:t>Company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18960" y="223956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entury"/>
                <a:ea typeface="ＭＳ ゴシック"/>
              </a:rPr>
              <a:t>Component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entury"/>
                <a:ea typeface="ＭＳ ゴシック"/>
              </a:rPr>
              <a:t>Company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13560" y="2819520"/>
            <a:ext cx="1600200" cy="76176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13560" y="3733920"/>
            <a:ext cx="1600200" cy="6094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13560" y="4495680"/>
            <a:ext cx="1600200" cy="60984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25800" y="2171880"/>
            <a:ext cx="1733760" cy="30096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774800" y="2171880"/>
            <a:ext cx="1273320" cy="30096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93760" y="301572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entury"/>
                <a:ea typeface="ＭＳ ゴシック"/>
              </a:rPr>
              <a:t>Semi Conductor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16360" y="3808800"/>
            <a:ext cx="179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entury"/>
                <a:ea typeface="ＭＳ ゴシック"/>
              </a:rPr>
              <a:t>Mechanical Device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entury"/>
                <a:ea typeface="ＭＳ ゴシック"/>
              </a:rPr>
              <a:t>Package,Connector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607080" y="4495680"/>
            <a:ext cx="162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entury"/>
                <a:ea typeface="ＭＳ ゴシック"/>
              </a:rPr>
              <a:t>General Part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entury"/>
                <a:ea typeface="ＭＳ ゴシック"/>
              </a:rPr>
              <a:t>Capacitor,Filter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3077280"/>
            <a:ext cx="177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Digital Network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 </a:t>
            </a: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Consumer Electronic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pic>
        <p:nvPicPr>
          <p:cNvPr id="680" name="NV-DJ100" descr=""/>
          <p:cNvPicPr/>
          <p:nvPr/>
        </p:nvPicPr>
        <p:blipFill>
          <a:blip r:embed="rId1"/>
          <a:stretch/>
        </p:blipFill>
        <p:spPr>
          <a:xfrm>
            <a:off x="3983040" y="4294080"/>
            <a:ext cx="990720" cy="811440"/>
          </a:xfrm>
          <a:prstGeom prst="rect">
            <a:avLst/>
          </a:prstGeom>
          <a:ln w="0">
            <a:noFill/>
          </a:ln>
        </p:spPr>
      </p:pic>
      <p:pic>
        <p:nvPicPr>
          <p:cNvPr id="681" name="mini1" descr=""/>
          <p:cNvPicPr/>
          <p:nvPr/>
        </p:nvPicPr>
        <p:blipFill>
          <a:blip r:embed="rId2"/>
          <a:stretch/>
        </p:blipFill>
        <p:spPr>
          <a:xfrm>
            <a:off x="4745160" y="3592440"/>
            <a:ext cx="838080" cy="82728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872000" y="30920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90f"/>
                </a:solidFill>
                <a:latin typeface="Century"/>
              </a:rPr>
              <a:t>CAD tool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41560" y="1676520"/>
            <a:ext cx="83808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dadada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03880" y="1676520"/>
            <a:ext cx="83808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dadada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94440" y="1676520"/>
            <a:ext cx="83844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dadada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3413520"/>
            <a:ext cx="10861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Century"/>
              </a:rPr>
              <a:t>Tools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Model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5790600" y="4494960"/>
            <a:ext cx="68580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adada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51440" y="4647600"/>
            <a:ext cx="131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S-para.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IBI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5790600" y="3656880"/>
            <a:ext cx="68580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adada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5790600" y="2362320"/>
            <a:ext cx="68580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adada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08680" y="2666160"/>
            <a:ext cx="85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IBI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IMIC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SPICE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27760" y="3809160"/>
            <a:ext cx="85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Data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190f"/>
                </a:solidFill>
                <a:latin typeface="Century"/>
              </a:rPr>
              <a:t>Sheet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1640" y="5189040"/>
            <a:ext cx="1749600" cy="520200"/>
          </a:xfrm>
          <a:prstGeom prst="ellipse">
            <a:avLst/>
          </a:prstGeom>
          <a:solidFill>
            <a:srgbClr val="dadada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190f"/>
                </a:solidFill>
                <a:latin typeface="Century"/>
              </a:rPr>
              <a:t>Vendors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45280" y="5257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190f"/>
                </a:solidFill>
                <a:latin typeface="Century"/>
              </a:rPr>
              <a:t>User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2240" y="5257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0000"/>
                </a:solidFill>
                <a:latin typeface="Century"/>
              </a:rPr>
              <a:t>Modeling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02400" y="339120"/>
            <a:ext cx="76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Difficult to get Simulation Model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66840" y="1690920"/>
            <a:ext cx="82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Century"/>
              </a:rPr>
              <a:t>NDA 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Century"/>
              </a:rPr>
              <a:t>or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Century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Century"/>
              </a:rPr>
              <a:t>Public? 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91760" y="58330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Century"/>
              </a:rPr>
              <a:t>Which model or who should be distributed?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2971800"/>
            <a:ext cx="1143000" cy="53352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657600"/>
            <a:ext cx="1143000" cy="53352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67600" y="365760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90f"/>
                </a:solidFill>
                <a:latin typeface="Century"/>
              </a:rPr>
              <a:t>Simul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90f"/>
                </a:solidFill>
                <a:latin typeface="Century"/>
              </a:rPr>
              <a:t> </a:t>
            </a:r>
            <a:r>
              <a:rPr b="0" lang="en-US" sz="1600" spc="-1" strike="noStrike">
                <a:solidFill>
                  <a:srgbClr val="1f190f"/>
                </a:solidFill>
                <a:latin typeface="Century"/>
              </a:rPr>
              <a:t>tool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27000" y="743040"/>
            <a:ext cx="808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7472b"/>
                </a:solidFill>
                <a:uFillTx/>
                <a:latin typeface="Century"/>
              </a:rPr>
              <a:t>Content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0840" y="4419720"/>
            <a:ext cx="7594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1720" y="1714680"/>
            <a:ext cx="7677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1. Introduction of ECALS-2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2. Status of Consumer Electronics Design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 Discussion meeting between Users and  Provide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Non-IC EMC/EMI  models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1 Passive Component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2 Connecto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3.3 Discrete Semiconductor Device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4. Conclusio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4915080" y="1790640"/>
            <a:ext cx="33526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62040" y="1790640"/>
            <a:ext cx="3353040" cy="2057400"/>
          </a:xfrm>
          <a:prstGeom prst="rect">
            <a:avLst/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62040" y="3848040"/>
            <a:ext cx="3353040" cy="2057400"/>
          </a:xfrm>
          <a:prstGeom prst="rect">
            <a:avLst/>
          </a:prstGeom>
          <a:solidFill>
            <a:srgbClr val="ccff99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562040" y="1790640"/>
            <a:ext cx="6705720" cy="411480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06480" y="2211480"/>
            <a:ext cx="281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Standardization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(IBIS , IMIC)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524560" y="4381560"/>
            <a:ext cx="2133720" cy="10666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74240" y="47768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entury"/>
              </a:rPr>
              <a:t>EDA Library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62040" y="3848040"/>
            <a:ext cx="6705720" cy="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915080" y="1790640"/>
            <a:ext cx="0" cy="411480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29280" y="4610160"/>
            <a:ext cx="1066680" cy="914400"/>
          </a:xfrm>
          <a:prstGeom prst="rightArrow">
            <a:avLst>
              <a:gd name="adj1" fmla="val 50000"/>
              <a:gd name="adj2" fmla="val 29163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05440" y="3409920"/>
            <a:ext cx="1067040" cy="895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8576000">
            <a:off x="4381200" y="3390840"/>
            <a:ext cx="106704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82840" y="3924360"/>
            <a:ext cx="349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Component 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              </a:t>
            </a: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Providers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Century"/>
              </a:rPr>
              <a:t>（</a:t>
            </a: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Model Providers</a:t>
            </a:r>
            <a:r>
              <a:rPr b="0" lang="zh-CN" sz="2800" spc="-1" strike="noStrike">
                <a:solidFill>
                  <a:srgbClr val="010000"/>
                </a:solidFill>
                <a:latin typeface="Century"/>
              </a:rPr>
              <a:t>）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55080" y="2209680"/>
            <a:ext cx="23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EDA Vendors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entury"/>
              </a:rPr>
              <a:t>(IBIS , IMIC)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492880"/>
            <a:ext cx="357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10000"/>
                </a:solidFill>
                <a:latin typeface="Century"/>
              </a:rPr>
              <a:t>1. Understanding trends in </a:t>
            </a:r>
            <a:r>
              <a:rPr b="0" lang="ja-JP" sz="1200" spc="-1" strike="noStrike">
                <a:solidFill>
                  <a:srgbClr val="010000"/>
                </a:solidFill>
                <a:latin typeface="Century"/>
              </a:rPr>
              <a:t>ＥＭＣ／ＥＭＩ </a:t>
            </a:r>
            <a:r>
              <a:rPr b="0" lang="ja-JP" sz="1200" spc="-1" strike="noStrike">
                <a:solidFill>
                  <a:srgbClr val="010000"/>
                </a:solidFill>
                <a:latin typeface="Century"/>
              </a:rPr>
              <a:t>Model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10000"/>
                </a:solidFill>
                <a:latin typeface="Century"/>
              </a:rPr>
              <a:t>2. Infrastructure of EDA Library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38720" y="79812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10000"/>
                </a:solidFill>
                <a:uFillTx/>
                <a:latin typeface="Century"/>
              </a:rPr>
              <a:t>EDA  Library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49880" y="4264200"/>
            <a:ext cx="144720" cy="0"/>
          </a:xfrm>
          <a:prstGeom prst="line">
            <a:avLst/>
          </a:prstGeom>
          <a:ln w="2844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33600" y="4881600"/>
            <a:ext cx="0" cy="544320"/>
          </a:xfrm>
          <a:prstGeom prst="line">
            <a:avLst/>
          </a:prstGeom>
          <a:ln w="76320">
            <a:solidFill>
              <a:srgbClr val="00585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70200" y="3692520"/>
            <a:ext cx="0" cy="716040"/>
          </a:xfrm>
          <a:prstGeom prst="line">
            <a:avLst/>
          </a:prstGeom>
          <a:ln w="10152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36840" y="1854360"/>
            <a:ext cx="0" cy="1215720"/>
          </a:xfrm>
          <a:prstGeom prst="line">
            <a:avLst/>
          </a:prstGeom>
          <a:ln w="10152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1427040"/>
            <a:ext cx="4584600" cy="421560"/>
          </a:xfrm>
          <a:prstGeom prst="rect">
            <a:avLst/>
          </a:prstGeom>
          <a:solidFill>
            <a:srgbClr val="6699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MITI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36840" y="3429000"/>
            <a:ext cx="0" cy="428760"/>
          </a:xfrm>
          <a:prstGeom prst="line">
            <a:avLst/>
          </a:prstGeom>
          <a:ln w="10152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5400" y="3648240"/>
            <a:ext cx="0" cy="715680"/>
          </a:xfrm>
          <a:prstGeom prst="line">
            <a:avLst/>
          </a:prstGeom>
          <a:ln w="10152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2855880"/>
            <a:ext cx="4593960" cy="641160"/>
          </a:xfrm>
          <a:prstGeom prst="rect">
            <a:avLst/>
          </a:prstGeom>
          <a:solidFill>
            <a:srgbClr val="6699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Japan   EC/CALS Organization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(JECLAS)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600" y="3998880"/>
            <a:ext cx="2700000" cy="915480"/>
          </a:xfrm>
          <a:prstGeom prst="rect">
            <a:avLst/>
          </a:prstGeom>
          <a:solidFill>
            <a:srgbClr val="6699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Electronics CALS </a:t>
            </a:r>
            <a:br>
              <a:rPr sz="2000"/>
            </a:b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(ECALS-2)</a:t>
            </a:r>
            <a:br>
              <a:rPr sz="2000"/>
            </a:b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- ECALS 2nd action -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98640" y="3733920"/>
            <a:ext cx="1417680" cy="0"/>
          </a:xfrm>
          <a:prstGeom prst="line">
            <a:avLst/>
          </a:prstGeom>
          <a:ln w="10152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58560" y="5457960"/>
            <a:ext cx="32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b50069"/>
                </a:solidFill>
                <a:latin typeface="Century"/>
              </a:rPr>
              <a:t>Collaborative working with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0560" y="2139840"/>
            <a:ext cx="4586040" cy="421560"/>
          </a:xfrm>
          <a:prstGeom prst="rect">
            <a:avLst/>
          </a:prstGeom>
          <a:solidFill>
            <a:srgbClr val="6699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IPA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36520" y="3979800"/>
            <a:ext cx="1625760" cy="915480"/>
          </a:xfrm>
          <a:prstGeom prst="rect">
            <a:avLst/>
          </a:prstGeom>
          <a:solidFill>
            <a:srgbClr val="6699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EC/CALS </a:t>
            </a:r>
            <a:br>
              <a:rPr sz="2000"/>
            </a:b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for other </a:t>
            </a:r>
            <a:br>
              <a:rPr sz="2000"/>
            </a:b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Industries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32680" y="1906560"/>
            <a:ext cx="3136680" cy="12193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67440" y="1144440"/>
            <a:ext cx="1981080" cy="609840"/>
          </a:xfrm>
          <a:prstGeom prst="rect">
            <a:avLst/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  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IEC</a:t>
            </a:r>
            <a:r>
              <a:rPr b="1" lang="ja-JP" sz="2400" spc="-1" strike="noStrike">
                <a:solidFill>
                  <a:srgbClr val="1f190f"/>
                </a:solidFill>
                <a:latin typeface="Century"/>
              </a:rPr>
              <a:t>　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92920" y="2363760"/>
            <a:ext cx="1568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EIA</a:t>
            </a:r>
            <a:r>
              <a:rPr b="1" lang="zh-CN" sz="2400" spc="-1" strike="noStrike">
                <a:solidFill>
                  <a:srgbClr val="1f190f"/>
                </a:solidFill>
                <a:latin typeface="Century"/>
              </a:rPr>
              <a:t>（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IBIS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2680" y="3354480"/>
            <a:ext cx="3297240" cy="28573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00880" y="3506760"/>
            <a:ext cx="214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EIAJ</a:t>
            </a:r>
            <a:r>
              <a:rPr b="1" lang="zh-CN" sz="2400" spc="-1" strike="noStrike">
                <a:solidFill>
                  <a:srgbClr val="1f190f"/>
                </a:solidFill>
                <a:latin typeface="Century"/>
              </a:rPr>
              <a:t>（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IMIC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65760" y="3963960"/>
            <a:ext cx="2476800" cy="64764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90f"/>
                </a:solidFill>
                <a:latin typeface="Century"/>
              </a:rPr>
              <a:t>I/O Model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90f"/>
                </a:solidFill>
                <a:latin typeface="Century"/>
              </a:rPr>
              <a:t>Package Model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49880" y="1754280"/>
            <a:ext cx="0" cy="2514600"/>
          </a:xfrm>
          <a:prstGeom prst="line">
            <a:avLst/>
          </a:prstGeom>
          <a:ln w="2844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49880" y="2592360"/>
            <a:ext cx="82800" cy="0"/>
          </a:xfrm>
          <a:prstGeom prst="line">
            <a:avLst/>
          </a:prstGeom>
          <a:ln w="2844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9800" y="4782960"/>
            <a:ext cx="2666880" cy="1162080"/>
          </a:xfrm>
          <a:prstGeom prst="rect">
            <a:avLst/>
          </a:pr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CALS/EC Promotion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Special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 </a:t>
            </a: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Committee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25680" y="5384880"/>
            <a:ext cx="3284640" cy="0"/>
          </a:xfrm>
          <a:prstGeom prst="line">
            <a:avLst/>
          </a:prstGeom>
          <a:ln w="101520">
            <a:solidFill>
              <a:srgbClr val="00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81240" y="307440"/>
            <a:ext cx="55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7472b"/>
                </a:solidFill>
                <a:uFillTx/>
                <a:latin typeface="Century"/>
              </a:rPr>
              <a:t>Introduction of ECALS-2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2640" y="1020600"/>
            <a:ext cx="48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ECALS-2  is sponsored by MITI through JECALS/JIPDEC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23840" y="19512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  <a:ea typeface="ＭＳ ゴシック"/>
              </a:rPr>
              <a:t>	</a:t>
            </a: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  <a:ea typeface="ＭＳ ゴシック"/>
              </a:rPr>
              <a:t>Organization in ECALS-2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22240" y="896760"/>
            <a:ext cx="7850160" cy="5307120"/>
            <a:chOff x="822240" y="896760"/>
            <a:chExt cx="7850160" cy="5307120"/>
          </a:xfrm>
        </p:grpSpPr>
        <p:sp>
          <p:nvSpPr>
            <p:cNvPr id="183" name=""/>
            <p:cNvSpPr/>
            <p:nvPr/>
          </p:nvSpPr>
          <p:spPr>
            <a:xfrm>
              <a:off x="2365200" y="896760"/>
              <a:ext cx="6183360" cy="5307120"/>
            </a:xfrm>
            <a:prstGeom prst="roundRect">
              <a:avLst>
                <a:gd name="adj" fmla="val 3995"/>
              </a:avLst>
            </a:prstGeom>
            <a:solidFill>
              <a:srgbClr val="eaeaea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90800" bIns="19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41240" y="5175360"/>
              <a:ext cx="1582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User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</a:t>
              </a:r>
              <a:r>
                <a:rPr b="1" lang="zh-CN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：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ITSUBISHI 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55640" y="5700600"/>
              <a:ext cx="1329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Resource Center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</a:t>
              </a:r>
              <a:r>
                <a:rPr b="1" lang="zh-CN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：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HITACHI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8800" y="1363680"/>
              <a:ext cx="36036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 : NEC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Vice Chair : HITACHI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ember : EIAJ, MITSUBISHI, ALPS, MATSUSHITA,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                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URATA, TDK, FUJITSU,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                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ATSUSHITA COMPONENTS                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Auditor : ALPS, MITSUBISHI</a:t>
              </a:r>
              <a:r>
                <a:rPr b="1" lang="zh-CN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　　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38800" y="5973840"/>
              <a:ext cx="476280" cy="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438440" y="3662280"/>
              <a:ext cx="476280" cy="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43480" y="1208160"/>
              <a:ext cx="0" cy="476388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64040" y="1044720"/>
              <a:ext cx="823680" cy="291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ECALS-2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8120" y="2441520"/>
              <a:ext cx="1120680" cy="417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Steering Committee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92040" y="2957400"/>
              <a:ext cx="1099800" cy="417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Technical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ommittee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48120" y="1460520"/>
              <a:ext cx="1120680" cy="219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Board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8360" y="1414440"/>
              <a:ext cx="0" cy="919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2240" y="1353960"/>
              <a:ext cx="1092240" cy="4078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E I A J</a:t>
              </a:r>
              <a:endParaRPr b="0" lang="en-US" sz="18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03240" y="2333520"/>
              <a:ext cx="968400" cy="462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ALS/EC Center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94080" y="1393920"/>
              <a:ext cx="1050840" cy="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5320" y="1852560"/>
              <a:ext cx="11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Operation support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7000" y="3475080"/>
              <a:ext cx="552600" cy="489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WG1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51400" y="4778280"/>
              <a:ext cx="387360" cy="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51400" y="5573880"/>
              <a:ext cx="425520" cy="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36080" y="4589640"/>
              <a:ext cx="552600" cy="489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WG3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36080" y="5143680"/>
              <a:ext cx="552600" cy="489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WG4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27440" y="5670720"/>
              <a:ext cx="569880" cy="489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WG5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38800" y="4218120"/>
              <a:ext cx="425160" cy="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36080" y="4029120"/>
              <a:ext cx="552600" cy="489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WG2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94080" y="1403280"/>
              <a:ext cx="1440" cy="2675160"/>
            </a:xfrm>
            <a:prstGeom prst="line">
              <a:avLst/>
            </a:prstGeom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5560" y="2381400"/>
              <a:ext cx="1093680" cy="291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Secretariat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4010040"/>
              <a:ext cx="1368360" cy="1402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Staff and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Researchers</a:t>
              </a:r>
              <a:endParaRPr b="0" lang="en-US" sz="13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	</a:t>
              </a: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NEC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	</a:t>
              </a: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ATSUSHITA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	</a:t>
              </a: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ALPS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	</a:t>
              </a: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ITSUBISHI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	</a:t>
              </a: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HITACHI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00760" y="2505240"/>
              <a:ext cx="2838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      : NEC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ember : same as the Board member 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31000" y="2957400"/>
              <a:ext cx="1546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</a:t>
              </a:r>
              <a:r>
                <a:rPr b="1" lang="zh-CN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：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ITSUBISHI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73640" y="4621320"/>
              <a:ext cx="1046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Supplier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</a:t>
              </a:r>
              <a:r>
                <a:rPr b="1" lang="zh-CN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：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ALPS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2560" y="4060800"/>
              <a:ext cx="3079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Standardization of Information Exchange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</a:t>
              </a:r>
              <a:r>
                <a:rPr b="1" lang="zh-CN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：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HITACHI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83640" y="3506760"/>
              <a:ext cx="2904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Standardization of EC’s Representation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Chair</a:t>
              </a:r>
              <a:r>
                <a:rPr b="1" lang="zh-CN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：</a:t>
              </a:r>
              <a:r>
                <a:rPr b="1" lang="en-US" sz="11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MATSUSHITA</a:t>
              </a:r>
              <a:endParaRPr b="0" lang="en-US" sz="11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37480" y="2749680"/>
              <a:ext cx="165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Secretary-general : 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 </a:t>
              </a: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  <a:ea typeface="ＭＳ ゴシック"/>
                </a:rPr>
                <a:t>EIAJ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1240" y="1380960"/>
              <a:ext cx="451080" cy="346320"/>
            </a:xfrm>
            <a:prstGeom prst="leftRightArrow">
              <a:avLst>
                <a:gd name="adj1" fmla="val 50000"/>
                <a:gd name="adj2" fmla="val 25929"/>
              </a:avLst>
            </a:prstGeom>
            <a:noFill/>
            <a:ln w="1260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92160" y="2351160"/>
              <a:ext cx="470160" cy="363600"/>
            </a:xfrm>
            <a:prstGeom prst="leftRightArrow">
              <a:avLst>
                <a:gd name="adj1" fmla="val 50000"/>
                <a:gd name="adj2" fmla="val 25741"/>
              </a:avLst>
            </a:prstGeom>
            <a:noFill/>
            <a:ln w="1260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rot="13314000">
            <a:off x="1461600" y="1530000"/>
            <a:ext cx="6154920" cy="3943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ab9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3040" y="1447920"/>
            <a:ext cx="8502480" cy="396216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433440" y="24768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An Object of Project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60240" y="685800"/>
            <a:ext cx="6934320" cy="228600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852560" y="2230560"/>
            <a:ext cx="871200" cy="512280"/>
            <a:chOff x="1852560" y="2230560"/>
            <a:chExt cx="871200" cy="512280"/>
          </a:xfrm>
        </p:grpSpPr>
        <p:sp>
          <p:nvSpPr>
            <p:cNvPr id="223" name=""/>
            <p:cNvSpPr/>
            <p:nvPr/>
          </p:nvSpPr>
          <p:spPr>
            <a:xfrm>
              <a:off x="1852560" y="2230560"/>
              <a:ext cx="871200" cy="5122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71280" y="231588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190f"/>
                  </a:solidFill>
                  <a:latin typeface="News Gothic MT"/>
                </a:rPr>
                <a:t>Inquiry</a:t>
              </a: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92000" y="2576520"/>
            <a:ext cx="882720" cy="5540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5480" y="262404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Plan for 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Sale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450040" y="1042920"/>
            <a:ext cx="1022040" cy="557280"/>
            <a:chOff x="5450040" y="1042920"/>
            <a:chExt cx="1022040" cy="557280"/>
          </a:xfrm>
        </p:grpSpPr>
        <p:sp>
          <p:nvSpPr>
            <p:cNvPr id="228" name=""/>
            <p:cNvSpPr/>
            <p:nvPr/>
          </p:nvSpPr>
          <p:spPr>
            <a:xfrm>
              <a:off x="5506560" y="1042920"/>
              <a:ext cx="909360" cy="5572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50040" y="109224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Production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cheme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413760" y="716040"/>
            <a:ext cx="1181880" cy="533160"/>
            <a:chOff x="6413760" y="716040"/>
            <a:chExt cx="1181880" cy="533160"/>
          </a:xfrm>
        </p:grpSpPr>
        <p:sp>
          <p:nvSpPr>
            <p:cNvPr id="231" name=""/>
            <p:cNvSpPr/>
            <p:nvPr/>
          </p:nvSpPr>
          <p:spPr>
            <a:xfrm>
              <a:off x="6443640" y="716040"/>
              <a:ext cx="1065600" cy="5331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13760" y="843120"/>
              <a:ext cx="118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Procurement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3879720" y="2742840"/>
            <a:ext cx="5695920" cy="3505320"/>
          </a:xfrm>
          <a:prstGeom prst="line">
            <a:avLst/>
          </a:prstGeom>
          <a:ln w="9360">
            <a:solidFill>
              <a:srgbClr val="5747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22760" y="5257800"/>
            <a:ext cx="79056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00080" y="53341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News Gothic MT"/>
              </a:rPr>
              <a:t>Inquiry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90640" y="4759200"/>
            <a:ext cx="1142280" cy="524160"/>
            <a:chOff x="5390640" y="4759200"/>
            <a:chExt cx="1142280" cy="524160"/>
          </a:xfrm>
        </p:grpSpPr>
        <p:sp>
          <p:nvSpPr>
            <p:cNvPr id="237" name=""/>
            <p:cNvSpPr/>
            <p:nvPr/>
          </p:nvSpPr>
          <p:spPr>
            <a:xfrm>
              <a:off x="5391000" y="4759200"/>
              <a:ext cx="1118880" cy="504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0640" y="4824360"/>
              <a:ext cx="1142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Examination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pec.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234120" y="4286160"/>
            <a:ext cx="1067760" cy="524160"/>
            <a:chOff x="6234120" y="4286160"/>
            <a:chExt cx="1067760" cy="524160"/>
          </a:xfrm>
        </p:grpSpPr>
        <p:sp>
          <p:nvSpPr>
            <p:cNvPr id="240" name=""/>
            <p:cNvSpPr/>
            <p:nvPr/>
          </p:nvSpPr>
          <p:spPr>
            <a:xfrm>
              <a:off x="6253200" y="4286160"/>
              <a:ext cx="969480" cy="52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34120" y="4351320"/>
              <a:ext cx="106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ettlement 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pec.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878280" y="5745240"/>
            <a:ext cx="790560" cy="458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92680" y="57578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Plan for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Sale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1960" y="3457440"/>
            <a:ext cx="92700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560" y="354348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Production 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scheme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851360"/>
            <a:ext cx="828720" cy="509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89000" y="487692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Plan for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 </a:t>
            </a: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Sale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0037000">
            <a:off x="1630440" y="3227040"/>
            <a:ext cx="5306760" cy="1300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487920" y="2243160"/>
            <a:ext cx="1022040" cy="504720"/>
            <a:chOff x="6487920" y="2243160"/>
            <a:chExt cx="1022040" cy="504720"/>
          </a:xfrm>
        </p:grpSpPr>
        <p:sp>
          <p:nvSpPr>
            <p:cNvPr id="250" name=""/>
            <p:cNvSpPr/>
            <p:nvPr/>
          </p:nvSpPr>
          <p:spPr>
            <a:xfrm>
              <a:off x="6497640" y="2243160"/>
              <a:ext cx="1004400" cy="504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7920" y="226548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Production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cheme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351560" y="1903320"/>
            <a:ext cx="928800" cy="459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05840" y="19954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Production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091720" y="1550880"/>
            <a:ext cx="909360" cy="520200"/>
            <a:chOff x="8091720" y="1550880"/>
            <a:chExt cx="909360" cy="520200"/>
          </a:xfrm>
        </p:grpSpPr>
        <p:sp>
          <p:nvSpPr>
            <p:cNvPr id="255" name=""/>
            <p:cNvSpPr/>
            <p:nvPr/>
          </p:nvSpPr>
          <p:spPr>
            <a:xfrm>
              <a:off x="8127000" y="1550880"/>
              <a:ext cx="825480" cy="5090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91720" y="1612080"/>
              <a:ext cx="90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Delivered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goods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29920" y="3832200"/>
            <a:ext cx="1906920" cy="583920"/>
          </a:xfrm>
          <a:prstGeom prst="rect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  <a:effectLst>
            <a:outerShdw dist="107932" dir="2700000" blurRad="0" rotWithShape="0">
              <a:srgbClr val="ab9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Semiconductors /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 </a:t>
            </a: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Electronic Components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Maker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89640" y="56386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News Gothic MT"/>
              </a:rPr>
              <a:t>Desig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35200" y="3772080"/>
            <a:ext cx="1073160" cy="583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Performance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Information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25640" y="4635360"/>
            <a:ext cx="819000" cy="433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News Gothic MT"/>
              </a:rPr>
              <a:t>Design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8080" y="3429000"/>
            <a:ext cx="1059120" cy="520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Quality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Information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68720" y="3060720"/>
            <a:ext cx="947880" cy="430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Change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Spec.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13480" y="2679840"/>
            <a:ext cx="1046160" cy="520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Sample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Information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21080" y="4145040"/>
            <a:ext cx="1220760" cy="654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Public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Technical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Information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01400" y="2764800"/>
            <a:ext cx="935640" cy="1415160"/>
            <a:chOff x="2201400" y="2764800"/>
            <a:chExt cx="935640" cy="1415160"/>
          </a:xfrm>
        </p:grpSpPr>
        <p:sp>
          <p:nvSpPr>
            <p:cNvPr id="266" name=""/>
            <p:cNvSpPr/>
            <p:nvPr/>
          </p:nvSpPr>
          <p:spPr>
            <a:xfrm rot="20484000">
              <a:off x="2811240" y="3115440"/>
              <a:ext cx="78120" cy="160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484000">
              <a:off x="2338200" y="3265560"/>
              <a:ext cx="84960" cy="173520"/>
            </a:xfrm>
            <a:custGeom>
              <a:avLst/>
              <a:gdLst/>
              <a:ahLst/>
              <a:rect l="l" t="t" r="r" b="b"/>
              <a:pathLst>
                <a:path w="149" h="95">
                  <a:moveTo>
                    <a:pt x="0" y="0"/>
                  </a:moveTo>
                  <a:lnTo>
                    <a:pt x="146" y="0"/>
                  </a:lnTo>
                  <a:lnTo>
                    <a:pt x="149" y="95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484000">
              <a:off x="2368080" y="2826720"/>
              <a:ext cx="576000" cy="1141560"/>
            </a:xfrm>
            <a:custGeom>
              <a:avLst/>
              <a:gdLst/>
              <a:ahLst/>
              <a:rect l="l" t="t" r="r" b="b"/>
              <a:pathLst>
                <a:path w="1007" h="625">
                  <a:moveTo>
                    <a:pt x="497" y="0"/>
                  </a:moveTo>
                  <a:lnTo>
                    <a:pt x="0" y="194"/>
                  </a:lnTo>
                  <a:lnTo>
                    <a:pt x="144" y="194"/>
                  </a:lnTo>
                  <a:lnTo>
                    <a:pt x="48" y="625"/>
                  </a:lnTo>
                  <a:lnTo>
                    <a:pt x="959" y="625"/>
                  </a:lnTo>
                  <a:lnTo>
                    <a:pt x="864" y="194"/>
                  </a:lnTo>
                  <a:lnTo>
                    <a:pt x="1007" y="194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484000">
              <a:off x="2608200" y="3940920"/>
              <a:ext cx="516600" cy="160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414320" y="1912680"/>
            <a:ext cx="1281240" cy="1103760"/>
            <a:chOff x="4414320" y="1912680"/>
            <a:chExt cx="1281240" cy="1103760"/>
          </a:xfrm>
        </p:grpSpPr>
        <p:sp>
          <p:nvSpPr>
            <p:cNvPr id="271" name=""/>
            <p:cNvSpPr/>
            <p:nvPr/>
          </p:nvSpPr>
          <p:spPr>
            <a:xfrm rot="18283200">
              <a:off x="4995360" y="2101320"/>
              <a:ext cx="72360" cy="148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283200">
              <a:off x="4730760" y="2470320"/>
              <a:ext cx="78480" cy="160200"/>
            </a:xfrm>
            <a:custGeom>
              <a:avLst/>
              <a:gdLst/>
              <a:ahLst/>
              <a:rect l="l" t="t" r="r" b="b"/>
              <a:pathLst>
                <a:path w="149" h="95">
                  <a:moveTo>
                    <a:pt x="0" y="0"/>
                  </a:moveTo>
                  <a:lnTo>
                    <a:pt x="146" y="0"/>
                  </a:lnTo>
                  <a:lnTo>
                    <a:pt x="149" y="95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283200">
              <a:off x="4732920" y="1904400"/>
              <a:ext cx="532080" cy="1054080"/>
            </a:xfrm>
            <a:custGeom>
              <a:avLst/>
              <a:gdLst/>
              <a:ahLst/>
              <a:rect l="l" t="t" r="r" b="b"/>
              <a:pathLst>
                <a:path w="1007" h="625">
                  <a:moveTo>
                    <a:pt x="497" y="0"/>
                  </a:moveTo>
                  <a:lnTo>
                    <a:pt x="0" y="194"/>
                  </a:lnTo>
                  <a:lnTo>
                    <a:pt x="144" y="194"/>
                  </a:lnTo>
                  <a:lnTo>
                    <a:pt x="48" y="625"/>
                  </a:lnTo>
                  <a:lnTo>
                    <a:pt x="959" y="625"/>
                  </a:lnTo>
                  <a:lnTo>
                    <a:pt x="864" y="194"/>
                  </a:lnTo>
                  <a:lnTo>
                    <a:pt x="1007" y="194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283200">
              <a:off x="5260320" y="2703600"/>
              <a:ext cx="477000" cy="148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29240" y="2156760"/>
            <a:ext cx="1824480" cy="1728000"/>
            <a:chOff x="2829240" y="2156760"/>
            <a:chExt cx="1824480" cy="1728000"/>
          </a:xfrm>
        </p:grpSpPr>
        <p:sp>
          <p:nvSpPr>
            <p:cNvPr id="276" name=""/>
            <p:cNvSpPr/>
            <p:nvPr/>
          </p:nvSpPr>
          <p:spPr>
            <a:xfrm rot="19945800">
              <a:off x="4157640" y="2491560"/>
              <a:ext cx="204840" cy="147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945800">
              <a:off x="2999880" y="3084120"/>
              <a:ext cx="222840" cy="159120"/>
            </a:xfrm>
            <a:custGeom>
              <a:avLst/>
              <a:gdLst/>
              <a:ahLst/>
              <a:rect l="l" t="t" r="r" b="b"/>
              <a:pathLst>
                <a:path w="149" h="95">
                  <a:moveTo>
                    <a:pt x="0" y="0"/>
                  </a:moveTo>
                  <a:lnTo>
                    <a:pt x="146" y="0"/>
                  </a:lnTo>
                  <a:lnTo>
                    <a:pt x="149" y="95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945800">
              <a:off x="2986200" y="2446200"/>
              <a:ext cx="1508040" cy="1048680"/>
            </a:xfrm>
            <a:custGeom>
              <a:avLst/>
              <a:gdLst/>
              <a:ahLst/>
              <a:rect l="l" t="t" r="r" b="b"/>
              <a:pathLst>
                <a:path w="1007" h="625">
                  <a:moveTo>
                    <a:pt x="497" y="0"/>
                  </a:moveTo>
                  <a:lnTo>
                    <a:pt x="0" y="194"/>
                  </a:lnTo>
                  <a:lnTo>
                    <a:pt x="144" y="194"/>
                  </a:lnTo>
                  <a:lnTo>
                    <a:pt x="48" y="625"/>
                  </a:lnTo>
                  <a:lnTo>
                    <a:pt x="959" y="625"/>
                  </a:lnTo>
                  <a:lnTo>
                    <a:pt x="864" y="194"/>
                  </a:lnTo>
                  <a:lnTo>
                    <a:pt x="1007" y="194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945800">
              <a:off x="3344040" y="3432600"/>
              <a:ext cx="1352160" cy="147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273560" y="3527640"/>
            <a:ext cx="2035080" cy="1708920"/>
            <a:chOff x="4273560" y="3527640"/>
            <a:chExt cx="2035080" cy="1708920"/>
          </a:xfrm>
        </p:grpSpPr>
        <p:sp>
          <p:nvSpPr>
            <p:cNvPr id="281" name=""/>
            <p:cNvSpPr/>
            <p:nvPr/>
          </p:nvSpPr>
          <p:spPr>
            <a:xfrm rot="19689000">
              <a:off x="4323240" y="3965760"/>
              <a:ext cx="1866960" cy="72144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9689000">
              <a:off x="4531680" y="4566240"/>
              <a:ext cx="932760" cy="45864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9689000">
              <a:off x="5323680" y="4073760"/>
              <a:ext cx="933840" cy="45864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496320" y="4462560"/>
            <a:ext cx="1254240" cy="1131840"/>
            <a:chOff x="3496320" y="4462560"/>
            <a:chExt cx="1254240" cy="1131840"/>
          </a:xfrm>
        </p:grpSpPr>
        <p:sp>
          <p:nvSpPr>
            <p:cNvPr id="285" name=""/>
            <p:cNvSpPr/>
            <p:nvPr/>
          </p:nvSpPr>
          <p:spPr>
            <a:xfrm rot="18289200">
              <a:off x="3748320" y="4512960"/>
              <a:ext cx="611280" cy="93384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289200">
              <a:off x="4092120" y="5002560"/>
              <a:ext cx="305280" cy="59364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289200">
              <a:off x="4266360" y="4751640"/>
              <a:ext cx="305640" cy="59364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64840" y="3189600"/>
            <a:ext cx="978120" cy="1161360"/>
            <a:chOff x="5964840" y="3189600"/>
            <a:chExt cx="978120" cy="1161360"/>
          </a:xfrm>
        </p:grpSpPr>
        <p:sp>
          <p:nvSpPr>
            <p:cNvPr id="289" name=""/>
            <p:cNvSpPr/>
            <p:nvPr/>
          </p:nvSpPr>
          <p:spPr>
            <a:xfrm rot="20307000">
              <a:off x="6095160" y="3281760"/>
              <a:ext cx="662040" cy="83592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0307000">
              <a:off x="6217920" y="3777120"/>
              <a:ext cx="330840" cy="53136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0307000">
              <a:off x="6525360" y="3655440"/>
              <a:ext cx="331200" cy="53136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128240" y="1496880"/>
            <a:ext cx="939240" cy="583920"/>
          </a:xfrm>
          <a:prstGeom prst="rect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  <a:effectLst>
            <a:outerShdw dist="107932" dir="2700000" blurRad="0" rotWithShape="0">
              <a:srgbClr val="ab9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Electronic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Equipment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Maker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3360000">
            <a:off x="6157800" y="4236840"/>
            <a:ext cx="423720" cy="2379600"/>
          </a:xfrm>
          <a:custGeom>
            <a:avLst/>
            <a:gdLst>
              <a:gd name="textAreaLeft" fmla="*/ 0 w 423720"/>
              <a:gd name="textAreaRight" fmla="*/ 153000 w 423720"/>
              <a:gd name="textAreaTop" fmla="*/ 61920 h 2379600"/>
              <a:gd name="textAreaBottom" fmla="*/ 2317680 h 23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5022800">
            <a:off x="2796840" y="491400"/>
            <a:ext cx="357480" cy="2468880"/>
          </a:xfrm>
          <a:custGeom>
            <a:avLst/>
            <a:gdLst>
              <a:gd name="textAreaLeft" fmla="*/ 0 w 357480"/>
              <a:gd name="textAreaRight" fmla="*/ 128880 w 357480"/>
              <a:gd name="textAreaTop" fmla="*/ 64080 h 2468880"/>
              <a:gd name="textAreaBottom" fmla="*/ 2404800 h 246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94000" y="1295280"/>
            <a:ext cx="115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News Gothic MT"/>
              </a:rPr>
              <a:t>Desig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823840" y="1839960"/>
            <a:ext cx="1142280" cy="524160"/>
            <a:chOff x="2823840" y="1839960"/>
            <a:chExt cx="1142280" cy="524160"/>
          </a:xfrm>
        </p:grpSpPr>
        <p:sp>
          <p:nvSpPr>
            <p:cNvPr id="297" name=""/>
            <p:cNvSpPr/>
            <p:nvPr/>
          </p:nvSpPr>
          <p:spPr>
            <a:xfrm>
              <a:off x="2825640" y="1839960"/>
              <a:ext cx="1117440" cy="504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3840" y="1905120"/>
              <a:ext cx="1142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Examination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pec.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036680" y="1473120"/>
            <a:ext cx="1067760" cy="524160"/>
            <a:chOff x="4036680" y="1473120"/>
            <a:chExt cx="1067760" cy="524160"/>
          </a:xfrm>
        </p:grpSpPr>
        <p:sp>
          <p:nvSpPr>
            <p:cNvPr id="300" name=""/>
            <p:cNvSpPr/>
            <p:nvPr/>
          </p:nvSpPr>
          <p:spPr>
            <a:xfrm>
              <a:off x="4056120" y="1473120"/>
              <a:ext cx="970560" cy="52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36680" y="1538280"/>
              <a:ext cx="106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ettlement 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Spec.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451280" y="4470480"/>
            <a:ext cx="939240" cy="583920"/>
          </a:xfrm>
          <a:prstGeom prst="rect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  <a:effectLst>
            <a:outerShdw dist="107932" dir="2700000" blurRad="0" rotWithShape="0">
              <a:srgbClr val="ab9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Electronic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Equipment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190f"/>
                </a:solidFill>
                <a:latin typeface="News Gothic MT"/>
              </a:rPr>
              <a:t>Maker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255160" y="2924280"/>
            <a:ext cx="1181880" cy="533160"/>
            <a:chOff x="8255160" y="2924280"/>
            <a:chExt cx="1181880" cy="533160"/>
          </a:xfrm>
        </p:grpSpPr>
        <p:sp>
          <p:nvSpPr>
            <p:cNvPr id="304" name=""/>
            <p:cNvSpPr/>
            <p:nvPr/>
          </p:nvSpPr>
          <p:spPr>
            <a:xfrm>
              <a:off x="8285040" y="2924280"/>
              <a:ext cx="1065600" cy="5331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55160" y="3051360"/>
              <a:ext cx="118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90f"/>
                  </a:solidFill>
                  <a:latin typeface="News Gothic MT"/>
                </a:rPr>
                <a:t>Procurement</a:t>
              </a:r>
              <a:endParaRPr b="0" lang="en-US" sz="12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43040" y="152280"/>
            <a:ext cx="8420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Standardization of Representation and Exchange of</a:t>
            </a:r>
            <a:br>
              <a:rPr sz="2400"/>
            </a:br>
            <a:r>
              <a:rPr b="1" lang="en-US" sz="2400" spc="-1" strike="noStrike" u="sng">
                <a:solidFill>
                  <a:srgbClr val="1f190f"/>
                </a:solidFill>
                <a:uFillTx/>
                <a:latin typeface="Century"/>
              </a:rPr>
              <a:t>Electronic Component’s Technical Information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    </a:t>
            </a:r>
            <a:r>
              <a:rPr b="1" lang="en-US" sz="2400" spc="-1" strike="noStrike" u="sng">
                <a:solidFill>
                  <a:srgbClr val="1f190f"/>
                </a:solidFill>
                <a:uFillTx/>
                <a:latin typeface="Century"/>
              </a:rPr>
              <a:t> 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21400" y="954000"/>
            <a:ext cx="2768760" cy="643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Electronic Equipment Maker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01920" y="939960"/>
            <a:ext cx="2819520" cy="643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57472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Electronic Component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Maker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56520" y="2502000"/>
            <a:ext cx="660240" cy="35049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ab9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24560" y="3187800"/>
            <a:ext cx="495360" cy="228600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438960" y="3149640"/>
            <a:ext cx="480960" cy="226044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943600" y="3913200"/>
            <a:ext cx="434880" cy="22320"/>
          </a:xfrm>
          <a:prstGeom prst="line">
            <a:avLst/>
          </a:prstGeom>
          <a:ln w="38160">
            <a:solidFill>
              <a:srgbClr val="ab9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851520" y="1574640"/>
            <a:ext cx="746280" cy="1184400"/>
          </a:xfrm>
          <a:prstGeom prst="line">
            <a:avLst/>
          </a:prstGeom>
          <a:ln w="38160">
            <a:solidFill>
              <a:srgbClr val="ab9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72200" y="3720960"/>
            <a:ext cx="2923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02680" y="1903320"/>
            <a:ext cx="2172960" cy="4296600"/>
          </a:xfrm>
          <a:custGeom>
            <a:avLst/>
            <a:gdLst>
              <a:gd name="textAreaLeft" fmla="*/ 105840 w 2172960"/>
              <a:gd name="textAreaRight" fmla="*/ 2067120 w 2172960"/>
              <a:gd name="textAreaTop" fmla="*/ 105840 h 4296600"/>
              <a:gd name="textAreaBottom" fmla="*/ 4190760 h 4296600"/>
            </a:gdLst>
            <a:ahLst/>
            <a:rect l="textAreaLeft" t="textAreaTop" r="textAreaRight" b="textAreaBottom"/>
            <a:pathLst>
              <a:path w="21600" h="42706">
                <a:moveTo>
                  <a:pt x="3600" y="0"/>
                </a:moveTo>
                <a:arcTo wR="3600" hR="3600" stAng="16200000" swAng="-5400000"/>
                <a:lnTo>
                  <a:pt x="0" y="39106"/>
                </a:lnTo>
                <a:arcTo wR="3600" hR="3600" stAng="10800000" swAng="-5400000"/>
                <a:lnTo>
                  <a:pt x="18000" y="427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57472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1f190f"/>
                </a:solidFill>
                <a:latin typeface="Century"/>
              </a:rPr>
              <a:t>ISO / IEC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1f190f"/>
                </a:solidFill>
                <a:latin typeface="Century"/>
              </a:rPr>
              <a:t>+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1f190f"/>
                </a:solidFill>
                <a:latin typeface="Century"/>
              </a:rPr>
              <a:t>ECAL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70800" y="2593800"/>
            <a:ext cx="1797120" cy="56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Standardiz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of Exchange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70800" y="4795920"/>
            <a:ext cx="1854360" cy="1234800"/>
          </a:xfrm>
          <a:prstGeom prst="flowChartMultidocument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Guideline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+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Rule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43520" y="1612800"/>
            <a:ext cx="0" cy="519120"/>
          </a:xfrm>
          <a:prstGeom prst="line">
            <a:avLst/>
          </a:prstGeom>
          <a:ln w="38160">
            <a:solidFill>
              <a:srgbClr val="ab9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6880" y="3206880"/>
            <a:ext cx="406440" cy="723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8200" y="1733400"/>
            <a:ext cx="2173320" cy="4496040"/>
          </a:xfrm>
          <a:custGeom>
            <a:avLst/>
            <a:gdLst>
              <a:gd name="textAreaLeft" fmla="*/ 105840 w 2173320"/>
              <a:gd name="textAreaRight" fmla="*/ 2067480 w 2173320"/>
              <a:gd name="textAreaTop" fmla="*/ 105840 h 4496040"/>
              <a:gd name="textAreaBottom" fmla="*/ 4390200 h 4496040"/>
            </a:gdLst>
            <a:ahLst/>
            <a:rect l="textAreaLeft" t="textAreaTop" r="textAreaRight" b="textAreaBottom"/>
            <a:pathLst>
              <a:path w="21600" h="44681">
                <a:moveTo>
                  <a:pt x="3600" y="0"/>
                </a:moveTo>
                <a:arcTo wR="3600" hR="3600" stAng="16200000" swAng="-5400000"/>
                <a:lnTo>
                  <a:pt x="0" y="41081"/>
                </a:lnTo>
                <a:arcTo wR="3600" hR="3600" stAng="10800000" swAng="-5400000"/>
                <a:lnTo>
                  <a:pt x="18000" y="446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57472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824280" y="2889360"/>
            <a:ext cx="2082600" cy="977760"/>
            <a:chOff x="3824280" y="2889360"/>
            <a:chExt cx="2082600" cy="977760"/>
          </a:xfrm>
        </p:grpSpPr>
        <p:sp>
          <p:nvSpPr>
            <p:cNvPr id="322" name=""/>
            <p:cNvSpPr/>
            <p:nvPr/>
          </p:nvSpPr>
          <p:spPr>
            <a:xfrm>
              <a:off x="3916800" y="2889360"/>
              <a:ext cx="1898640" cy="977760"/>
            </a:xfrm>
            <a:prstGeom prst="flowChartMagneticDisk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24280" y="3183120"/>
              <a:ext cx="208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Catalogue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Information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56040" y="4775040"/>
            <a:ext cx="1820520" cy="1022400"/>
            <a:chOff x="3956040" y="4775040"/>
            <a:chExt cx="1820520" cy="1022400"/>
          </a:xfrm>
        </p:grpSpPr>
        <p:sp>
          <p:nvSpPr>
            <p:cNvPr id="325" name=""/>
            <p:cNvSpPr/>
            <p:nvPr/>
          </p:nvSpPr>
          <p:spPr>
            <a:xfrm>
              <a:off x="3956040" y="4775040"/>
              <a:ext cx="1820520" cy="1022400"/>
            </a:xfrm>
            <a:prstGeom prst="flowChartMagneticDisk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53240" y="513540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Technical/EDA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Information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778280" y="4087800"/>
            <a:ext cx="165240" cy="693720"/>
          </a:xfrm>
          <a:prstGeom prst="downArrow">
            <a:avLst>
              <a:gd name="adj1" fmla="val 50000"/>
              <a:gd name="adj2" fmla="val 104956"/>
            </a:avLst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3880" y="421488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Reference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21200" y="1886040"/>
            <a:ext cx="1689120" cy="83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Computer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Readable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DB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920" y="1600200"/>
            <a:ext cx="2682720" cy="4952880"/>
          </a:xfrm>
          <a:custGeom>
            <a:avLst/>
            <a:gdLst>
              <a:gd name="textAreaLeft" fmla="*/ 130680 w 2682720"/>
              <a:gd name="textAreaRight" fmla="*/ 2552040 w 2682720"/>
              <a:gd name="textAreaTop" fmla="*/ 130680 h 4952880"/>
              <a:gd name="textAreaBottom" fmla="*/ 4822200 h 4952880"/>
            </a:gdLst>
            <a:ahLst/>
            <a:rect l="textAreaLeft" t="textAreaTop" r="textAreaRight" b="textAreaBottom"/>
            <a:pathLst>
              <a:path w="21600" h="39876">
                <a:moveTo>
                  <a:pt x="3600" y="0"/>
                </a:moveTo>
                <a:arcTo wR="3600" hR="3600" stAng="16200000" swAng="-5400000"/>
                <a:lnTo>
                  <a:pt x="0" y="36276"/>
                </a:lnTo>
                <a:arcTo wR="3600" hR="3600" stAng="10800000" swAng="-5400000"/>
                <a:lnTo>
                  <a:pt x="18000" y="398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57472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10840" y="2781360"/>
            <a:ext cx="2378160" cy="1174680"/>
            <a:chOff x="510840" y="2781360"/>
            <a:chExt cx="2378160" cy="1174680"/>
          </a:xfrm>
        </p:grpSpPr>
        <p:sp>
          <p:nvSpPr>
            <p:cNvPr id="332" name=""/>
            <p:cNvSpPr/>
            <p:nvPr/>
          </p:nvSpPr>
          <p:spPr>
            <a:xfrm>
              <a:off x="539640" y="2781360"/>
              <a:ext cx="2325600" cy="1174680"/>
            </a:xfrm>
            <a:prstGeom prst="flowChartMagneticDisk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0840" y="3110040"/>
              <a:ext cx="237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Standard Dictionaries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(Classifications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/Properties</a:t>
              </a:r>
              <a:r>
                <a:rPr b="1" lang="en-US" sz="1400" spc="-1" strike="noStrike">
                  <a:solidFill>
                    <a:srgbClr val="1f190f"/>
                  </a:solidFill>
                  <a:latin typeface="Century"/>
                </a:rPr>
                <a:t>)</a:t>
              </a: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66760" y="2390760"/>
            <a:ext cx="28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Based on IEC / ISO(Plib)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55560" y="5105520"/>
            <a:ext cx="2091960" cy="1143000"/>
            <a:chOff x="655560" y="5105520"/>
            <a:chExt cx="2091960" cy="1143000"/>
          </a:xfrm>
        </p:grpSpPr>
        <p:sp>
          <p:nvSpPr>
            <p:cNvPr id="336" name=""/>
            <p:cNvSpPr/>
            <p:nvPr/>
          </p:nvSpPr>
          <p:spPr>
            <a:xfrm>
              <a:off x="655560" y="5105520"/>
              <a:ext cx="2091960" cy="1143000"/>
            </a:xfrm>
            <a:prstGeom prst="flowChartMagneticDisk">
              <a:avLst/>
            </a:prstGeom>
            <a:solidFill>
              <a:srgbClr val="ccecff"/>
            </a:solidFill>
            <a:ln w="9360">
              <a:solidFill>
                <a:srgbClr val="5747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3440" y="5421240"/>
              <a:ext cx="1632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Individual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Classifications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190f"/>
                  </a:solidFill>
                  <a:latin typeface="Century"/>
                </a:rPr>
                <a:t>Template</a:t>
              </a:r>
              <a:endParaRPr b="0" lang="en-US" sz="16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744120" y="1751040"/>
            <a:ext cx="1914120" cy="56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Standardiz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of Represent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7080" y="4419720"/>
            <a:ext cx="722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79600" y="4084560"/>
            <a:ext cx="1401840" cy="1098720"/>
          </a:xfrm>
          <a:prstGeom prst="flowChartMultidocument">
            <a:avLst/>
          </a:prstGeom>
          <a:solidFill>
            <a:srgbClr val="ccecff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Guidelines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+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 </a:t>
            </a: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Rules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24120" y="3940200"/>
            <a:ext cx="1251000" cy="496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Conforming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190f"/>
                </a:solidFill>
                <a:latin typeface="Century"/>
              </a:rPr>
              <a:t>ISs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95840" y="3935520"/>
            <a:ext cx="0" cy="839520"/>
          </a:xfrm>
          <a:prstGeom prst="line">
            <a:avLst/>
          </a:prstGeom>
          <a:ln w="38160">
            <a:solidFill>
              <a:srgbClr val="57472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52160" y="4200480"/>
            <a:ext cx="6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Link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90560" y="1600200"/>
            <a:ext cx="852336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(1) Standardization of </a:t>
            </a:r>
            <a:r>
              <a:rPr b="1" lang="ja-JP" sz="2300" spc="-1" strike="noStrike" u="sng">
                <a:solidFill>
                  <a:srgbClr val="1f190f"/>
                </a:solidFill>
                <a:uFillTx/>
                <a:latin typeface="Century"/>
              </a:rPr>
              <a:t>Dictionary and EDA model</a:t>
            </a:r>
            <a:br>
              <a:rPr sz="2300"/>
            </a:b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      for electronic component information  -WG1</a:t>
            </a:r>
            <a:endParaRPr b="0" lang="en-US" sz="23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(2) Software development for creating, delivering</a:t>
            </a:r>
            <a:br>
              <a:rPr sz="2300"/>
            </a:b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      and using electronic component information  -WG2 </a:t>
            </a:r>
            <a:br>
              <a:rPr sz="2300"/>
            </a:b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 </a:t>
            </a:r>
            <a:br>
              <a:rPr sz="2300"/>
            </a:b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(3) To provide electronic component information</a:t>
            </a:r>
            <a:br>
              <a:rPr sz="2300"/>
            </a:b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      based on ECALS standards   -WG3</a:t>
            </a:r>
            <a:endParaRPr b="0" lang="en-US" sz="23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(4) Verification test of equipment design using </a:t>
            </a:r>
            <a:br>
              <a:rPr sz="2300"/>
            </a:b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      proposed standards and developed software  -WG4</a:t>
            </a:r>
            <a:endParaRPr b="0" lang="en-US" sz="23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300"/>
            </a:b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(5) Proposal for business process model including  </a:t>
            </a:r>
            <a:endParaRPr b="0" lang="en-US" sz="23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     </a:t>
            </a:r>
            <a:r>
              <a:rPr b="1" lang="ja-JP" sz="2300" spc="-1" strike="noStrike">
                <a:solidFill>
                  <a:srgbClr val="1f190f"/>
                </a:solidFill>
                <a:latin typeface="Century"/>
              </a:rPr>
              <a:t>Resource Center activities  -WG5</a:t>
            </a:r>
            <a:endParaRPr b="0" lang="en-US" sz="23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76640" y="390600"/>
            <a:ext cx="511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Activities of ECALS-2</a:t>
            </a:r>
            <a:r>
              <a:rPr b="1" lang="en-US" sz="3400" spc="-1" strike="noStrike" u="sng">
                <a:solidFill>
                  <a:srgbClr val="1f190f"/>
                </a:solidFill>
                <a:uFillTx/>
                <a:latin typeface="Century"/>
              </a:rPr>
              <a:t> </a:t>
            </a:r>
            <a:endParaRPr b="0" lang="en-US" sz="3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60440" y="1028880"/>
            <a:ext cx="463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90f"/>
                </a:solidFill>
                <a:latin typeface="Century"/>
              </a:rPr>
              <a:t>Term : December 1998 -  March 2000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547640" y="1614600"/>
            <a:ext cx="860616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Standardization of Component Informatio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(1) Standard of Classification and Parameter</a:t>
            </a:r>
            <a:br>
              <a:rPr sz="2400"/>
            </a:b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    Dictionaries of Component Information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(2) Component Information Representation</a:t>
            </a:r>
            <a:br>
              <a:rPr sz="2400"/>
            </a:b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    Standard including Preliminary Data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(3) EDA model Representation Standard</a:t>
            </a:r>
            <a:br>
              <a:rPr sz="2400"/>
            </a:b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    (EDA Simulation Model, Logic Symbol,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      </a:t>
            </a:r>
            <a:r>
              <a:rPr b="1" lang="en-US" sz="2400" spc="-1" strike="noStrike">
                <a:solidFill>
                  <a:srgbClr val="1f190f"/>
                </a:solidFill>
                <a:latin typeface="Century"/>
              </a:rPr>
              <a:t>Footprint, …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38360" y="654120"/>
            <a:ext cx="522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Missions of WG1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09600" y="1281240"/>
            <a:ext cx="50356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1f190f"/>
                </a:solidFill>
                <a:uFillTx/>
                <a:latin typeface="Century"/>
              </a:rPr>
              <a:t>Missions of WG2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Standardization of Business Process Model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1) Sharing System Standard for  Electronic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Component Inform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2) Data Formula Standard for Application-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oriented Exchange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3) Basic Clauses of Contract for Business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to Business EC domai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7160" y="3659040"/>
            <a:ext cx="5097240" cy="23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1f190f"/>
                </a:solidFill>
                <a:uFillTx/>
                <a:latin typeface="Century"/>
              </a:rPr>
              <a:t>Missions of WG3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Component Information Supplier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1) Software development for creating and 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 delivering electronic component 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 information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(2) To provide electronic component 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 information based on ECALS standards 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3) Verification test of creating and delivering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methodology for component inform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1278000"/>
            <a:ext cx="48294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1f190f"/>
                </a:solidFill>
                <a:uFillTx/>
                <a:latin typeface="Century"/>
              </a:rPr>
              <a:t>Missions of WG4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Component Information User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1) Software development for searching and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using electronic component inform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2) Implementation of electronic component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information database system to select 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component 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3) Verification test of standards through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designing actual equipment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3659040"/>
            <a:ext cx="4953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1f190f"/>
                </a:solidFill>
                <a:uFillTx/>
                <a:latin typeface="Century"/>
              </a:rPr>
              <a:t>Missions of WG5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Resource Center Activitie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1) Implementation of tools and database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used by suppliers and users of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component inform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2) To maintain the standard documents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 for sharing system of component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 information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(3) Verification test of standards through</a:t>
            </a:r>
            <a:br>
              <a:rPr sz="1600"/>
            </a:br>
            <a:r>
              <a:rPr b="1" lang="en-US" sz="1600" spc="-1" strike="noStrike">
                <a:solidFill>
                  <a:srgbClr val="1f190f"/>
                </a:solidFill>
                <a:latin typeface="Century"/>
              </a:rPr>
              <a:t>     delivering component information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4280" y="272880"/>
            <a:ext cx="522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f190f"/>
                </a:solidFill>
                <a:uFillTx/>
                <a:latin typeface="Century"/>
              </a:rPr>
              <a:t>Missions of WG 2 - 5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5T21:31:08Z</dcterms:created>
  <dc:creator/>
  <dc:description/>
  <dc:language>en-US</dc:language>
  <cp:lastModifiedBy>AI</cp:lastModifiedBy>
  <cp:lastPrinted>1999-06-18T20:03:10Z</cp:lastPrinted>
  <dcterms:modified xsi:type="dcterms:W3CDTF">1999-06-30T15:13:54Z</dcterms:modified>
  <cp:revision>208</cp:revision>
  <dc:subject/>
  <dc:title>松下ＣＡＬＳ検討委員会</dc:title>
</cp:coreProperties>
</file>