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D53-52D1-4946-A2F6-52B2502A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AB18-867F-4144-9791-DBE77062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7BFE-D763-45F1-B2BC-5BA4CDE5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5C8-68C4-460D-BF33-0EE16DE8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3CA-06F5-419A-A633-70A99492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DF6-6D29-4B38-B35B-E4E60357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FC7C-EE40-4DBA-88B7-DFE2E7E6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870-1151-4D2E-B35E-348D408F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A2BD-2FA6-4EEB-A897-09548D9B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0311-19DE-47E6-BA5B-E4E03A89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8C8-6944-402C-B207-B3670377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6EE-54DF-4786-B08E-32289F8D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C89B-5E78-4579-AD7D-6709390A3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3.wmf"/><Relationship Id="rId8" Type="http://schemas.openxmlformats.org/officeDocument/2006/relationships/image" Target="../media/image7.jpeg"/><Relationship Id="rId9" Type="http://schemas.openxmlformats.org/officeDocument/2006/relationships/image" Target="../media/image1.png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INDENGEN’S Activity 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A MODEL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ulation of Electric Circu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3809880"/>
            <a:ext cx="6400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HINDENGEN ELECTRIC MFG.CO.,L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suyoshi Horig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horigome@shindengen.co.j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14800" y="6019920"/>
            <a:ext cx="109548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22400" y="6324480"/>
            <a:ext cx="546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 Copyright (C) SHINDENGEN ELECTRIC MANUFACTURING CO., LTD. 19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&amp;Them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A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990720"/>
            <a:ext cx="7848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ifficult to obtain the EDA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real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takes long time (2weeks-2months) to obtain the ED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A simulation model for No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 of EDA model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making ED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7621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943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91120" y="6095880"/>
            <a:ext cx="10951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62440" y="6477120"/>
            <a:ext cx="545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 Copyright (C) SHINDENGEN ELECTRIC MANUFACTURING CO., LTD. 19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72200" y="4648320"/>
            <a:ext cx="2514600" cy="1077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428320" y="621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8120" y="4876920"/>
            <a:ext cx="259056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124080"/>
            <a:ext cx="8305920" cy="3200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logo2" descr=""/>
          <p:cNvPicPr/>
          <p:nvPr/>
        </p:nvPicPr>
        <p:blipFill>
          <a:blip r:embed="rId1"/>
          <a:stretch/>
        </p:blipFill>
        <p:spPr>
          <a:xfrm>
            <a:off x="7743960" y="152280"/>
            <a:ext cx="10951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46040" y="990720"/>
            <a:ext cx="86364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733920" y="5029200"/>
            <a:ext cx="1218960" cy="706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809880" y="3657600"/>
            <a:ext cx="990720" cy="88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486400" y="3581280"/>
            <a:ext cx="838080" cy="50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5486400" y="5257800"/>
            <a:ext cx="838080" cy="504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5302080" y="990720"/>
            <a:ext cx="863640" cy="1066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87960" y="6461280"/>
            <a:ext cx="557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All Rights Reserved Copyright (C) SHINDENGEN ELECTRIC MANUFACTURING CO., LTD. 19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VC-012S" descr=""/>
          <p:cNvPicPr/>
          <p:nvPr/>
        </p:nvPicPr>
        <p:blipFill>
          <a:blip r:embed="rId8"/>
          <a:stretch/>
        </p:blipFill>
        <p:spPr>
          <a:xfrm>
            <a:off x="533520" y="36576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3040" y="76320"/>
            <a:ext cx="54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ve experiment of circuit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11415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o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logo2" descr=""/>
          <p:cNvPicPr/>
          <p:nvPr/>
        </p:nvPicPr>
        <p:blipFill>
          <a:blip r:embed="rId9"/>
          <a:stretch/>
        </p:blipFill>
        <p:spPr>
          <a:xfrm>
            <a:off x="581040" y="3276720"/>
            <a:ext cx="1095480" cy="304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352680" y="2590920"/>
            <a:ext cx="1752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ED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5520" y="6400800"/>
            <a:ext cx="875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23623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7913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Power supply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44956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Circuit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4419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4419720"/>
            <a:ext cx="137160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Wave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Noise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40989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3352680"/>
            <a:ext cx="342900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7513560" y="4038480"/>
            <a:ext cx="792360" cy="1143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543800" y="5181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914400"/>
            <a:ext cx="2743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1141560"/>
            <a:ext cx="11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o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914400"/>
            <a:ext cx="2743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5775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74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Measu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4120" y="38088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9.07-200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655120" y="64008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82880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 of EDA model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A MODEL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easy to obtain EDA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real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943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91120" y="6095880"/>
            <a:ext cx="1095120" cy="304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38760" y="6477120"/>
            <a:ext cx="545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 Copyright (C) SHINDENGEN ELECTRIC MANUFACTURING CO., LTD. 19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428320" y="621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2T08:02:35Z</dcterms:created>
  <dc:creator>堀米 毅</dc:creator>
  <dc:description/>
  <dc:language>en-US</dc:language>
  <cp:lastModifiedBy>堀米 毅</cp:lastModifiedBy>
  <cp:lastPrinted>1999-06-17T07:34:30Z</cp:lastPrinted>
  <dcterms:modified xsi:type="dcterms:W3CDTF">1999-07-05T11:14:42Z</dcterms:modified>
  <cp:revision>27</cp:revision>
  <dc:subject/>
  <dc:title>ｽﾗｲﾄﾞ ﾀｲﾄﾙなし</dc:title>
</cp:coreProperties>
</file>