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248-B950-405E-808F-67885C64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8AD-D4CC-40EA-973B-7FE596E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1B5-C99C-42EF-B713-10D6FE33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9F0-20CA-4685-9A07-ACC6FEB0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E91-766B-4423-B641-CD5C7BB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452-4CB6-43E1-A71F-70415B06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3CA-584B-45A6-9FB1-9378044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B0C-0B9E-4F45-8B6F-ABB985E7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1F8-D99C-4EC3-8204-60F7424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D5C-FEF2-4363-93F4-72A6DCD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1A5-56E0-48E9-A224-11C6033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E8E-E854-4853-9107-DA82E70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C11E-A604-49E7-A9E4-739C4E955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1997-1998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ix B.U., Mento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C IBIS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8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Models &amp;Acceptanc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20 Vendor Sites, Plus More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Commercial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Tool Vendor Model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yperLynx, Veribest, Cadence, Siqual + Viewlogic &amp; Mentor G. Ass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Tool Vendor Commitment to Version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- Company Support of IBIS Parser D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IA IBIS Open Forum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embers, Participation is OPEN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0 Participants in First Half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and IBIS-Users Reflectors &gt;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Meetings Every 3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Summits (DAC, DesignCon,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CB Conference East, JEDEC i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and FT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Standard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.1 - June - Aug.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.1 (ANSI/EIA-656) - June 1994 - Dec.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ing IEC 62014-1 Since Sept.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3.0 - June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External IBIS Linkag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A - IBIS Open Forum Sub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F - Version 2.1 in EDIF 4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C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.1 Pending IEC 6201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/67/NP Subgroup IBIS &amp; EMC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C - Co-located Meeting JD-1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AJ - ED-5302 I/O Interface Model for Integrated Circuit (IM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oject Statu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 Correction Releas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chk2+, ibischk3 Pars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A Vendor Model Review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ibis2, s2ibis3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(East) User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curacy, Education, Connector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er1.1 - Core Model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6/93 - 8/93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911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(pinout) and Models (elect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/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_types Input, Output, 3-state, I/O, Open_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, Pulldown, Gnd_Clamp, Power_Clam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 dV/dt_r, dV/dt_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_comp and L_pkg, R_pkg, C_p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-Min-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nditions for Temp, Load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er2.1- Practical Extensions 6/94 - 12/95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320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_types I/O_open_* for GTL,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 (ECL, PE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ower Rails (ECL, Interface Dri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ins (Cl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Mapping (Ground, Power bou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Model Extensions (Cou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, Load R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Tables (Accuracy, Slew Rat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Test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er3.0 - More Extensions 6/97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Selection (Processors 3.3/5V, Streng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Stored Charge (Diode Kick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Model Extensions (Sections,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Board Description (SIMMs, Bo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Drivers (Newer Archit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s (Overshoots, typ, min, max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Elements &amp; Serie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</cp:lastModifiedBy>
  <cp:lastPrinted>1998-06-15T06:45:12Z</cp:lastPrinted>
  <dcterms:modified xsi:type="dcterms:W3CDTF">1998-06-15T06:47:50Z</dcterms:modified>
  <cp:revision>49</cp:revision>
  <dc:subject/>
  <dc:title>IBIS ACCURACY</dc:title>
</cp:coreProperties>
</file>