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13ADE2F-99C2-4B0C-96AE-FD71C47605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371600" y="768240"/>
            <a:ext cx="5029200" cy="3767400"/>
          </a:xfrm>
          <a:prstGeom prst="rect">
            <a:avLst/>
          </a:prstGeom>
          <a:ln w="0">
            <a:noFill/>
          </a:ln>
        </p:spPr>
      </p:sp>
      <p:sp>
        <p:nvSpPr>
          <p:cNvPr id="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resentation illustrates how I use Linux on a daily basis for IBIS Model validation at National Semiconductor Cor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bility to seemlessly move from UNIX(work) to Linux(Home and Lab) has been a great advantage in model valid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recent survey in InfoWorld has placed Linux as the fastest growing OS and the most preferred by the Engineering community while NT was nominated as the worst OS in both support and performance. 98.5% of ALL those who attended the ‘Linux vs NT’ debate at DAC98 feels the same. Linux is the OS of choic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371600" y="768240"/>
            <a:ext cx="5029200" cy="3767400"/>
          </a:xfrm>
          <a:prstGeom prst="rect">
            <a:avLst/>
          </a:prstGeom>
          <a:ln w="0">
            <a:noFill/>
          </a:ln>
        </p:spPr>
      </p:sp>
      <p:sp>
        <p:nvSpPr>
          <p:cNvPr id="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Linux is the PC version of UNIX. Linux was first created by Linus Torvalds while at the University of Helsinki and later developed by various programmers over the internet. Later the Free Software Foundation added more features using the GNU project. Today, Linux is one of the most stable, reliable and heavily used OS on the Internet and in various mission critical applicait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re is no license requirement to run Linux and the OS can be obtained for FREE from various distribution. The source code is also available for FRE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inux is supported over the Internet through various News Groups. This also includes generation of drivers for all new hardware coming ou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icrosoft OS’s may not run on a 486 with 8Meg RAM  but Linux will run like a workstation on such a platform. Linux also works on Pentium, Macintosh, Alpha, SPARC and other machin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y using a robust OS like Linux, a user a easily transfer files from a UNIX based workstation at work to a laptop or home running Linux on a P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can also reside with other OS’s on a different partition on the same hard driv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371600" y="768240"/>
            <a:ext cx="5029200" cy="3767400"/>
          </a:xfrm>
          <a:prstGeom prst="rect">
            <a:avLst/>
          </a:prstGeom>
          <a:ln w="0">
            <a:noFill/>
          </a:ln>
        </p:spPr>
      </p:sp>
      <p:sp>
        <p:nvSpPr>
          <p:cNvPr id="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ome of the model validation process I go thru are shown in the slide abov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n editor is necessary to work on the ASCII model file. s2iplt is a shareware utility from NCSU that can graphically plot IBIS V/I data for visual inspections. This utility runs on a Perl script and I use it for extrapolation checks as well as solving double counting of clamp issu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BIS parser is used to check if the model is syntactically correct and finally Simulation of the model is required for valid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371600" y="768240"/>
            <a:ext cx="5029200" cy="3767400"/>
          </a:xfrm>
          <a:prstGeom prst="rect">
            <a:avLst/>
          </a:prstGeom>
          <a:ln w="0">
            <a:noFill/>
          </a:ln>
        </p:spPr>
      </p:sp>
      <p:sp>
        <p:nvSpPr>
          <p:cNvPr id="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Most UNIX editors are also available under Linux. A DOS based editor adds a ‘^M’ character that the end of each line which the parser will not like. So, it’s not a good idea to edit the same file on a DOS or UNIX editor. Instead, if you stick to using Linux on your PC, you avoid that problem totally. The Linux edited file will be easily  be moved to a UNIX workstation and back without corrupting the fil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the ELF(Executable and Linked Format) Linux binaries for the IBISv2.1.15 parser and the s2ibis2_fix version will be made available on the IBIS web. I have recompiled the source code to get the ELF bina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use s2iplt, edit the path to your where Perl is installed. You will need to do this at two locations in the s2iplt file. By default, the path to Perl is /usr/local/bin/perl and for my Linux installation, the path was /usr/bin/per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2ibis2(fix)version ELF binary for Linux will also be made availabe on the web.</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You need to ask your EDA vendor to provide Linux porting of their tools. EDA vendors have chosen to port to NT latel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371600" y="768240"/>
            <a:ext cx="5029200" cy="3767400"/>
          </a:xfrm>
          <a:prstGeom prst="rect">
            <a:avLst/>
          </a:prstGeom>
          <a:ln w="0">
            <a:noFill/>
          </a:ln>
        </p:spPr>
      </p:sp>
      <p:sp>
        <p:nvSpPr>
          <p:cNvPr id="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Various Linux sites are referenced here for anyone to check out. In most cities there are LUGS(Linux Users Group). You may want to go to one of these when they hold an installfest. The LUGs is users getting together to help each other out with any Linux issues. SVLUG and BALUG are both located in the Bay Area of Californ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50760" y="63360"/>
            <a:ext cx="3160800" cy="684360"/>
          </a:xfrm>
          <a:prstGeom prst="rect">
            <a:avLst/>
          </a:prstGeom>
          <a:ln w="0">
            <a:noFill/>
          </a:ln>
        </p:spPr>
      </p:pic>
      <p:pic>
        <p:nvPicPr>
          <p:cNvPr id="2" name="" descr=""/>
          <p:cNvPicPr/>
          <p:nvPr/>
        </p:nvPicPr>
        <p:blipFill>
          <a:blip r:embed="rId3"/>
          <a:stretch/>
        </p:blipFill>
        <p:spPr>
          <a:xfrm>
            <a:off x="6324480" y="0"/>
            <a:ext cx="2817720" cy="91440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3333cc"/>
                </a:solidFill>
                <a:latin typeface="Times New Roman"/>
                <a:ea typeface="Times New Roman"/>
              </a:rPr>
              <a:t>IBIS model validation on Linux</a:t>
            </a:r>
            <a:endParaRPr b="0" lang="en-US" sz="4400" spc="-1" strike="noStrike">
              <a:solidFill>
                <a:srgbClr val="000000"/>
              </a:solidFill>
              <a:latin typeface="Arial"/>
            </a:endParaRPr>
          </a:p>
        </p:txBody>
      </p:sp>
      <p:sp>
        <p:nvSpPr>
          <p:cNvPr id="48" name=""/>
          <p:cNvSpPr txBox="1"/>
          <p:nvPr/>
        </p:nvSpPr>
        <p:spPr>
          <a:xfrm>
            <a:off x="2946240" y="5546880"/>
            <a:ext cx="3295800" cy="131112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Syed B. Huq</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National Semiconductor Corp.</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huq@rockie.nsc.co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DAC’98 IBIS Summit</a:t>
            </a:r>
            <a:endParaRPr b="0" lang="en-US" sz="2000" spc="-1" strike="noStrike">
              <a:solidFill>
                <a:srgbClr val="000000"/>
              </a:solidFill>
              <a:latin typeface="Arial"/>
            </a:endParaRPr>
          </a:p>
        </p:txBody>
      </p:sp>
      <p:pic>
        <p:nvPicPr>
          <p:cNvPr id="49" name="" descr=""/>
          <p:cNvPicPr/>
          <p:nvPr/>
        </p:nvPicPr>
        <p:blipFill>
          <a:blip r:embed="rId1"/>
          <a:stretch/>
        </p:blipFill>
        <p:spPr>
          <a:xfrm>
            <a:off x="3127320" y="1984320"/>
            <a:ext cx="3121200" cy="357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u="sng">
                <a:solidFill>
                  <a:srgbClr val="000000"/>
                </a:solidFill>
                <a:uFillTx/>
                <a:latin typeface="Times New Roman"/>
                <a:ea typeface="Times New Roman"/>
              </a:rPr>
              <a:t>..about Linux</a:t>
            </a:r>
            <a:endParaRPr b="0" lang="en-US" sz="4400" spc="-1" strike="noStrike">
              <a:solidFill>
                <a:srgbClr val="000000"/>
              </a:solidFill>
              <a:latin typeface="Arial"/>
            </a:endParaRPr>
          </a:p>
        </p:txBody>
      </p:sp>
      <p:sp>
        <p:nvSpPr>
          <p:cNvPr id="51" name=""/>
          <p:cNvSpPr txBox="1"/>
          <p:nvPr/>
        </p:nvSpPr>
        <p:spPr>
          <a:xfrm>
            <a:off x="685800" y="16002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UNIX clone for a P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REE OS and no Lic requir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REE support on the interne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upports all GNU tools availabl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uns on a 486 with 8M RAM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ortabilit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UNIX - PC - UNIX with eas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uns on a laptop too.</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an reside on a partition on your HDD and along with other O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u="sng">
                <a:solidFill>
                  <a:srgbClr val="000000"/>
                </a:solidFill>
                <a:uFillTx/>
                <a:latin typeface="Times New Roman"/>
                <a:ea typeface="Times New Roman"/>
              </a:rPr>
              <a:t>Model validation steps</a:t>
            </a:r>
            <a:endParaRPr b="0" lang="en-US" sz="4400" spc="-1" strike="noStrike">
              <a:solidFill>
                <a:srgbClr val="000000"/>
              </a:solidFill>
              <a:latin typeface="Arial"/>
            </a:endParaRPr>
          </a:p>
        </p:txBody>
      </p:sp>
      <p:sp>
        <p:nvSpPr>
          <p:cNvPr id="53" name=""/>
          <p:cNvSpPr/>
          <p:nvPr/>
        </p:nvSpPr>
        <p:spPr>
          <a:xfrm>
            <a:off x="1355760" y="204156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167652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Arial"/>
                <a:ea typeface="Arial"/>
              </a:rPr>
              <a:t>Visual inspect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ing an edito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Arial"/>
                <a:ea typeface="Arial"/>
              </a:rPr>
              <a:t>s2ipl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graphical view for extrapolation checks and double counting of clamp data checks etc etc</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Arial"/>
                <a:ea typeface="Arial"/>
              </a:rPr>
              <a:t>Parser inspect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BIS syntax conformit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Arial"/>
                <a:ea typeface="Arial"/>
              </a:rPr>
              <a:t>Simulat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final check</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u="sng">
                <a:solidFill>
                  <a:srgbClr val="000000"/>
                </a:solidFill>
                <a:uFillTx/>
                <a:latin typeface="Times New Roman"/>
                <a:ea typeface="Times New Roman"/>
              </a:rPr>
              <a:t>IBIS tools for Linux</a:t>
            </a:r>
            <a:endParaRPr b="0" lang="en-US" sz="4400" spc="-1" strike="noStrike">
              <a:solidFill>
                <a:srgbClr val="000000"/>
              </a:solidFill>
              <a:latin typeface="Arial"/>
            </a:endParaRPr>
          </a:p>
        </p:txBody>
      </p:sp>
      <p:sp>
        <p:nvSpPr>
          <p:cNvPr id="56" name=""/>
          <p:cNvSpPr txBox="1"/>
          <p:nvPr/>
        </p:nvSpPr>
        <p:spPr>
          <a:xfrm>
            <a:off x="685800" y="1676520"/>
            <a:ext cx="7772400" cy="4590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ditors: </a:t>
            </a:r>
            <a:r>
              <a:rPr b="0" lang="en-US" sz="2800" spc="-1" strike="noStrike">
                <a:solidFill>
                  <a:srgbClr val="000000"/>
                </a:solidFill>
                <a:latin typeface="Times New Roman"/>
                <a:ea typeface="Times New Roman"/>
              </a:rPr>
              <a:t>vi, emacs, textedit etc</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arser: </a:t>
            </a:r>
            <a:r>
              <a:rPr b="0" lang="en-US" sz="2800" spc="-1" strike="noStrike">
                <a:solidFill>
                  <a:srgbClr val="000000"/>
                </a:solidFill>
                <a:latin typeface="Times New Roman"/>
                <a:ea typeface="Times New Roman"/>
              </a:rPr>
              <a:t>ELF binary for IBISv2.1.15 is available and will be posted on the IBIS websi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2iplt: </a:t>
            </a:r>
            <a:r>
              <a:rPr b="0" lang="en-US" sz="2800" spc="-1" strike="noStrike">
                <a:solidFill>
                  <a:srgbClr val="000000"/>
                </a:solidFill>
                <a:latin typeface="Times New Roman"/>
                <a:ea typeface="Times New Roman"/>
              </a:rPr>
              <a:t>Edit path to perl</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g. change /usr/local/bin/perl</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o.       /usr/bin/per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2ibis2(fix version): </a:t>
            </a:r>
            <a:r>
              <a:rPr b="0" lang="en-US" sz="2800" spc="-1" strike="noStrike">
                <a:solidFill>
                  <a:srgbClr val="000000"/>
                </a:solidFill>
                <a:latin typeface="Times New Roman"/>
                <a:ea typeface="Times New Roman"/>
              </a:rPr>
              <a:t>ELF binary is available and will be posted on the IBIS websi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imulators: </a:t>
            </a:r>
            <a:r>
              <a:rPr b="0" lang="en-US" sz="2800" spc="-1" strike="noStrike">
                <a:solidFill>
                  <a:srgbClr val="000000"/>
                </a:solidFill>
                <a:latin typeface="Times New Roman"/>
                <a:ea typeface="Times New Roman"/>
              </a:rPr>
              <a:t>Ask your EDA vendor for Linux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u="sng">
                <a:solidFill>
                  <a:srgbClr val="000000"/>
                </a:solidFill>
                <a:uFillTx/>
                <a:latin typeface="Times New Roman"/>
                <a:ea typeface="Times New Roman"/>
              </a:rPr>
              <a:t>Linux info on the web</a:t>
            </a:r>
            <a:endParaRPr b="0" lang="en-US" sz="4400" spc="-1" strike="noStrike">
              <a:solidFill>
                <a:srgbClr val="000000"/>
              </a:solidFill>
              <a:latin typeface="Arial"/>
            </a:endParaRPr>
          </a:p>
        </p:txBody>
      </p:sp>
      <p:sp>
        <p:nvSpPr>
          <p:cNvPr id="5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inux Documentation Projec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ww.sunsite.unc.edu/mdw/linux.htm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inux onlin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ww.linux.or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AL(Scientific Applications on Linux)</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AL.KachinaTech.COM</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814 entri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Gs(Linux Users Group)</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ww.svlug.org, www.balug.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yed Huq</dc:creator>
  <dc:description/>
  <dc:language>en-US</dc:language>
  <cp:lastModifiedBy>Syed Huq</cp:lastModifiedBy>
  <cp:revision>0</cp:revision>
  <dc:subject/>
  <dc:title>IBIS model validation on Linux</dc:title>
</cp:coreProperties>
</file>