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8893-E601-4D7E-ADB7-7151DE0F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EE47-8C31-4C1C-9478-51A50949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4ECA-609E-4AAF-BE8A-12ECF074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238-A5AA-4E06-822D-69BF508D1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15A5-1316-4908-AE7C-120C0A79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9DDD-E9EA-48EE-A384-3382ECFB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s] Put this page into 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AF25-ECEC-48F2-8066-23D2D806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0554-3A28-40EB-A6E0-114C6A112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AC76-EFA4-4E02-8C8E-DEE7AEB4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420-4281-4669-B780-BD8E8205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2A3B-4FBD-4D86-91DB-12AEF925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EAD-1816-4BCC-906E-AD7D05F2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718-82CD-411F-AACB-82F16DC4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AF2F-39A5-42CB-89BB-1F0E9F82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608A-466E-4807-AA09-51EF4F9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2A2-2AA4-4750-BF2C-F4C884B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440-A4EB-4E45-9B0F-1A2228E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E0A-DB46-466D-BEB2-30AEBF97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A2F-2CE7-4BE5-80BC-A485B95C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777-8158-412D-88B8-FF642F51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388-9FB0-4DA8-AE62-7812C4E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75B5-2B43-49E3-958C-03EC961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F24D-C686-4C57-803A-E1645A4C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74872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urrogate Model-based High-speed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O Macro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7200" y="2895480"/>
            <a:ext cx="82296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g Zhu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ul D. Franzon* and Michael B. Stee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tzhu, paulf, mbs}@ncsu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CE, North Carolina State University, Raleigh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Integrity Group, Enterprise Server Storage, Hewlett-Pack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 2012 IBIS Sum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n Francisco, 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6518160"/>
            <a:ext cx="9144000" cy="36684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9F6D-26DF-461E-AF25-FC4CC53D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16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Verilog-A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14400" y="1981080"/>
            <a:ext cx="7315200" cy="4648320"/>
          </a:xfrm>
          <a:prstGeom prst="rect">
            <a:avLst/>
          </a:prstGeom>
          <a:solidFill>
            <a:srgbClr val="bbe0e3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295280" y="2133720"/>
            <a:ext cx="6731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analog function real Ipu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input      vsi, vpui, tempi, deltavth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real        vsi, vpui, tempi, deltavth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Vpu = (vpui - 1.65) / 4.95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Vs   = (vsi - 3.30) / 9.90e-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deltavth = (deltavthi - 0) / 2.00e-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ourier New"/>
              </a:rPr>
              <a:t>temp =(tempi - 50) / 5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cc"/>
                </a:solidFill>
                <a:latin typeface="Courier New"/>
              </a:rPr>
              <a:t>Ipu = -2.983745e-02 - 4.983961e-02*Vpu + 1.382028e-01 *pow(Vpu,2) </a:t>
            </a:r>
            <a:r>
              <a:rPr b="0" lang="en-US" sz="1400" spc="-1" strike="noStrike">
                <a:solidFill>
                  <a:srgbClr val="0000cc"/>
                </a:solidFill>
                <a:latin typeface="Courier New"/>
              </a:rPr>
              <a:t>- 2.673657e-01 *pow(Vpu,3)+ 2.732403e-03*temp +5.928865e-03*pow(Vpu,1)*temp -1.184873e-02*Vs-1.805515e-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Courier New"/>
              </a:rPr>
              <a:t>*pow(Vpu,2)*temp + 1.877605e+04 *pow(Vpu,9)- 5.646272e-02 *Vpu*Vs - 7.271323e-02 *pow(Vpu,3)*temp+ 1.641660e-03*deltavth +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914400" y="990720"/>
            <a:ext cx="72388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Verilog-A IBIS template (M. LaBonte and A. Murany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mplementation example: model equation for pull-up curren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ll   the inputs are normalized to -1 to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4DE-08A7-49BA-AA61-4D0CB3EF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ulation Results – Supply Voltage Var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228600" y="1143000"/>
          <a:ext cx="410544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10544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4592520" y="1725480"/>
            <a:ext cx="360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952880" y="15238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5616720" y="17254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929200" y="15238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7035840" y="1727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7353360" y="1538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rro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IO_result1_for ibis_ppt"/>
          <p:cNvPicPr/>
          <p:nvPr/>
        </p:nvPicPr>
        <p:blipFill>
          <a:blip r:embed="rId3"/>
          <a:stretch/>
        </p:blipFill>
        <p:spPr>
          <a:xfrm>
            <a:off x="4038480" y="1981080"/>
            <a:ext cx="441036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3733920" y="5181480"/>
          <a:ext cx="4572000" cy="1516320"/>
        </p:xfrm>
        <a:graphic>
          <a:graphicData uri="http://schemas.openxmlformats.org/drawingml/2006/table">
            <a:tbl>
              <a:tblPr/>
              <a:tblGrid>
                <a:gridCol w="1676160"/>
                <a:gridCol w="1384560"/>
                <a:gridCol w="1511280"/>
              </a:tblGrid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 Err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Rel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Err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ditio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B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 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.11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sed mod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7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A9AE-5307-46B1-85A9-5CEB128C0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imulation Results 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78000" y="1227240"/>
            <a:ext cx="49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seudorandom bit sequence (PRBS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IO_result2"/>
          <p:cNvPicPr/>
          <p:nvPr/>
        </p:nvPicPr>
        <p:blipFill>
          <a:blip r:embed="rId1"/>
          <a:stretch/>
        </p:blipFill>
        <p:spPr>
          <a:xfrm>
            <a:off x="179280" y="1757520"/>
            <a:ext cx="4410360" cy="2724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291960" y="5300640"/>
            <a:ext cx="48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timing error 0.07ns (3.5% bit-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relative voltage error 6.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55680" y="4610160"/>
            <a:ext cx="433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rrogate-IBIS model matches transistor-level model very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"/>
          <p:cNvGrpSpPr/>
          <p:nvPr/>
        </p:nvGrpSpPr>
        <p:grpSpPr>
          <a:xfrm>
            <a:off x="291960" y="1403280"/>
            <a:ext cx="8498160" cy="5100480"/>
            <a:chOff x="291960" y="1403280"/>
            <a:chExt cx="8498160" cy="5100480"/>
          </a:xfrm>
        </p:grpSpPr>
        <p:sp>
          <p:nvSpPr>
            <p:cNvPr id="172" name="Text Box 9"/>
            <p:cNvSpPr/>
            <p:nvPr/>
          </p:nvSpPr>
          <p:spPr>
            <a:xfrm>
              <a:off x="6351480" y="381780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Surro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6283440" y="14032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Transis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4" name="Object 11"/>
            <p:cNvGraphicFramePr/>
            <p:nvPr/>
          </p:nvGraphicFramePr>
          <p:xfrm>
            <a:off x="4751280" y="1731960"/>
            <a:ext cx="4038840" cy="2098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5" name="Object 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1280" y="1731960"/>
                      <a:ext cx="4038840" cy="209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6" name="Object 12"/>
            <p:cNvGraphicFramePr/>
            <p:nvPr/>
          </p:nvGraphicFramePr>
          <p:xfrm>
            <a:off x="4795920" y="4130640"/>
            <a:ext cx="3903480" cy="2251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7" name="Object 12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95920" y="4130640"/>
                      <a:ext cx="3903480" cy="22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Rectangle 13"/>
            <p:cNvSpPr/>
            <p:nvPr/>
          </p:nvSpPr>
          <p:spPr>
            <a:xfrm>
              <a:off x="291960" y="5861160"/>
              <a:ext cx="4851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ye-diagram width (W) difference at heigh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 = 1V is 0.0297ns (1.48% of the bit-tim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986A-7122-4184-BB94-9D93D536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posed surrogate-based IB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equivalent circuit models and adaptive multivariate surrogate modeling for IO buffer macromod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in developing scalable macromodels with application to analysis of IO buffers with highly nonlinear circuit characteristics and multiple vari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1BFE-C7A1-41C6-B781-5CF0538CD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your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: Ting Zhu (tzhu@ncsu.ed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5C3F-0BCE-4C8E-BDF2-DBA45045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Backup: Surrogate Modeling Techniqu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371600" y="1447920"/>
          <a:ext cx="6324480" cy="3103560"/>
        </p:xfrm>
        <a:graphic>
          <a:graphicData uri="http://schemas.openxmlformats.org/drawingml/2006/table">
            <a:tbl>
              <a:tblPr/>
              <a:tblGrid>
                <a:gridCol w="1790640"/>
                <a:gridCol w="4533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 Hypercu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ive samp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-based, Density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templ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ging model, Rational 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-validation, Validatio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ror fun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relative square error (R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relative error (M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24"/>
          <p:cNvSpPr/>
          <p:nvPr/>
        </p:nvSpPr>
        <p:spPr>
          <a:xfrm>
            <a:off x="533520" y="502920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25"/>
          <p:cNvGraphicFramePr/>
          <p:nvPr/>
        </p:nvGraphicFramePr>
        <p:xfrm>
          <a:off x="3200400" y="4876920"/>
          <a:ext cx="1584360" cy="7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76920"/>
                    <a:ext cx="158436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26"/>
          <p:cNvSpPr/>
          <p:nvPr/>
        </p:nvSpPr>
        <p:spPr>
          <a:xfrm>
            <a:off x="4952880" y="5029200"/>
            <a:ext cx="376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polynom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533520" y="571500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iging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29"/>
          <p:cNvGraphicFramePr/>
          <p:nvPr/>
        </p:nvGraphicFramePr>
        <p:xfrm>
          <a:off x="3276720" y="5638680"/>
          <a:ext cx="47242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638680"/>
                    <a:ext cx="47242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F4E-F14C-4716-B44C-42263EF04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BIS 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imple, portable, IP-protected, and fast in simul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odel the responses in the worst-case PVT situation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able to simulate continuous vari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nsuitable for statistical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imits in representing complex effects dependent on multi-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is 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o develop high-fidelity and continuous scalable high speed IO macro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EA68-7FCB-4FD6-9EFC-01CB5F01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posed Surrogate-based IBI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477720" y="1143000"/>
            <a:ext cx="7904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quivalent circuit structure with lumped elements capturing the     static and dynamic circuit behavi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urrogate modeling methodology to model each element   accurately over a range of PVT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5"/>
          <p:cNvGrpSpPr/>
          <p:nvPr/>
        </p:nvGrpSpPr>
        <p:grpSpPr>
          <a:xfrm>
            <a:off x="1752480" y="2743200"/>
            <a:ext cx="5429520" cy="3573360"/>
            <a:chOff x="1752480" y="2743200"/>
            <a:chExt cx="5429520" cy="3573360"/>
          </a:xfrm>
        </p:grpSpPr>
        <p:graphicFrame>
          <p:nvGraphicFramePr>
            <p:cNvPr id="61" name="Object 11"/>
            <p:cNvGraphicFramePr/>
            <p:nvPr/>
          </p:nvGraphicFramePr>
          <p:xfrm>
            <a:off x="1752480" y="3200400"/>
            <a:ext cx="5429520" cy="311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3200400"/>
                      <a:ext cx="5429520" cy="31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Text Box 14"/>
            <p:cNvSpPr/>
            <p:nvPr/>
          </p:nvSpPr>
          <p:spPr>
            <a:xfrm>
              <a:off x="3276720" y="2743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Model 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5F3F-CB7A-4C79-8DA5-204F3296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Key Featu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 physically-based elements individually rather than approximating the overall dynamic behav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multi-dimensional parameters and highly nonlinear circuit characteristic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 over continuous PVT parameters and all of the parameters are directly accessible in simul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es data in numerical expressions which are portable and IP-protected, reducing both data size and the uncertainty caused b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terpol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16B-5272-4938-B330-6EE2610EF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ub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Zhu, M. B. Steer, and P. D. Franzon, “Accurate and scalable IO buffer macromodel based on surrogate modeling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EE Trans. on Components, Packaging and Manufacturing Techn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 1, no. 8, pp. 1240–1249, Aug. 20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B. Yelten, T. Zhu, S.Koziel, P.D.Franzon, M.B.Steer, “Demystifying surrogate modeling for circuits and systems,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EEE Circuits and Systems Magaz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ol.12, no.1, pp.45-63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 Zhu and P.D. Franzon.“ Application of surrogate modeling to generate compact and PVT-sensitive IBIS models,”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. 18th Electrical Performance of Electronic Packaging and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ortland, OR., pp. 77-80, Oct. 19-21, 2009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1CB2-80C1-4B35-9EEF-4F653B339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echnical Approach - Surrogat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533520" y="1066680"/>
            <a:ext cx="8229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ational cheap(er) approximation models, also called metamodels, response surface model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ic modeling probl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the global behavior of the system with limited number of samp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9"/>
          <p:cNvGraphicFramePr/>
          <p:nvPr/>
        </p:nvGraphicFramePr>
        <p:xfrm>
          <a:off x="2514600" y="3124080"/>
          <a:ext cx="12193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124080"/>
                    <a:ext cx="12193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Group 23"/>
          <p:cNvGrpSpPr/>
          <p:nvPr/>
        </p:nvGrpSpPr>
        <p:grpSpPr>
          <a:xfrm>
            <a:off x="3962520" y="3200400"/>
            <a:ext cx="2625120" cy="368280"/>
            <a:chOff x="3962520" y="3200400"/>
            <a:chExt cx="2625120" cy="368280"/>
          </a:xfrm>
        </p:grpSpPr>
        <p:graphicFrame>
          <p:nvGraphicFramePr>
            <p:cNvPr id="82" name="Object 24"/>
            <p:cNvGraphicFramePr/>
            <p:nvPr/>
          </p:nvGraphicFramePr>
          <p:xfrm>
            <a:off x="3962520" y="3273480"/>
            <a:ext cx="264960" cy="28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" name="Object 2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3273480"/>
                      <a:ext cx="264960" cy="28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" name="Text Box 25"/>
            <p:cNvSpPr/>
            <p:nvPr/>
          </p:nvSpPr>
          <p:spPr>
            <a:xfrm>
              <a:off x="4149720" y="3200400"/>
              <a:ext cx="24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approximation err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2"/>
          <p:cNvGrpSpPr/>
          <p:nvPr/>
        </p:nvGrpSpPr>
        <p:grpSpPr>
          <a:xfrm>
            <a:off x="1143000" y="3657600"/>
            <a:ext cx="6781680" cy="2877480"/>
            <a:chOff x="1143000" y="3657600"/>
            <a:chExt cx="6781680" cy="2877480"/>
          </a:xfrm>
        </p:grpSpPr>
        <p:graphicFrame>
          <p:nvGraphicFramePr>
            <p:cNvPr id="86" name="Object 22"/>
            <p:cNvGraphicFramePr/>
            <p:nvPr/>
          </p:nvGraphicFramePr>
          <p:xfrm>
            <a:off x="1143000" y="3657600"/>
            <a:ext cx="6781680" cy="2511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7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43000" y="3657600"/>
                      <a:ext cx="6781680" cy="25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" name="Group 26"/>
            <p:cNvGrpSpPr/>
            <p:nvPr/>
          </p:nvGrpSpPr>
          <p:grpSpPr>
            <a:xfrm>
              <a:off x="1905120" y="5715000"/>
              <a:ext cx="5182560" cy="820080"/>
              <a:chOff x="1905120" y="5715000"/>
              <a:chExt cx="5182560" cy="820080"/>
            </a:xfrm>
          </p:grpSpPr>
          <p:sp>
            <p:nvSpPr>
              <p:cNvPr id="89" name="Text Box 27"/>
              <p:cNvSpPr/>
              <p:nvPr/>
            </p:nvSpPr>
            <p:spPr>
              <a:xfrm>
                <a:off x="1905120" y="6075360"/>
                <a:ext cx="119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28"/>
              <p:cNvSpPr/>
              <p:nvPr/>
            </p:nvSpPr>
            <p:spPr>
              <a:xfrm>
                <a:off x="3339720" y="5850360"/>
                <a:ext cx="212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29"/>
              <p:cNvSpPr/>
              <p:nvPr/>
            </p:nvSpPr>
            <p:spPr>
              <a:xfrm>
                <a:off x="2984400" y="6219720"/>
                <a:ext cx="1007640" cy="142920"/>
              </a:xfrm>
              <a:prstGeom prst="rightArrow">
                <a:avLst>
                  <a:gd name="adj1" fmla="val 50000"/>
                  <a:gd name="adj2" fmla="val 17625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Text Box 30"/>
              <p:cNvSpPr/>
              <p:nvPr/>
            </p:nvSpPr>
            <p:spPr>
              <a:xfrm>
                <a:off x="4208400" y="6075360"/>
                <a:ext cx="287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Surrogate mod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31"/>
              <p:cNvSpPr/>
              <p:nvPr/>
            </p:nvSpPr>
            <p:spPr>
              <a:xfrm>
                <a:off x="2938320" y="5715000"/>
                <a:ext cx="119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</a:rPr>
                  <a:t>Fitt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497F-EDD7-4D34-A632-0BD219B07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Arial"/>
              </a:rPr>
              <a:t>Adaptive Modeling Flo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57200" y="1600200"/>
          <a:ext cx="5200560" cy="48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520056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AutoShape 25"/>
          <p:cNvSpPr/>
          <p:nvPr/>
        </p:nvSpPr>
        <p:spPr>
          <a:xfrm>
            <a:off x="3200400" y="198108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6"/>
          <p:cNvSpPr/>
          <p:nvPr/>
        </p:nvSpPr>
        <p:spPr>
          <a:xfrm>
            <a:off x="2590920" y="5181480"/>
            <a:ext cx="342720" cy="457200"/>
          </a:xfrm>
          <a:prstGeom prst="downArrow">
            <a:avLst>
              <a:gd name="adj1" fmla="val 50000"/>
              <a:gd name="adj2" fmla="val 33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7"/>
          <p:cNvSpPr/>
          <p:nvPr/>
        </p:nvSpPr>
        <p:spPr>
          <a:xfrm>
            <a:off x="1752480" y="2590920"/>
            <a:ext cx="546120" cy="190440"/>
          </a:xfrm>
          <a:prstGeom prst="leftArrow">
            <a:avLst>
              <a:gd name="adj1" fmla="val 50000"/>
              <a:gd name="adj2" fmla="val 716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8"/>
          <p:cNvSpPr/>
          <p:nvPr/>
        </p:nvSpPr>
        <p:spPr>
          <a:xfrm>
            <a:off x="1752480" y="3124080"/>
            <a:ext cx="571680" cy="190800"/>
          </a:xfrm>
          <a:prstGeom prst="rightArrow">
            <a:avLst>
              <a:gd name="adj1" fmla="val 50000"/>
              <a:gd name="adj2" fmla="val 749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0"/>
          <p:cNvSpPr/>
          <p:nvPr/>
        </p:nvSpPr>
        <p:spPr>
          <a:xfrm>
            <a:off x="1143000" y="152388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ariations, Circuits,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0"/>
          <p:cNvGrpSpPr/>
          <p:nvPr/>
        </p:nvGrpSpPr>
        <p:grpSpPr>
          <a:xfrm>
            <a:off x="5638680" y="1600200"/>
            <a:ext cx="2735280" cy="1659960"/>
            <a:chOff x="5638680" y="1600200"/>
            <a:chExt cx="2735280" cy="1659960"/>
          </a:xfrm>
        </p:grpSpPr>
        <p:sp>
          <p:nvSpPr>
            <p:cNvPr id="105" name="Text Box 35"/>
            <p:cNvSpPr/>
            <p:nvPr/>
          </p:nvSpPr>
          <p:spPr>
            <a:xfrm>
              <a:off x="5638680" y="2057400"/>
              <a:ext cx="2735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SUrrogate Mode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(SUMO) too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Ghent Uni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36" descr="sumo"/>
            <p:cNvPicPr/>
            <p:nvPr/>
          </p:nvPicPr>
          <p:blipFill>
            <a:blip r:embed="rId3"/>
            <a:stretch/>
          </p:blipFill>
          <p:spPr>
            <a:xfrm>
              <a:off x="6019920" y="1600200"/>
              <a:ext cx="1143000" cy="28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39"/>
          <p:cNvGrpSpPr/>
          <p:nvPr/>
        </p:nvGrpSpPr>
        <p:grpSpPr>
          <a:xfrm>
            <a:off x="1447920" y="3809880"/>
            <a:ext cx="6818040" cy="2613240"/>
            <a:chOff x="1447920" y="3809880"/>
            <a:chExt cx="6818040" cy="2613240"/>
          </a:xfrm>
        </p:grpSpPr>
        <p:sp>
          <p:nvSpPr>
            <p:cNvPr id="108" name="Text Box 29"/>
            <p:cNvSpPr/>
            <p:nvPr/>
          </p:nvSpPr>
          <p:spPr>
            <a:xfrm>
              <a:off x="1447920" y="579132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</a:rPr>
                <a:t>Surrogate Models Eq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3" descr=""/>
            <p:cNvPicPr/>
            <p:nvPr/>
          </p:nvPicPr>
          <p:blipFill>
            <a:blip r:embed="rId4"/>
            <a:stretch/>
          </p:blipFill>
          <p:spPr>
            <a:xfrm>
              <a:off x="5715000" y="4419720"/>
              <a:ext cx="2550960" cy="20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1"/>
            <p:cNvSpPr/>
            <p:nvPr/>
          </p:nvSpPr>
          <p:spPr>
            <a:xfrm>
              <a:off x="5867280" y="3809880"/>
              <a:ext cx="21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-dimensional model surface pl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0B95-6E60-4233-A9E5-445750D9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14292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eling Dat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457200" y="1295280"/>
          <a:ext cx="3665520" cy="19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3665520" cy="19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4"/>
          <p:cNvGraphicFramePr/>
          <p:nvPr/>
        </p:nvGraphicFramePr>
        <p:xfrm>
          <a:off x="4648320" y="1447920"/>
          <a:ext cx="3565440" cy="18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47920"/>
                    <a:ext cx="356544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219320" y="914400"/>
            <a:ext cx="29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a) Pull-up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334120" y="914400"/>
            <a:ext cx="29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(b) Pull-down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609480" y="3352680"/>
            <a:ext cx="457200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0.7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~1.3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C  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= Δ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/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th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-0.2 ~ 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0 ~ 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809880" y="1371600"/>
            <a:ext cx="1219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~ +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8001000" y="1371600"/>
            <a:ext cx="1371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 +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9"/>
          <p:cNvGrpSpPr/>
          <p:nvPr/>
        </p:nvGrpSpPr>
        <p:grpSpPr>
          <a:xfrm>
            <a:off x="838080" y="4038480"/>
            <a:ext cx="8164800" cy="2589480"/>
            <a:chOff x="838080" y="4038480"/>
            <a:chExt cx="8164800" cy="2589480"/>
          </a:xfrm>
        </p:grpSpPr>
        <p:graphicFrame>
          <p:nvGraphicFramePr>
            <p:cNvPr id="126" name="Object 5"/>
            <p:cNvGraphicFramePr/>
            <p:nvPr/>
          </p:nvGraphicFramePr>
          <p:xfrm>
            <a:off x="838080" y="4495680"/>
            <a:ext cx="2934000" cy="2132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4495680"/>
                      <a:ext cx="2934000" cy="21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Text Box 11"/>
            <p:cNvSpPr/>
            <p:nvPr/>
          </p:nvSpPr>
          <p:spPr>
            <a:xfrm>
              <a:off x="1143000" y="4038480"/>
              <a:ext cx="27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imes New Roman"/>
                </a:rPr>
                <a:t>(c) Output Capaci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Object 12"/>
            <p:cNvGraphicFramePr/>
            <p:nvPr/>
          </p:nvGraphicFramePr>
          <p:xfrm>
            <a:off x="4952880" y="4495680"/>
            <a:ext cx="4040280" cy="209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0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52880" y="4495680"/>
                      <a:ext cx="4040280" cy="20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Text Box 13"/>
            <p:cNvSpPr/>
            <p:nvPr/>
          </p:nvSpPr>
          <p:spPr>
            <a:xfrm>
              <a:off x="5334120" y="4038480"/>
              <a:ext cx="269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imes New Roman"/>
                </a:rPr>
                <a:t>(d) Timing coeffic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3657600" y="4572000"/>
              <a:ext cx="13716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b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: -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~ +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"/>
            <p:cNvSpPr/>
            <p:nvPr/>
          </p:nvSpPr>
          <p:spPr>
            <a:xfrm>
              <a:off x="8002080" y="4343400"/>
              <a:ext cx="100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~ 3 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7E80-F99D-470E-8C39-4AA0229EB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16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odel Surface Plots -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Arial"/>
              </a:rPr>
              <a:t>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3366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IS Summit, DAC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0" y="20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fig5"/>
          <p:cNvPicPr/>
          <p:nvPr/>
        </p:nvPicPr>
        <p:blipFill>
          <a:blip r:embed="rId1"/>
          <a:stretch/>
        </p:blipFill>
        <p:spPr>
          <a:xfrm>
            <a:off x="533520" y="1523880"/>
            <a:ext cx="8218440" cy="3006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8"/>
          <p:cNvSpPr/>
          <p:nvPr/>
        </p:nvSpPr>
        <p:spPr>
          <a:xfrm>
            <a:off x="457200" y="4630680"/>
            <a:ext cx="8229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lice plot of 4D rational function model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</a:t>
            </a:r>
            <a:r>
              <a:rPr b="0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pu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s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V</a:t>
            </a:r>
            <a:r>
              <a:rPr b="0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pu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T, P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3 slices in each plot is for three temperatures at 100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℃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50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℃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0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℃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P = Δ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th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/V</a:t>
            </a:r>
            <a:r>
              <a:rPr b="0" lang="en-US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t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7924680" y="1371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ng Zhu</cp:lastModifiedBy>
  <dcterms:modified xsi:type="dcterms:W3CDTF">2012-05-31T16:01:54Z</dcterms:modified>
  <cp:revision>3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