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F525A73-D34A-46BD-906D-B5CCDA5DB2F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03720EA-8F8E-4D3D-B935-4F1ECAF5707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CE6D06DF-440E-45D3-92D3-DD09CF65E360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F2FA91B-6227-405C-B447-D0BB90969E0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6875749F-30D8-48A3-8099-19D25D5309D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7AB81F5-4CF4-4C4C-B8A9-FC7F01D4C74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DE67C8D4-D119-4C72-8D6A-3DD5DB53396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81FA668-9CC3-4D9C-8145-5EA352B86AE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34568B2-224B-4B65-82E0-7FB5AECE908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CB4B66FE-651D-4F07-839E-8B5D0E175DEC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8932BE8-8BC4-4377-83E4-399F3321B56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12C1C93-B793-4456-82DC-AA67A0ED75D0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in Academia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289224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 Diego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ne 7,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8288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ower Delivery Systems Projec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cha: MOdelling and CHAracterization of SiP Signal and Power Integrity Analys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ttp://www.mocha.polito.it/WP2.ht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uropean community funded progra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ademic Involv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itecnico di Torino (Ita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stituto de Telecomunicacoes (Portual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ustrial partners – Micron Technology, Cadence, Agilent, Microwave Characterization Ce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 STREP project funded by European Communit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buffers may be extensions of 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ore Power Integrity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Z. Yang, S. Huq, V. Arumugham, I. Park, “Enhancement of IBIS modeling capability in simultanous switching noise (SSN) and other power integrity related simulations-proposal implementation and validation,” Int. Symp. Electromagn. Compatibil., Aug, 2005 (Cisco System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. Pulici, A. Girardi, G.P. Vanalli, R. Issi, G. Bernardi, G. Ripamonti, A. Strollio, G. Campardo, “A modified IBIS model aimed at signal integrity analysis of systems in package,” IEEE Trans. Circuits Syst. I., Aug. 2008   (Univ. Of Naples Federico II, Numonyx, ST Microelectronics –Ita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MC/EMI – Academic Involvmen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TE (Union Technique de L’Electricite) – French standardization group involved with IBIS in 199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dustry and the following  French univers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stitut National des Sciences Appliquees de Toulouse (INSA) - E. Sicar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SEO Institute of Science and Technology - M. Ramdani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stitut Europeen de Recherche Sur Les Systemes Electroniques Pour Les TransPorts (IERSET) - M. Lubineau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EM (Integrated Circuits Electromagnetic Model) now IEC 62014-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-EMC tool from INSA tool references IBIS Package model and has comment lines for IBIS.  It also has a BGA display utility (A. Boyer, E. Sicard, INSA – Fr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ic-emc.org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Other Contributio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n-linear C_comp (BIRD7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uca Giacotto (Alstrom Transport – France)   Ph. D. thesis (Alstom Transport and Laboratoire IMEP Ecole Doctorale EEATS – France) – C_comp pole/zeros as function of voltage, stat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. Giacotto, B. Meyniel, J. Chilo, “IBIS models: quality: the benefits of frequency-domain analysis,” EMC Comp 2002, Nov. 2002 (Alstrom Transport, Franc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Healing Tool free ut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rancesco de Paulis, Dinilo Di Febo, Antonio Orlandi, University of L’Aquila, Ital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uropean IBIS Summit, May 11, 2011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orlandi.in.univaq.it/uaq_laboratory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ternational IBIS Sampl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.N, Nardakumar, N. Patel, R. Reddy, M, Kothandaraman, “Application of the Douglas-Peucker algorithm to generate compact but accurate IBIS models,”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t. Conf. VLSI Design, Jan. 2005 (Agere Syst. – India) – I-V table interpolation algorith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 C. Leong, S. H. Ying, C. S. Fong, W. W. Lo, “An improved I/O buffer correlation methodology between silicon and SPICE model,” IEEE Asian Pacif. Conf. on Circ. Sys. (ACCAS) Dec. 2010 (Altera - Malaysia) – Correlation with Spice for IBIS model develop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. Shen, Z. Wang, W. Zheng, “PCB level SI simulation based on IBIS model for high-speed FPGA system,”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t. Conf. Electr. Meas. &amp; Instr., Aug. 2009 (Chinese Acad. of Sci. - China) - IBIS and vendor t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-T. Huang, C-T. Chou, I-S. Lin, C-H. Chen, “Studying an approach of I/O buffer information Specification (IBIS) model,” J. Chinese Instut Engrg, Feb. 2007 (National Taipei Univ. of Technology, Taiwan) – Basic IBIS and vendor t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s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and Academic Even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-located Summ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AC - Design Automation Conferance (1993 – presen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ATE - Design Automation and Test in Europe  (1998 – 2009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I (2010 – present in Europ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conferences with IBIS content and potential involv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PEP(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MC Compo (in Europ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nclus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ademia and IBIS historically connec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Literature, conferences, tools, thesi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-located summits with academic even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Presentations from academia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683280" indent="-2628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tudent involvement with IBI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 and I/O buffer research continues (weighted two state functions often the basis for buffer algorithms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operative collaboration benefici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troduct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in academia, technical literature, and academic confere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, a base-line for expanded research on I/O buffer algorithms and exten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national and international papers, several thesis, several t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bout 80-100 “IBIS” references from 139 IEEE Xplore hi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oogle search, technical library electronic acces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ce.ncsu.edu/erl/publications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mc.polito.it/publications/all_pub.as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teraspeed.com/ibis_resources.htm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ing of interesting papers and tools he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rpose – highlight and make visible academic impa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eview of Academic Involvemen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ic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2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delivery systems and EM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erence references he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I = IEEE Workshop on Signal Propagation on Interconnects (Europ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PEP(S) = Electrical Performance of Electronic Packaging (and System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MC Compo – International  Workshop on Electromagnetic Compatibility of Integrated Circuits (Europ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asic Algorithms from IBI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modeling algorithms were just ramp or waveforms &amp; non-linear I-V transitions yielding curved results different from ext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Buffer Algorithms – solving two waveform from low and high-state I-V tab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Summit presentations addressed this issue by Ross, Muranyi, Chen, Mirmak, Unger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asic 2-waveform algorithm and develop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MS extens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ny V-T tabl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C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 L_fixture, C_fixtur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_comp extens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itional (blocks) to IBIS for Driver Schedule, Submodels, etc.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ome Early Algorithm Referenc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.F.Tehrani, Y. Chen, J. Fang, “Extraction of transient behavioral model of digital I/O buffers from IBIS,” Proc. 4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lect. Comp. and Tech. Conf. May 1996 (State Univ. of New York) – 1, 2 waveform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. Wang, H.N. Tan, “The development of analog SPICE behavioral model based on IBIS model,” Proc. Ninth Great Lakes Symp. On VLSI, 1999 (Nanyang Technology Instit. - Singapore) – 2-waveform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. Ross, “IBIS Present and Future,” Proc. SPI 2003, May 2003 (Teraspeed Consulting Group) – waveform  algorithm re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pice to IBIS and IBIS Algorithm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CSU – Paul Franzon, Michael Steer (also an IBIS Librarian) since about 1995 and students Steve Lipa, Alan Glaser, Ambrish Va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43040" indent="-343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http://www.ece.ncsu.edu/erl/software/ibis_general/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743040" indent="-343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http://www.ece.ncsu.edu/erl/publications/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Supported by ARPA and DARPA fund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ter, Paul Fernando on AMS macro-modeling and Ting Zhu on IBIS algorithm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ice 2 IBIS development: s2ibis, s2ibis3, s2ibis3, s2ip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w handled by IO Method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ul Fernando, MS, Ambrish Varma Ph.D. thesis on IBIS top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2IBIS – a major contributor to IBIS success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er Research and Tool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itecnico di Torino – Igor Stievano, Flavio Canavero, etc. (Ita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iv. de Bretagne Occidentale (Franc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eorgia Tech (Madhaven Swaminathan, Bhyrav Mutnury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th Carolina State University (Ting Zhu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/O buffer modeling and model extraction generalization for power intergrity, packages, spline fitting, pre-emphasis, equation base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adial based functions, and other orthogonal functions as basi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(pi)log tool – includes VHDL-AMS, Spice link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28520" indent="-20556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http://www.emc.polito.it/software/Mpilog/mpilog_home.asp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olteria, Volteria-Laguerre mode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current neural network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urrogate model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 Academic Referenc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. Mutnury, M. Swaninathan, J.P. Libous, “Macromodeling of nonlinear digitial I/O Buffers,” IEEE Trans. Adv. Packag. Feb. 2006  (Georgia Tec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. Mutnury, M. Swaminathan, Nam Pham, D. de Araujo, E. Matoglu, “Macromodeling of nonlinear transistor-level receiver circuits,” IEEE Trans. Adv. Packag. Feb.2006, (Georgia Tec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.S. Stievano, I.A Maio,  F.G. Canavero, “Parametric macromodels of digital I/O drivers,” IEEE Trans. Adv. Packag, May 2002, (Politecnico di Torino - Italy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 Varma, A. Glaser, S. Lipa, M. Steer, P. G. Franzon, “The development of a macro-modeling tool to develop IBIS models,” EPEP 2003, Oct. 2003 (NCSU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.S. Stievano, I.A Maio,  F.G. Canavero, “Mpilog, macromodeling via parametric identification of logic gates,” IEEE Trans. Adv. Packag,    Feb. 2004, (Politecnico di Torino - Italy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 References Continued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K. Varma, M. Steer, P.D. Franzon, “Improving Behavioral IO Buffer Modeling Based on IBIS,” IEEE Trans. Adv. Packag., Nov. 2008 (NCSU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. Zhu, P.D. Franzon, “Application of surrogate modeling to generate compact and PVT-sensitive IBIS models,” EPEPS 2009, Oct. 2009 (NCSU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.G. Telescu,,I.S. Stievano, F.G. Canavero,, N. Tanguy, “An Application of Volterra series to IC buffer models,” SPI 2010, May 2010 (Univ. de Bretagne Occidentale. Politecnico di Torino - Ita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. Diouf, M. Telescu, N. Tanguy, P. Cloastre, I.S. Stievano, F.G. Canavero, “Statistically constrained non-linear models with applications to IC buffers,” SPI 2011, May 2011 (Univ. de Bretagne Occidentale - France, Politecnico di Torino - Ita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1-06-02T18:02:26Z</dcterms:modified>
  <cp:revision>874</cp:revision>
  <dc:subject/>
  <dc:title>IBIS</dc:title>
</cp:coreProperties>
</file>