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0 Teraspeed Consulting Group LLC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638E3099-FAD0-4083-9D4D-C7A0BD519E76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Simple ODT Extraction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b Ro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sign Automation IBIS Summi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naheim, Californi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June 15, 2010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b@teraspeed.co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657600" y="457200"/>
            <a:ext cx="18288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Summary of Simplified Process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(One Clamp at a Time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Total I-V just beyond 0 to Vdd(max) rang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0 V based for [Gnd Clamp] (gc*)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Vdd based for [Power Clamp] (pc*)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p Total I-V curves to (0, 0) value and I(Vdd(typ,min,max) valu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trapolate to full –Vdd to 2*Vdd rang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Easy subtractions for including ESD clamps possible, but not covered here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ODT = On-Die Termination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arlier presentation for combined Thevenin equivalent “pullup” and “pulldown” OD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DEC September, 2005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653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http://www.eda.org/ibis/summits/sep05/ross2.pdf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mplified proce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Tuned for calculating Typ/Min/Max clamps at the same time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Defaults to proportional allocation of current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ample of DDR2 [Submodel] extrac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Default DEC Algorithm (2005)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Proportional Allocation of Currents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1371600"/>
            <a:ext cx="5486400" cy="4114800"/>
          </a:xfrm>
          <a:prstGeom prst="rect">
            <a:avLst/>
          </a:prstGeom>
          <a:noFill/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3200400"/>
            <a:ext cx="731520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12440" y="335268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0 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5715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V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57150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143000" y="838080"/>
            <a:ext cx="6934320" cy="518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828800" y="1371600"/>
            <a:ext cx="548640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828800" y="3200400"/>
            <a:ext cx="548640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3429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Total I-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52480" y="205740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[Gnd Clam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48006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[Power Clam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7314840" y="990720"/>
            <a:ext cx="152388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33520" y="5486400"/>
            <a:ext cx="12952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7315200" y="2819520"/>
            <a:ext cx="137160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09120" y="3200400"/>
            <a:ext cx="1219320" cy="45720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37339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Gill Sans MT"/>
              </a:rPr>
              <a:t>Calcu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38880" y="25146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Gill Sans MT"/>
              </a:rPr>
              <a:t>Calcu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51055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ill Sans MT"/>
              </a:rPr>
              <a:t>Extrapo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238880" y="1371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ill Sans MT"/>
              </a:rPr>
              <a:t>Extrapo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1066680" y="2590920"/>
            <a:ext cx="4191120" cy="358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257800" y="914040"/>
            <a:ext cx="289548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828800" y="1905120"/>
            <a:ext cx="342900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28800" y="3885840"/>
            <a:ext cx="342900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257800" y="1143000"/>
            <a:ext cx="0" cy="3581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257800" y="1371600"/>
            <a:ext cx="20574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257800" y="3200040"/>
            <a:ext cx="20574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52880" y="1523880"/>
            <a:ext cx="609840" cy="289584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4267080"/>
            <a:ext cx="76212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315200" y="1981080"/>
            <a:ext cx="83808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2590920"/>
            <a:ext cx="0" cy="380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388620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57800" y="190512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43600" y="2590920"/>
            <a:ext cx="99072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e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562720" y="281952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57400" y="1066680"/>
            <a:ext cx="220968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elta*Ip/(Ip+I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67080" y="1523880"/>
            <a:ext cx="762120" cy="381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4343400"/>
            <a:ext cx="213336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elta*Ig/(Ip+I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5486040" y="4114440"/>
            <a:ext cx="30492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Simple Transformation Process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(One Clamp at a Time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[Gnd Clamp] extrac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Extract total I-V curves just beyond 0 to Vdd(max) range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E.g., -0.2 to Vdd(max)+0.1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Transform curves to the range I(V(0) and I(Vdd(typ/min/max))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Extrapolate at both end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[Power Clamp] extrac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Same process, but use the Vdd referenced data from about -0.2 to Vdd(max)+0.1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Real Example for 75 </a:t>
            </a:r>
            <a:r>
              <a:rPr b="1" lang="en-US" sz="3200" spc="-1" strike="noStrike">
                <a:solidFill>
                  <a:srgbClr val="186ecc"/>
                </a:solidFill>
                <a:latin typeface="Symbol"/>
                <a:ea typeface="Symbol"/>
              </a:rPr>
              <a:t></a:t>
            </a: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 ODT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DDR2 [Submodel] 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dd Typ/Min/Max = 1.8/1.7/1.9 V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odified gc* and pc* range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-0.2 V to 2.0 V  from s2ibis2/3 setup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pread sheet processing (but direct equation implementation possible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Here, ESD clamps at Gnd and Power extracted separately by turning off ODT and modeled at top-level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Total I-V and [Gnd Clamp]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Typ/Min/Max by Mapping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62120" y="1295280"/>
          <a:ext cx="761976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95280"/>
                    <a:ext cx="76197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1828800" y="18288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alculated ODT [Gnd Clam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45720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0 V referenced Total I-V gc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790960" y="3504960"/>
            <a:ext cx="60948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2286000"/>
            <a:ext cx="3808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5480" y="2514600"/>
            <a:ext cx="4876920" cy="190512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2666880"/>
            <a:ext cx="4267440" cy="1600200"/>
          </a:xfrm>
          <a:prstGeom prst="rect">
            <a:avLst/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95480" y="2590920"/>
            <a:ext cx="4572000" cy="18288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3429000"/>
            <a:ext cx="6400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200400"/>
            <a:ext cx="533520" cy="5335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304812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Map Typ/Min/Max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0 V to 1.8/1.7/1.9 V Ranges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24280" y="1523880"/>
          <a:ext cx="3962520" cy="184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523880"/>
                    <a:ext cx="3962520" cy="18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457200" y="3886200"/>
          <a:ext cx="3962520" cy="1852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886200"/>
                    <a:ext cx="396252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724280" y="3886200"/>
          <a:ext cx="3973680" cy="18590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3886200"/>
                    <a:ext cx="3973680" cy="18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5029200" y="12193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Typ at 1.8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29400" y="35053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ax at 1.9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3505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in at 1.7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447920"/>
          <a:ext cx="3962520" cy="19684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1447920"/>
                    <a:ext cx="396252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3429000" y="1828800"/>
            <a:ext cx="990720" cy="304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1981080"/>
            <a:ext cx="213372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2286000"/>
            <a:ext cx="3276720" cy="228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480" y="2286000"/>
            <a:ext cx="1981440" cy="2362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60199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After mapping, extrapolate both tables (no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4648320"/>
            <a:ext cx="228600" cy="228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05720" y="2209680"/>
            <a:ext cx="228600" cy="228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43800" y="4495680"/>
            <a:ext cx="228600" cy="228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7920" y="2209680"/>
            <a:ext cx="228600" cy="228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2666880"/>
            <a:ext cx="228600" cy="228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228600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Total I-V to [Power Clamp]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Typ/Min/Max Mapping – Same Process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33520" y="1219320"/>
          <a:ext cx="8084880" cy="5279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8084880" cy="52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3352680" y="16002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Vdd referenced Total I-V pc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5486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alculated ODT [Power Clam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723920" y="2133720"/>
            <a:ext cx="114300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114800" y="4572000"/>
            <a:ext cx="7621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[Gnd Clamp] and [Power Clamp]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with Extrapolations for [Submodel]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1143000"/>
          <a:ext cx="7315200" cy="458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43000"/>
                    <a:ext cx="731520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3733920" y="1905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[Gnd Clam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4038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[Power Clam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33920" y="2514600"/>
            <a:ext cx="2057400" cy="121932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2514600"/>
            <a:ext cx="1904760" cy="1143000"/>
          </a:xfrm>
          <a:prstGeom prst="rect">
            <a:avLst/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33920" y="2438280"/>
            <a:ext cx="2209680" cy="121932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27432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ESD clamps, if nee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0T13:19:28Z</dcterms:created>
  <dc:creator>Bob Ross</dc:creator>
  <dc:description/>
  <dc:language>en-US</dc:language>
  <cp:lastModifiedBy>Bob Ross</cp:lastModifiedBy>
  <dcterms:modified xsi:type="dcterms:W3CDTF">2010-06-12T19:30:01Z</dcterms:modified>
  <cp:revision>771</cp:revision>
  <dc:subject/>
  <dc:title>IBIS</dc:title>
</cp:coreProperties>
</file>