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0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7C001470-E599-4BF3-9229-974D409739B5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Open Forum Review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ign Automation IBIS Summ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aheim, Californ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1828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Organiz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chAmerica (from EIA, GEIA, ITAA, Ae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ystem Standards and Technology Council (SSTC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Vice President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, Chris Denham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13 committees including IBIS Open Forum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officers 2009 - 201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hair: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Bob Ross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, Teraspeed Consulting Group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Vice-Chair: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Lance Wang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, IO Methodology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ecretary: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Randy Wolff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, Micron Technology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Webmaster: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Syed Huq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, Cisco System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ostmaster: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Mike LaBonte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, Cisco System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Librarian: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Anders Ekholm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, Ericss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ask Groups 2009 - 2010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Model Review –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ynne Gree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Green Streak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ree model review with about 7 reviewer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uality –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ike LaBon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Cisco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 Quality Specification Version 2.0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 Quality Checklist updat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orrelation projec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onnect –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ichael Mirmak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Int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ouchstone Specification advanc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odel Connection Protocol (MCP) introduc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anced Technology Modeling –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rpad Murany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Mentor Graph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-AMI (Algorithmic Model Interface) advanc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-ISS (Interconnect Subcircuit Specification) draf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chk5” Parser (2009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chk5, Version 5.0.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http://www.eda.org/pub/ibis/ibischk5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upports IBIS Version 5.0 (ratified 2008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Algorithmic model interface for Serdes analysi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Power delivery system SSO and gate modulation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EMI parameter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Other – (area based thresholds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cks all [IBIS Ver]s of IBIS fi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 $100,000 of contracted work since 1993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rts .ibs, .pkg, .ebd, and .ami formats directly or through link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schk2” Parser (2009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cks Touchstone Version 1.0 (TS1) and Version 2.0 (TS2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rror and Warning numb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http://www.eda.org/pub/ibis/tschk2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verts TS1 to TS2, TS2 to TS1 where practical with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-canonical*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a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des comment headers and real, imaginary format (RI) with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-describ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a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urce code package includes 440+ test ca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++, well documen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anks to contractor Agilent Technolo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Other 2009 – 2010 Accomplishment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 Summit Meet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AC2009, Shanghai, Tokyo, DesignCon2010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o-located European IBIS Summit with SPI2010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Version 2.1 propos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(Sparse Matrix Mapping, Binary Format Support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bug reports and fix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web pages to eda.or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ancial position ahead of budg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9+ ibischk5 parsers (5 more in 2010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2 tschk2 parsers (1 more in 2010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rojecting 31-33 memb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Future Pla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m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hina – Shenzhen (November 2010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aiwan – Taipei (new, November 2010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Japan – Tokyo, hosted by JEITA (November 2010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SA – Santa Clara (February 2011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taly – Naples (May 2011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SA – San Diego (June 2011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Version 5.1, ibischk5 Version 5.0.4 and mo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-AMI updat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2.1 and tschk2 Version 2.1.0 par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-ISS comple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el Connection Protocol (MCP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Correlation Specif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Open Forum Observ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mains very ac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ccessful with minimal fun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ading industrial exper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ad company particip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nk you – IBIS officers, task group leaders and memb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10-06-12T19:34:45Z</dcterms:modified>
  <cp:revision>777</cp:revision>
  <dc:subject/>
  <dc:title>IBIS</dc:title>
</cp:coreProperties>
</file>