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8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450C428-A130-4DE0-B8A7-937DDABD8E58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Topic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Automation Con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heim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ne 10,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wo MM Differential Lin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3,4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3,4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 “Diff Por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4572000"/>
            <a:ext cx="1143000" cy="18288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1752480"/>
            <a:ext cx="3049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9040" y="1752480"/>
            <a:ext cx="16002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4572000"/>
            <a:ext cx="304560" cy="18288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2286000"/>
            <a:ext cx="18288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05560" y="2209680"/>
            <a:ext cx="1522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wo MM Differential Lin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Combining Mapping and Diff Indices?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191120"/>
            <a:ext cx="190512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(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2(3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(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2(3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 “Diff Ports” Diff. indices along with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4572000"/>
            <a:ext cx="457200" cy="18288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392600">
            <a:off x="4677840" y="2925360"/>
            <a:ext cx="424512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bserv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-port order has no relationship to physical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rix mapping and GMM indexing can be combin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mapping to/from SE and GM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reference impedances conform to traditional defin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i=Rj=R, Rd=2*R, Rc=R/2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ference impedanc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i-Vj=Vd, Ii-Ij=Vd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Differential mod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(Vi+Vj)/2=Vc, (Ii+Ij)/2=Vc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ommon mod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 reference impedances supported, but may complicate MM and GMM vector relationshi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apply for Y, 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ill being develop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Generalized Mixed Mode Extens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E: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Single-ended format – as currently exis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MM: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Mixed Mode – with differential and common mode componen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GMM: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Generalized Mixed Mode – both SE and MM, or SE only or MM onl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ly one set of data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 adaped from power splitter or balu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K. Jung + 7 other authors, "A New Characterization and Calibration Method for 3-dB-coupled On-Wafer Measurements, IEEE Trans on Microwave Theory and Techniques, Vol. 56, no. 5, pp. 1193-1200, May 2008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GMM Featur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agonal format syntax shorthand for ind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 versus n^2 sized descrip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ompatible with [Matrix Format] &lt;Upper | Lower&gt; data reduction if Sij = Sji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-positioning of data by index refere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 reference impedance re-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ay lose standard vector relationship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for GMM follows all the SE data formatt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bular example illustrates some indexing issues and features with GM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iagonal Format Syntax (not final)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and Data Mapp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77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191120"/>
            <a:ext cx="27432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(3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666880"/>
            <a:ext cx="342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,2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,2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 notation and position gives mapping for both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572000"/>
            <a:ext cx="152424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752480"/>
            <a:ext cx="4800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388620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962520"/>
            <a:ext cx="8380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267080" y="3580920"/>
            <a:ext cx="114300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ifferential Ports Expressed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with New Indic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4191120"/>
            <a:ext cx="27432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(3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S2c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 Ports” often renamed from SE port-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666880"/>
            <a:ext cx="1828800" cy="838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581280"/>
            <a:ext cx="685800" cy="3812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4572000"/>
            <a:ext cx="11430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1828800"/>
            <a:ext cx="3049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924320" y="2133720"/>
            <a:ext cx="304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572000"/>
            <a:ext cx="30456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iagonal Information Sufficient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and Fixes the Off-diagonal Term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77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905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4191120"/>
            <a:ext cx="27432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(3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c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 notation implied but NOT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11430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1828800"/>
            <a:ext cx="3049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924320" y="2133720"/>
            <a:ext cx="304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98800">
            <a:off x="5028840" y="2971800"/>
            <a:ext cx="341964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572000"/>
            <a:ext cx="30456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393200">
            <a:off x="380520" y="2971440"/>
            <a:ext cx="303048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572000"/>
            <a:ext cx="4572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rder of Data Selectab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4191120"/>
            <a:ext cx="27432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(3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 changing postions 2 and 3 (as in 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5105520"/>
            <a:ext cx="220968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198800">
            <a:off x="6248520" y="3276360"/>
            <a:ext cx="1935000" cy="577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efault Reference Impedanc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4191120"/>
            <a:ext cx="3657600" cy="2704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R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(3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S2c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4343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         Rd=2R, Rc=R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4572000"/>
            <a:ext cx="11430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648320"/>
            <a:ext cx="76176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8769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apping of Arbitrary Referenc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mpedances Supported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4191120"/>
            <a:ext cx="3657600" cy="2704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R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(1,2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(3)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S2c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 Notation Non-defaul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4572000"/>
            <a:ext cx="11430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648320"/>
            <a:ext cx="76176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7242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quality Constrai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8-06-06T04:25:13Z</dcterms:modified>
  <cp:revision>628</cp:revision>
  <dc:subject/>
  <dc:title>IBIS</dc:title>
</cp:coreProperties>
</file>