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AE2-DBE9-49CB-AFDD-21F9CC4E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0C7-C3F9-48E6-9FE2-2B0C5F86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F8B2-D014-4CE8-B1F3-F8D7B1A0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25F-66DA-4871-BBD4-B189A066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278C-ED13-4246-9C69-60029470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32AB-30A5-4E89-888A-D20A8F0B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E67-F2A3-418C-B030-2756F742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EF80-6625-4DDE-BEDF-42F702E4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F20-50FA-40E5-8CA0-7334BD16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E2A-7FBB-4A0A-990A-9A3FFFCB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D8C-A3D1-4AAB-9FC8-FEEAE9ED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63C-498F-416E-A72D-048A1AFE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357600"/>
            <a:ext cx="752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30160" y="6357600"/>
            <a:ext cx="3889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438F-0204-49ED-977B-65F499C69BAE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676520" y="6400800"/>
            <a:ext cx="3908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*Other names and brands may be claimed as the property of others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396200" y="538200"/>
            <a:ext cx="1290600" cy="86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144792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굴림"/>
              </a:rPr>
              <a:t>Power Integrity for Single Ended Systems</a:t>
            </a:r>
            <a:endParaRPr b="1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391160" cy="34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shram S. Pandit, Myoung Joon Cho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l Corp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BIS Summit at DAC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June 10,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cknowledgements: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chael Mirmak, Julius Delino, Woong Hwan Ryu, Sanjiv Som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pyright © 2008, Intel Corporation.  All rights reserve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PDN currents at Receiver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533520" y="1447920"/>
          <a:ext cx="8001000" cy="2116080"/>
        </p:xfrm>
        <a:graphic>
          <a:graphicData uri="http://schemas.openxmlformats.org/drawingml/2006/table">
            <a:tbl>
              <a:tblPr/>
              <a:tblGrid>
                <a:gridCol w="2057400"/>
                <a:gridCol w="1600200"/>
                <a:gridCol w="2133360"/>
                <a:gridCol w="2210040"/>
              </a:tblGrid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Receiver Ter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Receiver curr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Vcc Ter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Vss Ter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CT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cc Curr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C Ste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/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½ DC ste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ss Curr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/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C Ste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½ DC ste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-228600" y="51811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" y="3962520"/>
            <a:ext cx="82375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TT produces smaller step than other tw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e to the resistor divider the DC step is half of that for the other cas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maller the step, smaller is the di/d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452680" y="1523880"/>
            <a:ext cx="290520" cy="152640"/>
          </a:xfrm>
          <a:prstGeom prst="rightArrow">
            <a:avLst>
              <a:gd name="adj1" fmla="val 50000"/>
              <a:gd name="adj2" fmla="val 47583"/>
            </a:avLst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cc(t) Gener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cc(t) is Ivcc and Ivss at the Driver PD node w.r.t. ti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t provides a means to estimate the noise on the PDN as a function of SS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vantages: It gives first pass noise inform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sadvantages: It cannot model the buffer/ PDN dynamic interaction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cc(t) for a single Driver is expanded to the interfa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t can be scaled by total number of Drivers switching at the same tim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n, generate a PDN network and test different patterns, as PDN has some resonanc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aximum data ra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ata rate at PDN resonance frequenc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terconnect resonance frequenc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cc(t) Usage Model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3809880"/>
            <a:ext cx="80773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 calculating the PDN no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571680" indent="-3240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fferent currents in Vcc and Vss need to be accounted f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571680" indent="-3240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eed two out of three currents for modeling: Ivcc, Ivss and Ipa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571680" indent="-3240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BIS* application: BIRD 95 can include these curr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ansmission l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571680" indent="-3240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r PDN-noise only analysis, Use individual transmission lines OR use a scaled model of multiple transmission line. Terminate the line/ lines at the far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43200" y="2590920"/>
            <a:ext cx="449568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" y="1447920"/>
            <a:ext cx="1755720" cy="2057400"/>
          </a:xfrm>
          <a:prstGeom prst="rect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2e86"/>
                </a:solidFill>
                <a:latin typeface="Arial"/>
              </a:rPr>
              <a:t>Receiver-Vcc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2e86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c2e86"/>
                </a:solidFill>
                <a:latin typeface="Arial"/>
              </a:rPr>
              <a:t>Driver-Vc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2e86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2e86"/>
                </a:solidFill>
                <a:latin typeface="Arial"/>
              </a:rPr>
              <a:t>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2e86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c2e86"/>
                </a:solidFill>
                <a:latin typeface="Arial"/>
              </a:rPr>
              <a:t>V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2741760" y="1828800"/>
            <a:ext cx="1440" cy="2412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2062080" y="1828800"/>
            <a:ext cx="681120" cy="144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741760" y="2367000"/>
            <a:ext cx="1440" cy="2239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29200" y="2527200"/>
            <a:ext cx="341280" cy="111240"/>
          </a:xfrm>
          <a:prstGeom prst="rect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914400" y="1219320"/>
            <a:ext cx="1440" cy="2206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238880" y="2362320"/>
            <a:ext cx="1800" cy="2682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65280" y="2070000"/>
            <a:ext cx="544680" cy="276480"/>
          </a:xfrm>
          <a:prstGeom prst="ellipse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Arial"/>
              </a:rPr>
              <a:t>Ivc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2438280"/>
            <a:ext cx="544680" cy="276480"/>
          </a:xfrm>
          <a:prstGeom prst="ellipse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Arial"/>
              </a:rPr>
              <a:t>Ip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162920" y="2031840"/>
            <a:ext cx="141120" cy="3304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81680" y="2133720"/>
            <a:ext cx="48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R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60800" y="2362320"/>
            <a:ext cx="49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14400" y="1219320"/>
            <a:ext cx="632448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057400" y="3352680"/>
            <a:ext cx="518148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1219320"/>
            <a:ext cx="0" cy="83808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743200" y="2565000"/>
            <a:ext cx="1440" cy="78732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438280" y="2771640"/>
            <a:ext cx="544680" cy="276480"/>
          </a:xfrm>
          <a:prstGeom prst="ellipse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c2e86"/>
                </a:solidFill>
                <a:latin typeface="Arial"/>
              </a:rPr>
              <a:t>Iv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497120" y="2666880"/>
            <a:ext cx="20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ss referenced Tl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xample: Noise Profil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5760" y="914040"/>
            <a:ext cx="8237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ise at the Driver and Receiver End for two termination schem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"/>
          <p:cNvSpPr/>
          <p:nvPr/>
        </p:nvSpPr>
        <p:spPr>
          <a:xfrm>
            <a:off x="5947200" y="3962520"/>
            <a:ext cx="25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eiver side noise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cc 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4876920" cy="3852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5946840" y="304812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eiver side noise for C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29640" y="2057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r-no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5334120"/>
            <a:ext cx="8008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river side noise is very similar for CTT and Vcc termin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ceiver side noise is different based on the termination schem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PDN Noise impact on timing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/>
          <p:nvPr/>
        </p:nvSpPr>
        <p:spPr>
          <a:xfrm>
            <a:off x="6478200" y="3200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-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30600" y="31240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4043520" cy="182880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800600" y="3505320"/>
            <a:ext cx="3965400" cy="19047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380880" y="114300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-PI comprehensive deck is genera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 Buffers switching simultaneously 1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ycle to cycle DQ-DQS jitter is measur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5600880"/>
            <a:ext cx="800100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clusion of Icc(t) from different no. of buffers on power node, produces the jitter in SI-PI simu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430880" y="1295280"/>
            <a:ext cx="954000" cy="244440"/>
          </a:xfrm>
          <a:prstGeom prst="rect">
            <a:avLst/>
          </a:prstGeom>
          <a:solidFill>
            <a:srgbClr val="a6cae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76760" y="1295280"/>
            <a:ext cx="714600" cy="1219320"/>
          </a:xfrm>
          <a:prstGeom prst="rect">
            <a:avLst/>
          </a:prstGeom>
          <a:solidFill>
            <a:srgbClr val="a6cae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673680" y="1295280"/>
            <a:ext cx="716040" cy="1219320"/>
          </a:xfrm>
          <a:prstGeom prst="rect">
            <a:avLst/>
          </a:prstGeom>
          <a:solidFill>
            <a:srgbClr val="a6cae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30880" y="1295280"/>
            <a:ext cx="100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00"/>
                </a:solidFill>
                <a:latin typeface="Verdana"/>
              </a:rPr>
              <a:t>On-die PD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573880" y="1731960"/>
            <a:ext cx="7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00"/>
                </a:solidFill>
                <a:latin typeface="Verdana"/>
              </a:rPr>
              <a:t>Packag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705720" y="1752480"/>
            <a:ext cx="66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00"/>
                </a:solidFill>
                <a:latin typeface="Verdana"/>
              </a:rPr>
              <a:t>Boar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1523880"/>
            <a:ext cx="1440" cy="357480"/>
          </a:xfrm>
          <a:prstGeom prst="line">
            <a:avLst/>
          </a:prstGeom>
          <a:ln w="1260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573440" y="1881360"/>
            <a:ext cx="95400" cy="19512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0"/>
                </a:moveTo>
                <a:cubicBezTo>
                  <a:pt x="48" y="32"/>
                  <a:pt x="96" y="64"/>
                  <a:pt x="96" y="96"/>
                </a:cubicBezTo>
                <a:cubicBezTo>
                  <a:pt x="96" y="128"/>
                  <a:pt x="48" y="160"/>
                  <a:pt x="0" y="192"/>
                </a:cubicBezTo>
              </a:path>
            </a:pathLst>
          </a:custGeom>
          <a:noFill/>
          <a:ln w="12600">
            <a:solidFill>
              <a:srgbClr val="ff5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3440" y="2076480"/>
            <a:ext cx="0" cy="388800"/>
          </a:xfrm>
          <a:prstGeom prst="line">
            <a:avLst/>
          </a:prstGeom>
          <a:ln w="1260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192560" y="1978200"/>
            <a:ext cx="1384200" cy="0"/>
          </a:xfrm>
          <a:prstGeom prst="line">
            <a:avLst/>
          </a:prstGeom>
          <a:ln w="1260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3571560" y="2465280"/>
            <a:ext cx="2004840" cy="0"/>
          </a:xfrm>
          <a:prstGeom prst="line">
            <a:avLst/>
          </a:prstGeom>
          <a:ln w="3816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6291360" y="2465280"/>
            <a:ext cx="382320" cy="0"/>
          </a:xfrm>
          <a:prstGeom prst="line">
            <a:avLst/>
          </a:prstGeom>
          <a:ln w="3816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6291360" y="1344600"/>
            <a:ext cx="382320" cy="0"/>
          </a:xfrm>
          <a:prstGeom prst="line">
            <a:avLst/>
          </a:prstGeom>
          <a:ln w="3816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5384520" y="1344600"/>
            <a:ext cx="191880" cy="0"/>
          </a:xfrm>
          <a:prstGeom prst="line">
            <a:avLst/>
          </a:prstGeom>
          <a:ln w="3816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571920" y="1344600"/>
            <a:ext cx="858960" cy="0"/>
          </a:xfrm>
          <a:prstGeom prst="line">
            <a:avLst/>
          </a:prstGeom>
          <a:ln w="3816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429000" y="1587600"/>
            <a:ext cx="285840" cy="293760"/>
          </a:xfrm>
          <a:prstGeom prst="flowChartDecision">
            <a:avLst/>
          </a:prstGeom>
          <a:solidFill>
            <a:srgbClr val="a6cae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71920" y="1587600"/>
            <a:ext cx="0" cy="293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571920" y="1344600"/>
            <a:ext cx="0" cy="487440"/>
          </a:xfrm>
          <a:prstGeom prst="line">
            <a:avLst/>
          </a:prstGeom>
          <a:ln w="1260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71920" y="1881360"/>
            <a:ext cx="0" cy="583920"/>
          </a:xfrm>
          <a:prstGeom prst="line">
            <a:avLst/>
          </a:prstGeom>
          <a:ln w="1260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097160" y="2027160"/>
            <a:ext cx="0" cy="438120"/>
          </a:xfrm>
          <a:prstGeom prst="line">
            <a:avLst/>
          </a:prstGeom>
          <a:ln w="1260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097160" y="1344600"/>
            <a:ext cx="0" cy="584280"/>
          </a:xfrm>
          <a:prstGeom prst="line">
            <a:avLst/>
          </a:prstGeom>
          <a:ln w="1260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91360" y="1978200"/>
            <a:ext cx="382320" cy="0"/>
          </a:xfrm>
          <a:prstGeom prst="line">
            <a:avLst/>
          </a:prstGeom>
          <a:ln w="1260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91360" y="2076480"/>
            <a:ext cx="382320" cy="0"/>
          </a:xfrm>
          <a:prstGeom prst="line">
            <a:avLst/>
          </a:prstGeom>
          <a:ln w="1260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91360" y="1832040"/>
            <a:ext cx="382320" cy="0"/>
          </a:xfrm>
          <a:prstGeom prst="line">
            <a:avLst/>
          </a:prstGeom>
          <a:ln w="1260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291360" y="1733400"/>
            <a:ext cx="382320" cy="0"/>
          </a:xfrm>
          <a:prstGeom prst="line">
            <a:avLst/>
          </a:prstGeom>
          <a:ln w="1260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194440" y="2076480"/>
            <a:ext cx="382320" cy="0"/>
          </a:xfrm>
          <a:prstGeom prst="line">
            <a:avLst/>
          </a:prstGeom>
          <a:ln w="1260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194440" y="1832040"/>
            <a:ext cx="382320" cy="0"/>
          </a:xfrm>
          <a:prstGeom prst="line">
            <a:avLst/>
          </a:prstGeom>
          <a:ln w="1260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194440" y="1733400"/>
            <a:ext cx="382320" cy="0"/>
          </a:xfrm>
          <a:prstGeom prst="line">
            <a:avLst/>
          </a:prstGeom>
          <a:ln w="1260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389720" y="1978200"/>
            <a:ext cx="381240" cy="0"/>
          </a:xfrm>
          <a:prstGeom prst="line">
            <a:avLst/>
          </a:prstGeom>
          <a:ln w="1260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389720" y="2076480"/>
            <a:ext cx="381240" cy="0"/>
          </a:xfrm>
          <a:prstGeom prst="line">
            <a:avLst/>
          </a:prstGeom>
          <a:ln w="1260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389720" y="1832040"/>
            <a:ext cx="381240" cy="0"/>
          </a:xfrm>
          <a:prstGeom prst="line">
            <a:avLst/>
          </a:prstGeom>
          <a:ln w="1260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89720" y="1733400"/>
            <a:ext cx="381240" cy="0"/>
          </a:xfrm>
          <a:prstGeom prst="line">
            <a:avLst/>
          </a:prstGeom>
          <a:ln w="1260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770960" y="1295280"/>
            <a:ext cx="715680" cy="1219320"/>
          </a:xfrm>
          <a:prstGeom prst="rect">
            <a:avLst/>
          </a:prstGeom>
          <a:solidFill>
            <a:srgbClr val="a6cae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72400" y="1676520"/>
            <a:ext cx="7621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00"/>
                </a:solidFill>
                <a:latin typeface="Verdana"/>
              </a:rPr>
              <a:t>Receiv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00"/>
                </a:solidFill>
                <a:latin typeface="Verdana"/>
              </a:rPr>
              <a:t>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00"/>
                </a:solidFill>
                <a:latin typeface="Verdana"/>
              </a:rPr>
              <a:t>Term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7389360" y="1344600"/>
            <a:ext cx="381240" cy="0"/>
          </a:xfrm>
          <a:prstGeom prst="line">
            <a:avLst/>
          </a:prstGeom>
          <a:ln w="3816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7389360" y="2465280"/>
            <a:ext cx="381240" cy="0"/>
          </a:xfrm>
          <a:prstGeom prst="line">
            <a:avLst/>
          </a:prstGeom>
          <a:ln w="3816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3858840" y="1978200"/>
            <a:ext cx="142920" cy="0"/>
          </a:xfrm>
          <a:prstGeom prst="line">
            <a:avLst/>
          </a:prstGeom>
          <a:ln w="1260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762360" y="2124000"/>
            <a:ext cx="192240" cy="1954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59200" y="2319480"/>
            <a:ext cx="0" cy="145800"/>
          </a:xfrm>
          <a:prstGeom prst="line">
            <a:avLst/>
          </a:prstGeom>
          <a:ln w="1260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859200" y="1977840"/>
            <a:ext cx="0" cy="145800"/>
          </a:xfrm>
          <a:prstGeom prst="line">
            <a:avLst/>
          </a:prstGeom>
          <a:ln w="1260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5400000">
            <a:off x="3951000" y="1882800"/>
            <a:ext cx="291960" cy="190440"/>
          </a:xfrm>
          <a:prstGeom prst="triangle">
            <a:avLst>
              <a:gd name="adj" fmla="val 50000"/>
            </a:avLst>
          </a:prstGeom>
          <a:solidFill>
            <a:srgbClr val="a6cae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62360" y="2173320"/>
            <a:ext cx="192240" cy="114120"/>
          </a:xfrm>
          <a:custGeom>
            <a:avLst/>
            <a:gdLst/>
            <a:ahLst/>
            <a:rect l="l" t="t" r="r" b="b"/>
            <a:pathLst>
              <a:path w="144" h="112">
                <a:moveTo>
                  <a:pt x="0" y="56"/>
                </a:moveTo>
                <a:cubicBezTo>
                  <a:pt x="16" y="84"/>
                  <a:pt x="32" y="112"/>
                  <a:pt x="48" y="104"/>
                </a:cubicBezTo>
                <a:cubicBezTo>
                  <a:pt x="64" y="96"/>
                  <a:pt x="80" y="16"/>
                  <a:pt x="96" y="8"/>
                </a:cubicBezTo>
                <a:cubicBezTo>
                  <a:pt x="112" y="0"/>
                  <a:pt x="136" y="48"/>
                  <a:pt x="144" y="56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146560" y="1685880"/>
            <a:ext cx="47880" cy="47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146560" y="1782720"/>
            <a:ext cx="4788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146560" y="2027160"/>
            <a:ext cx="47880" cy="49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124080" y="1325520"/>
            <a:ext cx="679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Verdana"/>
              </a:rPr>
              <a:t>Ivpd X N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PDN Optimiz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200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ystem Level PI-SI models are generat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cc(t) is created for 66 buff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wo cases are studied: 1333MTPS, 267MTP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4038480" y="1143000"/>
            <a:ext cx="4816440" cy="281952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4116600" y="12193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2e86"/>
                </a:solidFill>
                <a:latin typeface="Arial"/>
              </a:rPr>
              <a:t>m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267080" y="4267080"/>
            <a:ext cx="30492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58320" y="40752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7MT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512040" y="430704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02920" y="41148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33 MT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243040" y="72216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YE margin vs. Cd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33520" y="4495680"/>
            <a:ext cx="7467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YE diagram includes effects due to ISI, crosstalk and S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die/ IO is varied and EYE margin is plot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igher the Cdie, lower is the SSO noise, hence higher is the EYE mar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onclusion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wer Integrity for the single ended system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SO Noise on the PD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cc(t) computation comprise o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rmination schemes, Driver type, Data Pattern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Jitter due to PDN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river side PD to signal coupling (primary source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hannel PD to signal couplin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YE margin impact due to PD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die optimization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havioral Buffer Model needs to ha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vcc, Ivss, Ipa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ependency on the termination schem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bility to have noisy voltage sour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n IBIS* BIRD95/98 address all that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Outline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bjective: To demonstrate the Power Integrity (PI) methodology for Single ended systems with the emphasis on the buffer model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ngle Ended systems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river Typ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pen drain, Open source, Push-pul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rmination schemes for push-pul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Vss, Center-tap, Vcc termin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I only analysi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cc(t) generation and usag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I/SI analy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D noise impact on the jitter and voltage margi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BIS* involve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6882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Open Sink Driver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5334120"/>
            <a:ext cx="0" cy="7617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3809880"/>
            <a:ext cx="4495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990720"/>
            <a:ext cx="2209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3753000"/>
            <a:ext cx="609480" cy="152280"/>
          </a:xfrm>
          <a:prstGeom prst="rect">
            <a:avLst/>
          </a:prstGeom>
          <a:solidFill>
            <a:srgbClr val="a6cae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236232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43200" y="544032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34440" y="541008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1+i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3524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6095880"/>
            <a:ext cx="807696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5680" y="16765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0020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3722760"/>
            <a:ext cx="152640" cy="15228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6240" y="609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2286000"/>
            <a:ext cx="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114800" y="4027320"/>
            <a:ext cx="380880" cy="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99680" y="403848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i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2743200"/>
            <a:ext cx="0" cy="14479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4191120"/>
            <a:ext cx="0" cy="4572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666880" y="4648320"/>
            <a:ext cx="301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666880" y="4876920"/>
            <a:ext cx="301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666520" y="4648320"/>
            <a:ext cx="3240" cy="228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89360" y="228600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71800" y="990720"/>
            <a:ext cx="0" cy="12952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372276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160020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990720"/>
            <a:ext cx="0" cy="51051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752480" y="4419720"/>
            <a:ext cx="301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752480" y="4572000"/>
            <a:ext cx="301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53600" y="5715000"/>
            <a:ext cx="14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2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turn Cur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61722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990720"/>
            <a:ext cx="0" cy="30477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4572000"/>
            <a:ext cx="0" cy="1523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438280"/>
            <a:ext cx="1371600" cy="1752840"/>
          </a:xfrm>
          <a:prstGeom prst="rect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Arial"/>
              </a:rPr>
              <a:t>Oth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Arial"/>
              </a:rPr>
              <a:t>PD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Arial"/>
              </a:rPr>
              <a:t>Ele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Arial"/>
              </a:rPr>
              <a:t>(Pkg , Board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Arial"/>
              </a:rPr>
              <a:t>V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91520" y="223992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467480" y="2697120"/>
            <a:ext cx="20880" cy="10368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223992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cc 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91520" y="3733920"/>
            <a:ext cx="152280" cy="15228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8305920" y="4343400"/>
            <a:ext cx="301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305920" y="4495680"/>
            <a:ext cx="301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58200" y="1295280"/>
            <a:ext cx="0" cy="26672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458200" y="4495680"/>
            <a:ext cx="0" cy="16002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458200" y="3886200"/>
            <a:ext cx="0" cy="4572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15200" y="1295280"/>
            <a:ext cx="1295280" cy="0"/>
          </a:xfrm>
          <a:prstGeom prst="line">
            <a:avLst/>
          </a:prstGeom>
          <a:ln w="9360">
            <a:solidFill>
              <a:srgbClr val="f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4876920"/>
            <a:ext cx="0" cy="4572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6567480"/>
            <a:ext cx="457200" cy="19044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8680" y="65530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m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53080" y="4708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3840" y="434340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s referenced T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4572000"/>
            <a:ext cx="228600" cy="457200"/>
          </a:xfrm>
          <a:custGeom>
            <a:avLst/>
            <a:gdLst>
              <a:gd name="textAreaLeft" fmla="*/ 30600 w 228600"/>
              <a:gd name="textAreaRight" fmla="*/ 198000 w 2286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1295280"/>
            <a:ext cx="0" cy="9907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840" y="86184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c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7440" y="573876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49960" y="7002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53341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68680" y="6515280"/>
            <a:ext cx="31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DN: Power Distribution Netwo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6882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Open Source Driver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5334120"/>
            <a:ext cx="0" cy="7617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3809880"/>
            <a:ext cx="49528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990720"/>
            <a:ext cx="23623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3753000"/>
            <a:ext cx="609480" cy="152280"/>
          </a:xfrm>
          <a:prstGeom prst="rect">
            <a:avLst/>
          </a:prstGeom>
          <a:solidFill>
            <a:srgbClr val="a6cae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559260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3524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609588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4440" y="198108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1+i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54120" y="579132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190512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3722760"/>
            <a:ext cx="152640" cy="15228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990720"/>
            <a:ext cx="0" cy="17524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657600" y="4038480"/>
            <a:ext cx="380880" cy="0"/>
          </a:xfrm>
          <a:prstGeom prst="line">
            <a:avLst/>
          </a:prstGeom>
          <a:ln w="1908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58320" y="41148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i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666880" y="2743200"/>
            <a:ext cx="301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666880" y="2971800"/>
            <a:ext cx="301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666520" y="2743200"/>
            <a:ext cx="3240" cy="228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2971800"/>
            <a:ext cx="0" cy="12193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4648320"/>
            <a:ext cx="0" cy="7617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419112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426708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201132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752480" y="4419720"/>
            <a:ext cx="301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752480" y="4572000"/>
            <a:ext cx="301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3240" y="5715000"/>
            <a:ext cx="141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2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turn cur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76920" y="61722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05120" y="990720"/>
            <a:ext cx="0" cy="34290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4572000"/>
            <a:ext cx="0" cy="16002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460224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927920" y="4221000"/>
            <a:ext cx="0" cy="3812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924680" y="5059440"/>
            <a:ext cx="20880" cy="10364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43800" y="460224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924680" y="3809880"/>
            <a:ext cx="0" cy="7621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24680" y="3733920"/>
            <a:ext cx="7920" cy="1522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48720" y="3733920"/>
            <a:ext cx="152280" cy="15228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0" y="5257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s 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647712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7600" y="64152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me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53080" y="4708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39360" y="54864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5410080"/>
            <a:ext cx="0" cy="38124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990720"/>
            <a:ext cx="0" cy="51051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2438280"/>
            <a:ext cx="1371600" cy="1752840"/>
          </a:xfrm>
          <a:prstGeom prst="rect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Arial"/>
              </a:rPr>
              <a:t>Oth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Arial"/>
              </a:rPr>
              <a:t>PD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Arial"/>
              </a:rPr>
              <a:t>Ele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Arial"/>
              </a:rPr>
              <a:t>(Pkg , Board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Arial"/>
              </a:rPr>
              <a:t>V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2590920"/>
            <a:ext cx="200160" cy="457200"/>
          </a:xfrm>
          <a:custGeom>
            <a:avLst/>
            <a:gdLst>
              <a:gd name="textAreaLeft" fmla="*/ 26640 w 200160"/>
              <a:gd name="textAreaRight" fmla="*/ 173520 w 20016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9920" y="609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80160" y="419112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s referenced T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49960" y="7002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5520" y="9144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c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365760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019920" y="4114800"/>
            <a:ext cx="2438280" cy="1676520"/>
          </a:xfrm>
          <a:prstGeom prst="rect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4114800"/>
            <a:ext cx="2438280" cy="1676520"/>
          </a:xfrm>
          <a:prstGeom prst="rect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3600" y="1219320"/>
            <a:ext cx="2438280" cy="1676160"/>
          </a:xfrm>
          <a:prstGeom prst="rect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1219320"/>
            <a:ext cx="2438280" cy="1676160"/>
          </a:xfrm>
          <a:prstGeom prst="rect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791320" y="4038480"/>
            <a:ext cx="2819160" cy="1905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352680" y="3962520"/>
            <a:ext cx="2743200" cy="19666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715000" y="990720"/>
            <a:ext cx="2895480" cy="20574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3200400" y="990720"/>
            <a:ext cx="289548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5760" y="304560"/>
            <a:ext cx="86882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Push-pull Driver, Vcc Termin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5257800"/>
            <a:ext cx="0" cy="7621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971800" y="3580920"/>
            <a:ext cx="5715000" cy="111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914400"/>
            <a:ext cx="25909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3535200"/>
            <a:ext cx="609480" cy="152640"/>
          </a:xfrm>
          <a:prstGeom prst="rect">
            <a:avLst/>
          </a:prstGeom>
          <a:solidFill>
            <a:srgbClr val="a6cae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10480" y="274320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458200" y="1295280"/>
            <a:ext cx="4572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76520" y="292572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1880" y="281952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551664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39000" y="5257800"/>
            <a:ext cx="52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1+i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3448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2e86"/>
                </a:solidFill>
                <a:latin typeface="Arial"/>
              </a:rPr>
              <a:t>Z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6019920"/>
            <a:ext cx="84582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0880" y="914400"/>
            <a:ext cx="0" cy="27432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63400" y="12193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20960" y="601992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76520" y="365760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3505320"/>
            <a:ext cx="152640" cy="15228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26600" y="7621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077320" y="762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2209680"/>
            <a:ext cx="0" cy="6098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706440" y="373392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i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666880" y="1981080"/>
            <a:ext cx="301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666880" y="2209680"/>
            <a:ext cx="301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666520" y="1981080"/>
            <a:ext cx="3240" cy="228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3276720"/>
            <a:ext cx="0" cy="10666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971800" y="4800600"/>
            <a:ext cx="0" cy="228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666880" y="5029200"/>
            <a:ext cx="301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666880" y="5257800"/>
            <a:ext cx="301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666520" y="5029200"/>
            <a:ext cx="3240" cy="228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89360" y="281952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968200" y="914400"/>
            <a:ext cx="3240" cy="10666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434340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76520" y="441972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91320" y="351648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43200" y="124920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4495680"/>
            <a:ext cx="0" cy="15242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1752480" y="4343400"/>
            <a:ext cx="301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752480" y="4495680"/>
            <a:ext cx="301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53600" y="6172200"/>
            <a:ext cx="14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2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turn Cur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609480" y="175248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905120" y="914400"/>
            <a:ext cx="0" cy="27432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4495680"/>
            <a:ext cx="0" cy="15242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05120" y="3886200"/>
            <a:ext cx="0" cy="4572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686800" y="3200400"/>
            <a:ext cx="0" cy="380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686800" y="1295280"/>
            <a:ext cx="0" cy="144792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8120" y="16002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525780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8457480" y="1905120"/>
            <a:ext cx="152280" cy="152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057400" y="3124080"/>
            <a:ext cx="152280" cy="30492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172200" y="3733920"/>
            <a:ext cx="152280" cy="3045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320" y="3200400"/>
            <a:ext cx="1218960" cy="1752480"/>
          </a:xfrm>
          <a:prstGeom prst="rect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Arial"/>
              </a:rPr>
              <a:t>Oth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Arial"/>
              </a:rPr>
              <a:t>PD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Arial"/>
              </a:rPr>
              <a:t>Ele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Arial"/>
              </a:rPr>
              <a:t>(Pkg , Board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Arial"/>
              </a:rPr>
              <a:t>V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458200" y="152388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164360" y="365760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s ref. T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92360" y="6858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c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72320" y="46483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647712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7600" y="64152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me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71360" y="1203480"/>
            <a:ext cx="429120" cy="337320"/>
          </a:xfrm>
          <a:prstGeom prst="rect">
            <a:avLst/>
          </a:prstGeom>
          <a:solidFill>
            <a:srgbClr val="a6cae1"/>
          </a:solidFill>
          <a:ln w="9360">
            <a:solidFill>
              <a:srgbClr val="0c2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63520" y="5562720"/>
            <a:ext cx="429120" cy="337320"/>
          </a:xfrm>
          <a:prstGeom prst="rect">
            <a:avLst/>
          </a:prstGeom>
          <a:solidFill>
            <a:srgbClr val="a6cae1"/>
          </a:solidFill>
          <a:ln w="9360">
            <a:solidFill>
              <a:srgbClr val="0c2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763120" y="1905120"/>
            <a:ext cx="365040" cy="246240"/>
          </a:xfrm>
          <a:prstGeom prst="rect">
            <a:avLst/>
          </a:prstGeom>
          <a:solidFill>
            <a:srgbClr val="a6cae1"/>
          </a:solidFill>
          <a:ln w="9360">
            <a:solidFill>
              <a:srgbClr val="0c2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c2e86"/>
                </a:solidFill>
                <a:latin typeface="Arial"/>
              </a:rPr>
              <a:t>P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6882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Push-pull: Other termination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5334120"/>
            <a:ext cx="0" cy="76176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3809880"/>
            <a:ext cx="236232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990720"/>
            <a:ext cx="27432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19720" y="3753000"/>
            <a:ext cx="609480" cy="152280"/>
          </a:xfrm>
          <a:prstGeom prst="rect">
            <a:avLst/>
          </a:prstGeom>
          <a:solidFill>
            <a:srgbClr val="a6cae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477120" y="231624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556320" y="1935000"/>
            <a:ext cx="0" cy="3812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553080" y="2773440"/>
            <a:ext cx="20880" cy="17222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1341360"/>
            <a:ext cx="8380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297180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72200" y="231624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67080" y="3524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6095880"/>
            <a:ext cx="8001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990720"/>
            <a:ext cx="0" cy="27432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3722760"/>
            <a:ext cx="152640" cy="15228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2286000"/>
            <a:ext cx="0" cy="6094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6553080" y="1371600"/>
            <a:ext cx="14400" cy="9144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24480" y="160020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1341360"/>
            <a:ext cx="7920" cy="2588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666880" y="2057400"/>
            <a:ext cx="301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2666880" y="2286000"/>
            <a:ext cx="301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666520" y="2057400"/>
            <a:ext cx="3240" cy="228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3352680"/>
            <a:ext cx="0" cy="8384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4648320"/>
            <a:ext cx="0" cy="4572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666880" y="5105520"/>
            <a:ext cx="301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666880" y="5334120"/>
            <a:ext cx="301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2666520" y="5105520"/>
            <a:ext cx="3240" cy="2286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89360" y="289548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968200" y="990720"/>
            <a:ext cx="3240" cy="10666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95480" y="419112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24240" y="426708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4572000"/>
            <a:ext cx="0" cy="1523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752480" y="4419720"/>
            <a:ext cx="301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1752480" y="4572000"/>
            <a:ext cx="30168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990720"/>
            <a:ext cx="0" cy="34290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05120" y="4572000"/>
            <a:ext cx="0" cy="152388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449568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72200" y="449568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553080" y="4952880"/>
            <a:ext cx="14400" cy="11430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4602240"/>
            <a:ext cx="158760" cy="4572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85120" y="4221000"/>
            <a:ext cx="0" cy="3812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8381880" y="5059440"/>
            <a:ext cx="20880" cy="10364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001000" y="4602240"/>
            <a:ext cx="5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8381880" y="3657600"/>
            <a:ext cx="14400" cy="91440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153280" y="548640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81880" y="3627360"/>
            <a:ext cx="7920" cy="25884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05920" y="3581280"/>
            <a:ext cx="152280" cy="15264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77120" y="3657600"/>
            <a:ext cx="152280" cy="15228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57800" y="3733920"/>
            <a:ext cx="152280" cy="152280"/>
          </a:xfrm>
          <a:prstGeom prst="ellipse">
            <a:avLst/>
          </a:prstGeom>
          <a:solidFill>
            <a:srgbClr val="a6cae1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924680" y="5029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s 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05720" y="32767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T: Center Tap 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324480" y="548640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655308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7600" y="649116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me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53080" y="4708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03040" y="1279440"/>
            <a:ext cx="429120" cy="337320"/>
          </a:xfrm>
          <a:prstGeom prst="rect">
            <a:avLst/>
          </a:prstGeom>
          <a:solidFill>
            <a:srgbClr val="a6cae1"/>
          </a:solidFill>
          <a:ln w="9360">
            <a:solidFill>
              <a:srgbClr val="0c2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063520" y="5638680"/>
            <a:ext cx="429120" cy="337320"/>
          </a:xfrm>
          <a:prstGeom prst="rect">
            <a:avLst/>
          </a:prstGeom>
          <a:solidFill>
            <a:srgbClr val="a6cae1"/>
          </a:solidFill>
          <a:ln w="9360">
            <a:solidFill>
              <a:srgbClr val="0c2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129528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43200" y="5638680"/>
            <a:ext cx="457200" cy="228600"/>
          </a:xfrm>
          <a:prstGeom prst="ellipse">
            <a:avLst/>
          </a:prstGeom>
          <a:solidFill>
            <a:srgbClr val="ff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568840" y="1447920"/>
            <a:ext cx="429120" cy="337320"/>
          </a:xfrm>
          <a:prstGeom prst="rect">
            <a:avLst/>
          </a:prstGeom>
          <a:solidFill>
            <a:srgbClr val="a6cae1"/>
          </a:solidFill>
          <a:ln w="9360">
            <a:solidFill>
              <a:srgbClr val="0c2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97440" y="5486400"/>
            <a:ext cx="429120" cy="337320"/>
          </a:xfrm>
          <a:prstGeom prst="rect">
            <a:avLst/>
          </a:prstGeom>
          <a:solidFill>
            <a:srgbClr val="a6cae1"/>
          </a:solidFill>
          <a:ln w="9360">
            <a:solidFill>
              <a:srgbClr val="0c2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26240" y="5486400"/>
            <a:ext cx="429120" cy="337320"/>
          </a:xfrm>
          <a:prstGeom prst="rect">
            <a:avLst/>
          </a:prstGeom>
          <a:solidFill>
            <a:srgbClr val="a6cae1"/>
          </a:solidFill>
          <a:ln w="9360">
            <a:solidFill>
              <a:srgbClr val="0c2e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2e86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40280" y="411480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s ref. T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20960" y="609588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2660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477120" y="762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592360" y="685800"/>
            <a:ext cx="4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c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320" y="2819520"/>
            <a:ext cx="1371600" cy="1752480"/>
          </a:xfrm>
          <a:prstGeom prst="rect">
            <a:avLst/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Arial"/>
              </a:rPr>
              <a:t>Oth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Arial"/>
              </a:rPr>
              <a:t>PD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Arial"/>
              </a:rPr>
              <a:t>Ele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Arial"/>
              </a:rPr>
              <a:t>(Pkg , Board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e86"/>
                </a:solidFill>
                <a:latin typeface="Arial"/>
              </a:rPr>
              <a:t>V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Push-pull Driver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375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 push-pull devices are used with SI/PD† mod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urrents are probed at the Vcc and Vss of the Driver nod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457200" y="2138400"/>
            <a:ext cx="8305920" cy="25858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519560" y="1752480"/>
            <a:ext cx="23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c00"/>
                </a:solidFill>
                <a:latin typeface="Arial"/>
              </a:rPr>
              <a:t>Currents at P1 node (Vc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02440" y="2209680"/>
            <a:ext cx="36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c2e86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145840" y="2133720"/>
            <a:ext cx="36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c2e86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790640" y="4800600"/>
            <a:ext cx="5867640" cy="457200"/>
            <a:chOff x="1790640" y="4800600"/>
            <a:chExt cx="5867640" cy="457200"/>
          </a:xfrm>
        </p:grpSpPr>
        <p:sp>
          <p:nvSpPr>
            <p:cNvPr id="339" name=""/>
            <p:cNvSpPr/>
            <p:nvPr/>
          </p:nvSpPr>
          <p:spPr>
            <a:xfrm>
              <a:off x="1790640" y="4800600"/>
              <a:ext cx="5867640" cy="457200"/>
            </a:xfrm>
            <a:prstGeom prst="rect">
              <a:avLst/>
            </a:prstGeom>
            <a:solidFill>
              <a:srgbClr val="a6ca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71880" y="5068800"/>
              <a:ext cx="228600" cy="0"/>
            </a:xfrm>
            <a:prstGeom prst="line">
              <a:avLst/>
            </a:prstGeom>
            <a:ln w="38160">
              <a:solidFill>
                <a:srgbClr val="0c2e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29280" y="51051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8080" y="5105160"/>
              <a:ext cx="228600" cy="0"/>
            </a:xfrm>
            <a:prstGeom prst="line">
              <a:avLst/>
            </a:prstGeom>
            <a:ln w="3816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38360" y="4876560"/>
              <a:ext cx="115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2e86"/>
                  </a:solidFill>
                  <a:latin typeface="Arial"/>
                </a:rPr>
                <a:t>Vcc Ter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35280" y="4876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2e86"/>
                  </a:solidFill>
                  <a:latin typeface="Arial"/>
                </a:rPr>
                <a:t>CT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40400" y="4876560"/>
              <a:ext cx="115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2e86"/>
                  </a:solidFill>
                  <a:latin typeface="Arial"/>
                </a:rPr>
                <a:t>Vss Ter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533520" y="5410080"/>
            <a:ext cx="8237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urrent Profiles at the Driver power domains vary significantly based on the termination schemes at the 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eed to consider realistic termination schemes and not just capacitive loa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482080" y="1752480"/>
            <a:ext cx="23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c00"/>
                </a:solidFill>
                <a:latin typeface="Arial"/>
              </a:rPr>
              <a:t>Currents at P2 node (V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89800" y="643716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D: Powe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PDN Currents at Driver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533520" y="1447920"/>
          <a:ext cx="8001000" cy="2116080"/>
        </p:xfrm>
        <a:graphic>
          <a:graphicData uri="http://schemas.openxmlformats.org/drawingml/2006/table">
            <a:tbl>
              <a:tblPr/>
              <a:tblGrid>
                <a:gridCol w="1752480"/>
                <a:gridCol w="1905120"/>
                <a:gridCol w="2133360"/>
                <a:gridCol w="2210040"/>
              </a:tblGrid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Receiver Ter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Driver curr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Vcc Ter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Vss Ter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CT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cc Curr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vc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owbar curr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C Step + Crowbar curr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½ DC step + Crowbar curr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ss Curren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v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C Step + Crowbar curr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owbar curr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½ DC step + Crowbar curr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-228600" y="51811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3962520"/>
            <a:ext cx="82375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river PDN currents are dependent on termination schemes at the Rece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C step due to termination sch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571680" indent="-3240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BIS* application: Does BIRD 95 enable to include Ivcc and Ivss based on termination scheme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owbar currents for all configurations: Behavioral models need to include accurate Crowbar curr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09680" y="1523880"/>
            <a:ext cx="290520" cy="152640"/>
          </a:xfrm>
          <a:prstGeom prst="rightArrow">
            <a:avLst>
              <a:gd name="adj1" fmla="val 50000"/>
              <a:gd name="adj2" fmla="val 47583"/>
            </a:avLst>
          </a:prstGeom>
          <a:solidFill>
            <a:srgbClr val="a6ca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Push-pull Driver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705800" cy="25430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373400" y="1636560"/>
            <a:ext cx="29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Arial"/>
              </a:rPr>
              <a:t>Currents at P3 node (Vc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23160" y="1676520"/>
            <a:ext cx="284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c00"/>
                </a:solidFill>
                <a:latin typeface="Arial"/>
              </a:rPr>
              <a:t>Current at P4 node (V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64280" y="2209680"/>
            <a:ext cx="36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c2e86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50120" y="220968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c2e86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237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Vcc (P3) currents: di/dt for Vcc Term is higher than that for CTT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ystem level model need to be considered with Driver and Receiver PD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>
            <a:off x="457200" y="1066680"/>
            <a:ext cx="8237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 push-pull transistors are used with SI/PD 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urrents are probed at the Vcc and Vss of the Receiver n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752480" y="4724280"/>
            <a:ext cx="5867640" cy="457200"/>
            <a:chOff x="1752480" y="4724280"/>
            <a:chExt cx="5867640" cy="457200"/>
          </a:xfrm>
        </p:grpSpPr>
        <p:sp>
          <p:nvSpPr>
            <p:cNvPr id="363" name=""/>
            <p:cNvSpPr/>
            <p:nvPr/>
          </p:nvSpPr>
          <p:spPr>
            <a:xfrm>
              <a:off x="1752480" y="4724280"/>
              <a:ext cx="5867640" cy="457200"/>
            </a:xfrm>
            <a:prstGeom prst="rect">
              <a:avLst/>
            </a:prstGeom>
            <a:solidFill>
              <a:srgbClr val="a6cae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4992480"/>
              <a:ext cx="228600" cy="0"/>
            </a:xfrm>
            <a:prstGeom prst="line">
              <a:avLst/>
            </a:prstGeom>
            <a:ln w="38160">
              <a:solidFill>
                <a:srgbClr val="0c2e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91120" y="50288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19920" y="5028840"/>
              <a:ext cx="228600" cy="0"/>
            </a:xfrm>
            <a:prstGeom prst="line">
              <a:avLst/>
            </a:prstGeom>
            <a:ln w="38160">
              <a:solidFill>
                <a:srgbClr val="ff5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00200" y="4800240"/>
              <a:ext cx="115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2e86"/>
                  </a:solidFill>
                  <a:latin typeface="Arial"/>
                </a:rPr>
                <a:t>Vcc Ter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97120" y="4800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2e86"/>
                  </a:solidFill>
                  <a:latin typeface="Arial"/>
                </a:rPr>
                <a:t>CT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02240" y="4800240"/>
              <a:ext cx="115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c2e86"/>
                  </a:solidFill>
                  <a:latin typeface="Arial"/>
                </a:rPr>
                <a:t>Vss Ter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7:29:54Z</dcterms:created>
  <dc:creator>Vishram S. Pandit</dc:creator>
  <dc:description/>
  <dc:language>en-US</dc:language>
  <cp:lastModifiedBy>vspandit</cp:lastModifiedBy>
  <dcterms:modified xsi:type="dcterms:W3CDTF">2008-06-09T21:45:40Z</dcterms:modified>
  <cp:revision>534</cp:revision>
  <dc:subject/>
  <dc:title>SE  Pathfinding: SI+PD Mode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W">
    <vt:lpwstr>2006_03</vt:lpwstr>
  </property>
</Properties>
</file>