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001F48F-E0DB-4C64-A33B-A5E51D7B1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press this year,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I Express draft specification 0.3 now available; USB 3.0 expected later this year.  These aren’t exhaustive – Serial ATA and advanced memory specifications are reportedly in development.  Get involved there, to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work is likely required to get these specifications well-supported in IBIS – we cannot afford to wait until these are approved to “play catch u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600-A806-4816-90A8-AE7A4B2A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A65-A813-43E2-A09F-F144E31B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F8A-4DCF-4225-A1CE-2645D068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4C7-BD58-4DCD-8AD8-0609E79D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A9B-3058-4D79-93F5-C3253705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7CF4-2095-4E8E-B289-AFA22D0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0A1-BA64-4E0F-A9FA-77E23E6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4EB-1818-44DA-B1A7-08590B73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576-C632-49E3-AB89-77EFB67B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969B-DBCA-4499-BFED-9132B84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B3F-8CF8-4AF3-B570-0BBF6F0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BDD-B132-49CA-95D6-E7924D3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B25-DD2E-4715-8B6D-1AF0FA5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F1B-22D1-4902-9819-6D53B63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0E4-861E-46C3-A0D0-D986BDFE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5758-09D3-4A44-8263-857914ED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72F2-F83C-4E12-A61A-A181F0CF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C1A-80F5-406D-A78C-C6B0B5E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D0E-5387-4737-A42F-0B57078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6BD-AA2B-4E21-B7A5-6CDC4CD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D3C-7802-4376-970F-FC50F6A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CB3-0656-4A64-AF48-5F35124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EBD-375C-429A-A65E-6DDB997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BE0-75C4-43FC-A2E0-58AEC50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515-C6AD-409A-AEAB-71BD469D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351160"/>
          <a:ext cx="34149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51160"/>
                    <a:ext cx="3414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-stds.org/ibi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ci-sig.com/" TargetMode="External"/><Relationship Id="rId2" Type="http://schemas.openxmlformats.org/officeDocument/2006/relationships/hyperlink" Target="http://www.usb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699120"/>
            <a:ext cx="8515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DAC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0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-stds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4346-14D3-4F45-9335-22624C1A74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6560" y="378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Boar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500040" y="134316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1480" y="217008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480" y="296064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377820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Model 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8320" y="1157400"/>
            <a:ext cx="336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final approver of specification bal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 Task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Fin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7400" y="12254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9760" y="2162160"/>
            <a:ext cx="438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 in Chair’s abs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acts as US summit registration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8840" y="204480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09360" y="2981160"/>
            <a:ext cx="41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balloting, membership and GEIA 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meeting and summit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286236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7760" y="3882960"/>
            <a:ext cx="35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s on-line model 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68600" y="364824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8120" y="4613400"/>
            <a:ext cx="191304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28760" y="5423040"/>
            <a:ext cx="193212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Post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4880" y="4600440"/>
            <a:ext cx="47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all web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focus on events, specifications, roster 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75080" y="44816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0120" y="542772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IBIS reflectors (IBIS, IBIS-Us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“first responder” to non-list participant 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9240" y="530856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7080" y="4605480"/>
            <a:ext cx="214200" cy="12967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600" y="4822920"/>
            <a:ext cx="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653-7FCC-4EAA-880C-EA7821C6B8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BIRD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pecial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A Call to 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a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he IBI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9240" y="33228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096-42B7-4D54-80B2-ED45998DD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2720" y="1114560"/>
            <a:ext cx="8591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GEIA and ITAA merger completed in Apri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formation Technology Association of America (itaa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mpact to IBIS operations mi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pdate planned for February 2009 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2008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uccessful summits in Santa Clara and Mu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lanning for Shanghai and Tokyo (and Taipe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Finances and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2007 with positive budget and membership of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28B-FDB2-4111-A8F5-00741EF72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IRD Queu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14480" y="676440"/>
            <a:ext cx="88772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BIRDs for IBIS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74.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EM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Power Integrity Analysis using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7.2/98.1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Gate Modulatio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3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Model Spec] DDR2 Over/Und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4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Algorithmic Modeling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Update to Algorithmic Modeling AP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Fixing Algorithmic Modeling API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mpulse_Matrix 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S_overshoot_high/S_overshoot_lo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la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75320" y="204840"/>
            <a:ext cx="2468520" cy="1600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3320" y="5289480"/>
            <a:ext cx="7620120" cy="6858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IS 5.0 draft now in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4D2-5276-43A9-A466-914F9D042C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Our Board Staf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1035000"/>
            <a:ext cx="84452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Syed Huq – Vice-Chair &amp; Web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especially for US summit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Randy Wolff –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handling minutes, other official documents plus GEIA and ANSI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Lance Wang – Model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keeping our external IBIS model library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Bob Ross – Post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maintaining reflectors and arranging international su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1760" y="5265720"/>
            <a:ext cx="8321400" cy="8460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nd of course to you, the IBIS Communit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anks for another great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7C1-BD29-4C40-AAE8-30C490333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A Call to A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6000" y="853560"/>
            <a:ext cx="87408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Two advanced standards are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CI Express* 3.0 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pci-sig.com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: 8 G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USB 3.0 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www.usb.org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: 4.8 G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oth are opportunities to demonstrate IB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th are industry-wide, requiring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th likely to be highly popular and long-l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oth would “stretch” IBIS and related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quire eye diagrams and advanced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qualization, advanced package modeling, etc.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000" y="4894200"/>
            <a:ext cx="8312040" cy="1236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o keep IBIS relevant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head of the cur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e must get involv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in demonstra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pdating IBIS to support these standard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388-5771-40D6-88B4-E3EBF5F0B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A Call to A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6000" y="825480"/>
            <a:ext cx="8740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“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Getting involved” can take many for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MS PGothic"/>
              </a:rPr>
              <a:t>IC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ry to make IBIS models, using today’s keywords, for your USB 3.0 or PCI Express*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MS PGothic"/>
              </a:rPr>
              <a:t>System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heck your analysis flows to ensure that the measurements you need for these standards are available in today’s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MS PGothic"/>
              </a:rPr>
              <a:t>EDA Tool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heck the IBIS-related feature set you offer against the requirements of thes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MS PGothic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IBIS “comes up short” in any of these areas, propose the IBIS changes required to fully support both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920" y="5599080"/>
            <a:ext cx="8626320" cy="5126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Keeping IBIS vital means supporting standar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ar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045-02E0-4423-B44A-FE98AD3BE2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28360" y="3161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ACK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377-18ED-4C73-980C-938CF670C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0360" y="2363760"/>
            <a:ext cx="8381880" cy="15271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6680" y="511920"/>
            <a:ext cx="8649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178080" y="128592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3320" y="272880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22360" y="258912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50000" y="2587680"/>
            <a:ext cx="180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948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14440" y="2581200"/>
            <a:ext cx="624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6640" y="257652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81560" y="258768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48240" y="2195640"/>
            <a:ext cx="14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0224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000680"/>
            <a:ext cx="814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Cookbook Task Group has been suspended until critical mass of needed changes is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utures and Macromodeling Library groups have been combined into the Advanced Technology 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A vendors comprise Model Review, independently reviewing received models and providing feedback to mode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ors; no specification changes are recommended by this group and it does not hold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3560" y="4962600"/>
            <a:ext cx="8409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the IBIS Task Groups is open to IBIS members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public a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 are created and Chairs appointed by the IBI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ssues are handled by Ad Hoc teams for BIR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3800" y="274464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3AC-3E21-49E6-9D04-48DA33734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8-06-09T16:12:36Z</dcterms:modified>
  <cp:revision>495</cp:revision>
  <dc:subject>IBIS Summit 2008 at DAC</dc:subject>
  <dc:title>IBIS Chair's Report and Roadmap</dc:title>
</cp:coreProperties>
</file>