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D755-F4BE-4985-9198-F821C44F6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51BD-F04C-4FD6-9861-756273B9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5402-8200-447E-B24A-24B1FC68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F22F-AFDB-4753-BD20-BFCA15CFB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97A0-BBFE-41BC-A14A-959CD3C6C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CE23-259A-4696-BB84-32121F08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5EFA-C0F3-4F06-83EB-DDF675FA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E093-6CE0-400B-A2F6-E520162F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B058-0638-4364-9DFB-E86C202C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8931-9E24-4764-9A03-79CA724A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C243-7E8A-4CF0-973D-5D99F8EE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1ECB-64E5-4FA2-8665-E11C80E7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0584-17BB-40C1-90CC-A7D7926C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FCB7-EF10-425B-8EE3-200A1603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7E9E-7007-4274-A5F4-D427AB4E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70A7-6A71-4990-AE61-3F6D7D03D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9FEB-A9CD-4E8D-80F5-8F6AC35D9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CB96-5CEB-4842-B99A-45818EA8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8447-9D6F-4A0C-B769-E7923338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87F0-34B9-411A-8D60-5B19B245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1E30-B192-42D7-9B95-F4060050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4F65-3300-414B-9CD0-FE3CE424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803D-2F94-4D93-964D-7CB4F626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448B-1B8E-4E3D-871C-77F3FD8A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597D-2872-4077-9452-9BE562646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382240" y="6400800"/>
            <a:ext cx="796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3435-E38E-43C9-B912-5579A756831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1905120" cy="288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57200" y="304920"/>
            <a:ext cx="0" cy="6095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457200" y="304920"/>
            <a:ext cx="800100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0FCD-8E48-4C6B-9BF0-A0C1B4016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2240" y="6400800"/>
            <a:ext cx="796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5539-9276-4992-836B-65947DEA2B6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04920"/>
            <a:ext cx="0" cy="6095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04920"/>
            <a:ext cx="800100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2286000" cy="3474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aulf@ncsu.edu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xt Generation I/O Macromodel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7010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brish Varma, Ting Zhu,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ul Franz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aulf@ncsu.edu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. 919.515.735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owards the Next Genera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oposal at National Science Foundation asking for support into investigation of new approaches to IBIS modeling and (some) support of infrastructure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ing support for one PhD student for three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involvement proposed (guidance and feedb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F success rate &lt;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October start date if 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s for letters, though more would have been us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modify and submit again next year if unsuccesf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Elements of Proposal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ackground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IBIS will diminish without influx of new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cy and availability issues forcing designers back to encrypted Spice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posed Activities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templates for macromodels that improve accuracy and u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ly in Verilog -AMS and/or VHDL – 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r determine approach to implementation of a “B-model” like element in a Spice-like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emplates and knowledge about “B-model” like element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tools to support automated or semi-automatic co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ccuracy Issu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lack Box Corrrection Factors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pired by BIRD95 and BIRD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4190760" cy="1862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4901" t="5638" r="6869" b="4131"/>
          <a:stretch/>
        </p:blipFill>
        <p:spPr>
          <a:xfrm>
            <a:off x="4572000" y="2819520"/>
            <a:ext cx="430524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mplementation Issu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erilog –AMS and VHDL – AM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liminary results of two-tap pre-emphasis driver implemented in 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inary (Spice-like) simulator issues and element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CL enforcement does not work for small currents.  Instead match voltage and curr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si-Newton iteration to improve conver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495680" y="2514600"/>
            <a:ext cx="289584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ncluding Remark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Questionaire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04:43:44Z</dcterms:created>
  <dc:creator>Ambrish Varma</dc:creator>
  <dc:description/>
  <dc:language>en-US</dc:language>
  <cp:lastModifiedBy>Paul D Franzon</cp:lastModifiedBy>
  <dcterms:modified xsi:type="dcterms:W3CDTF">2008-06-08T20:23:35Z</dcterms:modified>
  <cp:revision>81</cp:revision>
  <dc:subject/>
  <dc:title>Simultaneous Switching Noise in IBIS models</dc:title>
</cp:coreProperties>
</file>