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801-8D8A-40C2-9BBC-9103E713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A78-C77E-4812-8F9E-FFAEF175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B20-0AEB-447A-94BC-53D0DBFC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4DB-3109-4C79-8AD8-8063AA79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4C06-9792-4566-A6DD-8A46463F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DD10-75EA-4DC1-9FB7-EB758784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53E7-E5A4-44F5-8545-BD4FA6E5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1319-9AA7-4067-9642-7FCB0AED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E719-5030-4103-BB0D-A18C0F36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320400"/>
            <a:ext cx="86774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9803-8DA2-4A03-B213-E64EEC6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5172-C64F-49F5-BA16-93DEEA8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7D0-B672-472B-ADD8-DFE846A5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3734-7CE9-4DB7-9C00-E7CA674C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CE97-9576-4B2A-8FA8-C025B8C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4F33-F276-4699-8EE1-49FD14E2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C8E-9A89-4084-B998-3E265321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7264-1FD3-4E0B-9D40-D7901158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4CC-B65C-4B70-A34C-55EABFE8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D6C-FF0B-40F2-8C92-FB75B5F6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DE4-B52B-4943-AAA4-D9D0BE08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320400"/>
            <a:ext cx="867744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543-9B63-4283-B7BF-872ED0CF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119-6DAD-4123-9059-E7E8CCD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A84-FE44-4532-ADB8-53A499D0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093-989F-4873-950F-A9F3A0EF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67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IBIS Summit at D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1ADF-0787-4304-B485-87FE16305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4080" y="984240"/>
            <a:ext cx="866592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-sponso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BIS Open Forum, Mentor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00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reshments &amp; Sign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30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elcome to Sum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trod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pens for Issues, Discussion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45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 Chair’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ael Mirmak, Intel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00 P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Issues in Models Submitted to the IBIS Model review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ynne Green, Green Streak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30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Study of Scheduled Single-ended Driver Featuring [Test Dat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ael Mirmak, Intel Cor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15 AM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714240" y="181080"/>
            <a:ext cx="7524720" cy="79992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NDA, IBIS SUMMI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17D-2FA9-41BB-BB22-CB3A1E1E16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4920" y="1212480"/>
            <a:ext cx="86662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30 AM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lating IBIS-AMI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y Katz, Walter Katz, Mike Steinberger, Todd Westerh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ntegrity Software (SiSo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00 AM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IS-AMI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ad Muranyi, Mentor Graphics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30 AM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ion of Offi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:00 PM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 - Pre-registr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00 PM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Integrity for Single End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hram Pandit and Myoung Joon Choi, Intel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45 PM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verview of Electrical Modeling and Mo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ons for Package/Board Interconnects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Delivery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d Brim and Sam Chitwood, Si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714240" y="181080"/>
            <a:ext cx="7524720" cy="79992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NDA, IBIS SUMMI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2AF-FA79-4FFA-AD5F-132CFAAAC4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4080" y="1002960"/>
            <a:ext cx="866592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15 PM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ston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Ross, Teraspeed Consult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:45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00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Generation IBIS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 Franzon, North Carolina Stat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:30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/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iscellaneous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d Hoc 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:55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ding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xt Open Forum Meeting: June 2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mmits in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00 PM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IBIS Summit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714240" y="181080"/>
            <a:ext cx="7515360" cy="80964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GENDA, IBIS SUMMI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une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754-4C35-47A5-B203-E73DB1A9F9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8-06-08T23:17:02Z</dcterms:modified>
  <cp:revision>400</cp:revision>
  <dc:subject>DAC IBIS Summit 2006</dc:subject>
  <dc:title>IBIS Chair's Report and Roadmap</dc:title>
</cp:coreProperties>
</file>