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9382F-CA65-4182-9BA8-258DEF0267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400" y="381204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EE410-8659-4A58-8223-66745D3E3A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40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9708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645CF-9EFB-4100-AC43-CA5AC8A10C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400" y="381204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42400" y="381204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70040" y="381204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A67B0-1CFD-4C23-B8EC-77A080C668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144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1440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4290D-ECDA-4E7C-A024-BDBFEED981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9708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1204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14400" y="381204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9708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914400" y="381204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42400" y="381204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0040" y="381204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EAD0A-2AE1-4FF5-9AB0-ACFB35556B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753BE-1BE7-4633-95DC-87EC68F46B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2FAEB-E8B0-4A4F-95C4-5F20F0A8EA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4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C2185-245E-4054-886A-528ABC27C8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40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CCAE4-F84B-4F22-8115-07C4786812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9708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988CF-27B0-48DE-8736-5E66E677E7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381204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E753F-FE4A-46D2-97E4-19E3E64DA0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848720" y="6534000"/>
            <a:ext cx="8380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BF98-E83F-4957-86A5-2F8E941F99D1}" type="slidenum">
              <a:rPr b="0" lang="en-US" sz="1000" spc="-1" strike="noStrike">
                <a:solidFill>
                  <a:srgbClr val="336699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14040" y="6467400"/>
            <a:ext cx="38098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Century Gothic"/>
              </a:rPr>
              <a:t>DAC 2007 IBIS Summit – June 5, 2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rcRect l="36378" t="0" r="0" b="0"/>
          <a:stretch/>
        </p:blipFill>
        <p:spPr>
          <a:xfrm>
            <a:off x="0" y="0"/>
            <a:ext cx="5335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6172200" y="6467400"/>
            <a:ext cx="16765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Century Gothic"/>
              </a:rPr>
              <a:t>IBIS-ATM Working 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36378" t="0" r="0" b="0"/>
          <a:stretch/>
        </p:blipFill>
        <p:spPr>
          <a:xfrm>
            <a:off x="0" y="0"/>
            <a:ext cx="5335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>
              <a:lnSpc>
                <a:spcPct val="95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>
              <a:lnSpc>
                <a:spcPct val="95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IBIS-ATM Update:</a:t>
            </a:r>
            <a:br>
              <a:rPr sz="3600"/>
            </a:b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SerDes Modeling and IBIS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600200" y="3123720"/>
            <a:ext cx="6400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ed by: Todd Westerhoff, SiSoft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C IBIS Summit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ne 5, 2007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IBIS-ATM Algorithmic Models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Models provided as executable [binary] cod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Fast, efficient execution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Protects vendor IP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Extensible modeling capability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Allows models to be developed in multiple language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tandardized execution interfac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Module loading mechanism &amp; call signature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ata input/output format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tandardized model parameter interfac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Reserved parameters” interpreted by EDA platform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Model-specific parameters can be exposed to and set by end-user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114D6-62C4-4AED-984C-925201C11F82}" type="slidenum">
              <a:t>10</a:t>
            </a:fld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647640" y="3352680"/>
            <a:ext cx="8365320" cy="2488680"/>
            <a:chOff x="647640" y="3352680"/>
            <a:chExt cx="8365320" cy="2488680"/>
          </a:xfrm>
        </p:grpSpPr>
        <p:sp>
          <p:nvSpPr>
            <p:cNvPr id="162" name=""/>
            <p:cNvSpPr/>
            <p:nvPr/>
          </p:nvSpPr>
          <p:spPr>
            <a:xfrm>
              <a:off x="647640" y="3352680"/>
              <a:ext cx="8356680" cy="2486160"/>
            </a:xfrm>
            <a:prstGeom prst="rect">
              <a:avLst/>
            </a:prstGeom>
            <a:solidFill>
              <a:srgbClr val="e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981080" y="4944960"/>
              <a:ext cx="381240" cy="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432880" y="4697280"/>
              <a:ext cx="1622520" cy="703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GETWAVE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87280" y="4697280"/>
              <a:ext cx="1622520" cy="703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R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GETWAVE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114800" y="4938840"/>
              <a:ext cx="326880" cy="1404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334120" y="4944960"/>
              <a:ext cx="304560" cy="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391520" y="4944960"/>
              <a:ext cx="411120" cy="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044360" y="5321160"/>
              <a:ext cx="915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imulus </a:t>
              </a:r>
              <a:br>
                <a:rPr sz="1400"/>
              </a:b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300560" y="5370480"/>
              <a:ext cx="112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ith TX EQ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543080" y="5257800"/>
              <a:ext cx="1469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ith TX, RX EQ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7848720" y="4705200"/>
              <a:ext cx="906480" cy="477720"/>
              <a:chOff x="7848720" y="4705200"/>
              <a:chExt cx="906480" cy="477720"/>
            </a:xfrm>
          </p:grpSpPr>
          <p:sp>
            <p:nvSpPr>
              <p:cNvPr id="173" name=""/>
              <p:cNvSpPr/>
              <p:nvPr/>
            </p:nvSpPr>
            <p:spPr>
              <a:xfrm>
                <a:off x="7848720" y="5182920"/>
                <a:ext cx="906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V="1">
                <a:off x="7848720" y="4773240"/>
                <a:ext cx="0" cy="40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851960" y="4705200"/>
                <a:ext cx="796680" cy="475920"/>
              </a:xfrm>
              <a:custGeom>
                <a:avLst/>
                <a:gdLst/>
                <a:ahLst/>
                <a:rect l="l" t="t" r="r" b="b"/>
                <a:pathLst>
                  <a:path w="502" h="300">
                    <a:moveTo>
                      <a:pt x="0" y="300"/>
                    </a:moveTo>
                    <a:lnTo>
                      <a:pt x="6" y="288"/>
                    </a:lnTo>
                    <a:cubicBezTo>
                      <a:pt x="10" y="245"/>
                      <a:pt x="14" y="82"/>
                      <a:pt x="21" y="41"/>
                    </a:cubicBezTo>
                    <a:cubicBezTo>
                      <a:pt x="28" y="0"/>
                      <a:pt x="46" y="8"/>
                      <a:pt x="51" y="41"/>
                    </a:cubicBezTo>
                    <a:cubicBezTo>
                      <a:pt x="56" y="74"/>
                      <a:pt x="46" y="197"/>
                      <a:pt x="48" y="236"/>
                    </a:cubicBezTo>
                    <a:cubicBezTo>
                      <a:pt x="50" y="275"/>
                      <a:pt x="58" y="285"/>
                      <a:pt x="62" y="278"/>
                    </a:cubicBezTo>
                    <a:cubicBezTo>
                      <a:pt x="66" y="271"/>
                      <a:pt x="72" y="214"/>
                      <a:pt x="75" y="193"/>
                    </a:cubicBezTo>
                    <a:cubicBezTo>
                      <a:pt x="78" y="172"/>
                      <a:pt x="77" y="163"/>
                      <a:pt x="78" y="150"/>
                    </a:cubicBezTo>
                    <a:cubicBezTo>
                      <a:pt x="79" y="137"/>
                      <a:pt x="79" y="132"/>
                      <a:pt x="80" y="115"/>
                    </a:cubicBezTo>
                    <a:cubicBezTo>
                      <a:pt x="81" y="98"/>
                      <a:pt x="82" y="58"/>
                      <a:pt x="86" y="49"/>
                    </a:cubicBezTo>
                    <a:cubicBezTo>
                      <a:pt x="90" y="40"/>
                      <a:pt x="98" y="57"/>
                      <a:pt x="104" y="59"/>
                    </a:cubicBezTo>
                    <a:cubicBezTo>
                      <a:pt x="110" y="61"/>
                      <a:pt x="118" y="33"/>
                      <a:pt x="120" y="64"/>
                    </a:cubicBezTo>
                    <a:cubicBezTo>
                      <a:pt x="122" y="95"/>
                      <a:pt x="112" y="213"/>
                      <a:pt x="114" y="246"/>
                    </a:cubicBezTo>
                    <a:cubicBezTo>
                      <a:pt x="116" y="279"/>
                      <a:pt x="129" y="264"/>
                      <a:pt x="135" y="263"/>
                    </a:cubicBezTo>
                    <a:cubicBezTo>
                      <a:pt x="141" y="262"/>
                      <a:pt x="145" y="240"/>
                      <a:pt x="151" y="240"/>
                    </a:cubicBezTo>
                    <a:cubicBezTo>
                      <a:pt x="157" y="240"/>
                      <a:pt x="167" y="263"/>
                      <a:pt x="174" y="265"/>
                    </a:cubicBezTo>
                    <a:cubicBezTo>
                      <a:pt x="181" y="267"/>
                      <a:pt x="193" y="283"/>
                      <a:pt x="196" y="253"/>
                    </a:cubicBezTo>
                    <a:cubicBezTo>
                      <a:pt x="199" y="223"/>
                      <a:pt x="188" y="113"/>
                      <a:pt x="194" y="82"/>
                    </a:cubicBezTo>
                    <a:cubicBezTo>
                      <a:pt x="200" y="51"/>
                      <a:pt x="221" y="66"/>
                      <a:pt x="231" y="67"/>
                    </a:cubicBezTo>
                    <a:cubicBezTo>
                      <a:pt x="241" y="68"/>
                      <a:pt x="248" y="87"/>
                      <a:pt x="255" y="89"/>
                    </a:cubicBezTo>
                    <a:cubicBezTo>
                      <a:pt x="262" y="91"/>
                      <a:pt x="271" y="55"/>
                      <a:pt x="276" y="82"/>
                    </a:cubicBezTo>
                    <a:cubicBezTo>
                      <a:pt x="281" y="109"/>
                      <a:pt x="280" y="225"/>
                      <a:pt x="286" y="254"/>
                    </a:cubicBezTo>
                    <a:cubicBezTo>
                      <a:pt x="292" y="283"/>
                      <a:pt x="306" y="271"/>
                      <a:pt x="314" y="259"/>
                    </a:cubicBezTo>
                    <a:cubicBezTo>
                      <a:pt x="322" y="247"/>
                      <a:pt x="327" y="203"/>
                      <a:pt x="332" y="181"/>
                    </a:cubicBezTo>
                    <a:cubicBezTo>
                      <a:pt x="337" y="159"/>
                      <a:pt x="338" y="115"/>
                      <a:pt x="343" y="126"/>
                    </a:cubicBezTo>
                    <a:cubicBezTo>
                      <a:pt x="348" y="137"/>
                      <a:pt x="356" y="223"/>
                      <a:pt x="363" y="246"/>
                    </a:cubicBezTo>
                    <a:cubicBezTo>
                      <a:pt x="370" y="269"/>
                      <a:pt x="382" y="277"/>
                      <a:pt x="388" y="264"/>
                    </a:cubicBezTo>
                    <a:cubicBezTo>
                      <a:pt x="394" y="251"/>
                      <a:pt x="396" y="171"/>
                      <a:pt x="400" y="170"/>
                    </a:cubicBezTo>
                    <a:cubicBezTo>
                      <a:pt x="404" y="169"/>
                      <a:pt x="406" y="246"/>
                      <a:pt x="412" y="259"/>
                    </a:cubicBezTo>
                    <a:cubicBezTo>
                      <a:pt x="418" y="272"/>
                      <a:pt x="432" y="249"/>
                      <a:pt x="438" y="248"/>
                    </a:cubicBezTo>
                    <a:cubicBezTo>
                      <a:pt x="444" y="247"/>
                      <a:pt x="448" y="286"/>
                      <a:pt x="451" y="252"/>
                    </a:cubicBezTo>
                    <a:cubicBezTo>
                      <a:pt x="454" y="218"/>
                      <a:pt x="454" y="75"/>
                      <a:pt x="459" y="46"/>
                    </a:cubicBezTo>
                    <a:cubicBezTo>
                      <a:pt x="464" y="17"/>
                      <a:pt x="477" y="46"/>
                      <a:pt x="482" y="80"/>
                    </a:cubicBezTo>
                    <a:cubicBezTo>
                      <a:pt x="487" y="114"/>
                      <a:pt x="486" y="223"/>
                      <a:pt x="489" y="253"/>
                    </a:cubicBezTo>
                    <a:cubicBezTo>
                      <a:pt x="492" y="283"/>
                      <a:pt x="497" y="272"/>
                      <a:pt x="502" y="262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495680" y="4705200"/>
              <a:ext cx="906480" cy="477720"/>
              <a:chOff x="4495680" y="4705200"/>
              <a:chExt cx="906480" cy="477720"/>
            </a:xfrm>
          </p:grpSpPr>
          <p:sp>
            <p:nvSpPr>
              <p:cNvPr id="177" name=""/>
              <p:cNvSpPr/>
              <p:nvPr/>
            </p:nvSpPr>
            <p:spPr>
              <a:xfrm>
                <a:off x="4495680" y="5182920"/>
                <a:ext cx="906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V="1">
                <a:off x="4495680" y="4773240"/>
                <a:ext cx="0" cy="40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498920" y="4705200"/>
                <a:ext cx="796680" cy="475920"/>
              </a:xfrm>
              <a:custGeom>
                <a:avLst/>
                <a:gdLst/>
                <a:ahLst/>
                <a:rect l="l" t="t" r="r" b="b"/>
                <a:pathLst>
                  <a:path w="502" h="300">
                    <a:moveTo>
                      <a:pt x="0" y="300"/>
                    </a:moveTo>
                    <a:lnTo>
                      <a:pt x="6" y="288"/>
                    </a:lnTo>
                    <a:cubicBezTo>
                      <a:pt x="10" y="245"/>
                      <a:pt x="14" y="82"/>
                      <a:pt x="21" y="41"/>
                    </a:cubicBezTo>
                    <a:cubicBezTo>
                      <a:pt x="28" y="0"/>
                      <a:pt x="46" y="8"/>
                      <a:pt x="51" y="41"/>
                    </a:cubicBezTo>
                    <a:cubicBezTo>
                      <a:pt x="56" y="74"/>
                      <a:pt x="46" y="197"/>
                      <a:pt x="48" y="236"/>
                    </a:cubicBezTo>
                    <a:cubicBezTo>
                      <a:pt x="50" y="275"/>
                      <a:pt x="58" y="285"/>
                      <a:pt x="62" y="278"/>
                    </a:cubicBezTo>
                    <a:cubicBezTo>
                      <a:pt x="66" y="271"/>
                      <a:pt x="72" y="214"/>
                      <a:pt x="75" y="193"/>
                    </a:cubicBezTo>
                    <a:cubicBezTo>
                      <a:pt x="78" y="172"/>
                      <a:pt x="77" y="163"/>
                      <a:pt x="78" y="150"/>
                    </a:cubicBezTo>
                    <a:cubicBezTo>
                      <a:pt x="79" y="137"/>
                      <a:pt x="79" y="132"/>
                      <a:pt x="80" y="115"/>
                    </a:cubicBezTo>
                    <a:cubicBezTo>
                      <a:pt x="81" y="98"/>
                      <a:pt x="82" y="58"/>
                      <a:pt x="86" y="49"/>
                    </a:cubicBezTo>
                    <a:cubicBezTo>
                      <a:pt x="90" y="40"/>
                      <a:pt x="98" y="57"/>
                      <a:pt x="104" y="59"/>
                    </a:cubicBezTo>
                    <a:cubicBezTo>
                      <a:pt x="110" y="61"/>
                      <a:pt x="118" y="33"/>
                      <a:pt x="120" y="64"/>
                    </a:cubicBezTo>
                    <a:cubicBezTo>
                      <a:pt x="122" y="95"/>
                      <a:pt x="112" y="213"/>
                      <a:pt x="114" y="246"/>
                    </a:cubicBezTo>
                    <a:cubicBezTo>
                      <a:pt x="116" y="279"/>
                      <a:pt x="129" y="264"/>
                      <a:pt x="135" y="263"/>
                    </a:cubicBezTo>
                    <a:cubicBezTo>
                      <a:pt x="141" y="262"/>
                      <a:pt x="145" y="240"/>
                      <a:pt x="151" y="240"/>
                    </a:cubicBezTo>
                    <a:cubicBezTo>
                      <a:pt x="157" y="240"/>
                      <a:pt x="167" y="263"/>
                      <a:pt x="174" y="265"/>
                    </a:cubicBezTo>
                    <a:cubicBezTo>
                      <a:pt x="181" y="267"/>
                      <a:pt x="193" y="283"/>
                      <a:pt x="196" y="253"/>
                    </a:cubicBezTo>
                    <a:cubicBezTo>
                      <a:pt x="199" y="223"/>
                      <a:pt x="188" y="113"/>
                      <a:pt x="194" y="82"/>
                    </a:cubicBezTo>
                    <a:cubicBezTo>
                      <a:pt x="200" y="51"/>
                      <a:pt x="221" y="66"/>
                      <a:pt x="231" y="67"/>
                    </a:cubicBezTo>
                    <a:cubicBezTo>
                      <a:pt x="241" y="68"/>
                      <a:pt x="248" y="87"/>
                      <a:pt x="255" y="89"/>
                    </a:cubicBezTo>
                    <a:cubicBezTo>
                      <a:pt x="262" y="91"/>
                      <a:pt x="271" y="55"/>
                      <a:pt x="276" y="82"/>
                    </a:cubicBezTo>
                    <a:cubicBezTo>
                      <a:pt x="281" y="109"/>
                      <a:pt x="280" y="225"/>
                      <a:pt x="286" y="254"/>
                    </a:cubicBezTo>
                    <a:cubicBezTo>
                      <a:pt x="292" y="283"/>
                      <a:pt x="306" y="271"/>
                      <a:pt x="314" y="259"/>
                    </a:cubicBezTo>
                    <a:cubicBezTo>
                      <a:pt x="322" y="247"/>
                      <a:pt x="327" y="203"/>
                      <a:pt x="332" y="181"/>
                    </a:cubicBezTo>
                    <a:cubicBezTo>
                      <a:pt x="337" y="159"/>
                      <a:pt x="338" y="115"/>
                      <a:pt x="343" y="126"/>
                    </a:cubicBezTo>
                    <a:cubicBezTo>
                      <a:pt x="348" y="137"/>
                      <a:pt x="356" y="223"/>
                      <a:pt x="363" y="246"/>
                    </a:cubicBezTo>
                    <a:cubicBezTo>
                      <a:pt x="370" y="269"/>
                      <a:pt x="382" y="277"/>
                      <a:pt x="388" y="264"/>
                    </a:cubicBezTo>
                    <a:cubicBezTo>
                      <a:pt x="394" y="251"/>
                      <a:pt x="396" y="171"/>
                      <a:pt x="400" y="170"/>
                    </a:cubicBezTo>
                    <a:cubicBezTo>
                      <a:pt x="404" y="169"/>
                      <a:pt x="406" y="246"/>
                      <a:pt x="412" y="259"/>
                    </a:cubicBezTo>
                    <a:cubicBezTo>
                      <a:pt x="418" y="272"/>
                      <a:pt x="432" y="249"/>
                      <a:pt x="438" y="248"/>
                    </a:cubicBezTo>
                    <a:cubicBezTo>
                      <a:pt x="444" y="247"/>
                      <a:pt x="448" y="286"/>
                      <a:pt x="451" y="252"/>
                    </a:cubicBezTo>
                    <a:cubicBezTo>
                      <a:pt x="454" y="218"/>
                      <a:pt x="454" y="75"/>
                      <a:pt x="459" y="46"/>
                    </a:cubicBezTo>
                    <a:cubicBezTo>
                      <a:pt x="464" y="17"/>
                      <a:pt x="477" y="46"/>
                      <a:pt x="482" y="80"/>
                    </a:cubicBezTo>
                    <a:cubicBezTo>
                      <a:pt x="487" y="114"/>
                      <a:pt x="486" y="223"/>
                      <a:pt x="489" y="253"/>
                    </a:cubicBezTo>
                    <a:cubicBezTo>
                      <a:pt x="492" y="283"/>
                      <a:pt x="497" y="272"/>
                      <a:pt x="502" y="262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7924680" y="4267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001000" y="4267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077320" y="4267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153280" y="4267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229600" y="4267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305920" y="4267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381880" y="4267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458200" y="4267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534520" y="4267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610480" y="4267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695360" y="3733920"/>
              <a:ext cx="1043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cover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oc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391520" y="4343040"/>
              <a:ext cx="457200" cy="39204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1108080" y="4773600"/>
              <a:ext cx="906480" cy="409680"/>
              <a:chOff x="1108080" y="4773600"/>
              <a:chExt cx="906480" cy="409680"/>
            </a:xfrm>
          </p:grpSpPr>
          <p:sp>
            <p:nvSpPr>
              <p:cNvPr id="193" name=""/>
              <p:cNvSpPr/>
              <p:nvPr/>
            </p:nvSpPr>
            <p:spPr>
              <a:xfrm>
                <a:off x="1108080" y="5183280"/>
                <a:ext cx="9064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1108080" y="4773600"/>
                <a:ext cx="0" cy="409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143000" y="4803840"/>
                <a:ext cx="741240" cy="377640"/>
              </a:xfrm>
              <a:custGeom>
                <a:avLst/>
                <a:gdLst/>
                <a:ahLst/>
                <a:rect l="l" t="t" r="r" b="b"/>
                <a:pathLst>
                  <a:path w="467" h="238">
                    <a:moveTo>
                      <a:pt x="0" y="238"/>
                    </a:moveTo>
                    <a:lnTo>
                      <a:pt x="18" y="0"/>
                    </a:lnTo>
                    <a:lnTo>
                      <a:pt x="74" y="0"/>
                    </a:lnTo>
                    <a:lnTo>
                      <a:pt x="86" y="234"/>
                    </a:lnTo>
                    <a:lnTo>
                      <a:pt x="192" y="234"/>
                    </a:lnTo>
                    <a:lnTo>
                      <a:pt x="206" y="5"/>
                    </a:lnTo>
                    <a:lnTo>
                      <a:pt x="324" y="5"/>
                    </a:lnTo>
                    <a:lnTo>
                      <a:pt x="340" y="237"/>
                    </a:lnTo>
                    <a:lnTo>
                      <a:pt x="380" y="236"/>
                    </a:lnTo>
                    <a:lnTo>
                      <a:pt x="404" y="5"/>
                    </a:lnTo>
                    <a:lnTo>
                      <a:pt x="440" y="5"/>
                    </a:lnTo>
                    <a:lnTo>
                      <a:pt x="467" y="234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685800" y="3352680"/>
              <a:ext cx="82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on-LT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647640" y="1042920"/>
            <a:ext cx="8365320" cy="2257560"/>
            <a:chOff x="647640" y="1042920"/>
            <a:chExt cx="8365320" cy="2257560"/>
          </a:xfrm>
        </p:grpSpPr>
        <p:sp>
          <p:nvSpPr>
            <p:cNvPr id="198" name=""/>
            <p:cNvSpPr/>
            <p:nvPr/>
          </p:nvSpPr>
          <p:spPr>
            <a:xfrm>
              <a:off x="647640" y="1042920"/>
              <a:ext cx="8356680" cy="2257560"/>
            </a:xfrm>
            <a:prstGeom prst="rect">
              <a:avLst/>
            </a:prstGeom>
            <a:solidFill>
              <a:srgbClr val="e1ff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1108080" y="2087640"/>
              <a:ext cx="906480" cy="512640"/>
              <a:chOff x="1108080" y="2087640"/>
              <a:chExt cx="906480" cy="512640"/>
            </a:xfrm>
          </p:grpSpPr>
          <p:sp>
            <p:nvSpPr>
              <p:cNvPr id="200" name=""/>
              <p:cNvSpPr/>
              <p:nvPr/>
            </p:nvSpPr>
            <p:spPr>
              <a:xfrm>
                <a:off x="1108080" y="2497320"/>
                <a:ext cx="906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V="1">
                <a:off x="1108080" y="2087640"/>
                <a:ext cx="0" cy="40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108080" y="2247120"/>
                <a:ext cx="766800" cy="353160"/>
              </a:xfrm>
              <a:custGeom>
                <a:avLst/>
                <a:gdLst/>
                <a:ahLst/>
                <a:rect l="l" t="t" r="r" b="b"/>
                <a:pathLst>
                  <a:path w="528" h="248">
                    <a:moveTo>
                      <a:pt x="0" y="176"/>
                    </a:moveTo>
                    <a:cubicBezTo>
                      <a:pt x="12" y="116"/>
                      <a:pt x="24" y="56"/>
                      <a:pt x="48" y="32"/>
                    </a:cubicBezTo>
                    <a:cubicBezTo>
                      <a:pt x="72" y="8"/>
                      <a:pt x="120" y="0"/>
                      <a:pt x="144" y="32"/>
                    </a:cubicBezTo>
                    <a:cubicBezTo>
                      <a:pt x="168" y="64"/>
                      <a:pt x="168" y="200"/>
                      <a:pt x="192" y="224"/>
                    </a:cubicBezTo>
                    <a:cubicBezTo>
                      <a:pt x="216" y="248"/>
                      <a:pt x="256" y="192"/>
                      <a:pt x="288" y="176"/>
                    </a:cubicBezTo>
                    <a:cubicBezTo>
                      <a:pt x="320" y="160"/>
                      <a:pt x="352" y="128"/>
                      <a:pt x="384" y="128"/>
                    </a:cubicBezTo>
                    <a:cubicBezTo>
                      <a:pt x="416" y="128"/>
                      <a:pt x="456" y="168"/>
                      <a:pt x="480" y="176"/>
                    </a:cubicBezTo>
                    <a:cubicBezTo>
                      <a:pt x="504" y="184"/>
                      <a:pt x="516" y="180"/>
                      <a:pt x="528" y="176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"/>
            <p:cNvSpPr/>
            <p:nvPr/>
          </p:nvSpPr>
          <p:spPr>
            <a:xfrm>
              <a:off x="1981080" y="2344680"/>
              <a:ext cx="838440" cy="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825640" y="2130480"/>
              <a:ext cx="831600" cy="703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INIT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4537080" y="2087640"/>
              <a:ext cx="905040" cy="512640"/>
              <a:chOff x="4537080" y="2087640"/>
              <a:chExt cx="905040" cy="512640"/>
            </a:xfrm>
          </p:grpSpPr>
          <p:sp>
            <p:nvSpPr>
              <p:cNvPr id="206" name=""/>
              <p:cNvSpPr/>
              <p:nvPr/>
            </p:nvSpPr>
            <p:spPr>
              <a:xfrm>
                <a:off x="4537080" y="2497320"/>
                <a:ext cx="905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4537080" y="2087640"/>
                <a:ext cx="0" cy="40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537080" y="2247120"/>
                <a:ext cx="765360" cy="353160"/>
              </a:xfrm>
              <a:custGeom>
                <a:avLst/>
                <a:gdLst/>
                <a:ahLst/>
                <a:rect l="l" t="t" r="r" b="b"/>
                <a:pathLst>
                  <a:path w="528" h="248">
                    <a:moveTo>
                      <a:pt x="0" y="176"/>
                    </a:moveTo>
                    <a:cubicBezTo>
                      <a:pt x="12" y="116"/>
                      <a:pt x="24" y="56"/>
                      <a:pt x="48" y="32"/>
                    </a:cubicBezTo>
                    <a:cubicBezTo>
                      <a:pt x="72" y="8"/>
                      <a:pt x="120" y="0"/>
                      <a:pt x="144" y="32"/>
                    </a:cubicBezTo>
                    <a:cubicBezTo>
                      <a:pt x="168" y="64"/>
                      <a:pt x="168" y="200"/>
                      <a:pt x="192" y="224"/>
                    </a:cubicBezTo>
                    <a:cubicBezTo>
                      <a:pt x="216" y="248"/>
                      <a:pt x="256" y="192"/>
                      <a:pt x="288" y="176"/>
                    </a:cubicBezTo>
                    <a:cubicBezTo>
                      <a:pt x="320" y="160"/>
                      <a:pt x="352" y="128"/>
                      <a:pt x="384" y="128"/>
                    </a:cubicBezTo>
                    <a:cubicBezTo>
                      <a:pt x="416" y="128"/>
                      <a:pt x="456" y="168"/>
                      <a:pt x="480" y="176"/>
                    </a:cubicBezTo>
                    <a:cubicBezTo>
                      <a:pt x="504" y="184"/>
                      <a:pt x="516" y="180"/>
                      <a:pt x="528" y="176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7878600" y="2061720"/>
              <a:ext cx="905040" cy="513000"/>
              <a:chOff x="7878600" y="2061720"/>
              <a:chExt cx="905040" cy="513000"/>
            </a:xfrm>
          </p:grpSpPr>
          <p:sp>
            <p:nvSpPr>
              <p:cNvPr id="210" name=""/>
              <p:cNvSpPr/>
              <p:nvPr/>
            </p:nvSpPr>
            <p:spPr>
              <a:xfrm>
                <a:off x="7878600" y="2472120"/>
                <a:ext cx="905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7878600" y="2061720"/>
                <a:ext cx="0" cy="41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878600" y="2221560"/>
                <a:ext cx="765360" cy="353160"/>
              </a:xfrm>
              <a:custGeom>
                <a:avLst/>
                <a:gdLst/>
                <a:ahLst/>
                <a:rect l="l" t="t" r="r" b="b"/>
                <a:pathLst>
                  <a:path w="528" h="248">
                    <a:moveTo>
                      <a:pt x="0" y="176"/>
                    </a:moveTo>
                    <a:cubicBezTo>
                      <a:pt x="12" y="116"/>
                      <a:pt x="24" y="56"/>
                      <a:pt x="48" y="32"/>
                    </a:cubicBezTo>
                    <a:cubicBezTo>
                      <a:pt x="72" y="8"/>
                      <a:pt x="120" y="0"/>
                      <a:pt x="144" y="32"/>
                    </a:cubicBezTo>
                    <a:cubicBezTo>
                      <a:pt x="168" y="64"/>
                      <a:pt x="168" y="200"/>
                      <a:pt x="192" y="224"/>
                    </a:cubicBezTo>
                    <a:cubicBezTo>
                      <a:pt x="216" y="248"/>
                      <a:pt x="256" y="192"/>
                      <a:pt x="288" y="176"/>
                    </a:cubicBezTo>
                    <a:cubicBezTo>
                      <a:pt x="320" y="160"/>
                      <a:pt x="352" y="128"/>
                      <a:pt x="384" y="128"/>
                    </a:cubicBezTo>
                    <a:cubicBezTo>
                      <a:pt x="416" y="128"/>
                      <a:pt x="456" y="168"/>
                      <a:pt x="480" y="176"/>
                    </a:cubicBezTo>
                    <a:cubicBezTo>
                      <a:pt x="504" y="184"/>
                      <a:pt x="516" y="180"/>
                      <a:pt x="528" y="176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>
              <a:off x="6070680" y="2122560"/>
              <a:ext cx="831600" cy="703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R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INIT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733920" y="2344680"/>
              <a:ext cx="758880" cy="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257800" y="2362320"/>
              <a:ext cx="762120" cy="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934320" y="2362320"/>
              <a:ext cx="868320" cy="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83280" y="2712960"/>
              <a:ext cx="1569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annel Impulse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pon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300560" y="2703600"/>
              <a:ext cx="112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ith TX EQ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543080" y="2590920"/>
              <a:ext cx="1469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ith TX, RX EQ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497240" y="1295280"/>
              <a:ext cx="1412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odel Settting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179320" y="1295280"/>
              <a:ext cx="1361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odel Setting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300400" y="1700280"/>
              <a:ext cx="236520" cy="27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892840" y="1744560"/>
              <a:ext cx="236520" cy="27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6520" y="1066680"/>
              <a:ext cx="43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T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1369440" y="3886200"/>
            <a:ext cx="5019480" cy="727200"/>
            <a:chOff x="1369440" y="3886200"/>
            <a:chExt cx="5019480" cy="727200"/>
          </a:xfrm>
        </p:grpSpPr>
        <p:sp>
          <p:nvSpPr>
            <p:cNvPr id="226" name=""/>
            <p:cNvSpPr/>
            <p:nvPr/>
          </p:nvSpPr>
          <p:spPr>
            <a:xfrm>
              <a:off x="1369440" y="3886200"/>
              <a:ext cx="1361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odel Setting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027040" y="3886200"/>
              <a:ext cx="1361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odel Setting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147760" y="4290840"/>
              <a:ext cx="236520" cy="27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740560" y="4335480"/>
              <a:ext cx="236520" cy="27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IBIS-ATM Algorithmic Models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3228480" y="2890800"/>
            <a:ext cx="3250080" cy="1730520"/>
            <a:chOff x="3228480" y="2890800"/>
            <a:chExt cx="3250080" cy="1730520"/>
          </a:xfrm>
        </p:grpSpPr>
        <p:sp>
          <p:nvSpPr>
            <p:cNvPr id="232" name=""/>
            <p:cNvSpPr/>
            <p:nvPr/>
          </p:nvSpPr>
          <p:spPr>
            <a:xfrm flipH="1">
              <a:off x="3228480" y="2908440"/>
              <a:ext cx="1800" cy="1690560"/>
            </a:xfrm>
            <a:prstGeom prst="line">
              <a:avLst/>
            </a:prstGeom>
            <a:ln w="19080">
              <a:solidFill>
                <a:srgbClr val="0099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6477120" y="2890800"/>
              <a:ext cx="1440" cy="1730520"/>
            </a:xfrm>
            <a:prstGeom prst="line">
              <a:avLst/>
            </a:prstGeom>
            <a:ln w="19080">
              <a:solidFill>
                <a:srgbClr val="0099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83698-A52A-4A5D-B01A-EF486FF52257}" type="slidenum">
              <a:t>11</a:t>
            </a:fld>
          </a:p>
        </p:txBody>
      </p:sp>
    </p:spTree>
  </p:cSld>
  <p:transition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139920" y="4564080"/>
            <a:ext cx="3252960" cy="12398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124080" y="2895480"/>
            <a:ext cx="3252960" cy="1677960"/>
          </a:xfrm>
          <a:prstGeom prst="rect">
            <a:avLst/>
          </a:prstGeom>
          <a:solidFill>
            <a:srgbClr val="e5f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124080" y="1295280"/>
            <a:ext cx="3252960" cy="1594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Executable Model Architecture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124080" y="1295280"/>
            <a:ext cx="3276720" cy="4525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LTI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mpulse response processing</a:t>
            </a:r>
            <a:br>
              <a:rPr sz="2000"/>
            </a:b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GETW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Non-LTI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Time-domain Waveform Processing</a:t>
            </a:r>
            <a:br>
              <a:rPr sz="2000"/>
            </a:b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C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Model clean-up &amp;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124080" y="289548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124080" y="457200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89040" y="1371600"/>
            <a:ext cx="19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Impulse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88680" y="190512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Model set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937560" y="1447920"/>
            <a:ext cx="19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Impulse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937200" y="190512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Model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013880" y="4572000"/>
            <a:ext cx="163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Model-specific</a:t>
            </a:r>
            <a:br>
              <a:rPr sz="1800"/>
            </a:b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013520" y="3048120"/>
            <a:ext cx="19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Continuous time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domain wav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89040" y="3200400"/>
            <a:ext cx="19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Continuous time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domain wav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013520" y="388620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Clock s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666880" y="1625760"/>
            <a:ext cx="381240" cy="12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362320" y="21337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666880" y="35812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213372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553080" y="167652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32767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553080" y="40384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553080" y="4267080"/>
            <a:ext cx="45720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D6361-ED0B-41C6-9520-FB98A13437B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Executable (DLL) Call Arguments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6699"/>
                </a:solidFill>
                <a:latin typeface="Arial"/>
              </a:rPr>
              <a:t>Init (impulse response processing)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6699"/>
                </a:solidFill>
                <a:latin typeface="Arial"/>
              </a:rPr>
              <a:t>Bit time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6699"/>
                </a:solidFill>
                <a:latin typeface="Arial"/>
              </a:rPr>
              <a:t>Number of waveform samples per bit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6699"/>
                </a:solidFill>
                <a:latin typeface="Arial"/>
              </a:rPr>
              <a:t>Number of crosstalk aggressors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6699"/>
                </a:solidFill>
                <a:latin typeface="Arial"/>
              </a:rPr>
              <a:t>Channel impulse response(s)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6699"/>
                </a:solidFill>
                <a:latin typeface="Arial"/>
              </a:rPr>
              <a:t>Model parameters and values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6699"/>
                </a:solidFill>
                <a:latin typeface="Arial"/>
              </a:rPr>
              <a:t>Pointers to free memory, data return area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Getwave (waveform processing)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Input waveform(s)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Pointers to data return area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Equalized waveform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Clock times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Optimized parameters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9BC25-675C-470D-98FB-D5492C8674F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Model Parameters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Additional data passed between executable model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&amp; simulator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Model-specific parameter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Allow IP vendors to define data required for / provided by a specific mod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fined parameter declaration and usage format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Allows end-users to set and display model-specific data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Reserved parameter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Predefined parameter list used by EDA tools to alter analysis flow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Allows models to tell EDA platform what data the model does/doesn’t provide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1D535-4E83-4B2B-B525-CD9B8810EAA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Current IBIS-ATM Status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8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Original proposal submitted by Cadence in 2006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8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Current proposal authored by Cadence, SiSoft, Mentor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8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Technical issues settled between EDA vendor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8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Proposed solution reviewed with IP vendor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8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Detailed documentation in developmen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8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Plan to distribute sample models and “wrapper code” to aid model developers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535AB-CBB6-4A96-B9CE-561E94F84A52}" type="slidenum">
              <a:t>15</a:t>
            </a:fld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Next Steps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1874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Preliminary approval by IBIS-ATM subcommittee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874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Complete BIRD documentation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1687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Target: June 2007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874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velop sample models &amp; prototype EDA integration; resolve detailed issues with spec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1687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Target: September 2007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874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Bring to IBIS-ATM committee for final approva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874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Bring to IBIS committee for approva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6699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* Note: Steps 3 and 4 in parallel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DF35A-7FC3-4057-A798-54C8FC0707B6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Who Needs SerDes Models?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ystem Designer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Predict end-end link BER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Evaluate system-level design tradeoff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ASIC designer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Evaluate different TX/RX behavior 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erDes circuit designer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Validate with standard test setup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Test Equipment Vendor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Model device-specific equalization &amp; clock recovery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43613-D620-4C0C-AD4C-B9104E1F7557}" type="slidenum">
              <a:t>2</a:t>
            </a:fld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Serial Link Analysis Needs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Analyze link behavior &gt; 10</a:t>
            </a:r>
            <a:r>
              <a:rPr b="0" lang="en-US" sz="2400" spc="-1" strike="noStrike" baseline="40000">
                <a:solidFill>
                  <a:srgbClr val="336699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bit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Model transmit / receive equalization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Model clock recovery behavior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45720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erial link analysis is best addressed through a combination of analytical method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838080" indent="-3808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Characterization of the analog chann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838080" indent="-3808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Equalization &amp; clock recovery modeling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B498D-51DA-49B9-8B57-6B2A5C27D15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Why Use Separate Steps?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Exploit linear behavior of serial channel analog components for computational efficiency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Leverage existing techniques for modeling equalization and clock recovery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Communication systems theory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Enable multiple analytical approache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Commercial EDA tool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Matlab / StatEye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P vendor tool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C2142-6637-4596-B975-BA0693FFFEE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09480" y="1447920"/>
            <a:ext cx="2981520" cy="2514600"/>
          </a:xfrm>
          <a:custGeom>
            <a:avLst/>
            <a:gdLst/>
            <a:ahLst/>
            <a:rect l="l" t="t" r="r" b="b"/>
            <a:pathLst>
              <a:path w="2019" h="2174">
                <a:moveTo>
                  <a:pt x="26" y="2174"/>
                </a:moveTo>
                <a:lnTo>
                  <a:pt x="2019" y="2174"/>
                </a:lnTo>
                <a:lnTo>
                  <a:pt x="2019" y="0"/>
                </a:lnTo>
                <a:lnTo>
                  <a:pt x="0" y="0"/>
                </a:lnTo>
              </a:path>
            </a:pathLst>
          </a:custGeom>
          <a:solidFill>
            <a:srgbClr val="ccecff"/>
          </a:solidFill>
          <a:ln w="648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5018040" y="1447920"/>
            <a:ext cx="3897360" cy="2514600"/>
          </a:xfrm>
          <a:custGeom>
            <a:avLst/>
            <a:gdLst/>
            <a:ahLst/>
            <a:rect l="l" t="t" r="r" b="b"/>
            <a:pathLst>
              <a:path w="2019" h="2174">
                <a:moveTo>
                  <a:pt x="26" y="2174"/>
                </a:moveTo>
                <a:lnTo>
                  <a:pt x="2019" y="2174"/>
                </a:lnTo>
                <a:lnTo>
                  <a:pt x="2019" y="0"/>
                </a:lnTo>
                <a:lnTo>
                  <a:pt x="0" y="0"/>
                </a:lnTo>
              </a:path>
            </a:pathLst>
          </a:custGeom>
          <a:solidFill>
            <a:srgbClr val="ccecff"/>
          </a:solidFill>
          <a:ln w="648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4360" y="3060720"/>
            <a:ext cx="3808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4360" y="2832120"/>
            <a:ext cx="3808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4360" y="3137040"/>
            <a:ext cx="3808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4360" y="2908440"/>
            <a:ext cx="3808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2984400"/>
            <a:ext cx="3808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3213000"/>
            <a:ext cx="3808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4360" y="3289320"/>
            <a:ext cx="3808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Serial Link Analysis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362320" y="1981080"/>
            <a:ext cx="3892320" cy="1568520"/>
          </a:xfrm>
          <a:prstGeom prst="rect">
            <a:avLst/>
          </a:prstGeom>
          <a:solidFill>
            <a:srgbClr val="33cc33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0920" y="2932200"/>
            <a:ext cx="174600" cy="658800"/>
          </a:xfrm>
          <a:custGeom>
            <a:avLst/>
            <a:gdLst/>
            <a:ahLst/>
            <a:rect l="l" t="t" r="r" b="b"/>
            <a:pathLst>
              <a:path w="187" h="434">
                <a:moveTo>
                  <a:pt x="187" y="0"/>
                </a:moveTo>
                <a:lnTo>
                  <a:pt x="103" y="0"/>
                </a:lnTo>
                <a:lnTo>
                  <a:pt x="103" y="434"/>
                </a:lnTo>
                <a:lnTo>
                  <a:pt x="0" y="434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230960" y="2744640"/>
            <a:ext cx="378000" cy="854280"/>
          </a:xfrm>
          <a:custGeom>
            <a:avLst/>
            <a:gdLst/>
            <a:ahLst/>
            <a:rect l="l" t="t" r="r" b="b"/>
            <a:pathLst>
              <a:path w="91" h="563">
                <a:moveTo>
                  <a:pt x="0" y="0"/>
                </a:moveTo>
                <a:lnTo>
                  <a:pt x="0" y="563"/>
                </a:lnTo>
                <a:lnTo>
                  <a:pt x="91" y="563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4360" y="275580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68440" y="2460600"/>
            <a:ext cx="614520" cy="619200"/>
          </a:xfrm>
          <a:prstGeom prst="rect">
            <a:avLst/>
          </a:prstGeom>
          <a:solidFill>
            <a:srgbClr val="cc99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mit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qual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90720" y="2470320"/>
            <a:ext cx="777960" cy="618840"/>
          </a:xfrm>
          <a:prstGeom prst="rect">
            <a:avLst/>
          </a:prstGeom>
          <a:solidFill>
            <a:srgbClr val="c0c0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ckag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16200" y="2470320"/>
            <a:ext cx="1368720" cy="618840"/>
          </a:xfrm>
          <a:prstGeom prst="rect">
            <a:avLst/>
          </a:prstGeom>
          <a:solidFill>
            <a:srgbClr val="c0c0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conn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299360" y="3309840"/>
            <a:ext cx="584280" cy="403200"/>
          </a:xfrm>
          <a:prstGeom prst="rect">
            <a:avLst/>
          </a:prstGeom>
          <a:solidFill>
            <a:srgbClr val="cc99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ov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075520" y="2562120"/>
            <a:ext cx="623880" cy="480960"/>
          </a:xfrm>
          <a:prstGeom prst="rect">
            <a:avLst/>
          </a:prstGeom>
          <a:solidFill>
            <a:srgbClr val="cc99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ov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 rot="5400000">
            <a:off x="468360" y="2635920"/>
            <a:ext cx="1436760" cy="376200"/>
          </a:xfrm>
          <a:custGeom>
            <a:avLst/>
            <a:gdLst>
              <a:gd name="textAreaLeft" fmla="*/ 315720 w 1436760"/>
              <a:gd name="textAreaRight" fmla="*/ 1121040 w 1436760"/>
              <a:gd name="textAreaTop" fmla="*/ 82800 h 376200"/>
              <a:gd name="textAreaBottom" fmla="*/ 293400 h 37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99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ali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56200" y="2470320"/>
            <a:ext cx="779400" cy="618840"/>
          </a:xfrm>
          <a:prstGeom prst="rect">
            <a:avLst/>
          </a:prstGeom>
          <a:solidFill>
            <a:srgbClr val="c0c0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ckag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5480" y="2492280"/>
            <a:ext cx="615960" cy="522360"/>
          </a:xfrm>
          <a:prstGeom prst="rect">
            <a:avLst/>
          </a:prstGeom>
          <a:solidFill>
            <a:srgbClr val="cc99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qual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5848560" y="2595960"/>
            <a:ext cx="441360" cy="29700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5400000">
            <a:off x="2322000" y="2625480"/>
            <a:ext cx="441360" cy="25740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830240" y="15238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78920" y="1523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378160" y="4108320"/>
            <a:ext cx="3984480" cy="785520"/>
            <a:chOff x="2378160" y="4108320"/>
            <a:chExt cx="3984480" cy="785520"/>
          </a:xfrm>
        </p:grpSpPr>
        <p:sp>
          <p:nvSpPr>
            <p:cNvPr id="116" name=""/>
            <p:cNvSpPr/>
            <p:nvPr/>
          </p:nvSpPr>
          <p:spPr>
            <a:xfrm rot="16200000">
              <a:off x="4290120" y="2196360"/>
              <a:ext cx="160560" cy="3984480"/>
            </a:xfrm>
            <a:custGeom>
              <a:avLst/>
              <a:gdLst>
                <a:gd name="textAreaLeft" fmla="*/ 47160 w 160560"/>
                <a:gd name="textAreaRight" fmla="*/ 160920 w 160560"/>
                <a:gd name="textAreaTop" fmla="*/ 165960 h 3984480"/>
                <a:gd name="textAreaBottom" fmla="*/ 3818520 h 3984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239640" y="4313160"/>
              <a:ext cx="225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Channel &amp; Analog I/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inear, Time-Invaria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6359400" y="4114440"/>
            <a:ext cx="2327400" cy="759960"/>
            <a:chOff x="6359400" y="4114440"/>
            <a:chExt cx="2327400" cy="759960"/>
          </a:xfrm>
        </p:grpSpPr>
        <p:sp>
          <p:nvSpPr>
            <p:cNvPr id="119" name=""/>
            <p:cNvSpPr/>
            <p:nvPr/>
          </p:nvSpPr>
          <p:spPr>
            <a:xfrm rot="16200000">
              <a:off x="7445880" y="3027960"/>
              <a:ext cx="154440" cy="2327400"/>
            </a:xfrm>
            <a:custGeom>
              <a:avLst/>
              <a:gdLst>
                <a:gd name="textAreaLeft" fmla="*/ 45360 w 154440"/>
                <a:gd name="textAreaRight" fmla="*/ 154800 w 154440"/>
                <a:gd name="textAreaTop" fmla="*/ 96840 h 2327400"/>
                <a:gd name="textAreaBottom" fmla="*/ 2230560 h 232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703920" y="4293720"/>
              <a:ext cx="1463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9900"/>
                  </a:solidFill>
                  <a:latin typeface="Arial"/>
                </a:rPr>
                <a:t>RX EQ, CDR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TI or non-LT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09480" y="4114440"/>
            <a:ext cx="1828800" cy="779400"/>
            <a:chOff x="609480" y="4114440"/>
            <a:chExt cx="1828800" cy="779400"/>
          </a:xfrm>
        </p:grpSpPr>
        <p:sp>
          <p:nvSpPr>
            <p:cNvPr id="122" name=""/>
            <p:cNvSpPr/>
            <p:nvPr/>
          </p:nvSpPr>
          <p:spPr>
            <a:xfrm rot="16200000">
              <a:off x="1454040" y="3345840"/>
              <a:ext cx="152280" cy="1689120"/>
            </a:xfrm>
            <a:custGeom>
              <a:avLst/>
              <a:gdLst>
                <a:gd name="textAreaLeft" fmla="*/ 44640 w 152280"/>
                <a:gd name="textAreaRight" fmla="*/ 152640 w 152280"/>
                <a:gd name="textAreaTop" fmla="*/ 70200 h 1689120"/>
                <a:gd name="textAreaBottom" fmla="*/ 1618920 h 168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4313160"/>
              <a:ext cx="1828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9900"/>
                  </a:solidFill>
                  <a:latin typeface="Arial"/>
                </a:rPr>
                <a:t>TX EQ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TI or non-LT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3219120" y="5105520"/>
            <a:ext cx="259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Channel Character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Impulse respons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00560" y="5105520"/>
            <a:ext cx="175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TX Equal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TX Optim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478200" y="5105520"/>
            <a:ext cx="2126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RX Equal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RX Clock Recove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RX Optim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D6AF6-EE0A-47C2-AD0E-4BA51E35702F}" type="slidenum">
              <a:t>5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Serial Link Modeling Assumptions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Analog channel can be considered LTI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oes not apply to fiber optic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Equalization cannot always be considered LTI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e.g. DFE involves quantization of received signa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Time-varying (adaptive) behavior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On-die noise and associated jitter is important, but measurement / modeling is not well defined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This will evolve as techniques improve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IP vendors want to supply models that correspond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to silicon as closely as possibl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4CE0F-2C8C-42BA-B37D-849D7875EBC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IBIS-ATM Effort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Goal: SerDes Rx/TX model interoperability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Multiple EDA environment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Multiple SerDes vendor model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Protect SerDes vendor IP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IBIS-ATM committee participation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EDA: SiSoft, Cadence, Mentor, Agilent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emiconductor: IBM, TI, Intel, Micron, Xilinx, ST-Micro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ystem: Cisco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Two part modeling standard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Electrical model: TX / RX analog characteristic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Algorithmic model: equalization, clock recovery, device optimization algorithm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21B83-844C-43C5-99EE-2F3B9B10FF84}" type="slidenum">
              <a:t>7</a:t>
            </a:fld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BIS-ATM Activities Since DesignCon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Weekly IBIS-ATM call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EDA vendor meeting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Cadence/SiSoft/Mentor meeting in Chelmsford, MA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Weekly conference call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Regular meetings with IP vendor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Weekly conference call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Developed &amp; refined draft BIRD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F3F6D-801E-4DD1-A3A6-8ADB1745C97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Required SerDes Device Models 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257800" y="1676160"/>
            <a:ext cx="3733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Characterization (analog)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Existing IBIS 4.2 syntax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Arial"/>
              </a:rPr>
              <a:t>Communications model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LTI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Equalization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RX clock PDF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Non-LTI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Nonlinear equalization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Adaptive equalization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Clock recovery behavior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143000" y="1295280"/>
            <a:ext cx="3731760" cy="4862520"/>
            <a:chOff x="1143000" y="1295280"/>
            <a:chExt cx="3731760" cy="4862520"/>
          </a:xfrm>
        </p:grpSpPr>
        <p:sp>
          <p:nvSpPr>
            <p:cNvPr id="136" name=""/>
            <p:cNvSpPr/>
            <p:nvPr/>
          </p:nvSpPr>
          <p:spPr>
            <a:xfrm>
              <a:off x="1369800" y="3643200"/>
              <a:ext cx="3504960" cy="251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906200" y="4786200"/>
              <a:ext cx="2500200" cy="1068480"/>
              <a:chOff x="1906200" y="4786200"/>
              <a:chExt cx="2500200" cy="1068480"/>
            </a:xfrm>
          </p:grpSpPr>
          <p:sp>
            <p:nvSpPr>
              <p:cNvPr id="138" name=""/>
              <p:cNvSpPr/>
              <p:nvPr/>
            </p:nvSpPr>
            <p:spPr>
              <a:xfrm>
                <a:off x="2707920" y="5395680"/>
                <a:ext cx="784080" cy="45900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 Narrow"/>
                  </a:rPr>
                  <a:t>Cloc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 Narrow"/>
                  </a:rPr>
                  <a:t>Recove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906200" y="4938480"/>
                <a:ext cx="1030320" cy="457200"/>
              </a:xfrm>
              <a:custGeom>
                <a:avLst/>
                <a:gdLst/>
                <a:ahLst/>
                <a:rect l="l" t="t" r="r" b="b"/>
                <a:pathLst>
                  <a:path w="768" h="288">
                    <a:moveTo>
                      <a:pt x="0" y="0"/>
                    </a:moveTo>
                    <a:lnTo>
                      <a:pt x="768" y="0"/>
                    </a:lnTo>
                    <a:lnTo>
                      <a:pt x="768" y="28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860200" y="4938480"/>
                <a:ext cx="854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401640" y="5213160"/>
                <a:ext cx="426960" cy="182520"/>
              </a:xfrm>
              <a:custGeom>
                <a:avLst/>
                <a:gdLst/>
                <a:ahLst/>
                <a:rect l="l" t="t" r="r" b="b"/>
                <a:pathLst>
                  <a:path w="288" h="144">
                    <a:moveTo>
                      <a:pt x="0" y="144"/>
                    </a:moveTo>
                    <a:lnTo>
                      <a:pt x="0" y="0"/>
                    </a:lnTo>
                    <a:lnTo>
                      <a:pt x="2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977480" y="4786200"/>
                <a:ext cx="782640" cy="2764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 Narrow"/>
                  </a:rPr>
                  <a:t>Equaliz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" name=""/>
              <p:cNvGrpSpPr/>
              <p:nvPr/>
            </p:nvGrpSpPr>
            <p:grpSpPr>
              <a:xfrm>
                <a:off x="3621960" y="4862520"/>
                <a:ext cx="784440" cy="459000"/>
                <a:chOff x="3621960" y="4862520"/>
                <a:chExt cx="784440" cy="45900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3622320" y="4862520"/>
                  <a:ext cx="784080" cy="45900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 Narrow"/>
                    </a:rPr>
                    <a:t>Sample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rot="5400000">
                  <a:off x="3578760" y="5134320"/>
                  <a:ext cx="228600" cy="142200"/>
                </a:xfrm>
                <a:prstGeom prst="triangle">
                  <a:avLst>
                    <a:gd name="adj" fmla="val 50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6" name=""/>
            <p:cNvGrpSpPr/>
            <p:nvPr/>
          </p:nvGrpSpPr>
          <p:grpSpPr>
            <a:xfrm>
              <a:off x="1522080" y="3795480"/>
              <a:ext cx="990360" cy="571320"/>
              <a:chOff x="1522080" y="3795480"/>
              <a:chExt cx="990360" cy="571320"/>
            </a:xfrm>
          </p:grpSpPr>
          <p:sp>
            <p:nvSpPr>
              <p:cNvPr id="147" name=""/>
              <p:cNvSpPr/>
              <p:nvPr/>
            </p:nvSpPr>
            <p:spPr>
              <a:xfrm>
                <a:off x="1522080" y="425268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V="1">
                <a:off x="1522080" y="379548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522080" y="3973320"/>
                <a:ext cx="837720" cy="393480"/>
              </a:xfrm>
              <a:custGeom>
                <a:avLst/>
                <a:gdLst/>
                <a:ahLst/>
                <a:rect l="l" t="t" r="r" b="b"/>
                <a:pathLst>
                  <a:path w="528" h="248">
                    <a:moveTo>
                      <a:pt x="0" y="176"/>
                    </a:moveTo>
                    <a:cubicBezTo>
                      <a:pt x="12" y="116"/>
                      <a:pt x="24" y="56"/>
                      <a:pt x="48" y="32"/>
                    </a:cubicBezTo>
                    <a:cubicBezTo>
                      <a:pt x="72" y="8"/>
                      <a:pt x="120" y="0"/>
                      <a:pt x="144" y="32"/>
                    </a:cubicBezTo>
                    <a:cubicBezTo>
                      <a:pt x="168" y="64"/>
                      <a:pt x="168" y="200"/>
                      <a:pt x="192" y="224"/>
                    </a:cubicBezTo>
                    <a:cubicBezTo>
                      <a:pt x="216" y="248"/>
                      <a:pt x="256" y="192"/>
                      <a:pt x="288" y="176"/>
                    </a:cubicBezTo>
                    <a:cubicBezTo>
                      <a:pt x="320" y="160"/>
                      <a:pt x="352" y="128"/>
                      <a:pt x="384" y="128"/>
                    </a:cubicBezTo>
                    <a:cubicBezTo>
                      <a:pt x="416" y="128"/>
                      <a:pt x="456" y="168"/>
                      <a:pt x="480" y="176"/>
                    </a:cubicBezTo>
                    <a:cubicBezTo>
                      <a:pt x="504" y="184"/>
                      <a:pt x="516" y="180"/>
                      <a:pt x="528" y="176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3655800" y="3871800"/>
              <a:ext cx="990360" cy="530280"/>
              <a:chOff x="3655800" y="3871800"/>
              <a:chExt cx="990360" cy="530280"/>
            </a:xfrm>
          </p:grpSpPr>
          <p:sp>
            <p:nvSpPr>
              <p:cNvPr id="151" name=""/>
              <p:cNvSpPr/>
              <p:nvPr/>
            </p:nvSpPr>
            <p:spPr>
              <a:xfrm>
                <a:off x="3655800" y="432900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V="1">
                <a:off x="3655800" y="3871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655800" y="4030560"/>
                <a:ext cx="821880" cy="371520"/>
              </a:xfrm>
              <a:custGeom>
                <a:avLst/>
                <a:gdLst/>
                <a:ahLst/>
                <a:rect l="l" t="t" r="r" b="b"/>
                <a:pathLst>
                  <a:path w="526" h="234">
                    <a:moveTo>
                      <a:pt x="8" y="188"/>
                    </a:moveTo>
                    <a:cubicBezTo>
                      <a:pt x="4" y="122"/>
                      <a:pt x="0" y="56"/>
                      <a:pt x="24" y="28"/>
                    </a:cubicBezTo>
                    <a:cubicBezTo>
                      <a:pt x="48" y="0"/>
                      <a:pt x="126" y="10"/>
                      <a:pt x="151" y="18"/>
                    </a:cubicBezTo>
                    <a:cubicBezTo>
                      <a:pt x="176" y="26"/>
                      <a:pt x="170" y="45"/>
                      <a:pt x="177" y="78"/>
                    </a:cubicBezTo>
                    <a:cubicBezTo>
                      <a:pt x="184" y="111"/>
                      <a:pt x="176" y="204"/>
                      <a:pt x="196" y="219"/>
                    </a:cubicBezTo>
                    <a:cubicBezTo>
                      <a:pt x="216" y="234"/>
                      <a:pt x="268" y="174"/>
                      <a:pt x="294" y="170"/>
                    </a:cubicBezTo>
                    <a:cubicBezTo>
                      <a:pt x="320" y="166"/>
                      <a:pt x="326" y="193"/>
                      <a:pt x="351" y="195"/>
                    </a:cubicBezTo>
                    <a:cubicBezTo>
                      <a:pt x="376" y="197"/>
                      <a:pt x="416" y="183"/>
                      <a:pt x="445" y="180"/>
                    </a:cubicBezTo>
                    <a:cubicBezTo>
                      <a:pt x="474" y="177"/>
                      <a:pt x="500" y="177"/>
                      <a:pt x="526" y="178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1369800" y="448164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60520" y="4024440"/>
              <a:ext cx="1142640" cy="0"/>
            </a:xfrm>
            <a:prstGeom prst="line">
              <a:avLst/>
            </a:prstGeom>
            <a:ln w="57240">
              <a:solidFill>
                <a:srgbClr val="0099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1143000" y="1295280"/>
              <a:ext cx="2674800" cy="192420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57" name=""/>
            <p:cNvSpPr/>
            <p:nvPr/>
          </p:nvSpPr>
          <p:spPr>
            <a:xfrm>
              <a:off x="1366560" y="2571840"/>
              <a:ext cx="3506400" cy="1066680"/>
            </a:xfrm>
            <a:custGeom>
              <a:avLst/>
              <a:gdLst/>
              <a:ahLst/>
              <a:rect l="l" t="t" r="r" b="b"/>
              <a:pathLst>
                <a:path w="2209" h="672">
                  <a:moveTo>
                    <a:pt x="0" y="671"/>
                  </a:moveTo>
                  <a:lnTo>
                    <a:pt x="1132" y="0"/>
                  </a:lnTo>
                  <a:lnTo>
                    <a:pt x="1139" y="48"/>
                  </a:lnTo>
                  <a:lnTo>
                    <a:pt x="1168" y="98"/>
                  </a:lnTo>
                  <a:lnTo>
                    <a:pt x="1204" y="138"/>
                  </a:lnTo>
                  <a:lnTo>
                    <a:pt x="1254" y="162"/>
                  </a:lnTo>
                  <a:lnTo>
                    <a:pt x="1318" y="172"/>
                  </a:lnTo>
                  <a:lnTo>
                    <a:pt x="1376" y="157"/>
                  </a:lnTo>
                  <a:lnTo>
                    <a:pt x="1436" y="116"/>
                  </a:lnTo>
                  <a:lnTo>
                    <a:pt x="1478" y="53"/>
                  </a:lnTo>
                  <a:lnTo>
                    <a:pt x="1488" y="24"/>
                  </a:lnTo>
                  <a:lnTo>
                    <a:pt x="2209" y="672"/>
                  </a:lnTo>
                  <a:lnTo>
                    <a:pt x="0" y="671"/>
                  </a:lnTo>
                  <a:close/>
                </a:path>
              </a:pathLst>
            </a:custGeom>
            <a:gradFill rotWithShape="0">
              <a:gsLst>
                <a:gs pos="0">
                  <a:srgbClr val="808080">
                    <a:alpha val="80392"/>
                  </a:srgbClr>
                </a:gs>
                <a:gs pos="100000">
                  <a:srgbClr val="dddddd">
                    <a:alpha val="40000"/>
                  </a:srgbClr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166920" y="2282760"/>
              <a:ext cx="561600" cy="555840"/>
            </a:xfrm>
            <a:prstGeom prst="ellipse">
              <a:avLst/>
            </a:prstGeom>
            <a:noFill/>
            <a:ln w="28440">
              <a:solidFill>
                <a:srgbClr val="ed17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0986C-4FA7-4D27-AC94-860B248ADF9C}" type="slidenum">
              <a:t>9</a:t>
            </a:fld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8T04:20:00Z</dcterms:created>
  <dc:creator>Adam Kustin</dc:creator>
  <dc:description/>
  <dc:language>en-US</dc:language>
  <cp:lastModifiedBy>Todd Westerhoff</cp:lastModifiedBy>
  <dcterms:modified xsi:type="dcterms:W3CDTF">2007-06-01T21:33:29Z</dcterms:modified>
  <cp:revision>264</cp:revision>
  <dc:subject/>
  <dc:title>Slide 1</dc:title>
</cp:coreProperties>
</file>