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7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CC91C89-01E7-4865-8C70-984C31D46ADA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chk4 Version 4.2.1 and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unny IBIS Models</a:t>
            </a:r>
            <a:br>
              <a:rPr sz="3600"/>
            </a:b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Summit Meeting, DAC 200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n Diego, Californ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une 5, 200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Receiver Thresholds]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De-rating Tables?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igned for single-ended and differential specific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argeted for DDRII and abo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eds de-rating tables for real adop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therwise, vendor-specific syntax need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r code based de-rating (VHDL-AMS, etc.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future BIRD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ther Fix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 minor fixes including a parser cras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G91 for Model_type Open_* with non-zero content in the extra [Pullup] or [Pulldown] ta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E.g., Open_drain with non-zero [Pullup]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Elevated from Warning to Error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040040" indent="-20772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Based on real issue since model is ambiguous and the waveform check may be misleading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Cannot rely on EDA tool defaul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oposed ibischk4 Version 4.2.2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G95 – Fix incorrect single-ended, differential Warning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G96 – Add line numbers to No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G97 – Resolve differences in summation of Notes plus Warnings versus original Warning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nvestigate Parser Friendly Fix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ser code suggestions for EDA tool integ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Unique file names (e.g., ibisxx_string.h versus string.h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rintf for command line mode needs to be globally edited for parser integr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ilter Errors, Warnings for complete file for specific model of interest 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ther issues with names, globals, undefined code, etc.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cepted, then targeted beyond Version 4.2.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Funny Model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0.ib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As many 0’s as possible (or 1f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bischk4 does not check everything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Uncommon developer and customer issu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Pathological cases shows what can be miss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verse.ib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0.ib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BIS Ver]        4.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File Name]       0.ibs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File Rev] 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Date]     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Source]   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Disclaimer]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Notes]    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Copyright]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Component]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Manufacturer]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Package]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_pkg             0          0    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_pkg             0          0    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pkg             0          0    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Pin] signal_name model_name R_pin L_pin C_pin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   0           0          0     0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0    0           0          0     0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Diff Pin] inv_pin vdiff tdelay_typ tdelay_min tdelay_max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        00      0     0          0   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Model]      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el_type      I/O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inh =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inl =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meas =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ref =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ref =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288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comp               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comp_pullup        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comp_pulldown      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comp_gnd_clamp     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comp_power_clamp   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Temperature Range]  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Voltage Range]      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Pullup Reference]   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Pulldown Reference] 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Gnd Clamp Reference]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Power Clamp Reference]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External Reference]     0   0  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TTgnd]  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TTpower]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Pulldown]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f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Pullup]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f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Gnd Clamp]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f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Power Clamp]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f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0.ibs Problem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I-V tables 0.0 and voltage references 0.0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Waveform tables from 0.0 to 1f, passes waveform check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Redundant V-T tables not checked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All subparameters and text information set to 0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0.ibs – 0 Errors, 0 Warnings 0 Cau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still produces waveform in some tools and errors in other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worth fi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86400" y="121932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amp]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V/dt_r       1f/1f     1f/1f    1f/1f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V/dt_f       1f/1f     1f/1f    1f/1f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_load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ising Waveform]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_fixture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_fixture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fixture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_dut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_dut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dut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f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Rising Waveform]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_fixture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_fixture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fixture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_dut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_dut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dut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f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Falling Waveform]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_fixture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_fixture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fixture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_dut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_dut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_dut=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f 0 0 0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|             &lt;snip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[End]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952880" y="205704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274320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nverse.ib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pired by real IBIS file creation iss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ulldown in [Pullup] table and visa-versa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Vtable2 = Vdd - Vtable1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Gnd Clamp in [Power Clamp] table and visa-versa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Vtable2 = Vdd - Vtable1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ising Waveform in [Falling Waveform] table and visa-versa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Change Rising to Falling and Falling to Rising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larity Invert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Moves “low” state to High, and “high” state to Low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sses IBISCHK4 Version 4.2.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annot fix timing test load Warn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ulations identic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rute force way to avoid the Polarity subparameter!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ange, but technically correct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ormal.ibs and inverse.ib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Pulldown] and [Pullup] Tabl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42670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14800" y="32004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886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3352680"/>
            <a:ext cx="144792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nverse.i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1600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Pullu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5105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Pulldown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29000" y="1981080"/>
            <a:ext cx="838080" cy="914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95320" y="1981080"/>
            <a:ext cx="3049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504960" y="4114440"/>
            <a:ext cx="68580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320" y="4267080"/>
            <a:ext cx="3049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352680"/>
            <a:ext cx="15238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normal.i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ormal.ibs and inverse.ib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Rising/Falling Waveform] Tabl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91320" y="3200400"/>
            <a:ext cx="144756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nverse.i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3657600"/>
            <a:ext cx="1523880" cy="368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ill Sans MT"/>
              </a:rPr>
              <a:t>normal.i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[Rising Wavefo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0" y="251460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3276720"/>
            <a:ext cx="1526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200040" y="2209680"/>
            <a:ext cx="68580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276720"/>
            <a:ext cx="76320" cy="1447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3809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Opposite for [Falling Wavefo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4.2.1 Releas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CHK4 version 4.2.1 comple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ource code deliver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xecutables upload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1 for dos32 (for Windows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4 for Unix (Sun_5, Solaris_6, Solaris_8, HP_11i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2 for linux (Redhat, SUSE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Details in changes_421.txt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jor changes from 7 BUG repo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notonic checks – consistency for all vers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aution flag – Quality Committee addi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Receiver Thresholds] – correct a defec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ther – Model_type Warning to Error, etc.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clu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chk4 Version 4.2.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xes for expected Version 4.2.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thological cases show th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bischk4 does not check everything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EDA tools may trap some funny cas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ome might turn out to be trick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Uncommon, not worth fixing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onotonic – Summations and Note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rnings for non-monotonic summation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.g., [Pullup] and both clamp tables together for driv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or non-driving, both clamps together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lso for Submodel Clamps for the modes of interes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del_type and submodel mode logic consider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s for all individual t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till allows locating the specific problem for analysi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otes are less serious than Warning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 same for IBIS Version 2.0 through 4.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Version 3.2 and below used to give Warnings for each tabl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ampl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IBIS Ver] 3.2 code for combined non-monotonicit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ISCHK4 V4.2.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ecking bug94.ibs for IBIS 3.2 Compatibility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RNING (line   29) - Pulldown Typical data is non-monotonic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RNING (line   29) - Pulldown Minimum data is non-monotonic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RNING (line   29) - Pulldown Maximum data is non-monotonic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s  : 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rnings: 3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ISCHK4 V4.2.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ecking bug94.ibs for IBIS 3.2 Compatibility..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E - Pulldown for Model: BUFFER Typical data is non-monotonic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E - Pulldown for Model: BUFFER Minimum data is non-monotonic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E - Pulldown for Model: BUFFER Maximum data is non-monotonic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s  : 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133720"/>
            <a:ext cx="7543800" cy="228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495680"/>
            <a:ext cx="7543800" cy="19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However … Version 4.2.2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G9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Line numbers not reported in NOT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Post processing change versus first pas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143000" indent="-22860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Restore older Warning code and change to Note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G9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Larger file issue (Notes + Warnings) less than older Warning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Need to understan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he –caution Flag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chk4 –caution syntax for .ibs, .pkg, and .eb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Usage: ibischk4  -caution      &lt;IBS filename&gt;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: ibischk4  -caution -ebd &lt;EBD filename&gt;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: ibischk4  -caution -pkg &lt;PKG filename&gt;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all versions 2.0 through 4.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aceholder for future t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16"/>
                </a:solidFill>
                <a:latin typeface="Gill Sans MT"/>
              </a:rPr>
              <a:t>Caution because real exceptions exist such as with some PCIX models for Vmeas</a:t>
            </a: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IBISCHK4 V4.2.1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Checking bug90.ibs for IBIS 4.2 Compatibility...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CAUTION - Vmeas is &gt;= Vinh for model DATA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Errors  : 0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Cautions: 1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File Passed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133720"/>
            <a:ext cx="541008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4419720"/>
            <a:ext cx="5715000" cy="2133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[Receiver Thresholds] Logic Fix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ral serious def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ombined test for DDRII with [Diff Pin], [Model Selector] and single-end or differential subparameters under [Receiver Thresholds] incorrec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028520" indent="-20556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Practical situation with DDRII and selectable on die terminations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Differential subparameters not allowed when need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028520" indent="-20556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Impossible to put in complete information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028520" indent="-20556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Models with missing information passed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lvl="2" marL="1028520" indent="-205560">
              <a:lnSpc>
                <a:spcPct val="80000"/>
              </a:lnSpc>
              <a:spcBef>
                <a:spcPts val="45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6ecc"/>
                </a:solidFill>
                <a:latin typeface="Gill Sans MT"/>
              </a:rPr>
              <a:t>[Model Selector] indirection not handled</a:t>
            </a:r>
            <a:endParaRPr b="0" lang="en-US" sz="1800" spc="-1" strike="noStrike">
              <a:solidFill>
                <a:srgbClr val="186ecc"/>
              </a:solidFill>
              <a:latin typeface="Gill Sans MT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rning messages used instead of Error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llows existing flawed models to still be loaded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Expect Warning messages with ibischk4 Version 4.2.1 and above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single-ended and differential subparameter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ome DDRII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SB model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UG93 Test – Fixed in Version 4.2.1 with 0 Errors and 0 Warnings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BISCHK4 V4.2.0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hecking bug93.ibs for IBIS 4.2 Compatibility...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FULL Receiver Thresholds: Vth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FULL Receiver Thresholds: Vinh_ac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FULL Receiver Thresholds: Vinl_ac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FULL Receiver Thresholds: Vinh_dc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FULL Receiver Thresholds: Vinl_dc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FULL Receiver Thresholds: Tslew_ac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 - Model DQS_FULL Receiver Thresholds: Vcross_low must no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 - Model DQS_FULL Receiver Thresholds: Vcross_high must no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 - Model DQS_FULL Receiver Thresholds: Vdiff_ac must no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 - Model DQS_FULL Receiver Thresholds: Vdiff_dc must not be specified for single ended 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 - Model DQS_FULL Receiver Thresholds: Tdiffslew_ac must no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HALF Receiver Thresholds: Vth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HALF Receiver Thresholds: Vinh_ac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HALF Receiver Thresholds: Vinl_ac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HALF Receiver Thresholds: Vinh_dc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HALF Receiver Thresholds: Vinl_dc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 - Model DQS_HALF Receiver Thresholds: Tslew_ac mus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 - Model DQS_HALF Receiver Thresholds: Vcross_low must no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 - Model DQS_HALF Receiver Thresholds: Vcross_high must no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 - Model DQS_HALF Receiver Thresholds: Vdiff_ac must no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 - Model DQS_HALF Receiver Thresholds: Vdiff_dc must not be specified for single ended 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 - Model DQS_HALF Receiver Thresholds: Tdiffslew_ac must not be specified for single ended receivers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rrors  : 12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arnings: 10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81880" cy="4952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However … Version 4.2.2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 False Warning Problem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G95:  Incorrect Warnings not in earlier ver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72001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IBISCHK4 V4.2.1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72001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Checking bug95.ibs for IBIS 3.2 Compatibility...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72001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WARNING - Pin A2 is not defined as a Diff Pin though the associated Model Selector INOUT was determined to be Differential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72001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WARNING - Pin B3 is not defined as a Diff Pin though the associated Model Selector INOUT was determined to be Differential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72001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WARNING - Pin Z3 is not defined as a Diff Pin though the associated Model IN was determined to be Differential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72001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WARNING - Pin Z4 is not defined as a Diff Pin though the associated Model IN was determined to be Differential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72001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Errors  : 0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72001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Warnings: 4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720016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16"/>
                </a:solidFill>
                <a:latin typeface="Courier New"/>
              </a:rPr>
              <a:t>File Passed</a:t>
            </a: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2057400"/>
            <a:ext cx="6553440" cy="4038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7-06-01T00:08:45Z</dcterms:modified>
  <cp:revision>668</cp:revision>
  <dc:subject/>
  <dc:title>IBIS</dc:title>
</cp:coreProperties>
</file>