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281-6F59-4CFA-9A01-107C5AF2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96F-2D29-4F0F-BBF5-89321FA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F52-C25D-466C-9E52-CB811AB1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AC9-4EF9-4F84-9DA3-FC3A356A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27E-F3C6-4AFB-A721-B9B3A950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EB86-C099-4112-B9D2-07F246F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FD2D-77A6-4BDF-9432-6375CCFC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927F-098E-4545-8D01-997D5C67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1E5-C85C-4122-B77C-D978857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0FFA-7507-4608-A2A6-E915C4F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371D-C0CD-4111-967B-8C11120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AC9-278F-4AF2-BF43-7C9A313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9854-E022-40CA-806A-4C20892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B3D-5AF9-41FE-BFC3-35849DA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303A-E067-4CFD-9150-5529417A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8B8-71E5-40C1-8421-C818AF10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943-A0DB-4D2E-BAF5-881B10DA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600-DED1-4ED2-9120-8CE2EF5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3FA-E906-418D-9FD5-D58CC0B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0EF-37FB-4D66-933D-20C6D1E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6B4-F91C-463D-9AC8-43B98A6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FC0-9C14-4C0C-829D-C84E3F10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AC3-FF6E-456F-86A1-EA5B9FC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A82-73D8-468F-B256-EA2DA1D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377-7FE6-4550-8565-1C80EE358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351160"/>
          <a:ext cx="34149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51160"/>
                    <a:ext cx="3414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-stds.org/ibi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ia.org/" TargetMode="External"/><Relationship Id="rId2" Type="http://schemas.openxmlformats.org/officeDocument/2006/relationships/hyperlink" Target="http://www.geia.org/index.asp?bid=457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24200" y="699120"/>
            <a:ext cx="691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DAC 20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5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-stds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5A6-8A94-4BDA-B6D8-D4AA9AE891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0360" y="2363760"/>
            <a:ext cx="8381880" cy="15271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6680" y="511920"/>
            <a:ext cx="8649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178080" y="128592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43320" y="272880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258912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50000" y="2587680"/>
            <a:ext cx="180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2948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14440" y="2581200"/>
            <a:ext cx="624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16640" y="257652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81560" y="258768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48240" y="2195640"/>
            <a:ext cx="14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224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000680"/>
            <a:ext cx="814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Cookbook Task Group has been suspended until critical mass of needed changes is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utures and Macromodeling Library groups have been combined into the Advanced Technology 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A vendors comprise Model Review, independently reviewing received models and providing feedback to mode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ors; no specification changes are recommended by this group and it does not hold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" y="4962600"/>
            <a:ext cx="8409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the IBIS Task Groups is open to IBIS members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public a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 are created and Chairs appointed by the IBI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ssues are handled by Ad Hoc teams for BIR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3800" y="274464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D39-043E-4FCF-898C-1FB11F94F5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6560" y="378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Boar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00040" y="134316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1480" y="217008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1480" y="296064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200" y="377820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Model 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8320" y="1157400"/>
            <a:ext cx="336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final approver of specification bal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 Task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Fin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7400" y="12254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9760" y="2162160"/>
            <a:ext cx="438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 in Chair’s abs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acts as US summit registration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8840" y="204480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9360" y="2981160"/>
            <a:ext cx="41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balloting, membership and GEIA 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meeting and summit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86236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7760" y="3882960"/>
            <a:ext cx="35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s on-line model 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68600" y="364824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8120" y="4613400"/>
            <a:ext cx="191304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28760" y="5423040"/>
            <a:ext cx="193212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Post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4880" y="4600440"/>
            <a:ext cx="47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all web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focus on events, specifications, roster 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75080" y="44816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70120" y="542772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IBIS reflectors (IBIS, IBIS-Us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“first responder” to non-list participant 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59240" y="530856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27080" y="4605480"/>
            <a:ext cx="214200" cy="12967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00" y="4822920"/>
            <a:ext cx="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9E9-186F-4D34-9FBE-9051DA2C9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19240" y="33228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947-77F4-4B4A-9829-FC39E22C3C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2720" y="1114200"/>
            <a:ext cx="8591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and Specifica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4.2 now an ANSI standard: ANSI/EIA-656-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CHK4 version 4.2.1 releas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uccessful summits in San Jose, CA and Nice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lanning September events in Beijing and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 and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2006 with positive budget and membership of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2007 renewals and income trends are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23960" y="5413320"/>
            <a:ext cx="7620120" cy="8096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IS continues to be organizationally health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d world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152-F0C1-4FCC-BFBA-39772C03F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8715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69720" y="1859040"/>
            <a:ext cx="8382240" cy="148896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87800" y="1019160"/>
            <a:ext cx="2741400" cy="67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3040" y="22240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6536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32080" y="208440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3800" y="223992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9720" y="2082960"/>
            <a:ext cx="144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884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4160" y="2076480"/>
            <a:ext cx="624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26000" y="2071800"/>
            <a:ext cx="1800" cy="16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0920" y="2082960"/>
            <a:ext cx="144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0" y="1690560"/>
            <a:ext cx="180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1160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5200" y="3295800"/>
            <a:ext cx="86108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You will hear about considerable ATM and Quality progress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Model Review is available to assist you in improving your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terconnect has completed Touchstone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®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pgrad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available on-line and here at the su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submitted to the IBIS Open Forum for June 22, 2007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960" y="5556240"/>
            <a:ext cx="7620120" cy="6858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icipation is encourag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AB8-5C22-4830-ACD4-1049D285B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IRD Queu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23960" y="5603760"/>
            <a:ext cx="7620120" cy="60012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IS 5.0 will be a major adva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480" y="676440"/>
            <a:ext cx="88772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IRDs for IBIS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74.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EM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Power Integrity Analysis using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3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Model Spec] DDR2 Over/Und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97.2/98.1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Gate Modulatio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aft 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ICM-IBIS 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Algorithmic Modeling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osed BIRDS (Draft Text Not Yet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External Model] under [Circuit Ca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User-Defined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SPICE Parameter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5320" y="204840"/>
            <a:ext cx="2468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0F0-86E4-443C-AF42-EDFB42F796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Key Player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640" y="819000"/>
            <a:ext cx="8445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arser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3120" y="1324080"/>
            <a:ext cx="3554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Legend Design*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L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Mentor 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icron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anasonic (Matsushi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amt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gnal Integrity 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il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ilvaco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TMicro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ynop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aspeed Consultin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exas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oshi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li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Zu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0" y="1362240"/>
            <a:ext cx="379080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c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g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gi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nsoft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pache Design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Aplac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Applied Simulation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adence Desig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S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Eric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e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ujitsu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Green Streak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itachi ULSI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Huaw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7040" y="6234120"/>
            <a:ext cx="3234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* non-member parser lice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8AE-29AA-48E4-8395-96D6B0D8B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Key Player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oar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MS PGothic"/>
              </a:rPr>
              <a:t>Syed Huq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MS PGothic"/>
              </a:rPr>
              <a:t>especially for US summit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MS PGothic"/>
              </a:rPr>
              <a:t>Randy Wolff – 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MS PGothic"/>
              </a:rPr>
              <a:t>handling official documents plus EIA/ANSI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MS PGothic"/>
              </a:rPr>
              <a:t>Lance Wang – Model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MS PGothic"/>
              </a:rPr>
              <a:t>keeping our external IBIS model library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MS PGothic"/>
              </a:rPr>
              <a:t>Bob Ross – Postmaster/”Parliamentari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MS PGothic"/>
              </a:rPr>
              <a:t>maintaining reflectors and our institution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4960800"/>
            <a:ext cx="8321760" cy="12081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nd of course to you, the IBIS Communit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anks for another great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CE9-C7FD-4EA0-96C4-2D177C7763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28360" y="3161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ACK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E38-AC60-4EBF-86E4-B758778A0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0360" y="2639880"/>
            <a:ext cx="8381880" cy="149724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560" y="51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Struc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89240" y="428148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880" y="5697360"/>
            <a:ext cx="33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IA is an ANSI-accredited standards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79880" y="1616040"/>
            <a:ext cx="2741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G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2640" y="2521080"/>
            <a:ext cx="0" cy="47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3480" y="3006720"/>
            <a:ext cx="204912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2"/>
              </a:rPr>
              <a:t>SS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  <a:ea typeface="Arial"/>
              </a:rPr>
              <a:t>Systems,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  <a:ea typeface="Arial"/>
              </a:rPr>
              <a:t>&amp; Technolog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6939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0120" y="2778120"/>
            <a:ext cx="5842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375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1280" y="2787480"/>
            <a:ext cx="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0040" y="2998800"/>
            <a:ext cx="204948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Health C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35560" y="3000240"/>
            <a:ext cx="204948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35720" y="2779560"/>
            <a:ext cx="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6960" y="3294000"/>
            <a:ext cx="184608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Homeland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C4B-AD14-47F8-A8AA-A22201FC2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7-06-02T21:24:53Z</dcterms:modified>
  <cp:revision>481</cp:revision>
  <dc:subject>IBIS Summit 2007 at DAC</dc:subject>
  <dc:title>IBIS Chair's Report and Roadmap</dc:title>
</cp:coreProperties>
</file>