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8.wmf" ContentType="image/x-wmf"/>
  <Override PartName="/ppt/media/image17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19.jpeg" ContentType="image/jpeg"/>
  <Override PartName="/ppt/media/image11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3049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504635C-595A-4B2D-82BB-59F91B8DDD4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6200000">
            <a:off x="3200400" y="-1600200"/>
            <a:ext cx="2743200" cy="9144000"/>
          </a:xfrm>
          <a:prstGeom prst="rect">
            <a:avLst/>
          </a:prstGeom>
          <a:solidFill>
            <a:srgbClr val="015f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61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4CC936A-B306-40E0-B23E-DAD874AA23D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09480" y="528480"/>
            <a:ext cx="1444680" cy="763560"/>
            <a:chOff x="609480" y="528480"/>
            <a:chExt cx="1444680" cy="763560"/>
          </a:xfrm>
        </p:grpSpPr>
        <p:sp>
          <p:nvSpPr>
            <p:cNvPr id="45" name=""/>
            <p:cNvSpPr/>
            <p:nvPr/>
          </p:nvSpPr>
          <p:spPr>
            <a:xfrm>
              <a:off x="1016280" y="1035360"/>
              <a:ext cx="65880" cy="249480"/>
            </a:xfrm>
            <a:prstGeom prst="rect">
              <a:avLst/>
            </a:pr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040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8" y="23"/>
                    <a:pt x="51" y="20"/>
                    <a:pt x="42" y="20"/>
                  </a:cubicBezTo>
                  <a:cubicBezTo>
                    <a:pt x="30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1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1" y="0"/>
                  </a:cubicBezTo>
                  <a:cubicBezTo>
                    <a:pt x="50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0520" y="1028880"/>
              <a:ext cx="190800" cy="26316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58" y="24"/>
                  </a:moveTo>
                  <a:cubicBezTo>
                    <a:pt x="57" y="23"/>
                    <a:pt x="51" y="20"/>
                    <a:pt x="42" y="20"/>
                  </a:cubicBezTo>
                  <a:cubicBezTo>
                    <a:pt x="29" y="20"/>
                    <a:pt x="21" y="28"/>
                    <a:pt x="21" y="40"/>
                  </a:cubicBezTo>
                  <a:cubicBezTo>
                    <a:pt x="21" y="51"/>
                    <a:pt x="29" y="60"/>
                    <a:pt x="42" y="60"/>
                  </a:cubicBezTo>
                  <a:cubicBezTo>
                    <a:pt x="51" y="60"/>
                    <a:pt x="57" y="57"/>
                    <a:pt x="58" y="56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6" y="78"/>
                    <a:pt x="49" y="80"/>
                    <a:pt x="40" y="80"/>
                  </a:cubicBezTo>
                  <a:cubicBezTo>
                    <a:pt x="19" y="80"/>
                    <a:pt x="0" y="65"/>
                    <a:pt x="0" y="40"/>
                  </a:cubicBezTo>
                  <a:cubicBezTo>
                    <a:pt x="0" y="17"/>
                    <a:pt x="17" y="0"/>
                    <a:pt x="40" y="0"/>
                  </a:cubicBezTo>
                  <a:cubicBezTo>
                    <a:pt x="49" y="0"/>
                    <a:pt x="56" y="3"/>
                    <a:pt x="58" y="3"/>
                  </a:cubicBezTo>
                  <a:lnTo>
                    <a:pt x="58" y="24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60320" y="1028880"/>
              <a:ext cx="262080" cy="2631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80" y="40"/>
                  </a:moveTo>
                  <a:cubicBezTo>
                    <a:pt x="80" y="62"/>
                    <a:pt x="64" y="80"/>
                    <a:pt x="40" y="80"/>
                  </a:cubicBezTo>
                  <a:cubicBezTo>
                    <a:pt x="16" y="80"/>
                    <a:pt x="0" y="62"/>
                    <a:pt x="0" y="40"/>
                  </a:cubicBezTo>
                  <a:cubicBezTo>
                    <a:pt x="0" y="18"/>
                    <a:pt x="16" y="0"/>
                    <a:pt x="40" y="0"/>
                  </a:cubicBezTo>
                  <a:cubicBezTo>
                    <a:pt x="64" y="0"/>
                    <a:pt x="80" y="18"/>
                    <a:pt x="80" y="40"/>
                  </a:cubicBezTo>
                  <a:moveTo>
                    <a:pt x="40" y="20"/>
                  </a:moveTo>
                  <a:cubicBezTo>
                    <a:pt x="29" y="20"/>
                    <a:pt x="20" y="29"/>
                    <a:pt x="20" y="40"/>
                  </a:cubicBezTo>
                  <a:cubicBezTo>
                    <a:pt x="20" y="51"/>
                    <a:pt x="29" y="60"/>
                    <a:pt x="40" y="60"/>
                  </a:cubicBezTo>
                  <a:cubicBezTo>
                    <a:pt x="51" y="60"/>
                    <a:pt x="60" y="51"/>
                    <a:pt x="60" y="40"/>
                  </a:cubicBezTo>
                  <a:cubicBezTo>
                    <a:pt x="60" y="29"/>
                    <a:pt x="51" y="20"/>
                    <a:pt x="40" y="20"/>
                  </a:cubicBezTo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67480" y="1028880"/>
              <a:ext cx="170640" cy="26316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47" y="19"/>
                  </a:moveTo>
                  <a:cubicBezTo>
                    <a:pt x="47" y="19"/>
                    <a:pt x="38" y="17"/>
                    <a:pt x="32" y="17"/>
                  </a:cubicBezTo>
                  <a:cubicBezTo>
                    <a:pt x="24" y="17"/>
                    <a:pt x="20" y="19"/>
                    <a:pt x="20" y="23"/>
                  </a:cubicBezTo>
                  <a:cubicBezTo>
                    <a:pt x="20" y="28"/>
                    <a:pt x="26" y="29"/>
                    <a:pt x="29" y="30"/>
                  </a:cubicBezTo>
                  <a:cubicBezTo>
                    <a:pt x="34" y="32"/>
                    <a:pt x="34" y="32"/>
                    <a:pt x="34" y="32"/>
                  </a:cubicBezTo>
                  <a:cubicBezTo>
                    <a:pt x="47" y="36"/>
                    <a:pt x="52" y="45"/>
                    <a:pt x="52" y="54"/>
                  </a:cubicBezTo>
                  <a:cubicBezTo>
                    <a:pt x="52" y="73"/>
                    <a:pt x="35" y="80"/>
                    <a:pt x="21" y="80"/>
                  </a:cubicBezTo>
                  <a:cubicBezTo>
                    <a:pt x="10" y="80"/>
                    <a:pt x="1" y="78"/>
                    <a:pt x="0" y="77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2" y="60"/>
                    <a:pt x="10" y="63"/>
                    <a:pt x="18" y="63"/>
                  </a:cubicBezTo>
                  <a:cubicBezTo>
                    <a:pt x="28" y="63"/>
                    <a:pt x="32" y="60"/>
                    <a:pt x="32" y="56"/>
                  </a:cubicBezTo>
                  <a:cubicBezTo>
                    <a:pt x="32" y="52"/>
                    <a:pt x="28" y="49"/>
                    <a:pt x="23" y="48"/>
                  </a:cubicBezTo>
                  <a:cubicBezTo>
                    <a:pt x="22" y="48"/>
                    <a:pt x="21" y="47"/>
                    <a:pt x="19" y="47"/>
                  </a:cubicBezTo>
                  <a:cubicBezTo>
                    <a:pt x="9" y="43"/>
                    <a:pt x="0" y="37"/>
                    <a:pt x="0" y="24"/>
                  </a:cubicBezTo>
                  <a:cubicBezTo>
                    <a:pt x="0" y="10"/>
                    <a:pt x="10" y="0"/>
                    <a:pt x="28" y="0"/>
                  </a:cubicBezTo>
                  <a:cubicBezTo>
                    <a:pt x="37" y="0"/>
                    <a:pt x="46" y="3"/>
                    <a:pt x="47" y="3"/>
                  </a:cubicBezTo>
                  <a:lnTo>
                    <a:pt x="47" y="19"/>
                  </a:lnTo>
                  <a:close/>
                </a:path>
              </a:pathLst>
            </a:custGeom>
            <a:solidFill>
              <a:srgbClr val="b2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9480" y="732960"/>
              <a:ext cx="6192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10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336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4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54360" y="528480"/>
              <a:ext cx="6192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5" y="120"/>
                    <a:pt x="10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28240" y="646920"/>
              <a:ext cx="6192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9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98520" y="732960"/>
              <a:ext cx="65880" cy="128160"/>
            </a:xfrm>
            <a:custGeom>
              <a:avLst/>
              <a:gdLst/>
              <a:ahLst/>
              <a:rect l="l" t="t" r="r" b="b"/>
              <a:pathLst>
                <a:path w="20" h="39">
                  <a:moveTo>
                    <a:pt x="20" y="10"/>
                  </a:moveTo>
                  <a:cubicBezTo>
                    <a:pt x="20" y="4"/>
                    <a:pt x="15" y="0"/>
                    <a:pt x="10" y="0"/>
                  </a:cubicBezTo>
                  <a:cubicBezTo>
                    <a:pt x="5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5" y="39"/>
                    <a:pt x="10" y="39"/>
                  </a:cubicBezTo>
                  <a:cubicBezTo>
                    <a:pt x="15" y="39"/>
                    <a:pt x="20" y="35"/>
                    <a:pt x="20" y="30"/>
                  </a:cubicBezTo>
                  <a:lnTo>
                    <a:pt x="20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7240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4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46280" y="528480"/>
              <a:ext cx="62640" cy="394560"/>
            </a:xfrm>
            <a:custGeom>
              <a:avLst/>
              <a:gdLst/>
              <a:ahLst/>
              <a:rect l="l" t="t" r="r" b="b"/>
              <a:pathLst>
                <a:path w="19" h="120">
                  <a:moveTo>
                    <a:pt x="19" y="9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0" y="116"/>
                    <a:pt x="4" y="120"/>
                    <a:pt x="9" y="120"/>
                  </a:cubicBezTo>
                  <a:cubicBezTo>
                    <a:pt x="15" y="120"/>
                    <a:pt x="19" y="116"/>
                    <a:pt x="19" y="111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7280" y="646920"/>
              <a:ext cx="62640" cy="21420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9"/>
                  </a:moveTo>
                  <a:cubicBezTo>
                    <a:pt x="19" y="4"/>
                    <a:pt x="15" y="0"/>
                    <a:pt x="10" y="0"/>
                  </a:cubicBezTo>
                  <a:cubicBezTo>
                    <a:pt x="5" y="0"/>
                    <a:pt x="0" y="4"/>
                    <a:pt x="0" y="9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0" y="61"/>
                    <a:pt x="5" y="65"/>
                    <a:pt x="10" y="65"/>
                  </a:cubicBezTo>
                  <a:cubicBezTo>
                    <a:pt x="15" y="65"/>
                    <a:pt x="19" y="61"/>
                    <a:pt x="19" y="56"/>
                  </a:cubicBezTo>
                  <a:lnTo>
                    <a:pt x="19" y="9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91520" y="732960"/>
              <a:ext cx="62640" cy="1281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10"/>
                  </a:moveTo>
                  <a:cubicBezTo>
                    <a:pt x="19" y="4"/>
                    <a:pt x="15" y="0"/>
                    <a:pt x="9" y="0"/>
                  </a:cubicBezTo>
                  <a:cubicBezTo>
                    <a:pt x="4" y="0"/>
                    <a:pt x="0" y="4"/>
                    <a:pt x="0" y="1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35"/>
                    <a:pt x="4" y="39"/>
                    <a:pt x="9" y="39"/>
                  </a:cubicBezTo>
                  <a:cubicBezTo>
                    <a:pt x="15" y="39"/>
                    <a:pt x="19" y="35"/>
                    <a:pt x="19" y="30"/>
                  </a:cubicBezTo>
                  <a:lnTo>
                    <a:pt x="19" y="10"/>
                  </a:lnTo>
                  <a:close/>
                </a:path>
              </a:pathLst>
            </a:custGeom>
            <a:solidFill>
              <a:srgbClr val="015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573440" y="1600200"/>
            <a:ext cx="4570560" cy="2743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png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png"/><Relationship Id="rId17" Type="http://schemas.openxmlformats.org/officeDocument/2006/relationships/image" Target="../media/image18.wm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freelists.org/list/ibis-quality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520" y="2557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BIS Quality Re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ogress report of the IBIS Quality Task Gro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BIS Summit Meeting, 5 June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72000"/>
          </a:blip>
          <a:srcRect l="5553" t="11902" r="1482" b="15913"/>
          <a:stretch/>
        </p:blipFill>
        <p:spPr>
          <a:xfrm>
            <a:off x="2244600" y="824040"/>
            <a:ext cx="6890040" cy="493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47760" y="652320"/>
            <a:ext cx="6008760" cy="5364360"/>
          </a:xfrm>
          <a:custGeom>
            <a:avLst/>
            <a:gdLst/>
            <a:ahLst/>
            <a:rect l="l" t="t" r="r" b="b"/>
            <a:pathLst>
              <a:path w="3785" h="3379">
                <a:moveTo>
                  <a:pt x="85" y="3140"/>
                </a:moveTo>
                <a:cubicBezTo>
                  <a:pt x="146" y="3101"/>
                  <a:pt x="249" y="3251"/>
                  <a:pt x="389" y="3112"/>
                </a:cubicBezTo>
                <a:cubicBezTo>
                  <a:pt x="529" y="2973"/>
                  <a:pt x="767" y="2703"/>
                  <a:pt x="923" y="2306"/>
                </a:cubicBezTo>
                <a:cubicBezTo>
                  <a:pt x="1079" y="1909"/>
                  <a:pt x="1173" y="1096"/>
                  <a:pt x="1323" y="727"/>
                </a:cubicBezTo>
                <a:cubicBezTo>
                  <a:pt x="1473" y="358"/>
                  <a:pt x="1661" y="180"/>
                  <a:pt x="1825" y="90"/>
                </a:cubicBezTo>
                <a:cubicBezTo>
                  <a:pt x="1989" y="0"/>
                  <a:pt x="1980" y="178"/>
                  <a:pt x="2306" y="185"/>
                </a:cubicBezTo>
                <a:cubicBezTo>
                  <a:pt x="2632" y="192"/>
                  <a:pt x="3781" y="114"/>
                  <a:pt x="3783" y="131"/>
                </a:cubicBezTo>
                <a:cubicBezTo>
                  <a:pt x="3785" y="148"/>
                  <a:pt x="2629" y="271"/>
                  <a:pt x="2319" y="287"/>
                </a:cubicBezTo>
                <a:cubicBezTo>
                  <a:pt x="2009" y="303"/>
                  <a:pt x="2028" y="204"/>
                  <a:pt x="1920" y="226"/>
                </a:cubicBezTo>
                <a:cubicBezTo>
                  <a:pt x="1812" y="248"/>
                  <a:pt x="1764" y="272"/>
                  <a:pt x="1669" y="422"/>
                </a:cubicBezTo>
                <a:cubicBezTo>
                  <a:pt x="1574" y="572"/>
                  <a:pt x="1443" y="822"/>
                  <a:pt x="1350" y="1127"/>
                </a:cubicBezTo>
                <a:cubicBezTo>
                  <a:pt x="1257" y="1432"/>
                  <a:pt x="1242" y="1906"/>
                  <a:pt x="1113" y="2252"/>
                </a:cubicBezTo>
                <a:cubicBezTo>
                  <a:pt x="984" y="2598"/>
                  <a:pt x="722" y="3023"/>
                  <a:pt x="575" y="3201"/>
                </a:cubicBezTo>
                <a:cubicBezTo>
                  <a:pt x="428" y="3379"/>
                  <a:pt x="322" y="3298"/>
                  <a:pt x="231" y="3322"/>
                </a:cubicBezTo>
                <a:cubicBezTo>
                  <a:pt x="139" y="3346"/>
                  <a:pt x="49" y="3373"/>
                  <a:pt x="24" y="3343"/>
                </a:cubicBezTo>
                <a:cubicBezTo>
                  <a:pt x="0" y="3313"/>
                  <a:pt x="24" y="3179"/>
                  <a:pt x="85" y="3140"/>
                </a:cubicBezTo>
                <a:close/>
              </a:path>
            </a:pathLst>
          </a:custGeom>
          <a:solidFill>
            <a:srgbClr val="efb525"/>
          </a:solidFill>
          <a:ln w="38160">
            <a:solidFill>
              <a:srgbClr val="0183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431640" y="200160"/>
            <a:ext cx="8475840" cy="657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rcRect l="0" t="0" r="12671" b="0"/>
          <a:stretch/>
        </p:blipFill>
        <p:spPr>
          <a:xfrm>
            <a:off x="20520" y="52560"/>
            <a:ext cx="898560" cy="885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1708200" y="2770200"/>
            <a:ext cx="1409760" cy="585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110200" y="5446800"/>
            <a:ext cx="1144440" cy="1069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7577280" y="3530520"/>
            <a:ext cx="1466640" cy="1123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1440" y="2533680"/>
            <a:ext cx="1297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ackag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60320" y="2147760"/>
            <a:ext cx="12531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in] R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27320" y="857160"/>
            <a:ext cx="11235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Diff Pi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83640" y="317520"/>
            <a:ext cx="11692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od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or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1400" y="4579920"/>
            <a:ext cx="1727280" cy="1690920"/>
            <a:chOff x="761400" y="4579920"/>
            <a:chExt cx="1727280" cy="1690920"/>
          </a:xfrm>
        </p:grpSpPr>
        <p:sp>
          <p:nvSpPr>
            <p:cNvPr id="112" name=""/>
            <p:cNvSpPr/>
            <p:nvPr/>
          </p:nvSpPr>
          <p:spPr>
            <a:xfrm>
              <a:off x="762120" y="4627440"/>
              <a:ext cx="1473120" cy="1409760"/>
            </a:xfrm>
            <a:custGeom>
              <a:avLst/>
              <a:gdLst/>
              <a:ahLst/>
              <a:rect l="l" t="t" r="r" b="b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0183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0000" y="5160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520" y="508464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48840" y="474984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400" y="485604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7200" y="53895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24200" y="457992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21120" y="514044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2360" y="58593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0" y="287028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27160" y="220680"/>
            <a:ext cx="14968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cei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64240" y="766800"/>
            <a:ext cx="1518840" cy="4477680"/>
            <a:chOff x="4764240" y="766800"/>
            <a:chExt cx="1518840" cy="4477680"/>
          </a:xfrm>
        </p:grpSpPr>
        <p:sp>
          <p:nvSpPr>
            <p:cNvPr id="124" name=""/>
            <p:cNvSpPr/>
            <p:nvPr/>
          </p:nvSpPr>
          <p:spPr>
            <a:xfrm flipV="1">
              <a:off x="4764240" y="766800"/>
              <a:ext cx="1212120" cy="4345200"/>
            </a:xfrm>
            <a:prstGeom prst="line">
              <a:avLst/>
            </a:prstGeom>
            <a:ln w="7632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070960" y="899640"/>
              <a:ext cx="1212120" cy="4344840"/>
            </a:xfrm>
            <a:prstGeom prst="line">
              <a:avLst/>
            </a:prstGeom>
            <a:ln w="7632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39120" y="481428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35960" y="449568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27040" y="414936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23880" y="383076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2800" y="350568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0000" y="318708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00720" y="284112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97920" y="252252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72800" y="219312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9640" y="187488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60720" y="152856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57560" y="1209960"/>
              <a:ext cx="304560" cy="167400"/>
            </a:xfrm>
            <a:prstGeom prst="line">
              <a:avLst/>
            </a:prstGeom>
            <a:ln w="57240">
              <a:solidFill>
                <a:srgbClr val="b21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660760" y="3645000"/>
            <a:ext cx="111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_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6653160" y="4754520"/>
            <a:ext cx="1581120" cy="1419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7240" y="4378320"/>
            <a:ext cx="594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efb525"/>
                </a:solidFill>
                <a:latin typeface="Arial"/>
              </a:rPr>
              <a:t>Rat</a:t>
            </a:r>
            <a:br>
              <a:rPr sz="1800"/>
            </a:br>
            <a:r>
              <a:rPr b="0" lang="en-US" sz="1800" spc="-1" strike="noStrike">
                <a:solidFill>
                  <a:srgbClr val="efb525"/>
                </a:solidFill>
                <a:latin typeface="Arial"/>
              </a:rPr>
              <a:t>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7935840" y="284040"/>
            <a:ext cx="1174680" cy="12369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420760" y="546120"/>
            <a:ext cx="487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0"/>
          <a:stretch/>
        </p:blipFill>
        <p:spPr>
          <a:xfrm>
            <a:off x="115920" y="6275520"/>
            <a:ext cx="1135080" cy="598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2849400" y="1805040"/>
            <a:ext cx="863640" cy="85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2"/>
          <a:stretch/>
        </p:blipFill>
        <p:spPr>
          <a:xfrm>
            <a:off x="1278000" y="1217520"/>
            <a:ext cx="885600" cy="895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3946680" y="880920"/>
            <a:ext cx="771480" cy="127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73320" y="6202440"/>
            <a:ext cx="16491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Model Spec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516200">
            <a:off x="4617360" y="3738600"/>
            <a:ext cx="26002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Rang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6463400">
            <a:off x="5713560" y="2273760"/>
            <a:ext cx="2004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Rang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6351480"/>
            <a:ext cx="1338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ulldow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75720" y="2706840"/>
            <a:ext cx="10123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Pullu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 flipH="1">
            <a:off x="5361120" y="3814920"/>
            <a:ext cx="428400" cy="13856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 rot="19070400">
            <a:off x="6818040" y="1534680"/>
            <a:ext cx="906480" cy="468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6"/>
          <a:stretch/>
        </p:blipFill>
        <p:spPr>
          <a:xfrm>
            <a:off x="2754360" y="4084560"/>
            <a:ext cx="539640" cy="71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7"/>
          <a:stretch/>
        </p:blipFill>
        <p:spPr>
          <a:xfrm>
            <a:off x="8308800" y="1793880"/>
            <a:ext cx="422280" cy="858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11960" y="4048200"/>
            <a:ext cx="9252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efb525"/>
                </a:solidFill>
                <a:latin typeface="Arial"/>
              </a:rPr>
              <a:t>Symbol</a:t>
            </a:r>
            <a:br>
              <a:rPr sz="1800"/>
            </a:br>
            <a:r>
              <a:rPr b="0" lang="en-US" sz="1800" spc="-1" strike="noStrike">
                <a:solidFill>
                  <a:srgbClr val="efb525"/>
                </a:solidFill>
                <a:latin typeface="Arial"/>
              </a:rPr>
              <a:t>sw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560" y="5337000"/>
            <a:ext cx="97092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m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Regular IQ Meeting Participant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Banas, Xili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hiul Haque, Micr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m Helliwell, LSI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e LaBonte, Cisco Systems,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khard Lenski, Sie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y Leventhal, Leventhal Design &amp;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b Ross, Teraspeed Consult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Brief History</a:t>
            </a: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y Katz started IBIS-Quality in March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1.0 IQ specification completed Octo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Q checklist released Octo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bug 90 submitted and approved August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 bug 94 submitted and approved March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 “IBIS Model Creation &amp; Validation” discusses I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1.1 IQ specification initiated Augus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pecification Version 1.1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4538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Q0 – Not Che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Q1 – Passes IBISCH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Q2 – Suitable for Waveform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Q3 – Suitable for Timing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Q4 – Suitable for Pow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– Simulation cor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– Measurement cor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- 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65" name="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/>
              <a:ahLst/>
              <a:rect l="l" t="t" r="r" b="b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0183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b21a1a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Q Check Example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9120" y="1441440"/>
            <a:ext cx="86346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lvl="2" marL="9144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2.5  {LEVEL 3}  [Pin] RLC parasitics are present and reas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LEVEL 2 model, pin parasitics are optional, but they are mandatory for a LEVEL 3 model (that is, a model suitable for timing). To pass this check the RLC values must be present for all signal pins in the [Pin] section, or [Package Model] must be present. Pin parasitics should either be measured or extracted using a 2D or 3D solver. Reasonable signal pin parasitics will result in impedance and delay characteristics that fall in the r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 = SQRT(LC)   &lt; 300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0 = SQRT(L/C)  &lt; 100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IQ check 3.1.2. also requires that each [Pin] RLC value falls within the min/max range as given by the [Package] keyword. The [Package] keyword can be adjusted to accommo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Current Activitie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n feature-selective validation for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ing IQ che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ing to new level number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e documented to avoid future con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reviewed check 3.3.4, end of [Diff Pin]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ed ahead to discussion of [Receiver Threshol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473960" y="2724120"/>
            <a:ext cx="885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Summary of 1.1 Review Progress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200" y="1520640"/>
            <a:ext cx="6216840" cy="487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0 General Header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8 checks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0 Componen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19 checks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0 Model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68 checks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0 Possible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rework, maybe a nam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0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and Roy working o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0 Model Limitations and Model Maker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946920" y="1374840"/>
            <a:ext cx="15606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0183b7"/>
                </a:solidFill>
                <a:latin typeface="Arial"/>
              </a:rPr>
              <a:t>IBIS Quality Task Group</a:t>
            </a:r>
            <a:endParaRPr b="1" lang="en-US" sz="3200" spc="-1" strike="noStrike">
              <a:solidFill>
                <a:srgbClr val="0183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415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83a2cf"/>
                </a:solidFill>
                <a:uFillTx/>
                <a:latin typeface="Arial"/>
                <a:hlinkClick r:id="rId1"/>
              </a:rPr>
              <a:t>http://www.vhdl.org/pub/ibis/quality_w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 u="sng">
                <a:solidFill>
                  <a:srgbClr val="83a2cf"/>
                </a:solidFill>
                <a:uFillTx/>
                <a:latin typeface="Arial"/>
                <a:hlinkClick r:id="rId2"/>
              </a:rPr>
              <a:t>http://www.freelists.org/list/ibis-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1:35:19Z</dcterms:created>
  <dc:creator>Mike LaBonte</dc:creator>
  <dc:description/>
  <dc:language>en-US</dc:language>
  <cp:lastModifiedBy>Mike LaBonte</cp:lastModifiedBy>
  <dcterms:modified xsi:type="dcterms:W3CDTF">2007-05-31T20:37:05Z</dcterms:modified>
  <cp:revision>33</cp:revision>
  <dc:subject/>
  <dc:title>IBIS Quality Report</dc:title>
</cp:coreProperties>
</file>