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AB6-49B6-4038-BD5D-303DC992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080-BB43-4304-A618-0AA9CC61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8A8-EE3A-4F60-B282-56BF21F9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BBE-F758-45D8-A450-82C35C3C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759E-79E9-4F22-9D25-45124720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C2D8-2C2A-4D43-BC7A-F0E10039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4B9C-F5CA-4B78-BB17-04F0F7A6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6229-DFF1-4EDA-BAC1-42CC5F27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D6E3-1A00-4D9E-93FE-F6CC4DD7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320400"/>
            <a:ext cx="867744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B384-8359-4A8B-BAEA-B59F6534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728C-163A-4B47-8C58-A0BEF5F7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A07-D6DE-4B2E-9DF5-8661E09B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B717-CA71-4C3B-97C7-423BB686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DBF1-1CE9-4B4C-9436-AA3D4CFF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142D-F380-47CD-92FD-8DA409A0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CD62-4F2D-4B3D-B588-B252DBD1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B7A3-86C9-4E41-8540-A4649232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192-A453-4120-B594-CA4CB852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33A-5938-49E3-A549-73C9AA03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6F5-DAB2-40DD-99F3-038F46E1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20400"/>
            <a:ext cx="867744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1D07-DA11-46DE-B133-2BD9A309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104-B879-4003-8123-527B7E05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8E3-9E75-40A7-9021-468CAED6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64B-CC26-44DB-8B87-2B790C1F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6D29-E6A9-4C10-9E93-36128522D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flipH="1">
            <a:off x="228240" y="2590920"/>
            <a:ext cx="2730600" cy="32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4080" y="984240"/>
            <a:ext cx="86659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-sponsor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BIS Open Forum, Mentor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00 AM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reshments &amp; Sig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30 AM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elcome to Sum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trod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pens for Issues, Discussion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45 AM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 Chair’s Report and Road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hael Mirmak, Intel 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00 PM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 Qualit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15 AM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uring IBIS-to-SPICE Correlation Using Waveform Me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d Banas, Xilinx 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45 AM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CHK4 Version 4.2.1 and Funny IBIS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 Ross, Teraspeed Consult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714240" y="181080"/>
            <a:ext cx="7524720" cy="79992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NDA, IBIS SUMMIT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5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82C-EF49-4AA2-ABF0-7FE1B0A6A3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44000" y="1355760"/>
            <a:ext cx="8666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15 AM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30 AM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on Initial Time Delay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ce Wang, IO 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:00 AM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elation of Model Simulations and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hods of Quantifying Data Corre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y Leventhal, Leventhal Designs and David Banas, Xilinx 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:45 AM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ion of Offic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:00 PM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CH - Pre-registration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00 PM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an IBIS Summit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 Ross, Teraspeed Consult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15 PM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terfacing “2N” and “N+ref” Behavioral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 Chitwood, Sig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714240" y="181080"/>
            <a:ext cx="7524720" cy="79992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NDA, IBIS SUMMIT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5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684-C0F8-400F-B19B-26ECC92FF9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4080" y="1002960"/>
            <a:ext cx="86659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45 PM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3S Propos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ICE Superset Specification for Behavioral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Mirmak, Intel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15 PM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*-AM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ad Muranyi, Intel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45 PM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00 PM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IS-ATM Update: SerDes Modeling and I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d Westerhoff, Signal Integrity Software (SiSo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:00 PM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/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:55 PM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ding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ext Open Forum Meeting: June 22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00 PM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IBIS Summit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714240" y="181080"/>
            <a:ext cx="7515360" cy="80964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NDA, IBIS SUMMIT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5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732-1919-4588-8D9C-13D7128757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7-06-02T21:31:19Z</dcterms:modified>
  <cp:revision>392</cp:revision>
  <dc:subject>DAC IBIS Summit 2006</dc:subject>
  <dc:title>IBIS Chair's Report and Roadmap</dc:title>
</cp:coreProperties>
</file>