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1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7623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888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527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B13F487-63F0-4FA0-90C6-29E9EC71C1FD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42D2D89-A692-4CAC-9446-BF15A04B2E2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6458116-5FD4-4072-ABA8-AAE37A18BC7A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861920" y="6634080"/>
            <a:ext cx="20257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05B536C-5B73-442B-8D64-53828698026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61920" y="6634080"/>
            <a:ext cx="20257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1,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466320"/>
            <a:ext cx="1322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Session Num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Presentation_I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6516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ase with input pattern of HHHH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5240" y="1779480"/>
          <a:ext cx="4359240" cy="43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5240" y="1779480"/>
                    <a:ext cx="435924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89000" y="1751040"/>
          <a:ext cx="430200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1751040"/>
                    <a:ext cx="430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073240" y="1455840"/>
            <a:ext cx="8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41480" y="1468440"/>
            <a:ext cx="706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33560" y="3665520"/>
            <a:ext cx="997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31120" y="3678120"/>
            <a:ext cx="640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4880" y="274968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00560" y="268596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99040" y="479412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28560" y="400680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656240" y="1730520"/>
          <a:ext cx="4487760" cy="45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6240" y="1730520"/>
                    <a:ext cx="448776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0" y="1695600"/>
          <a:ext cx="4491000" cy="45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95600"/>
                    <a:ext cx="44910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ase with input pattern of HHH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96920" y="1455840"/>
            <a:ext cx="8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82680" y="1430280"/>
            <a:ext cx="706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20960" y="3843360"/>
            <a:ext cx="997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86800" y="3754440"/>
            <a:ext cx="640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4880" y="274968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94400" y="245736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76880" y="466740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59040" y="512460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4643280" y="1773360"/>
          <a:ext cx="450072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73360"/>
                    <a:ext cx="45007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0" y="1778040"/>
          <a:ext cx="459252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78040"/>
                    <a:ext cx="45925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ase with input pattern of HHL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73240" y="1455840"/>
            <a:ext cx="8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82680" y="1430280"/>
            <a:ext cx="706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3817800"/>
            <a:ext cx="997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10480" y="3843360"/>
            <a:ext cx="640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6080" y="291456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4400" y="245736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76880" y="466740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499752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4643280" y="1770120"/>
          <a:ext cx="450072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70120"/>
                    <a:ext cx="450072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0" y="1778040"/>
          <a:ext cx="4491000" cy="445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78040"/>
                    <a:ext cx="44910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ase with input pattern of HLL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73240" y="1455840"/>
            <a:ext cx="8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82680" y="1430280"/>
            <a:ext cx="706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8000" y="3817800"/>
            <a:ext cx="997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10480" y="3843360"/>
            <a:ext cx="640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46080" y="291456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94400" y="245736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76880" y="466740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1640" y="499752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4643280" y="1758960"/>
          <a:ext cx="450072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58960"/>
                    <a:ext cx="450072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1779480"/>
          <a:ext cx="449100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79480"/>
                    <a:ext cx="44910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ase with input pattern of LLL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73240" y="1455840"/>
            <a:ext cx="8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82680" y="1430280"/>
            <a:ext cx="706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3817800"/>
            <a:ext cx="997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10480" y="3843360"/>
            <a:ext cx="640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17480" y="191124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94400" y="245736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76880" y="466740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84240" y="5099040"/>
            <a:ext cx="172440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___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SP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Arial"/>
              </a:rPr>
              <a:t>----- IBIS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ff00"/>
                </a:solidFill>
                <a:latin typeface="Arial"/>
              </a:rPr>
              <a:t>_ _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IBIS+BIRD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9600" y="1638000"/>
            <a:ext cx="8420040" cy="3902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 algn="just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lti-buffer SSN simulation can be handled by using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 BIRD9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BIRD9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the IBIS model matches the HSPICE model very well for all simulated ca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-ideal load can be handled well by 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BIRD9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 up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vsT, IvsT* and IvsT**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’s impact of external load on IvsT, IvsT* and IvsT**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1976400"/>
            <a:ext cx="4748040" cy="4165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687920" y="2009880"/>
            <a:ext cx="4456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sT*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914480"/>
            <a:ext cx="4494240" cy="417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24480" y="1986120"/>
            <a:ext cx="46195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sT*=IvsT-IvsT*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080" y="3124080"/>
            <a:ext cx="818028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-buffer SSN Simulation using BIRD95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76280" y="42858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hiping Yang, Il-young Park, Syed Huq, Vinu Arumugh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W-Interconnects and Packag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Systems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DAC Summi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 Design Automation Con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4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external load on IvsT, IvsT* and IvsT*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760" y="1413000"/>
            <a:ext cx="8224560" cy="5209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der ideal power supply condition, the external load has impact on IvsT, IvsT* and IvsT**. 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nce IvsT* is the difference between IvsT and IvsT**,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BIRD95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 compensate missed current components in existing IBIS simulators.  (IvsT* and IvsT** can be different among different EDA tool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der nonideal power supply condition, IvsT* can be adjust accordingly to model the first-order effects.  ( RvsT, ZvsT, CvsT and similar proposal as BIRD98 can be use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accurate loading dependent xbar current is the major reason behind the different IvsT* under different load condition.  This issue can be solved by future BIRD.  The new BIRD and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 BIRD95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will not conflict since the new bird will only improve the accuracy in IvsT**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627360" y="2987640"/>
            <a:ext cx="127944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rcRect l="24169" t="24446" r="23335" b="23333"/>
          <a:stretch/>
        </p:blipFill>
        <p:spPr>
          <a:xfrm>
            <a:off x="2209680" y="16765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Key Points in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IRD95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buffer SSN 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749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8299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the key points in BIRD95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7000"/>
          </a:bodyPr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ed [Composite Current] keyword to represent the total current flow through buffer VDDQ no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d Series Model Type keywords for On-die parasitic associated with VDDQ (possibly ICM model can be used in the futur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ate Modulation will be address by BIRD97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-bar current could possibly be addressed by another BI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BIRD9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mplementation Schema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9560" y="2009880"/>
          <a:ext cx="543240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2009880"/>
                    <a:ext cx="543240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540040" y="3551400"/>
            <a:ext cx="861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/O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13440" y="5683320"/>
            <a:ext cx="1062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ND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9880" y="1835280"/>
            <a:ext cx="1215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DDQ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639960"/>
            <a:ext cx="806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49200" y="2408400"/>
            <a:ext cx="578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88840" y="2496960"/>
            <a:ext cx="984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O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28720" y="4541760"/>
            <a:ext cx="692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s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11480" y="3987720"/>
            <a:ext cx="311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34000" y="3322800"/>
            <a:ext cx="5644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34360" y="4541760"/>
            <a:ext cx="541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8920" y="1835280"/>
            <a:ext cx="422280" cy="14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65360" y="1576440"/>
            <a:ext cx="1073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0" y="24969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83320" y="2048040"/>
            <a:ext cx="29268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: B-elemen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: B + Ivs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3: B+IvsT*+Z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6031080"/>
            <a:ext cx="459252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IvsT* is different with IvsT table in BIRD95, but it is derived from Ivs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02680" y="4383000"/>
            <a:ext cx="698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_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5200" y="2182680"/>
            <a:ext cx="2976840" cy="369576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of IvsT and Z_VDD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428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vsT is the total current from the VDDQ which is connected to ideal DC voltage sourc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 IvsT tables (3 different I/O loadings associated with rising/falling edges) are not required, but recommend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_VDDQ is the frequency-dependent impedance derived with the correct DC voltage applied at VDDQ pin and open-load condi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624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_VDDQ information is proposed to be provided through ICM mod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sT* and parasit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24560" cy="4952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vsT*=IvsT (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BIRD95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table)-IvsT**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vsT** is the total current from the VDDQ by using existing IBIS model with Z_VDDQ connected in parallel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l currents here are under ideal power supply and standard loading conditions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wo sets of IvsT* associated with rising and falling edge were derived by averaging different loading conditions in our examples.  More complicated model could be derived from 6 IvsT* tables to compensate the load variation effect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SR, ESL, C and R_dc can be extracted from Z_VDDQ to match the impedance in frequency domai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ESR, ESL, C and R_dc is just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on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xample of the possible circuits to match Z_VDDQ.  It could cover majority I/O buffers’ on-die parasitic component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buffer SSN Sim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 impedance-controlled 1.8V HSTL output buffer is used as an exa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BIS model is extracted from HSPICE transistor model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SPICE B-element is used to simulate the IBIS mod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BIRD95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IvsT  info is implemented with ideal current source 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rallel with B-ele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 identical buffers are used to simulate the SSN noi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 different switching modes are studie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12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n-standard load (6” 50Ohm transmission line with 5pF and 50Ohm resistor to VDDQ/2 at receiver) is used in simulation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flipV="1">
            <a:off x="5145120" y="1762200"/>
            <a:ext cx="1190520" cy="1611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959120" y="3381480"/>
            <a:ext cx="1160280" cy="1698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5280" y="1800360"/>
            <a:ext cx="3672000" cy="1675800"/>
            <a:chOff x="2825280" y="1800360"/>
            <a:chExt cx="3672000" cy="1675800"/>
          </a:xfrm>
        </p:grpSpPr>
        <p:sp>
          <p:nvSpPr>
            <p:cNvPr id="123" name=""/>
            <p:cNvSpPr/>
            <p:nvPr/>
          </p:nvSpPr>
          <p:spPr>
            <a:xfrm flipH="1" rot="5400000">
              <a:off x="2710800" y="2410920"/>
              <a:ext cx="761400" cy="53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30200" y="1850760"/>
              <a:ext cx="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6160" y="2844720"/>
              <a:ext cx="0" cy="6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58800" y="2678040"/>
              <a:ext cx="30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7400" y="2525760"/>
              <a:ext cx="2210040" cy="30420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66960" y="2800440"/>
              <a:ext cx="1461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2720" y="2870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92720" y="3011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37000" y="2068560"/>
              <a:ext cx="246240" cy="46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56160" y="254124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1760" y="3033720"/>
              <a:ext cx="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6160" y="18003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00720" y="2611440"/>
              <a:ext cx="101520" cy="11556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schema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447640" y="2263680"/>
            <a:ext cx="3672000" cy="1676520"/>
            <a:chOff x="2447640" y="2263680"/>
            <a:chExt cx="3672000" cy="1676520"/>
          </a:xfrm>
        </p:grpSpPr>
        <p:sp>
          <p:nvSpPr>
            <p:cNvPr id="138" name=""/>
            <p:cNvSpPr/>
            <p:nvPr/>
          </p:nvSpPr>
          <p:spPr>
            <a:xfrm flipH="1" rot="5400000">
              <a:off x="2332800" y="2874960"/>
              <a:ext cx="761760" cy="53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52560" y="2314440"/>
              <a:ext cx="0" cy="6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38520" y="3308400"/>
              <a:ext cx="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81160" y="3141720"/>
              <a:ext cx="30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9760" y="2989440"/>
              <a:ext cx="2210040" cy="3045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89320" y="3264120"/>
              <a:ext cx="146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15080" y="3333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15080" y="3475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59360" y="2532240"/>
              <a:ext cx="24624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978520" y="3005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4120" y="3497400"/>
              <a:ext cx="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78520" y="22636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3080" y="3075120"/>
              <a:ext cx="101520" cy="11592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34720" y="2822400"/>
            <a:ext cx="3672000" cy="1676520"/>
            <a:chOff x="2034720" y="2822400"/>
            <a:chExt cx="3672000" cy="1676520"/>
          </a:xfrm>
        </p:grpSpPr>
        <p:sp>
          <p:nvSpPr>
            <p:cNvPr id="152" name=""/>
            <p:cNvSpPr/>
            <p:nvPr/>
          </p:nvSpPr>
          <p:spPr>
            <a:xfrm flipH="1" rot="5400000">
              <a:off x="1919880" y="3433680"/>
              <a:ext cx="761760" cy="5331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39640" y="2873160"/>
              <a:ext cx="0" cy="6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25600" y="3867120"/>
              <a:ext cx="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68240" y="3700440"/>
              <a:ext cx="30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96840" y="3548160"/>
              <a:ext cx="2210040" cy="3045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76400" y="3822840"/>
              <a:ext cx="146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2160" y="389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02160" y="403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46440" y="3090960"/>
              <a:ext cx="24624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565600" y="35640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51200" y="4056120"/>
              <a:ext cx="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5600" y="282240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10160" y="3633840"/>
              <a:ext cx="101520" cy="115920"/>
            </a:xfrm>
            <a:prstGeom prst="ellips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50600" y="3379680"/>
            <a:ext cx="3672000" cy="1676520"/>
            <a:chOff x="1650600" y="3379680"/>
            <a:chExt cx="3672000" cy="1676520"/>
          </a:xfrm>
        </p:grpSpPr>
        <p:sp>
          <p:nvSpPr>
            <p:cNvPr id="166" name=""/>
            <p:cNvSpPr/>
            <p:nvPr/>
          </p:nvSpPr>
          <p:spPr>
            <a:xfrm flipH="1" rot="5400000">
              <a:off x="1535760" y="3990960"/>
              <a:ext cx="761760" cy="533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55520" y="3430440"/>
              <a:ext cx="0" cy="67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41480" y="4424400"/>
              <a:ext cx="0" cy="63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84120" y="4257720"/>
              <a:ext cx="30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2720" y="4105440"/>
              <a:ext cx="2210040" cy="3045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1200" y="4380120"/>
              <a:ext cx="19771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” 50-Ohm T-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18040" y="4449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18040" y="4591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62320" y="3648240"/>
              <a:ext cx="24624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181480" y="4121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67080" y="4613400"/>
              <a:ext cx="0" cy="43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81480" y="337968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26040" y="4191120"/>
              <a:ext cx="1015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5165640" y="3424320"/>
            <a:ext cx="1190880" cy="1611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49400" y="5075280"/>
            <a:ext cx="0" cy="318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75360" y="4971960"/>
            <a:ext cx="0" cy="3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27360" y="5384160"/>
            <a:ext cx="231480" cy="245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056200" y="5276160"/>
            <a:ext cx="231840" cy="245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30320" y="1366920"/>
            <a:ext cx="6303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60280" y="2795760"/>
            <a:ext cx="462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55000" y="2728800"/>
            <a:ext cx="536400" cy="55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82800" y="2657520"/>
            <a:ext cx="2811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04720" y="2738520"/>
            <a:ext cx="810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DDQ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2400" y="1779480"/>
            <a:ext cx="10987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408800" y="1775880"/>
            <a:ext cx="30240" cy="9478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50040" y="3460680"/>
            <a:ext cx="1060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415280" y="3287880"/>
            <a:ext cx="7920" cy="18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5720" y="1609560"/>
            <a:ext cx="696960" cy="397080"/>
          </a:xfrm>
          <a:custGeom>
            <a:avLst/>
            <a:gdLst/>
            <a:ahLst/>
            <a:rect l="l" t="t" r="r" b="b"/>
            <a:pathLst>
              <a:path w="951" h="378">
                <a:moveTo>
                  <a:pt x="0" y="202"/>
                </a:moveTo>
                <a:cubicBezTo>
                  <a:pt x="56" y="101"/>
                  <a:pt x="113" y="0"/>
                  <a:pt x="146" y="29"/>
                </a:cubicBezTo>
                <a:cubicBezTo>
                  <a:pt x="179" y="58"/>
                  <a:pt x="169" y="374"/>
                  <a:pt x="201" y="376"/>
                </a:cubicBezTo>
                <a:cubicBezTo>
                  <a:pt x="233" y="378"/>
                  <a:pt x="300" y="41"/>
                  <a:pt x="338" y="38"/>
                </a:cubicBezTo>
                <a:cubicBezTo>
                  <a:pt x="376" y="35"/>
                  <a:pt x="399" y="359"/>
                  <a:pt x="429" y="358"/>
                </a:cubicBezTo>
                <a:cubicBezTo>
                  <a:pt x="459" y="357"/>
                  <a:pt x="486" y="30"/>
                  <a:pt x="521" y="29"/>
                </a:cubicBezTo>
                <a:cubicBezTo>
                  <a:pt x="556" y="28"/>
                  <a:pt x="605" y="351"/>
                  <a:pt x="640" y="349"/>
                </a:cubicBezTo>
                <a:cubicBezTo>
                  <a:pt x="675" y="347"/>
                  <a:pt x="698" y="21"/>
                  <a:pt x="731" y="19"/>
                </a:cubicBezTo>
                <a:cubicBezTo>
                  <a:pt x="764" y="17"/>
                  <a:pt x="804" y="313"/>
                  <a:pt x="841" y="339"/>
                </a:cubicBezTo>
                <a:cubicBezTo>
                  <a:pt x="878" y="365"/>
                  <a:pt x="896" y="205"/>
                  <a:pt x="951" y="17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21000" y="1817640"/>
            <a:ext cx="66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5680" y="1712880"/>
            <a:ext cx="493920" cy="18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86080" y="1811160"/>
            <a:ext cx="269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2720" y="1795320"/>
            <a:ext cx="387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1040" y="2720880"/>
            <a:ext cx="536760" cy="550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8840" y="2649600"/>
            <a:ext cx="2811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11280"/>
            <a:ext cx="6606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DD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65200" y="1767960"/>
            <a:ext cx="30240" cy="947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00" y="5064120"/>
            <a:ext cx="1351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579240" y="3279240"/>
            <a:ext cx="6120" cy="1792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0320" y="1432080"/>
            <a:ext cx="9208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1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80000" y="2170080"/>
            <a:ext cx="92088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O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31840" y="426708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0600" y="372420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65240" y="314316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30280" y="267804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30320" y="1798560"/>
            <a:ext cx="1190880" cy="161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6320" y="4152960"/>
            <a:ext cx="477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9560" y="4095720"/>
            <a:ext cx="438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08080" y="3549600"/>
            <a:ext cx="438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87520" y="2955960"/>
            <a:ext cx="438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92520" y="2506680"/>
            <a:ext cx="438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8800" y="3565440"/>
            <a:ext cx="477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36120" y="2990880"/>
            <a:ext cx="477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63000" y="2519280"/>
            <a:ext cx="477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09960" y="5587920"/>
          <a:ext cx="5526000" cy="812880"/>
        </p:xfrm>
        <a:graphic>
          <a:graphicData uri="http://schemas.openxmlformats.org/drawingml/2006/table">
            <a:tbl>
              <a:tblPr/>
              <a:tblGrid>
                <a:gridCol w="920520"/>
                <a:gridCol w="920880"/>
                <a:gridCol w="922320"/>
                <a:gridCol w="920880"/>
                <a:gridCol w="920520"/>
                <a:gridCol w="920880"/>
              </a:tblGrid>
              <a:tr h="4690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date pat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52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H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 flipH="1" flipV="1">
            <a:off x="2228760" y="4266720"/>
            <a:ext cx="209520" cy="876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59880" y="4998960"/>
            <a:ext cx="706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81560" y="4324320"/>
            <a:ext cx="743040" cy="704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8520" y="5075280"/>
            <a:ext cx="640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95480" y="1504800"/>
            <a:ext cx="74304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17000" y="1341360"/>
            <a:ext cx="1837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DDQ &amp; I_vdd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isco Systems, Inc.</cp:lastModifiedBy>
  <cp:lastPrinted>2002-03-20T01:11:19Z</cp:lastPrinted>
  <dcterms:modified xsi:type="dcterms:W3CDTF">2005-06-11T17:33:30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3384015</vt:r8>
  </property>
  <property fmtid="{D5CDD505-2E9C-101B-9397-08002B2CF9AE}" pid="3" name="_AuthorEmail">
    <vt:lpwstr>zhiping@cisco.com</vt:lpwstr>
  </property>
  <property fmtid="{D5CDD505-2E9C-101B-9397-08002B2CF9AE}" pid="4" name="_AuthorEmailDisplayName">
    <vt:lpwstr>Zhiping Yang (zhiping)</vt:lpwstr>
  </property>
  <property fmtid="{D5CDD505-2E9C-101B-9397-08002B2CF9AE}" pid="5" name="_EmailSubject">
    <vt:lpwstr>Cadence presentation for BIRD95</vt:lpwstr>
  </property>
  <property fmtid="{D5CDD505-2E9C-101B-9397-08002B2CF9AE}" pid="6" name="_NewReviewCycle">
    <vt:lpwstr/>
  </property>
  <property fmtid="{D5CDD505-2E9C-101B-9397-08002B2CF9AE}" pid="7" name="_PreviousAdHocReviewCycleID">
    <vt:r8>20488283</vt:r8>
  </property>
</Properties>
</file>