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6CA1-F830-42BC-A486-B626C9B7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BF5F-098E-48F9-84F3-47421FC0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A561-57B6-4CC8-ACB4-71936BD5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043-B783-42D8-A6D3-29B204A54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side could be that every designer could come up with different value for the para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9800-3A34-4AB9-AE60-ECF0D7CAC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C172-E534-4106-AA81-C8C5634BA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B186-AE93-4221-A411-CC24FBED5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DDA5-80C7-44E4-B62C-DFB2B887D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D20A-972B-45E8-9734-FC999B12BB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5688-6AB7-4539-A170-01DD4A861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9B08-8D8A-4BC0-8872-2713DF2DB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D642-5906-4B3F-BE56-D744B00C6E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CDBD-CB76-44E3-B9F1-B3CE17DD44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B648-FB2C-489B-B071-260D28204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F1D8-5E43-4CB0-B5BE-B343F4A2F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685D-97CD-48A7-989B-0C60D2F8E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301B-0976-4C0C-986E-3B90625D90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1CC1-C5A7-43D0-8D74-F71BA49AE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0E86-4EBC-4568-B200-92B26B9FA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65FE-60E2-4FEB-98DB-56FE52FFB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AF6D-3816-4C99-9E66-68A2A9180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8876-391D-4F45-9C79-CC871952A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690C-E862-4262-B44C-57C2B77C2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B853-7A8B-4044-BCF2-C8070A07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B5FE-0E85-43E0-A289-0A540D166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D250-044F-4990-BF2D-6E565E51D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AF36-2A91-4BFF-83BB-719B34C3A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918C-64E9-431B-A7ED-F9B744450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8531-F711-4C51-8DC0-D784BB4E100D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42040" y="6443640"/>
            <a:ext cx="336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CADENCE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CADENCE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CA8-415E-4490-A987-C52B24BFB863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ower Integrity Proposal Regarding BIRD 95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4730760"/>
            <a:ext cx="6719760" cy="851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n Willis, Lance Wa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dence Design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C IBIS Sum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A2A7-7208-4510-8F51-547F89554091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Part Two – Study:</a:t>
            </a:r>
            <a:br>
              <a:rPr sz="2300"/>
            </a:b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Is [Composite Current] good enough for improving PI/SSN simulation results using IBIS?</a:t>
            </a:r>
            <a:endParaRPr b="1" lang="en-US" sz="23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c Curren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[Composite Current] good enough for PI/SSN simulation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Bounce Curr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s. Time Table (IT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file in Single (Individual) condition vs. in Multiple driver (network) condi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85E2-2568-4F02-A78F-38E2BB54D28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19480" y="3211560"/>
            <a:ext cx="312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tatic Currents 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95360" y="2448000"/>
            <a:ext cx="1117800" cy="1400040"/>
            <a:chOff x="1395360" y="2448000"/>
            <a:chExt cx="1117800" cy="1400040"/>
          </a:xfrm>
        </p:grpSpPr>
        <p:sp>
          <p:nvSpPr>
            <p:cNvPr id="116" name=""/>
            <p:cNvSpPr/>
            <p:nvPr/>
          </p:nvSpPr>
          <p:spPr>
            <a:xfrm flipV="1">
              <a:off x="1630440" y="2448000"/>
              <a:ext cx="1440" cy="53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5360" y="2857680"/>
              <a:ext cx="863640" cy="99036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259000" y="3402000"/>
              <a:ext cx="254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1649520" y="3692520"/>
            <a:ext cx="1440" cy="534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6480" y="2352600"/>
            <a:ext cx="0" cy="51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6480" y="3868560"/>
            <a:ext cx="0" cy="379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32600" y="1843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5600" y="43084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11440" y="29368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9640" y="384984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56440" y="2108160"/>
            <a:ext cx="1882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Assump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19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Stat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19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Individual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19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192bf"/>
                </a:solidFill>
                <a:latin typeface="Arial"/>
              </a:rPr>
              <a:t>Known I</a:t>
            </a:r>
            <a:r>
              <a:rPr b="0" lang="en-US" sz="1200" spc="-1" strike="noStrike">
                <a:solidFill>
                  <a:srgbClr val="0192b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9720" y="4668840"/>
            <a:ext cx="2696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 – Total current from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 – Total current to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– Current to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4724-A0EA-4CC3-A60E-2CB9C780E7C7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Test Setup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Sp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ulations with transistor level mode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ests for a 1.8v single end, serial structure (4 cells back to back), no internal feedback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ingle Driver alone and in a Multi-Driver Network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Multiple Drivers in Network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oads: 50, 100 and 250 Ohm to Node 0, “Pure” Resist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timulus: PULSE ( 0 1 -3.33333e-016 2.95e-009 2.98667e-009 3.71667e-009 1.33333e-008 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ower Parasitics: L (2nH) and C (2p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Ground Parasitics: L (2nH) and C (2p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D810-1F3F-4A28-830C-8D0A720865B6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ngle Driver Cas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11400" y="2162160"/>
            <a:ext cx="709200" cy="1218960"/>
            <a:chOff x="2111400" y="2162160"/>
            <a:chExt cx="709200" cy="1218960"/>
          </a:xfrm>
        </p:grpSpPr>
        <p:sp>
          <p:nvSpPr>
            <p:cNvPr id="132" name=""/>
            <p:cNvSpPr/>
            <p:nvPr/>
          </p:nvSpPr>
          <p:spPr>
            <a:xfrm>
              <a:off x="2114640" y="271296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1400" y="278640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2278800" y="2795760"/>
              <a:ext cx="1440" cy="3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275200" y="2315880"/>
              <a:ext cx="1440" cy="372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2634840" y="2824560"/>
              <a:ext cx="181440" cy="1897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626560" y="2641320"/>
              <a:ext cx="181080" cy="1796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2645640" y="2463840"/>
              <a:ext cx="181080" cy="1688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9480" y="3011760"/>
              <a:ext cx="0" cy="18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63640" y="230652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0240" y="320148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0240" y="232560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66720" y="216216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87600" y="321768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149560" y="4695840"/>
            <a:ext cx="709200" cy="1218960"/>
            <a:chOff x="2149560" y="4695840"/>
            <a:chExt cx="709200" cy="1218960"/>
          </a:xfrm>
        </p:grpSpPr>
        <p:sp>
          <p:nvSpPr>
            <p:cNvPr id="146" name=""/>
            <p:cNvSpPr/>
            <p:nvPr/>
          </p:nvSpPr>
          <p:spPr>
            <a:xfrm>
              <a:off x="2152800" y="524664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49560" y="532008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316960" y="5329440"/>
              <a:ext cx="1440" cy="3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313360" y="4849560"/>
              <a:ext cx="1440" cy="372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673000" y="5358240"/>
              <a:ext cx="181440" cy="1897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2664720" y="5175000"/>
              <a:ext cx="181080" cy="1796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2683800" y="4997520"/>
              <a:ext cx="181080" cy="1688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17640" y="5545440"/>
              <a:ext cx="0" cy="18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1800" y="484020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8400" y="573516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18400" y="485928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04880" y="469584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525760" y="575136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305080" y="1819440"/>
            <a:ext cx="342720" cy="323640"/>
            <a:chOff x="2305080" y="1819440"/>
            <a:chExt cx="342720" cy="323640"/>
          </a:xfrm>
        </p:grpSpPr>
        <p:sp>
          <p:nvSpPr>
            <p:cNvPr id="160" name=""/>
            <p:cNvSpPr/>
            <p:nvPr/>
          </p:nvSpPr>
          <p:spPr>
            <a:xfrm>
              <a:off x="2305080" y="1819440"/>
              <a:ext cx="342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67080" y="1819440"/>
              <a:ext cx="0" cy="32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390760" y="5886360"/>
            <a:ext cx="324000" cy="486000"/>
            <a:chOff x="2390760" y="5886360"/>
            <a:chExt cx="324000" cy="486000"/>
          </a:xfrm>
        </p:grpSpPr>
        <p:sp>
          <p:nvSpPr>
            <p:cNvPr id="163" name=""/>
            <p:cNvSpPr/>
            <p:nvPr/>
          </p:nvSpPr>
          <p:spPr>
            <a:xfrm>
              <a:off x="2390760" y="626760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400120" y="626760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485800" y="6276960"/>
              <a:ext cx="104760" cy="95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561760" y="6276960"/>
              <a:ext cx="104760" cy="95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23960" y="5886360"/>
              <a:ext cx="0" cy="362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19280" y="3371760"/>
            <a:ext cx="2371680" cy="1324080"/>
            <a:chOff x="1619280" y="3371760"/>
            <a:chExt cx="2371680" cy="1324080"/>
          </a:xfrm>
        </p:grpSpPr>
        <p:sp>
          <p:nvSpPr>
            <p:cNvPr id="169" name=""/>
            <p:cNvSpPr/>
            <p:nvPr/>
          </p:nvSpPr>
          <p:spPr>
            <a:xfrm rot="5400000">
              <a:off x="2163600" y="350352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6160" y="3371760"/>
              <a:ext cx="0" cy="34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505240" y="4276800"/>
              <a:ext cx="0" cy="419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95640" y="4000680"/>
              <a:ext cx="895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9280" y="3990960"/>
              <a:ext cx="476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161440" y="1440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7240" y="6078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98600" y="389736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0960" y="3811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33720" y="3981240"/>
            <a:ext cx="402840" cy="1190160"/>
            <a:chOff x="3933720" y="3981240"/>
            <a:chExt cx="402840" cy="1190160"/>
          </a:xfrm>
        </p:grpSpPr>
        <p:sp>
          <p:nvSpPr>
            <p:cNvPr id="179" name=""/>
            <p:cNvSpPr/>
            <p:nvPr/>
          </p:nvSpPr>
          <p:spPr>
            <a:xfrm>
              <a:off x="3933720" y="4324320"/>
              <a:ext cx="133560" cy="532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990960" y="3981240"/>
              <a:ext cx="0" cy="33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00680" y="4838400"/>
              <a:ext cx="0" cy="33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7680" y="4421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67120" y="5143680"/>
            <a:ext cx="324000" cy="485280"/>
            <a:chOff x="3867120" y="5143680"/>
            <a:chExt cx="324000" cy="485280"/>
          </a:xfrm>
        </p:grpSpPr>
        <p:sp>
          <p:nvSpPr>
            <p:cNvPr id="184" name=""/>
            <p:cNvSpPr/>
            <p:nvPr/>
          </p:nvSpPr>
          <p:spPr>
            <a:xfrm>
              <a:off x="3867120" y="552456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76480" y="5524560"/>
              <a:ext cx="104760" cy="9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62160" y="553392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038120" y="553392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0320" y="5143680"/>
              <a:ext cx="0" cy="36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58000" y="535464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river Test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09840" y="4486320"/>
            <a:ext cx="162000" cy="1810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362400"/>
            <a:ext cx="161640" cy="1810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19360" y="2057400"/>
            <a:ext cx="1828800" cy="1362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647800" y="2124000"/>
            <a:ext cx="1905120" cy="2390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15920" y="176364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ro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52CB-BB97-4ECE-B151-12C5542DF859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600280" y="2286000"/>
            <a:ext cx="2371680" cy="1324080"/>
            <a:chOff x="2600280" y="2286000"/>
            <a:chExt cx="2371680" cy="1324080"/>
          </a:xfrm>
        </p:grpSpPr>
        <p:sp>
          <p:nvSpPr>
            <p:cNvPr id="196" name=""/>
            <p:cNvSpPr/>
            <p:nvPr/>
          </p:nvSpPr>
          <p:spPr>
            <a:xfrm rot="5400000">
              <a:off x="3144600" y="241776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67160" y="2286000"/>
              <a:ext cx="0" cy="343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86240" y="3191040"/>
              <a:ext cx="0" cy="4190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76640" y="291492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00280" y="290520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448000" y="2467080"/>
            <a:ext cx="2371680" cy="1323000"/>
            <a:chOff x="2448000" y="2467080"/>
            <a:chExt cx="2371680" cy="1323000"/>
          </a:xfrm>
        </p:grpSpPr>
        <p:sp>
          <p:nvSpPr>
            <p:cNvPr id="202" name=""/>
            <p:cNvSpPr/>
            <p:nvPr/>
          </p:nvSpPr>
          <p:spPr>
            <a:xfrm rot="5400000">
              <a:off x="2992680" y="2598480"/>
              <a:ext cx="88056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14880" y="2467080"/>
              <a:ext cx="0" cy="3427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333960" y="3371400"/>
              <a:ext cx="0" cy="4186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24360" y="309564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48000" y="308592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209680" y="2638440"/>
            <a:ext cx="2371680" cy="1324080"/>
            <a:chOff x="2209680" y="2638440"/>
            <a:chExt cx="2371680" cy="1324080"/>
          </a:xfrm>
        </p:grpSpPr>
        <p:sp>
          <p:nvSpPr>
            <p:cNvPr id="208" name=""/>
            <p:cNvSpPr/>
            <p:nvPr/>
          </p:nvSpPr>
          <p:spPr>
            <a:xfrm rot="5400000">
              <a:off x="2754000" y="277020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76560" y="2638440"/>
              <a:ext cx="0" cy="343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95640" y="3543480"/>
              <a:ext cx="0" cy="4190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86040" y="326736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9680" y="325764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38320" y="2828880"/>
            <a:ext cx="2371680" cy="1324080"/>
            <a:chOff x="2038320" y="2828880"/>
            <a:chExt cx="2371680" cy="1324080"/>
          </a:xfrm>
        </p:grpSpPr>
        <p:sp>
          <p:nvSpPr>
            <p:cNvPr id="214" name=""/>
            <p:cNvSpPr/>
            <p:nvPr/>
          </p:nvSpPr>
          <p:spPr>
            <a:xfrm rot="5400000">
              <a:off x="2582640" y="296064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05200" y="2828880"/>
              <a:ext cx="0" cy="343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924280" y="3733920"/>
              <a:ext cx="0" cy="4190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4680" y="345780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8320" y="344808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14480" y="3029040"/>
            <a:ext cx="2371680" cy="1323000"/>
            <a:chOff x="1914480" y="3029040"/>
            <a:chExt cx="2371680" cy="1323000"/>
          </a:xfrm>
        </p:grpSpPr>
        <p:sp>
          <p:nvSpPr>
            <p:cNvPr id="220" name=""/>
            <p:cNvSpPr/>
            <p:nvPr/>
          </p:nvSpPr>
          <p:spPr>
            <a:xfrm rot="5400000">
              <a:off x="2459160" y="3160440"/>
              <a:ext cx="88056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81360" y="3029040"/>
              <a:ext cx="0" cy="3427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800440" y="3933360"/>
              <a:ext cx="0" cy="4186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90840" y="365760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4480" y="364788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71560" y="3219480"/>
            <a:ext cx="2371680" cy="1324080"/>
            <a:chOff x="1771560" y="3219480"/>
            <a:chExt cx="2371680" cy="1324080"/>
          </a:xfrm>
        </p:grpSpPr>
        <p:sp>
          <p:nvSpPr>
            <p:cNvPr id="226" name=""/>
            <p:cNvSpPr/>
            <p:nvPr/>
          </p:nvSpPr>
          <p:spPr>
            <a:xfrm rot="5400000">
              <a:off x="2315880" y="335124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8440" y="3219480"/>
              <a:ext cx="0" cy="3430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657520" y="4124520"/>
              <a:ext cx="0" cy="4190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7920" y="3848400"/>
              <a:ext cx="8953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71560" y="3838680"/>
              <a:ext cx="4762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Multiple Driver Cas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11400" y="2162160"/>
            <a:ext cx="709200" cy="1218960"/>
            <a:chOff x="2111400" y="2162160"/>
            <a:chExt cx="709200" cy="1218960"/>
          </a:xfrm>
        </p:grpSpPr>
        <p:sp>
          <p:nvSpPr>
            <p:cNvPr id="233" name=""/>
            <p:cNvSpPr/>
            <p:nvPr/>
          </p:nvSpPr>
          <p:spPr>
            <a:xfrm>
              <a:off x="2114640" y="271296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11400" y="278640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78800" y="2795760"/>
              <a:ext cx="1440" cy="3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2275200" y="2315880"/>
              <a:ext cx="1440" cy="372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2634840" y="2824560"/>
              <a:ext cx="181440" cy="1897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2626560" y="2641320"/>
              <a:ext cx="181080" cy="1796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2645640" y="2463840"/>
              <a:ext cx="181080" cy="1688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79480" y="3011760"/>
              <a:ext cx="0" cy="18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63640" y="230652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0240" y="320148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0240" y="232560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466720" y="216216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487600" y="321768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49560" y="4695840"/>
            <a:ext cx="709200" cy="1218960"/>
            <a:chOff x="2149560" y="4695840"/>
            <a:chExt cx="709200" cy="1218960"/>
          </a:xfrm>
        </p:grpSpPr>
        <p:sp>
          <p:nvSpPr>
            <p:cNvPr id="247" name=""/>
            <p:cNvSpPr/>
            <p:nvPr/>
          </p:nvSpPr>
          <p:spPr>
            <a:xfrm>
              <a:off x="2152800" y="524664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49560" y="5320080"/>
              <a:ext cx="326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2316960" y="5329440"/>
              <a:ext cx="1440" cy="39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2313360" y="4849560"/>
              <a:ext cx="1440" cy="372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673000" y="5358240"/>
              <a:ext cx="181440" cy="1897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664720" y="5175000"/>
              <a:ext cx="181080" cy="1796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683800" y="4997520"/>
              <a:ext cx="181080" cy="1688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4"/>
                  </a:moveTo>
                  <a:cubicBezTo>
                    <a:pt x="21" y="50"/>
                    <a:pt x="42" y="86"/>
                    <a:pt x="63" y="84"/>
                  </a:cubicBezTo>
                  <a:cubicBezTo>
                    <a:pt x="84" y="82"/>
                    <a:pt x="133" y="36"/>
                    <a:pt x="126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17640" y="5545440"/>
              <a:ext cx="0" cy="188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01800" y="484020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18400" y="573516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8400" y="4859280"/>
              <a:ext cx="393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04880" y="469584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525760" y="5751360"/>
              <a:ext cx="0" cy="16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305080" y="1819440"/>
            <a:ext cx="342720" cy="323640"/>
            <a:chOff x="2305080" y="1819440"/>
            <a:chExt cx="342720" cy="323640"/>
          </a:xfrm>
        </p:grpSpPr>
        <p:sp>
          <p:nvSpPr>
            <p:cNvPr id="261" name=""/>
            <p:cNvSpPr/>
            <p:nvPr/>
          </p:nvSpPr>
          <p:spPr>
            <a:xfrm>
              <a:off x="2305080" y="1819440"/>
              <a:ext cx="342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67080" y="1819440"/>
              <a:ext cx="0" cy="323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90760" y="5886360"/>
            <a:ext cx="324000" cy="486000"/>
            <a:chOff x="2390760" y="5886360"/>
            <a:chExt cx="324000" cy="486000"/>
          </a:xfrm>
        </p:grpSpPr>
        <p:sp>
          <p:nvSpPr>
            <p:cNvPr id="264" name=""/>
            <p:cNvSpPr/>
            <p:nvPr/>
          </p:nvSpPr>
          <p:spPr>
            <a:xfrm>
              <a:off x="2390760" y="626760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400120" y="626760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485800" y="6276960"/>
              <a:ext cx="104760" cy="95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561760" y="6276960"/>
              <a:ext cx="104760" cy="95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23960" y="5886360"/>
              <a:ext cx="0" cy="362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19280" y="3371760"/>
            <a:ext cx="2371680" cy="1324080"/>
            <a:chOff x="1619280" y="3371760"/>
            <a:chExt cx="2371680" cy="1324080"/>
          </a:xfrm>
        </p:grpSpPr>
        <p:sp>
          <p:nvSpPr>
            <p:cNvPr id="270" name=""/>
            <p:cNvSpPr/>
            <p:nvPr/>
          </p:nvSpPr>
          <p:spPr>
            <a:xfrm rot="5400000">
              <a:off x="2163600" y="3503520"/>
              <a:ext cx="880920" cy="992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86160" y="3371760"/>
              <a:ext cx="0" cy="34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505240" y="4276800"/>
              <a:ext cx="0" cy="419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95640" y="4000680"/>
              <a:ext cx="895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19280" y="3990960"/>
              <a:ext cx="476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161440" y="1440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7240" y="6078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98600" y="389736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0960" y="3811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933720" y="3981240"/>
            <a:ext cx="402840" cy="1190160"/>
            <a:chOff x="3933720" y="3981240"/>
            <a:chExt cx="402840" cy="1190160"/>
          </a:xfrm>
        </p:grpSpPr>
        <p:sp>
          <p:nvSpPr>
            <p:cNvPr id="280" name=""/>
            <p:cNvSpPr/>
            <p:nvPr/>
          </p:nvSpPr>
          <p:spPr>
            <a:xfrm>
              <a:off x="3933720" y="4324320"/>
              <a:ext cx="133560" cy="532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990960" y="3981240"/>
              <a:ext cx="0" cy="33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000680" y="4838400"/>
              <a:ext cx="0" cy="33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27680" y="4421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67120" y="5143680"/>
            <a:ext cx="324000" cy="485280"/>
            <a:chOff x="3867120" y="5143680"/>
            <a:chExt cx="324000" cy="485280"/>
          </a:xfrm>
        </p:grpSpPr>
        <p:sp>
          <p:nvSpPr>
            <p:cNvPr id="285" name=""/>
            <p:cNvSpPr/>
            <p:nvPr/>
          </p:nvSpPr>
          <p:spPr>
            <a:xfrm>
              <a:off x="3867120" y="552456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876480" y="5524560"/>
              <a:ext cx="104760" cy="9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62160" y="553392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5533920"/>
              <a:ext cx="104760" cy="9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00320" y="5143680"/>
              <a:ext cx="0" cy="36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44520" y="5402160"/>
            <a:ext cx="323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Driver Test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dentical 7 drivers parall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9200" y="4457880"/>
            <a:ext cx="162000" cy="18072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00480" y="3381480"/>
            <a:ext cx="161640" cy="18072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685960" y="1981080"/>
            <a:ext cx="1857600" cy="1390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57160" y="2124000"/>
            <a:ext cx="1895400" cy="2333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5920" y="176364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Pro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B254-ABF8-465A-88BB-6DB98321CEEB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Curren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s Ground Bounce Current directly synchronized with Power Bounce Current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oes current IBIS give correct Output Current when Power/Ground current switching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 we use Static assumptions to model this behavior?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1AC4-FBE7-4C71-A7BD-03E091A77484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Curren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09960" y="1120680"/>
            <a:ext cx="3999240" cy="5166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7800" y="2516040"/>
            <a:ext cx="4150080" cy="3703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79400" y="1335240"/>
            <a:ext cx="315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driver active in the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ing edge,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aveform captured at Active 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790640" y="5266800"/>
            <a:ext cx="74304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5520" y="5154480"/>
            <a:ext cx="5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828880" y="3695760"/>
            <a:ext cx="628560" cy="266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53920" y="344016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838920" y="3914280"/>
            <a:ext cx="74304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41760" y="399564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, 250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425C-C300-4F01-8B6D-06B13E3EDE5A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Curren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71440" y="2389320"/>
            <a:ext cx="4687920" cy="3957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278320" y="971640"/>
            <a:ext cx="3579840" cy="5419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9960" y="127944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driver active in the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ing edge,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aveform captured at Active 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0640" y="5410080"/>
            <a:ext cx="933480" cy="1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65520" y="5154480"/>
            <a:ext cx="5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0320" y="3295800"/>
            <a:ext cx="628560" cy="666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4040" y="311616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72320" y="4219560"/>
            <a:ext cx="733320" cy="695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1960" y="38782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, 2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C174-B9FB-4377-A802-E832AB975243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Curren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492360" cy="3881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894120" y="1111320"/>
            <a:ext cx="4859280" cy="5284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9080" y="1401840"/>
            <a:ext cx="320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drivers active in the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ing edge ,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19000" y="5657400"/>
            <a:ext cx="74304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3400" y="5592600"/>
            <a:ext cx="5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219400" y="4219560"/>
            <a:ext cx="628560" cy="266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01320" y="388764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981760" y="1800000"/>
            <a:ext cx="743040" cy="142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1240" y="18874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, 2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9B71-C51E-4298-BE42-4C217512014B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Curren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50920" y="2158920"/>
            <a:ext cx="3992400" cy="41655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421160" y="1039680"/>
            <a:ext cx="4467240" cy="5237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70320" y="1268280"/>
            <a:ext cx="3202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drivers active in the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ing edge, 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66840" y="5600520"/>
            <a:ext cx="533520" cy="104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00" y="5545080"/>
            <a:ext cx="5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714840"/>
            <a:ext cx="285840" cy="495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29920" y="324000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4676760"/>
            <a:ext cx="600120" cy="495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25240" y="423072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, 2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3A66-2205-4291-99BE-F8505491BBF8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genda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t One – Power Integrity Propos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t Two - Study: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s [Composite Current] good enough for improving PI/SSN simulation using IBIS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F34A-DC89-4A44-955C-6D5F7196E01A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 Bounce Voltag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47560" y="1541520"/>
            <a:ext cx="5532480" cy="4727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91560" y="2316240"/>
            <a:ext cx="289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drivers active in 7 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25E9-A2BF-4551-ABA9-C44F245E8836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ower Bounce Voltag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42880" y="1519200"/>
            <a:ext cx="5410080" cy="4599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091560" y="2316240"/>
            <a:ext cx="289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drivers active in 7 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927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4163-0E8C-41F0-8D4B-8CABE40B2379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Table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 IT tables be used as the “Profile” for SSN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 this scale cleanly to different load condition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6187-545A-49B2-A4A5-9F31B511F3E2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Table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96720" y="1839960"/>
            <a:ext cx="4071960" cy="4521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864880" y="1049400"/>
            <a:ext cx="2814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driver active in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6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645080" y="1820880"/>
            <a:ext cx="3767040" cy="4511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flipH="1">
            <a:off x="2733480" y="3448080"/>
            <a:ext cx="1657080" cy="885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91200" y="3467160"/>
            <a:ext cx="1581120" cy="1019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58960" y="333540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876040" y="5600880"/>
            <a:ext cx="1305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53200" y="5600880"/>
            <a:ext cx="1143000" cy="9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27560" y="5392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3CF3-42C9-472C-8A33-6CFE918A83F3}" type="slidenum">
              <a:t>23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T Table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36600" y="1754280"/>
            <a:ext cx="4267080" cy="46116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727520" y="1785960"/>
            <a:ext cx="3876840" cy="4618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981880" y="868320"/>
            <a:ext cx="2904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drivers active in 7-driver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66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hm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733840" y="4000680"/>
            <a:ext cx="1457280" cy="34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15080" y="4010040"/>
            <a:ext cx="1514160" cy="84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06320" y="3763800"/>
            <a:ext cx="5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686200"/>
            <a:ext cx="1438200" cy="190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191200" y="5667120"/>
            <a:ext cx="1123920" cy="190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51400" y="57643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D536-92FB-499C-8137-AFB94E3FF4B6}" type="slidenum">
              <a:t>24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ndividual Profile vs. Profile in the Network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 the individual profile for one driver be applied to the network case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1027-F3FE-46DB-B433-728DB7A85E27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Individual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Profile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vs. </a:t>
            </a:r>
            <a:r>
              <a:rPr b="1" lang="en-US" sz="2700" spc="-1" strike="noStrike">
                <a:solidFill>
                  <a:srgbClr val="66ff33"/>
                </a:solidFill>
                <a:latin typeface="Arial"/>
              </a:rPr>
              <a:t>Profile in the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66ff33"/>
                </a:solidFill>
                <a:latin typeface="Arial"/>
              </a:rPr>
              <a:t>Network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867280" y="2144880"/>
            <a:ext cx="3008520" cy="41590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03640" y="16970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42920" y="112536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820960" y="2143080"/>
            <a:ext cx="3051360" cy="4189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93680" y="16016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79280" y="2093760"/>
            <a:ext cx="2646360" cy="4233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919080" y="169704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7B5C-1979-4955-B164-5470508D4CF8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9680" y="419040"/>
            <a:ext cx="6705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Individual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Profile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vs. </a:t>
            </a:r>
            <a:r>
              <a:rPr b="1" lang="en-US" sz="2700" spc="-1" strike="noStrike">
                <a:solidFill>
                  <a:srgbClr val="66ff33"/>
                </a:solidFill>
                <a:latin typeface="Arial"/>
              </a:rPr>
              <a:t>Profile in the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66ff33"/>
                </a:solidFill>
                <a:latin typeface="Arial"/>
              </a:rPr>
              <a:t>Network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34800" y="2311560"/>
            <a:ext cx="2692440" cy="39970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081080" y="16779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135240" y="2360520"/>
            <a:ext cx="2652840" cy="3957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984120" y="177336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864400" y="2309760"/>
            <a:ext cx="2734920" cy="40467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727320" y="174456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29960" y="11160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7746-52DA-482F-BC58-AA956BF5DE34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5708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round Bounce Current Should be considered in the Profi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se are not “Static” entiti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ctive devices might store energy somewhere inside the “black box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therwise, leaves ground current profile “open to interpretation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T curves seem insufficient to be the sole Profile Dat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fficult to scale volatile IT curves for different loading &amp; network condi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ofile data should be captured in the context of its Network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re are significant differences between “individual” profile and “network” profile 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rcRect l="0" t="0" r="11872" b="35878"/>
          <a:stretch/>
        </p:blipFill>
        <p:spPr>
          <a:xfrm>
            <a:off x="2895480" y="289548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0C4A-4D7A-4F55-A34E-B70F4CA0FBA8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art One – Power Integrity Proposa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ssues with BIRD 95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oposed dire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8EC8-9985-4B66-8BFA-227300133E13}" type="slidenum">
              <a:t>3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ACK UP SLIDE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4440" y="1984320"/>
            <a:ext cx="8212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brish Varma’s VCCAP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ssible solution for Buffer (Pin) Signature in SSN/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B9B4-0EEB-4B56-9588-A80CCF9FB939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 Solution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828800" y="1600200"/>
            <a:ext cx="3123720" cy="3249000"/>
            <a:chOff x="1828800" y="1600200"/>
            <a:chExt cx="3123720" cy="3249000"/>
          </a:xfrm>
        </p:grpSpPr>
        <p:grpSp>
          <p:nvGrpSpPr>
            <p:cNvPr id="391" name=""/>
            <p:cNvGrpSpPr/>
            <p:nvPr/>
          </p:nvGrpSpPr>
          <p:grpSpPr>
            <a:xfrm>
              <a:off x="1828800" y="1600200"/>
              <a:ext cx="3123720" cy="3249000"/>
              <a:chOff x="1828800" y="1600200"/>
              <a:chExt cx="3123720" cy="32490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1828800" y="2806920"/>
                <a:ext cx="1599480" cy="703080"/>
                <a:chOff x="1828800" y="2806920"/>
                <a:chExt cx="1599480" cy="7030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828800" y="2806920"/>
                  <a:ext cx="99000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28800" y="2945160"/>
                  <a:ext cx="99000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828800" y="3111840"/>
                  <a:ext cx="990000" cy="127080"/>
                </a:xfrm>
                <a:custGeom>
                  <a:avLst/>
                  <a:gdLst/>
                  <a:ahLst/>
                  <a:rect l="l" t="t" r="r" b="b"/>
                  <a:pathLst>
                    <a:path w="624" h="128">
                      <a:moveTo>
                        <a:pt x="0" y="112"/>
                      </a:moveTo>
                      <a:cubicBezTo>
                        <a:pt x="40" y="120"/>
                        <a:pt x="80" y="128"/>
                        <a:pt x="96" y="112"/>
                      </a:cubicBezTo>
                      <a:cubicBezTo>
                        <a:pt x="112" y="96"/>
                        <a:pt x="80" y="32"/>
                        <a:pt x="96" y="16"/>
                      </a:cubicBezTo>
                      <a:cubicBezTo>
                        <a:pt x="112" y="0"/>
                        <a:pt x="176" y="0"/>
                        <a:pt x="192" y="16"/>
                      </a:cubicBezTo>
                      <a:cubicBezTo>
                        <a:pt x="208" y="32"/>
                        <a:pt x="176" y="96"/>
                        <a:pt x="192" y="112"/>
                      </a:cubicBezTo>
                      <a:cubicBezTo>
                        <a:pt x="208" y="128"/>
                        <a:pt x="272" y="128"/>
                        <a:pt x="288" y="112"/>
                      </a:cubicBezTo>
                      <a:cubicBezTo>
                        <a:pt x="304" y="96"/>
                        <a:pt x="272" y="32"/>
                        <a:pt x="288" y="16"/>
                      </a:cubicBezTo>
                      <a:cubicBezTo>
                        <a:pt x="304" y="0"/>
                        <a:pt x="368" y="0"/>
                        <a:pt x="384" y="16"/>
                      </a:cubicBezTo>
                      <a:cubicBezTo>
                        <a:pt x="400" y="32"/>
                        <a:pt x="368" y="96"/>
                        <a:pt x="384" y="112"/>
                      </a:cubicBezTo>
                      <a:cubicBezTo>
                        <a:pt x="400" y="128"/>
                        <a:pt x="464" y="128"/>
                        <a:pt x="480" y="112"/>
                      </a:cubicBezTo>
                      <a:cubicBezTo>
                        <a:pt x="496" y="96"/>
                        <a:pt x="464" y="32"/>
                        <a:pt x="480" y="16"/>
                      </a:cubicBezTo>
                      <a:cubicBezTo>
                        <a:pt x="496" y="0"/>
                        <a:pt x="560" y="0"/>
                        <a:pt x="576" y="16"/>
                      </a:cubicBezTo>
                      <a:cubicBezTo>
                        <a:pt x="592" y="32"/>
                        <a:pt x="568" y="96"/>
                        <a:pt x="576" y="112"/>
                      </a:cubicBezTo>
                      <a:cubicBezTo>
                        <a:pt x="584" y="128"/>
                        <a:pt x="604" y="120"/>
                        <a:pt x="624" y="1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828800" y="3453120"/>
                  <a:ext cx="114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818800" y="32245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818800" y="305784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818800" y="29196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80720" y="329436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Quiet 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885840" y="2691000"/>
                <a:ext cx="1066680" cy="1218600"/>
                <a:chOff x="3885840" y="2691000"/>
                <a:chExt cx="1066680" cy="12186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85840" y="29955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66720" y="2919240"/>
                  <a:ext cx="380880" cy="8856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4114440" y="2995560"/>
                  <a:ext cx="152280" cy="609120"/>
                  <a:chOff x="4114440" y="2995560"/>
                  <a:chExt cx="152280" cy="6091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190400" y="299556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114440" y="3249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114440" y="3300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194720" y="33001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4647600" y="2976480"/>
                  <a:ext cx="152640" cy="627840"/>
                  <a:chOff x="4647600" y="2976480"/>
                  <a:chExt cx="152640" cy="6278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723560" y="2976480"/>
                    <a:ext cx="0" cy="26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647600" y="323784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47600" y="32904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727880" y="3290400"/>
                    <a:ext cx="0" cy="31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190400" y="36050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0800000">
                  <a:off x="4114080" y="3757680"/>
                  <a:ext cx="152280" cy="1519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723920" y="36050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10800000">
                  <a:off x="4647600" y="3757680"/>
                  <a:ext cx="152640" cy="1519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038120" y="2691000"/>
                  <a:ext cx="9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kg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090600" y="1600200"/>
                <a:ext cx="1556640" cy="1309680"/>
                <a:chOff x="3090600" y="1600200"/>
                <a:chExt cx="1556640" cy="130968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3511080" y="2289240"/>
                  <a:ext cx="380880" cy="8856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090600" y="2004840"/>
                  <a:ext cx="152280" cy="609840"/>
                  <a:chOff x="3090600" y="2004840"/>
                  <a:chExt cx="152280" cy="6098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166560" y="2004840"/>
                    <a:ext cx="0" cy="253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090600" y="225864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090600" y="2309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170880" y="23097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6" name=""/>
                <p:cNvSpPr/>
                <p:nvPr/>
              </p:nvSpPr>
              <p:spPr>
                <a:xfrm flipV="1">
                  <a:off x="3661920" y="17622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504600" y="17622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04760" y="25290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171240" y="261468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0" name=""/>
                <p:cNvCxnSpPr>
                  <a:stCxn id="422" idx="0"/>
                </p:cNvCxnSpPr>
                <p:nvPr/>
              </p:nvCxnSpPr>
              <p:spPr>
                <a:xfrm>
                  <a:off x="3166560" y="2004480"/>
                  <a:ext cx="4910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31" name=""/>
                <p:cNvSpPr/>
                <p:nvPr/>
              </p:nvSpPr>
              <p:spPr>
                <a:xfrm>
                  <a:off x="3428640" y="1600200"/>
                  <a:ext cx="60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733200" y="2004840"/>
                  <a:ext cx="91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633400" y="3557520"/>
                <a:ext cx="1556640" cy="1291680"/>
                <a:chOff x="2633400" y="3557520"/>
                <a:chExt cx="1556640" cy="1291680"/>
              </a:xfrm>
            </p:grpSpPr>
            <p:sp>
              <p:nvSpPr>
                <p:cNvPr id="434" name=""/>
                <p:cNvSpPr/>
                <p:nvPr/>
              </p:nvSpPr>
              <p:spPr>
                <a:xfrm rot="5400000">
                  <a:off x="3053880" y="4084560"/>
                  <a:ext cx="380880" cy="8856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04"/>
                      </a:moveTo>
                      <a:cubicBezTo>
                        <a:pt x="16" y="56"/>
                        <a:pt x="32" y="8"/>
                        <a:pt x="48" y="8"/>
                      </a:cubicBezTo>
                      <a:cubicBezTo>
                        <a:pt x="64" y="8"/>
                        <a:pt x="88" y="96"/>
                        <a:pt x="96" y="104"/>
                      </a:cubicBezTo>
                      <a:cubicBezTo>
                        <a:pt x="104" y="112"/>
                        <a:pt x="88" y="72"/>
                        <a:pt x="96" y="56"/>
                      </a:cubicBezTo>
                      <a:cubicBezTo>
                        <a:pt x="104" y="40"/>
                        <a:pt x="128" y="0"/>
                        <a:pt x="144" y="8"/>
                      </a:cubicBezTo>
                      <a:cubicBezTo>
                        <a:pt x="160" y="16"/>
                        <a:pt x="184" y="96"/>
                        <a:pt x="192" y="104"/>
                      </a:cubicBezTo>
                      <a:cubicBezTo>
                        <a:pt x="200" y="112"/>
                        <a:pt x="184" y="72"/>
                        <a:pt x="192" y="56"/>
                      </a:cubicBezTo>
                      <a:cubicBezTo>
                        <a:pt x="200" y="40"/>
                        <a:pt x="224" y="0"/>
                        <a:pt x="240" y="8"/>
                      </a:cubicBezTo>
                      <a:cubicBezTo>
                        <a:pt x="256" y="16"/>
                        <a:pt x="272" y="96"/>
                        <a:pt x="288" y="104"/>
                      </a:cubicBezTo>
                      <a:cubicBezTo>
                        <a:pt x="304" y="112"/>
                        <a:pt x="320" y="84"/>
                        <a:pt x="336" y="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2633400" y="3800520"/>
                  <a:ext cx="152280" cy="609120"/>
                  <a:chOff x="2633400" y="3800520"/>
                  <a:chExt cx="152280" cy="6091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2709360" y="3800520"/>
                    <a:ext cx="0" cy="25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633400" y="40539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633400" y="41050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713680" y="410508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"/>
                <p:cNvSpPr/>
                <p:nvPr/>
              </p:nvSpPr>
              <p:spPr>
                <a:xfrm flipV="1">
                  <a:off x="3204720" y="35575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714040" y="441000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42" name=""/>
                <p:cNvCxnSpPr>
                  <a:stCxn id="436" idx="0"/>
                </p:cNvCxnSpPr>
                <p:nvPr/>
              </p:nvCxnSpPr>
              <p:spPr>
                <a:xfrm>
                  <a:off x="2709360" y="3800160"/>
                  <a:ext cx="4910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43" name=""/>
                <p:cNvSpPr/>
                <p:nvPr/>
              </p:nvSpPr>
              <p:spPr>
                <a:xfrm flipV="1">
                  <a:off x="3247560" y="431928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47560" y="4545000"/>
                  <a:ext cx="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0800000">
                  <a:off x="3170880" y="4696920"/>
                  <a:ext cx="152280" cy="15228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276000" y="3986280"/>
                  <a:ext cx="91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ire Bond and Pin Parasitic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971080" y="2766960"/>
                <a:ext cx="913680" cy="914400"/>
                <a:chOff x="2971080" y="2766960"/>
                <a:chExt cx="913680" cy="914400"/>
              </a:xfrm>
            </p:grpSpPr>
            <p:sp>
              <p:nvSpPr>
                <p:cNvPr id="448" name=""/>
                <p:cNvSpPr/>
                <p:nvPr/>
              </p:nvSpPr>
              <p:spPr>
                <a:xfrm rot="5400000">
                  <a:off x="3427560" y="2766960"/>
                  <a:ext cx="457200" cy="456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3275280" y="2919600"/>
                  <a:ext cx="457200" cy="456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5400000">
                  <a:off x="3123000" y="3071880"/>
                  <a:ext cx="457200" cy="456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5400000">
                  <a:off x="2970720" y="3224160"/>
                  <a:ext cx="457200" cy="456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4647960" y="2967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200040" y="1981440"/>
            <a:ext cx="4208040" cy="1978560"/>
            <a:chOff x="3200040" y="1981440"/>
            <a:chExt cx="4208040" cy="1978560"/>
          </a:xfrm>
        </p:grpSpPr>
        <p:grpSp>
          <p:nvGrpSpPr>
            <p:cNvPr id="454" name=""/>
            <p:cNvGrpSpPr/>
            <p:nvPr/>
          </p:nvGrpSpPr>
          <p:grpSpPr>
            <a:xfrm>
              <a:off x="5181480" y="3048120"/>
              <a:ext cx="152640" cy="609120"/>
              <a:chOff x="5181480" y="3048120"/>
              <a:chExt cx="152640" cy="609120"/>
            </a:xfrm>
          </p:grpSpPr>
          <p:sp>
            <p:nvSpPr>
              <p:cNvPr id="455" name=""/>
              <p:cNvSpPr/>
              <p:nvPr/>
            </p:nvSpPr>
            <p:spPr>
              <a:xfrm>
                <a:off x="5257440" y="3048120"/>
                <a:ext cx="0" cy="253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81480" y="3301920"/>
                <a:ext cx="15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81480" y="3352680"/>
                <a:ext cx="15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61760" y="3352680"/>
                <a:ext cx="0" cy="304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181480" y="2209680"/>
              <a:ext cx="152640" cy="609840"/>
              <a:chOff x="5181480" y="2209680"/>
              <a:chExt cx="152640" cy="609840"/>
            </a:xfrm>
          </p:grpSpPr>
          <p:sp>
            <p:nvSpPr>
              <p:cNvPr id="460" name=""/>
              <p:cNvSpPr/>
              <p:nvPr/>
            </p:nvSpPr>
            <p:spPr>
              <a:xfrm>
                <a:off x="5257440" y="2209680"/>
                <a:ext cx="0" cy="253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1480" y="2463480"/>
                <a:ext cx="15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81480" y="2514600"/>
                <a:ext cx="152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1760" y="2514600"/>
                <a:ext cx="0" cy="30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715000" y="2590920"/>
              <a:ext cx="152280" cy="609120"/>
              <a:chOff x="5715000" y="2590920"/>
              <a:chExt cx="152280" cy="609120"/>
            </a:xfrm>
          </p:grpSpPr>
          <p:sp>
            <p:nvSpPr>
              <p:cNvPr id="465" name=""/>
              <p:cNvSpPr/>
              <p:nvPr/>
            </p:nvSpPr>
            <p:spPr>
              <a:xfrm>
                <a:off x="5790960" y="2590920"/>
                <a:ext cx="0" cy="253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15000" y="28447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715000" y="289548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5280" y="2895480"/>
                <a:ext cx="0" cy="304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69" name=""/>
            <p:cNvCxnSpPr>
              <a:stCxn id="460" idx="0"/>
              <a:endCxn id="429" idx="0"/>
            </p:cNvCxnSpPr>
            <p:nvPr/>
          </p:nvCxnSpPr>
          <p:spPr>
            <a:xfrm rot="5400000">
              <a:off x="4271040" y="1628640"/>
              <a:ext cx="419760" cy="1553400"/>
            </a:xfrm>
            <a:prstGeom prst="curvedConnector5">
              <a:avLst>
                <a:gd name="adj1" fmla="val -51072"/>
                <a:gd name="adj2" fmla="val 24988"/>
                <a:gd name="adj3" fmla="val -51072"/>
              </a:avLst>
            </a:prstGeom>
            <a:ln w="1260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470" name=""/>
            <p:cNvCxnSpPr>
              <a:endCxn id="452" idx="0"/>
            </p:cNvCxnSpPr>
            <p:nvPr/>
          </p:nvCxnSpPr>
          <p:spPr>
            <a:xfrm flipV="1" rot="10800000">
              <a:off x="4952160" y="2819160"/>
              <a:ext cx="310320" cy="148320"/>
            </a:xfrm>
            <a:prstGeom prst="curvedConnector5">
              <a:avLst>
                <a:gd name="adj1" fmla="val 49709"/>
                <a:gd name="adj2" fmla="val 28467"/>
                <a:gd name="adj3" fmla="val 49709"/>
              </a:avLst>
            </a:prstGeom>
            <a:ln w="936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471" name=""/>
            <p:cNvCxnSpPr>
              <a:stCxn id="452" idx="1"/>
              <a:endCxn id="455" idx="0"/>
            </p:cNvCxnSpPr>
            <p:nvPr/>
          </p:nvCxnSpPr>
          <p:spPr>
            <a:xfrm flipH="1" rot="16200000">
              <a:off x="5070960" y="2847600"/>
              <a:ext cx="67320" cy="305640"/>
            </a:xfrm>
            <a:prstGeom prst="curvedConnector5">
              <a:avLst>
                <a:gd name="adj1" fmla="val 59139"/>
                <a:gd name="adj2" fmla="val 50000"/>
                <a:gd name="adj3" fmla="val 59139"/>
              </a:avLst>
            </a:prstGeom>
            <a:ln w="936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472" name=""/>
            <p:cNvCxnSpPr/>
            <p:nvPr/>
          </p:nvCxnSpPr>
          <p:spPr>
            <a:xfrm flipV="1" rot="10800000">
              <a:off x="3200400" y="3656520"/>
              <a:ext cx="2053080" cy="281880"/>
            </a:xfrm>
            <a:prstGeom prst="curvedConnector5">
              <a:avLst>
                <a:gd name="adj1" fmla="val 2385"/>
                <a:gd name="adj2" fmla="val 53836"/>
                <a:gd name="adj3" fmla="val 2385"/>
              </a:avLst>
            </a:prstGeom>
            <a:ln w="936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473" name=""/>
            <p:cNvCxnSpPr>
              <a:stCxn id="465" idx="0"/>
              <a:endCxn id="429" idx="1"/>
            </p:cNvCxnSpPr>
            <p:nvPr/>
          </p:nvCxnSpPr>
          <p:spPr>
            <a:xfrm rot="5400000">
              <a:off x="4728240" y="1552320"/>
              <a:ext cx="38880" cy="2086920"/>
            </a:xfrm>
            <a:prstGeom prst="curvedConnector5">
              <a:avLst>
                <a:gd name="adj1" fmla="val -561682"/>
                <a:gd name="adj2" fmla="val 25000"/>
                <a:gd name="adj3" fmla="val -561682"/>
              </a:avLst>
            </a:prstGeom>
            <a:ln w="936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474" name=""/>
            <p:cNvCxnSpPr>
              <a:stCxn id="468" idx="0"/>
            </p:cNvCxnSpPr>
            <p:nvPr/>
          </p:nvCxnSpPr>
          <p:spPr>
            <a:xfrm rot="5400000">
              <a:off x="4237920" y="2176560"/>
              <a:ext cx="519840" cy="2596320"/>
            </a:xfrm>
            <a:prstGeom prst="curvedConnector2">
              <a:avLst/>
            </a:prstGeom>
            <a:ln w="936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475" name=""/>
            <p:cNvSpPr/>
            <p:nvPr/>
          </p:nvSpPr>
          <p:spPr>
            <a:xfrm>
              <a:off x="6326640" y="2743200"/>
              <a:ext cx="108144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VCCA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"/>
            <p:cNvCxnSpPr>
              <a:stCxn id="475" idx="0"/>
            </p:cNvCxnSpPr>
            <p:nvPr/>
          </p:nvCxnSpPr>
          <p:spPr>
            <a:xfrm flipV="1" rot="16200000">
              <a:off x="5945040" y="1820880"/>
              <a:ext cx="305640" cy="1539000"/>
            </a:xfrm>
            <a:prstGeom prst="curvedConnector2">
              <a:avLst/>
            </a:prstGeom>
            <a:ln cap="rnd" w="9360">
              <a:solidFill>
                <a:srgbClr val="ff66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477" name=""/>
            <p:cNvCxnSpPr/>
            <p:nvPr/>
          </p:nvCxnSpPr>
          <p:spPr>
            <a:xfrm rot="5400000">
              <a:off x="5985720" y="2471400"/>
              <a:ext cx="234360" cy="1539000"/>
            </a:xfrm>
            <a:prstGeom prst="curvedConnector2">
              <a:avLst/>
            </a:prstGeom>
            <a:ln cap="rnd" w="936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5" idx="1"/>
            </p:cNvCxnSpPr>
            <p:nvPr/>
          </p:nvCxnSpPr>
          <p:spPr>
            <a:xfrm rot="10800000">
              <a:off x="5866560" y="2890080"/>
              <a:ext cx="457920" cy="37440"/>
            </a:xfrm>
            <a:prstGeom prst="curvedConnector5">
              <a:avLst>
                <a:gd name="adj1" fmla="val 49960"/>
                <a:gd name="adj2" fmla="val 49514"/>
                <a:gd name="adj3" fmla="val 49960"/>
              </a:avLst>
            </a:prstGeom>
            <a:ln cap="rnd" w="936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479" name=""/>
          <p:cNvSpPr/>
          <p:nvPr/>
        </p:nvSpPr>
        <p:spPr>
          <a:xfrm>
            <a:off x="1819440" y="4896000"/>
            <a:ext cx="6553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hanges to the IBIS s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able improvement in SSN noise repres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able, depends on the end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for Voltage and Current mod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64AB-442B-4BD8-8956-811892A6C971}" type="slidenum">
              <a:t>31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Ground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7019640" cy="5419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878880" y="18763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43080" y="332424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ith VC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55200" y="4924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4543-C892-4B23-9815-59BB19C6F1C9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OWER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28600" y="923760"/>
            <a:ext cx="7020000" cy="5419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6783480" y="19144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48040" y="33624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ith VC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9800" y="49626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8A8C-F8DC-40E3-924D-B37FEEA52464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Quiet Driver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495360" y="895320"/>
            <a:ext cx="7020000" cy="5419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050240" y="1819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14800" y="32670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ith VC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26560" y="4867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4FA2-7547-406D-A8F0-42719CC38571}" type="slidenum">
              <a:t>34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ssues with BIRD 95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Is “Pin-level” the best approach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posed additions to go under the [Model] keyword (buffer level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wer/ground parasitics can be different for different instantiations of the same buffer type on a component; should not really group together with the buffer mod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n-die power/ground parasitic networks are essentially a “grid”, difficult/impossible to break out into individual IO-specific elemen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s this truly scalable to multiple drivers switching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oes it really help answer the question of interes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What is the effect seen when multiple drivers on the same rail switch simultaneously?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8E39-D448-4290-A65D-E659CAE80EA0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ssues with BIRD 95 (cont)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[Composite Current] “messy” as defined no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urrently defined at the [Model]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s current is load dependent; better approach may be to define a Pre-Driver circui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ombined together with the existing IBIS buffer mod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V curves already “open to simulator interpretation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uilding more on top of existing TV curve definition is problemat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hould define the pre-driver as an independent and separate (but associated) circuit ent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eave existing IO structure as-is for compatibil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intains consistency with what IBIS has done so fa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re-driver simply absent if not tied to same rail as IO buff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6EB0-9DFE-48E5-B024-665FC3935113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roposed Direction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reak the Power Integrity problem up into 2 separate areas of foc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wer deliver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ttack “top down” from [Component] level instead of “bottom up” from the [Model]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IBIS to enable the flow of required information to the SI community so they can do analy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8BFC-1C5A-4BAD-A067-E0603EA70CD7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Power Delivery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Enable systems companies to better design their board-level Power Distribution System (PD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ypically a frequency domain approach, focused on planes and cap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tart out at the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[Component]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ist out each of the power rails on the component (ex. 2.5v IO, 1.8v core, etc.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rovide the current profile and operating frequency for each of these rail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s would enable SI engineers to figure out initial decoupling schemes for par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uld then look “across the board”, including specific stack-up and make decoupling trade-offs at the PCB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an expand to the package, then to the chip level in the futu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ddress different frequency band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ill require additional information from IC supplie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5EE1-FC1B-41A4-9FF3-F7862D3F6038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SN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4d4d"/>
                </a:solidFill>
                <a:latin typeface="Arial"/>
              </a:rPr>
              <a:t>Enable IC &amp; systems companies to better understand and combat the effects of SS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ypically a time domain approach, focused on high speed signals and driv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art out at the </a:t>
            </a: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[DC Grid]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C grid” defined by IO power and ground pin groups per the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[Pin Mapping]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keywor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pecify a [Grid Model] for each unique DC gri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ome ports on the [Grid Model] have power or ground pin names, to correspond to external power and ground pins of the [Component]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ome ports on the [Grid Model] have signal pin names, to correspond to specific IO buffer conne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pecify the “C_bypass” for specific DC grid pairs, for on-chip capacitan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FBA1-5476-4E6D-A8DA-34D4FE20318E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SN (cont)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fine the IO mod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pecify a separate [Pre Driver Model] for each driving IO buff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pecify the parasitic capacitance for the specific IO model pwr-gnd feeds (if know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 the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[Switching Schedule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(or statistical probability) of how many drivers may actually switch togeth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easily add detailed package and board-level models to analysi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ooperation from IC suppliers will be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crucial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in enabling this flow of information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250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s would provide the pieces needed to start understanding SSN effec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F256-7144-496D-A5C6-DA13A58DA947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23:02Z</dcterms:created>
  <dc:creator>administrator</dc:creator>
  <dc:description/>
  <dc:language>en-US</dc:language>
  <cp:lastModifiedBy>Cadence Design Systems, Inc</cp:lastModifiedBy>
  <cp:lastPrinted>2001-02-02T22:51:20Z</cp:lastPrinted>
  <dcterms:modified xsi:type="dcterms:W3CDTF">2005-06-10T20:02:37Z</dcterms:modified>
  <cp:revision>78</cp:revision>
  <dc:subject/>
  <dc:title>CORPORAT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